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B10-760B-4DF7-9121-4D07DF36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5A7-3A0B-4570-A1BD-930CB45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90E-0A48-4AAA-B1AD-044ADFF2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E23-1EE2-4A0F-880D-9FD3AE0A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54C-4A31-4003-99BD-945DDC00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1A87-986C-4025-B8B8-14CD87B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F918-5A46-4D93-9846-4AFC111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BCC-0167-4AA8-8E6D-13255086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557-673B-4E01-AE85-47D8212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A811-5D44-49B7-B71C-452E3E5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99C5-86E2-4CA9-982F-FE4190B3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614-1A6E-4B27-B3FD-24EC8E27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2A43-EE81-4328-B711-A3CCB5AF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48AA-9C81-4325-BD8A-692D003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10A4-C26C-4BA7-B3BD-03B4A61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0BFD-D763-490C-8282-B8D1074B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756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366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756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366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778-4B7B-4700-8F5F-5E6EE24C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2EB-EE5F-4F89-9652-D6B0B3B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4BC-02EA-4184-BD04-C9FCB8D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50F-1974-46CD-8F6A-2435AC40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481-BDA5-4F64-8D52-967764C1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A84-4290-4557-A28E-1B2095C3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FEB-C9D6-428E-A4CF-8D75825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D04-1EFD-4D2E-9513-2D681C0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A173-8945-4829-B1A8-6EB590C99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2F3-6808-4B9A-A65E-4D7FF4389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09 Pre-Nod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mission Improvements Stu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4419720"/>
            <a:ext cx="472428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1000"/>
          </a:bodyPr>
          <a:p>
            <a:pPr marL="243360" indent="-24336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C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Bojor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9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COT presentations to PUCT at July 12 Workshop in Project 2850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 Ten List” of previously-reviewed transmission improvements which mitigate significant congestion in 2009, but some rem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CT Chairman Hudson requested study in July 28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pose of study is to recommend a list of economic transmission improvements that will facilitate ERCOT’s transition to a nodal electricity market and will mitigate the impact of transmission constraints on the expected market benef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ope of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75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long lead time transmission improvements for 2009-2010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improvements needed for reliability or economic rea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SPs and other RPG members to provide potential solutions and ERCOT staff to quantify the benefits of these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mission recommendations will be based on currently known generation with sensitivities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20000" indent="-14400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native new generati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20000" indent="-14400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s in the fuel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&amp;A on scope, process and schedule with TSPs on 8/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&amp;A on scope, process and schedule with RPGs on 9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ility projects identified by 10/7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jects identified by 12/9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Evaluation of projects by 1/14/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ation to TAC and Board at Feb. 2006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4160" y="597996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is is a Highly Aggressiv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9:18:00Z</dcterms:created>
  <dc:creator>dwoodfin</dc:creator>
  <dc:description/>
  <dc:language>en-US</dc:language>
  <cp:lastModifiedBy>Ann S. Boren</cp:lastModifiedBy>
  <dcterms:modified xsi:type="dcterms:W3CDTF">2005-09-07T21:40:33Z</dcterms:modified>
  <cp:revision>5</cp:revision>
  <dc:subject/>
  <dc:title>Slide 1</dc:title>
</cp:coreProperties>
</file>