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4761-501E-45B5-8705-13E6A399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BFCD-56E8-4DFF-A69C-78369C7C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E611-1AC0-4B6D-9127-33F5222E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076-DB21-42F9-84B2-079989B0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3D18-7F5B-43A6-A06E-97C45ADF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A9E8-2E22-41EE-B64C-3987F11D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B85C-A9E3-4F68-B412-05EA5F94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AECF-DBDD-401D-8F96-9D8CE18D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72B0-FB99-4049-B361-9B67D62A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4B95-7836-449F-BBAC-3507C3C7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DB67-971D-4FFA-9E9B-A1EAEA3C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DDB0-95DD-404A-BCB3-3CCBCCBB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771B-C5A8-4A9F-8A2D-C3794CF6F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MS Motion to Temporarily Suspend 2005 Residential Annual 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on to recommend temporary suspension of the 2005 Residential Annual Validation until ERCOT completes analysis for a RMS decision in November.  PWG will provide monthly progress update on this issue to the RMS.  The motion passed by roll call vote (5.0 in favor; 1.5 opposed; 6 abstentions).  See attached for details of the Roll Call Vote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5:50:04Z</dcterms:created>
  <dc:creator>Ann Boren</dc:creator>
  <dc:description/>
  <dc:language>en-US</dc:language>
  <cp:lastModifiedBy>Ann Boren</cp:lastModifiedBy>
  <dcterms:modified xsi:type="dcterms:W3CDTF">2005-08-31T16:04:39Z</dcterms:modified>
  <cp:revision>3</cp:revision>
  <dc:subject/>
  <dc:title>WMS Motion to Approve 2006 CSCs and Zones</dc:title>
</cp:coreProperties>
</file>