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3C7-8F96-47E7-89E3-E0081C4E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9DD-AB16-4DA9-8818-6E9B54FC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FD5-88F4-4759-9881-858F3273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1FC-7551-4F06-8FDC-99BE2663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FF9-C405-4563-9FF6-B446B1A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7E9-CEFB-474D-8162-72FE9E3E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A1E-1C22-476B-9EAB-34D3F151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2EA-BD5A-469F-9A8D-D61A242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332-2264-4166-90D8-D9F4C2F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BCE-B505-46F8-BA9E-75663A6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3F3-07DC-4F02-B3E3-7F435D33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6FC-4D2A-4196-9065-8DBB36B8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2DD6-7BCF-496C-B492-4FC298755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5438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rket Participant Defaul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oint Taskforce Upd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port on Rec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4800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o 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8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947-602B-4864-A00C-1C7594309F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created RMS/WMS joint taskforc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current procedures for Market Participant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improvements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of taskforce is to minimize or eliminate uplif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nitial Joint TF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triggering event issues to be addressed by W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iggering event issues to be addressed by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ll be scheduled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64A-FAEC-401A-93CC-A83080FED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Mass Transition TF met Monday 08/15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d short-term recommendations into a Retail Market Guide Revision Request (RMGR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LSE does not cure, defaulting LSE must provide ERCOT customer information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s to send best available information to POLRs (either ESI ID list or customer information that has been obtained from defaulting R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vent the defaulting LSE cannot provide ERCOT with customer information, POLR is to work with TDSP to obtain existing customer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R is to submit off-cycle, unprotected switch based on the first available switch date (currently, six Retail Business days).  These switches must be submitted within five Retail Business days of receipt of ESI ID information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seminar for POLRs, TDSPs, ERCOT, and PUCT Staf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GRR 029 Mass Transition Process is scheduled to be reviewed at the 09/14/05 RMS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options for a long-term transactional solution and for obtaining/maintaining customer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26C-53E9-4B0D-8934-F7DF8C554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S 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previous WMS TF meetings was the submission of two Protocol Revision Requests (PR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 624: Clarification of Market Participant Default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default situations.  Much of language is based on language drafted for TNT Proto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 625: Clarification of Emergency QS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s changes that strengthen or clarify Protocol language that address when and how Emergency QSEs may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n the PRRs are due 09/16/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Rs will be addressed at 09/22/05 PR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6F7-4635-4C1B-8E50-21D518648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Rec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776-59F1-4889-B841-4AFD79142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August 29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P in the ERCOT Region made the business decision to exit the Mark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P represented approximately 550 ESI IDS and 40 MWh of load per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began facilitating daily calls and checkpoints with PUCT and impacted TDSPs and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rovided TDSPs and POLRs transition ESI ID lists and customer information available from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, September 6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business day since distribution of ESI ID list.  Per RMS short-term recommendation, POLRs to have submitted initiating transactions for tran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% of Initiating transactions submitted by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60A-C128-40BF-AD77-9FAFCE0B2D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Wednesday, September 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% of Initiating transactions submitted by POL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% of ESI IDs have transitioned away from exiting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Rs submitted off-cycle Switches to gain ESI 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R submission t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OLR submitted same or next day as receipt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ubmitted within 2 business d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OLR still working to complete sub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092-1B08-4C6A-A1D9-650CFC65E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7440" y="2189160"/>
            <a:ext cx="4033800" cy="37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DD3-C413-4462-8405-88FC3E50C8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hobbs</cp:lastModifiedBy>
  <cp:lastPrinted>2002-08-23T18:53:47Z</cp:lastPrinted>
  <dcterms:modified xsi:type="dcterms:W3CDTF">2005-09-07T19:18:09Z</dcterms:modified>
  <cp:revision>618</cp:revision>
  <dc:subject/>
  <dc:title>PowerPoint Presentation</dc:title>
</cp:coreProperties>
</file>