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D8EC8A-914C-41B0-BF20-719E853F9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214A6-FF5E-4CEA-8855-62B1C0A92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DABCDE-2E13-4893-988D-C005CD0A94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6EAA1-0588-4949-B2C5-E4B4F52FE5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56830-E446-4CF3-94BF-DC8B1866A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BFBE3-4E07-4E95-968F-828BFB1FA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11A36-A6F9-490A-A381-75771CAB5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D07E4-7F5E-49F1-A1A6-FEA3E8865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9D620-76ED-405C-9B56-77F2AA819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DED9A-5F5E-4A59-A18D-8FD28CD4E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D3933-85B4-4976-B4D3-E9D98B3D5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9D6F7-0841-44E3-AA48-BEEB289EC5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D3DAD-20DE-4351-837D-F639C20117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Arial"/>
              </a:rPr>
              <a:t>TAC</a:t>
            </a:r>
            <a:br>
              <a:rPr sz="4000"/>
            </a:br>
            <a:r>
              <a:rPr b="1" i="1" lang="en-US" sz="4000" spc="-1" strike="noStrike">
                <a:solidFill>
                  <a:srgbClr val="0000ff"/>
                </a:solidFill>
                <a:latin typeface="Arial"/>
              </a:rPr>
              <a:t>Potomac Recommendation Monthly Update</a:t>
            </a:r>
            <a:br>
              <a:rPr sz="4000"/>
            </a:br>
            <a:r>
              <a:rPr b="1" i="1" lang="en-US" sz="4000" spc="-1" strike="noStrike">
                <a:solidFill>
                  <a:srgbClr val="0000ff"/>
                </a:solidFill>
                <a:latin typeface="Arial"/>
              </a:rPr>
              <a:t>September 8, 2005</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eves L</a:t>
            </a:r>
            <a:r>
              <a:rPr b="0" lang="en-US" sz="1800" spc="-1" strike="noStrike">
                <a:solidFill>
                  <a:srgbClr val="000000"/>
                </a:solidFill>
                <a:latin typeface="Arial"/>
                <a:ea typeface="Arial"/>
              </a:rPr>
              <a:t>ópez</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RCOT Market R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Recommendations Related to Congestion Management</a:t>
            </a:r>
            <a:endParaRPr b="0" lang="en-US" sz="2000" spc="-1" strike="noStrike">
              <a:solidFill>
                <a:srgbClr val="000000"/>
              </a:solidFill>
              <a:latin typeface="Arial"/>
            </a:endParaRPr>
          </a:p>
        </p:txBody>
      </p:sp>
      <p:graphicFrame>
        <p:nvGraphicFramePr>
          <p:cNvPr id="44" name=""/>
          <p:cNvGraphicFramePr/>
          <p:nvPr/>
        </p:nvGraphicFramePr>
        <p:xfrm>
          <a:off x="457200" y="685800"/>
          <a:ext cx="8229600" cy="5497560"/>
        </p:xfrm>
        <a:graphic>
          <a:graphicData uri="http://schemas.openxmlformats.org/drawingml/2006/table">
            <a:tbl>
              <a:tblPr/>
              <a:tblGrid>
                <a:gridCol w="3352680"/>
                <a:gridCol w="1143000"/>
                <a:gridCol w="3733920"/>
              </a:tblGrid>
              <a:tr h="456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991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 Improve the process for designating zones to minimize the effects of the simplifying zonal assumptions.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R 589 (CSC and Zone Determinatio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B</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 by BOD on 6/21/05.</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ive 7/1/0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1370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 Improve process for evaluating and revising CSC definition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W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uggested improvements have been incorporated into the current versions of PRR587 and PRR 689.</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B</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071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 Modify the calculation methodology of the zonal average shift factor to exclude generation whose output is generally fixed (e.g., nuclear unit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R 592 (Modify Shift Factor Calculation to Exclude  Fixed Output Generators).</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tegory B</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 by BOD on 6/21/05.</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ive 11/1/0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Recommendations Related to Congestion Management – Cont’d</a:t>
            </a:r>
            <a:endParaRPr b="0" lang="en-US" sz="2000" spc="-1" strike="noStrike">
              <a:solidFill>
                <a:srgbClr val="000000"/>
              </a:solidFill>
              <a:latin typeface="Arial"/>
            </a:endParaRPr>
          </a:p>
        </p:txBody>
      </p:sp>
      <p:graphicFrame>
        <p:nvGraphicFramePr>
          <p:cNvPr id="46" name=""/>
          <p:cNvGraphicFramePr/>
          <p:nvPr/>
        </p:nvGraphicFramePr>
        <p:xfrm>
          <a:off x="457200" y="1219320"/>
          <a:ext cx="8229600" cy="5376600"/>
        </p:xfrm>
        <a:graphic>
          <a:graphicData uri="http://schemas.openxmlformats.org/drawingml/2006/table">
            <a:tbl>
              <a:tblPr/>
              <a:tblGrid>
                <a:gridCol w="3276720"/>
                <a:gridCol w="1295280"/>
                <a:gridCol w="3657600"/>
              </a:tblGrid>
              <a:tr h="450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58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 Provide ERCOT the operational flexibility to temporarily modify the definition of a CSC associated with topology chang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R 587 (Intra-Year Modification of CRE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 by BOD on 6/21/05.</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ive on 7/1/0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16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 ERCOT should modify its multi-step balancing energy market optimization to recognize the interactions between its local congestion management and zonal balancing energy deployments to minimize the costs of both classes of deployment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ue to complexity and cost, the issue deferred until after the PUCT decision on the nodal market design.</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tegory C</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Recommendations Related to Load Forecast</a:t>
            </a:r>
            <a:r>
              <a:rPr b="0" lang="en-US"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48" name=""/>
          <p:cNvGraphicFramePr/>
          <p:nvPr/>
        </p:nvGraphicFramePr>
        <p:xfrm>
          <a:off x="457200" y="1282680"/>
          <a:ext cx="8229600" cy="3137040"/>
        </p:xfrm>
        <a:graphic>
          <a:graphicData uri="http://schemas.openxmlformats.org/drawingml/2006/table">
            <a:tbl>
              <a:tblPr/>
              <a:tblGrid>
                <a:gridCol w="2743200"/>
                <a:gridCol w="1295280"/>
                <a:gridCol w="419112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8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 ERCOT examine its load forecasting model to determine whether there are additional factors that could be considered or other changes to their model that would improve its accuracy.</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ngoing and on schedule.  ERCOT has completed some items relating to load forecasting.  ERCOT will continue to evaluate and make any additional changes.  No PRR required for implementation.</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Recommendations Related to Balancing Energy Market</a:t>
            </a:r>
            <a:endParaRPr b="0" lang="en-US" sz="2000" spc="-1" strike="noStrike">
              <a:solidFill>
                <a:srgbClr val="000000"/>
              </a:solidFill>
              <a:latin typeface="Arial"/>
            </a:endParaRPr>
          </a:p>
        </p:txBody>
      </p:sp>
      <p:graphicFrame>
        <p:nvGraphicFramePr>
          <p:cNvPr id="50" name=""/>
          <p:cNvGraphicFramePr/>
          <p:nvPr/>
        </p:nvGraphicFramePr>
        <p:xfrm>
          <a:off x="228600" y="914400"/>
          <a:ext cx="8686800" cy="5719680"/>
        </p:xfrm>
        <a:graphic>
          <a:graphicData uri="http://schemas.openxmlformats.org/drawingml/2006/table">
            <a:tbl>
              <a:tblPr/>
              <a:tblGrid>
                <a:gridCol w="3505320"/>
                <a:gridCol w="1447560"/>
                <a:gridCol w="373392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68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 Allow QSEs to submit an energy schedule for the end of the next hour that would be used by ERCOT to produce 15-minute schedule quantities by interpolating across the hour.</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aska – for QSE PM WG</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R 609 (Smooth 15-Minute Resource Schedule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C.</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jected by TAC on 7/21/07.</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385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Implement an optional capability for QSEs to automatically adjust their hourly balancing energy offers for the changes in their 15-minute schedules.  This would help ensure that the participant’s portfolio energy offer is consistent with its energy schedules when the energy schedule is changing each interval.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MS, through QSE PM WG</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R 600 (Align BES Bids with Resource Plan Capability and Resource Schedule)</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C</a:t>
                      </a:r>
                      <a:r>
                        <a:rPr b="1" lang="en-US" sz="1800" spc="-1" strike="noStrike">
                          <a:solidFill>
                            <a:srgbClr val="cc0000"/>
                          </a:solidFill>
                          <a:latin typeface="Arial"/>
                        </a:rPr>
                        <a:t>.</a:t>
                      </a:r>
                      <a:endParaRPr b="0" lang="en-US" sz="1800" spc="-1" strike="noStrike">
                        <a:solidFill>
                          <a:srgbClr val="000000"/>
                        </a:solidFill>
                        <a:latin typeface="Arial"/>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cheduled for Board consideration on 9/20/05.</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33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Recommendations Related to Balancing Energy Market</a:t>
            </a:r>
            <a:r>
              <a:rPr b="1" i="1" lang="en-US" sz="2000" spc="-1" strike="noStrike">
                <a:solidFill>
                  <a:srgbClr val="0000ff"/>
                </a:solidFill>
                <a:latin typeface="Arial"/>
              </a:rPr>
              <a:t> - Cont’d</a:t>
            </a:r>
            <a:endParaRPr b="0" lang="en-US" sz="2000" spc="-1" strike="noStrike">
              <a:solidFill>
                <a:srgbClr val="000000"/>
              </a:solidFill>
              <a:latin typeface="Arial"/>
            </a:endParaRPr>
          </a:p>
        </p:txBody>
      </p:sp>
      <p:graphicFrame>
        <p:nvGraphicFramePr>
          <p:cNvPr id="52" name=""/>
          <p:cNvGraphicFramePr/>
          <p:nvPr/>
        </p:nvGraphicFramePr>
        <p:xfrm>
          <a:off x="152280" y="838080"/>
          <a:ext cx="8839440" cy="5105520"/>
        </p:xfrm>
        <a:graphic>
          <a:graphicData uri="http://schemas.openxmlformats.org/drawingml/2006/table">
            <a:tbl>
              <a:tblPr/>
              <a:tblGrid>
                <a:gridCol w="3733920"/>
                <a:gridCol w="1143000"/>
                <a:gridCol w="3962520"/>
              </a:tblGrid>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75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Eliminating the load and generation plateau in the middle of the interval by changing the modeling approach for load and generation.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M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R 601 (15 Minute Ramping for BES and Base Power Schedule)</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C.</a:t>
                      </a:r>
                      <a:endParaRPr b="0" lang="en-US" sz="1800" spc="-1" strike="noStrike">
                        <a:solidFill>
                          <a:srgbClr val="000000"/>
                        </a:solidFill>
                        <a:latin typeface="Arial"/>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cheduled for Board consideration on 9/20/0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9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 Require that QSEs submit physically feasible energy schedules.  It would be difficult to automatically validate the schedules for feasibility since they can be submitted well before the operating hour.  However, it could be monitored and enforced through ex post validation of compliance.</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R 525 (SCE Performance and Monitoring).</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C</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ved by BOD on 4/19/05.</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al implementation effective 5/1/05.  Full implementation and enforcement effective upon system implementa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33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Recommendations Related to Balancing Energy Market</a:t>
            </a:r>
            <a:r>
              <a:rPr b="1" i="1" lang="en-US" sz="2000" spc="-1" strike="noStrike">
                <a:solidFill>
                  <a:srgbClr val="0000ff"/>
                </a:solidFill>
                <a:latin typeface="Arial"/>
              </a:rPr>
              <a:t> - Cont’d</a:t>
            </a:r>
            <a:endParaRPr b="0" lang="en-US" sz="2000" spc="-1" strike="noStrike">
              <a:solidFill>
                <a:srgbClr val="000000"/>
              </a:solidFill>
              <a:latin typeface="Arial"/>
            </a:endParaRPr>
          </a:p>
        </p:txBody>
      </p:sp>
      <p:graphicFrame>
        <p:nvGraphicFramePr>
          <p:cNvPr id="54" name=""/>
          <p:cNvGraphicFramePr/>
          <p:nvPr/>
        </p:nvGraphicFramePr>
        <p:xfrm>
          <a:off x="228600" y="685800"/>
          <a:ext cx="8686800" cy="5548320"/>
        </p:xfrm>
        <a:graphic>
          <a:graphicData uri="http://schemas.openxmlformats.org/drawingml/2006/table">
            <a:tbl>
              <a:tblPr/>
              <a:tblGrid>
                <a:gridCol w="3657600"/>
                <a:gridCol w="1219320"/>
                <a:gridCol w="380988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72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1. Implement uninstructed deviation charges that allocate a portion of the regulation costs to the QSEs exhibiting large SCEs in the periods during each hour with the largest regulation needs.  In particular, we propose specific changes to PRR 356 that has been pending for more than two years.</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CT WM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R 586 (SCE Performance and Regulation Cost Re-Allocation).</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tegory B.</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rgency Status denied.</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Backcast reviewed at 4/21/05 WMS meeting.</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R again discussed at 4/17/05 WMS meeting.</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S considered the PRR on 5/19/05 and 7/21/05.  PRR is remanded the PRR to ROS and WMS.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22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2. Consider a specific modification of ERCOT’s portfolio ramp rate methodology that would recognize the changes in energy schedules.</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ue to complexity and cost, the issue deferred until after the PUCT decision on the nodal market design.</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680"/>
            <a:ext cx="84582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Recommendations Related to Balancing Energy Market</a:t>
            </a:r>
            <a:r>
              <a:rPr b="1" i="1" lang="en-US" sz="2000" spc="-1" strike="noStrike">
                <a:solidFill>
                  <a:srgbClr val="0000ff"/>
                </a:solidFill>
                <a:latin typeface="Arial"/>
              </a:rPr>
              <a:t> - Cont’d</a:t>
            </a:r>
            <a:endParaRPr b="0" lang="en-US" sz="2000" spc="-1" strike="noStrike">
              <a:solidFill>
                <a:srgbClr val="000000"/>
              </a:solidFill>
              <a:latin typeface="Arial"/>
            </a:endParaRPr>
          </a:p>
        </p:txBody>
      </p:sp>
      <p:graphicFrame>
        <p:nvGraphicFramePr>
          <p:cNvPr id="56" name=""/>
          <p:cNvGraphicFramePr/>
          <p:nvPr/>
        </p:nvGraphicFramePr>
        <p:xfrm>
          <a:off x="152280" y="762120"/>
          <a:ext cx="8839440" cy="5181480"/>
        </p:xfrm>
        <a:graphic>
          <a:graphicData uri="http://schemas.openxmlformats.org/drawingml/2006/table">
            <a:tbl>
              <a:tblPr/>
              <a:tblGrid>
                <a:gridCol w="2514600"/>
                <a:gridCol w="1219320"/>
                <a:gridCol w="5105520"/>
              </a:tblGrid>
              <a:tr h="380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33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3. ERCOT modify the limit on the quantity of responsive reserves provided from a single unit to make it less binding on relatively small units.</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GRR 164 (Responsive Reserve MW Limit).</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tegory B</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5/12/05, ROS voted to reject this OGR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666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4. ERCOT institute procedures to monitor whether QSEs are meeting their reserve obligations in real time.</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R 590 (Update Unit Telemetry Requirement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GRR 165 (Update Unit Telemetry Requirements).</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tegory A.</a:t>
                      </a:r>
                      <a:endParaRPr b="0" lang="en-US" sz="1800" spc="-1" strike="noStrike">
                        <a:solidFill>
                          <a:srgbClr val="000000"/>
                        </a:solidFill>
                        <a:latin typeface="Arial"/>
                      </a:endParaRPr>
                    </a:p>
                    <a:p>
                      <a:pPr>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RR approved by the BOD on 8/16/05.</a:t>
                      </a:r>
                      <a:endParaRPr b="0" lang="en-US" sz="1800" spc="-1" strike="noStrike">
                        <a:solidFill>
                          <a:srgbClr val="000000"/>
                        </a:solidFill>
                        <a:latin typeface="Arial"/>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GRR will proceed to next OWG mt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Arial"/>
              </a:rPr>
              <a:t>In Summary:</a:t>
            </a:r>
            <a:endParaRPr b="0" lang="en-US" sz="3200" spc="-1" strike="noStrike">
              <a:solidFill>
                <a:srgbClr val="000000"/>
              </a:solidFill>
              <a:latin typeface="Arial"/>
            </a:endParaRPr>
          </a:p>
        </p:txBody>
      </p:sp>
      <p:sp>
        <p:nvSpPr>
          <p:cNvPr id="58"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343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ations 5 and 12 delayed pending Commission decision regarding future market design.</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ations 1, 2, 3, 4, 6, 7, 10, and 13 complete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ations 8 and 9 scheduled for September 20 BOD meeting.</a:t>
            </a:r>
            <a:endParaRPr b="0" lang="en-US" sz="28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ations 11 and 14 in progress.</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report is posted on the ERCOT webs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5T16:12:35Z</dcterms:created>
  <dc:creator>Nieves Lopez </dc:creator>
  <dc:description/>
  <dc:language>en-US</dc:language>
  <cp:lastModifiedBy>Nieves Lopez </cp:lastModifiedBy>
  <dcterms:modified xsi:type="dcterms:W3CDTF">2005-08-30T21:11:56Z</dcterms:modified>
  <cp:revision>13</cp:revision>
  <dc:subject/>
  <dc:title>TAC Potomac Recommendation Monthly Update July 7, 2005 </dc:title>
</cp:coreProperties>
</file>