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F7C-6414-4933-8EF9-209D4ECF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1AB-12CE-405F-AF28-8E46DA4D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B85-B7A4-4AFB-BE0B-ABCB43BC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BEB-34DF-4EE4-A091-7C06CFF2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024-BCFA-4985-B374-5012EE13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A81-D588-47B5-B7CF-35A016A0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C02-D6A1-4DF3-85E6-DA5A1555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62B-3874-430E-9D68-D0ECBAEA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A52-1B92-44E0-A0C7-B09F8CDD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F96-3C90-424F-AADB-4D840C4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37A-ABED-4822-B108-D16C952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6DD-8415-48C9-93A6-2D3A8151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A5BE-BAB3-49FF-BD00-5B7E9AA6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MS Motion to Approve 2006 CSCs and Z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WG recommends that the CSCs for 2006 remain the same as they are today.  Specifically, the six CSCs w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C #1 – GRAHAM TO PARKER, GRAHAM TO BENBR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C #2 – SANDOW TO TEMPLE DOUBL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C #3 – STP TO DOW DOUBL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C #4 – GIBBONS CREEK – OBRIEN, JEWET – TH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C #5 – FARMERSVILLE – ROYSE CITY DOUBL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C #6 – PARKER TO GRAHAM, BENBROOK TO G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, CMWG recommends that there be five zones for 2006 (see attached spreadshee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S Motion: Motion to recommend approval of the 2006 CSCs and Zones as recommended by CMWG. The motion was approved by unanimous voice vote on 8/17/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5:50:04Z</dcterms:created>
  <dc:creator>Ann Boren</dc:creator>
  <dc:description/>
  <dc:language>en-US</dc:language>
  <cp:lastModifiedBy>Ann Boren</cp:lastModifiedBy>
  <dcterms:modified xsi:type="dcterms:W3CDTF">2005-08-31T15:51:56Z</dcterms:modified>
  <cp:revision>2</cp:revision>
  <dc:subject/>
  <dc:title>WMS Motion to Approve 2006 CSCs and Zones</dc:title>
</cp:coreProperties>
</file>