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A8D-866F-41AE-B66E-4FD9354B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221-134C-4659-9FD6-F2A613C53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6F0-CE7E-438B-8BFE-3AD5B689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282-2026-4A15-9067-AAFD362C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91C-F243-4FD1-8467-8DECC6A3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C93-CB6E-47DE-B0E7-47DB5F74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67AC-8144-4A98-90A8-1EACF34A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4DBC-7F76-4E78-BD5B-AA0D12F0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96C8-BDA6-4E04-8F45-0DE59BB8B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32F3-9EDA-4BB1-AE8D-B93F3D3C7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30A2-B087-4061-AD3A-FBDFD319E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4E62-ED53-46AB-875F-642C12146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ACEF-0F2E-431A-927C-A792624FB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EDD4-5DEF-40E2-B00A-F23A77043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867E-2CDD-4905-A4FF-164425A58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5320-9AA2-46E2-8B9E-104C4DEEF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C257-373F-4DBC-B156-C69B40EBE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575C-E692-4936-9430-80C36EAF9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099-846C-4837-9CDE-9F3CE9E08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FFE9-A8AD-403F-BDB8-B36DC3997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4DBD-B473-48D4-ABF0-40B19CF44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11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5CA1-A197-463E-8469-5ABA65B44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Enhancements to SCR 727 (SCR 740 Web Service for ESII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– Lodestar Batch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3 Potential Load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CFE-9991-45B8-9300-363198DCEA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0280" y="12952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training on Serena’s CMS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an work on redesigning ERCOT’s public website and migrating documents using the CMS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ed information meetings for ERCOT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 and install the Google Search Ap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 on redesigning ERCOT’s public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 on migrating documents to ERCOT’s re-designed site using the Serena’s CMS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 with MPs to illustrate project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70F0-BAA5-4A91-B1CF-8D786D3AD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2952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product selection – selected Serena Software’s Team Track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ing contract negotiations with Serena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conceptual design phase of the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slated for Q1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conceptu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training for ERCOT employees on Serena’s Team Track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Team Track developmen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4DC8-8C4F-46B4-9875-D98437D18F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028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design for phase 1 (Business Intelligence) – developer resourcing issue re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design for phase 2 (Services – architec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date: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XML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design on queuing 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developing test scenarios for Produc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DC04-A591-4104-8679-9A0949AE66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295280"/>
            <a:ext cx="81914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 727 ESIID Extract, Public Referenc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testing scenarios close to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rs are completing unit testing their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development the timing logic for when to run and what timestamp data range to include in each extract – to be implemented to production by 09/0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PTEST and UAT on SCR 727 logic late 08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E18C-1DE5-4086-9093-C98008022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1295280"/>
            <a:ext cx="81532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026 EPS Meter Data Extract/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development the timing logic for when to run and what timestamp data range to include in each extract – to be implemented to production by 09/0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code for I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development of ITEST test plan for technical integration testing and U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0856-D5B7-4338-868E-74E45DCD8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95360" y="1295280"/>
            <a:ext cx="83437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Lead: Denise E. Tay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 number: 512-248-39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taylor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L:  Source: Market  Priority: 1.2 Rank: 32 Program Area: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prompted the project: SCR 739 Pending Load Loss Reports for C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: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August 1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tentatively August 22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business driver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for more accurate and timely visibility into retail customer load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time and cost incurred by CRs to adjust their power purchase forecasts and power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9400" y="15228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F5ED-29E9-4E1F-96E7-F2DB908833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8-11T06:02:29Z</dcterms:modified>
  <cp:revision>299</cp:revision>
  <dc:subject/>
  <dc:title>Slide 1</dc:title>
</cp:coreProperties>
</file>