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9FD2-9DB9-42CE-9A11-EA207A95B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83FC-BF85-4779-8411-2A47802F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DAC4-E8FE-4C0A-94FA-3063C0E9D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96F5-63F9-4F8E-9CD9-BBF166C8D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B953-DD7C-4977-911D-187F7F15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1060-69CA-4396-BDBD-58A9166A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C642-AD79-45B7-9622-C06A00AB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6C00-509B-4AF1-9C59-A9D7B6B0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E2EA-4CFC-4387-A3CF-60603D9A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9B62-FF12-4606-8C9E-E225E857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9805-54A0-492B-8A25-C5AEB37F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1F28-CFCC-4459-B8D3-0F0164C7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EC3D-DB11-4164-8BED-7ACF45A19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76212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1523880"/>
            <a:ext cx="817560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 options to address issues with Full Siebel Service Order Extract (SSOE) file size limit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522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ract Delivery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3880"/>
            <a:ext cx="817560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Process to Post Full Siebel Service Order Extr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s to deliver Full Siebel Service Order Extr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ort-term res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alternate method to publish extracts for those MP’s who are close to the 2GB lim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ng-term 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ire the Full Siebel Service Order Extr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rease the amount of data included in extra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t Information Delivery (MI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onal Data Source (O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952880" y="1522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ract Delivery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5760" y="1514520"/>
            <a:ext cx="8156520" cy="495144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Process to post Full Siebel Service Order Extr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o paths (sets of code) to post extrac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 MPs whose extracts are typically &lt; 2 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 cre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 zip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 posted automatically (via eW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 MPs (4) whose extracts are typically &gt; 2 GB (alternate metho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 created and split into 2 files per 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7320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prior to January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7320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after January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 Zipped (2 fil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 (2 files) posted manu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su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PKZIP file limitation is 2G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anual intervention to post files &gt; 2G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Two paths to post extracts (mentioned abo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EIS to post and verify those over 2G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Issues with duplicate pos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 Storage Costs –$80K/terrab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 Peripheral processes initiated (internal/exter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52880" y="152280"/>
            <a:ext cx="3962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ract Delivery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262480" y="4051440"/>
          <a:ext cx="3346560" cy="24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62480" y="4051440"/>
                    <a:ext cx="3346560" cy="24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5760" y="1514520"/>
            <a:ext cx="8156520" cy="517212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-term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lternate method to publish extracts for those MP’s who are close to the 2GB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dvant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e process already exi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es some peripheral manual 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isadvant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es minor modification to make MPs in question go through this 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es an additional process to identify those approaching 2GB lim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P’s must account for two f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file for pre-January 2004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ile for post-January 2004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me manual intervention still required at ERC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positive impact to storage co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Retail Account Manager can help you determine i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 are close to the 2GB lim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52880" y="152280"/>
            <a:ext cx="3962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ract Delivery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5760" y="1514520"/>
            <a:ext cx="8156520" cy="472284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-term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ire the Full Siebel Service Order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t will have to rely on daily Siebel Service Order Extra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dvant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rease amount of data stored at ERC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eatly reduce redundancy in data transmi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mize cost of owner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rewrite or change to code at ERC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isadvant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Ps will have to modify their systems (no purge and relo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952880" y="152280"/>
            <a:ext cx="3962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ract Delivery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5760" y="1514520"/>
            <a:ext cx="8156520" cy="472284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-term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rease amount of data included in extract and frequency of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de 6 months of data in each extract going for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e a phased approach to get all data to each MP up to previous 6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dvant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reases amount of data stored at ERC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uces redundancy in data transmi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isadvant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Siebel extracts still ex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ing, Design and Development – additional 20 days for extract of this 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age Costs – reduced but not elimin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152280"/>
            <a:ext cx="3962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ract Delivery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5760" y="1514520"/>
            <a:ext cx="8156520" cy="472284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-term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Information Delivery (M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dvant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on to publish with receipt – guaranteed deli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igns with new Service Oriented Framework (SO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isadvant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 Constra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ing, Design and Development – additional 20 days for extract of this 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age Costs – additional $80K/terra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 is estimated that all reports will publish via MID by Q1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152280"/>
            <a:ext cx="3962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ract Delivery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152388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-term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al Data Source (via Web Servi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dvant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es not depend on e*Way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torage cost associated with re-issuing Full SSO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 demand pull of extracts from web-based GU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isadvant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 constraints: Dependen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ependen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W Siebel Transition (PR50059; Priority/Rank for 2006 not known y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R 740, Enhancements to SCR 727 – Webservices Infrastructure (PR50024; Q1 2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ebel Webservice (Not yet an approved project for 2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05520" y="30492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ract Delivery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9T21:21:25Z</dcterms:created>
  <dc:creator>Jlavas</dc:creator>
  <dc:description/>
  <dc:language>en-US</dc:language>
  <cp:lastModifiedBy>Jlavas</cp:lastModifiedBy>
  <dcterms:modified xsi:type="dcterms:W3CDTF">2005-08-09T21:48:34Z</dcterms:modified>
  <cp:revision>2</cp:revision>
  <dc:subject/>
  <dc:title>Slide 1</dc:title>
</cp:coreProperties>
</file>