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F40-1E1B-40FC-80D9-843DC1AC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FA1-0676-4406-B32A-FE7EEF56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5D2-72E1-4B6D-992F-2B9A5CA0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BAE-1067-40F5-9349-B5508EE3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AEB-004B-4DE1-A3F7-D2628C47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C6C-0517-487E-8964-3AC04ACD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832-ED24-4714-8382-E3983877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3F0-77FF-4471-AE46-F874694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F2E-1DC8-4494-B566-0978B072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1C0-146C-4226-966C-ED572558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E35-B4AC-4A1E-819C-C114519C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CE1-5BDC-4A64-B091-846527B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7DED-79F8-4203-B37B-2BCFD2674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ite structure and 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&amp; implement an ownership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 a web content management system (Serena Software’s Coll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 a search engine (Google Search Appli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process to ensure the sustainability of the investment in the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engine functionality (including metadata strate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navigation - create a new information architecture for the site (task driven foc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owners can post updates easily – conten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or maximizing the use of key real estate for critical and timel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formation and processes are maintained after the re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areas of the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 at this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3360" y="597708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ugust 16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0280" y="990720"/>
            <a:ext cx="8156520" cy="4724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in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Started on June 13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d training on Serena’s CMS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work on re-designing ERCOT’s public website and migrating documents using the CMS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ed information meetings for ERCO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ed information meetings for M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 and install Google Search Ap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work on re-designing ERCOT’s publi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work on migrating documents to ERCOT’s re-designed site using Serena’s CMS produc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440" y="68580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3360" y="597708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ugust 16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– will have firm dates after project plan i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/Jul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/Nov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3360" y="597708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ugust 16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L Phase II Mid-Term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the Market Survey strongly encouraged the implementation of a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website comparisons between the other 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3360" y="597708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ugust 16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614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5-08-16T19:59:18Z</dcterms:modified>
  <cp:revision>165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2-38D4-A149-08521C1C1544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