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77F-9004-4EC6-8B4B-E7B61AAE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75DC-8646-49CD-81E5-F3DB199D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3C44-7B84-4FFF-B7DE-FD5A650A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A3A-9051-4A5C-9C7B-54AC15B2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F2C9-FFC0-4EDA-A09F-62EE6F56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58A-441C-4024-8C51-4FA84058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94E-7557-4F22-B66D-8F38F0FB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16B-B875-4231-9EE5-E1A6DA51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B920-045D-4A19-9C2F-B163E26E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0EE0-2AE8-4792-AB87-77E5E852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6F04-F8A2-401B-8D55-0C99B349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1853-3AC0-4DEA-A141-A278C291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771B-FF7A-43C9-9A15-9ADBE0261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Notification Email Li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ss Change Upd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419360" y="495252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olesale market Subcommitte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 17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2F71-6E10-424E-AE4E-7828E61217F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sends message to multiple mail lists, including working group lists in attempt to cover desired audi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red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sends message to specific e-mail list designed for distribution of such message. Market Participants self- signup for the list, determining who should receive the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AF3-18A5-43B4-A370-2AC31AEBB24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for self-signup of Market Participants to appropriate mai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for efficiently sending messages to targeted 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ase using Working Group list for notice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number of duplicate e-m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DAA-2417-4092-AA7B-88CF3440050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on of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Market Notices of a general nature intended for distribution to the ERCOT Market, but not applicable to any other specific mailing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ystem Outages/Releases – Wholesa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Market Notices concerning system outages or upgrade releases that affect Wholesale Market fun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ystem Outages/Releases – Ret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Market Notices concerning system outages or upgrade releases that affect Retail Market fun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tail Process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Notices concerning the processing of retail trans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tracts - Wholesa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Notices of interest to any Wholesale parties utilizing Data Extracts and repo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tracts -Ret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Notices of interest to any Retail parties utilizing Data Extracts and repo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egal Notifi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Notices to the ERCOT Market of a general legal 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C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Notices concerning Transmission Congestion Righ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85ED-A72A-4DA1-A449-AC5F6141528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on of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R/SC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Notices of implementation or details of Protocol Revision Requests or System Change Reque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ttlements – 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Notices concerning the Wholesale Settlements issued by ERCOT that are public in n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M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Notices concerning Reliability Must Run contracts, units and deploy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ntracts/RFPs/RF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Notices of Contracts, Requests for Proposal and Requests for Information that are issued by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ons Noti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Notices of interest to personnel concerned with power ope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arket and Power Operations Bulletin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Distribution list for Market Operations Bulletins and Power Operations Bullet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Distribution list for information regarding Market Participant tes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Distribution list for notices of ERCOT provided training ev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D415-2CDA-4862-BC38-7FEF42FDD1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is establishing distribution list set-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will be provided when new lists are available for Market Participant sign-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will be established when new lists will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urrent distributions will be used for a pre-determined timefr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1AE-1CC0-4735-932F-35617D16148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57440" y="2189160"/>
            <a:ext cx="4033800" cy="37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9E0-95D3-4D08-8F65-5DD809E3B0C8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thailu</cp:lastModifiedBy>
  <cp:lastPrinted>2002-09-24T18:27:58Z</cp:lastPrinted>
  <dcterms:modified xsi:type="dcterms:W3CDTF">2005-08-16T19:52:51Z</dcterms:modified>
  <cp:revision>511</cp:revision>
  <dc:subject/>
  <dc:title>PowerPoint Presentation</dc:title>
</cp:coreProperties>
</file>