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5E4E-4530-47E2-B9F6-2106EA62C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FC20-CC5E-4ACF-B193-BA81BCDFB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04ED-70BB-47FB-A1DF-0223A1E6E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A8F6-0D9F-46D8-9F12-F5514B331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C810-EF1E-45CC-ACB2-75162B906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0066-29E4-4A42-BE78-72688FC85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8F0F-26AD-452C-98EA-9B679F886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999D-E916-4279-956E-16D92FCCE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EDF0-365A-42E0-8B92-E9B66209C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E90F-3328-42B6-88A3-52ED37B1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5C70-378A-4512-ABF9-6CAB0DB6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C536-DC6D-406E-AC92-4765EE01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60212-9D89-4851-9084-CA5F835881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2120" y="38736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870120" y="1295280"/>
            <a:ext cx="6937200" cy="5580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15840" bIns="1584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1905120"/>
            <a:ext cx="7543800" cy="22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arket Participant Default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Joint Taskforce Upd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eport on Recent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ustomer Transition Activ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62320" y="4800600"/>
            <a:ext cx="4190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 to W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ust 17,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7F31-FACF-4AA8-88EC-87FF69FCEBD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 Custom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ition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467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dnesday, July 13,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QSE in the ERCOT Region, AZOR Energy, LP, defaulted under its QSE Agreement with ERCOT, Inc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ZOR is also a REP representing approximately 500 ESI IDS and 50 MWh of load per d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RCOT began facilitating daily calls and checkpoints with PUCT and impacted TDSPs and POLR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provided TDSPs and POLRs transition ESI ID lists and customer information available (on approximately 90% of ESI IDs) from REP by 2p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EB1B-C99A-4844-B048-39B69BA184D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 Custom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ition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ursday, July 14,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COT provided POLRs additional customer information on remaining ESI ID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dnesday, July 20,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business day since distribution of ESI ID list.  Per RMS short-term recommendation, POLRs to have submitted initiating transactions for transi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1% of Initiating transactions submitted by POL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ursday, July 21,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I IDs begin switching away from defaulting REP as result of transi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iday, July 22,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st switches submitted for transi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day, August 1,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st ESI ID transitioned away from defaulting RE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F6C4-91C7-4B26-B597-9644B209739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 Customer Transi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ity: Current Stat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Stat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of August 1, 2005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 % of ESI IDs complete in transitioning away from defaulting RE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Rs submitted off-cycle Switches to gain ESI I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R submission tim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POLR submitted same or next day as receipt of lis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POLR submitted within 2 business day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POLR submitted within 2-7 business day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3949-5787-43ED-89CC-7749DF63123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557440" y="2189160"/>
            <a:ext cx="4033800" cy="3740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56AA-5E73-43DD-A623-77DF9CB5506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skforce Purp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C created RMS/WMS joint taskforce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ew current procedures for Market Participant defa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ermine whether improvements can be m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 of taskforce is to minimize or eliminate uplift expo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initial Joint TF meet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-triggering event issues to be addressed by W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t-triggering event issues to be addressed by 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t meetings will be scheduled as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F33F-A80A-4837-8B7B-01A56C633B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MS Short-Term Recommend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LSE does not cure, defaulting LSE must provide ERCOT customer information. 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COT is to send best available information to POLRs (either ESI ID list or customer information that has been obtained from defaulting RE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e event the defaulting LSE cannot provide ERCOT with customer information, POLR is to work with TDSP to obtain existing customer inform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R is to submit off-cycle, unprotected switch based on the first available switch date (currently, six Retail Business days).  These switches must be submitted within five Retail Business days of receipt of ESI ID information. 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ensures a maximum effective date for the transition (less than or equal to 11 Retail Business Days) within these guidelines.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ucational seminar for POLRs, TDSPs, ERCOT, and PUCT Staff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3F1A-B0B8-479D-8C4B-E3964086C43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MS Items f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urther Consid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short-term recommen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ss update of customer information using either csv or 814_PC (accomplish by September 1, 2005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anded back to RMS TF to address concerns noted at 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-term recommen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ustomer update maintenance through 814_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actional/automated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DSP Mass Meter Estim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BE36-A2CF-4A11-AC0B-0404AD9427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S TF Meet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ference call on Monday 7/18/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iewed pre-triggering event iss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ed issues for discussion for 07/22/05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etings on Friday 07/22/05 and Thursday 07/28/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mergency QSE design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et rules for Emergency QSE design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tlement of load of a defaulting L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gger point for mass transition of customers  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iew of timelines surrounding a Market Participant defaul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ification by QSE to terminate relationship with L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eline for LSE to meet credit requirements or find another Q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eline in Market Participant agreements 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iew whether the scheduling rights of defaulting QSEs should be terminated or n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CE67-CD84-4326-9768-EA53521B70B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S TF Meet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comes of WMS TF Meeting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ing PRRs to address the follow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a default situation where an LSE is no longer represented by a QSE, use of a virtual QSE for tracking and scheduling purposes of the LSE’s load at ERC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he situation where a QSE defaults, LSEs are dropped to the Default QSE (16.2.12.2).  Propose providing LSEs the additional option of becoming an Emergency (EQS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SEs should be allowed to continue to schedule any bilateral contracts they may have to lessen the impact to the Mark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nguage clean-up and cl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82F7-95E5-4841-99E6-E0F970D197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S TF Meeting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ed PR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options regarding timelines for QSE terminating relationship with LS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ption 1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xtend timeline for notification of a QSE to terminate relationship with LSE to 7 Business Day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y noon on the 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usiness Day, LSE must either name a new QSE or qualify as EQSE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LSE does not meet either, then LSE is in breech of contrac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ice provided on afternoon of 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usiness Day and cure period begins on 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usiness Day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 end of 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usiness Day (which coincides with end of cure period), current QSE/LSE relationship is terminated and LSE is assigned to a virtual QSE for tracking purpo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ption 2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aintain current timeline of 5 Business Days for notification of a QSE to terminate relationship with L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ify timeline for LSE to name a new QSE or qualify as EQSE by noon on the 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usiness Da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LSE does not meet either, then LSE is in breech of contrac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ice provided on afternoon of 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usiness Day and cure period begins on 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usiness Day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 end of 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usiness Day, current QSE/LSE relationship is terminated and LSE is assigned to a virtual QSE for tracking purpo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A8EB-EA65-4AFE-9A1E-212CD6BCDF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of Recen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stomer Transition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71B7-B9F2-412B-B071-0C4B254FB80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 Custom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ition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24680" y="3886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38880" y="2438280"/>
            <a:ext cx="1524240" cy="1371600"/>
            <a:chOff x="7238880" y="2438280"/>
            <a:chExt cx="1524240" cy="1371600"/>
          </a:xfrm>
        </p:grpSpPr>
        <p:sp>
          <p:nvSpPr>
            <p:cNvPr id="61" name=""/>
            <p:cNvSpPr/>
            <p:nvPr/>
          </p:nvSpPr>
          <p:spPr>
            <a:xfrm>
              <a:off x="7238880" y="2438280"/>
              <a:ext cx="15242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ast ESI ID  transition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7924320" y="3200400"/>
              <a:ext cx="1126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066680" y="43434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3886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562720" y="40384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14800" y="4114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40384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4876920"/>
            <a:ext cx="76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7/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066680" y="1447920"/>
            <a:ext cx="1981440" cy="2361960"/>
            <a:chOff x="1066680" y="1447920"/>
            <a:chExt cx="1981440" cy="2361960"/>
          </a:xfrm>
        </p:grpSpPr>
        <p:sp>
          <p:nvSpPr>
            <p:cNvPr id="70" name=""/>
            <p:cNvSpPr/>
            <p:nvPr/>
          </p:nvSpPr>
          <p:spPr>
            <a:xfrm>
              <a:off x="1066680" y="1447920"/>
              <a:ext cx="19814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RCOT begins daily checkpoints with impacted TDSPs, POLRs, &amp; PU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1143000" y="2438280"/>
              <a:ext cx="53352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3733920" y="4724280"/>
            <a:ext cx="76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7/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971800" y="3276720"/>
            <a:ext cx="2286000" cy="838080"/>
            <a:chOff x="2971800" y="3276720"/>
            <a:chExt cx="2286000" cy="838080"/>
          </a:xfrm>
        </p:grpSpPr>
        <p:sp>
          <p:nvSpPr>
            <p:cNvPr id="74" name=""/>
            <p:cNvSpPr/>
            <p:nvPr/>
          </p:nvSpPr>
          <p:spPr>
            <a:xfrm>
              <a:off x="2971800" y="3276720"/>
              <a:ext cx="2286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Times New Roman"/>
                </a:rPr>
                <a:t>th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Business Day – 91% of Initiating Transactions s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4114800" y="3733920"/>
              <a:ext cx="763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4648320" y="4724280"/>
            <a:ext cx="76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7/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800600" y="2057400"/>
            <a:ext cx="1676520" cy="1980720"/>
            <a:chOff x="4800600" y="2057400"/>
            <a:chExt cx="1676520" cy="1980720"/>
          </a:xfrm>
        </p:grpSpPr>
        <p:sp>
          <p:nvSpPr>
            <p:cNvPr id="78" name=""/>
            <p:cNvSpPr/>
            <p:nvPr/>
          </p:nvSpPr>
          <p:spPr>
            <a:xfrm>
              <a:off x="4800600" y="2057400"/>
              <a:ext cx="1676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SI IDs begin switching away from defaulting RE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5105160" y="2819160"/>
              <a:ext cx="15228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5257800" y="4724280"/>
            <a:ext cx="76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7/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5562360" y="2971800"/>
            <a:ext cx="1752840" cy="990720"/>
            <a:chOff x="5562360" y="2971800"/>
            <a:chExt cx="1752840" cy="990720"/>
          </a:xfrm>
        </p:grpSpPr>
        <p:sp>
          <p:nvSpPr>
            <p:cNvPr id="82" name=""/>
            <p:cNvSpPr/>
            <p:nvPr/>
          </p:nvSpPr>
          <p:spPr>
            <a:xfrm>
              <a:off x="5867280" y="2971800"/>
              <a:ext cx="14479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ast switches submitted for trans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5562360" y="365760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7543800" y="4724280"/>
            <a:ext cx="76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8/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228600" y="2209680"/>
            <a:ext cx="1295280" cy="1676520"/>
            <a:chOff x="228600" y="2209680"/>
            <a:chExt cx="1295280" cy="1676520"/>
          </a:xfrm>
        </p:grpSpPr>
        <p:sp>
          <p:nvSpPr>
            <p:cNvPr id="86" name=""/>
            <p:cNvSpPr/>
            <p:nvPr/>
          </p:nvSpPr>
          <p:spPr>
            <a:xfrm>
              <a:off x="228600" y="2209680"/>
              <a:ext cx="12952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P defaults under Agreements with ERCOT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5800" y="3200400"/>
              <a:ext cx="304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143000" y="2438280"/>
            <a:ext cx="2514600" cy="1447920"/>
            <a:chOff x="1143000" y="2438280"/>
            <a:chExt cx="2514600" cy="1447920"/>
          </a:xfrm>
        </p:grpSpPr>
        <p:sp>
          <p:nvSpPr>
            <p:cNvPr id="89" name=""/>
            <p:cNvSpPr/>
            <p:nvPr/>
          </p:nvSpPr>
          <p:spPr>
            <a:xfrm>
              <a:off x="1752480" y="2438280"/>
              <a:ext cx="19051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RCOT provides ESI ID list and available customer info to POLRs &amp; TDSP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1143000" y="3276720"/>
              <a:ext cx="9144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066680" y="5715000"/>
            <a:ext cx="6858000" cy="307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ustomer transition completed in 13 Business or 19 Calendar D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5181480"/>
            <a:ext cx="6629400" cy="533520"/>
          </a:xfrm>
          <a:prstGeom prst="rightArrow">
            <a:avLst>
              <a:gd name="adj1" fmla="val 50000"/>
              <a:gd name="adj2" fmla="val 31064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ustomer transition in prog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6324480"/>
            <a:ext cx="685800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pared to previous transition which lasted 16 Business or 23 Calendar D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6019920"/>
            <a:ext cx="6858000" cy="3070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urrent customer transition should have completed in 11 Business or 15 Calendar D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C922-9DE8-47BC-A3DE-C2B7DFBB9D5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khobbs</cp:lastModifiedBy>
  <cp:lastPrinted>2002-08-23T18:53:47Z</cp:lastPrinted>
  <dcterms:modified xsi:type="dcterms:W3CDTF">2005-08-16T20:41:57Z</dcterms:modified>
  <cp:revision>611</cp:revision>
  <dc:subject/>
  <dc:title>PowerPoint Presentation</dc:title>
</cp:coreProperties>
</file>