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9B68-0451-4FAF-9310-A5125A2B3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657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Side Working Group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7084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S Meeting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1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33920" y="304920"/>
            <a:ext cx="4876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WG Priori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Remainder of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and develop a solution to Day Ahead purchase of LaaR’s for AS RRS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and propose demand side solutions for emergency fuel supply curtail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and propose demand side solutions for a system wide loss of load event (1 in 10 y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DS Programs at other ISO’s and compare to ERCOT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procedures for DS Program Inclusion in Reserve Adequacy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 Load Participation part of ERCOT Internet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33920" y="304920"/>
            <a:ext cx="4876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WG Meeting Highligh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2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ncy Demand Side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615 – Use of DLC Programs for Planning Rese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AS Bids and Adjustment Period Mar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PRR—Floor Price for AS Bids – Withdrawn by the pro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619 —Day Ahead Procurement of LaaR’s would count all bids equal or below MCPC as ties and prorate bi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Participation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 LaaR resources, 1758 MW capacity, 8 QSE w/ 2 new QSE in qualifi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eme</cp:lastModifiedBy>
  <cp:lastPrinted>2000-09-19T10:42:49Z</cp:lastPrinted>
  <dcterms:modified xsi:type="dcterms:W3CDTF">2005-08-16T19:29:11Z</dcterms:modified>
  <cp:revision>200</cp:revision>
  <dc:subject/>
  <dc:title>No Slide Title</dc:title>
</cp:coreProperties>
</file>