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755-7516-46FC-AAFB-E53E790C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B28-3281-446D-94CB-086B26D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103-4BBD-4BE9-9B11-98576104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621-DE12-49D8-830E-86CE0F4D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BB0-B4A4-4ACA-AE63-3630307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8B4-15B7-4531-B2D8-A774AC8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4F8-0403-44BC-BC18-946F39F2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CE1-1D02-4526-9990-F135FBD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267-568F-4FA4-8326-067DEB75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F4F-B8A3-4382-A658-AE80154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885-C6EE-47DD-9039-9D5DB32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A28-1ED4-4D31-83E9-34B7629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34E8-08AE-4D1B-80F5-4537D2DD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6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S Task Force 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lesale Market Sub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 1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Propose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132280"/>
            <a:ext cx="8077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6.9.2.1.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placement Reserve Under Scheduled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duct of the MCPC multiplied by the amount of capacity insufficiency of each QSE.  The insufficiency for the Operating Hour shall be the sum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eatest of zero (0) or each difference between the Adjusted Me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and the amount of Load scheduled in each Settlement Interval for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Hour at 1300 in the Day Ahead or thirty (30) minutes af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s Notice of procurement of RPRS in the Adjust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od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eater of zero or the amount of capacity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rom either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match in the QSE’s Schedule as defined in Section 4.7.2, Schedu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ion Proces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or 2) a QSE selecting ERCOT as a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Proposed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38080" y="1905120"/>
                <a:ext cx="754380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q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P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z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6600" y="3732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4267080"/>
                <a:ext cx="4648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cros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304920" y="2209680"/>
          <a:ext cx="9448920" cy="36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209680"/>
                    <a:ext cx="94489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#1 – MMS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057400" y="1371600"/>
                <a:ext cx="4648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cros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520" y="3646800"/>
            <a:ext cx="80769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dentified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 are fundamentally opposed to splitting the Megawatt Mismatched amounts between the QSE and CounterQ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 believe that a significant gaming opportunity exists for QSEs to randomly select another QSE and relieve half of their RPRS oblig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lear definition of MMS established in the protocols in Section 4.7.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 prefer ERCOT not to b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 betwe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600200"/>
            <a:ext cx="1447920" cy="18288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828800"/>
              <a:gd name="textAreaBottom" fmla="*/ 1758240 h 1828800"/>
            </a:gdLst>
            <a:ahLst/>
            <a:rect l="textAreaLeft" t="textAreaTop" r="textAreaRight" b="textAreaBottom"/>
            <a:pathLst>
              <a:path w="21600" h="27281">
                <a:moveTo>
                  <a:pt x="3600" y="0"/>
                </a:moveTo>
                <a:arcTo wR="3600" hR="3600" stAng="16200000" swAng="-5400000"/>
                <a:lnTo>
                  <a:pt x="0" y="23681"/>
                </a:lnTo>
                <a:arcTo wR="3600" hR="3600" stAng="10800000" swAng="-5400000"/>
                <a:lnTo>
                  <a:pt x="18000" y="27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#2 – Alloca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ultiple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62120" y="1676520"/>
                <a:ext cx="754380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q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P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z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003200"/>
            <a:ext cx="80769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dentified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 expressed concern regarding using the product of the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hort sched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CPC across all mar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Participants realize that additional bill determinants are required to allow for each market to be settled independen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057400"/>
            <a:ext cx="762120" cy="152388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1523880"/>
              <a:gd name="textAreaBottom" fmla="*/ 1486800 h 152388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438280"/>
            <a:ext cx="6858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2010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onsiders resolving Issue #1 using a manual workaround is too cumbersome and time consuming to provide timely data to the mark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believes that the current design does not preclude Market Participants from resolving their Mismatched differences through Bilateral Agreement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a long term solution to splitting the Mismatched amounts can be systematically resolved post EMMS Release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agrees with the Task Force that a manual process can probably accomplish any solution to Issue #2, until the solution is c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23320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Larry Gu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a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3199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0:51:03Z</dcterms:created>
  <dc:creator>Sam Jones</dc:creator>
  <dc:description/>
  <dc:language>en-US</dc:language>
  <cp:lastModifiedBy>jshadams</cp:lastModifiedBy>
  <dcterms:modified xsi:type="dcterms:W3CDTF">2005-08-16T21:57:04Z</dcterms:modified>
  <cp:revision>34</cp:revision>
  <dc:subject/>
  <dc:title>PowerPoint Presentation</dc:title>
</cp:coreProperties>
</file>