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7DE-2D72-47D4-A681-86390BC5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8B0-1C69-4474-9289-8D08041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D16-2F6B-49ED-BC06-7AE99DB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3BF-1387-4036-831C-35F5001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2BCA-49A7-4F89-B658-6765581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958E-D5E2-42F5-9325-5963426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2D9-70E1-4088-9263-43E31696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C16-AF64-4051-9675-4FDFA73E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E7B-C846-4C7C-8A25-60B7740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594D-2E50-4FFE-A47A-EE3601CB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1DFB-F09B-4131-BCD9-2104993A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12C-6F7E-4A5A-9049-6112AC30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1E0-7E2D-4AA2-A9D3-FB431B8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416-96F2-496D-8DD3-6B99FCD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FF2-1456-46F7-ACA9-F134A59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BBD-F2A8-473D-9993-0691ACEA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F2B-F558-4006-8F24-44766394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9BB-C3A6-4AD5-AF23-1E8DF20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8DA-30E4-46AD-BEB8-F8512890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911-EBDF-4708-BAF9-BC2AFD5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CAC-BD2F-403D-87F1-FFF0F65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BA4-93CF-4A63-852C-8396AE4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7BF-F760-47EF-BCCE-A1247BF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8D7-6F79-4F0F-87DD-8218707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1F3B-530E-49F7-91D6-DED4198EA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479F-4619-4719-92B7-C28B1B1E3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uly 7,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456-9C0A-4584-8280-06B041B5C3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S recommends approval of the 2006 Project Priorities &amp; R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ization process is dynamic and PRS will continue to monitor and adjust the 2005 and 2006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8C5-93A5-4E87-91BB-A68CBB6D0A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R Recomme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ACFE-94BD-42F4-8BDC-5002A50322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Austin Energy (Mu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memorializes April 14, 2005 market notice on quick start unit testing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limits UBES bid quantities to the tested quantity available through ERCOT’s test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procedure is in an OG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ERCOT concerned that quick start units may negatively impact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CA4-8C85-48F4-BEA5-5553905C3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iant Energy submitted comments to T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C8B-30C9-45E0-B905-62516BCC7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88 – Testing of Quick Start Units in the BES Mar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8D6-1726-4025-B7B3-C1011EC509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0 – Update Unit Telemetry Requi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submitted by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responds to Patton #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s requirement for QSEs to provide RT AGC status and ramp rate for onlin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Improves ERCOT’s ability to determine if QSE can meet RRS obl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, FPLE, Exelon &amp; 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ed 2006 Priority 1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3C8-7ADF-482B-BFB1-F5B75F6BC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0 – Update Unit Telemetry Requi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040" y="3618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- testing; LT - minor imp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2960" y="4738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3320" y="3124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$100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1880" y="42051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DA, ICCP &amp; R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8A8-3AFF-44BB-99AA-22C0B0356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3 – Behind the Fence Reporting of Lo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Centerpoint Energy on behalf of GA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intended to gather information on load not currently reported to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ERCOT load projections for reserve calculation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with 1 nay vote and 1 abs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9AE-4539-4F19-B25F-07818C34B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3 – Behind the Fence Reporting of Lo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65760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7242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2960" y="4738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2960" y="3657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process for new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A65-12CA-484A-A161-1D570DDE8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5 – Protocol Section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TXU ED on behalf of Meter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orms Section 10 to current market and ERCO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clarity and accuracy of th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D10-16F5-46AE-A008-627D63A1BB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6 System Prioritizati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A8B-8DD5-4E17-88CA-E756DADD4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5 – Protocol Section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0CB-9099-43BF-9949-E8F768923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7 – Texas Test Plan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submitted by AEP on behalf of TT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s Protocols for current ERCO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: Improves accuracy of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d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eptember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D18-8087-402F-8383-E4C7F1CB8E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97 – Texas Test Plan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A79-A313-4330-B61D-73326D4B03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68 – Change Initial Settlement from 17 to 1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submitted by TXU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s the day the Initial Settlement statement is issued from 17 days to 10 days following the Operating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ransition plan is needed to provide market participants with information on PR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: Reduces overall credit exposure and collateral requirements due to the quicker issuance of the Initial Sett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nded by ERCOT &amp; C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S recommended approval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upon TAC approval of a transition plan developed by COPS – PRR &amp; COPS Plan now moving in tandem through governanc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737-683B-41CA-8C02-E653EE5022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68 – Change Initial Settlement from 17 to 1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2240" y="58053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7360" y="312408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to occur through O&amp;M $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560" y="3672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FTE – Impact for analys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6640" y="41911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changes to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8080" y="473868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 process tim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3D7-0EB7-48C2-B444-5F13D144D6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88 – Testing of Quick Start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0 – Update Unit Telemetry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3 – Behind the Fence Reporting of 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5 – ERCOT Protocol Section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97 – Texas Test Plan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R 568 – Change Initial Settlement from 1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A66-00DD-4E8B-80F2-02222949BE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1E6-A244-43C8-AB45-9B54D79E0D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nual Project Prioritizat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438280"/>
            <a:ext cx="106668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438280"/>
            <a:ext cx="106704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438280"/>
            <a:ext cx="106668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809880"/>
            <a:ext cx="1295640" cy="1447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bcommitte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COPS, R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S, WMS )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CO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U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2971800"/>
            <a:ext cx="1523880" cy="12952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549760"/>
            <a:ext cx="2266920" cy="111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RCOT will identify if this request requires a protocol change.  If it does not, then it is processed as an SC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562720"/>
            <a:ext cx="221292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y system change that does not require a change to the protocols will be submitted via SC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41008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CRs are initiated from sub-committees, PUCT or ERC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743200"/>
            <a:ext cx="2743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7432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274320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733920"/>
            <a:ext cx="126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S provides priority and ran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708360"/>
            <a:ext cx="126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AC approves, rejects or remands to a subcommitt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61944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oard of Directors approves, rejects or remands to T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0240" y="4343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280" y="25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828800"/>
            <a:ext cx="210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S reviews language, approves, rejects or remands and provides priority and ran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10D-4636-462F-9C14-E818FE5F0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ization includes all projects competing for capital dollars, not just computer system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ject summaries included cost/benefit analysis for priority 1 and 2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jects reviewed included 15 projects currently in progress (IP) which would consume 2006 capital dollars (~$6.5 M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ther TAC subcommittees (RMS, COPS, &amp; WMS) recommended priorities and cost/benefi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5F3-D3D4-4122-8270-7321CA472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2006 PRS Priorit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combined PUC, Market and ERCOT project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projects update market monito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projects primarily reflect PRRs or SC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projects include computer system and “bricks and mortar”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S specifically discussed included replacement of “middleware”, automation of DC-tie scheduling, status of security-related projects and data center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2C3-8E77-4ED3-A919-D9AE7ABB3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iority Assign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5238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5238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276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276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51814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1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2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3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51814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2C9-8A82-4511-90B6-5EF80CF5FC1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7524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1-1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1752480"/>
            <a:ext cx="411480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4 – 2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4 – 4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12 – 15 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1752480"/>
            <a:ext cx="1295280" cy="10670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20040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320040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320040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648320"/>
            <a:ext cx="12952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4648320"/>
            <a:ext cx="411480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4648320"/>
            <a:ext cx="12952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18E-3030-4248-82C3-F132493CFF7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066680"/>
            <a:ext cx="129528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1066680"/>
            <a:ext cx="411480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4) -- $1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8) -- $6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67) -- $33 M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7 below the cut l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1066680"/>
            <a:ext cx="1295280" cy="152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419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2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419720"/>
            <a:ext cx="41148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2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419720"/>
            <a:ext cx="1295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56386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3.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5638680"/>
            <a:ext cx="411480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1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5638680"/>
            <a:ext cx="12952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895480"/>
            <a:ext cx="2362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08440" y="274320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ssible Cut Line ~ $27 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200400"/>
            <a:ext cx="129528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1.2-1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200400"/>
            <a:ext cx="41148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C  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ket  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 (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3200400"/>
            <a:ext cx="129528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3D9-7BD6-409E-B61A-12625C29CE4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2006 System Project 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does it all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est ranking in each priority grouping went to projects with greatest net benefit to the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me projects referenced in the Protocols will not b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jects recognized as necessary (1 Priority) will not be done or will bump projects above the cu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ss Customer Tran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w projects to correct operations or settlemen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22A-F1A1-4C43-BFD3-F0A83C10E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KGresham</cp:lastModifiedBy>
  <dcterms:modified xsi:type="dcterms:W3CDTF">2005-07-06T20:40:45Z</dcterms:modified>
  <cp:revision>58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13FD999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