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5F017-8D6B-457B-A60E-54412DC725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What entities are exposed to the uplift associated with a DAM participant’s failure to p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Questions from COPS discus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Is the 180 day uplift in the draft Nodal Protocols correc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COPS suggests criteria to halt migration to Day 10 Initial would be subject to materially adverse changes in Credit, Load, Resource or UFE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COPS Discussion, Action and Recommendation to TAC needed for setting Triggers would be derived from the Analysis Period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4915-4C59-4C14-B78A-AD7E758D4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71AC-ECDD-4FC4-8A48-BE9B3AE85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F140-7A52-4A43-B504-CB2551533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7A5D-9C7D-4FA1-B1A8-6F2F10609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AE02-CD6C-4277-9A55-AF387BBFA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68CC-BF0E-4A2B-A034-05A8F93A3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8D1B-A0A3-42BA-AAF1-6049B8178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6E4B-D52C-4688-9559-B417DB02E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F1FE-4BD5-453F-AFEB-8C82A78D5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E89C-D3C8-45F9-8F4F-6554A468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95CC-EACE-4314-89D9-667DB92B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5EA1-3B54-4D18-B7EE-00DECFDB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360F7-0ED2-4A90-91DE-EDA18B62AE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828800" cy="982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984240"/>
            <a:ext cx="9144000" cy="8244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ommercial Operations 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ub-Committee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Update to TA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95280" y="46483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July 7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2390-04D9-4F8E-A76C-3991682F513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PS Upda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1447920"/>
            <a:ext cx="8381880" cy="68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162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COPS  attendees desire to have Voting structure similar to PR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62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Questions relating to Day Ahead Market short pay protocol language were passed to T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62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ERCOT presented findings concerning storage space required for keeping Zero Charge settlement data – Market needs more time to study individual impac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62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Consensus was reached that continued effort is needed in addressing Dispute and ADR processes in protoco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62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62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9F17-2F1D-4964-9B8A-B397646DDE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1760" y="144756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OPS Recommend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PRR 568 Implementation Pl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igrate Initial Settlements from 17 to 10 D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2743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14320" y="155520"/>
            <a:ext cx="419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TAC VOTING I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58AF-C03D-4B3F-87FB-46F3743D1C3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7920" y="1522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PRR 568 Implementation Pl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low for an Analysis period to review load extracts for Day 10 aggregation to determine expected impact when initial settlements are reduced from 17 to 10 day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Market Participant effects (individual analysi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Individual Load Ch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Resource Imbalance Ch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ERCOT Analysis of Market eff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Credit Impact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UF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Total 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Market consensus on threshold needed to stop the migration to Day 10 is that set points are not likely to be known until analysis period data is avail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itial Settlement Statement publication begins reducing from 17 days to 10 days over a seven week period starting with Invoices published during the week of 2/9/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ven (7) weekly invoices published beginning on 2/9/06 will contain eight (8) initial Settlement Statements instead of the current seven (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EE02-F3DA-4FF4-ABCD-2ADB9DE7A88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0" y="457200"/>
            <a:ext cx="6781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R 568 –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redit Impact Analysis Collateral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During the transition period, adjustments will be made to Estimated Aggregate Liability (EAL) and Net Load and Resource Imbalance (NLRI) credit calculations as nee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djustments will be made to TNT Protocols Section 16 credit calcu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mplementation Analysis period will provide additional time to determine full effect to 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eliminary credit analysis shows reductions in collateral realized as long as the quality of data utilized for the credit calculations is substantially the same as the current qu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11F5-F517-4D7D-BC65-2DC180857C3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5640" y="456840"/>
            <a:ext cx="6705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R 568 – Credit Impact Analysis EAL Calc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683560" cy="1525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28600" y="3809880"/>
            <a:ext cx="8683560" cy="152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535F-C7B4-4498-8336-D899396BAA3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19160" y="304920"/>
            <a:ext cx="609588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R 568 Implementation Plan 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28600" y="1676520"/>
          <a:ext cx="8763120" cy="4884480"/>
        </p:xfrm>
        <a:graphic>
          <a:graphicData uri="http://schemas.openxmlformats.org/drawingml/2006/table">
            <a:tbl>
              <a:tblPr/>
              <a:tblGrid>
                <a:gridCol w="1828800"/>
                <a:gridCol w="6934320"/>
              </a:tblGrid>
              <a:tr h="231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Analysis Period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Augus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t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mid Nove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ERCOT begins providing Ch 0 cuts for Load and Generation Extrac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743040" indent="-285840">
                        <a:buClr>
                          <a:srgbClr val="3333cc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743040" indent="-285840">
                        <a:buClr>
                          <a:srgbClr val="3333cc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1200" spc="-1" strike="noStrike" baseline="30000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st</a:t>
                      </a: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30 day run for Aug 1 to Aug 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743040" indent="-285840">
                        <a:buClr>
                          <a:srgbClr val="3333cc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743040" indent="-285840">
                        <a:buClr>
                          <a:srgbClr val="3333cc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200" spc="-1" strike="noStrike" baseline="30000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nd</a:t>
                      </a: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30 day run Sept 15 to Oct 15, 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743040" indent="-285840">
                        <a:buClr>
                          <a:srgbClr val="3333cc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743040" indent="-285840">
                        <a:buClr>
                          <a:srgbClr val="3333cc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Ch 0 is a day 8 aggregation - the data that would be used for day 10 settl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ERCOT provides reporting similar to Report provided at COPS Feb 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Market Participants exchange ideas and observations of Ch 0 cuts in conference calls every 2 weeks.   The 1</a:t>
                      </a:r>
                      <a:r>
                        <a:rPr b="1" lang="en-US" sz="1400" spc="-1" strike="noStrike" baseline="30000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st</a:t>
                      </a: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call to occur approximately 20 days after the first date Ch 0 data was made avail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Nov 14, 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Market Participants end Ch 0 analys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743040" indent="-285840">
                        <a:buClr>
                          <a:srgbClr val="3333cc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COPS presentation discussion on Analysis resul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743040" indent="-285840">
                        <a:buClr>
                          <a:srgbClr val="3333cc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743040" indent="-285840">
                        <a:buClr>
                          <a:srgbClr val="3333cc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Prepare recommendation for TAC Vo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Dec 1, 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TAC meeting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743040" indent="-285840">
                        <a:buClr>
                          <a:srgbClr val="3333cc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COPS report of Ch 0 analysis resul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743040" indent="-285840">
                        <a:buClr>
                          <a:srgbClr val="3333cc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743040" indent="-285840">
                        <a:buClr>
                          <a:srgbClr val="3333cc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Possible VOTING ITEM to change the implementation plan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Jan 17, 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1400" spc="-1" strike="noStrike" baseline="30000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st</a:t>
                      </a: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Trade Date to Start the migration to Day 10.   Binding Settlement Statement would be published on February 2, 200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7 weeks  – 8 day </a:t>
                      </a: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Settlement Invoi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Feb 9, 16, 23, Mar 2, 9, 16, 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"/>
          <p:cNvSpPr/>
          <p:nvPr/>
        </p:nvSpPr>
        <p:spPr>
          <a:xfrm>
            <a:off x="457200" y="1189080"/>
            <a:ext cx="82296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IMELINE:  Market Participant and ERCO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FD50-A5EE-45E5-871C-746E2C6318D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9520" y="380880"/>
            <a:ext cx="495324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R 568 Implementation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5410080"/>
            <a:ext cx="82296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579680"/>
            <a:ext cx="77724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he following Metrics have been discussed by COPS for setting Triggers that would lead to recommendation for TAC to authorize stopping the migration to Day 10 Initial Sett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Review Market Wide UFE comparing Day 10 to Day 17 results – to understand if there is a material 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No material change in Load or settlement impact of a market participant caused by changing initial settlement to Day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5EA0-376E-4969-B19D-936470FA0E2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57600" y="380880"/>
            <a:ext cx="510552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R 568 Implementation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5410080"/>
            <a:ext cx="82296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274760"/>
            <a:ext cx="777240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COPS RECOMMEN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AC to recommend Board approval of  PRR 568 with the Implementation Plan as Outli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Implementation Plan Out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Analysis period from August through mid Nove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Recommendation if necessary from COPS to halt mig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Recommendation to halt would be supported by Facts from the Analysis based on materially adverse Credit, Load, Resource or UFE imp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Initial Settlement would begin with Trade Dates on Invoices published February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7 Week Implementation period where Settlement invoices would contain 8 trade day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241B-D565-4581-8303-D41EF09EC7C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4T11:17:23Z</dcterms:created>
  <dc:creator>cpsc600</dc:creator>
  <dc:description/>
  <dc:language>en-US</dc:language>
  <cp:lastModifiedBy>Ann Boren</cp:lastModifiedBy>
  <dcterms:modified xsi:type="dcterms:W3CDTF">2005-06-30T20:36:15Z</dcterms:modified>
  <cp:revision>135</cp:revision>
  <dc:subject/>
  <dc:title>Point-to-Point</dc:title>
</cp:coreProperties>
</file>