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E6F0-714E-45C1-B2E5-B562601E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EF6A-B7BE-4E58-BD99-0131DC1E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882E-ED2D-4E5A-8E53-DCD388B5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7B1B-F4BB-4BB8-ADE3-F5173584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4A95-8223-4811-8DE7-DD8C2BE2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1B27-874E-42F3-B9A2-97B6E5EB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A748-DE14-4EB1-A232-8635DB21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DE71-75C7-4AF7-98ED-6C24E2A1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2B91-CDB6-4D6F-A1E7-2B678F3B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345F-4B2C-41CE-BCB5-B256C71C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35EE-0DA9-4DB5-8569-42D718D9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50A4-779D-42E7-A626-C40DEBB4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508A-0DFC-4A7E-B980-4BF39DCEA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120" y="38736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70120" y="1295280"/>
            <a:ext cx="6937200" cy="5580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15840" bIns="1584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2209680"/>
            <a:ext cx="75438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rket Participant Defaul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oint Taskforce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4114800"/>
            <a:ext cx="4190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to T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 7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4AD-D590-4E45-BE4D-FD88B2E226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force 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C created RMS/WMS joint taskforc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current procedures for Market Participant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whether improvements can be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 of taskforce is to minimize or eliminate uplift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D6F9-9ED1-4779-BBD8-B87AABDD1C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ckoff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of recent Market Participant default scenario and customer tran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of UFE analysis of recent default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of the various potential default scenarios that could lead to a mass transition of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/gap identification with current rules/gu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A0C2-6132-47A1-8309-FC18101FFB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s for Consi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CT Rules (POLR, REP, Terms &amp; Conditions, Customer Prot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s (Sections 9, 11, 15, 16, 2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ty of tim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ty of transition task 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cooperation of losing 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CBF0-DC01-4C14-B38B-265B9A3AD3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 for consideration categorized for efficient use of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triggering event issues to be addressed by W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-triggering event issues to be addressed by 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 issues will be handled in the Mass Transition Taskforce currently chaired by Cary Reed (AEP) and Charlie Bratton (TXUES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meeting is scheduled for July 11-12 to address both a short-term and a long-term sol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needed, joint meetings will be facilitated to ensure progress and consensus of both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F5D7-7B18-4E42-B504-F218158B86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57440" y="2189160"/>
            <a:ext cx="4033800" cy="3740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5584-D438-4E87-9656-0E581A2BB6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Ann Boren</cp:lastModifiedBy>
  <cp:lastPrinted>2002-08-23T18:53:47Z</cp:lastPrinted>
  <dcterms:modified xsi:type="dcterms:W3CDTF">2005-06-30T20:02:27Z</dcterms:modified>
  <cp:revision>573</cp:revision>
  <dc:subject/>
  <dc:title>PowerPoint Presentation</dc:title>
</cp:coreProperties>
</file>