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AC98D3-0647-46B8-B5A9-2C2A5E34F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lnSpc>
                <a:spcPct val="150000"/>
              </a:lnSpc>
              <a:spcBef>
                <a:spcPts val="488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s in a cooperative manner to establish processes and procedures for testing the Market Participants commercial operations to verify retail system compliant with ERCOT Protocols and PUC rulemak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88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s processes and procedures for testing that represent the consensus view of Market Participants directly involved in the testing proces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88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s market processes defined by the ERCOT Protocols, other RMS working groups, and PUC rulemakings to establish testing requirements and materials necessary to validate those processes among Market Participan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841-6423-47CF-B463-10B97C67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BA9-3BA6-4997-BDD3-D4B46025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1E4-B33D-42EE-A1EF-1A54197A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7CD-2674-48C4-A466-26C2A4C2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60DB-4E5B-4075-992E-5260867A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AA2-7C91-44DE-97D0-312849B0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9D42-DC99-4E06-9880-9FB8906B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C988-1676-4FEB-A20B-D9D77881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91CB-C4AD-4B98-8F1D-81C595ED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FC0C-7A15-4911-9318-37C6A6C4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595A-9FF7-49CF-9F49-160E982A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B84-8F09-4D47-9281-6F944AF6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0E9C-F440-4366-974A-C1A04966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2A18-B621-4AB2-9483-4F7FA73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9B94-418A-41BF-BE64-FA65D468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021-4637-4F61-8F0F-FFCEB3CE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623B-AAB9-40A8-9A66-09345064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D39-8885-42FF-97DB-EE6139FC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5AB-D32D-48D7-BE53-86F51E4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D79-6283-403C-979C-55388FE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371-DD0D-452B-A6A3-28D6E46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73E-F682-4839-B602-4051DA1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827-D408-4C7A-BBC4-CB6978B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151-9547-41CB-A7D6-F080DF9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235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EE1-79CC-4178-9257-BF15DED4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9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C7D-EA82-405F-ABB9-A445061B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uly 7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240" y="205740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Update to TAC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 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 742 – Automated Retail Transaction Verification and Impac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334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(Remand from June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GRR 024 – Texas Test Pla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GRR 025 – Retail Customer Transition 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ting Item – SCR 74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Retail Transaction Ver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eveloped by the Texas Test Plan Team to support automatic testing of retail trans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llows market participants automated testing to verify internal system changes that do not require complete market t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duces the effort required to complete certification t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mproves the ‘time-to-market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ill not replace a thorough end-to-end market t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ting Item – SCR 74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39680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Retail Transaction Verific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Voted on by RMS April 12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nt to PRS for prioritiz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Prioritized by PRS 2.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anded back to RMS by TAC June 2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 a revised RMS Recommendation Report, June 15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hanced overall Market benefit, Market impact and Consumer impac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ote: Maintained PRS priority recommendation - 2.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600" y="4191120"/>
            <a:ext cx="812880" cy="279360"/>
          </a:xfrm>
          <a:prstGeom prst="rightArrow">
            <a:avLst>
              <a:gd name="adj1" fmla="val 50000"/>
              <a:gd name="adj2" fmla="val 72745"/>
            </a:avLst>
          </a:prstGeom>
          <a:gradFill rotWithShape="0">
            <a:gsLst>
              <a:gs pos="0">
                <a:srgbClr val="ff5050"/>
              </a:gs>
              <a:gs pos="50000">
                <a:srgbClr val="ff0000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- Voting Items –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587600"/>
            <a:ext cx="78487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MGRR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Test Pla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the current Texas Test Plan Team role and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MGRR 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Customer Transition Busines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tates the Role of the PUC to be consistent with current Marke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63400">
              <a:lnSpc>
                <a:spcPct val="15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65200" y="3641760"/>
            <a:ext cx="825480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12840" y="3344760"/>
            <a:ext cx="180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46200" y="3344760"/>
            <a:ext cx="180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904160" y="3344760"/>
            <a:ext cx="144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60000" y="3344760"/>
            <a:ext cx="180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39280" y="3408480"/>
            <a:ext cx="1800" cy="62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898440" y="3344760"/>
            <a:ext cx="180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3520" y="3344760"/>
            <a:ext cx="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98320" y="3335400"/>
            <a:ext cx="18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4880" y="3344760"/>
            <a:ext cx="144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791560" y="3344760"/>
            <a:ext cx="1440" cy="6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1040" y="151128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0800000">
            <a:off x="5862240" y="2477160"/>
            <a:ext cx="20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ustomer Transitions,  24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60680" y="551808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iled for REP Decer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413080" y="4572000"/>
            <a:ext cx="0" cy="96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8640" y="200664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 must post collate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3520" y="1998720"/>
            <a:ext cx="0" cy="12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5520" y="1295280"/>
            <a:ext cx="147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SE representation 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65400" y="1994040"/>
            <a:ext cx="0" cy="12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840720" y="1279080"/>
            <a:ext cx="222120" cy="3537000"/>
          </a:xfrm>
          <a:custGeom>
            <a:avLst/>
            <a:gdLst>
              <a:gd name="textAreaLeft" fmla="*/ 0 w 222120"/>
              <a:gd name="textAreaRight" fmla="*/ 80280 w 222120"/>
              <a:gd name="textAreaTop" fmla="*/ 92160 h 3537000"/>
              <a:gd name="textAreaBottom" fmla="*/ 3444840 h 353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6520" y="403488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5/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40280" y="403488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5/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61160" y="404748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5/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17320" y="403488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6/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07600" y="403488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6/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04080" y="403812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5/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640" y="403812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5/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13400" y="403812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5/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13760" y="4039560"/>
            <a:ext cx="3790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5/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72080" y="2006640"/>
            <a:ext cx="110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ad becomes U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0720" y="2673360"/>
            <a:ext cx="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76560" y="5518080"/>
            <a:ext cx="16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ily check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800600" y="4592160"/>
            <a:ext cx="0" cy="97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4057200" y="1410840"/>
            <a:ext cx="213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I IDs provided to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OLRs, begin submitting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39080" y="6051600"/>
            <a:ext cx="176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9.4% of ESI IDs schedu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0800000">
            <a:off x="7662600" y="1505520"/>
            <a:ext cx="125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ansition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918560" y="4565520"/>
            <a:ext cx="0" cy="145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03840" y="2673360"/>
            <a:ext cx="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22800" y="2425680"/>
            <a:ext cx="0" cy="82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"/>
            <a:ext cx="830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stomer Transition Time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2600" y="3324240"/>
            <a:ext cx="8328960" cy="522000"/>
            <a:chOff x="552600" y="3324240"/>
            <a:chExt cx="8328960" cy="522000"/>
          </a:xfrm>
        </p:grpSpPr>
        <p:sp>
          <p:nvSpPr>
            <p:cNvPr id="149" name=""/>
            <p:cNvSpPr/>
            <p:nvPr/>
          </p:nvSpPr>
          <p:spPr>
            <a:xfrm>
              <a:off x="3980520" y="3324240"/>
              <a:ext cx="1261080" cy="337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6920" y="3324240"/>
              <a:ext cx="3644640" cy="33768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52600" y="3643200"/>
              <a:ext cx="8211240" cy="203040"/>
              <a:chOff x="552600" y="3643200"/>
              <a:chExt cx="8211240" cy="203040"/>
            </a:xfrm>
          </p:grpSpPr>
          <p:sp>
            <p:nvSpPr>
              <p:cNvPr id="152" name=""/>
              <p:cNvSpPr/>
              <p:nvPr/>
            </p:nvSpPr>
            <p:spPr>
              <a:xfrm>
                <a:off x="552600" y="3643200"/>
                <a:ext cx="4709160" cy="203040"/>
              </a:xfrm>
              <a:prstGeom prst="rect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DSP Lost Reven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240160" y="3654720"/>
                <a:ext cx="3523680" cy="190440"/>
              </a:xfrm>
              <a:prstGeom prst="rtTriangle">
                <a:avLst/>
              </a:prstGeom>
              <a:solidFill>
                <a:srgbClr val="ff7c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7640" bIns="17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8777160" y="2009880"/>
            <a:ext cx="0" cy="124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07A-123B-416D-93B3-9F0224D547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523880"/>
            <a:ext cx="739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Ann Boren</cp:lastModifiedBy>
  <dcterms:modified xsi:type="dcterms:W3CDTF">2005-07-11T13:54:48Z</dcterms:modified>
  <cp:revision>79</cp:revision>
  <dc:subject/>
  <dc:title>RMS Report to TAC 6/3/04</dc:title>
</cp:coreProperties>
</file>