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E80-76DF-4F11-B6B1-1D58E4B0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Notice Regarding Off-line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920" y="235080"/>
            <a:ext cx="487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t D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d April 14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ed to QSEs to cease showing off-line units as on line in their Resource Plans starting May 15, 2005 unless they met interim qualification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 reasons for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interim qualification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to ROS February 1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t WMS February 28 and March 16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t QSE Project Managers Working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made to initial proposal based on comments recei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Notice sent out April 14, 2005 establishing interim qualification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88 approved unanimously by PRS on May 19, 2005 adopting unit qualification standard consistent with interim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qualifications for off-line units that can be shown on-line in Resource Plans (typically quick-start gas turbines) and thus eligible to provide Balancing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fication based on Balancing Energy dispatch requirements in Protoc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sent out by ERCOT 5-7 minutes before start of ramp (10-13 minutes before start of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Energy must be completely ramped in 10 minutes (5 minutes after start of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ff-line units are shown on-line in Resource Plan and bid into Balancing Energy, but can not respond fast enough to provide Balancing Energy according to Protoc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requirement is increased with risk of depletion, increasing exposure to frequency control problems, impact of unit trips and Responsive Reserv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might provide Balancing out of it’s Responsive Reserve obligation to avoid SCE, making ERCOT de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unit status in Resource Plan affects procurement of Non-Spinning Reserve, OOMC, OOME now, and Replacement Reserve after Releas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SEs have complied with the request in the Market Notice and no longer show unqualified off-line units as on-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QSE requested interim qualification test for 312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QSE was qualified for 304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uch as 2,000 MW of off-line capacity was shown on-line in past.  Unknown how much was bid into Bala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David Cantrel</dc:creator>
  <dc:description/>
  <dc:language>en-US</dc:language>
  <cp:lastModifiedBy>Ann Boren</cp:lastModifiedBy>
  <cp:lastPrinted>2000-09-19T10:42:49Z</cp:lastPrinted>
  <dcterms:modified xsi:type="dcterms:W3CDTF">2005-07-11T13:54:10Z</dcterms:modified>
  <cp:revision>177</cp:revision>
  <dc:subject/>
  <dc:title>No Slide Title</dc:title>
</cp:coreProperties>
</file>