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EEC3-0457-4A47-B441-60FA931F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 Subset of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jects that were needed to resolve insecure energy. These projects are deemed reliability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F5C-2A67-462D-BC91-AC0EF04B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954-2BA3-4D16-BF36-9C6DBEA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360-D892-4008-BC82-C8C21386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947-2156-4D19-A004-213AFD5D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11B-658E-4AC6-B4C2-CDE3134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045-2FEA-4DF7-97AE-4386C3E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154-D335-4A4E-ACCA-323D5CB4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20D-431F-4409-B3ED-B1489D3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809-261B-4F22-92FA-FC3E57B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DC7-D02A-494D-A3CA-9376C016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95C-E7BC-45E7-907D-A7FBEAA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DE1-A5FC-42EF-9112-D7036B5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0B3-812E-43E6-A478-62EF5D26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447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ransmission Services Report:  North and West RPG Projec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191120"/>
            <a:ext cx="3962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ill Bojorqu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uly 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2120" y="304920"/>
            <a:ext cx="8693280" cy="5943600"/>
            <a:chOff x="222120" y="304920"/>
            <a:chExt cx="8693280" cy="59436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30040" y="304920"/>
              <a:ext cx="8685360" cy="5306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 rot="333000">
              <a:off x="807840" y="4597200"/>
              <a:ext cx="2315880" cy="17460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299600">
              <a:off x="2916360" y="4549680"/>
              <a:ext cx="723600" cy="15084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953200">
              <a:off x="7684560" y="2298240"/>
              <a:ext cx="144720" cy="2667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040600">
              <a:off x="7540560" y="1820520"/>
              <a:ext cx="144360" cy="55260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519600">
              <a:off x="7287120" y="1568520"/>
              <a:ext cx="142920" cy="50652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62800">
              <a:off x="7097760" y="1284120"/>
              <a:ext cx="152280" cy="4683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82800">
              <a:off x="6964200" y="1300320"/>
              <a:ext cx="144720" cy="6804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034400">
              <a:off x="2333880" y="3308400"/>
              <a:ext cx="271800" cy="14292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127000">
              <a:off x="2028960" y="3517560"/>
              <a:ext cx="533160" cy="9036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079600">
              <a:off x="557280" y="3849840"/>
              <a:ext cx="1836720" cy="14256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7315400">
              <a:off x="293400" y="4424040"/>
              <a:ext cx="679320" cy="20628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214200">
              <a:off x="228240" y="4728960"/>
              <a:ext cx="361800" cy="13320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592308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iability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5824440"/>
              <a:ext cx="457200" cy="424080"/>
            </a:xfrm>
            <a:prstGeom prst="ellipse">
              <a:avLst/>
            </a:prstGeom>
            <a:solidFill>
              <a:srgbClr val="66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589428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iability/Economic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1320" y="5824440"/>
              <a:ext cx="457200" cy="42408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24480" y="589428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5824440"/>
              <a:ext cx="457200" cy="42408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XU ED should install breakers at the Decordova bus on the Decordova to Everman 345-kV circuit and at the Benbrook bus on the Benbrook to Sycamore Creek 345-kV circuit , if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rform follow up study to determine additional upgrades with longer lead times that would be economic to reduce the impact of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FW/North Zone 2009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gestion Relief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Goal is to identify longer lead time reliability-driven and economic projects for DFW and surrounding area throughout planning horiz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cess Over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velop a Preliminary Stu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entify reliability problems in Study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entify reliability projects and develop a Economic 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entify congestion problems for various generation scenarios, based o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entify projects to alleviate identified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alyze economics of propose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clude the economic projects in the case and iterate steps 4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ke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udy will be complete in 6-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1447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McCamey Area Study 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cCamey Area Stud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21932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y 2003, the ERCOT BOD approved two 345 kV transmission projects contingent upon IAs totaling 1500 MW and 2000 MW in McCam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v 2004, ERCOT Staff completed examination of the transfer capability out of the McCame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dicated significant 138 kV additions substantially improve transfer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howed voltage control and thermal overload issues above 600 MW transf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commended reconsideration and acceleration of 345 kV transmission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cCamey Area Stud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143000"/>
            <a:ext cx="8229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an 2005 (West RPG Meeting), AEP presented reactive plan and temperature adjusted line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RCOT Staff reexamined application of reactive plan and adjusted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aff concluded 755 MW (total McCamey generation) can be exported from the McCame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umes full implementation of plan and adjusted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RCOT Staff and TSP’s will continue to review the need for 345 kV lines as additional generators request interconnection in McCame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FW Recent Improvement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2004/20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 – 345 kV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4 – 138 kV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 – 345/138 kV Autotransf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– new 138kV Sub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9 – Reactive Capacitors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 – 138/69 kV Autotransf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FW Improvements Comple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324480"/>
            <a:ext cx="24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upon May 2005 TPIT submi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transmission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920" y="990720"/>
            <a:ext cx="9082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447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006 DFW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ongestion Relief Study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udy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itial study meeting of North RPG in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cope included 2006 &amp; 2008 Congestion Relie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008 was separated from first study at November 16, 2004 North RPG meeting with group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s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eformed AC contingency analysis on 2006 power flow case with an economic dispatch to identify over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akeholders proposed projects to resolve over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ed subset of projects that were needed to meet reliability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en multiple projects resolved the same reliability need then economic analysis was done to select the preferred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w base case was created for economic studies which includes reliability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conomic analysis was performed on remaining projects to identify those with net economic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0040" y="380880"/>
            <a:ext cx="868536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19698600">
            <a:off x="7543800" y="2438280"/>
            <a:ext cx="138240" cy="27936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953200">
            <a:off x="7696080" y="2437920"/>
            <a:ext cx="144720" cy="27648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040600">
            <a:off x="7543800" y="1981080"/>
            <a:ext cx="144360" cy="57636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519600">
            <a:off x="7265160" y="1726200"/>
            <a:ext cx="149040" cy="5065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662800">
            <a:off x="7010280" y="1371600"/>
            <a:ext cx="152640" cy="48420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9882800">
            <a:off x="6858000" y="1447560"/>
            <a:ext cx="144360" cy="74520"/>
          </a:xfrm>
          <a:prstGeom prst="ellipse">
            <a:avLst/>
          </a:pr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019920"/>
            <a:ext cx="58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 Project Improvements Added to Case for Economic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943600"/>
            <a:ext cx="457200" cy="43812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362320"/>
            <a:ext cx="228600" cy="21888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609480"/>
            <a:ext cx="228600" cy="21924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286000"/>
            <a:ext cx="228600" cy="21924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685800"/>
            <a:ext cx="228600" cy="21924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ommend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380600"/>
            <a:ext cx="815328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liability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ggett Series 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oyse – Terrell Switch 69-kV Line Re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en Switch - Plano Alma 138-kV Terminal Equipment Up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. Levee – Reagan Street 138-kV Line Rebu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liability Projects That Provide Additional Econom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lano Tennyson 345/138-kV Autotransformer Installation  ($4.0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Economic Projects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enterville Switch – Parkdale 138-kV Line Rebuild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9.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en Davis – Royse 345-kV Line Upgrade (TMPA)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4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Johnson Switch – Venus 345-kV Line Upgrade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4.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eCordova Everman 345-kV Line Upgrad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8.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30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nual Benefit (2006)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$19.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228600"/>
            <a:ext cx="8763120" cy="6095880"/>
            <a:chOff x="152280" y="228600"/>
            <a:chExt cx="8763120" cy="60958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8763120" cy="5457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3803760" y="2917800"/>
              <a:ext cx="218880" cy="34776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080" y="3057480"/>
              <a:ext cx="365040" cy="20808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56240" y="804960"/>
              <a:ext cx="219240" cy="34740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98880" y="739800"/>
              <a:ext cx="219240" cy="208080"/>
            </a:xfrm>
            <a:prstGeom prst="ellipse">
              <a:avLst/>
            </a:prstGeom>
            <a:solidFill>
              <a:srgbClr val="66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18167400">
              <a:off x="6873480" y="1669320"/>
              <a:ext cx="390600" cy="14580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12663600">
              <a:off x="7544880" y="1433160"/>
              <a:ext cx="1314720" cy="14292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541200">
              <a:off x="7094160" y="1556280"/>
              <a:ext cx="293760" cy="14112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18585600">
              <a:off x="7193160" y="1372320"/>
              <a:ext cx="625320" cy="14616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8036600">
              <a:off x="5936400" y="3000600"/>
              <a:ext cx="525240" cy="18432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596000">
              <a:off x="6283080" y="2715840"/>
              <a:ext cx="438120" cy="18108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891040"/>
              <a:ext cx="457200" cy="433440"/>
            </a:xfrm>
            <a:prstGeom prst="ellipse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599436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iability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5891040"/>
              <a:ext cx="457200" cy="433440"/>
            </a:xfrm>
            <a:prstGeom prst="ellipse">
              <a:avLst/>
            </a:prstGeom>
            <a:solidFill>
              <a:srgbClr val="66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6720" y="5965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iability/Economic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5891040"/>
              <a:ext cx="457200" cy="433440"/>
            </a:xfrm>
            <a:prstGeom prst="ellipse">
              <a:avLst/>
            </a:prstGeom>
            <a:solidFill>
              <a:srgbClr val="cc99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5965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/>
  <dc:description/>
  <dc:language>en-US</dc:language>
  <cp:lastModifiedBy/>
  <dcterms:modified xsi:type="dcterms:W3CDTF">2005-07-08T21:58:45Z</dcterms:modified>
  <cp:revision>61</cp:revision>
  <dc:subject/>
  <dc:title>Slide 1</dc:title>
</cp:coreProperties>
</file>