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12461-F2FF-4C8C-98BD-7381F6415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76B7-85D5-4239-A680-06334CC5B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5337D-87AC-4035-B88B-9F7BE95CE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EEFBB-EBE0-43DA-BF7A-12915FA53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FB388-DC52-43D2-B3E1-A0307420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B781-8027-4F6A-B36F-0285FC7A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A515-E0B2-451B-8B21-E05BB7046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747F3-AA80-46A7-8E8E-3B8DC4984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C02C6-D4CE-4668-9D94-B778671D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2ECE-B720-4E43-8F64-A7727C29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5C63-4D7F-49EF-8D88-C6FB972D3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5980-89F4-4646-9843-9EA960178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04CD-C327-4E40-A8FA-6E37776B7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 Open Issue on Voting</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uly 7,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1ADC1D-7EF3-4DB6-B5A3-FE6D6C27741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ly Standing Representatives, their designated Alternate Representative, or proxy may vote. A motion of the subcommittee passes when a majority of the aggregate of the Fractional Segment Votes are 1) affirmative and 2) a minimum total of three (3).  The results of all votes taken will be reported to TAC, whether or not the vote passed. </a:t>
            </a: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2057040" y="15192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for RMS, ROS, WMS – 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EBADC-F7B8-47CD-9C69-D043A1E871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RMS, ROS, WMS</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act of a majority of the votes represented by members present and a minimum of three (3) votes will be the act of the subcommittee.</a:t>
            </a:r>
            <a:endParaRPr b="0" lang="en-US" sz="28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Option 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DFC6BB8-870E-4BD5-90F9-14C3677C70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76320"/>
            <a:ext cx="6019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COPS and PRS – RMS Recommendation </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ed for COPS and PRS – This is essentially endorsed by CO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ing:  Only one representative of each Voting Entity present at the meeting may vote.  A motion of the subcommittee passes when a majority of the aggregate of the fractional Segment Votes are 1) affirmative and 2) a minimum total of three (3).  The results of all votes taken will be reported to TAC, whether or not the vote pas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ED85A1-4CD8-4C40-B6F1-0F1262FB70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76320"/>
            <a:ext cx="655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tion via telephon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orum:  At least one Standing Representative from each of four (4) Segments and a majority of the Standing Representatives must be present at a meeting to constitute a quorum.  Standing Representatives may participate in the meeting </a:t>
            </a:r>
            <a:r>
              <a:rPr b="0" lang="en-US" sz="3200" spc="-1" strike="noStrike">
                <a:solidFill>
                  <a:srgbClr val="ff3300"/>
                </a:solidFill>
                <a:latin typeface="Times New Roman"/>
              </a:rPr>
              <a:t>and vote</a:t>
            </a:r>
            <a:r>
              <a:rPr b="0" lang="en-US" sz="3200" spc="-1" strike="noStrike">
                <a:solidFill>
                  <a:srgbClr val="000000"/>
                </a:solidFill>
                <a:latin typeface="Times New Roman"/>
              </a:rPr>
              <a:t> via telephone, but participation via telephone shall not count towards a quoru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BF97DF-95EB-428D-9E74-FC4BC6F710D5}"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nn Boren</cp:lastModifiedBy>
  <dcterms:modified xsi:type="dcterms:W3CDTF">2005-07-11T13:55:21Z</dcterms:modified>
  <cp:revision>139</cp:revision>
  <dc:subject/>
  <dc:title>Point-to-Point</dc:title>
</cp:coreProperties>
</file>