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062-82B4-42B9-BA8B-E3CAD4CC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EBD5-9FB2-4FD8-9BF4-3A985BCC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DCE9-A4B5-4470-8059-44516D07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809-58AF-4E0B-93AD-40910B28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FC1E-0824-4AC6-8827-DC972059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A9CC-BE4A-4C61-95A7-1E41D172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C807-5DF1-4D80-9EEC-0F5C143D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16EE-33AC-41FA-BDE3-6D38CDB3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C51E-2AD8-4422-85B7-55AA475B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3DF6-4712-4B31-8073-E8825BD4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B9BF-790C-4431-B64A-87F16EDB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A4E-2307-44D9-9857-B234BC08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0769-D975-463C-931C-AAF5146D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1721-7E9C-42E8-B69D-1297BA28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41A0-E692-4709-9FA1-F327237C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E821-C60E-4294-B667-167F3419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1B47-E8DD-4A9C-AC24-965BC3E1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3BC-3D2F-4AA2-8628-2C60518A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32B-5D88-4188-AE54-123BE005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8D1-D997-4CAE-B5C9-EB61F63D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401-4CFD-47AE-9B20-949BE812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235-37AB-4885-909A-425EED90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BA0-71A8-41E5-A4D6-D91418BF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7DD-D6AE-4020-97BB-0485BC7B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9B90-AB1A-468D-826A-DE26C6F30B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5ADF-BE0D-48CB-8C27-F7DA32D122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rotocol Revision Subcommitte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 to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RCOT Technical Advisory Committ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July 7,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3868-1B2A-493D-98D3-8B6FE65ABD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2006 System Project Recommend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S recommends approval of the 2006 Project Priorities &amp; Ra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ioritization process is dynamic and PRS will continue to monitor and adjust the 2005 and 2006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AE0-B761-4650-AC1E-2FFB078291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RR Recommend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041F-2A65-4E3F-870E-B52EDCECF8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88 – Testing of Quick Start Units in the BES Mark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submitted by Austin Energy (Mun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memorializes April 14, 2005 market notice on quick start unit testing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limits UBES bid quantities to the tested quantity available through ERCOT’s test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 procedure is in an OG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: ERCOT concerned that quick start units may negatively impact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ded by ERC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B37-2742-4A62-A4BC-BB91BB232B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88 – Testing of Quick Start Units in the BES Mark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S recommended approval unanim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ective September 1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iant Energy submitted comments to T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3C4-3D42-458B-A28E-8CB02E3D7D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88 – Testing of Quick Start Units in the BES Mark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576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3EE-5601-4D9B-A3A1-AF91599501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90 – Update Unit Telemetry Requir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R submitted by ERC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R responds to Patton #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s requirement for QSEs to provide RT AGC status and ramp rate for online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nefit: Improves ERCOT’s ability to determine if QSE can meet RRS obl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nded by ERCOT, FPLE, Exelon &amp; P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S recommended approval unanimous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ive upon system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mmended 2006 Priority 1.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1C8-FFDB-4F27-A2A4-5149229892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90 – Update Unit Telemetry Requir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31240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36576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41911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47242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96040" y="361800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- testing; LT - minor imp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2960" y="4738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process for new 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3320" y="31240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 than $100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1880" y="420516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ADA, ICCP &amp; R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011-BCDA-45EE-AAC5-E11F344055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93 – Behind the Fence Reporting of Lo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submitted Centerpoint Energy on behalf of GAT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intended to gather information on load not currently reported to ERC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: Improves ERCOT load projections for reserve calculation pur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S recommended approval with 1 nay vote and 1 abs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September 1,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AC4-C26A-40F7-91DC-E5C75CFAEB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93 – Behind the Fence Reporting of Lo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36576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576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47242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2960" y="4738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process for new 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12960" y="36576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process for new 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EE6-4F46-4CB8-8E41-676AF0EA6F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95 – Protocol Section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submitted by TXU ED on behalf of Meter Working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orms Section 10 to current market and ERCOT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: Improves clarity and accuracy of the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S recommended approval unanim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September 1,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C38-0889-4989-A371-316A29E2F5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S 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6 System Prioritization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 PRRs for 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DD5-9173-4392-9383-13729D2881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95 – Protocol Section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576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576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66D-4EF6-479A-804C-CD5947FF55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97 – Texas Test Plan T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submitted by AEP on behalf of TT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dates Protocols for current ERCOT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: Improves accuracy of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ded by ERC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S recommended approval unanim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September 1,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C50-E045-4F0B-BCC7-4FD4569F16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97 – Texas Test Plan T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6576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576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A2A8-2B9E-4E2B-8B8F-40A02F65BA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68 – Change Initial Settlement from 17 to 10 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89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R submitted by TXU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s the day the Initial Settlement statement is issued from 17 days to 10 days following the Operating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ransition plan is needed to provide market participants with information on PRR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nefit: Reduces overall credit exposure and collateral requirements due to the quicker issuance of the Initial Sett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nded by ERCOT &amp; C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S recommended approval unanimous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ive upon TAC approval of a transition plan developed by COPS – PRR &amp; COPS Plan now moving in tandem through governanc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64E-FE81-472D-A41E-22344F8398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68 – Change Initial Settlement from 17 to 10 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576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576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412240" y="58053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7360" y="3124080"/>
            <a:ext cx="35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to occur through O&amp;M $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5560" y="367200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FTE – Impact for analys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36640" y="419112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or changes to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38080" y="473868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 process tim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064-94AC-4897-9A77-5B0D0A6AFE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Recommended TAC 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588 – Testing of Quick Start 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590 – Update Unit Telemetry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593 – Behind the Fence Reporting of 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595 – ERCOT Protocol Section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597 – Texas Test Plan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568 – Change Initial Settlement from 17 to 10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BBD-05D5-4793-AC06-85A1ED91AA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FAF-DA41-41DF-8BC2-264D95542A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Annual Project Prioritizatio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2438280"/>
            <a:ext cx="1066680" cy="53352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2438280"/>
            <a:ext cx="1067040" cy="53352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2438280"/>
            <a:ext cx="1066680" cy="53352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3809880"/>
            <a:ext cx="1295640" cy="144792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ubcommitte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COPS, R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S, WMS )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RCO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U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819520" y="2971800"/>
            <a:ext cx="1523880" cy="129528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5549760"/>
            <a:ext cx="2266920" cy="111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RCOT will identify if this request requires a protocol change.  If it does not, then it is processed as an SC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5562720"/>
            <a:ext cx="2212920" cy="91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ff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y system change that does not require a change to the protocols will be submitted via SC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41008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SCRs are initiated from sub-committees, PUCT or ERCO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743200"/>
            <a:ext cx="2743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2743200"/>
            <a:ext cx="45720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34320" y="2743200"/>
            <a:ext cx="45720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3733920"/>
            <a:ext cx="1269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RS provides priority and ran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3708360"/>
            <a:ext cx="126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AC approves, rejects or remands to a subcommitt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3619440"/>
            <a:ext cx="1371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oard of Directors approves, rejects or remands to TA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0240" y="43434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SC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4280" y="25909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828800"/>
            <a:ext cx="210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RS reviews language, approves, rejects or remands and provides priority and ran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7C2-0513-4FCB-A32A-2A7CD3754A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2006 PRS Priorit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45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ioritization includes all projects competing for capital dollars, not just computer system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oject summaries included cost/benefit analysis for priority 1 and 2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ojects reviewed included 15 projects currently in progress (IP) which would consume 2006 capital dollars (~$6.5 M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ther TAC subcommittees (RMS, COPS, &amp; WMS) recommended priorities and cost/benefi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A066-1591-4E84-8387-CB3C82BDE5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2006 PRS Priorit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45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S reviewed combined PUC, Market and ERCOT project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projects update market monitor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projects primarily reflect PRRs or SC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projects include computer system and “bricks and mortar”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S specifically discussed included replacement of “middleware”, automation of DC-tie scheduling, status of security-related projects and data center improv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81F-B063-479B-A6DC-08DD9ED830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iority Assign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523880"/>
            <a:ext cx="129528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1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1523880"/>
            <a:ext cx="411480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.1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.2 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.3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1523880"/>
            <a:ext cx="129528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327672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2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3276720"/>
            <a:ext cx="41148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.1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.2 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.3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05720" y="327672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5181480"/>
            <a:ext cx="129528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3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5181480"/>
            <a:ext cx="411480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.1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.2 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.3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5181480"/>
            <a:ext cx="129528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959-0600-4300-947F-C8896004F0E2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2006 System Project Recommend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1752480"/>
            <a:ext cx="129528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1.1-1.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1752480"/>
            <a:ext cx="411480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 (4 – 2 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 (14 – 4 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 (112 – 15 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1752480"/>
            <a:ext cx="129528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20040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2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3200400"/>
            <a:ext cx="41148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 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 (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 (2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320040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4648320"/>
            <a:ext cx="1295280" cy="10666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3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4648320"/>
            <a:ext cx="4114800" cy="10666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 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 (1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 (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4648320"/>
            <a:ext cx="1295280" cy="10666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760-0F23-4A6C-BDF3-2DFFD470EB3E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2006 System Project Recommend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066680"/>
            <a:ext cx="1295280" cy="15242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1066680"/>
            <a:ext cx="4114800" cy="15242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 (4) -- $1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 (8) -- $6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 (67) -- $33 M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27 below the cut l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1066680"/>
            <a:ext cx="1295280" cy="15242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441972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2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4419720"/>
            <a:ext cx="41148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 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 (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 (2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441972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5638680"/>
            <a:ext cx="129528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3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5638680"/>
            <a:ext cx="411480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 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 (1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 (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5638680"/>
            <a:ext cx="129528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895480"/>
            <a:ext cx="2362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2895480"/>
            <a:ext cx="228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08440" y="274320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ssible Cut Line ~ $27 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3200400"/>
            <a:ext cx="129528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1.2-1.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3200400"/>
            <a:ext cx="41148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 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 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 (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3200400"/>
            <a:ext cx="129528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F82-1395-4DA6-87FD-7C6CA07E2357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2006 System Project Recommend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hat does it all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ighest ranking in each priority grouping went to projects with greatest net benefit to the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ome projects referenced in the Protocols will not be d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jects recognized as necessary (1 Priority) will not be done or will bump projects above the cut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ss Customer Tran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ew projects to correct operations or settlement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F95-5D1B-46D8-9939-407B8B2933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1:47Z</dcterms:created>
  <dc:creator>Michael Oldak</dc:creator>
  <dc:description/>
  <dc:language>en-US</dc:language>
  <cp:lastModifiedBy>Ann Boren</cp:lastModifiedBy>
  <dcterms:modified xsi:type="dcterms:W3CDTF">2005-07-07T13:01:53Z</dcterms:modified>
  <cp:revision>58</cp:revision>
  <dc:subject/>
  <dc:title>Electricity Committ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E85B5003D51B714A8A6436DB6BD21B1D0700F69D146182963C4BBADCC8C900482FB200000012F8A40000F69D146182963C4BBADCC8C900482FB20000013FD9990000</vt:lpwstr>
  </property>
  <property fmtid="{D5CDD505-2E9C-101B-9397-08002B2CF9AE}" pid="3" name="_NewReviewCycle">
    <vt:lpwstr/>
  </property>
  <property fmtid="{D5CDD505-2E9C-101B-9397-08002B2CF9AE}" pid="4" name="_ReviewCycleID">
    <vt:r8>1576423983</vt:r8>
  </property>
  <property fmtid="{D5CDD505-2E9C-101B-9397-08002B2CF9AE}" pid="5" name="_ReviewingToolsShownOnce">
    <vt:lpwstr/>
  </property>
  <property fmtid="{D5CDD505-2E9C-101B-9397-08002B2CF9AE}" pid="6" name="_TentativeReviewCycleID">
    <vt:r8>1576423983</vt:r8>
  </property>
</Properties>
</file>