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40A-C74D-4E4C-A897-310ED470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F31-122A-4174-9A9B-D5EFBE65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FB7-06BA-4B5E-9BA2-5163B217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96E-3353-493A-8A76-39DD6DDD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D51-3F12-4B02-B2A6-4890CFC0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18D-9ABE-41D8-821C-3712F97C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A3F-D9E4-4E4B-BB88-0B69D0DA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B73E-248C-4578-AD0B-D69A3D84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88A-F2E6-4973-8406-8BBAF6BD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6FA-B04F-4E93-8DF0-E5183791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9640-400E-4D6A-AF27-46C593D0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EEE-BE9B-457B-9E2A-1B6E5E27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9DB7-F070-4650-951A-DEB75D7A47D3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118E-CCE6-40FD-9239-639621657B1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977760" cy="85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436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5964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3587760" cy="3463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TAC Update- TNT Post Filing Activities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040" y="5121360"/>
            <a:ext cx="43419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m Galvi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7, 2005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unch-list” Updat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41440"/>
            <a:ext cx="799128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Formul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27920" indent="-280080">
              <a:spcBef>
                <a:spcPts val="62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pleted first round of review for Day-Ahead Settlement, CRR Settlement, RUC and Real –Time Settlement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2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lack lined sections will be sent to Market Participants with deadlines for second round comments in the third and fourth weeks of Jul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2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round commences beginning the third week of Jul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2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orough first round should enable second round to proceed at a faster pa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2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arget completion in Augus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797-7430-4EA5-999E-25BE710A5F8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D3C3F-4896-49CC-9ED6-69899568E1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unch-list” Updat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3320" y="1441440"/>
            <a:ext cx="7456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Sub-Committe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26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ound 2 discussions on Section 16 Protocol language nearly complet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e more additional meeting during the third week of July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nticipate this item to be completed by August 1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FE8-3F0F-4A69-8770-BA04AA27B0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7123C-D1B3-4F22-B498-7344C85B1E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ther “Punch-list” Item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3320" y="1441440"/>
            <a:ext cx="7456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Co-optimization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paper re-circulated and looking for market participant to sponsor details behind the concep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Synchronization- PRS to provide framework for incorporating changes to Protocols after baselin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Independent Market Monitor- Activity pend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2A6-F071-4335-ADC9-EB6BF5B5FEB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53DC7-65E1-4B7F-AA6D-A1089AEEF1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ransition Planning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3320" y="1441440"/>
            <a:ext cx="7456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NT stakeholders determined that a discussion regarding Transition Planning take place between rounds 1 and 2 of the Settlement Formulas discuss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discussions took place on June 6 regarding Transition Topic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developing Transition Topics is to create a Transition Strategy (whitepape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8B0-BF7B-4776-AA0B-EA8D2EBE5A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312B6-1B91-49FE-B7D7-FC3A377F3E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ransition Planning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41440"/>
            <a:ext cx="7920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Planning Strategy key characteristics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ary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ble to decisions from the PUCT, Board, TAC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roles for the structure of monitoring the Transition Planning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roles for ERCOT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tim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milestones and read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-over, Disaster Recovery, System Migration Strategies and Market comprom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0C2-C270-4239-8F97-B8A07D55C63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35D42-0135-4864-85BB-22251DE8CA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72388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ransition Planning- Current Topic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441440"/>
            <a:ext cx="792000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Migration whitepap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 input prior to vendor(s) selec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 input after vendor(s) selec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 roles and responsibilities in decision making proces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transparenc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Trial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Strateg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and Recertific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-over and Backup pla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FD5-4B38-4431-9CDF-47F0FA1359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DAF26-F9D7-48AE-881C-2D7991297F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xas Nodal Team</dc:creator>
  <dc:description/>
  <dc:language>en-US</dc:language>
  <cp:lastModifiedBy>Ann Boren</cp:lastModifiedBy>
  <dcterms:modified xsi:type="dcterms:W3CDTF">2005-07-07T13:00:50Z</dcterms:modified>
  <cp:revision>376</cp:revision>
  <dc:subject/>
  <dc:title>TNT 1022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