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32D4-63C8-400A-86B1-B539F2DB8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open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B0B3-F5B3-46EB-A014-DAF4544D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39B3-BE53-439E-8FCB-39F1AEE0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1F1A-71E6-4492-8117-9EE6CCBC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0FB9-E4B7-43E3-9523-8AFCDCF9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1924-D11D-43EE-9E53-48ABD28D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D8FF-9F38-45F3-88B5-85E6539B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2BCF-5C88-4116-A553-2ADC30B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0F7D-B62B-44E2-B732-102E8D86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65240"/>
            <a:ext cx="7335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9675-E702-43D8-9A1E-AD9B760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C304-5660-4C3A-BCAA-E079BA2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8AF8-34BD-42C3-85EB-B0A84B3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779A-3B5B-43F5-B22C-035FA45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C459-04B4-4661-9A8F-6BB3DF492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1880" y="6232680"/>
            <a:ext cx="8223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le Working Group (PW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3720" y="1719360"/>
            <a:ext cx="776448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 on Profile ID Assignment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view Process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 Profile ID Assign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 Impact Questionnaire For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460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DSP Cost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1880" y="1623960"/>
            <a:ext cx="8264520" cy="14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73AB-9761-4C28-99E8-591CA70459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 (Q2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674280" cy="37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C817-D1FC-4ADD-888E-8B681761F1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34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1351-838D-4841-A9E9-6FA2605974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4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35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CBE8-E3A8-44D5-94B4-73F5E02B98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5&amp;6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90600"/>
            <a:ext cx="9144000" cy="401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659E-36A6-4755-A11D-747596751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7&amp;8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9F1D-4FCE-4666-97E7-F6E60281D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9 &amp; 10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914400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B8CC-5076-40BD-95CE-8D39F4D26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11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26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BCD9-AC84-4E4F-BE12-2A0FC951D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naire Summary (Q12 &amp; 1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31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2C28-4E83-4322-9661-E1EB0AE4FF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craish</cp:lastModifiedBy>
  <cp:lastPrinted>2002-05-17T20:57:43Z</cp:lastPrinted>
  <dcterms:modified xsi:type="dcterms:W3CDTF">2005-06-21T13:56:52Z</dcterms:modified>
  <cp:revision>347</cp:revision>
  <dc:subject/>
  <dc:title>Retail Transactions Report</dc:title>
</cp:coreProperties>
</file>