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C4A-B228-49A8-A9F2-88E2AC11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61E1-7A07-436A-880C-C0248020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E769-067D-44E2-805A-908905D3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7424-F2B4-4914-9F2E-C2E7BDB6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C04B-7A2E-4194-9F0C-5AFB7707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F8C8-BB1F-4270-A078-A0F2CC07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B7AE-1F6D-4349-A069-86F52F9C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5A18-EEF3-4911-8F10-37378AF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1430-D46B-44CB-B94A-F26C7FB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165240"/>
            <a:ext cx="7335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99F8-C4FD-4172-B6DC-08FF904B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F980-531F-4EB7-8F50-DAF2AAC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FE5F-CD5A-41BA-B4E6-22EE694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4E7C-4616-460B-8CBB-78E0476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385-3122-4293-8B9D-C9BF47540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1880" y="6232680"/>
            <a:ext cx="8223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-360" y="165240"/>
            <a:ext cx="7335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le Working Group (PW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760" y="151920"/>
            <a:ext cx="722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ile ID Change Timel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30320" y="1900080"/>
          <a:ext cx="7085160" cy="30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1900080"/>
                    <a:ext cx="708516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81B2-8A2C-4891-8D1B-A26ECE978C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Erine Podraza</cp:lastModifiedBy>
  <cp:lastPrinted>2002-05-17T20:57:43Z</cp:lastPrinted>
  <dcterms:modified xsi:type="dcterms:W3CDTF">2005-06-27T19:22:52Z</dcterms:modified>
  <cp:revision>339</cp:revision>
  <dc:subject/>
  <dc:title>Retail Transactions Report</dc:title>
</cp:coreProperties>
</file>