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C467-4EEF-4BDF-8267-B6AE17363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open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to show proposed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to provide curr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to provide curr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to explain additional vali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76A4-AF56-4357-876F-8410B705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BE13-36C9-484E-A81B-23C0F99D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D802-6502-47CC-A70E-2EB2D105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0A86-A777-4521-AD78-0509A735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E90A-5C87-46A9-ABB4-92E8B2AA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78C1-0331-44D5-BA72-C48B0A5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A2EA-3500-4AF5-9555-59AB012B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7841-E9CE-4A1C-8DFC-B7D5E254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165240"/>
            <a:ext cx="7335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45DF-6F31-4657-A918-7003F847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D479-230E-4137-9D1D-9353898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F934-26A9-4399-BE21-4CC17855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E74F-0077-422F-98A2-77AA1A9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DCFB-DBD8-4EDA-A42F-E1593AB5F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1880" y="6232680"/>
            <a:ext cx="8223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le Working Group (PW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Presentation from PWG --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 on Profile ID Assignment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Review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8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3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5520" y="1199880"/>
            <a:ext cx="87948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to this solution is in handling TDSP Rate Class within ERCOT’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e to have single entity assign Profile IDs to avoid service history conflicts/overwri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will be able to create 814_20 transactions to notify CRs of Profile ID changes (ERCOT currently creates some TX SET transa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 changes needed for all MPs to transition to the new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current audit and oversight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Load Profile ID assignment process should be transparent to C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81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als / Assumptions for Responsibility Chan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1107-A1B3-4894-BBEA-50DAE002BE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efits of Responsibility Chan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31840" y="1278000"/>
            <a:ext cx="8562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coordination required between TDSPs and ERCOT resulting in potential market wide 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implementation of changes to the Load Profile ID assignment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for reduced lag between identifying the need for a Profile ID assignment change and when the change becomes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or more flexibility in implementing changes to the Load Profile ID assignment methodology, including more sophisticate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s any TDSP limitations on the number of months of usage history that can be incorporated in calculations for Profil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D320-0B0E-45EE-B9DE-0DCFFCAC1A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nefits of Responsibility Change (cont.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3680" y="1239480"/>
            <a:ext cx="8794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potential for inconsistent application of assignment process across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to minimize barriers to entry to the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s have single contact point (preferable but depends on final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ni/Co-Ops don’t have to implement complicated logic, hire outside consultants, or add 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s and streamlines Mass Transition issues related to Profile Id assignment for transitioning ESI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eliminates need for TDSPs to modify their systems due to ongoing changes in the Load Profile ID assignment process and Annual Valid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BF63-45F9-4524-B07B-B1893E1974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9600" y="1393560"/>
            <a:ext cx="84484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as SET changes will be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 Rate Class would always be required at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change required in 814_2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we need to add new field to 867_03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Profile ID populated in 814 transactions by ERCOT not T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TX SET investigation required to realize al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 ad-hoc historical usage request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Profile ID currently provided by T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required for retailer to get LPID from ERCO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TDSP get LPID from 727 data for ad-hoc requests?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acts of Change in Profile ID Assign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B356-4BB4-4C4A-A2DA-AD66819524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9600" y="1355760"/>
            <a:ext cx="84484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and TDSP system/process change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 process change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change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Profiling Guide change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Communication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level of involvement in the Load Profile ID assignment disagreement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tial increase in volume of communications at the retai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acts of Change in Profile ID Assignment Proces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6348-B12A-41A2-8CDC-FE53386E0C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70000" y="1201320"/>
            <a:ext cx="8642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cost shifting from TDSPs to ERC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ar Term: Potential TDSP savings may not be realized by entire 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Term: Potential TDSP rate increase to cover expense of annual validation not currently in rate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DSP resources may become available for other market 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 and Oversight: Checks and balances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sight of the Profile ID assignment process by PUCT and stakeholders would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 Decision Tree would continue to document and provide visibility for the Profile ID assignment rules … Decision Tree governance is being reviewed by PW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’s business processes, including annual validation, are and would continue to be subjected to annual independent external audits (SAS 70 aud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’s would continue to have audit capability via SCR 727 extract process … all data elements used by ERCOT for profile assignment would b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set of code would be used for assignment calculations rather than six independently developed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5585-0F78-479D-9821-6B70426539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Consideration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880" y="12016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a potential increase on ERCOT cost be beneficial to the mar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for Scenario in spreadsheet risk.xl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4 ERCOT MWH of 289,117,218 MW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0,000 dollar increase to ERCO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l MCPE from 05/21/2005 to 06/02/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based only on intervals where MCPE greater than $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based on only incremental MCPE above $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Wh improvement in settlement (UFE)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back is extremely quick assuming the market needs to buy 10 MWh from the balancing market that was not covered by $70/MWh bilateral 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A6F4-95B9-49A3-9900-78D0A16AF6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31880" y="1201320"/>
            <a:ext cx="7988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Profile ID based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SP Rate Class and 814_20 Meter Loop Detail (helps with BUSNODEM determ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SP Rate Class (on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ions to be Consi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BB71-2E7C-449F-B954-105E93CE50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70000" y="1163160"/>
            <a:ext cx="77724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o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will have to make system changes to save TDSP Rate Class history at the ESI I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would have to be set up for ERCOT to monitor PUCT approval of changes to TDSP Rat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 Rate Class and 814_20 Meter Loop Detail requ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“virtual meter” issues (if rule changed to 10 kW, this wouldn’t be need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DSP Rate Class Alone Vs. TDSP Rate Class and 814_20 Meter Loop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3712B-51D7-4651-BA1F-1ECB9011D0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368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itial Flowchart of Propos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nual Validation Profile Type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1880" y="2430360"/>
            <a:ext cx="8128080" cy="15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C4B7-02DE-406E-8886-E66A6566EDC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son For Worksh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7440" y="1239480"/>
            <a:ext cx="79246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am I at the PWG Workshop on Profile ID Assignment Responsibility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feasibility of a proposed change to move the entire Load Profile ID assignment process, maintenance process, and annual validation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ote: PWG expects at least one more workshop and several more action items prior to any decision to move forwar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982A7-EB83-426E-B5F0-3C7FC6C5E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5600" y="1316160"/>
            <a:ext cx="75279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erforms the additional validations listed below &amp; sends each TDSP the flagged ESI IDs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 Rate Class to usage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s consistent with Rat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ge consistent with Rat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Address Zip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 Zo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SPs review and make any necessary corrections to rate class or zip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frequency should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itial Proposed Additional Periodic Validations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7D9E-E71F-47AC-B188-F7533C29D05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5600" y="1699920"/>
            <a:ext cx="814212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Profile ID add/update triggers based on TDSP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new ESI ID using transaction which includes rat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o change rat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 code change for existing ESI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class change can also trigger Meter Data Type change (IDR/NI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ical usage value changes in Annual Validatio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itial Proposed ESI ID Assignment &amp; Maintenanc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D6FA-0D84-4181-B213-0D0C458DA86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93720" y="139392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to this solution is in handling TDSP Rat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will have to make system changes to save TDSP Rate Class history at the ESI ID level, currently it is not s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Key to this Solu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3DC3-25D2-4FEF-9EB3-C7942420C7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ed Profile ID Component Assignment &amp; Updat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3720" y="1087560"/>
            <a:ext cx="803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il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ed by ERCOT based on TDSP provided Rate Class and usage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s trigger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Rate Class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ual 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iodic ERCOT Validation of Rate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age change (causing the previously assigned Profile Type to be an err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ather Zo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ed by ERCOT based on TDSP supplied zip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s trigger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zip code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originated change or Periodic ERCOT validation of zip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 Data Typ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ed by ERCOT based on TDSP supplied Rat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s trigger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DSP Rate Class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enterpoint, changes between IDR and NIDR are indicated by Rate Class changes (is this true for all TDSPs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F0FA-6A9B-49C1-9885-5B40101704C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ed Profile ID Component Assignment &amp; Update (cont.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23720" y="1279080"/>
            <a:ext cx="803448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ther Sensitivity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by ERCOT based on interval data in ERCO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DRRQ’ either ‘WS’ or ‘NW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IDR premises have ‘NW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riggered by ERCOT running the weather sensitivity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-of-Use Schedu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by ERCOT based on TDSP provided Rat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riggered by Rate Class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0416-24F2-4188-8816-D157F2B1F91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23360" y="1085400"/>
            <a:ext cx="848844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to conceptualize at high level of how changes would be implemen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eview details of all TDSPs’ Rat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linkage to the Load Profile ID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duct: Rate Class to Profile Type Matrix (example on next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818F-3461-40C7-843F-D617EA7E15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54120" y="1432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7800" y="2084400"/>
            <a:ext cx="8155080" cy="2330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of TDSP Rate Class to Profile Typ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A22B-DD76-476B-AB7C-BF45647AB9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93680" y="1163160"/>
            <a:ext cx="8950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s related to transactions and data stor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efficient way to address TX SET cha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t possible to have multiple meter types on 814_20 transactions, and if so, how to hand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handle effective date of TDSP Rate Class chan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ix provided by TDSP would have to include all rate classes, including NMFLAT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cess for NOIE ESI IDs would not change from the current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s on handling BUSNODEM iss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ERCOT to follow existing ru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how does ERCOT know if the CR uses demand for billing?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DSP to submit all demand values to ER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ssign possible new profile BUSLODEM for all demands ≤ 1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ssign all ESIIDs with demand to a load factor profil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es for PWG Workshop to 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0B71-B647-4CCE-AE6C-37AD9A2681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93680" y="1163160"/>
            <a:ext cx="8950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handle list based and DLC related Profile ID assignm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ERCOT proactively change Profile Type based on new/modified usage records (in Profile Decision Tree window) being loaded or wait for CR dispute? If proactive, update daily, weekly, month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be the frequency and timing of periodic validation and maintenance for remaining components (other than Profile Type) of Profile I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ment of TOU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anything in this proposal cause increased CR cos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es for PWG Workshop to consider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BB7E-3657-4065-9B26-C95DEF6D7E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5240"/>
            <a:ext cx="6723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 AV Profile Type Assignment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3720" y="1346040"/>
            <a:ext cx="7910640" cy="549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6DB4-0764-49C1-AD65-63723A54B8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itional Steps to Current AV Profile Type Assign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7800" y="1547640"/>
            <a:ext cx="7796160" cy="398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23C76-F0A3-46EB-890C-2B800A76D0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31840" y="1277640"/>
            <a:ext cx="86803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performs the additional validations listed below &amp; by June 1 sends each TDSP the flagged ESI IDs for re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NoDemand Profil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MFlat and NMLight Profil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IID Profile Type to Premis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Address Zip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ather Zon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er Data Type Code to Profile Typ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ather Sensitivity Code to Meter Data Typ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of Use 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s review and send all 814_20s to ERCOT on the first scheduled meter read date on or after Octob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itional Annual Validations Currently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6E90-6455-4F92-B478-0FE89EAC9A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Components of Profil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69440" y="1220760"/>
            <a:ext cx="3820320" cy="2173320"/>
            <a:chOff x="4969440" y="1220760"/>
            <a:chExt cx="3820320" cy="2173320"/>
          </a:xfrm>
        </p:grpSpPr>
        <p:sp>
          <p:nvSpPr>
            <p:cNvPr id="63" name=""/>
            <p:cNvSpPr/>
            <p:nvPr/>
          </p:nvSpPr>
          <p:spPr>
            <a:xfrm rot="19375200">
              <a:off x="4915080" y="2386080"/>
              <a:ext cx="1218960" cy="228600"/>
            </a:xfrm>
            <a:prstGeom prst="rect">
              <a:avLst/>
            </a:prstGeom>
            <a:solidFill>
              <a:srgbClr val="cbcb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9408200">
              <a:off x="5275800" y="243000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as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234760" y="2171160"/>
              <a:ext cx="1110600" cy="918000"/>
              <a:chOff x="5234760" y="2171160"/>
              <a:chExt cx="1110600" cy="918000"/>
            </a:xfrm>
          </p:grpSpPr>
          <p:sp>
            <p:nvSpPr>
              <p:cNvPr id="66" name=""/>
              <p:cNvSpPr/>
              <p:nvPr/>
            </p:nvSpPr>
            <p:spPr>
              <a:xfrm rot="19375200">
                <a:off x="5180040" y="2515680"/>
                <a:ext cx="1219320" cy="22860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9338600">
                <a:off x="5554800" y="2568960"/>
                <a:ext cx="36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as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463360" y="2323800"/>
              <a:ext cx="1110600" cy="918000"/>
              <a:chOff x="5463360" y="2323800"/>
              <a:chExt cx="1110600" cy="918000"/>
            </a:xfrm>
          </p:grpSpPr>
          <p:sp>
            <p:nvSpPr>
              <p:cNvPr id="69" name=""/>
              <p:cNvSpPr/>
              <p:nvPr/>
            </p:nvSpPr>
            <p:spPr>
              <a:xfrm rot="19375200">
                <a:off x="5408640" y="2668320"/>
                <a:ext cx="1219320" cy="22860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9338600">
                <a:off x="5715720" y="272160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Wes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5691960" y="2476080"/>
              <a:ext cx="1110600" cy="918000"/>
              <a:chOff x="5691960" y="2476080"/>
              <a:chExt cx="1110600" cy="918000"/>
            </a:xfrm>
          </p:grpSpPr>
          <p:sp>
            <p:nvSpPr>
              <p:cNvPr id="72" name=""/>
              <p:cNvSpPr/>
              <p:nvPr/>
            </p:nvSpPr>
            <p:spPr>
              <a:xfrm rot="19375200">
                <a:off x="5637240" y="2820600"/>
                <a:ext cx="1219320" cy="22860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338600">
                <a:off x="5970600" y="2873880"/>
                <a:ext cx="44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rt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662600" y="2032560"/>
              <a:ext cx="1127160" cy="891360"/>
              <a:chOff x="7662600" y="2032560"/>
              <a:chExt cx="1127160" cy="891360"/>
            </a:xfrm>
          </p:grpSpPr>
          <p:sp>
            <p:nvSpPr>
              <p:cNvPr id="75" name=""/>
              <p:cNvSpPr/>
              <p:nvPr/>
            </p:nvSpPr>
            <p:spPr>
              <a:xfrm rot="2118600">
                <a:off x="7616160" y="2363760"/>
                <a:ext cx="1219320" cy="22860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2151600">
                <a:off x="8071920" y="2431800"/>
                <a:ext cx="450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976800" y="2489760"/>
              <a:ext cx="1127160" cy="891360"/>
              <a:chOff x="6976800" y="2489760"/>
              <a:chExt cx="1127160" cy="891360"/>
            </a:xfrm>
          </p:grpSpPr>
          <p:sp>
            <p:nvSpPr>
              <p:cNvPr id="78" name=""/>
              <p:cNvSpPr/>
              <p:nvPr/>
            </p:nvSpPr>
            <p:spPr>
              <a:xfrm rot="2118600">
                <a:off x="6930360" y="2820960"/>
                <a:ext cx="1219320" cy="22860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151600">
                <a:off x="7343280" y="288936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C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205400" y="2337480"/>
              <a:ext cx="1127160" cy="891360"/>
              <a:chOff x="7205400" y="2337480"/>
              <a:chExt cx="1127160" cy="891360"/>
            </a:xfrm>
          </p:grpSpPr>
          <p:sp>
            <p:nvSpPr>
              <p:cNvPr id="81" name=""/>
              <p:cNvSpPr/>
              <p:nvPr/>
            </p:nvSpPr>
            <p:spPr>
              <a:xfrm rot="2118600">
                <a:off x="7158960" y="2668680"/>
                <a:ext cx="1219320" cy="22860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151600">
                <a:off x="7575480" y="2737080"/>
                <a:ext cx="52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C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434000" y="2184840"/>
              <a:ext cx="1127160" cy="891360"/>
              <a:chOff x="7434000" y="2184840"/>
              <a:chExt cx="1127160" cy="891360"/>
            </a:xfrm>
          </p:grpSpPr>
          <p:sp>
            <p:nvSpPr>
              <p:cNvPr id="84" name=""/>
              <p:cNvSpPr/>
              <p:nvPr/>
            </p:nvSpPr>
            <p:spPr>
              <a:xfrm rot="2118600">
                <a:off x="7387560" y="2516040"/>
                <a:ext cx="1219320" cy="22860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2151600">
                <a:off x="7808040" y="2584080"/>
                <a:ext cx="51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ou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5751360" y="1220760"/>
              <a:ext cx="2316240" cy="1657440"/>
            </a:xfrm>
            <a:custGeom>
              <a:avLst/>
              <a:gdLst/>
              <a:ahLst/>
              <a:rect l="l" t="t" r="r" b="b"/>
              <a:pathLst>
                <a:path w="1459" h="2088">
                  <a:moveTo>
                    <a:pt x="0" y="1045"/>
                  </a:moveTo>
                  <a:lnTo>
                    <a:pt x="729" y="0"/>
                  </a:lnTo>
                  <a:lnTo>
                    <a:pt x="1459" y="1045"/>
                  </a:lnTo>
                  <a:lnTo>
                    <a:pt x="729" y="2088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cc9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8560" y="1677960"/>
              <a:ext cx="15224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ather Zon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3680" y="4097160"/>
            <a:ext cx="8788320" cy="2135520"/>
            <a:chOff x="193680" y="4097160"/>
            <a:chExt cx="8788320" cy="2135520"/>
          </a:xfrm>
        </p:grpSpPr>
        <p:sp>
          <p:nvSpPr>
            <p:cNvPr id="89" name=""/>
            <p:cNvSpPr/>
            <p:nvPr/>
          </p:nvSpPr>
          <p:spPr>
            <a:xfrm>
              <a:off x="4533840" y="5203800"/>
              <a:ext cx="1438200" cy="1028880"/>
            </a:xfrm>
            <a:custGeom>
              <a:avLst/>
              <a:gdLst/>
              <a:ahLst/>
              <a:rect l="l" t="t" r="r" b="b"/>
              <a:pathLst>
                <a:path w="906" h="1297">
                  <a:moveTo>
                    <a:pt x="0" y="649"/>
                  </a:moveTo>
                  <a:lnTo>
                    <a:pt x="453" y="0"/>
                  </a:lnTo>
                  <a:lnTo>
                    <a:pt x="906" y="649"/>
                  </a:lnTo>
                  <a:lnTo>
                    <a:pt x="453" y="1297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78880" y="565632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11560" y="531828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3480" y="569916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45080" y="56991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3680" y="5203800"/>
              <a:ext cx="1436760" cy="1028880"/>
            </a:xfrm>
            <a:custGeom>
              <a:avLst/>
              <a:gdLst/>
              <a:ahLst/>
              <a:rect l="l" t="t" r="r" b="b"/>
              <a:pathLst>
                <a:path w="905" h="1297">
                  <a:moveTo>
                    <a:pt x="0" y="649"/>
                  </a:moveTo>
                  <a:lnTo>
                    <a:pt x="453" y="0"/>
                  </a:lnTo>
                  <a:lnTo>
                    <a:pt x="905" y="649"/>
                  </a:lnTo>
                  <a:lnTo>
                    <a:pt x="453" y="1297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1600" y="5203800"/>
              <a:ext cx="1438200" cy="1028880"/>
            </a:xfrm>
            <a:custGeom>
              <a:avLst/>
              <a:gdLst/>
              <a:ahLst/>
              <a:rect l="l" t="t" r="r" b="b"/>
              <a:pathLst>
                <a:path w="906" h="1297">
                  <a:moveTo>
                    <a:pt x="0" y="649"/>
                  </a:moveTo>
                  <a:lnTo>
                    <a:pt x="453" y="0"/>
                  </a:lnTo>
                  <a:lnTo>
                    <a:pt x="906" y="649"/>
                  </a:lnTo>
                  <a:lnTo>
                    <a:pt x="453" y="1297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3040" y="4097160"/>
              <a:ext cx="2316240" cy="1657440"/>
            </a:xfrm>
            <a:custGeom>
              <a:avLst/>
              <a:gdLst/>
              <a:ahLst/>
              <a:rect l="l" t="t" r="r" b="b"/>
              <a:pathLst>
                <a:path w="1459" h="2088">
                  <a:moveTo>
                    <a:pt x="0" y="1045"/>
                  </a:moveTo>
                  <a:lnTo>
                    <a:pt x="729" y="0"/>
                  </a:lnTo>
                  <a:lnTo>
                    <a:pt x="1459" y="1045"/>
                  </a:lnTo>
                  <a:lnTo>
                    <a:pt x="729" y="2088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cc9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4400" y="562284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0880" y="5622840"/>
              <a:ext cx="43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9480" y="4632480"/>
              <a:ext cx="15224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er Data Typ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6095880" y="4097160"/>
              <a:ext cx="2886120" cy="2135160"/>
              <a:chOff x="6095880" y="4097160"/>
              <a:chExt cx="2886120" cy="213516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3760" y="531792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75680" y="5699160"/>
                <a:ext cx="53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846920" y="569916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g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6095880" y="4097160"/>
                <a:ext cx="2886120" cy="2135160"/>
                <a:chOff x="6095880" y="4097160"/>
                <a:chExt cx="2886120" cy="2135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095880" y="5203440"/>
                  <a:ext cx="1436400" cy="1028880"/>
                </a:xfrm>
                <a:custGeom>
                  <a:avLst/>
                  <a:gdLst/>
                  <a:ahLst/>
                  <a:rect l="l" t="t" r="r" b="b"/>
                  <a:pathLst>
                    <a:path w="905" h="1297">
                      <a:moveTo>
                        <a:pt x="0" y="649"/>
                      </a:moveTo>
                      <a:lnTo>
                        <a:pt x="453" y="0"/>
                      </a:lnTo>
                      <a:lnTo>
                        <a:pt x="905" y="649"/>
                      </a:lnTo>
                      <a:lnTo>
                        <a:pt x="453" y="1297"/>
                      </a:lnTo>
                      <a:lnTo>
                        <a:pt x="0" y="64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543440" y="5203440"/>
                  <a:ext cx="1438560" cy="1028880"/>
                </a:xfrm>
                <a:custGeom>
                  <a:avLst/>
                  <a:gdLst/>
                  <a:ahLst/>
                  <a:rect l="l" t="t" r="r" b="b"/>
                  <a:pathLst>
                    <a:path w="906" h="1297">
                      <a:moveTo>
                        <a:pt x="0" y="649"/>
                      </a:moveTo>
                      <a:lnTo>
                        <a:pt x="453" y="0"/>
                      </a:lnTo>
                      <a:lnTo>
                        <a:pt x="906" y="649"/>
                      </a:lnTo>
                      <a:lnTo>
                        <a:pt x="453" y="1297"/>
                      </a:lnTo>
                      <a:lnTo>
                        <a:pt x="0" y="64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375240" y="4097160"/>
                  <a:ext cx="2316240" cy="1657440"/>
                </a:xfrm>
                <a:custGeom>
                  <a:avLst/>
                  <a:gdLst/>
                  <a:ahLst/>
                  <a:rect l="l" t="t" r="r" b="b"/>
                  <a:pathLst>
                    <a:path w="1459" h="2088">
                      <a:moveTo>
                        <a:pt x="0" y="1045"/>
                      </a:moveTo>
                      <a:lnTo>
                        <a:pt x="729" y="0"/>
                      </a:lnTo>
                      <a:lnTo>
                        <a:pt x="1459" y="1045"/>
                      </a:lnTo>
                      <a:lnTo>
                        <a:pt x="729" y="2088"/>
                      </a:lnTo>
                      <a:lnTo>
                        <a:pt x="0" y="1045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8083080" y="5621400"/>
                <a:ext cx="45612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OU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63800" y="5622840"/>
                <a:ext cx="612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oTO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81680" y="4632120"/>
                <a:ext cx="152244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ime-Of-Use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5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4231080" y="530856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51080" y="5203800"/>
              <a:ext cx="1438560" cy="1028880"/>
            </a:xfrm>
            <a:custGeom>
              <a:avLst/>
              <a:gdLst/>
              <a:ahLst/>
              <a:rect l="l" t="t" r="r" b="b"/>
              <a:pathLst>
                <a:path w="906" h="1297">
                  <a:moveTo>
                    <a:pt x="0" y="649"/>
                  </a:moveTo>
                  <a:lnTo>
                    <a:pt x="453" y="0"/>
                  </a:lnTo>
                  <a:lnTo>
                    <a:pt x="906" y="649"/>
                  </a:lnTo>
                  <a:lnTo>
                    <a:pt x="453" y="1297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36800" y="56563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08480" y="4114800"/>
              <a:ext cx="2315880" cy="1657440"/>
            </a:xfrm>
            <a:custGeom>
              <a:avLst/>
              <a:gdLst/>
              <a:ahLst/>
              <a:rect l="l" t="t" r="r" b="b"/>
              <a:pathLst>
                <a:path w="1459" h="2088">
                  <a:moveTo>
                    <a:pt x="0" y="1045"/>
                  </a:moveTo>
                  <a:lnTo>
                    <a:pt x="729" y="0"/>
                  </a:lnTo>
                  <a:lnTo>
                    <a:pt x="1459" y="1045"/>
                  </a:lnTo>
                  <a:lnTo>
                    <a:pt x="729" y="2088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cc9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17800" y="4448160"/>
              <a:ext cx="1522440" cy="12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ather Sensitivity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09880" y="1953360"/>
            <a:ext cx="4191120" cy="1819440"/>
            <a:chOff x="209880" y="1953360"/>
            <a:chExt cx="4191120" cy="1819440"/>
          </a:xfrm>
        </p:grpSpPr>
        <p:grpSp>
          <p:nvGrpSpPr>
            <p:cNvPr id="117" name=""/>
            <p:cNvGrpSpPr/>
            <p:nvPr/>
          </p:nvGrpSpPr>
          <p:grpSpPr>
            <a:xfrm>
              <a:off x="209880" y="2546280"/>
              <a:ext cx="1600560" cy="1226520"/>
              <a:chOff x="209880" y="2546280"/>
              <a:chExt cx="1600560" cy="1226520"/>
            </a:xfrm>
          </p:grpSpPr>
          <p:sp>
            <p:nvSpPr>
              <p:cNvPr id="118" name=""/>
              <p:cNvSpPr/>
              <p:nvPr/>
            </p:nvSpPr>
            <p:spPr>
              <a:xfrm rot="19375200">
                <a:off x="645480" y="3199680"/>
                <a:ext cx="1219320" cy="22824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209880" y="2546280"/>
                <a:ext cx="1110240" cy="917280"/>
                <a:chOff x="209880" y="2546280"/>
                <a:chExt cx="1110240" cy="917280"/>
              </a:xfrm>
            </p:grpSpPr>
            <p:sp>
              <p:nvSpPr>
                <p:cNvPr id="120" name=""/>
                <p:cNvSpPr/>
                <p:nvPr/>
              </p:nvSpPr>
              <p:spPr>
                <a:xfrm rot="19375200">
                  <a:off x="155160" y="2890440"/>
                  <a:ext cx="1219320" cy="228240"/>
                </a:xfrm>
                <a:prstGeom prst="rect">
                  <a:avLst/>
                </a:prstGeom>
                <a:solidFill>
                  <a:srgbClr val="cbcb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9408200">
                  <a:off x="407160" y="3067920"/>
                  <a:ext cx="32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2240" y="2700000"/>
                <a:ext cx="1110240" cy="973800"/>
                <a:chOff x="462240" y="2700000"/>
                <a:chExt cx="1110240" cy="973800"/>
              </a:xfrm>
            </p:grpSpPr>
            <p:sp>
              <p:nvSpPr>
                <p:cNvPr id="123" name=""/>
                <p:cNvSpPr/>
                <p:nvPr/>
              </p:nvSpPr>
              <p:spPr>
                <a:xfrm rot="19375200">
                  <a:off x="407520" y="3044520"/>
                  <a:ext cx="1218960" cy="228240"/>
                </a:xfrm>
                <a:prstGeom prst="rect">
                  <a:avLst/>
                </a:prstGeom>
                <a:solidFill>
                  <a:srgbClr val="cbcb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9408200">
                  <a:off x="664200" y="3250440"/>
                  <a:ext cx="31464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S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615960" y="2430360"/>
              <a:ext cx="1436760" cy="1028880"/>
            </a:xfrm>
            <a:custGeom>
              <a:avLst/>
              <a:gdLst/>
              <a:ahLst/>
              <a:rect l="l" t="t" r="r" b="b"/>
              <a:pathLst>
                <a:path w="905" h="1297">
                  <a:moveTo>
                    <a:pt x="0" y="649"/>
                  </a:moveTo>
                  <a:lnTo>
                    <a:pt x="453" y="0"/>
                  </a:lnTo>
                  <a:lnTo>
                    <a:pt x="905" y="649"/>
                  </a:lnTo>
                  <a:lnTo>
                    <a:pt x="453" y="1297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36080" y="2698920"/>
              <a:ext cx="556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408200">
              <a:off x="808200" y="347616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160080" y="2738520"/>
              <a:ext cx="631440" cy="539280"/>
              <a:chOff x="3160080" y="2738520"/>
              <a:chExt cx="631440" cy="539280"/>
            </a:xfrm>
          </p:grpSpPr>
          <p:sp>
            <p:nvSpPr>
              <p:cNvPr id="129" name=""/>
              <p:cNvSpPr/>
              <p:nvPr/>
            </p:nvSpPr>
            <p:spPr>
              <a:xfrm rot="2313000">
                <a:off x="3122280" y="2944440"/>
                <a:ext cx="706320" cy="12672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2286600">
                <a:off x="3259080" y="2928600"/>
                <a:ext cx="494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RRQ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9560" y="2273400"/>
              <a:ext cx="631440" cy="539280"/>
              <a:chOff x="3769560" y="2273400"/>
              <a:chExt cx="631440" cy="539280"/>
            </a:xfrm>
          </p:grpSpPr>
          <p:sp>
            <p:nvSpPr>
              <p:cNvPr id="132" name=""/>
              <p:cNvSpPr/>
              <p:nvPr/>
            </p:nvSpPr>
            <p:spPr>
              <a:xfrm rot="2313000">
                <a:off x="3731760" y="2479320"/>
                <a:ext cx="706320" cy="12672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286600">
                <a:off x="3933360" y="246384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IL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317040" y="2619360"/>
              <a:ext cx="631440" cy="539280"/>
              <a:chOff x="3317040" y="2619360"/>
              <a:chExt cx="631440" cy="539280"/>
            </a:xfrm>
          </p:grpSpPr>
          <p:sp>
            <p:nvSpPr>
              <p:cNvPr id="135" name=""/>
              <p:cNvSpPr/>
              <p:nvPr/>
            </p:nvSpPr>
            <p:spPr>
              <a:xfrm rot="2313000">
                <a:off x="3279240" y="2825280"/>
                <a:ext cx="706320" cy="12672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286600">
                <a:off x="3388320" y="2809440"/>
                <a:ext cx="55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D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625200" y="2389320"/>
              <a:ext cx="631440" cy="539280"/>
              <a:chOff x="3625200" y="2389320"/>
              <a:chExt cx="631440" cy="539280"/>
            </a:xfrm>
          </p:grpSpPr>
          <p:sp>
            <p:nvSpPr>
              <p:cNvPr id="138" name=""/>
              <p:cNvSpPr/>
              <p:nvPr/>
            </p:nvSpPr>
            <p:spPr>
              <a:xfrm rot="2313000">
                <a:off x="3587400" y="2595240"/>
                <a:ext cx="706320" cy="12672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286600">
                <a:off x="3713760" y="2579400"/>
                <a:ext cx="52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DL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466440" y="2498760"/>
              <a:ext cx="631440" cy="539280"/>
              <a:chOff x="3466440" y="2498760"/>
              <a:chExt cx="631440" cy="539280"/>
            </a:xfrm>
          </p:grpSpPr>
          <p:sp>
            <p:nvSpPr>
              <p:cNvPr id="141" name=""/>
              <p:cNvSpPr/>
              <p:nvPr/>
            </p:nvSpPr>
            <p:spPr>
              <a:xfrm rot="2313000">
                <a:off x="3428640" y="2704680"/>
                <a:ext cx="706320" cy="12672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286600">
                <a:off x="3607560" y="2688840"/>
                <a:ext cx="418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OL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010680" y="2854440"/>
              <a:ext cx="631440" cy="539280"/>
              <a:chOff x="3010680" y="2854440"/>
              <a:chExt cx="631440" cy="539280"/>
            </a:xfrm>
          </p:grpSpPr>
          <p:sp>
            <p:nvSpPr>
              <p:cNvPr id="144" name=""/>
              <p:cNvSpPr/>
              <p:nvPr/>
            </p:nvSpPr>
            <p:spPr>
              <a:xfrm rot="2313000">
                <a:off x="2972880" y="3060360"/>
                <a:ext cx="706320" cy="12672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286600">
                <a:off x="3144960" y="3044520"/>
                <a:ext cx="42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IW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856960" y="2970360"/>
              <a:ext cx="631440" cy="539280"/>
              <a:chOff x="2856960" y="2970360"/>
              <a:chExt cx="631440" cy="539280"/>
            </a:xfrm>
          </p:grpSpPr>
          <p:sp>
            <p:nvSpPr>
              <p:cNvPr id="147" name=""/>
              <p:cNvSpPr/>
              <p:nvPr/>
            </p:nvSpPr>
            <p:spPr>
              <a:xfrm rot="2313000">
                <a:off x="2819160" y="3176280"/>
                <a:ext cx="706320" cy="12672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286600">
                <a:off x="2967840" y="3160440"/>
                <a:ext cx="473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OW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698200" y="3089160"/>
              <a:ext cx="631440" cy="539280"/>
              <a:chOff x="2698200" y="3089160"/>
              <a:chExt cx="631440" cy="539280"/>
            </a:xfrm>
          </p:grpSpPr>
          <p:sp>
            <p:nvSpPr>
              <p:cNvPr id="150" name=""/>
              <p:cNvSpPr/>
              <p:nvPr/>
            </p:nvSpPr>
            <p:spPr>
              <a:xfrm rot="2313000">
                <a:off x="2660400" y="3295080"/>
                <a:ext cx="706320" cy="12672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286600">
                <a:off x="2814120" y="3279600"/>
                <a:ext cx="46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IGH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536200" y="3200400"/>
              <a:ext cx="631440" cy="539280"/>
              <a:chOff x="2536200" y="3200400"/>
              <a:chExt cx="631440" cy="539280"/>
            </a:xfrm>
          </p:grpSpPr>
          <p:sp>
            <p:nvSpPr>
              <p:cNvPr id="153" name=""/>
              <p:cNvSpPr/>
              <p:nvPr/>
            </p:nvSpPr>
            <p:spPr>
              <a:xfrm rot="2313000">
                <a:off x="2498400" y="3406320"/>
                <a:ext cx="706320" cy="12672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286600">
                <a:off x="2679480" y="3390480"/>
                <a:ext cx="41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LA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V="1" rot="8607600">
              <a:off x="2161440" y="2449080"/>
              <a:ext cx="1824120" cy="482400"/>
            </a:xfrm>
            <a:prstGeom prst="parallelogram">
              <a:avLst>
                <a:gd name="adj" fmla="val 2795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431000">
              <a:off x="2484000" y="2572920"/>
              <a:ext cx="13510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file Seg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31880" y="1023840"/>
            <a:ext cx="2952360" cy="2097000"/>
            <a:chOff x="731880" y="1023840"/>
            <a:chExt cx="2952360" cy="2097000"/>
          </a:xfrm>
        </p:grpSpPr>
        <p:sp>
          <p:nvSpPr>
            <p:cNvPr id="158" name=""/>
            <p:cNvSpPr/>
            <p:nvPr/>
          </p:nvSpPr>
          <p:spPr>
            <a:xfrm>
              <a:off x="731880" y="1023840"/>
              <a:ext cx="2952360" cy="2097000"/>
            </a:xfrm>
            <a:custGeom>
              <a:avLst/>
              <a:gdLst/>
              <a:ahLst/>
              <a:rect l="l" t="t" r="r" b="b"/>
              <a:pathLst>
                <a:path w="1459" h="2088">
                  <a:moveTo>
                    <a:pt x="0" y="1045"/>
                  </a:moveTo>
                  <a:lnTo>
                    <a:pt x="729" y="0"/>
                  </a:lnTo>
                  <a:lnTo>
                    <a:pt x="1459" y="1045"/>
                  </a:lnTo>
                  <a:lnTo>
                    <a:pt x="729" y="2088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cc9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22000" y="1738800"/>
              <a:ext cx="1536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file Typ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930A-B8E3-4DC1-8819-25203A0513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Components of Profile ID (cont.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3720" y="1087560"/>
            <a:ext cx="803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LOWR_COAST_NIDR_NWS_NOT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 Type = ‘RESLOWR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ile Group = ‘R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ile Segment = ‘LOWR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ather Zone Code = ‘COAS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er Data Type Code = ‘NIDR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ather Sensitivity Code = “NW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-of-Use Schedule Code = ‘NOTOU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661D-4E75-4D2A-A5C7-532A10B6C6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ef History.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7440" y="1239480"/>
            <a:ext cx="79246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rly 20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dea was introduced that annual validation could take place at ERCOT rather than jointly among all TDSPs and ERC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 20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Exchange of ideas in order to craft specifics with ERCOT on a proposed PRR for Annual Validation of Load Profile 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8/24/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This issue was discussed extensively at the PWG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3/03/05, 03/08/05, 05/23/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deas were formulated on feasibility of moving the Load Profile ID Assignment and Annual Validation to ERCOT, between ERCOT and sub-t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5/25/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deas presented at PWG, decision to move forward with workshop consisting of wider RMS and COPS committee membersh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6/07/05, 06/13/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PWG hosted two conference calls to prepare for upcoming market work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6/23/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PWG sponsored Workshop on Profile ID Assignment Responsibility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A983-0E86-48F2-BB9F-59F457AE43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80600" y="1239480"/>
            <a:ext cx="8047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ct. 2001 Initial Valid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ted and was not completed until Sept.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2 Annual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performed due to 2001 Initial Validation still in progr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2 PWG sub team changed methodology from utilizing billing month to usage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3 Annual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rge volume of migrations (RES – 24%, BUS 17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4 Annual Validation for Business Group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rge volume of migrations (RES – 19%, BUS 16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ential suspended due to large volu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5 Annual Validation (currently in prog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ges to 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 -- Winter Ratio Dead-bands and Winter Ratio Numerator minim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 &amp; BUS -- no changes to a default Profil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ected migrations RES 12%, BUS 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6524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tory of Annual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E6B1-9CB0-4D5E-8923-EDEE519209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 </cp:lastModifiedBy>
  <cp:lastPrinted>2002-05-17T20:57:43Z</cp:lastPrinted>
  <dcterms:modified xsi:type="dcterms:W3CDTF">2005-06-14T15:04:10Z</dcterms:modified>
  <cp:revision>335</cp:revision>
  <dc:subject/>
  <dc:title>Retail Transactions Report</dc:title>
</cp:coreProperties>
</file>