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9944-B531-46AD-9157-A7B67CD07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64BF-7BBD-4DF4-9722-B2BE54CC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B893-E0ED-4704-B1CE-34BBACF88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36E6-55F1-4B7B-8B64-90962ED7F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5D52-086D-49A8-BCB1-A51894524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0160-17DD-4DFF-A275-C07F8B6B2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C248-C903-4CD5-BC76-D7845E6D3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2097-8A52-4E71-9959-B601AD584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3BC4-D1DB-483A-9AF6-FB1A9B94B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9DF1-F234-4FC7-B69B-DFF53C40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1D48-BAAD-4A58-BD5C-546DB7AC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524B-E11D-4BBA-A4F1-C1299174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A677-8436-4FD7-8762-878E470002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04920" y="182844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Reserve Under Scheduled Capacity Charge Allocation (PRR61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7-20-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MS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ttlements and Bi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2514600" cy="1145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D3DF-810E-4D79-8522-0D2B461BE14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§ 6.9.2.1.1 Proposed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if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2514600" cy="11458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09480" y="2132280"/>
            <a:ext cx="807732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6.9.2.1.1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eplacement Reserve Under Scheduled Capa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product of the MCPC multiplied by the amount of capacity insufficiency of each QSE.  The insufficiency for the Operating Hour shall be the sum of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greatest of zero (0) or each difference between the Adjusted Meter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ad and the amount of Load scheduled in each Settlement Interval for th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Hour at 1300 in the Day Ahead or thirty (30) minutes after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COT provides Notice of procurement of RPRS in the Adjustment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iod;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greater of zero or the amount of capacity 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that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ult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from either 1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match in the QSE’s Schedule as defined in Section 4.7.2, Schedul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idation Process,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or 2) a QSE selecting ERCOT as a Resour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4A4B-651D-4214-8518-DA32A626D73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§ 6.9.2.1.1 Proposed Formu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if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2514600" cy="1145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838080" y="1905120"/>
                <a:ext cx="7543800" cy="19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US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zq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CPC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z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  <m:r>
                      <m:t xml:space="preserve">∗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86600" y="3732840"/>
            <a:ext cx="8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re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838080" y="4267080"/>
                <a:ext cx="4648320" cy="19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M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z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Across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sub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396E-F030-4480-ABE8-88C75B162E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-304920" y="1600200"/>
          <a:ext cx="9448920" cy="421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04920" y="1600200"/>
                    <a:ext cx="9448920" cy="42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85800" y="304920"/>
            <a:ext cx="2514600" cy="11458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§ 6.9.2.1.1 Formu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ion of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A468-29A5-4199-8D86-B4BEB5719B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§ 6.9.2.1.1 Why the chang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2514600" cy="1145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28600" y="2514960"/>
            <a:ext cx="8686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protocols do not clearly specify how to tre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 with ERCOT as a Resour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tuations in which multiple RPRS markets are executed for the same hou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1012-5B3B-449E-84DA-9F9D033F0D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2514600" cy="11458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28600" y="3199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S??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CB4A-10BC-47BE-9F1B-4BB882B5F2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C Tie Schedules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RC Tag Reconcili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2514600" cy="11458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09480" y="1977480"/>
            <a:ext cx="8077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uestion to ERC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QSE schedules a DC Tie import, and does not receive the associated NERC Tag(s) prior to the operating period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re a mechanism in the Replacement Reserve Under Scheduled Capacity Charge Calculation to detect this “untagged” DC tie import and appropriately reduce the scheduled load amount for that QS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6261-4F17-4E14-BBC8-4E8E1A9F89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C Tie Schedules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RC Tag Reconcili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2514600" cy="1145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57200" y="1583640"/>
            <a:ext cx="8229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nswer:  No mechanism is in pl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the time of procurement, the DC Tags are not necessarily received by ERCO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COT systems are not configured to go back after the operating hour and reduce the “scheduled load amount” (at time of procurement) due to “untagged” DC tie impor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9E9E-5594-4E47-98A6-C87FD85EE7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2514600" cy="11458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8600" y="3199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S / CONCERN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ABCD-B354-4E92-82C5-11AAE52E910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0T20:51:03Z</dcterms:created>
  <dc:creator>Sam Jones</dc:creator>
  <dc:description/>
  <dc:language>en-US</dc:language>
  <cp:lastModifiedBy>A. Boren</cp:lastModifiedBy>
  <dcterms:modified xsi:type="dcterms:W3CDTF">2005-07-20T12:57:45Z</dcterms:modified>
  <cp:revision>33</cp:revision>
  <dc:subject/>
  <dc:title>PowerPoint Presentation</dc:title>
</cp:coreProperties>
</file>