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AEACB-D2DD-42A2-B501-7F8F589B5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D61D2-DC20-4BEA-8AB6-727B3D6D2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3AFF2-4E1F-40C7-AC61-DD0C28859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06277-1149-4872-83FC-8C14142A1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36920-12BD-4B37-B25D-9E32F3132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2D00A-C36F-49C3-BE24-00812406F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A3FAA-4A65-4F72-96BD-B12C02338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FA98D-8775-43F3-9C0E-31A23899D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A9D22-E7AF-4A2C-91D2-1EA55A746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A893D-D694-4647-A3E4-1851E8D38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214AA-39F1-4FED-A04A-6908DB8E6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F4EC3-A4A8-4C08-94EA-A9C1F1304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4C09-0829-4D3F-B0BE-544D8FD1C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819160" y="304920"/>
            <a:ext cx="60958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3333cc"/>
                </a:solidFill>
                <a:latin typeface="Times New Roman"/>
              </a:rPr>
              <a:t>PRR 568 Implementation Plan Schedule</a:t>
            </a:r>
            <a:endParaRPr b="0" lang="en-US" sz="2800" spc="-1" strike="noStrike">
              <a:solidFill>
                <a:srgbClr val="000000"/>
              </a:solidFill>
              <a:latin typeface="Times New Roman"/>
            </a:endParaRPr>
          </a:p>
        </p:txBody>
      </p:sp>
      <p:graphicFrame>
        <p:nvGraphicFramePr>
          <p:cNvPr id="44" name=""/>
          <p:cNvGraphicFramePr/>
          <p:nvPr/>
        </p:nvGraphicFramePr>
        <p:xfrm>
          <a:off x="228600" y="1676520"/>
          <a:ext cx="8763120" cy="5048280"/>
        </p:xfrm>
        <a:graphic>
          <a:graphicData uri="http://schemas.openxmlformats.org/drawingml/2006/table">
            <a:tbl>
              <a:tblPr/>
              <a:tblGrid>
                <a:gridCol w="1828800"/>
                <a:gridCol w="6934320"/>
              </a:tblGrid>
              <a:tr h="2313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Analysis Period:</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August </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to </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mid November</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ERCOT begins providing Ch 0 cuts for Load and Generation Extracts </a:t>
                      </a:r>
                      <a:endParaRPr b="0" lang="en-US" sz="14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1</a:t>
                      </a:r>
                      <a:r>
                        <a:rPr b="1" lang="en-US" sz="1200" spc="-1" strike="noStrike" baseline="30000">
                          <a:solidFill>
                            <a:srgbClr val="3333cc"/>
                          </a:solidFill>
                          <a:latin typeface="Times New Roman"/>
                          <a:ea typeface="Times New Roman"/>
                        </a:rPr>
                        <a:t>st</a:t>
                      </a:r>
                      <a:r>
                        <a:rPr b="1" lang="en-US" sz="1200" spc="-1" strike="noStrike">
                          <a:solidFill>
                            <a:srgbClr val="3333cc"/>
                          </a:solidFill>
                          <a:latin typeface="Times New Roman"/>
                          <a:ea typeface="Times New Roman"/>
                        </a:rPr>
                        <a:t> 30 day run for Aug 1 to Aug 31</a:t>
                      </a:r>
                      <a:endParaRPr b="0" lang="en-US" sz="12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2</a:t>
                      </a:r>
                      <a:r>
                        <a:rPr b="1" lang="en-US" sz="1200" spc="-1" strike="noStrike" baseline="30000">
                          <a:solidFill>
                            <a:srgbClr val="3333cc"/>
                          </a:solidFill>
                          <a:latin typeface="Times New Roman"/>
                          <a:ea typeface="Times New Roman"/>
                        </a:rPr>
                        <a:t>nd</a:t>
                      </a:r>
                      <a:r>
                        <a:rPr b="1" lang="en-US" sz="1200" spc="-1" strike="noStrike">
                          <a:solidFill>
                            <a:srgbClr val="3333cc"/>
                          </a:solidFill>
                          <a:latin typeface="Times New Roman"/>
                          <a:ea typeface="Times New Roman"/>
                        </a:rPr>
                        <a:t> 30 day run Sept 15 to Oct 15, 2005</a:t>
                      </a:r>
                      <a:endParaRPr b="0" lang="en-US" sz="12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Ch 0 is a day 8 aggregation - the data that would be used for day 10 settlement</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ERCOT provides reporting similar to Report provided at COPS Feb 2005</a:t>
                      </a: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Market Participants exchange ideas and observations of Ch 0 cuts in conference calls every 2 weeks.   The 1</a:t>
                      </a:r>
                      <a:r>
                        <a:rPr b="1" lang="en-US" sz="1400" spc="-1" strike="noStrike" baseline="30000">
                          <a:solidFill>
                            <a:srgbClr val="3333cc"/>
                          </a:solidFill>
                          <a:latin typeface="Times New Roman"/>
                          <a:ea typeface="Times New Roman"/>
                        </a:rPr>
                        <a:t>st</a:t>
                      </a:r>
                      <a:r>
                        <a:rPr b="1" lang="en-US" sz="1400" spc="-1" strike="noStrike">
                          <a:solidFill>
                            <a:srgbClr val="3333cc"/>
                          </a:solidFill>
                          <a:latin typeface="Times New Roman"/>
                          <a:ea typeface="Times New Roman"/>
                        </a:rPr>
                        <a:t> call to occur approximately 20 days after the first date Ch 0 data was made available</a:t>
                      </a:r>
                      <a:endParaRPr b="0" lang="en-US" sz="1400" spc="-1" strike="noStrike">
                        <a:solidFill>
                          <a:srgbClr val="000000"/>
                        </a:solidFill>
                        <a:latin typeface="Times New Roman"/>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60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Nov 14, 2005</a:t>
                      </a:r>
                      <a:endParaRPr b="0" lang="en-US" sz="16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Market Participants end Ch 0 analysis</a:t>
                      </a:r>
                      <a:endParaRPr b="0" lang="en-US" sz="14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COPS presentation discussion on Analysis results</a:t>
                      </a:r>
                      <a:endParaRPr b="0" lang="en-US" sz="12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Prepare recommendation for TAC Vote</a:t>
                      </a:r>
                      <a:endParaRPr b="0" lang="en-US" sz="1200" spc="-1" strike="noStrike">
                        <a:solidFill>
                          <a:srgbClr val="000000"/>
                        </a:solidFill>
                        <a:latin typeface="Times New Roman"/>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60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Dec 1, 2005</a:t>
                      </a:r>
                      <a:endParaRPr b="0" lang="en-US" sz="16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TAC meeting </a:t>
                      </a:r>
                      <a:endParaRPr b="0" lang="en-US" sz="14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COPS report of Ch 0 analysis results</a:t>
                      </a:r>
                      <a:endParaRPr b="0" lang="en-US" sz="12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ffirmative VOTE by TAC to move toward Day 10 Initial Settlements</a:t>
                      </a:r>
                      <a:endParaRPr b="0" lang="en-US" sz="1200" spc="-1" strike="noStrike">
                        <a:solidFill>
                          <a:srgbClr val="000000"/>
                        </a:solidFill>
                        <a:latin typeface="Times New Roman"/>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28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Jan 17, 2006</a:t>
                      </a:r>
                      <a:endParaRPr b="0" lang="en-US" sz="16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1</a:t>
                      </a:r>
                      <a:r>
                        <a:rPr b="1" lang="en-US" sz="1400" spc="-1" strike="noStrike" baseline="30000">
                          <a:solidFill>
                            <a:srgbClr val="3333cc"/>
                          </a:solidFill>
                          <a:latin typeface="Times New Roman"/>
                          <a:ea typeface="Times New Roman"/>
                        </a:rPr>
                        <a:t>st</a:t>
                      </a:r>
                      <a:r>
                        <a:rPr b="1" lang="en-US" sz="1400" spc="-1" strike="noStrike">
                          <a:solidFill>
                            <a:srgbClr val="3333cc"/>
                          </a:solidFill>
                          <a:latin typeface="Times New Roman"/>
                          <a:ea typeface="Times New Roman"/>
                        </a:rPr>
                        <a:t> Operating Date to Start the migration to Day 10.   Binding Settlement Statement would be published on February 2, 2006.  Unbox PRR568 and provide 10 days notice to the Market</a:t>
                      </a:r>
                      <a:endParaRPr b="0" lang="en-US" sz="1400" spc="-1" strike="noStrike">
                        <a:solidFill>
                          <a:srgbClr val="000000"/>
                        </a:solidFill>
                        <a:latin typeface="Times New Roman"/>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486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7 weeks  – 8 day </a:t>
                      </a:r>
                      <a:r>
                        <a:rPr b="1" lang="en-US" sz="1200" spc="-1" strike="noStrike">
                          <a:solidFill>
                            <a:srgbClr val="3333cc"/>
                          </a:solidFill>
                          <a:latin typeface="Times New Roman"/>
                          <a:ea typeface="Times New Roman"/>
                        </a:rPr>
                        <a:t>Settlement Invoices</a:t>
                      </a:r>
                      <a:endParaRPr b="0" lang="en-US" sz="12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Feb 9, 16, 23, Mar 2, 9, 16, 23</a:t>
                      </a:r>
                      <a:endParaRPr b="0" lang="en-US" sz="1600" spc="-1" strike="noStrike">
                        <a:solidFill>
                          <a:srgbClr val="000000"/>
                        </a:solidFill>
                        <a:latin typeface="Times New Roman"/>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45" name=""/>
          <p:cNvSpPr/>
          <p:nvPr/>
        </p:nvSpPr>
        <p:spPr>
          <a:xfrm>
            <a:off x="457200" y="1189080"/>
            <a:ext cx="8229600" cy="41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IMELINE:  Market Participant and ERCOT Analysi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EC2FFED-6895-42A6-8C88-2402A88F530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57600" y="380880"/>
            <a:ext cx="51055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3333cc"/>
                </a:solidFill>
                <a:latin typeface="Times New Roman"/>
              </a:rPr>
              <a:t>PRR 568 Implementation Plan</a:t>
            </a:r>
            <a:endParaRPr b="0" lang="en-US" sz="2800" spc="-1" strike="noStrike">
              <a:solidFill>
                <a:srgbClr val="000000"/>
              </a:solidFill>
              <a:latin typeface="Times New Roman"/>
            </a:endParaRPr>
          </a:p>
        </p:txBody>
      </p:sp>
      <p:sp>
        <p:nvSpPr>
          <p:cNvPr id="47" name=""/>
          <p:cNvSpPr/>
          <p:nvPr/>
        </p:nvSpPr>
        <p:spPr>
          <a:xfrm>
            <a:off x="380880" y="5410080"/>
            <a:ext cx="8229600" cy="41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33520" y="1274760"/>
            <a:ext cx="7772400" cy="5122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COPS RECOMMENDATION</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AC to recommend Board approval of  PRR 568 with the Implementation Plan as Outlined</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mplementation Plan Outline</a:t>
            </a:r>
            <a:endParaRPr b="0" lang="en-US" sz="1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nalysis period from August through mid November</a:t>
            </a:r>
            <a:endParaRPr b="0" lang="en-US" sz="1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ecommendation from COPS to TAC to go forward with implementation of moving Initial Settlement toward Day 10</a:t>
            </a:r>
            <a:endParaRPr b="0" lang="en-US" sz="1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ffirmative VOTE would be required by TAC to move forward toward Day 10 Initial Settlements.  Recommendation to move forward would be supported by Facts from the Analysis based on no materially adverse Credit, Load, Resource or UFE impacts.  </a:t>
            </a:r>
            <a:endParaRPr b="0" lang="en-US" sz="1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itial Settlement would begin with Operating Dates on Invoices published February 9</a:t>
            </a:r>
            <a:endParaRPr b="0" lang="en-US" sz="1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7 Week Implementation period where Settlement invoices would contain 8 Operating days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0978758-2890-4BF0-BA50-51EBCE0DC5B4}" type="slidenum">
              <a:t>2</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Ann Boren</cp:lastModifiedBy>
  <dcterms:modified xsi:type="dcterms:W3CDTF">2005-07-11T14:04:13Z</dcterms:modified>
  <cp:revision>139</cp:revision>
  <dc:subject/>
  <dc:title>Point-to-Point</dc:title>
</cp:coreProperties>
</file>