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5474-FF39-4A0B-AD32-6E654B21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55627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828800" y="4298040"/>
            <a:ext cx="55627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231C-0EE3-430E-B7E0-6AA7A8DE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828800" y="429804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9280" y="429804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9BDD-2426-42F0-8F8E-CD72C0041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09800" y="358128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0800" y="358128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828800" y="429804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09800" y="429804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90800" y="429804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9CD0-A6FA-4C4B-B11D-EBC8F9929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69E2-D955-454B-A57A-8AF5BBE54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3581280"/>
            <a:ext cx="556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5C11-3C7D-41B4-A7D3-BA3AD0D3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55627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692B-DDA4-46D4-8608-A50F0D5D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6708-99FA-4EC7-AD16-C39E65C9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B5C6-5F29-42D7-98AB-6BDC45B3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43000" y="1219320"/>
            <a:ext cx="693432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12CD-D781-4A96-B67F-E7AB52FC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828800" y="429804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E1AF-B401-43E5-BE00-AF167D97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828800" y="3581280"/>
            <a:ext cx="556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34B3-6D60-47F9-B918-B92F02A4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9280" y="429804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88C5-AAF8-491E-9010-E144FCD3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828800" y="4298040"/>
            <a:ext cx="55627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D2BF-0A35-4522-B7F9-6446C2ED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55627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828800" y="4298040"/>
            <a:ext cx="55627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98E2-3A14-4577-A44C-2C1CD4D7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429804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9280" y="429804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26F3-6583-4C3C-B92A-6978A4895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09800" y="358128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590800" y="358128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828800" y="429804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09800" y="429804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590800" y="429804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A7A2-2211-4D14-A30B-A0A1C554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55627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CCFE-12B3-476A-AF8F-F5BAC0AB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D9D9-99FF-43BE-8F05-8A386ABB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4229-E0E9-46BD-A414-FF2DC457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1219320"/>
            <a:ext cx="693432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4145-3944-490F-A6F9-CDEA908C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828800" y="429804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C011-D8E4-4C79-B4A0-01B98281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9280" y="429804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F182-C629-4692-9C05-5C9D87DB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828800" y="4298040"/>
            <a:ext cx="55627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7080-4572-44AB-A07E-0B4F5DA7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52352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3069-20D5-44B5-8192-9B4454083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0"/>
            <a:ext cx="2133720" cy="12952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1" lang="en-US" sz="40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1219320"/>
            <a:ext cx="8686800" cy="0"/>
          </a:xfrm>
          <a:prstGeom prst="line">
            <a:avLst/>
          </a:prstGeom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5960" y="6405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405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62560" y="6405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7250-1E91-41BF-9BE3-15666C028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0"/>
            <a:ext cx="2133720" cy="12952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M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219320"/>
            <a:ext cx="8686800" cy="0"/>
          </a:xfrm>
          <a:prstGeom prst="line">
            <a:avLst/>
          </a:prstGeom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438280" y="5486040"/>
            <a:ext cx="556272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ugust 3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228240" y="2057400"/>
            <a:ext cx="8915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tail Market Subcommitt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Update to TAC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666520" y="152280"/>
            <a:ext cx="6324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ting Items 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MGRR 023 – Inadvertent Gai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idential Survey Taskforce – Go/No-Go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66520" y="152280"/>
            <a:ext cx="6324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oting Item – RMGRR 023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30788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advertent Gain Process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nded to provide operational guidance to address inadvertent gai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533160">
              <a:lnSpc>
                <a:spcPct val="15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ed Competitive Retailer Inadvertent Gain Pro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aited for completion of Customer Protection Ru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457200">
              <a:lnSpc>
                <a:spcPct val="150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 invest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457200">
              <a:lnSpc>
                <a:spcPct val="150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ation of FasTrak tool for notification of affected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457200">
              <a:lnSpc>
                <a:spcPct val="150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instatement no longer than 13 business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533160">
              <a:lnSpc>
                <a:spcPct val="15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ght revisions to TDSP Inadvertent Gain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457200">
              <a:lnSpc>
                <a:spcPct val="15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1434600"/>
            <a:ext cx="78487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hase 1:  Pilot mail survey to 1,000 customers, equally distributed across all weather zon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563400">
              <a:lnSpc>
                <a:spcPct val="150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% accurate response to electric vs. gas heat based on multi-year consumption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563400">
              <a:lnSpc>
                <a:spcPct val="150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8% overall valid respons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hase 2:  Full mail survey  - three things requir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563400">
              <a:lnSpc>
                <a:spcPct val="150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ze response rate to determine sample size required to achieve statistically significant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563400">
              <a:lnSpc>
                <a:spcPct val="150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the budget supports the required samp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563400">
              <a:lnSpc>
                <a:spcPct val="150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/No-Go decision based on pilot 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563400">
              <a:lnSpc>
                <a:spcPct val="150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152280"/>
            <a:ext cx="6324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ting Item – Residential Survey Taskforce – Go/No-Go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434600"/>
            <a:ext cx="78487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MS Recommend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563400">
              <a:lnSpc>
                <a:spcPct val="15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 approval of the full mail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563400">
              <a:lnSpc>
                <a:spcPct val="15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,000 surveys to be mailed, equally stratified by profile type and weather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152280"/>
            <a:ext cx="6324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ting Item – Residential Survey Taskforce – Go/No-Go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1523880"/>
            <a:ext cx="73911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4:01:50Z</dcterms:created>
  <dc:creator>CF48</dc:creator>
  <dc:description/>
  <dc:language>en-US</dc:language>
  <cp:lastModifiedBy>Registered User</cp:lastModifiedBy>
  <dcterms:modified xsi:type="dcterms:W3CDTF">2005-08-04T14:33:48Z</dcterms:modified>
  <cp:revision>80</cp:revision>
  <dc:subject/>
  <dc:title>RMS Report to TAC 6/3/04</dc:title>
</cp:coreProperties>
</file>