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A6FB-AAA4-4D98-905D-8B05AEE8E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7600"/>
            <a:ext cx="822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67B9-FB55-4076-9AC1-FF1D45558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E4B0-B631-4D94-A8A3-D9EE2272D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524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524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760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760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760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5E88-CE18-40F6-A48F-35013DB20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867C-4B4F-4D7E-8A57-35EBA6BD1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37600"/>
            <a:ext cx="822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37600"/>
            <a:ext cx="822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524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524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3760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3760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37600"/>
            <a:ext cx="264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5190-F592-4E2A-8453-606ED8633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1C67-29D6-4D14-B8E7-84E8DF973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CD3A-5AC5-42FD-8728-9F4B157C4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26F2-4BA2-4C9F-9DB6-1CA00F01D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1F0B-D7B0-4966-9DE1-ADD8B933C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760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AF7E-B4F6-4925-8A02-DC3B50933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5240"/>
            <a:ext cx="40158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7600"/>
            <a:ext cx="822960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B44F-A95D-44AF-B0E7-870FA0F7A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14200" y="6391080"/>
            <a:ext cx="72576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D73B-2490-4506-B23A-EA91ED3D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4600" y="165240"/>
            <a:ext cx="8802720" cy="6538680"/>
          </a:xfrm>
          <a:prstGeom prst="roundRect">
            <a:avLst>
              <a:gd name="adj" fmla="val 157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67520" y="5716440"/>
            <a:ext cx="1119240" cy="113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46040" y="1117440"/>
            <a:ext cx="8328240" cy="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95a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3230" t="12972" r="3390" b="39547"/>
          <a:stretch/>
        </p:blipFill>
        <p:spPr>
          <a:xfrm>
            <a:off x="276120" y="81000"/>
            <a:ext cx="4311720" cy="20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4600" y="165240"/>
            <a:ext cx="8802720" cy="6538680"/>
          </a:xfrm>
          <a:prstGeom prst="roundRect">
            <a:avLst>
              <a:gd name="adj" fmla="val 157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67520" y="5716440"/>
            <a:ext cx="1119240" cy="113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0960" y="3452760"/>
            <a:ext cx="8328240" cy="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95a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3230" t="12972" r="3390" b="39547"/>
          <a:stretch/>
        </p:blipFill>
        <p:spPr>
          <a:xfrm>
            <a:off x="276120" y="81000"/>
            <a:ext cx="4311720" cy="206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6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RC Transmission System Vegetation Management Standar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COT TAC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Boone – CenterPoin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Schechter – A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4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in,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6840" y="274320"/>
            <a:ext cx="8783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lements of NERC’s Draft Vegetation Managemen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s and Address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B7FF-6C8C-4FB0-B529-A48FCFFA73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274320"/>
            <a:ext cx="8758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4, 2003 – Northeast Black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, 2004 – FERC’s Utility Vegetation Managemen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, 2004 – Standard Authorization Request Posted for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, 2004 – Standard Drafting Team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0926-B5D7-4D0C-B2A8-45936F63C6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00" y="274320"/>
            <a:ext cx="87454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tory, cont’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/February, 2005 – Draft Standard (Version 1) Posted for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, 2005 – Version 0 VM Standard Adopted (and still in ef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/July, 2005 – Revised Draft Standard (Version 1) Posted for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31, 2005 – Comment Period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AA08-6713-485A-B54A-CF0EBC671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7600" y="274320"/>
            <a:ext cx="8705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ments of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tion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ance Distan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mplia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Threats an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7CF3-9BA3-41B2-8019-BBF3F7BFD2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0600" y="274320"/>
            <a:ext cx="87202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ments of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Work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and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On-site Audit by Complianc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Levels of Non-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47F5-B635-4B74-AA09-29E1864A6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0960" y="274320"/>
            <a:ext cx="8732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ificant Changes From Versio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M-related Outage Now Results in Non-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Period Extended from Three to Fiv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0011-31D0-4E33-9713-5D24F5140A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080" y="274320"/>
            <a:ext cx="8604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295280"/>
          <a:ext cx="763272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95280"/>
                    <a:ext cx="763272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5FA7-BAD8-45B7-A686-8DB1F34E13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5000" y="274320"/>
            <a:ext cx="8705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getation Management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524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2A9C-07D2-4A78-B878-E962FBE9B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7:58:39Z</dcterms:created>
  <dc:creator>Don Benjamin</dc:creator>
  <dc:description/>
  <dc:language>en-US</dc:language>
  <cp:lastModifiedBy>CenterPoint Energy</cp:lastModifiedBy>
  <dcterms:modified xsi:type="dcterms:W3CDTF">2005-07-27T17:33:02Z</dcterms:modified>
  <cp:revision>17</cp:revision>
  <dc:subject/>
  <dc:title>PowerPoint Presentation</dc:title>
</cp:coreProperties>
</file>