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D9A6-981B-49EF-9113-AC3B03CDA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152-0B6F-4E86-924D-CF75492D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099-648A-438A-B769-98869EBE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A64-6F86-4CFE-B354-E1D95F97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D5D-EE85-4774-946F-EF0F850D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703-6318-4D65-BA80-10BCC8E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09A-289C-42B2-AF1B-8EE24F47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3A0-9CBC-49E7-A9C3-8E4B3314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9CB-61FE-4B7C-A6F3-D473E1F9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52B-233B-4405-89F5-3B205103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D38-D2B4-4583-9D14-5C84E4E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923-58B9-432F-A90E-703B5A3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1B9-17C3-459D-905B-6D5C3EC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FEF6-70D5-4C17-8B06-1493B219D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gust 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B4E-3ED0-46A6-A121-A26CE34820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66680"/>
            <a:ext cx="83818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Discussion around the funding for Data Extracts and Reports being defined at DEW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 agreed to use the TAC Procedures as written and remove from the COPS Procedures all   duplicate language.  Approved Unanimousl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Worked with members of TNT to finalize Day Ahead Market Settlement Timeline languag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Will continue to discuss language around the uplift of any defaults next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CF3-69BA-4844-A44A-574749F14B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8381880" cy="30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RCOT reported that ERCOT.com re-write (including a search engine) is expected to go live in early Nov – this implementation will run in parallel with the current application for 60-90 d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Wish to express our thanks to those members of  TNT who agreed to make presentations for training on August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23F-5A45-40B4-ADA9-3012A1A4BA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Recommends SCR74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66680"/>
            <a:ext cx="83818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Provide QSE’s detail information regarding settlements disputes and allow the ability to monitor the status of settlement disputes in a more efficient mann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This SCR creates a new daily QSE dispute extract containing information needed to track dispu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On 06/28/2005 COPS unanimously voted to recommend approval of SCR743.  All Market segments were pres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Priority 1.2 and Rank 8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ffective upon system implement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B24-C30D-4BA5-A05A-DD2FA681C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Recommends its Proceed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83818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Modified procedures to strike language that has been included in the TAC Proced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The structure of the subcommittee is included in Section V. of the TAC Procedure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Scope and Information about Working Groups and Task Forces to remain in the COPS Proced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082-4705-4A61-AE24-FFFEF8CF5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ERCOT cfm</cp:lastModifiedBy>
  <dcterms:modified xsi:type="dcterms:W3CDTF">2005-08-03T22:26:35Z</dcterms:modified>
  <cp:revision>139</cp:revision>
  <dc:subject/>
  <dc:title>Point-to-Point</dc:title>
</cp:coreProperties>
</file>