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9CB-ECE1-44C8-B303-DE2750D8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570F-5A8F-4689-A938-B6A12E6D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036A-05D5-4A73-9265-C067EC2D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7CB-3008-4FBD-8D18-5263E4BF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9FA-816E-4A3A-BB0A-AC10A695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C7B-B728-476F-A99F-5A1EC257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AD2-6754-4530-BFC0-C124ED50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1F64-0468-4126-BB27-724E4F6E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E63-EB66-42F2-B0A6-4BB546CB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DFA-B46B-403A-8963-2D540D91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0A2-CDE7-4943-BAB1-DBB29FF2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E70-4536-46F6-992C-9C9C365E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650C-C09C-4D95-A441-ED069851118A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B41F-DB67-40AA-AC1C-226F2A9F46E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977760" cy="85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436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45964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3587760" cy="3463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TAC Update- TNT Post Filing Activities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040" y="5121360"/>
            <a:ext cx="43419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4, 2005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Bojorquez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unch-list” Updat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41440"/>
            <a:ext cx="799128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ment Formul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ound 2 review of Section 3 - Management Activities for the ERCOT System, and Section 5 -Transmission Security Analysis and Reliability Unit Commit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continue review of Section 4 – Day-Ahead Operations, Section 6 - Adjustment Period and Real-Time Operations, and Section 9 – Sett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ough first round is making the second round to proceed at a faster 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 completion in Aug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0E8-A8CD-49FA-9CC9-BE282405CEA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F553A-7DC7-4EDF-BCBB-2E7DEFEB2E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unch-list” Updat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3320" y="1441440"/>
            <a:ext cx="7456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Sub-Committe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74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leted round 2 discussions of Section 16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te on Section 16 will be taken along with Settlement Sec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819-2876-460F-9431-66C2CE21495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7C4DA-F6F7-4C9F-837B-B5A5DB129C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367920"/>
            <a:ext cx="655308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July 21 TNT vot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375920"/>
            <a:ext cx="79246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9900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ingle Contract issue -  approved by a ballot vote of 100% in favor.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9900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Netting Issue” - approved by a ballot vote of 90.3% in favor and 9.7% opposed.  Approved motion to: 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Allow netting if first priority interest granted to ERCOT (with carve out for Co-ops or River Authorities); At market open: (1) Net benefit from estimated future value of CRRs, if allowed, will be allowed only for the current month and nearest succeeding month; (2)  All net liabilities for estimated future value of CRRs will be included in the calculation; (3) ERCOT to review after initial 6 months (evaluate estimated value vs. actual value) and quarterly thereafter.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601-4DAB-47B0-A5F0-43388E0C396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53FDD-BE3A-4A1F-AAB9-5AF71622E4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ransition Plan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3320" y="1441440"/>
            <a:ext cx="7456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NT stakeholders prepared a draft plan and distributed if for comm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equently, stakeholders requested that ERCOT draft a white paper considering comments receiv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view session was held on August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are due on August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round of reviews on week of August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DA4-09C3-4433-81C5-FB1BA22D30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6A7D2-909C-4034-8D5F-9AC1A4272D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ransition Plan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41440"/>
            <a:ext cx="7920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ansition Plan Strategy key characteristics: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olutionary proces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aptable to decisions from the PUCT, Board, TAC etc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roles for the structure of monitoring the Transition Planning proces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the roles for ERCOT and Market Participant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vide a timelin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milestones and readines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ut-over, Disaster Recovery, System Migration Strategies and Market compromis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E74-CF82-4B76-9BAF-18C4C4455E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C035D-4CD4-41A0-B615-E5A79E90CF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ther “Punch-list” Item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03320" y="1441440"/>
            <a:ext cx="7456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gress on the following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Time Co-optim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Synchron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Independent Market Monitor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4DF-A8C0-499F-A98F-31F3FB6E3B0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71CB3-1EC0-4D80-BD75-9FF6060B45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xas Nodal Team</dc:creator>
  <dc:description/>
  <dc:language>en-US</dc:language>
  <cp:lastModifiedBy>bbojorquez</cp:lastModifiedBy>
  <dcterms:modified xsi:type="dcterms:W3CDTF">2005-08-03T22:48:22Z</dcterms:modified>
  <cp:revision>382</cp:revision>
  <dc:subject/>
  <dc:title>TNT 1022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