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25E-3809-4FB4-A92C-68B6E4F4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9F1-D833-47E9-960E-D5BC58B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A1E-7F24-4E2C-872E-265F53DF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824-E2E9-4236-AF79-8C2D4400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976-48D6-4507-AA17-B6E5D0C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A51-84E0-4CDF-AA76-C3A0B12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C95-F496-4105-80AA-03B6C431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C03-6CDA-47DC-AFD6-AFBC441D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3E8-C07C-490F-AD73-3783443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932-BDC1-4361-A43D-0B21638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6FB-6F2C-43D2-BA06-993A339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A78-05C9-4876-A484-1EA3811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5EA-0914-4344-B6ED-D0B63B9C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4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39A-0F76-4D61-AA17-D594213DBD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, July 1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QSE in the ERCOT Region, AZOR Energy, LP, defaulted under its QSE Agreement with ERCOT, In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OR is also a REP representing approximately 500 ESI IDS and 5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(on approximately 90% of ESI IDs) from REP by 2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750-019B-4F68-9FD9-54C514835F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1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POLRs additional customer information on remaining ESI 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nesday, July 2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2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s begin switching away from defaulting REP as result of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July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switches submitted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day, August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ESI ID scheduled to transition away from defaulting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00B-43C3-4FCE-BFDE-7424BF8E4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00720"/>
            <a:ext cx="6477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238880" y="2438280"/>
            <a:ext cx="1524240" cy="1371600"/>
            <a:chOff x="7238880" y="2438280"/>
            <a:chExt cx="1524240" cy="1371600"/>
          </a:xfrm>
        </p:grpSpPr>
        <p:sp>
          <p:nvSpPr>
            <p:cNvPr id="68" name=""/>
            <p:cNvSpPr/>
            <p:nvPr/>
          </p:nvSpPr>
          <p:spPr>
            <a:xfrm>
              <a:off x="7238880" y="243828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scheduled to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77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7339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71800" y="3276720"/>
            <a:ext cx="2286000" cy="838080"/>
            <a:chOff x="2971800" y="3276720"/>
            <a:chExt cx="2286000" cy="838080"/>
          </a:xfrm>
        </p:grpSpPr>
        <p:sp>
          <p:nvSpPr>
            <p:cNvPr id="81" name=""/>
            <p:cNvSpPr/>
            <p:nvPr/>
          </p:nvSpPr>
          <p:spPr>
            <a:xfrm>
              <a:off x="297180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91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11480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800600" y="2057400"/>
            <a:ext cx="1676520" cy="1980720"/>
            <a:chOff x="4800600" y="2057400"/>
            <a:chExt cx="1676520" cy="1980720"/>
          </a:xfrm>
        </p:grpSpPr>
        <p:sp>
          <p:nvSpPr>
            <p:cNvPr id="85" name=""/>
            <p:cNvSpPr/>
            <p:nvPr/>
          </p:nvSpPr>
          <p:spPr>
            <a:xfrm>
              <a:off x="4800600" y="205740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I IDs begin switching away from defaulting 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105160" y="2819160"/>
              <a:ext cx="1522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62360" y="2971800"/>
            <a:ext cx="1752840" cy="990720"/>
            <a:chOff x="5562360" y="2971800"/>
            <a:chExt cx="1752840" cy="990720"/>
          </a:xfrm>
        </p:grpSpPr>
        <p:sp>
          <p:nvSpPr>
            <p:cNvPr id="89" name=""/>
            <p:cNvSpPr/>
            <p:nvPr/>
          </p:nvSpPr>
          <p:spPr>
            <a:xfrm>
              <a:off x="5867280" y="2971800"/>
              <a:ext cx="144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st switches submitted for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562360" y="3657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8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93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2438280"/>
            <a:ext cx="2514600" cy="1447920"/>
            <a:chOff x="1143000" y="2438280"/>
            <a:chExt cx="2514600" cy="1447920"/>
          </a:xfrm>
        </p:grpSpPr>
        <p:sp>
          <p:nvSpPr>
            <p:cNvPr id="96" name=""/>
            <p:cNvSpPr/>
            <p:nvPr/>
          </p:nvSpPr>
          <p:spPr>
            <a:xfrm>
              <a:off x="1752480" y="2438280"/>
              <a:ext cx="1905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and available customer info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143000" y="3276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C8F-A8BF-4A2F-B7CD-B355A26B52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: Curr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Thursday, July 28,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% in scheduled status to switch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 % complete in transitioning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-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9C1-5194-4A7A-AEC7-E7EB03B14C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D1B-8717-4174-8790-7B21BAF9B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E6C-FEA0-447B-8E9B-617F197F8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Mass Transition TF met Monday 7/11/05 – Tuesday 07/12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post-triggering ev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short and long-term recommendations for RMS to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reviewed the short and long-term recommend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vote conducted on short-term recommen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recommendation approved by 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s for further consid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short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B73-276A-402E-84A4-CCB552EEA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S Short-Term Recommen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ensures a maximum effective date for the transition (less than or equal to 11 Retail Business Days) within these guidelin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71B-86E1-42B1-BD04-95A4E5D76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Item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rth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hort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update of customer information using either csv or 814_PC (accomplish by September 1, 200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nded back to RMS TF to address concerns noted at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ustomer update maintenance through 814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al/automated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Mass Meter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MS TF meeting – Tuesday 08/09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BBB-0072-49A3-B28D-5480BE1F9D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 call on Monday 7/1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pre-triggering ev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issues for discussion for 07/22/05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s on Friday 07/22/05 and Thursday 07/2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for 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lement of load of a defaulting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point for mass transition of customers 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timelines surrounding a Market Participant defa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 by QSE to terminate relationship with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for LSE to meet credit requirements or find another Q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in Market Participant agreement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whether the scheduling rights of defaulting QSEs should be terminated or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4BE-E5E4-46BA-8FD9-D9BB111BF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s of WMS TF Mee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PRRs to address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default situation where an LSE is no longer represented by a QSE, use of a virtual QSE for tracking and scheduling purposes of the LSE’s load at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ituation where a QSE defaults, LSEs are dropped to the Default QSE (16.2.12.2).  Propose providing LSEs the additional option of becoming an Emergency (EQ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clean-up and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02B-9796-489D-884C-37DA2D7AA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d - Creating PRRs to address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options regarding timelines for QSE terminating relationship with L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tend timeline for notification of a QSE to terminate relationship with LSE to 7 Business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LSE must either name a new QSE or qualify as EQS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cure period,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intain current timeline of 5 Business Days for notification of a QSE to terminate relationship with L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timeline for LSE to name a new QSE or qualify as EQSE 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as noted above.  However, liability is shif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5B5-C01C-4DC7-897D-CA155760D3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FDC-CD1D-443E-BF45-67FB47CD3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8-23T18:53:47Z</cp:lastPrinted>
  <dcterms:modified xsi:type="dcterms:W3CDTF">2005-07-28T21:15:57Z</dcterms:modified>
  <cp:revision>602</cp:revision>
  <dc:subject/>
  <dc:title>PowerPoint Presentation</dc:title>
</cp:coreProperties>
</file>