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490-A503-4D9E-A75B-0D1C2D27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6F8-C66C-4797-804E-5082A714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31C-E733-4B00-9799-853E1F68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FC7-0EED-40C5-9A6B-76325FA2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AC00-498F-4BDC-B2B6-97A090F2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FDB2-E4E8-44F2-82DD-BF01BED0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62F4-CDB1-4AD9-99D6-297935B6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6600-488A-4B4F-BE63-BBE08255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F3EA-EBB5-434E-88BA-AFEA8677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88E0-7449-4A07-95B5-733760A8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7C2B-CCCF-49A4-AEA8-E8D64B0F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9A3-4C45-4889-8E16-3B672539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3CA1-D8F8-4B01-B2A8-BEEC186F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77EA-C1A1-4D00-9776-27FA6CF8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AF86-227A-4592-B79D-42D23D07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FC5E-E1D7-4D27-9A7D-525F5948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C043-1FA6-4029-888D-34775181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3F2-34CC-48CA-961E-BA830A44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D66-96B9-4193-B9FD-E37FE8E9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01B-E245-4C78-BA19-7613F527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EEB-2523-4EAE-81D8-0D7EA597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CAE-169F-4AAD-A6F4-8DD79C96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AA3-0467-47F3-973D-A80EA4E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735-8CAA-40C8-9324-792BB35B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A19B-5EE2-46CE-B0BC-C14C8DF5BE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B814-7F4C-427D-925A-5AE1183E01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rotocol Revision Subcommitte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ugust 4,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2448-A3D6-4AAE-8363-89D95D7D14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99 – Notification of Mismatched Inter-QSE Energy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1240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41911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47242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3680" y="4738680"/>
            <a:ext cx="30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settlement proc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2240" y="31240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$100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4400" y="42051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or Lodestar co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8FE-75FC-4133-B482-F218EA5A30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600 – Align BES Bids with Resource Plan Capability &amp; Resource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by Tenaska (IPM) on behalf of QSEMW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responds to Patton #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cuments current ERCOT practice of limiting BES bids by difference in capacity in resource plan and oblig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Not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with 3 “no” votes and 2 abs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October 1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B20-E7C7-49FE-936B-77815AB309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600 – Align BES Bids with Resource Plan Capability &amp; Resource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636-D3CD-4B95-BAA2-30D7DBB0B0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601 – 15 Minute Ramping for BES &amp; Base Power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by Tenaska (IPM) on behalf of QSEMW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onds to Patton  #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s ramping period from 10 to 15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Allows deployment of more BES and may reduce Regulation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amended by ERCOT and P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with 1 abs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upon system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F34-6F68-4D2B-8359-3E22D09A17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601 – 15 Minute Ramping for BES &amp; Base Power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48320" y="41911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31240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7000" y="31608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00 - $500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20440" y="415116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s multiple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D3C-ADCB-47AB-A563-14BEF7E1A2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603 – Defaulted QSE Settlement for AS Procured During Adjustment Period AS Mark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by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s duplicate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Clarifies settlement costs for defaulting QSE in subsequent AS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October 1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380-F09B-4E5E-B115-DB74043F6F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603 – Defaulted QSE Settlement for AS Procured During Adjustment Period AS Mark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C99-5629-48D9-A594-B7C34B7A6B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604 – Replacement Reserve Service Bid C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8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by First Choice Power (IO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rifies that RPRS bids are capped at $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ded by P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October 1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4A5-4FEA-4172-B0D3-D1F0DD2593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604 – Replacement Reserve Service Bid C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985-EDE0-4B6C-A2BD-AF74398A8F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614 – Balancing Bids for Replacement Capac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8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d “Urgent”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submitted by Exelon (IP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rifies that a QSE awarded RPRS will submit a BES bid that conforms to the difference between their LSL &amp; H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efit: Improves accuracy of BES bids and ensures BES deployment respects unit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nded by ERCOT, Tenaska &amp; P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S recommended approval with 1 abs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ive upon system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ity 1.1 and 32.6 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031-B006-4F67-A30E-297511AF0C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S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6 System Prioritization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 PRRs for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76B-4E15-4041-B9AD-9CB2DC0B06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604 – Replacement Reserve Service Bid C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48320" y="41911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31240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20080" y="30844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$100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22240" y="415116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chan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035-3ABB-464B-83C0-786B1FF542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598 – Charge Against OOM Start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599 – Notification for Mismatched Inter-QSE Energy Sche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600 – Align BES Bids with Resource Plan Capability &amp; Resource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601 – 15 Minute Ramping for BES &amp; Base Power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603 – Defaulted QSE Settlement for AS Procured During an Adjustment Period AS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604 – Replacement Reserve Service Bid 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614 – Balancing Bids for RPRS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DE6-8254-466A-B433-52E6D5025F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E12-61B0-4F33-B9F4-D3FDCEE8EB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2006 PRS Priorit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AC tasked PR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alidate that prioritization definitions used by ERCOT and market reviews were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view ERCOT project list &amp; CB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reviewed definitions used by ERCOT – same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reviewed more than 24 ERCOT projects &amp; C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mproved understanding of ERCOT projects and provided input on ERCOT CB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CDF-EFBA-40A2-A317-F463D7907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2006 PRS Priorit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identified 2 1.1 projects currently below the line that should be moved above the line (reliability rel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S identified 1 2.1 project that ERCOT should review for possible move (PRR 409 related to Voltage Sup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iven current projected funding, several projects will likely be “bumped” down below the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S continues to identify 1.1s from new PR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ss Customer Transition is a 1.2 until project is sc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A71-77E5-4646-9EBC-50D61DFB2F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2006 PRS Priorit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ata Extract projects are 1.2s and not likely to be completed but provide value to the market through increased transpar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xtracts can increase efficiency, in part, by reducing disputes that occupy stakeholder/ERCOT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xtracts need to be integrated into ERCOT work plans instead of special project desig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licy Question – how can good ideas be implemented to take advantage of stakeholder knowledge and contribu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505-9705-409D-AC10-8D2B8BD266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RR Recommend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42E1-A4AD-478D-9160-FED8E69B19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98 – Charge Against OOM Start-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by OPUC (Consum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reduces OOMC payment if MCPE is greater than the Generic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Reduces OOMC cost when MCPE is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ded by ERCOT (tw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with 5 “no” votes and 7 abstentions; unanimous approval on second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upon system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 1.1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C9B-1A75-4886-9161-79DFCF036A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98 – Charge Against OOM Start-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1240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1911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20080" y="316080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$100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22600" y="422748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or Lodestar co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72D-D668-41E6-B83C-2329733012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99 – Notification of Mismatched Inter-QSE Energy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by TXU (IO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requires mismatch communication be given to both QSEs if ERCOT remedies the mismatch according to PRR 54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Provides shadow settlement information to Q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upon implementation of PRR 5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5 Priority 1.2 with a 34.4 r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AB1-3932-42AC-86AD-8B643DC8A0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1:47Z</dcterms:created>
  <dc:creator>Michael Oldak</dc:creator>
  <dc:description/>
  <dc:language>en-US</dc:language>
  <cp:lastModifiedBy>KGresham</cp:lastModifiedBy>
  <dcterms:modified xsi:type="dcterms:W3CDTF">2005-08-04T03:17:48Z</dcterms:modified>
  <cp:revision>59</cp:revision>
  <dc:subject/>
  <dc:title>Electricit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E85B5003D51B714A8A6436DB6BD21B1D0700F69D146182963C4BBADCC8C900482FB200000012F8A40000F69D146182963C4BBADCC8C900482FB2000001943FCD0000</vt:lpwstr>
  </property>
  <property fmtid="{D5CDD505-2E9C-101B-9397-08002B2CF9AE}" pid="3" name="_NewReviewCycle">
    <vt:lpwstr/>
  </property>
  <property fmtid="{D5CDD505-2E9C-101B-9397-08002B2CF9AE}" pid="4" name="_ReviewCycleID">
    <vt:r8>1576423983</vt:r8>
  </property>
  <property fmtid="{D5CDD505-2E9C-101B-9397-08002B2CF9AE}" pid="5" name="_TentativeReviewCycleID">
    <vt:r8>1576423983</vt:r8>
  </property>
</Properties>
</file>