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96AA-D157-4CAC-BA52-DC96089D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C96-91CB-41BA-90F3-FABB0A83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FD1-5D82-4D09-B273-36A82949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ECB-2E20-4778-819C-45281798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0C24-A7B9-4D96-B915-35B6DDDA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A680-9E29-4F11-BC16-67F585D8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24B4-7E6F-4976-AE9A-4A032B49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2280-BD7B-44A0-BF2B-093BE3EE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094C-A581-4FC5-BB25-30AB5BD3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D0C1-1396-49B2-A894-C996A3E4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17B8-9929-406B-A3FC-A2C2DBD6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AB4-96F7-4502-A553-19BB2C94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311A-A75D-4E21-9118-2171A62D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1518-E127-40C4-A242-CA055365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93E9-27C3-44ED-BF20-C1BDC6ED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1EAB-EFDA-46D8-BBF7-92F23BA3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A8CE-3F7A-4E85-B443-28452D3E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DFA-3E04-4E22-ABDD-30678BE3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534-8C8C-446A-9D4D-9B1021CC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11E-C59B-4F88-A872-5AB10A4A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C28-6BBB-4A43-9BE2-EF3F2394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8CE-93A7-40F7-8712-D1253FF6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D8A-BF98-43C9-BD22-7ADD4FED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33A-2867-4263-9DF9-E1F3E783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FEFC-5AD6-4CA0-AE24-D95F3CBC81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8A9A-DC70-430E-B711-2A2987C786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696440" cy="5677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idential Survey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MS Recommend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MS recommends approval of the full mail residential surv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velop a more accurate algorithm to predict the presence and use of electric heat for residential customers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gorithm inputs are premise level historical usage and weather z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gorithm output is probability of having electric h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 data to support analysis to potentially develop new profile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-Phased Survey 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hase 1:  Pilot mail survey to 1,000 customers, equally distributed across all weather zon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 response rate for ph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s response accur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hase 2:  Full mail surve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/No-Go decision based on pilot respon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luate accuracy based on usage hist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ze response rate to determine sample size required to achieve statistically significant resul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sure the budget supports the required sample 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sample based on pilot response rate resul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Administ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ducing Customer Confu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lingual (English/Spanish) vers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RCOT supported 24-hour, bilingual, toll-free telephone numb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RCOT supported web page containing ERCOT background, survey question details, toll-free telephone number, and “Frequently Asked Questions” (FAQ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inimizing Call Center Impa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ver letter will refer customer questions/concerns to toll-free numb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Qs will be provided to REPs to be used as training materials for the call cente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mproving Response R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stage-paid return envelop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RCOT purchased customer name associated with address inform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rrelating ESI-ID to Respon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r-coded survey form linking ESI-ID to respon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Upd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val of Survey at May TAC meeting.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lingual versions of the cover letter and surv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COT website pos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urement activities with the firm to provide names for sampled addres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urement activities with selected Market Research fir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vey population (stratified by profile type and weather zone) has been identified and addresses are being validated against datab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development to validate responses regarding heating typ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vey mailed out on June 9, with responses by July 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Response 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Response 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ses to question #2 (primary heating syst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% accurate response to electric vs. gas heat based on multi-year consumption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 breakdow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7 Electri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1 Natural or bottle g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Inval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Other or not s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ero (0) phone inquiries to contact number provi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.4% overall valid response r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5410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/No-Go Evaluation Crite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e accuracy based on usage hist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% accurate response to electric vs. gas heat based on multi-year consumption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yze response rate to determine sample size required to achieve statistically significant resul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4% overall valid respons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,000 surveys to be mailed, equally stratified by profile type and weather zo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7% accuracy at 95% conf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 the budget supports the required sample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ining budget supports additional 40,000 surve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3480" y="2793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jected Residential Survey Timelin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9600" y="1047600"/>
            <a:ext cx="8739000" cy="5133960"/>
            <a:chOff x="309600" y="1047600"/>
            <a:chExt cx="8739000" cy="5133960"/>
          </a:xfrm>
        </p:grpSpPr>
        <p:sp>
          <p:nvSpPr>
            <p:cNvPr id="118" name=""/>
            <p:cNvSpPr/>
            <p:nvPr/>
          </p:nvSpPr>
          <p:spPr>
            <a:xfrm>
              <a:off x="309600" y="1047600"/>
              <a:ext cx="2104920" cy="5133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639720" bIns="639720" anchor="t">
              <a:no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onduct Pilot Surv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STF/RMS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TAC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duct Full Surve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Responses provided to ERC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RCOT analysis of survey respon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PWG review of 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05160" y="1054080"/>
              <a:ext cx="6576840" cy="5127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27120" y="1054080"/>
              <a:ext cx="5353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J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76480" y="1054080"/>
              <a:ext cx="5349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F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24400" y="1054080"/>
              <a:ext cx="5378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M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73400" y="1054080"/>
              <a:ext cx="5367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AP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24560" y="1054080"/>
              <a:ext cx="5349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72120" y="1054080"/>
              <a:ext cx="5364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J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1480" y="1054080"/>
              <a:ext cx="5364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J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70480" y="1054080"/>
              <a:ext cx="5367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AU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19840" y="1054080"/>
              <a:ext cx="5367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E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69200" y="1054080"/>
              <a:ext cx="5349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O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18560" y="1054080"/>
              <a:ext cx="5364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NO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69360" y="1054080"/>
              <a:ext cx="5349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D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962440" y="1047600"/>
              <a:ext cx="792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499920" y="1047600"/>
              <a:ext cx="1764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7280" y="1047600"/>
              <a:ext cx="936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613040" y="1047600"/>
              <a:ext cx="468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51240" y="1047600"/>
              <a:ext cx="1404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15000" y="1047600"/>
              <a:ext cx="1260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5800" y="1047600"/>
              <a:ext cx="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802200" y="1047600"/>
              <a:ext cx="1116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62720" y="1047600"/>
              <a:ext cx="1584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12080" y="1047600"/>
              <a:ext cx="468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453520" y="1047600"/>
              <a:ext cx="7920" cy="5108760"/>
            </a:xfrm>
            <a:prstGeom prst="line">
              <a:avLst/>
            </a:prstGeom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21120" y="1689120"/>
              <a:ext cx="157320" cy="1490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65680" y="1689120"/>
              <a:ext cx="157320" cy="1490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3e3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" name=""/>
            <p:cNvCxnSpPr>
              <a:stCxn id="143" idx="6"/>
              <a:endCxn id="144" idx="2"/>
            </p:cNvCxnSpPr>
            <p:nvPr/>
          </p:nvCxnSpPr>
          <p:spPr>
            <a:xfrm>
              <a:off x="4978080" y="1763280"/>
              <a:ext cx="687960" cy="1080"/>
            </a:xfrm>
            <a:prstGeom prst="straightConnector1">
              <a:avLst/>
            </a:prstGeom>
            <a:ln w="19080">
              <a:solidFill>
                <a:srgbClr val="000099"/>
              </a:solidFill>
              <a:miter/>
            </a:ln>
          </p:spPr>
        </p:cxnSp>
        <p:sp>
          <p:nvSpPr>
            <p:cNvPr id="146" name=""/>
            <p:cNvSpPr/>
            <p:nvPr/>
          </p:nvSpPr>
          <p:spPr>
            <a:xfrm>
              <a:off x="5665680" y="2230560"/>
              <a:ext cx="157320" cy="149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2e2e2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9360" y="3186000"/>
              <a:ext cx="158760" cy="1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4e4e4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"/>
            <p:cNvCxnSpPr>
              <a:stCxn id="149" idx="6"/>
              <a:endCxn id="147" idx="2"/>
            </p:cNvCxnSpPr>
            <p:nvPr/>
          </p:nvCxnSpPr>
          <p:spPr>
            <a:xfrm>
              <a:off x="6881760" y="3260520"/>
              <a:ext cx="418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0" name=""/>
            <p:cNvSpPr/>
            <p:nvPr/>
          </p:nvSpPr>
          <p:spPr>
            <a:xfrm>
              <a:off x="7299360" y="4530600"/>
              <a:ext cx="156960" cy="1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4e4e4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35760" y="4530600"/>
              <a:ext cx="158760" cy="1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4e4e4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>
              <a:stCxn id="150" idx="6"/>
              <a:endCxn id="151" idx="2"/>
            </p:cNvCxnSpPr>
            <p:nvPr/>
          </p:nvCxnSpPr>
          <p:spPr>
            <a:xfrm>
              <a:off x="7456320" y="4605120"/>
              <a:ext cx="380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2421000" y="1419120"/>
              <a:ext cx="6589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94880" y="5221440"/>
              <a:ext cx="153720" cy="15228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35760" y="5226120"/>
              <a:ext cx="157320" cy="1490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6" name=""/>
            <p:cNvCxnSpPr>
              <a:stCxn id="155" idx="6"/>
              <a:endCxn id="154" idx="2"/>
            </p:cNvCxnSpPr>
            <p:nvPr/>
          </p:nvCxnSpPr>
          <p:spPr>
            <a:xfrm flipV="1">
              <a:off x="7992720" y="5296680"/>
              <a:ext cx="902520" cy="3960"/>
            </a:xfrm>
            <a:prstGeom prst="straightConnector1">
              <a:avLst/>
            </a:prstGeom>
            <a:ln w="19080">
              <a:solidFill>
                <a:srgbClr val="000099"/>
              </a:solidFill>
              <a:miter/>
            </a:ln>
          </p:spPr>
        </p:cxnSp>
        <p:sp>
          <p:nvSpPr>
            <p:cNvPr id="149" name=""/>
            <p:cNvSpPr/>
            <p:nvPr/>
          </p:nvSpPr>
          <p:spPr>
            <a:xfrm>
              <a:off x="6723000" y="3186000"/>
              <a:ext cx="158760" cy="1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4e4e4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"/>
            <p:cNvCxnSpPr>
              <a:stCxn id="146" idx="6"/>
            </p:cNvCxnSpPr>
            <p:nvPr/>
          </p:nvCxnSpPr>
          <p:spPr>
            <a:xfrm flipV="1">
              <a:off x="5823000" y="2299680"/>
              <a:ext cx="133560" cy="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8" name=""/>
            <p:cNvSpPr/>
            <p:nvPr/>
          </p:nvSpPr>
          <p:spPr>
            <a:xfrm>
              <a:off x="5938920" y="2230560"/>
              <a:ext cx="156960" cy="149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2e2e2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3440" y="2687760"/>
              <a:ext cx="156960" cy="1490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99360" y="3838680"/>
              <a:ext cx="156960" cy="1490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4e4f3"/>
                </a:gs>
              </a:gsLst>
              <a:lin ang="10800000"/>
            </a:gra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5:13:16Z</dcterms:created>
  <dc:creator>jtayl13</dc:creator>
  <dc:description/>
  <dc:language>en-US</dc:language>
  <cp:lastModifiedBy>A. Boren</cp:lastModifiedBy>
  <dcterms:modified xsi:type="dcterms:W3CDTF">2005-07-28T18:57:23Z</dcterms:modified>
  <cp:revision>25</cp:revision>
  <dc:subject/>
  <dc:title>Residential Survey  Task Force</dc:title>
</cp:coreProperties>
</file>