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1B6-C73A-4493-A912-FD47F35B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2C6-4601-49DB-A385-7D41FE40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E84-8C42-47C1-BAC9-369150E6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CB9-1DDC-4A30-B11A-C7952E77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C84-415E-45EC-9D09-93AB0D1D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B535-49F6-4FAC-A42A-5C885E5B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40A-2FDE-46AD-8825-FF4C0802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FCA-2D11-46C9-8A3C-0B0C99F2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70F-4912-40DC-B925-8C3441C3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483-E79E-4D7C-AA5C-ADDC305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5AE-5C46-4730-B65B-C9B81DCB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52F-3CBB-4FF4-ACCC-1903078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65D6-A3E1-4EBA-8A71-5865A531E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20" y="38736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0120" y="1295280"/>
            <a:ext cx="693720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905120"/>
            <a:ext cx="75438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rket Participant Defaul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oint Taskforce Upd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port on Rec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80060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to 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4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821-DD7C-4E76-80E3-522F29EAAA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, July 13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QSE in the ERCOT Region, AZOR Energy, LP, defaulted under its QSE Agreement with ERCOT, In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ZOR is also a REP representing approximately 500 ESI IDS and 50 MWh of load per 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COT began facilitating daily calls and checkpoints with PUCT and impacted TDSPs and POL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rovided TDSPs and POLRs transition ESI ID lists and customer information available (on approximately 90% of ESI IDs) from REP by 2p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3F7-1C91-44AD-B731-E7B247B211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rsday, July 14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provided POLRs additional customer information on remaining ESI I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dnesday, July 20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business day since distribution of ESI ID list.  Per RMS short-term recommendation, POLRs to have submitted initiating transactions for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% of Initiating transactions submitted by POL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rsday, July 21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I IDs begin switching away from defaulting REP as result of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day, July 22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switches submitted for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day, August 1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ESI ID transitioned away from defaulting R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B62-5F43-41A9-9312-B19F2CAD1C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Transi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: Curr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August 1,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% of ESI IDs complete in transitioning away from defaulting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Rs submitted off-cycle Switches to gain ESI 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submission ti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same or next day as receipt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-7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CF7-8FDE-4179-A933-5CE88B2C84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24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238880" y="2438280"/>
            <a:ext cx="1524240" cy="1371600"/>
            <a:chOff x="7238880" y="2438280"/>
            <a:chExt cx="1524240" cy="1371600"/>
          </a:xfrm>
        </p:grpSpPr>
        <p:sp>
          <p:nvSpPr>
            <p:cNvPr id="69" name=""/>
            <p:cNvSpPr/>
            <p:nvPr/>
          </p:nvSpPr>
          <p:spPr>
            <a:xfrm>
              <a:off x="7238880" y="2438280"/>
              <a:ext cx="15242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t ESI ID  transitio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924320" y="3200400"/>
              <a:ext cx="112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66680" y="4343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8769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66680" y="1447920"/>
            <a:ext cx="1981440" cy="2361960"/>
            <a:chOff x="1066680" y="1447920"/>
            <a:chExt cx="1981440" cy="2361960"/>
          </a:xfrm>
        </p:grpSpPr>
        <p:sp>
          <p:nvSpPr>
            <p:cNvPr id="78" name=""/>
            <p:cNvSpPr/>
            <p:nvPr/>
          </p:nvSpPr>
          <p:spPr>
            <a:xfrm>
              <a:off x="1066680" y="1447920"/>
              <a:ext cx="1981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begins daily checkpoints with impacted TDSPs, POLRs, &amp; P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143000" y="2438280"/>
              <a:ext cx="533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733920" y="47242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971800" y="3276720"/>
            <a:ext cx="2286000" cy="838080"/>
            <a:chOff x="2971800" y="3276720"/>
            <a:chExt cx="2286000" cy="838080"/>
          </a:xfrm>
        </p:grpSpPr>
        <p:sp>
          <p:nvSpPr>
            <p:cNvPr id="82" name=""/>
            <p:cNvSpPr/>
            <p:nvPr/>
          </p:nvSpPr>
          <p:spPr>
            <a:xfrm>
              <a:off x="2971800" y="327672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Business Day – 91% of Initiating Transactions s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114800" y="3733920"/>
              <a:ext cx="76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648320" y="47242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800600" y="2057400"/>
            <a:ext cx="1676520" cy="1980720"/>
            <a:chOff x="4800600" y="2057400"/>
            <a:chExt cx="1676520" cy="1980720"/>
          </a:xfrm>
        </p:grpSpPr>
        <p:sp>
          <p:nvSpPr>
            <p:cNvPr id="86" name=""/>
            <p:cNvSpPr/>
            <p:nvPr/>
          </p:nvSpPr>
          <p:spPr>
            <a:xfrm>
              <a:off x="4800600" y="2057400"/>
              <a:ext cx="167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I IDs begin switching away from defaulting R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105160" y="2819160"/>
              <a:ext cx="1522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2578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62360" y="2971800"/>
            <a:ext cx="1752840" cy="990720"/>
            <a:chOff x="5562360" y="2971800"/>
            <a:chExt cx="1752840" cy="990720"/>
          </a:xfrm>
        </p:grpSpPr>
        <p:sp>
          <p:nvSpPr>
            <p:cNvPr id="90" name=""/>
            <p:cNvSpPr/>
            <p:nvPr/>
          </p:nvSpPr>
          <p:spPr>
            <a:xfrm>
              <a:off x="5867280" y="2971800"/>
              <a:ext cx="1447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st switches submitted for tran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562360" y="365760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5438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8/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28600" y="2209680"/>
            <a:ext cx="1295280" cy="1676520"/>
            <a:chOff x="228600" y="2209680"/>
            <a:chExt cx="1295280" cy="1676520"/>
          </a:xfrm>
        </p:grpSpPr>
        <p:sp>
          <p:nvSpPr>
            <p:cNvPr id="94" name=""/>
            <p:cNvSpPr/>
            <p:nvPr/>
          </p:nvSpPr>
          <p:spPr>
            <a:xfrm>
              <a:off x="228600" y="2209680"/>
              <a:ext cx="1295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P defaults under Agreements with ERCO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320040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143000" y="2438280"/>
            <a:ext cx="2514600" cy="1447920"/>
            <a:chOff x="1143000" y="2438280"/>
            <a:chExt cx="2514600" cy="1447920"/>
          </a:xfrm>
        </p:grpSpPr>
        <p:sp>
          <p:nvSpPr>
            <p:cNvPr id="97" name=""/>
            <p:cNvSpPr/>
            <p:nvPr/>
          </p:nvSpPr>
          <p:spPr>
            <a:xfrm>
              <a:off x="1752480" y="2438280"/>
              <a:ext cx="1905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provides ESI ID list and available customer info to POLRs &amp; TDSP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143000" y="327672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066680" y="5715000"/>
            <a:ext cx="685800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completed in 13 Business or 19 Calendar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5181480"/>
            <a:ext cx="6629400" cy="533520"/>
          </a:xfrm>
          <a:prstGeom prst="rightArrow">
            <a:avLst>
              <a:gd name="adj1" fmla="val 50000"/>
              <a:gd name="adj2" fmla="val 3106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in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6324480"/>
            <a:ext cx="6858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red to previous transition which lasted 16 Business or 23 Calendar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019920"/>
            <a:ext cx="6858000" cy="30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rent customer transition should have completed in 11 Business or 15 Calendar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36B-3345-4D64-A69B-3EC992D45A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57440" y="2189160"/>
            <a:ext cx="4033800" cy="374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BA7-FC8C-418A-83D1-0C3D5BBC68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force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 created RMS/WMS joint taskforc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current procedures for Market Participant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whether improvements can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of taskforce is to minimize or eliminate uplif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nitial Joint TF me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triggering event issues to be addressed by W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triggering event issues to be addressed by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s will be scheduled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762-C5D1-4838-A811-5C07EEFC1C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 Mass Transition TF met Monday 7/11/05 – Tuesday 07/12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ed post-triggering event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short and long-term recommendations for RMS to cons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 reviewed the short and long-term recommend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 vote conducted on short-term recommend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-term recommendation approved by 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ms for further consid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short-term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term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966-C63D-4D59-938A-AFC9F27DE8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S Short-Term Recommen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SE does not cure, defaulting LSE must provide ERCOT customer information.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s to send best available information to POLRs (either ESI ID list or customer information that has been obtained from defaulting 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event the defaulting LSE cannot provide ERCOT with customer information, POLR is to work with TDSP to obtain existing customer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is to submit off-cycle, unprotected switch based on the first available switch date (currently, six Retail Business days).  These switches must be submitted within five Retail Business days of receipt of ESI ID information.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ensures a maximum effective date for the transition (less than or equal to 11 Retail Business Days) within these guideline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seminar for POLRs, TDSPs, ERCOT, and PUCT Staff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DDB-9D2A-415E-966E-CD51E61C52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Items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rther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short-term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update of customer information using either csv or 814_PC (accomplish by September 1, 200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anded back to RMS TF to address concerns noted at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ustomer update maintenance through 814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al/automated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SP Mass Meter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RMS TF meeting – Tuesday 08/09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FA8-7EB5-411E-97A4-7D7F0A9ED6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erence call on Monday 7/18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d pre-triggering even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ed issues for discussion for 07/22/05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etings on Friday 07/22/05 and Thursday 07/28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ergency QSE design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rules for Emergency QSE design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tlement of load of a defaulting 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ger point for mass transition of customers 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of timelines surrounding a Market Participant defau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fication by QSE to terminate relationship with 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line for LSE to meet credit requirements or find another Q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line in Market Participant agreements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whether the scheduling rights of defaulting QSEs should be terminated or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826-CE98-45BE-82BC-CF9FF97A9A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s of WMS TF Meet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PRRs to address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default situation where an LSE is no longer represented by a QSE, use of a virtual QSE for tracking and scheduling purposes of the LSE’s load at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situation where a QSE defaults, LSEs are dropped to the Default QSE (16.2.12.2).  Propose providing LSEs the additional option of becoming an Emergency (EQ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SEs should be allowed to continue to schedule any bilateral contracts they may have to lessen the impact to the Mar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clean-up and c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3B1-AA45-4904-9B3B-19945C9102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 PR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ptions regarding timelines for QSE terminating relationship with L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on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tend timeline for notification of a QSE to terminate relationship with LSE to 7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noon on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, LSE must either name a new QSE or qualify as EQS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SE does not meet either, then LSE is in breech of contra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 provided on afternoon of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 and cure period begins on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end of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 (which coincides with end of cure period), current QSE/LSE relationship is terminated and LSE is assigned to a virtual QSE for tracking purpo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on 2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intain current timeline of 5 Business Days for notification of a QSE to terminate relationship with L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ify timeline for LSE to name a new QSE or qualify as EQSE by noon on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SE does not meet either, then LSE is in breech of contra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 provided on afternoon of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 and cure period begins on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end of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, current QSE/LSE relationship is terminated and LSE is assigned to a virtual QSE for tracking purpo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15D-6C89-4A31-93E6-23167DC0C4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Rec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DF1-D308-4804-855A-878FB971A7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hobbs</cp:lastModifiedBy>
  <cp:lastPrinted>2002-08-23T18:53:47Z</cp:lastPrinted>
  <dcterms:modified xsi:type="dcterms:W3CDTF">2005-08-03T19:23:47Z</dcterms:modified>
  <cp:revision>609</cp:revision>
  <dc:subject/>
  <dc:title>PowerPoint Presentation</dc:title>
</cp:coreProperties>
</file>