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B74-100E-4926-BC11-559DCEC4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CCA-D33A-4BDB-8BBE-6D31FE2F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8DD-F5B4-455B-AC21-B4A83A5E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6A1-C88C-40F1-941A-226A685C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B80-ECC5-4E1A-A987-8CC880E5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8BB-793C-4D9A-8800-CBDD40DC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A9F-465B-47A1-969F-2BFBC90A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F0B-1E05-4A94-A41C-9D0FF16C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D8D-A640-45DE-B2F5-DBA84298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207-DFAC-4623-9183-E7E4592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01F-B662-488F-ACB8-0CCECA50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CDA-0E7D-48C5-B2EA-BAB7BBBB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1DF-5EC0-4ABE-A2E4-B72FB81D1DD6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2957-BF27-45F5-8055-6D06AF10949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977760" cy="85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3587760" cy="346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AC Update- TNT Post Filing Activitie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040" y="5121360"/>
            <a:ext cx="43419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4, 2005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Bojorque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41440"/>
            <a:ext cx="799128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Formul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round 2 review of Section 3 - Management Activities for the ERCOT System, and Section 5 -Transmission Security Analysis and Reliability Unit Commit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continue review of Section 4 – Day-Ahead Operations, Section 6 - Adjustment Period and Real-Time Operations, and Section 9 – Sett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ough first round is making the second round to proceed at a faster 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completion in Aug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63A-43F3-420D-B434-FEC8ACD25B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ABDF2-A0EF-491F-937B-FB338FD53D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Sub-Committe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d round 2 discussions of Section 16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ting Issue” voted on July 21, approved by a ballot vote of 90.3% in favor and 9.7% opposed.  Approved motion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ow netting if first priority interest granted to ERCOT (with carve out for Co-ops or River Authorities); At market open: (1) Net benefit from estimated future value of CRRs, if allowed, will be allowed only for the current month and nearest succeeding month; (2)  All net liabilities for estimated future value of CRRs will be included in the calculation; (3) ERCOT to review after initial 6 months (evaluate estimated value vs. actual value) and quarterly thereafte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652-1E66-4B44-9234-C3691CC280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F49C5-A2E5-44E5-AFD8-4831E98F31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67920"/>
            <a:ext cx="655308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26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ngle Contract issue voted on July 21, approved by a ballot vote of 100% in favor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F14-9ABB-4A55-AFF6-297DEAFE90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E572C-729F-42BE-8E27-E13E25AE2F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ransition Plan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NT stakeholders prepared a draft plan and distributed if for com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quently, stakeholders requested that ERCOT draft a white paper considering comments received; this paper will be circulated on August 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RCOT draft of the Transition Plan will be reviewed on August 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completion is mid-Augu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D34-CBC1-4DA1-A07C-2DFD5E67D0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98AB8-72AF-4D0B-9030-283FD22060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ransition Plan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41440"/>
            <a:ext cx="7920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nsition Plan Strategy key characteristics: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olutionary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aptable to decisions from the PUCT, Board, TAC et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roles for the structure of monitoring the Transition Planning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the roles for ERCOT and Market Participan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 a timelin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milestones and readin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t-over, Disaster Recovery, System Migration Strategies and Market compromis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8BD-222C-4AFD-9274-7186109C0E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FB0C1-4781-4570-A143-447ADDFDE6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ther “Punch-list” Item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gress on the following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 Co-optim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Synchron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Independent Market Monito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A35-0612-4452-B82C-7F838DB769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19B10-BC9B-4026-9605-9F88316DD3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Nodal Team</dc:creator>
  <dc:description/>
  <dc:language>en-US</dc:language>
  <cp:lastModifiedBy>A. Boren</cp:lastModifiedBy>
  <dcterms:modified xsi:type="dcterms:W3CDTF">2005-08-01T13:05:25Z</dcterms:modified>
  <cp:revision>379</cp:revision>
  <dc:subject/>
  <dc:title>TNT 1022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