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F01-74F3-4AFB-8207-116853EB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0FB-55AE-4901-B8D6-90D22BD6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A6E-AB82-4B08-ABD9-995DBB46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F12-26CF-42D9-B316-C39B1193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3F1-13FF-4BD1-95DE-7FE10F50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092-479F-4724-9E92-DDA849FE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CDAF-39E1-4088-AFAF-AAA41F26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9F6-43DB-46E6-BB2E-BA511943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9E5-9B19-42D9-A48D-A9F001D3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D92-687C-41A2-BB16-3577FD01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C9C-E36F-45E7-A418-0284C43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F23-2938-4BD4-9296-B60DDFBB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0F32-14F2-4B17-909C-1880BE536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48080" y="2401920"/>
            <a:ext cx="39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al Mobilizati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59120" y="5954760"/>
            <a:ext cx="143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y Giuli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gust 4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61960" y="15228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dal Timeline 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04320" y="182880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Mobilization                        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8000" y="2209680"/>
            <a:ext cx="38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ments/SOW/Procurement           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0720" y="3886200"/>
            <a:ext cx="38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Trials                                             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03240" y="2590920"/>
            <a:ext cx="382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ment                                          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5760" y="4267080"/>
            <a:ext cx="38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ition to Go-Live                      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5320" y="289548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                                         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5320" y="320040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ll                                               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9640" y="3581280"/>
            <a:ext cx="38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ion                                        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3040" y="990720"/>
            <a:ext cx="48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ritical P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uration (mo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5680" y="4648320"/>
            <a:ext cx="39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                                                          4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1960" y="15228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dal Timeline 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04320" y="182880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Mobilization                        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18000" y="2209680"/>
            <a:ext cx="38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ments/SOW/Procurement           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00720" y="3886200"/>
            <a:ext cx="38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Trials                                             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03240" y="2590920"/>
            <a:ext cx="382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ment                                          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05760" y="4267080"/>
            <a:ext cx="38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ition to Go-Live                      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5320" y="289548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                                         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5320" y="320040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ll                                               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9640" y="3581280"/>
            <a:ext cx="38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ion                                        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3040" y="990720"/>
            <a:ext cx="48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ritical P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uration (mo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599480" y="22096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040" y="2246400"/>
            <a:ext cx="1235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application work starts at the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5680" y="4648320"/>
            <a:ext cx="39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                                                          4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61960" y="15228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dal Timeline 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04320" y="182880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Mobilization                        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8000" y="2209680"/>
            <a:ext cx="38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ments/SOW/Procurement           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00720" y="3886200"/>
            <a:ext cx="38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Trials                                             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03240" y="2590920"/>
            <a:ext cx="382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ment                                          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05760" y="4267080"/>
            <a:ext cx="38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ition to Go-Live                      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5320" y="289548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                                            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5320" y="320040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ll                                               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9640" y="3581280"/>
            <a:ext cx="38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ion                                        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3040" y="990720"/>
            <a:ext cx="48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ritical P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uration (mo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64400" y="18399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Aug 1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3680" y="42670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Feb 1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599480" y="22096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040" y="2246400"/>
            <a:ext cx="1235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application work starts at the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5680" y="4648320"/>
            <a:ext cx="39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                                                          4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713720" y="4835520"/>
            <a:ext cx="9475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67640" y="4835520"/>
            <a:ext cx="946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05400" y="4835520"/>
            <a:ext cx="1362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4911840"/>
            <a:ext cx="2052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6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" y="4911840"/>
            <a:ext cx="2921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odest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713720" y="4567320"/>
            <a:ext cx="9475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67640" y="4567320"/>
            <a:ext cx="946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05400" y="4567320"/>
            <a:ext cx="1362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4567320"/>
            <a:ext cx="2052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4567320"/>
            <a:ext cx="29210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R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38920" y="4186080"/>
            <a:ext cx="947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00"/>
                </a:solidFill>
                <a:latin typeface="Arial"/>
                <a:ea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2840" y="4186080"/>
            <a:ext cx="946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00"/>
                </a:solidFill>
                <a:latin typeface="Arial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0960" y="4186080"/>
            <a:ext cx="1361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00"/>
                </a:solidFill>
                <a:latin typeface="Arial"/>
                <a:ea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78240" y="4186080"/>
            <a:ext cx="205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00"/>
                </a:solidFill>
                <a:latin typeface="Arial"/>
                <a:ea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186080"/>
            <a:ext cx="2921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00"/>
                </a:solidFill>
                <a:latin typeface="Arial"/>
                <a:ea typeface="Times New Roman"/>
              </a:rPr>
              <a:t>MOS (RT) – LM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38920" y="3821040"/>
            <a:ext cx="94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92840" y="3821040"/>
            <a:ext cx="9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0960" y="3821040"/>
            <a:ext cx="13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78240" y="3821040"/>
            <a:ext cx="205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work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821040"/>
            <a:ext cx="292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00"/>
                </a:solidFill>
                <a:latin typeface="Arial"/>
                <a:ea typeface="Times New Roman"/>
              </a:rPr>
              <a:t>MOS (DA) – LM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38920" y="3537000"/>
            <a:ext cx="947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00"/>
                </a:solidFill>
                <a:latin typeface="Arial"/>
                <a:ea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92840" y="3537000"/>
            <a:ext cx="946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00"/>
                </a:solidFill>
                <a:latin typeface="Arial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0960" y="3537000"/>
            <a:ext cx="1361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00"/>
                </a:solidFill>
                <a:latin typeface="Arial"/>
                <a:ea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78240" y="3537000"/>
            <a:ext cx="2052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00"/>
                </a:solidFill>
                <a:latin typeface="Arial"/>
                <a:ea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537000"/>
            <a:ext cx="2921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00"/>
                </a:solidFill>
                <a:latin typeface="Arial"/>
                <a:ea typeface="Times New Roman"/>
              </a:rPr>
              <a:t>MOS – SCU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38920" y="3214800"/>
            <a:ext cx="94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92840" y="3214800"/>
            <a:ext cx="94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0960" y="3214800"/>
            <a:ext cx="1361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78240" y="3214800"/>
            <a:ext cx="2052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214800"/>
            <a:ext cx="2921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ate Estim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38920" y="2901960"/>
            <a:ext cx="94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92840" y="2901960"/>
            <a:ext cx="946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0960" y="2901960"/>
            <a:ext cx="1361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78240" y="2901960"/>
            <a:ext cx="205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901960"/>
            <a:ext cx="2921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ower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38920" y="2598840"/>
            <a:ext cx="9478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2840" y="2598840"/>
            <a:ext cx="946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0960" y="2598840"/>
            <a:ext cx="13618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78240" y="2598840"/>
            <a:ext cx="2052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598840"/>
            <a:ext cx="292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GC (AG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38920" y="2324160"/>
            <a:ext cx="94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92840" y="2324160"/>
            <a:ext cx="94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0960" y="2324160"/>
            <a:ext cx="136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78240" y="2324160"/>
            <a:ext cx="20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324160"/>
            <a:ext cx="292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S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38920" y="2057400"/>
            <a:ext cx="947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92840" y="2057400"/>
            <a:ext cx="946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0960" y="2057400"/>
            <a:ext cx="1361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78240" y="2057400"/>
            <a:ext cx="2052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057400"/>
            <a:ext cx="2921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VS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38920" y="1449360"/>
            <a:ext cx="947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92840" y="1449360"/>
            <a:ext cx="946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0960" y="1449360"/>
            <a:ext cx="1361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78240" y="1449360"/>
            <a:ext cx="2052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5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449360"/>
            <a:ext cx="29210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utage Evalu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920" y="838080"/>
            <a:ext cx="947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t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92840" y="838080"/>
            <a:ext cx="9460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30960" y="838080"/>
            <a:ext cx="1361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sign/</a:t>
            </a:r>
            <a:br>
              <a:rPr sz="1100"/>
            </a:b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78240" y="838080"/>
            <a:ext cx="2052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ments/</a:t>
            </a:r>
            <a:br>
              <a:rPr sz="1100"/>
            </a:b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W/Procur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838080"/>
            <a:ext cx="29210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1640" y="510228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838080"/>
            <a:ext cx="0" cy="434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686800" y="838080"/>
            <a:ext cx="0" cy="434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5257800"/>
            <a:ext cx="2052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00"/>
                </a:solidFill>
                <a:latin typeface="Arial"/>
              </a:rPr>
              <a:t>TB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1640" y="5257800"/>
            <a:ext cx="2921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00"/>
                </a:solidFill>
                <a:latin typeface="Arial"/>
                <a:ea typeface="Times New Roman"/>
              </a:rPr>
              <a:t>Credit Moni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640" y="537228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1640" y="540720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1640" y="5638680"/>
            <a:ext cx="2921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Moni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1640" y="567684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38920" y="1752480"/>
            <a:ext cx="947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92840" y="1752480"/>
            <a:ext cx="946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0960" y="1752480"/>
            <a:ext cx="1361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78240" y="1752480"/>
            <a:ext cx="2052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752480"/>
            <a:ext cx="29210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eal Time Contingency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5638680"/>
            <a:ext cx="20527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61960" y="15228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dal Timeline 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363040" y="15228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RCOT Management 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334120" y="91404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5960" y="19810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19810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144792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Ahead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0040" y="2362320"/>
            <a:ext cx="13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age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08960" y="1463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 Tim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70180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l Time Contingency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13120" y="4149720"/>
            <a:ext cx="104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6600"/>
                </a:solidFill>
                <a:latin typeface="Arial"/>
              </a:rPr>
              <a:t>MOS – S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13280" y="4470480"/>
            <a:ext cx="11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6600"/>
                </a:solidFill>
                <a:latin typeface="Arial"/>
              </a:rPr>
              <a:t>MOS(RT) - L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11680" y="5149800"/>
            <a:ext cx="79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e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11480" y="5165640"/>
            <a:ext cx="79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e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12920" y="5562720"/>
            <a:ext cx="112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dit Moni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13120" y="5546880"/>
            <a:ext cx="112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dit Moni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5760" y="106668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78560" y="137160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7320" y="160020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40480" y="190512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2438280"/>
            <a:ext cx="152640" cy="2438640"/>
          </a:xfrm>
          <a:custGeom>
            <a:avLst/>
            <a:gdLst>
              <a:gd name="textAreaLeft" fmla="*/ 0 w 152640"/>
              <a:gd name="textAreaRight" fmla="*/ 55080 w 1526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1960" y="35053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502920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1600" y="5105520"/>
            <a:ext cx="21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rcial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548640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556272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13120" y="5927760"/>
            <a:ext cx="116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ket Moni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12920" y="5943600"/>
            <a:ext cx="116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ket Moni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94360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24840" y="594360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CT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3525000">
            <a:off x="6752880" y="104328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8640" y="243828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13840" y="4454640"/>
            <a:ext cx="119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6600"/>
                </a:solidFill>
                <a:latin typeface="Arial"/>
              </a:rPr>
              <a:t>MOS(DA) - L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0760" y="4064040"/>
            <a:ext cx="11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e Estim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1120" y="3200400"/>
            <a:ext cx="59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S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1120" y="3505320"/>
            <a:ext cx="5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1120" y="3759120"/>
            <a:ext cx="89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GC(AG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12760" y="4784760"/>
            <a:ext cx="6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12560" y="4800600"/>
            <a:ext cx="6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240" y="1660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12200" y="3759120"/>
            <a:ext cx="89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GC(AG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Management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nee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20968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 decision-making body that will provide service level requirements and timely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 level implementation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42670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AC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00:46:32Z</dcterms:created>
  <dc:creator>rgiuliani</dc:creator>
  <dc:description/>
  <dc:language>en-US</dc:language>
  <cp:lastModifiedBy>A. Boren</cp:lastModifiedBy>
  <dcterms:modified xsi:type="dcterms:W3CDTF">2005-08-05T13:56:00Z</dcterms:modified>
  <cp:revision>60</cp:revision>
  <dc:subject/>
  <dc:title>Slide 1</dc:title>
</cp:coreProperties>
</file>