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63B-2264-4C54-B1D9-2D3A6B01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809-3C3D-4C5A-BF9C-BE0393B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9AC-6741-4B88-81C0-B3F1850F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81D-3CFC-4D18-9DCC-4BDBEA34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E92-CCB2-4C33-93E4-EE3A6548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B77-0E76-4B5F-BC9F-D5D39CAE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335-0584-44A7-871A-3525E9CE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428-58BD-40DE-AB0B-4C49E337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C0C-B8B7-489B-A0D7-2A8144E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639-3E59-4048-8E94-3A4D7C39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B0E-AE2B-4AA7-9CCA-EF7590F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A23-32E6-4F4D-8564-C1A1168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F66-44F8-4B56-BBA6-A2F77A6BA62A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9EE-B9C7-46A4-B724-8D7E869011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- TNT Post Filing Activitie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5121360"/>
            <a:ext cx="43419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4, 2005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Bojorque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41440"/>
            <a:ext cx="799128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Formu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ound 2 review of Section 3 - Management Activities for the ERCOT System, and Section 5 -Transmission Security Analysis and Reliability Unit Commit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continue review of Section 4 – Day-Ahead Operations, Section 6 - Adjustment Period and Real-Time Operations, and Section 9 – Sett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ough first round is making the second round to proceed at a faster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completion in Aug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1FC-EFEA-402A-A6B3-387576D985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BF361-ACC3-4643-8DC9-9752A9AA36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Sub-Committe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d round 2 discussions of Section 1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ting Issue” voted on July 21, approved by a ballot vote of 90.3% in favor and 9.7% opposed.  Approved motion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 netting if first priority interest granted to ERCOT (with carve out for Co-ops or River Authorities); At market open: (1) Net benefit from estimated future value of CRRs, if allowed, will be allowed only for the current month and nearest succeeding month; (2)  All net liabilities for estimated future value of CRRs will be included in the calculation; (3) ERCOT to review after initial 6 months (evaluate estimated value vs. actual value) and quarterly thereaft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433-6DAF-4975-A250-B1EA876901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16CBF-2E53-4EC5-B314-2B070FF73A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ngle Contract issue voted on July 21, approved by a ballot vote of 100% in favor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CA7-A837-457B-B0DC-92F22BCF95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8A147-D35E-4799-9B1F-BA74BABD5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NT stakeholders prepared a draft plan and distributed if for com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quently, stakeholders requested that ERCOT draft a white paper considering comments received; this paper will be circulated on August 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RCOT draft of the Transition Plan will be reviewed on August 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completion is mid-Augu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EAF-79B1-4BC7-91F2-28CDEC83C8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408AC-734E-4140-B5A2-C07D9C3FA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41440"/>
            <a:ext cx="7920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ition Plan Strategy key characteristics: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olutionary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aptable to decisions from the PUCT, Board, TAC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roles for the structure of monitoring the Transition Planning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the roles for ERCOT and Market Participa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 a timelin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milestones and readin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t-over, Disaster Recovery, System Migration Strategies and Market compromi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BAE-C81A-4FD7-B037-FD9E52B387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4936B-A9EB-4E68-82A2-D5C6B8FCB4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ther “Punch-list” Item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 on the follow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Co-optim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Synchron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Independent Market Monito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65A-A8E0-419B-9AE9-B61213C836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382C5-F182-4A86-8FFB-432712B705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A. Boren</cp:lastModifiedBy>
  <dcterms:modified xsi:type="dcterms:W3CDTF">2005-08-01T13:05:25Z</dcterms:modified>
  <cp:revision>379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