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FC7-99EB-44A6-AAEF-D3333014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6EC-D9DB-49F3-9698-48A8B4E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36D-EDB4-41F6-AF7D-00D12BD8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3ED-6F1D-475B-BC6D-9A6FF370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98B-2DFB-4338-AFB3-C05E6D7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630-A2E4-4369-8FBE-B21B99C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4AB-F3B0-4048-BCD1-8AE239E6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350-CB05-41F7-836E-93D01749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F72-1E87-43E2-A68D-A5E3ECF2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DC4-0CCF-482A-B6DC-CB19D0CA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743-1012-4A3A-9F09-15DD1CD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574-A5DF-410B-9A6B-04DD9C5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D33D-572F-4194-A2E5-2C489A0F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4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FF3-C1A2-4525-95F1-C53A7BA06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, July 1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QSE in the ERCOT Region, AZOR Energy, LP, defaulted under its QSE Agreement with ERCOT, In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OR is also a REP representing approximately 500 ESI IDS and 5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(on approximately 90% of ESI IDs) from REP by 2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3DA-96C1-4FA9-BB0E-112E8D6CC9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1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provided POLRs additional customer information on remaining ESI 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nesday, July 2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% of Initiating transactions submitted by POL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sday, July 2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s begin switching away from defaulting REP as result of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day, July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switches submitted for trans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day, August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ESI ID scheduled to transition away from defaulting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292-71EA-4C8A-BF4F-CE5B057A39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00720"/>
            <a:ext cx="6477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238880" y="2438280"/>
            <a:ext cx="1524240" cy="1371600"/>
            <a:chOff x="7238880" y="2438280"/>
            <a:chExt cx="1524240" cy="1371600"/>
          </a:xfrm>
        </p:grpSpPr>
        <p:sp>
          <p:nvSpPr>
            <p:cNvPr id="68" name=""/>
            <p:cNvSpPr/>
            <p:nvPr/>
          </p:nvSpPr>
          <p:spPr>
            <a:xfrm>
              <a:off x="7238880" y="243828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t ESI ID scheduled to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924320" y="3200400"/>
              <a:ext cx="11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066680" y="4343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8769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66680" y="1447920"/>
            <a:ext cx="1981440" cy="2361960"/>
            <a:chOff x="1066680" y="1447920"/>
            <a:chExt cx="1981440" cy="2361960"/>
          </a:xfrm>
        </p:grpSpPr>
        <p:sp>
          <p:nvSpPr>
            <p:cNvPr id="77" name=""/>
            <p:cNvSpPr/>
            <p:nvPr/>
          </p:nvSpPr>
          <p:spPr>
            <a:xfrm>
              <a:off x="1066680" y="144792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begins daily checkpoints with impacted TDSPs, POLRs, &amp; P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143000" y="243828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7339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71800" y="3276720"/>
            <a:ext cx="2286000" cy="838080"/>
            <a:chOff x="2971800" y="3276720"/>
            <a:chExt cx="2286000" cy="838080"/>
          </a:xfrm>
        </p:grpSpPr>
        <p:sp>
          <p:nvSpPr>
            <p:cNvPr id="81" name=""/>
            <p:cNvSpPr/>
            <p:nvPr/>
          </p:nvSpPr>
          <p:spPr>
            <a:xfrm>
              <a:off x="2971800" y="32767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Business Day – 91% of Initiating Transactions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114800" y="3733920"/>
              <a:ext cx="76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47242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800600" y="2057400"/>
            <a:ext cx="1676520" cy="1980720"/>
            <a:chOff x="4800600" y="2057400"/>
            <a:chExt cx="1676520" cy="1980720"/>
          </a:xfrm>
        </p:grpSpPr>
        <p:sp>
          <p:nvSpPr>
            <p:cNvPr id="85" name=""/>
            <p:cNvSpPr/>
            <p:nvPr/>
          </p:nvSpPr>
          <p:spPr>
            <a:xfrm>
              <a:off x="4800600" y="2057400"/>
              <a:ext cx="167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I IDs begin switching away from defaulting 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105160" y="2819160"/>
              <a:ext cx="1522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62360" y="2971800"/>
            <a:ext cx="1752840" cy="990720"/>
            <a:chOff x="5562360" y="2971800"/>
            <a:chExt cx="1752840" cy="990720"/>
          </a:xfrm>
        </p:grpSpPr>
        <p:sp>
          <p:nvSpPr>
            <p:cNvPr id="89" name=""/>
            <p:cNvSpPr/>
            <p:nvPr/>
          </p:nvSpPr>
          <p:spPr>
            <a:xfrm>
              <a:off x="5867280" y="2971800"/>
              <a:ext cx="144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st switches submitted for tran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562360" y="3657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543800" y="4724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8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209680"/>
            <a:ext cx="1295280" cy="1676520"/>
            <a:chOff x="228600" y="2209680"/>
            <a:chExt cx="1295280" cy="1676520"/>
          </a:xfrm>
        </p:grpSpPr>
        <p:sp>
          <p:nvSpPr>
            <p:cNvPr id="93" name=""/>
            <p:cNvSpPr/>
            <p:nvPr/>
          </p:nvSpPr>
          <p:spPr>
            <a:xfrm>
              <a:off x="228600" y="220968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 defaults under Agreements with ERCO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320040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2438280"/>
            <a:ext cx="2514600" cy="1447920"/>
            <a:chOff x="1143000" y="2438280"/>
            <a:chExt cx="2514600" cy="1447920"/>
          </a:xfrm>
        </p:grpSpPr>
        <p:sp>
          <p:nvSpPr>
            <p:cNvPr id="96" name=""/>
            <p:cNvSpPr/>
            <p:nvPr/>
          </p:nvSpPr>
          <p:spPr>
            <a:xfrm>
              <a:off x="1752480" y="2438280"/>
              <a:ext cx="1905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RCOT provides ESI ID list and available customer info to POLRs &amp; TDSP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143000" y="327672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739-8320-4806-BA48-880E87B5E2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: Curr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Thursday, July 28,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% in scheduled status to switch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 % complete in transitioning away from defaul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-7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990-06C7-411F-8437-6D0E7192F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FA8-C155-4F40-BACF-B6C9CF305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A44-DB0C-4724-B5F3-B2EEE44F0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Mass Transition TF met Monday 7/11/05 – Tuesday 07/12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post-triggering ev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short and long-term recommendations for RMS to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reviewed the short and long-term recommend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vote conducted on short-term recommen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-term recommendation approved by 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s for further consid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short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196-0983-44F5-B709-B9EC58AAC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S Short-Term Recommen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ensures a maximum effective date for the transition (less than or equal to 11 Retail Business Days) within these guidelines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CC0-DFBA-49FB-B73F-C31AA6B7C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Item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rthe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hort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update of customer information using either csv or 814_PC (accomplish by September 1, 200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nded back to RMS TF to address concerns noted at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ustomer update maintenance through 814_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al/automated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Mass Meter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MS TF meeting – Tuesday 08/09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586-B989-4A6F-8D95-7D7319063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 call on Monday 7/1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pre-triggering ev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issues for discussion for 07/22/05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ings on Friday 07/22/05 and Thursday 07/28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rules for Emergency QSE desi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lement of load of a defaulting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point for mass transition of customers 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timelines surrounding a Market Participant defa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 by QSE to terminate relationship with 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for LSE to meet credit requirements or find another Q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line in Market Participant agreements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whether the scheduling rights of defaulting QSEs should be terminated or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116-F114-4FC6-992B-265625C44D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s of WMS TF Meet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PRRs to address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default situation where an LSE is no longer represented by a QSE, use of a virtual QSE for tracking and scheduling purposes of the LSE’s load at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ituation where a QSE defaults, LSEs are dropped to the Default QSE (16.2.12.2).  Propose providing LSEs the additional option of becoming an Emergency (EQ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clean-up and 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BBA-B213-4F56-9077-B7DB971F4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d - Creating PRRs to address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options regarding timelines for QSE terminating relationship with L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tend timeline for notification of a QSE to terminate relationship with LSE to 7 Business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, LSE must either name a new QSE or qualify as EQS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meet either, then LSE is in breech of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provided on afternoon of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and cure period begin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nd of cure period, LSE is assigned to a virtual QSE for tracking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intain current timeline of 5 Business Days for notification of a QSE to terminate relationship with L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timeline for LSE to name a new QSE or qualify as EQSE by noon on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siness 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as noted above.  However, liability is shif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A56-AD32-4A5E-89A8-08F4B64C7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ABB-BB0A-4C57-8CFF-A02737D5E2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8-23T18:53:47Z</cp:lastPrinted>
  <dcterms:modified xsi:type="dcterms:W3CDTF">2005-07-28T21:15:57Z</dcterms:modified>
  <cp:revision>602</cp:revision>
  <dc:subject/>
  <dc:title>PowerPoint Presentation</dc:title>
</cp:coreProperties>
</file>