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A175-EFD0-427B-88E3-BA23A4CA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C3E5-971D-4E6C-BCBD-29574A42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FF0A-912C-48BD-B981-BB5C95FE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C89F-BCB7-42E8-9A72-2B0D41DD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B308-D7AF-466E-9353-6D46F9B3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6DBA-7636-4C22-9249-83333B90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E313-A967-4867-8E3A-78B9EA32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F819-6B34-4A76-92A9-AC2348F3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8603-7124-426F-96BF-4DE0E7A2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0070-CC8A-4B3E-B494-A5D6A2C9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D0BD-B2D8-42C9-830D-F2071AFE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1CE9-B6E2-48EE-967D-7EA6366D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136D-B245-41AC-8573-6B8B6CB5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9FEB-553D-4B3A-8728-863E6630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CA0C-0BB6-49A8-A654-F04B73BF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A8E9-7E8C-491F-BFDA-95F23047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1544-40BC-4F18-88DD-3F0E4E38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7D01-7A6E-4232-97D5-D85C4AA2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608B-8E16-45B4-B7F7-E6012D6F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3372-3946-4A7D-BC46-6F522871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6D45-C0C9-4FFB-A8E7-9F15C2D6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6F7E-09FE-4074-8B5B-97790157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E828-93DB-4D77-85C2-0BD17A83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86DB-8B3F-4503-8AF7-57072DC5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BC93-A0FE-4B46-9CE3-42BB937DBC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91E5-FE31-477E-8C41-5ED7A87604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Reliability and Operations Subcommitte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 to t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RCOT Technical Advisory Committ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ugust 4, 20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AB04-6C27-426E-B0AB-176D1961C6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OGRR 166 – Double Circuit Contingenc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04760" y="16444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243828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434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3048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41148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46483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51814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57150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97480" y="2529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02280" y="25146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430800" y="24670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520" y="57913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2320" y="31240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3240" y="36576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4680" y="41911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1600" y="4724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2520" y="5257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45200" y="24670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57600" y="36576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57600" y="4191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576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576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57600" y="57913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576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220F-1DF3-4740-81F8-AF3E0A1193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OGRR 167 – LaaR Underfrequency Relay (UFR) Interruption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GRR submitted by Reliant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GRR adds LaaR interruption total time limit of 30 cycles including all relay and breaker interrup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: Clarification and consistency with language used for UFR trip time setting for firm lo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S recommended approval unanim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market segments were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ective September 1,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AFB0-3AF1-4732-9661-35C2D6CA47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OGRR 167 – LaaR Underfrequency Relay (UFR) Interruption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04760" y="16444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243828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434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3048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41148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46483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51814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57150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97480" y="2529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02280" y="25146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30800" y="24670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520" y="57913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2320" y="31240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3240" y="36576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4680" y="41911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1600" y="4724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2520" y="5257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45200" y="24670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76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576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57600" y="57913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576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57600" y="36576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4191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FAA3-6E08-4FFF-A538-58B74A1BBE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Recommended TAC A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ppr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CR  744 – Outage Scheduler View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GRR 163 – State Estimator Observability and Redundancy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GRR 166 – Double Circuit Contingen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GRR 167 – LaaR Underfrequency Relay Interruption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D014-3800-4A44-AABC-73DBC8AB35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ROS Upd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R 586 – SCE Performance and SCE Cost Reallocation - ROS evaluated aspects of this PRR and made a report to P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S reviewed Transmission Services presentation on Stability Load Monitoring and Model Development project and endorsed/supports this effort.  ROS encouraged transmission owners to get involved in the project to improve stability modeling and support reliability stud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S will review ERCOT’s draft SPS 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COT is drafting a OGRR to expedite communications with TDSP/QSE Backup Ce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B7FD-B7A8-4362-88BB-ADDA43772D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ROS Summ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SCR for Appr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OGRRs for Appr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S up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A857-C073-4361-A595-13461DDAA0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ROS Recommend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AF19-1A60-4C78-A97D-B9049C6BB6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SCR 744 – Outage Scheduler View Only Ac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R submitted by Reliant Energ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R would add view only access to authority options for the User Security Administrator (US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ility to provide Outage Schedule information to a larger group of user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: USA will have the ability to assign several types of Outage Scheduler access ro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7BDC-8847-4D9E-A340-45ACE67838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SCR 744 – Outage Scheduler View Only Ac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S recommended approval unanimou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market segments were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fective: Upon System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ority and Rank: 1.1 priority, 33 r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roved SCR would be included in the planned Digital Certificate Enhancement progr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5CC1-E8E1-4ADB-B735-F1C9011EFE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SCR 744 – Outage Scheduler View Only Ac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04760" y="16444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43828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5268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3048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41148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6483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51814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57150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97480" y="2529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02280" y="25146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30800" y="24670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5520" y="57913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2320" y="31240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3240" y="36576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4680" y="41911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1600" y="4724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2520" y="5257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5200" y="24670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36576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57600" y="57913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3124080"/>
            <a:ext cx="38088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419112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4120" y="31240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00K - $500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4120" y="41911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or configuration chan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4724280"/>
            <a:ext cx="38088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4120" y="4724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itional administr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5B2-D3B7-4B9A-9560-066D0D9E6B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OGRR 163 – State Estimator Observability and Redundancy  Requir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GRR result of a TAC assignment to 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ludes language from TAC approved ERCOT white paper (12-04-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nefit: Formalizes requirements for telemetry requests and the options available to QSEs/TDSPs upon receiving such a request resulting in a more accurate network mod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nded by ERCOT, TXUED, &amp; OGRT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S recommended approval unanimous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market segments were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ive upon system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9488-6EB6-4895-A2CA-E3B3FA8FF2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OGRR 163 – State Estimator Observability and Redundancy  Requir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04760" y="16444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243828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3048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41148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46483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51814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57150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97480" y="2529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02280" y="25146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30800" y="24670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520" y="57913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2320" y="31240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3240" y="36576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4680" y="41911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1600" y="4724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2520" y="5257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45200" y="24670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4724280"/>
            <a:ext cx="38088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57913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57800" y="47386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s process for new 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57600" y="36576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4191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525780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4120" y="52578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Model Accura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5A3D-13F6-4DAF-A7EE-C579BB3671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OGRR 166 – Double Circuit Contingenc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GRR submitted by TXU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GGR allows ERCOT to continue counting double circuits as a single contingency when weather or studies dict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: Improves clarity and accuracy of the Operating Gu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S recommended approval unanim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market segments were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ective September 1,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0DF8-A026-4D65-984B-4FEFF692E6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4:41:47Z</dcterms:created>
  <dc:creator>Michael Oldak</dc:creator>
  <dc:description/>
  <dc:language>en-US</dc:language>
  <cp:lastModifiedBy>A. Boren</cp:lastModifiedBy>
  <dcterms:modified xsi:type="dcterms:W3CDTF">2005-08-02T16:34:18Z</dcterms:modified>
  <cp:revision>71</cp:revision>
  <dc:subject/>
  <dc:title>Electricity Committ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E85B5003D51B714A8A6436DB6BD21B1D0700F69D146182963C4BBADCC8C900482FB200000012F8A40000F69D146182963C4BBADCC8C900482FB20000013FDEB70000</vt:lpwstr>
  </property>
  <property fmtid="{D5CDD505-2E9C-101B-9397-08002B2CF9AE}" pid="3" name="_NewReviewCycle">
    <vt:lpwstr/>
  </property>
  <property fmtid="{D5CDD505-2E9C-101B-9397-08002B2CF9AE}" pid="4" name="_ReviewCycleID">
    <vt:r8>1576423983</vt:r8>
  </property>
  <property fmtid="{D5CDD505-2E9C-101B-9397-08002B2CF9AE}" pid="5" name="_ReviewingToolsShownOnce">
    <vt:lpwstr/>
  </property>
  <property fmtid="{D5CDD505-2E9C-101B-9397-08002B2CF9AE}" pid="6" name="_TentativeReviewCycleID">
    <vt:r8>1576423983</vt:r8>
  </property>
</Properties>
</file>