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4226C-DF9A-410D-A571-E6713485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CB3D-6C25-4D1B-9412-89CCE03A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54886-135B-46E2-99D1-461EE896D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D4482-BD7D-4663-8065-FE252B557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E3331-97CF-48BF-9317-5BFCB3328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ABED-3F21-4ADA-9179-EC444D6B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D8092-E03E-4A88-8FA4-EDAF9F76B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F894D-062D-4B7C-A5D8-D7F9DC6D2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8D2F-0A66-45BA-BBF6-0FF17416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D5F3A-87E7-44B4-9A37-6005E3E9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770D-F596-4FDB-9E70-918E1B24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655D-0E4B-4F9B-AB1E-6426A17F3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CF81-7D42-4637-B4F6-3043FC48B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August 4, 2005</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endParaRPr b="0" lang="en-US" sz="2000" spc="-1" strike="noStrike">
              <a:solidFill>
                <a:srgbClr val="000000"/>
              </a:solidFill>
              <a:latin typeface="Arial"/>
            </a:endParaRPr>
          </a:p>
        </p:txBody>
      </p:sp>
      <p:graphicFrame>
        <p:nvGraphicFramePr>
          <p:cNvPr id="44" name=""/>
          <p:cNvGraphicFramePr/>
          <p:nvPr/>
        </p:nvGraphicFramePr>
        <p:xfrm>
          <a:off x="457200" y="685800"/>
          <a:ext cx="8229600" cy="5497560"/>
        </p:xfrm>
        <a:graphic>
          <a:graphicData uri="http://schemas.openxmlformats.org/drawingml/2006/table">
            <a:tbl>
              <a:tblPr/>
              <a:tblGrid>
                <a:gridCol w="3352680"/>
                <a:gridCol w="1143000"/>
                <a:gridCol w="3733920"/>
              </a:tblGrid>
              <a:tr h="45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7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07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457200" y="1219320"/>
          <a:ext cx="8229600" cy="5376600"/>
        </p:xfrm>
        <a:graphic>
          <a:graphicData uri="http://schemas.openxmlformats.org/drawingml/2006/table">
            <a:tbl>
              <a:tblPr/>
              <a:tblGrid>
                <a:gridCol w="3276720"/>
                <a:gridCol w="1295280"/>
                <a:gridCol w="3657600"/>
              </a:tblGrid>
              <a:tr h="4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8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on 7/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8" name=""/>
          <p:cNvGraphicFramePr/>
          <p:nvPr/>
        </p:nvGraphicFramePr>
        <p:xfrm>
          <a:off x="457200" y="1282680"/>
          <a:ext cx="8229600" cy="3137040"/>
        </p:xfrm>
        <a:graphic>
          <a:graphicData uri="http://schemas.openxmlformats.org/drawingml/2006/table">
            <a:tbl>
              <a:tblPr/>
              <a:tblGrid>
                <a:gridCol w="2743200"/>
                <a:gridCol w="1295280"/>
                <a:gridCol w="41911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endParaRPr b="0" lang="en-US" sz="2000" spc="-1" strike="noStrike">
              <a:solidFill>
                <a:srgbClr val="000000"/>
              </a:solidFill>
              <a:latin typeface="Arial"/>
            </a:endParaRPr>
          </a:p>
        </p:txBody>
      </p:sp>
      <p:graphicFrame>
        <p:nvGraphicFramePr>
          <p:cNvPr id="50" name=""/>
          <p:cNvGraphicFramePr/>
          <p:nvPr/>
        </p:nvGraphicFramePr>
        <p:xfrm>
          <a:off x="228600" y="914400"/>
          <a:ext cx="8686800" cy="5719680"/>
        </p:xfrm>
        <a:graphic>
          <a:graphicData uri="http://schemas.openxmlformats.org/drawingml/2006/table">
            <a:tbl>
              <a:tblPr/>
              <a:tblGrid>
                <a:gridCol w="3505320"/>
                <a:gridCol w="1447560"/>
                <a:gridCol w="37339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6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ed by TAC on 7/21/0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r>
                        <a:rPr b="1" lang="en-US" sz="1800" spc="-1" strike="noStrike">
                          <a:solidFill>
                            <a:srgbClr val="cc0000"/>
                          </a:solidFill>
                          <a:latin typeface="Arial"/>
                        </a:rPr>
                        <a: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Board consideration on 9/20/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2" name=""/>
          <p:cNvGraphicFramePr/>
          <p:nvPr/>
        </p:nvGraphicFramePr>
        <p:xfrm>
          <a:off x="152280" y="838080"/>
          <a:ext cx="8839440" cy="5105520"/>
        </p:xfrm>
        <a:graphic>
          <a:graphicData uri="http://schemas.openxmlformats.org/drawingml/2006/table">
            <a:tbl>
              <a:tblPr/>
              <a:tblGrid>
                <a:gridCol w="3733920"/>
                <a:gridCol w="1143000"/>
                <a:gridCol w="3962520"/>
              </a:tblGrid>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7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Board consideration on 9/20/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by BOD on 4/19/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implementation effective 5/1/05.  Full implementation and enforcement effective upon system imple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4" name=""/>
          <p:cNvGraphicFramePr/>
          <p:nvPr/>
        </p:nvGraphicFramePr>
        <p:xfrm>
          <a:off x="228600" y="685800"/>
          <a:ext cx="8686800" cy="554832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7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7/21/05.  PRR is remanded the PRR to ROS and WM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6" name=""/>
          <p:cNvGraphicFramePr/>
          <p:nvPr/>
        </p:nvGraphicFramePr>
        <p:xfrm>
          <a:off x="152280" y="762120"/>
          <a:ext cx="8839440" cy="5298840"/>
        </p:xfrm>
        <a:graphic>
          <a:graphicData uri="http://schemas.openxmlformats.org/drawingml/2006/table">
            <a:tbl>
              <a:tblPr/>
              <a:tblGrid>
                <a:gridCol w="2514600"/>
                <a:gridCol w="1219320"/>
                <a:gridCol w="5105520"/>
              </a:tblGrid>
              <a:tr h="379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2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5/12/05, ROS voted to reject this OG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9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tabled at OWG pending resolution of PRR 590.</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Board consideration on 8/16/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58"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5 and 12 delayed pending Commission decision regarding future market desig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1, 2, 3, 4, 6, 7, 10, 12, 13 comple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8, 9, 11, and 14 in progr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port will be posted the week of the PUCT Open Meeting (8/15/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Nieves Lopez </cp:lastModifiedBy>
  <dcterms:modified xsi:type="dcterms:W3CDTF">2005-08-04T17:11:40Z</dcterms:modified>
  <cp:revision>11</cp:revision>
  <dc:subject/>
  <dc:title>TAC Potomac Recommendation Monthly Update July 7, 2005 </dc:title>
</cp:coreProperties>
</file>