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9A62-0E25-4CA5-B4F3-DB3835084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258-D9EA-4761-9E2F-0280A7A1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753-E5B8-4C65-97A8-16C4D570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71A7-77D3-4BFA-B254-3892EA72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48E-F488-4879-8629-C704E802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046-E69A-4EF9-8D37-FC68DDFD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13B-C770-486E-BA27-3C0EB3E3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67C4-0636-41D3-9D8C-0217C5D8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F7E-AB91-46D0-B435-77F82BA1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9F67-343C-4450-BFBB-6CF0749B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466-F217-4B20-99A5-A5065A33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CB4-1B17-4F27-89B3-9E4DA868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FDE-1139-449B-AB28-7B9EEA8A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AB6E-C805-471A-B1EE-1B55286E1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ugust 4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8E35-9C73-40BE-A00B-5AA1FEF30D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66680"/>
            <a:ext cx="838188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Discussion around the funding for Data Extracts and Reports being defined at DEW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COPS  agreed to use the TAC Procedures as written and remove from the COPS Procedures all   duplicate language.  Approved Unanimousl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Worked with members of TNT to finalize Day Ahead Market Settlement Timeline languag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Will continue to discuss language around the uplift of any defaults next mon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D0D7-59A8-4DB5-A94D-B0D188AE4A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66680"/>
            <a:ext cx="8381880" cy="30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ERCOT reported that ERCOT.com re-write (including a search engine) is expected to go live in early Nov – this implementation will run in parallel with the current application for 60-90 day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Wish to express our thanks to those members of  TNT who agreed to make presentations for training on August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628-A85C-474F-8B26-2D4954FEE7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A. Boren</cp:lastModifiedBy>
  <dcterms:modified xsi:type="dcterms:W3CDTF">2005-07-28T20:16:30Z</dcterms:modified>
  <cp:revision>136</cp:revision>
  <dc:subject/>
  <dc:title>Point-to-Point</dc:title>
</cp:coreProperties>
</file>