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279-D2B0-4A9C-9333-C8B9CC06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473-BB01-4EC6-96D9-20F2982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9A7-67CA-4275-A6A4-A9481E44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9F1-78A9-4A42-9342-3F6318C4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6F0-2772-4BD3-8B11-325E8DD9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098-B7E1-406E-9903-CABBCE4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498-561F-4148-B4C2-EB669105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EB3-AF92-471E-95E5-64B95F97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48D-3677-4BF9-9962-ADA71CD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2DF-6177-430A-996F-1A986CD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946-6BBC-4560-8ED7-822A8B9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9D6-92FE-41D9-8E28-4D62E38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527-A18F-4BAE-8D60-DC5B18D5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nd implement a website layout that enables users to find key information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028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in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ed on June 1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d and implemented Serena’s CM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training on Serena’s CM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work on re-designing ERCOT’s public website and migrating documents using the CMS too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d install Google Search Ap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ork on re-designing ERCOT’s publ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ork on migrating documents to ERCOT’s re-designed site by using Serena’s CMS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meeting with MPs to illustrate project progr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440" y="68580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/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7-11T16:25:06Z</dcterms:modified>
  <cp:revision>161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2-38D4-A149-08521C1C1544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