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EB3-738E-46A5-B129-A7FE5D6C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B22-3154-4E03-BD2E-D1ED6292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15D-0EEA-45DA-9B5D-C898BCDF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A18-6124-4211-A033-69ED6328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223-F23D-4BB3-8420-0A4EF87D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035-4A42-4AF2-9484-50D50AB2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170-A866-4F47-AB28-86075C2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FCC-5C22-4CB6-A4FB-02BBBA2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C33-1B3F-4196-A897-3CC4B3E3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A54-F992-4461-978E-A9E4DB1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814-15E2-4D7A-9595-521C879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D37-EA74-4ADC-A1A1-4F2F048A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12CB-E184-4F99-B730-4E66CF9B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Augus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Webex demonstrations from three vendors from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ed the list to two vendors: Siebel and Seren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project update to TT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proof of concept July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July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product selection (July 19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conceptual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detailed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election taking longer than originally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product selection is complete, the project schedule will be re-evaluated.  The revised schedule will be published at the next RMS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720" y="711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Issues/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December ’05 – January ’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’05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8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7-11T15:03:52Z</dcterms:modified>
  <cp:revision>173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