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8173-CEFE-4517-94C9-18E13098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96DB-ABA2-43C0-BF70-F08C6369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AA4B-7AF2-41BF-A4E2-FE27CAA94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6092-E684-4BB6-AB97-32081246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EB58-9906-4AA8-9883-38D6BB12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8E31-848A-498B-8299-864464F9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64C0-260E-41AC-85DE-85786F4F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1378-6544-4317-8BBD-B97FA6B8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A45A-6C65-4BCD-A069-7C950A91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FBB1-E5C6-4960-B1AD-9C23430B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3E71-262E-40BD-AC74-6FFFB052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5798-CC67-4A60-96C6-B8CE64B3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F3FA-7E76-4A30-90EE-C366BFAF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D862-6F53-4A2B-A035-A122FF0C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5842-8CC4-4882-B680-76128648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C8B6-3D0D-43D5-A9A5-DBD7D800F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7F54-C8DD-4DE3-B4E1-7D85E779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2B0A-A7CD-4A77-907F-BB8B3A2F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41B9-DE1F-4CBF-A1FE-D7BF5B46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1EA2-D29F-4279-A467-E497908D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14C3-33D0-4432-933A-8572D62B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29DB-B26C-4058-BB12-37385274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D28C-3FF0-45E2-B343-C2A2330D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D2B6-AFE6-4DAE-9B8F-D5AE125F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6C9E-60CC-4155-8063-366CE0BAAD2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3D6B-EE23-45FA-B043-E60FC162873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114264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Dynamic Extracts</a:t>
            </a:r>
            <a:br>
              <a:rPr sz="40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sage and Future Direction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0" y="5257800"/>
            <a:ext cx="434340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Craig Ryan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(cryan@ercot.com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RCOT Enterprise Information Services, B.I. Architec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Dynamic Extracts – Usage Statistics, July ‘04 – July ‘05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80880" y="2438280"/>
            <a:ext cx="4133880" cy="3934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724280" y="2438280"/>
            <a:ext cx="4143600" cy="39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  <a:ea typeface="Times New Roman"/>
              </a:rPr>
              <a:t>Enterprise Information Services Architecture - Overview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ynamic Extracts slated for decommissioning prior to the move into the new ERCOT database environment (~3</a:t>
            </a:r>
            <a:r>
              <a:rPr b="0" lang="en-US" sz="1600" spc="-1" strike="noStrike" baseline="30000">
                <a:solidFill>
                  <a:srgbClr val="003366"/>
                </a:solidFill>
                <a:latin typeface="Arial"/>
              </a:rPr>
              <a:t>rd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Quarter ’05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quests for “Dynamic Extract data” will be handled on a case-by-case basi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Beginning with the implementation of SCR 740, ERCOT is moving to more modular API/web service based componen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rvices are small components that allow access to a specific data item or are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xamples: Login to the application security layer, obtain ESIID informat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rvices utilize our Business Intelligence (BI) founda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rvices will be secured (Portal, Database, Application Data), and expandab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1523880" y="4819680"/>
            <a:ext cx="3886200" cy="1942920"/>
            <a:chOff x="1523880" y="4819680"/>
            <a:chExt cx="3886200" cy="1942920"/>
          </a:xfrm>
        </p:grpSpPr>
        <p:sp>
          <p:nvSpPr>
            <p:cNvPr id="105" name=""/>
            <p:cNvSpPr/>
            <p:nvPr/>
          </p:nvSpPr>
          <p:spPr>
            <a:xfrm>
              <a:off x="1523880" y="6076800"/>
              <a:ext cx="799920" cy="228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Tahoma"/>
                </a:rPr>
                <a:t>Service A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23880" y="5734080"/>
              <a:ext cx="799920" cy="2282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Tahoma"/>
                </a:rPr>
                <a:t>ESIID Info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23880" y="5391000"/>
              <a:ext cx="799920" cy="2282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Tahoma"/>
                </a:rPr>
                <a:t>Login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23880" y="6419520"/>
              <a:ext cx="799920" cy="228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Tahoma"/>
                </a:rPr>
                <a:t>Service B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66880" y="4819680"/>
              <a:ext cx="2743200" cy="194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Tahoma"/>
                </a:rPr>
                <a:t>Database &amp; Application Security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23800" y="5505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23800" y="5848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23800" y="6191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23800" y="6534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81000" y="5047920"/>
              <a:ext cx="799920" cy="1600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Tahoma"/>
                </a:rPr>
                <a:t>Business Intelligence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95400" y="5047920"/>
              <a:ext cx="1600200" cy="457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Tahoma"/>
                </a:rPr>
                <a:t>Replicated Source System (RSS)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95400" y="5619600"/>
              <a:ext cx="1600200" cy="457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Tahoma"/>
                </a:rPr>
                <a:t>Operational Data Store (ODS)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95400" y="6191280"/>
              <a:ext cx="160020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Tahoma"/>
                </a:rPr>
                <a:t>Conformed Data Warehouse (CDW)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019920" y="4905360"/>
            <a:ext cx="1485720" cy="1714680"/>
            <a:chOff x="6019920" y="4905360"/>
            <a:chExt cx="1485720" cy="1714680"/>
          </a:xfrm>
        </p:grpSpPr>
        <p:sp>
          <p:nvSpPr>
            <p:cNvPr id="119" name=""/>
            <p:cNvSpPr/>
            <p:nvPr/>
          </p:nvSpPr>
          <p:spPr>
            <a:xfrm>
              <a:off x="6019920" y="4905360"/>
              <a:ext cx="1485720" cy="171468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ahoma"/>
                </a:rPr>
                <a:t>Business Intelligence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19920" y="5248080"/>
              <a:ext cx="14857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Tahoma"/>
                </a:rPr>
                <a:t>View 1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19920" y="5477040"/>
              <a:ext cx="1485720" cy="2282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Tahoma"/>
                </a:rPr>
                <a:t>View 2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19920" y="5705280"/>
              <a:ext cx="1485720" cy="228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Tahoma"/>
                </a:rPr>
                <a:t>View 3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19920" y="5934240"/>
              <a:ext cx="1485720" cy="228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Tahoma"/>
                </a:rPr>
                <a:t>View 4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19920" y="6162840"/>
              <a:ext cx="1485720" cy="22860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View 5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19920" y="6391440"/>
              <a:ext cx="1485720" cy="2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3366"/>
                  </a:solidFill>
                  <a:latin typeface="Tahoma"/>
                </a:rPr>
                <a:t>View 1</a:t>
              </a:r>
              <a:endParaRPr b="0" lang="en-US" sz="9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19920" y="6391440"/>
              <a:ext cx="1485720" cy="2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Tahoma"/>
                </a:rPr>
                <a:t>View 6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  <a:ea typeface="Times New Roman"/>
              </a:rPr>
              <a:t>Enterprise Information Services Architecture – Technical Overview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62120" y="2306520"/>
            <a:ext cx="74674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  <a:ea typeface="Times New Roman"/>
              </a:rPr>
              <a:t>New Business Intelligence Layer Interface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676520" y="2362320"/>
            <a:ext cx="4201920" cy="33242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943440" y="3759120"/>
            <a:ext cx="3981240" cy="28702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6045120" y="2514600"/>
            <a:ext cx="17146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B.I. tool allows “drilling-thru”* to lower levels of granularit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5832360"/>
            <a:ext cx="22669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* Extremely efficient for quickly </a:t>
            </a:r>
            <a:r>
              <a:rPr b="0" i="1" lang="en-US" sz="1200" spc="-1" strike="noStrike">
                <a:solidFill>
                  <a:srgbClr val="006666"/>
                </a:solidFill>
                <a:latin typeface="Arial"/>
              </a:rPr>
              <a:t>&amp; visually</a:t>
            </a: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 going from “10,000 foot” view to “extreme close-up”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3505320"/>
            <a:ext cx="761760" cy="106668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  <a:ea typeface="Times New Roman"/>
              </a:rPr>
              <a:t>New Business Intelligence Layer Interface (cont.)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057400" y="2514600"/>
            <a:ext cx="5791320" cy="39574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809880" y="3809880"/>
            <a:ext cx="2835360" cy="218772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Open Discussion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ank you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Questions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mments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30T20:23:20Z</dcterms:created>
  <dc:creator>Craig Ryan / Ray Chase</dc:creator>
  <dc:description/>
  <dc:language>en-US</dc:language>
  <cp:lastModifiedBy>jashbaugh</cp:lastModifiedBy>
  <dcterms:modified xsi:type="dcterms:W3CDTF">2005-07-29T20:48:40Z</dcterms:modified>
  <cp:revision>71</cp:revision>
  <dc:subject>DEWG</dc:subject>
  <dc:title>Dynamic Extracts - Usage and Future Direction</dc:title>
</cp:coreProperties>
</file>