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CB8B-3038-4220-A369-5A24D1B4F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F44-C725-4E72-894F-9060E7A9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3ECF-3EB2-4210-8458-F19D8D561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DEA-9C0D-4AC2-A72C-1475BE5C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856-6536-4E9E-8B0D-006BFF635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6448-24CC-4C6D-9AAD-D07940A8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7FA9-057E-42C1-B3B8-FD2528E4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CAA-FB32-428C-80B4-ACABB83F4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D87-83D5-490D-AE36-CA3D83BD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6198-A992-430D-8D3E-93653925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004F-D22E-46F9-848D-9B73CC83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89A7-F795-499D-B48F-C528465F4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0BF8-7EEC-4786-811C-3E8D31D70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4855-2583-4860-9AFA-B179C147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9C92-0D31-4E5D-9607-11EFEF4E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2007-C82C-4247-9644-66A03D563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5FC3-0AC9-40C2-A367-9C742911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CC0-30AE-4118-8181-9E8DB49F1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FF97-6A7E-4187-BBAB-5C3D4038F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B96B-C9E5-4E40-80C2-60F00D7C9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60D9-0326-4D75-A959-A351A88B2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E68-2062-4DCB-BBDA-A5633304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4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40042_06 Lodestar Batch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, Generation, Settlements &amp; Billing, Settlement Input Data and Shadow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Requirements changes completed 06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fining business requirements to meet the needs of providing complete, approved batch of trade dates on a daily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e extract timelines into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resource management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nitial and daily extracts logic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Settlement Input Data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development the timing logic for when to run and what timestamp data range to include in each extract – to be implemented to production by 09/0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timing logic trig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0F62-1B2F-4F07-A3C5-52EC25BA5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433B-6201-4910-9C7A-9D05A3491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 (given by S. Eg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Enhancements to SCR 727 (SCR 740 Web Service for ESII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- Lodestar Batch Extr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E2DB-9DC6-4984-8A91-DDFFD904C7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0280" y="15238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scheduled for 1st Qtr. 2006 – Market Decision for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d Webex demonstrations from three vendors from June 13th - 2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rrowed the list to two vendors: Siebel and Serena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project update to T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d proof of concept July 5th – 8th and July 12th – 15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selection taking longer than originally 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product selection is complete, the project schedule will be re-evaluated.  The revised schedule will be published at the next RMS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product selection (July 19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conceptu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detai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BC71-B674-4D48-A743-9D1E2E12E8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design for phase 1 (Business Intellig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analytical design for phase 2 (Services – archite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date: 0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for phase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developing test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108C-5941-43F9-A8EE-B074DE66D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295280"/>
            <a:ext cx="876312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 ERCOT Projects to move Lodestar Extracts to 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27 ESI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 Meter Data Extract aka 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s &amp; Billing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Input Data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Reference Data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 Pricing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implement all Lodestar Extracts out of the ODS environment by the end of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8B74-1D5E-4313-BF9C-ACD7F849E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295280"/>
            <a:ext cx="876312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d Lodestar Extracts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mpact to dispute timeline as the current extra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mpact to dispute timeline for trade dates with backouts/re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l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extracts posted every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ant with exis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s include complete, approved trade date data that correspond to Settle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postings for SCR 727 and RID extracts to Load, Generation, and Settlements &amp; Billing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EE00-E209-4429-89CC-A00F405CA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 727 ESIID Extract, Public Referenc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market level data extract called Public Reference Data Extract to include all non-interval market data provided in RID, SCR 727, Load, Generation, and Settlements &amp; Billing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rs are unit testing their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development the timing logic for when to run and what timestamp data range to include in each extract – to be implemented to production by 09/0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market participants that are MREs, but not the TDSPs of an ESIID receive a separate MRE extract. With the move to the ODS, the MRE and TDSP extracts be merged to provide one extract file per DUNs number. ERCOT received 6 responses from TDSP/MREs in agreement with the proposed change sent to DEWG on 06/29/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PTEST and UAT on SCR 727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timing logic trig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F982-71C4-4101-8E98-E4DCF5733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026 EPS Meter Data Extract/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ng development the timing logic for when to run and what timestamp data range to include in each extract – to be implemented to production by 09/0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iming logic 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code for I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evelopment of ITEST test plan for technical integration testing and U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48EB-2107-494F-B180-0413F3596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7-13T20:05:06Z</dcterms:modified>
  <cp:revision>280</cp:revision>
  <dc:subject/>
  <dc:title>Slide 1</dc:title>
</cp:coreProperties>
</file>