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E72B-A3C3-4807-8DC5-CADB4625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354E-1B7E-43A3-A419-3FE6CDE9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ECBD-C235-40E5-BCEB-807290DC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5F1D-2742-4E60-A212-666B055ED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B2C1-AA3B-4E27-837B-7870DD2F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17E2-2102-47CB-B81E-E526D663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6167-599A-401B-808D-84F9A212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BE1A-466B-4FE0-81C6-3245FA8B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0F5F-9031-418F-BEB0-083F76E5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FF3B-C754-499E-A364-A2A870F0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68EE-F9B1-42C7-A631-DDF41B7C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6488-27B4-4D45-835B-2F2B4CE2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3F89-BC15-4076-880A-ED13EF249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S Communication Updat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all for month of Ju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ommittee update on Market Email Notification Ac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S Market Guide Direction &amp;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Availability (List Ser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/ Procedure Doc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areas of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generated reports based on MPs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Outstanding disp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meeting scheduled for mid-August (Friday,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21:01:41Z</dcterms:created>
  <dc:creator>Judy Briscoe</dc:creator>
  <dc:description/>
  <dc:language>en-US</dc:language>
  <cp:lastModifiedBy>A. Boren</cp:lastModifiedBy>
  <dcterms:modified xsi:type="dcterms:W3CDTF">2005-07-19T21:32:23Z</dcterms:modified>
  <cp:revision>3</cp:revision>
  <dc:subject/>
  <dc:title>Market Email Notifications </dc:title>
</cp:coreProperties>
</file>