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065B-046E-48E5-A06E-ACBFAB3F3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BB39-7FAD-41F6-A2C1-43BA34DDA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DE7C-4211-4B47-B07C-AE52F4D7D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76D9-FFA8-4652-9425-4A493DA4F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B3AC-F56D-4123-A73E-1AB5122B3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CB45-BEF3-4C34-BD36-1DEFDDFA2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AFE2-186E-4C85-977A-C9FC46686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8906-8002-4593-A45B-23D5C36CD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DBB6-2F3E-4557-8195-244356094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CD73-22F9-481F-B901-5CE15BB63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9266-E1AA-4F96-BF36-9B36BF62F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26B2-E3E8-43C2-B008-19603FB24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8BAA-B231-4F55-827C-B2E1005E2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P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1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Prioritization 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and PPL 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010F-9D46-4A4B-B5E6-B0D0A1F048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ization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S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oritization meeting - 6/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ed merged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ked questions in preparation for TAC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0">
              <a:spcBef>
                <a:spcPts val="400"/>
              </a:spcBef>
              <a:buNone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C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iewed merged list - 7/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ed market prior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ked PRS to enhance understanding of ERCOT i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descrip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t benefit driv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tial review with Finance and Audit – 7/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llow up PRS prioritization review - 7/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tial presentation to the Board of Directors – 8/1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4114-7679-4ADA-9D44-8A8F0479B7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and PPL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ly PPL posted to ERCOT.com on 7/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orts underway to review project list for candidates to accelerate into 2005 (based on resource availabil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gust PPL will reflect this ac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ly ranked 2006 projects being conside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upgrades (MV90, Maestro, OSI P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s planned for late 2005 are initi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hance ESI-ID Lookup Func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PRR31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tential Load Los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CR73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lement Mismatched Inter-QSE Schedu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PRR54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743200"/>
                <a:tab algn="l" pos="3772080"/>
                <a:tab algn="l" pos="594360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row diagrams posted to ERCOT.com (updated quarter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2EBF-568F-40AD-B757-41AB1DDECA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forget the 7/28 prioritization review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60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EE14-3872-4686-AC9C-FDCA9F1721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5-07-21T14:18:13Z</dcterms:modified>
  <cp:revision>102</cp:revision>
  <dc:subject/>
  <dc:title>Slide 1</dc:title>
</cp:coreProperties>
</file>