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767-461E-4E6F-9D0F-F08406FC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94A-2FFC-44BF-8559-6935080D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4AB-560B-49ED-A034-F90289CC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67F-3E8B-470A-8DD7-2737813A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E32F-9075-4596-8079-C41880C5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5C3C-E329-4547-AD89-B2BB8E83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E1BF-3BF7-40D5-BD87-1517E909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964E-A71F-44FF-AF72-4BD6BA87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9082-FFAD-472E-AA68-3F1FE8DC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F316-9C2B-466D-807D-FC29B2D7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B4C6-6CA8-4567-A784-763FFBF7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8E3-5CEA-4154-9271-9CE132CD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BD76-F1B4-4596-BA61-E2054FA5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C40A-DB5B-4AE8-883A-23DF75F0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CF36-90C6-4594-8979-A049AC0C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178A-5C3A-46BE-B6F5-B0553317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8903-B7D1-49FF-AD8D-7A0696E5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E98-0B01-4423-BA60-DAC90618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FCF-6FEE-46D1-892C-8347B007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AD7-6127-473C-90E8-E312C9EA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CC2-979D-4554-82FB-CBD26456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AB3-D261-419E-9759-8DAC7F33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D2C-91FD-4C0F-81A2-7513FF6F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122-7953-4D41-A4D3-A7EC6077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9C59-D2BB-448F-9F81-A61B8BEFF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A482-D090-4C2E-AFC3-97CCEFA07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R 586  Back-Cas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to W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2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illary Service Demand Factor (ASD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minute summation of 1 minute intervals results in applying penalty to every 15 minute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Frequenc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ric would have to be modified to correlate acceptable frequency control (ERCOT CPS1) with QS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R586 Inputs &amp; Assum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cast of historical data for Novembe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orest ERCOT CPS1 Performance in Rec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otal cost of Regulation Services for the month was $23 million (MCPC for URS &amp; DRS multiplied by total oblig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of the regulation service cost for a 15 minute interval is allocated when the penalty criteria is m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enalty criteria is (-1*ISCE*REGNm) where this is greater than z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olerance dead-band is used that measures the aggregate sum of the QSEs IS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s of the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penalty cost equaled $11.5 million for the month of November 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SDF for all participants had at least 1 minute of the 15 minute sum in which an interval met the criteria for applying the penal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a dead-band around an individual QSE’s ISCE, there is a risk of having a low ISCE and paying a large share of the penalty (i.e. if most QSEs have a ASDF = 0 in the interv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frequency was outside of the acceptable tolerance (+/-0.03 Hz dead-band) 11,460 one minute intervals out of a total of 43,200 one minute interv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3 or 3,796 of the 11,460 intervals would not have had a penalty applied even though ERCOT frequency was outside an acceptable range, however, this can be addressed with a small change to the formula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change to the formula is needed so that QSE will not receive a good score when ERCOT is un-deploying regulation and the QSE is generating in an undesirable di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of why this change is needed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Nm (regulation need) = the one minute ERCOT deployed Regulation minus ERCOT Area Control Error (A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– ERCOT frequency = 60.00 Hz and ACE = 0 total deployed Regulation = -500 MW; (initial cond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increases 1 minute later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frequency = 59.95 Hz; ERCOT ACE = -200 MW total deployed Regulation = -300 MW (un-deployed from 500 down to 300 down) ; QSEa is under generating and their SCE = -100 (hurting frequenc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SEa - REGNm = -300 – (-200) = -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SEa - ASDF = (-1*-100*-100) = -10,000&lt;0 = 0 (good sco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tion Considered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der Current Propos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number of 1 minute intervals that meet the penalty criteria for one or more Q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48% of the intervals in the month met the penalty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tions Consider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System-wide deadband and, inst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deadband to individual Q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L10 values from PRR 525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y ASDF from (-1*ISCE*REGnm) to (ISCE*ACE) to align the metric with ERCOT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in 35,901intervals out of 43,200 1 minute intervals in which the penalty criteria would be met by one or more Q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view of Uninstructed Resource Charge (URC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inputs to existing Uninstructed Resource Charge (URC) 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s revenue meter quality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ocols allow Deadband mod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inputs easily modifiable with Protocol Chan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design already in p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n’t apply penalty for under generating  when MCPE is pos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15 minute 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y not significantly address 0600 and 2200 ramp period schedu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alternative does not satisfy Potomac Recommendation #1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URC pricing language to apply an appropriate penalty price for over or under generating regardless of magnitude of MC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URC Uninstructed Factor to apply tighter tole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5:34:32Z</dcterms:created>
  <dc:creator>jdumas</dc:creator>
  <dc:description/>
  <dc:language>en-US</dc:language>
  <cp:lastModifiedBy>Nieves Lopez2</cp:lastModifiedBy>
  <dcterms:modified xsi:type="dcterms:W3CDTF">2005-04-28T17:26:58Z</dcterms:modified>
  <cp:revision>46</cp:revision>
  <dc:subject/>
  <dc:title>Slide 1</dc:title>
</cp:coreProperties>
</file>