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10.wmf" ContentType="image/x-wmf"/>
  <Override PartName="/ppt/media/image4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31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D58-5077-4867-BD2D-CB325F28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4EA-2666-4155-BD61-28950E0A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59D-A34B-4955-99C3-38BD134C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560-5155-47F3-9953-89994715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402-684C-4ADE-AD7D-5E2070E5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CC1-E02C-4B09-8086-4B529332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A14-9C60-4998-B2CB-D1A81E35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D67-046C-4A8B-AD84-095DD117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3BE-74B6-46AC-B6B4-DB48818C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4DD-6C11-49E7-958A-5E8752F8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721-15FE-4795-AC8C-55A40609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425-18A5-4BC4-B0FA-11B98081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BB7D-FF37-4400-9BF0-52EB674A2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95120"/>
            <a:ext cx="8353440" cy="6467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1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2440" y="152280"/>
            <a:ext cx="8439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7760" y="147600"/>
            <a:ext cx="84484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3080" y="142920"/>
            <a:ext cx="84582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8040" y="138240"/>
            <a:ext cx="846792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8680" y="128520"/>
            <a:ext cx="848664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123840"/>
            <a:ext cx="8496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8960" y="119160"/>
            <a:ext cx="850608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4280" y="114480"/>
            <a:ext cx="8515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9600" y="109440"/>
            <a:ext cx="85248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04760"/>
            <a:ext cx="853416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0600" y="190440"/>
            <a:ext cx="8362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9880" y="100080"/>
            <a:ext cx="85442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5200" y="95400"/>
            <a:ext cx="85536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90360"/>
            <a:ext cx="856296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1160" y="81000"/>
            <a:ext cx="8581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6120" y="76320"/>
            <a:ext cx="85917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1440" y="100080"/>
            <a:ext cx="8601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760" y="95400"/>
            <a:ext cx="86104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2080" y="90360"/>
            <a:ext cx="861984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7040" y="85680"/>
            <a:ext cx="86299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920" y="185760"/>
            <a:ext cx="837216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2360" y="81000"/>
            <a:ext cx="86392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7680" y="76320"/>
            <a:ext cx="8648640" cy="6705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31 0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195120"/>
            <a:ext cx="8353440" cy="6467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1 2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0600" y="190440"/>
            <a:ext cx="8362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5920" y="185760"/>
            <a:ext cx="837216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880" y="181080"/>
            <a:ext cx="838224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76200" y="176040"/>
            <a:ext cx="839160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1520" y="171360"/>
            <a:ext cx="84009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6840" y="166680"/>
            <a:ext cx="8410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1800" y="162000"/>
            <a:ext cx="84204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81080"/>
            <a:ext cx="838224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7120" y="157320"/>
            <a:ext cx="842976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2440" y="152280"/>
            <a:ext cx="8439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7760" y="147600"/>
            <a:ext cx="84484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3080" y="142920"/>
            <a:ext cx="84582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38040" y="138240"/>
            <a:ext cx="846792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8680" y="128520"/>
            <a:ext cx="848664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123840"/>
            <a:ext cx="8496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8960" y="119160"/>
            <a:ext cx="850608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14280" y="114480"/>
            <a:ext cx="8515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9600" y="109440"/>
            <a:ext cx="85248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6200" y="176040"/>
            <a:ext cx="839160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04760"/>
            <a:ext cx="853416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9880" y="100080"/>
            <a:ext cx="85442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95200" y="95400"/>
            <a:ext cx="85536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0520" y="90360"/>
            <a:ext cx="856296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1160" y="81000"/>
            <a:ext cx="8581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6120" y="76320"/>
            <a:ext cx="85917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1440" y="100080"/>
            <a:ext cx="8601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6760" y="95400"/>
            <a:ext cx="86104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080" y="90360"/>
            <a:ext cx="861984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1520" y="171360"/>
            <a:ext cx="84009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7040" y="85680"/>
            <a:ext cx="86299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2360" y="81000"/>
            <a:ext cx="86392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7680" y="76320"/>
            <a:ext cx="8648640" cy="6705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31 2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6840" y="166680"/>
            <a:ext cx="8410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1800" y="162000"/>
            <a:ext cx="84204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7120" y="157320"/>
            <a:ext cx="842976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sniemeyer</cp:lastModifiedBy>
  <dcterms:modified xsi:type="dcterms:W3CDTF">2005-07-12T20:06:27Z</dcterms:modified>
  <cp:revision>4</cp:revision>
  <dc:subject/>
  <dc:title>PowerPoint Presentation</dc:title>
</cp:coreProperties>
</file>