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47.wmf" ContentType="image/x-wmf"/>
  <Override PartName="/ppt/media/image10.wmf" ContentType="image/x-wmf"/>
  <Override PartName="/ppt/media/image35.wmf" ContentType="image/x-wmf"/>
  <Override PartName="/ppt/media/image5.wmf" ContentType="image/x-wmf"/>
  <Override PartName="/ppt/media/image17.wmf" ContentType="image/x-wmf"/>
  <Override PartName="/ppt/media/image28.wmf" ContentType="image/x-wmf"/>
  <Override PartName="/ppt/media/image34.wmf" ContentType="image/x-wmf"/>
  <Override PartName="/ppt/media/image4.wmf" ContentType="image/x-wmf"/>
  <Override PartName="/ppt/media/image16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15.wmf" ContentType="image/x-wmf"/>
  <Override PartName="/ppt/media/image26.wmf" ContentType="image/x-wmf"/>
  <Override PartName="/ppt/media/image32.wmf" ContentType="image/x-wmf"/>
  <Override PartName="/ppt/media/image60.wmf" ContentType="image/x-wmf"/>
  <Override PartName="/ppt/media/image23.wmf" ContentType="image/x-wmf"/>
  <Override PartName="/ppt/media/image58.wmf" ContentType="image/x-wmf"/>
  <Override PartName="/ppt/media/image21.wmf" ContentType="image/x-wmf"/>
  <Override PartName="/ppt/media/image22.wmf" ContentType="image/x-wmf"/>
  <Override PartName="/ppt/media/image59.wmf" ContentType="image/x-wmf"/>
  <Override PartName="/ppt/media/image57.wmf" ContentType="image/x-wmf"/>
  <Override PartName="/ppt/media/image20.wmf" ContentType="image/x-wmf"/>
  <Override PartName="/ppt/media/image24.wmf" ContentType="image/x-wmf"/>
  <Override PartName="/ppt/media/image29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14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51.wmf" ContentType="image/x-wmf"/>
  <Override PartName="/ppt/media/image52.wmf" ContentType="image/x-wmf"/>
  <Override PartName="/ppt/media/image53.wmf" ContentType="image/x-wmf"/>
  <Override PartName="/ppt/media/image54.wmf" ContentType="image/x-wmf"/>
  <Override PartName="/ppt/media/image55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0221-68DA-4DCB-91BC-A7B27C89C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5178-CA6E-49AB-9821-59331433C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F928-2057-4C94-8BF7-04DF958A9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6BFA-47FB-4750-8D02-B4A9D0A53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0F56-0852-4C08-89BF-3509F3095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FAE3-B023-4BB4-8C63-8DB9E597B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A37A-6C19-4FC2-BC2D-8B672AA72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1425-1A28-4888-9C3D-7C07CE426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4FE4-DFC7-4693-889F-D5EB49DF2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E430-7E02-4410-8FB2-3679A618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87AF-24A5-41B4-A855-3A8CFB323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F055-B0BF-4D38-95ED-41A5F1EAC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B984F-E474-4AC5-BD35-CFEE945CF3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95280" y="195120"/>
            <a:ext cx="8353440" cy="64677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ne 1 06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52440" y="152280"/>
            <a:ext cx="843912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47760" y="147600"/>
            <a:ext cx="8448480" cy="65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43080" y="142920"/>
            <a:ext cx="845820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38040" y="138240"/>
            <a:ext cx="8467920" cy="65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28680" y="128520"/>
            <a:ext cx="8486640" cy="660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4000" y="123840"/>
            <a:ext cx="8496000" cy="66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18960" y="119160"/>
            <a:ext cx="8506080" cy="66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14280" y="114480"/>
            <a:ext cx="851544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09600" y="109440"/>
            <a:ext cx="8524800" cy="663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04920" y="104760"/>
            <a:ext cx="8534160" cy="66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90600" y="190440"/>
            <a:ext cx="83628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99880" y="100080"/>
            <a:ext cx="8544240" cy="66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95200" y="95400"/>
            <a:ext cx="8553600" cy="66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90520" y="90360"/>
            <a:ext cx="8562960" cy="667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85840" y="85680"/>
            <a:ext cx="8572320" cy="66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81160" y="81000"/>
            <a:ext cx="8581680" cy="66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76120" y="76320"/>
            <a:ext cx="859176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71440" y="100080"/>
            <a:ext cx="8601120" cy="66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66760" y="95400"/>
            <a:ext cx="8610480" cy="66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62080" y="90360"/>
            <a:ext cx="8619840" cy="667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57040" y="85680"/>
            <a:ext cx="8629920" cy="66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85920" y="185760"/>
            <a:ext cx="8372160" cy="64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52360" y="81000"/>
            <a:ext cx="8639280" cy="6696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38120" y="228240"/>
            <a:ext cx="44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ne 30 06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95280" y="195120"/>
            <a:ext cx="8353440" cy="646776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5181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ne 1 2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90600" y="190440"/>
            <a:ext cx="83628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85920" y="185760"/>
            <a:ext cx="8372160" cy="64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80880" y="181080"/>
            <a:ext cx="8382240" cy="64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76200" y="176040"/>
            <a:ext cx="8391600" cy="650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71520" y="171360"/>
            <a:ext cx="8400960" cy="65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66840" y="166680"/>
            <a:ext cx="841032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61800" y="162000"/>
            <a:ext cx="842040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57120" y="157320"/>
            <a:ext cx="8429760" cy="65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80880" y="181080"/>
            <a:ext cx="8382240" cy="64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52440" y="152280"/>
            <a:ext cx="843912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47760" y="147600"/>
            <a:ext cx="8448480" cy="65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43080" y="142920"/>
            <a:ext cx="845820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38040" y="138240"/>
            <a:ext cx="8467920" cy="65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28680" y="128520"/>
            <a:ext cx="8486640" cy="660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24000" y="123840"/>
            <a:ext cx="8496000" cy="66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18960" y="119160"/>
            <a:ext cx="8506080" cy="66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14280" y="114480"/>
            <a:ext cx="851544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09600" y="109440"/>
            <a:ext cx="8524800" cy="663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04920" y="104760"/>
            <a:ext cx="8534160" cy="66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76200" y="176040"/>
            <a:ext cx="8391600" cy="650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99880" y="100080"/>
            <a:ext cx="8544240" cy="66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95200" y="95400"/>
            <a:ext cx="8553600" cy="66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90520" y="90360"/>
            <a:ext cx="8562960" cy="667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85840" y="85680"/>
            <a:ext cx="8572320" cy="66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81160" y="81000"/>
            <a:ext cx="8581680" cy="66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76120" y="76320"/>
            <a:ext cx="859176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71440" y="100080"/>
            <a:ext cx="8601120" cy="66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66760" y="95400"/>
            <a:ext cx="8610480" cy="66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62080" y="90360"/>
            <a:ext cx="8619840" cy="667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57040" y="85680"/>
            <a:ext cx="8629920" cy="66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71520" y="171360"/>
            <a:ext cx="8400960" cy="65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52360" y="81000"/>
            <a:ext cx="8639280" cy="6696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ne 30 2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66840" y="166680"/>
            <a:ext cx="841032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61800" y="162000"/>
            <a:ext cx="842040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57120" y="157320"/>
            <a:ext cx="8429760" cy="65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4T04:12:17Z</dcterms:created>
  <dc:creator>sniemeyer</dc:creator>
  <dc:description/>
  <dc:language>en-US</dc:language>
  <cp:lastModifiedBy>sniemeyer</cp:lastModifiedBy>
  <dcterms:modified xsi:type="dcterms:W3CDTF">2005-07-12T20:43:55Z</dcterms:modified>
  <cp:revision>3</cp:revision>
  <dc:subject/>
  <dc:title>PowerPoint Presentation</dc:title>
</cp:coreProperties>
</file>