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0A8-BF25-48A1-B147-B0074603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60F-F666-4EC1-9571-B892EAF9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FC1-4AD0-42F1-A0A9-E642C434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1B4-F62C-4B66-BFEA-863A59E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EA0-64BE-4192-AE70-FDF286A5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B8D-6B40-4558-B2B8-2F3AF0D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072-E7EB-42CB-AB0E-4315FE1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DD6-B9E7-4788-8111-F36C73E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F25-A541-45BA-934F-E56CFC7B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C6B-FF7C-4519-831F-413716E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B94-D7B3-4409-A20E-F4007CE0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41D-DD6C-4710-AA98-7527C72B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1312-BEC1-4808-B913-26478E1B3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1360" y="76320"/>
            <a:ext cx="8801280" cy="670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18,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7320" y="66600"/>
            <a:ext cx="88293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8520" y="57240"/>
            <a:ext cx="88869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3840" y="47520"/>
            <a:ext cx="889632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8240" y="57240"/>
            <a:ext cx="8867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8520" y="61920"/>
            <a:ext cx="88869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8240" y="66600"/>
            <a:ext cx="88675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520" y="66600"/>
            <a:ext cx="88869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360" y="76320"/>
            <a:ext cx="8801280" cy="6705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5,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7320" y="66600"/>
            <a:ext cx="88293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8520" y="57240"/>
            <a:ext cx="88869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7320" y="66600"/>
            <a:ext cx="88293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3840" y="47520"/>
            <a:ext cx="889632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8240" y="57240"/>
            <a:ext cx="8867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8520" y="61920"/>
            <a:ext cx="88869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8240" y="66600"/>
            <a:ext cx="88675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8520" y="66600"/>
            <a:ext cx="88869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Mill Load June 2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l Mill Load April 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8520" y="57240"/>
            <a:ext cx="88869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3840" y="47520"/>
            <a:ext cx="889632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240" y="57240"/>
            <a:ext cx="8867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8520" y="61920"/>
            <a:ext cx="88869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8240" y="66600"/>
            <a:ext cx="88675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8520" y="66600"/>
            <a:ext cx="88869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76320"/>
            <a:ext cx="8801280" cy="6705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19,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. Boren</cp:lastModifiedBy>
  <dcterms:modified xsi:type="dcterms:W3CDTF">2005-07-13T20:49:40Z</dcterms:modified>
  <cp:revision>4</cp:revision>
  <dc:subject/>
  <dc:title>PowerPoint Presentation</dc:title>
</cp:coreProperties>
</file>