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396-F600-4314-9CD8-10896D69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CF8A-0F00-4433-A2EE-7389B3C8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57CB-99A2-455F-B000-85463755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DF0-2CA7-4D7F-88A3-A0B60CBC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F83-D207-4126-B1F6-902ED800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EBA-D38D-4A2C-8C5A-D98DB28E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6DA5-ACE5-40BE-92ED-D9744B8C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8C4-C0F5-4EDD-993A-87CFC144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C28-447E-4066-8A3B-BCEEF289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39D-791A-4165-A33A-0D9D7FFF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C57-81CB-4415-A33E-B8AF02C1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0238-7FAD-4786-901A-E417D6E3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9B9A-DB02-4C31-A1BC-200997400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195120"/>
            <a:ext cx="8353440" cy="6467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 1 06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2440" y="152280"/>
            <a:ext cx="8439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7760" y="147600"/>
            <a:ext cx="844848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3080" y="142920"/>
            <a:ext cx="84582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8040" y="138240"/>
            <a:ext cx="846792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8680" y="128520"/>
            <a:ext cx="848664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123840"/>
            <a:ext cx="849600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8960" y="119160"/>
            <a:ext cx="8506080" cy="66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4280" y="114480"/>
            <a:ext cx="8515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9600" y="109440"/>
            <a:ext cx="852480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104760"/>
            <a:ext cx="853416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0600" y="190440"/>
            <a:ext cx="8362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9880" y="100080"/>
            <a:ext cx="854424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5200" y="95400"/>
            <a:ext cx="85536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90360"/>
            <a:ext cx="856296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5840" y="85680"/>
            <a:ext cx="85723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1160" y="81000"/>
            <a:ext cx="85816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6120" y="76320"/>
            <a:ext cx="85917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1440" y="100080"/>
            <a:ext cx="860112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760" y="95400"/>
            <a:ext cx="861048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62080" y="90360"/>
            <a:ext cx="861984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7040" y="85680"/>
            <a:ext cx="86299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5920" y="185760"/>
            <a:ext cx="837216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2360" y="81000"/>
            <a:ext cx="86392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7680" y="76320"/>
            <a:ext cx="8648640" cy="6705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 31 06: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81080"/>
            <a:ext cx="838224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6200" y="176040"/>
            <a:ext cx="839160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1520" y="171360"/>
            <a:ext cx="840096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6840" y="166680"/>
            <a:ext cx="84103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1800" y="162000"/>
            <a:ext cx="84204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57120" y="157320"/>
            <a:ext cx="842976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4:12:17Z</dcterms:created>
  <dc:creator>sniemeyer</dc:creator>
  <dc:description/>
  <dc:language>en-US</dc:language>
  <cp:lastModifiedBy>sniemeyer</cp:lastModifiedBy>
  <dcterms:modified xsi:type="dcterms:W3CDTF">2005-07-12T19:21:58Z</dcterms:modified>
  <cp:revision>4</cp:revision>
  <dc:subject/>
  <dc:title>PowerPoint Presentation</dc:title>
</cp:coreProperties>
</file>