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B9C-7E0B-4177-BA74-8E498309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67B-0960-4D0D-8E7E-57F8AE5F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9CD-5612-4A9B-BC03-259E7423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F0F-2D19-41E8-9DE2-8AA3B2D5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79E-6E47-47D6-B057-6A648D2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CF8-B4D6-4723-841D-6340782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072-DC6B-4739-BC3C-66329FF8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883-A89C-4048-9681-D6EB985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C27-C8A3-47A2-B3F7-C46EF0F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697-2145-4503-8AA0-7E91EF3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637-E934-4DEE-BBB8-74D4AAB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3F9-C65B-4CF4-9E8F-4670303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FD5-7AE6-415A-9D4C-6D077D6AB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05840" cy="6195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CPS1 by Interval – June 116.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60" y="0"/>
            <a:ext cx="90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by Day - Ju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12 mo Rolling Avg CPS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4:57:48Z</dcterms:created>
  <dc:creator>sniemeyer</dc:creator>
  <dc:description/>
  <dc:language>en-US</dc:language>
  <cp:lastModifiedBy>sniemeyer</cp:lastModifiedBy>
  <dcterms:modified xsi:type="dcterms:W3CDTF">2005-07-12T23:20:43Z</dcterms:modified>
  <cp:revision>8</cp:revision>
  <dc:subject/>
  <dc:title>PowerPoint Presentation</dc:title>
</cp:coreProperties>
</file>