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8DE-881C-430D-AEAD-B7C73B4F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C45-1491-4E73-8409-3837F650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EC4-2238-4EE2-8503-A025EE56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3E7-63BA-41BB-A724-8203A0CD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DD0-59DD-49A5-A40B-91B6EC15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F88-D696-420B-8AC7-ACCF0391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8C4-21B0-4A3A-9D72-C3629573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BC0-B828-433D-8B73-BADCDC3F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9F0-FB06-4790-8D7D-BB677BD7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772-B2FF-434D-BED7-5A5D10C3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62D-F096-4E00-8173-173BAB5E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899-567E-41DB-BD4C-3D587AFB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3BB9-862E-48CA-BEB0-B1EA83192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95120"/>
            <a:ext cx="8353440" cy="646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1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2440" y="152280"/>
            <a:ext cx="8439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7760" y="147600"/>
            <a:ext cx="84484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3080" y="142920"/>
            <a:ext cx="84582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8040" y="138240"/>
            <a:ext cx="846792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4866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23840"/>
            <a:ext cx="8496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8960" y="119160"/>
            <a:ext cx="850608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4280" y="114480"/>
            <a:ext cx="8515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9600" y="109440"/>
            <a:ext cx="85248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04760"/>
            <a:ext cx="85341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0600" y="190440"/>
            <a:ext cx="8362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9880" y="100080"/>
            <a:ext cx="85442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5200" y="95400"/>
            <a:ext cx="85536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90360"/>
            <a:ext cx="856296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1160" y="81000"/>
            <a:ext cx="8581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6120" y="76320"/>
            <a:ext cx="85917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1440" y="100080"/>
            <a:ext cx="8601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760" y="95400"/>
            <a:ext cx="86104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2080" y="90360"/>
            <a:ext cx="861984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7040" y="85680"/>
            <a:ext cx="86299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920" y="185760"/>
            <a:ext cx="837216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2360" y="81000"/>
            <a:ext cx="8639280" cy="6696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30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7760" y="147600"/>
            <a:ext cx="8448480" cy="6562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11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3080" y="142920"/>
            <a:ext cx="84582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8040" y="138240"/>
            <a:ext cx="846792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4866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23840"/>
            <a:ext cx="8496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8960" y="119160"/>
            <a:ext cx="850608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14280" y="114480"/>
            <a:ext cx="8515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9600" y="109440"/>
            <a:ext cx="85248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04760"/>
            <a:ext cx="85341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81080"/>
            <a:ext cx="83822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9880" y="100080"/>
            <a:ext cx="85442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5200" y="95400"/>
            <a:ext cx="85536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0520" y="90360"/>
            <a:ext cx="856296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1160" y="81000"/>
            <a:ext cx="8581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6120" y="76320"/>
            <a:ext cx="85917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1440" y="100080"/>
            <a:ext cx="8601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6760" y="95400"/>
            <a:ext cx="86104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2080" y="90360"/>
            <a:ext cx="861984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7040" y="85680"/>
            <a:ext cx="86299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6200" y="176040"/>
            <a:ext cx="83916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2360" y="81000"/>
            <a:ext cx="8639280" cy="6696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il 30 22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1520" y="171360"/>
            <a:ext cx="84009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6840" y="166680"/>
            <a:ext cx="8410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1800" y="162000"/>
            <a:ext cx="84204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7120" y="157320"/>
            <a:ext cx="84297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A. Boren</cp:lastModifiedBy>
  <dcterms:modified xsi:type="dcterms:W3CDTF">2005-07-13T20:48:39Z</dcterms:modified>
  <cp:revision>4</cp:revision>
  <dc:subject/>
  <dc:title>PowerPoint Presentation</dc:title>
</cp:coreProperties>
</file>