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381C-A238-4B6C-A41C-50AB67E08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E4AA-2EEB-4BE6-A298-27E42A28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89A1-292C-48F2-9DB5-35B9958E2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D015-4FCF-4D19-88C9-D727D7191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0DE6-C037-45DD-BEA1-46455588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396A-5435-44B2-A2BB-0079F050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610A-8CE0-4ECB-A7B0-F24B32A8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FAF7-D38E-40BC-9957-27B1E130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604B-2791-4C31-A891-4AD0B4B7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0A78-2B60-40F6-8BB2-B611B3D0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5A0C-E43B-4E7B-AE6E-E69396FB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5ACF-A66B-4449-BA1F-71D78A01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7D31-4605-4919-8AAE-144A2A56A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2514600"/>
            <a:ext cx="815328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ul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Summar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 Data Extract Variance Repor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CR DEV Rep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 of 103 Competitive Retailers reported numbers by the due date for June (07/05/0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of 14 Competitive Retailers that filed DEV Issues within the 90 days proceeding the reporting deadline reported numb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s for August RMS (July Reports) are due by August 2, 20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80880" y="1523880"/>
          <a:ext cx="8381880" cy="4876560"/>
        </p:xfrm>
        <a:graphic>
          <a:graphicData uri="http://schemas.openxmlformats.org/drawingml/2006/table">
            <a:tbl>
              <a:tblPr/>
              <a:tblGrid>
                <a:gridCol w="2345040"/>
                <a:gridCol w="1585800"/>
                <a:gridCol w="1614240"/>
                <a:gridCol w="1419480"/>
                <a:gridCol w="1417320"/>
              </a:tblGrid>
              <a:tr h="1172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,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1,5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,6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7,7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,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9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3,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1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880" y="1523880"/>
          <a:ext cx="8305560" cy="4876560"/>
        </p:xfrm>
        <a:graphic>
          <a:graphicData uri="http://schemas.openxmlformats.org/drawingml/2006/table">
            <a:tbl>
              <a:tblPr/>
              <a:tblGrid>
                <a:gridCol w="2323800"/>
                <a:gridCol w="1571040"/>
                <a:gridCol w="1599840"/>
                <a:gridCol w="1406520"/>
                <a:gridCol w="1404360"/>
              </a:tblGrid>
              <a:tr h="1172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1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9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8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7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1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er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80880" y="1523880"/>
          <a:ext cx="8381880" cy="4800240"/>
        </p:xfrm>
        <a:graphic>
          <a:graphicData uri="http://schemas.openxmlformats.org/drawingml/2006/table">
            <a:tbl>
              <a:tblPr/>
              <a:tblGrid>
                <a:gridCol w="2345040"/>
                <a:gridCol w="1585800"/>
                <a:gridCol w="1614240"/>
                <a:gridCol w="1419480"/>
                <a:gridCol w="1417320"/>
              </a:tblGrid>
              <a:tr h="115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5,6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6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6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,2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9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XU Electric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0880" y="1523880"/>
          <a:ext cx="8381880" cy="4876560"/>
        </p:xfrm>
        <a:graphic>
          <a:graphicData uri="http://schemas.openxmlformats.org/drawingml/2006/table">
            <a:tbl>
              <a:tblPr/>
              <a:tblGrid>
                <a:gridCol w="2345040"/>
                <a:gridCol w="1585800"/>
                <a:gridCol w="1614240"/>
                <a:gridCol w="1419480"/>
                <a:gridCol w="1417320"/>
              </a:tblGrid>
              <a:tr h="1172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6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,6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7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7,9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,3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3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0,8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9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y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523880"/>
          <a:ext cx="8229240" cy="4876560"/>
        </p:xfrm>
        <a:graphic>
          <a:graphicData uri="http://schemas.openxmlformats.org/drawingml/2006/table">
            <a:tbl>
              <a:tblPr/>
              <a:tblGrid>
                <a:gridCol w="2302560"/>
                <a:gridCol w="1556640"/>
                <a:gridCol w="1585080"/>
                <a:gridCol w="1393560"/>
                <a:gridCol w="1391400"/>
              </a:tblGrid>
              <a:tr h="1172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N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523880"/>
          <a:ext cx="8305560" cy="4800240"/>
        </p:xfrm>
        <a:graphic>
          <a:graphicData uri="http://schemas.openxmlformats.org/drawingml/2006/table">
            <a:tbl>
              <a:tblPr/>
              <a:tblGrid>
                <a:gridCol w="2323800"/>
                <a:gridCol w="1571040"/>
                <a:gridCol w="1599840"/>
                <a:gridCol w="1406520"/>
                <a:gridCol w="1404360"/>
              </a:tblGrid>
              <a:tr h="115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Ann Boren</cp:lastModifiedBy>
  <cp:lastPrinted>2002-09-24T18:27:58Z</cp:lastPrinted>
  <dcterms:modified xsi:type="dcterms:W3CDTF">2005-07-06T14:01:58Z</dcterms:modified>
  <cp:revision>29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97427921</vt:r8>
  </property>
  <property fmtid="{D5CDD505-2E9C-101B-9397-08002B2CF9AE}" pid="3" name="_AuthorEmail">
    <vt:lpwstr>khobbs@ercot.com</vt:lpwstr>
  </property>
  <property fmtid="{D5CDD505-2E9C-101B-9397-08002B2CF9AE}" pid="4" name="_AuthorEmailDisplayName">
    <vt:lpwstr>Hobbs, Kristi</vt:lpwstr>
  </property>
  <property fmtid="{D5CDD505-2E9C-101B-9397-08002B2CF9AE}" pid="5" name="_EmailSubject">
    <vt:lpwstr>Report</vt:lpwstr>
  </property>
  <property fmtid="{D5CDD505-2E9C-101B-9397-08002B2CF9AE}" pid="6" name="_PreviousAdHocReviewCycleID">
    <vt:r8>1615718916</vt:r8>
  </property>
  <property fmtid="{D5CDD505-2E9C-101B-9397-08002B2CF9AE}" pid="7" name="_ReviewingToolsShownOnce">
    <vt:lpwstr/>
  </property>
</Properties>
</file>