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1C3-FB78-45D3-9684-2A3E978F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EDE-1A53-478F-941E-E8C4240F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05B-71BE-44EC-B160-EBC1FBED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D60-67E0-47E1-A477-546B0CD0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A39-31F9-49F2-AD76-223BFA4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C0B-785E-4994-A91D-BD128610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EC0-5348-4CA8-B0F3-ABBD9DD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5EC-3913-4853-8D3A-9DEC438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61C-CC8C-4841-AE51-860EDEA5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F9A-2332-4CE7-BB72-376A2C13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90C-5441-43C7-9D6B-D364296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047-1A96-4304-896E-0B01618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9FE8-36C5-4BBF-BD8F-C8037E25B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upgrade – only if Siebel is chosen as the replacement tool for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Augus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Webex demonstrations from three vendors from Jun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owed the list to two vendors: Siebel and Serena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project update to TT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proof of concept July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July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product selection (July 19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conceptual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detailed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selection taking longer than originally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product selection is complete, the project schedule will be re-evaluated.  The revised schedule will be published at the next RMS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720" y="711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Issues/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7680" y="59436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gust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December ’05 – January ’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’05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07-11T15:03:52Z</dcterms:modified>
  <cp:revision>173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