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6A8-0056-40AF-8241-4A2009BF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F4D-4434-4FB2-BB6B-A39BEBB1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6E3-39D9-4C9E-8EF0-B47CA98D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9E4-A0D0-46CD-8AED-2D21C599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CF52-88C3-4254-A8E1-302C9376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79E-B761-48AB-8BB9-20CA4BFC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927-5239-4E7B-A311-0E072E02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969-6847-4106-9E62-70BD9B1F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322A-9FA5-453E-B5DB-96C137E7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E28-2F5F-419B-A5BB-2D886251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CA4-B792-462A-9473-278B1D53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BB6-B58B-4033-AB71-36729F6D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8A4B-359E-403C-B689-E65820FF9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7600"/>
            <a:ext cx="883908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nd implement a website layout that enables users to find key information effici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process to ensure the sustainability of the investment in the enh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 engine functionality (including metadata strate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navigation - create a new information architecture for the site (task driven foc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owners can post updates easily – content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for maximizing the use of key real estate for critical and timely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information and processes are maintained after the re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e at this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240" y="68580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520" y="59770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6076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0280" y="990720"/>
            <a:ext cx="8156520" cy="47242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as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Sept ‘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completed in June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Started on June 13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goal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d and implemented Serena’s CMS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d training on Serena’s CMS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an work on re-designing ERCOT’s public website and migrating documents using the CMS too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xt steps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 and install Google Search Ap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work on re-designing ERCOT’s public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work on migrating documents to ERCOT’s re-designed site by using Serena’s CMS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meeting with MPs to illustrate project progr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440" y="68580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5520" y="59770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– will have firm dates after project plan i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published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/July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cto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cto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ctober/Novem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v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7920" y="711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5520" y="59770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CO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L Phase II Mid-Term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the Market Survey strongly encouraged the implementation of a search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 website comparisons between the other 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5520" y="59770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614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segger</cp:lastModifiedBy>
  <dcterms:modified xsi:type="dcterms:W3CDTF">2005-07-11T16:25:06Z</dcterms:modified>
  <cp:revision>161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2-38D4-A149-08521C1C1544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