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E62-D0EA-486B-AF53-54EE7D28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72B-CA62-4B07-80ED-A59A12EB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C15-179D-4231-82A9-D75C6F09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6BC-9722-4F79-9C03-2F514088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AF92-7F75-42C9-9EB9-9CD96D77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0207-54B9-4228-AD93-67048FF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DFFF-3337-4A84-A6E7-88EE1E0A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01AA-B202-472E-91B5-5719C91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9425-D363-470F-B0DC-8111297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E353-1622-4087-BF7A-1E73E3D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A18-2834-4325-A9BA-55C52A2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56B-6F04-4AFB-9935-EA25A3B4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29F8-9C7C-470F-BE06-AE9ED6B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284-0FAD-4659-AB86-16548F1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644D-7E43-4F29-B78A-57503A3F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5B96-529A-4F28-9E95-9746E10E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8F45-6690-4F35-A4A6-DA1DF65C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8CD-6849-4252-8E28-5ED813C0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431-4BA2-4284-8F8C-FDEFD2E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216-9FE4-41DC-B4CC-4215F4F4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997-0484-41B7-963F-3A9F00C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BB-5DF8-4DCA-9827-B4568A2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3E4-0F3E-4884-B918-D55CF97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7FD-E481-455F-A85B-96D2E47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8177-0CBE-4E49-9813-3B0481708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B0AC-3133-4C65-9E79-D34ACA3FA7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67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dential Survey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Fo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pdate to 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uly 13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STF Recommend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mmend approval of the full mail survey and move the resolution forward to TAC for appro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nimous approval by RST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velop a more accurate algorithm to predict the presence and use of electric heat for residential customers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 inputs are premise level historical usage and weather z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 output is probability of having electric h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 data to support analysis to potentially develop new profile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-Phased Survey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hase 1:  Pilot mail survey to 1,000 customers, equally distributed across all weather zo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response rate for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 response accu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hase 2:  Full mail surve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/No-Go decision based on pilot respon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accuracy based on usage his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 response rate to determine sample size required to achieve statistically significant 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sure the budget supports the required sample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sample based on pilot response rate resul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Admin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ducing Customer Confu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lingual (English/Spanish) vers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supported 24-hour, bilingual, toll-free telephon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supported web page containing ERCOT background, survey question details, toll-free telephone number, and “Frequently Asked Questions” (FAQ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nimizing Call Center Impa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ver letter will refer customer questions/concerns to toll-fre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Qs will be provided to REPs to be used as training materials for the call cen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roving Response R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stage-paid return envelo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purchased customer name associated with address inform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rrelating ESI-ID to Respo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r-coded survey form linking ESI-ID to respon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val of Survey at May TAC meeting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ingual versions of the cover letter and su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website pos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the firm to provide names for sampled addr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selected Market Research fir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population (stratified by profile type and weather zone) has been identified and addresses are being validated against datab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development to validate responses regarding heating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mailed out on June 9, with responses by July 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Response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096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Response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ses to question #2 (primary heating syst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% accurate response to electric vs. gas heat based on multi-year consumption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breakdow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3 Electri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 Natural or bottle g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In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Other or not s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ero (0) phone inquiries to contact number provi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.8% overall valid response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/No-Go Evaluation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ccuracy based on usage hist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% accurate response to electric vs. gas heat based on multi-year consumption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yze response rate to determine sample size required to achieve statistically significant resul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8% overall valid respons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,000 surveys to be mailed, equally stratified by profile type and weather z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 budget supports the required samp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ing budget supports additional 40,000 surv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3480" y="2793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jected Residential Survey Timelin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9600" y="1047600"/>
            <a:ext cx="8739000" cy="5133960"/>
            <a:chOff x="309600" y="1047600"/>
            <a:chExt cx="8739000" cy="5133960"/>
          </a:xfrm>
        </p:grpSpPr>
        <p:sp>
          <p:nvSpPr>
            <p:cNvPr id="119" name=""/>
            <p:cNvSpPr/>
            <p:nvPr/>
          </p:nvSpPr>
          <p:spPr>
            <a:xfrm>
              <a:off x="309600" y="1047600"/>
              <a:ext cx="2104920" cy="5133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639720" bIns="639720" anchor="t">
              <a:no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onduct Pilot Surv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TF/RMS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AC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 Full Surve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Responses provided to ERC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COT analysis of survey respon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PWG review of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5160" y="1054080"/>
              <a:ext cx="6576840" cy="512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7120" y="1054080"/>
              <a:ext cx="535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648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24400" y="1054080"/>
              <a:ext cx="5378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73400" y="105408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456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72120" y="105408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21480" y="105408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0480" y="105408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19840" y="105408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920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18560" y="105408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62440" y="1047600"/>
              <a:ext cx="792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99920" y="1047600"/>
              <a:ext cx="1764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7280" y="1047600"/>
              <a:ext cx="936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613040" y="1047600"/>
              <a:ext cx="468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51240" y="1047600"/>
              <a:ext cx="1404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1047600"/>
              <a:ext cx="1260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65800" y="1047600"/>
              <a:ext cx="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802200" y="1047600"/>
              <a:ext cx="1116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2720" y="1047600"/>
              <a:ext cx="1584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12080" y="1047600"/>
              <a:ext cx="468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453520" y="1047600"/>
              <a:ext cx="792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21120" y="168912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5680" y="168912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3e3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"/>
            <p:cNvCxnSpPr>
              <a:stCxn id="144" idx="6"/>
              <a:endCxn id="145" idx="2"/>
            </p:cNvCxnSpPr>
            <p:nvPr/>
          </p:nvCxnSpPr>
          <p:spPr>
            <a:xfrm>
              <a:off x="4978080" y="1763280"/>
              <a:ext cx="687960" cy="108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  <p:sp>
          <p:nvSpPr>
            <p:cNvPr id="147" name=""/>
            <p:cNvSpPr/>
            <p:nvPr/>
          </p:nvSpPr>
          <p:spPr>
            <a:xfrm>
              <a:off x="5665680" y="223056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2e2e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99360" y="318600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50" idx="6"/>
              <a:endCxn id="148" idx="2"/>
            </p:cNvCxnSpPr>
            <p:nvPr/>
          </p:nvCxnSpPr>
          <p:spPr>
            <a:xfrm>
              <a:off x="6881760" y="3260520"/>
              <a:ext cx="41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>
              <a:off x="7299360" y="4530600"/>
              <a:ext cx="1569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35760" y="453060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1" idx="6"/>
              <a:endCxn id="152" idx="2"/>
            </p:cNvCxnSpPr>
            <p:nvPr/>
          </p:nvCxnSpPr>
          <p:spPr>
            <a:xfrm>
              <a:off x="7456320" y="460512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2421000" y="1419120"/>
              <a:ext cx="658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94880" y="522144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5760" y="522612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6" idx="6"/>
              <a:endCxn id="155" idx="2"/>
            </p:cNvCxnSpPr>
            <p:nvPr/>
          </p:nvCxnSpPr>
          <p:spPr>
            <a:xfrm flipV="1">
              <a:off x="7992720" y="5296680"/>
              <a:ext cx="902520" cy="396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>
              <a:off x="6723000" y="318600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>
              <a:stCxn id="147" idx="6"/>
            </p:cNvCxnSpPr>
            <p:nvPr/>
          </p:nvCxnSpPr>
          <p:spPr>
            <a:xfrm flipV="1">
              <a:off x="5823000" y="2299680"/>
              <a:ext cx="13356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5938920" y="223056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2e2e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83440" y="268776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9360" y="383868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5:13:16Z</dcterms:created>
  <dc:creator>jtayl13</dc:creator>
  <dc:description/>
  <dc:language>en-US</dc:language>
  <cp:lastModifiedBy>Ann Boren</cp:lastModifiedBy>
  <dcterms:modified xsi:type="dcterms:W3CDTF">2005-07-06T13:49:30Z</dcterms:modified>
  <cp:revision>23</cp:revision>
  <dc:subject/>
  <dc:title>Residential Survey 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52432066</vt:r8>
  </property>
  <property fmtid="{D5CDD505-2E9C-101B-9397-08002B2CF9AE}" pid="3" name="_AuthorEmail">
    <vt:lpwstr>lcao@entergy.com</vt:lpwstr>
  </property>
  <property fmtid="{D5CDD505-2E9C-101B-9397-08002B2CF9AE}" pid="4" name="_AuthorEmailDisplayName">
    <vt:lpwstr>CAO-CONN, LAN</vt:lpwstr>
  </property>
  <property fmtid="{D5CDD505-2E9C-101B-9397-08002B2CF9AE}" pid="5" name="_EmailSubject">
    <vt:lpwstr>July RMS - Residential Survey Taskforce Presentation</vt:lpwstr>
  </property>
  <property fmtid="{D5CDD505-2E9C-101B-9397-08002B2CF9AE}" pid="6" name="_ReviewingToolsShownOnce">
    <vt:lpwstr/>
  </property>
</Properties>
</file>