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41E-04FF-4029-9CF0-0AA87C40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AB7-5BD0-4BA0-ADDF-66CC33D4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A31-9C8E-4F39-B711-6DC9F79E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E72-77F3-4A04-9D0A-084ADCB1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D2B-1F70-4D7A-9E47-FF9A2F99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DFB-CA18-431B-954C-23A270DC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FB6-C142-4979-B2E3-EF05CCC8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CBC-5CCD-49F6-9DC4-6A780A45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336-7BC8-4CAD-BE84-7F02610B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061-AC1B-4A06-AD8A-EF653FA8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8EE-3E94-499A-88F8-BDBAA72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A4C-F031-421F-A5C4-FB42F275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4F3F-585F-4C51-A332-D00D10284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0705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8EB-6904-49E3-8073-EFDF085597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New REPs – 7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New Umbrella DUNS – 13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xisting REP testing in new territory – 4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 testing new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s changing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Existing REPs chang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5000 Task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AB4-9856-47A1-A645-4D63D2CD75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ign-up deadline was June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Testing began June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Testing completed Jul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Kick-off call  - June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began Jun 27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C17-9055-4065-A154-94D40F6965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5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Take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start to flow Monday June 27th at 8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status calls –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as of Day 4 (June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– Flight 17.1% complete – on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July RMS (7/13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13 of Flight 07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is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August RMS (8/10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33 of Flight 07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0705 scheduled to complete on 8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0B5-EF78-49BB-9A32-94F2908D03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n Boren</cp:lastModifiedBy>
  <cp:lastPrinted>2002-09-24T18:27:58Z</cp:lastPrinted>
  <dcterms:modified xsi:type="dcterms:W3CDTF">2005-07-06T13:45:18Z</dcterms:modified>
  <cp:revision>368</cp:revision>
  <dc:subject/>
  <dc:title>PowerPoint Presentation</dc:title>
</cp:coreProperties>
</file>