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85F-767F-4CBC-AEEE-E28CF50E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829-9681-4D28-A32F-7362B088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7A4-5A84-4939-B79D-F074D0B4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E85-962D-4162-8C20-E3C5064E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969-5601-443B-BCB0-F37FA4B3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80B-DFC1-47AB-AAFF-65A93179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DAF-173F-4D49-8AD4-748216ED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D23-2FCB-4A46-AF21-E6BEB2C6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F33-E673-410D-AF21-0A95A97C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18A-12C2-43C7-B31A-CAFE5F69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DAE-383C-4692-8CDE-9C21A6D9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8E7-F2A0-4009-B24D-1115EA60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98E4-FAA4-4635-ACF9-121FB1331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13B-2EE8-4256-BFAF-BC1642FF21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29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066680"/>
          <a:ext cx="532440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532440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791320" y="1295280"/>
            <a:ext cx="30477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and In Progress Non-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for the 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459080" y="3657600"/>
          <a:ext cx="5921280" cy="204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657600"/>
                    <a:ext cx="59212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C74-A675-4116-8DEB-6E17E534AB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29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34080" y="1733400"/>
            <a:ext cx="3105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on 2004 issues = 224,4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1733400"/>
          <a:ext cx="5400720" cy="26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33400"/>
                    <a:ext cx="540072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D3D-4B8D-481C-8EDB-A434C92DF05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29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447920"/>
          <a:ext cx="5324400" cy="247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532440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1676520"/>
            <a:ext cx="30477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,07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and In Progress Non-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E6A-6345-4CDF-8B1E-F45D6B32772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29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1447920"/>
            <a:ext cx="32763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,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17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to date since January 1, 2005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2,1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24640" y="4343400"/>
            <a:ext cx="32144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,25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7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39760" y="1447920"/>
          <a:ext cx="517824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447920"/>
                    <a:ext cx="51782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237-FFCF-4CA8-BD48-1C3DB082E27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Data Extract Vari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29/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2133720"/>
          <a:ext cx="728676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2867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133720" y="609588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 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5EF-3E8C-4960-A31E-B663B97E63B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ERCOT Initiated Issu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29/05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1981080"/>
            <a:ext cx="312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issue initiated by ERCOT to the TDSP or CR as a result of one of the following pro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Protection Period and 814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7 Received on Canceled Servic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new issue types to support Energy Aggregation Management Department issu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14400" y="1447920"/>
          <a:ext cx="7419960" cy="28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41996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1BF-EFDA-4A49-BF4F-27A91C6C15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8001000" cy="24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498-18AC-4C5A-9840-0B7D0761A9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34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3A6-91DE-4A63-8526-6DFCC2CEC9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772400" cy="445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D64-3B51-4268-9444-E71B386277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F10-8A46-4B47-B8C1-AA78A391A2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277-1BB7-461A-9C7B-93C9BD6204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78868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1FB-D58A-442D-847B-F036EE3CD6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xtract Variances (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nitiat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A0E-8EFC-47F2-B139-9A79F33436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29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34080" y="1733400"/>
            <a:ext cx="3105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on 2003 issues = 324,4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733400"/>
          <a:ext cx="5400720" cy="26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33400"/>
                    <a:ext cx="540072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A13-2CCF-4638-92C3-0D9B9175C1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n Boren</cp:lastModifiedBy>
  <cp:lastPrinted>2002-09-24T18:27:58Z</cp:lastPrinted>
  <dcterms:modified xsi:type="dcterms:W3CDTF">2005-07-06T14:03:11Z</dcterms:modified>
  <cp:revision>574</cp:revision>
  <dc:subject/>
  <dc:title>PowerPoint Presentation</dc:title>
</cp:coreProperties>
</file>