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D4F1-8456-4719-BBE6-71094A9F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216-D957-46B4-87F7-F89752F4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D483-76CA-449C-80FF-F60C9886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61F-7B53-42E5-9678-E89B2324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B57-A21F-4BE8-9308-6DD83D18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008-C416-4350-B83C-9E7BB77B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6E4-0FB8-4868-917C-5DB4C18B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744-33B7-4242-ABA9-559C1330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60D-8B1D-4F7F-ACD7-B630B8A2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725-A80F-432D-831D-6ACB513F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8FC-88C2-43F0-B975-D7D9CE37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5A8-14F2-4CCB-B1B8-A6E3E3BC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1A20-5EE2-4807-AD86-46C535D24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Mailing List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13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5B9-7782-4617-A01B-8D60CCBA318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sends message to multiple mail lists, including working group lists in attempt to cover desired audi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red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sends message to specific e-mail list designed for distribution of such message. Market Participants self- signup for the list, determining who should receive the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15C-BB28-4A59-B3F5-AB43CC1E7E7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for self-signup of Market Participants to appropriate mai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for efficiently sending messages to targeted 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ase using Working Group list for notic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number of duplicate e-m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52F-D0AC-429F-80A0-101CFDEF644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 of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Market Notices of a general nature intended for distribution to the ERCOT Market, but not applicable to any other specific mailing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ystem Outages/Releases – Wholesa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Market Notices concerning system outages or upgrade releases that affect Wholesale Market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ystem Outages/Releases – Ret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Market Notices concerning system outages or upgrade releases that affect Retail Market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tail Proces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concerning the processing of retail trans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tracts - Wholes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of interest to any Wholesale parties utilizing Data Extracts and re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tracts -Ret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of interest to any Retail parties utilizing Data Extracts and re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egal Notifi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to the ERCOT Market of a general legal 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C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concerning Transmission Congestion Righ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9EA-9D9D-4F14-8924-AF3FE018BF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 of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R/SC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of implementation or details of Protocol Revision Requests or System Change Reque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ttlements – 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concerning the Wholesale Settlements issued by ERCOT that are public in n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M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concerning Reliability Must Run contracts, units and deploy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ntracts/RFPs/RF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of Contracts, Requests for Proposal and Requests for Information that are issued by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ons Not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of interest to personnel concerned with power op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arket and Power Operations Bulletin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Distribution list for Market Operations Bulletins and Power Operations Bullet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Distribution list for information regarding Market Participant tes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Distribution list for notices of ERCOT provided training ev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507-162B-47E5-AE4A-2B3995A26E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s establishing distribution list set-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will be provided when new lists are available for Market Participant sign-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will be established when new lists will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urrent distributions will be used for a pre-determined timefr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DF8-5D9A-4C34-A177-38D40AFE309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57440" y="2189160"/>
            <a:ext cx="4033800" cy="37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5CB-B3C1-4D3D-A373-2B2A8D5E9C3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nn Boren</cp:lastModifiedBy>
  <cp:lastPrinted>2002-09-24T18:27:58Z</cp:lastPrinted>
  <dcterms:modified xsi:type="dcterms:W3CDTF">2005-07-06T13:31:53Z</dcterms:modified>
  <cp:revision>508</cp:revision>
  <dc:subject/>
  <dc:title>PowerPoint Presentation</dc:title>
</cp:coreProperties>
</file>