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A86B-E5B9-4155-B1B6-A8BB3DA00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OPS suggests criteria to halt migration to Day 10 Initial would be subject to materially adverse changes in Credit, Load, Resource or UFE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OPS Discussion, Action and Recommendation to TAC needed for setting Triggers would be derived from the Analysis Perio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BE07-E11A-424C-B50D-F3434F2F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D16-8B37-40E1-8DE7-A3B8E86B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7EDE-D0A7-4DB5-9CA1-0096D8BF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3801-D632-4C55-B73A-A1F6D544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C52-E154-4292-95EF-24CDE5A5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7E04-B94F-4D12-8C74-820DB9A0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36C9-85AD-4F8B-B689-0887F942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DA4-38A1-4DED-8136-DDCFE546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1BC-A7C8-44F0-8321-B8D7BD09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F15-D9C8-413B-BBCC-935B3448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054-DA80-4199-B939-286ED5E2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260-34F7-441F-8637-C8AF5D17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460E-5D8E-47D5-9FAF-BB745AC96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July 13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D8C-963F-4027-9891-44A39DB1FB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447920"/>
            <a:ext cx="8381880" cy="68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COPS  attendees desire to have Voting structure similar to P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Questions relating to Day Ahead Market short pay protocol language were passed to T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ERCOT presented findings concerning storage space required for keeping Zero Charge settlement data – Market needs more time to study individual imp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Consensus was reached that continued effort is needed in addressing Dispute and ADR processes in protoc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5402-9A11-493E-8637-D09040575F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PS Recomme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RR 568 Implementation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igrate Initial Settlements from 17 to 10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743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4320" y="155520"/>
            <a:ext cx="41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AC VOTING I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35E-0497-4A4E-A69F-75494F13A3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RR 568 Implementation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 for an Analysis period to review load extracts for Day 10 aggregation to determine expected impact when initial settlements are reduced from 17 to 10 day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arket Participant effects (individual analy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Individual Load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Resource Imbalance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RCOT Analysis of Market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redit Impact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otal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rket consensus on threshold needed to stop the migration to Day 10 is that set points are not likely to be known until analysis period data i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itial Settlement Statement publication begins reducing from 17 days to 10 days over a seven week period starting with Invoices published during the week of 2/9/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ven (7) weekly invoices published beginning on 2/9/06 will contain eight (8) initial Settlement Statements instead of the current seven 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943C-A5AC-4FBC-8111-E376EDEA54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45720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R 568 –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dit Impact Analysis Collate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uring the transition period, adjustments will be made to Estimated Aggregate Liability (EAL) and Net Load and Resource Imbalance (NLRI) credit calculations 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djustments will be made to TNT Protocols Section 16 credit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mplementation Analysis period will provide additional time to determine full effect to 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liminary credit analysis shows reductions in collateral realized as long as the quality of data utilized for the credit calculations is substantially the same as the current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43A7-6F96-4E90-8582-DB69D50D75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R 568 – Credit Impact Analysis EAL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3560" cy="1525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8683560" cy="152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6D60-C49C-4F50-A1DB-9D5FF3ADAD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160" y="304920"/>
            <a:ext cx="60958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R 568 Implementation Plan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1676520"/>
          <a:ext cx="8763120" cy="4884480"/>
        </p:xfrm>
        <a:graphic>
          <a:graphicData uri="http://schemas.openxmlformats.org/drawingml/2006/table">
            <a:tbl>
              <a:tblPr/>
              <a:tblGrid>
                <a:gridCol w="1828800"/>
                <a:gridCol w="6934320"/>
              </a:tblGrid>
              <a:tr h="231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nalysis Perio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ugu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mid Nov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RCOT begins providing Ch 0 cuts for Load and Generation Extrac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2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30 day run for Aug 1 to Aug 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30 day run Sept 15 to Oct 15,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Ch 0 is a day 8 aggregation - the data that would be used for day 10 settl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RCOT provides reporting similar to Report provided at COPS Feb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Market Participants exchange ideas and observations of Ch 0 cuts in conference calls every 2 weeks.   The 1</a:t>
                      </a:r>
                      <a:r>
                        <a:rPr b="1" lang="en-US" sz="14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call to occur approximately 20 days after the first date Ch 0 data was made avai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Nov 14,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Market Participants end Ch 0 analy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COPS presentation discussion on Analysis 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pare recommendation for TAC V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ec 1,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TAC meet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COPS report of Ch 0 analysis 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ossible VOTING ITEM to change the implementation plan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Jan 17,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4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Trade Date to Start the migration to Day 10.   Binding Settlement Statement would be published on February 2, 200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 weeks  – 8 day </a:t>
                      </a: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ettlement Invo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Feb 9, 16, 23, Mar 2, 9, 16, 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457200" y="118908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IMELINE:  Market Participant and ERCO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4D14-3D6E-4A2B-A25D-822FC2091B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9520" y="380880"/>
            <a:ext cx="49532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R 568 Implementatio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541008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57968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he following Metrics have been discussed by COPS for setting Triggers that would lead to recommendation for TAC to authorize stopping the migration to Day 10 Initial Sett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eview Market Wide UFE comparing Day 10 to Day 17 results – to understand if there is a materi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o material change in Load or settlement impact of a market participant caused by changing initial settlement to Day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24C4-D25E-4FB1-BCCE-021994ED01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51055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R 568 Implementatio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541008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274760"/>
            <a:ext cx="77724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COPS RECOMMEN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AC to recommend Board approval of  PRR 568 with the Implementation Plan as Outl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mplementation Plan 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nalysis period from August through mid Nov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Recommendation if necessary from COPS to halt mi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Recommendation to halt would be supported by Facts from the Analysis based on materially adverse Credit, Load, Resource or UFE imp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itial Settlement would begin with Trade Dates on Invoices published February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7 Week Implementation period where Settlement invoices would contain 8 trade day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BC73-81BA-49BF-8302-A1CB61D7EA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Ann Boren</cp:lastModifiedBy>
  <dcterms:modified xsi:type="dcterms:W3CDTF">2005-07-06T13:30:52Z</dcterms:modified>
  <cp:revision>136</cp:revision>
  <dc:subject/>
  <dc:title>Point-to-Point</dc:title>
</cp:coreProperties>
</file>