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AEFC-F3B7-4619-9666-E0A25D3427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479D-C8C8-4252-832D-A8960E89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D795-AA12-4110-B856-A75C6F2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E759-986C-4828-BBC5-44D612D90B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FE79-3F1A-4A38-A414-2FBD84FA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BF45-3320-42A9-AD4B-9D6DEABB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1650-1417-4DBA-891E-FBA5CA55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D9D9-8777-4CF3-8EF2-CB3DD386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7D87-64BD-4A6D-A87E-BB54F5CA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87F1-5079-4700-B4D5-5565495F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CC69-2265-4594-86DD-1271F22B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DC9C-3F82-4983-8F30-8E1458E8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A11F-AFE2-42A3-ADBE-5BB04C02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R 565 Priority Level = 3.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R 565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ly 1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A9BA-B16A-459C-A21B-2CE490DDD8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19400"/>
            <a:ext cx="84582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RR 565 changes the calculations for distribution losses so that the ERCOT actual load is used instead of the ERCOT forecasted lo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ransmission losses currently are made from ERCOT actual lo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f the forecast is higher than actual then DL shall be hig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f the forecast is lower than actual then DL shall be l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RR 565 affects every interval of settlement so the error reduction is applicable to every inter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otentially adds up over time to be a significant amount of settlement doll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5 Potential Settl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547D-DFEB-4F4D-BA20-04B4BD66A5C5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5 Potential Settl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2057400"/>
          <a:ext cx="769608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696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20F6-4CAC-41C3-AC4D-504786E3224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5 Potential Settl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2057400"/>
          <a:ext cx="80010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001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EEB4-71F5-49A3-A8A7-6BD80C264FF9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5 Potential Settl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2057400"/>
          <a:ext cx="80010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001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2F28-3E29-410F-8A3E-20E35E31FB2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5 Potential Settl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2133720"/>
          <a:ext cx="79250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DEA0-61AC-4511-8C42-ED70E5B117C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5 Potential Settl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2057400"/>
          <a:ext cx="792504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9250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7629-E236-41BF-93C4-FDC68AA1BEE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19400"/>
            <a:ext cx="845820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RR 565 affects every interval of settlement so the error reduction is applicable to every inter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o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adds up over time to be a significant amount of settlement doll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ssuming 5% distribution loss, 7/4/05 h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$5,553.24 net settlement dollar change (2 million/yr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$16,934.56 absolute settlement dollar change (6 million/yr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7E38-DC5E-4725-94E1-934AA2358B2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Ann Boren</cp:lastModifiedBy>
  <dcterms:modified xsi:type="dcterms:W3CDTF">2005-07-06T13:46:51Z</dcterms:modified>
  <cp:revision>126</cp:revision>
  <dc:subject/>
  <dc:title>PowerPoint Presentation</dc:title>
</cp:coreProperties>
</file>