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B30-9258-4D02-9BBF-C0963EBD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7A8-07D1-487A-8022-20E15749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D3E-9C0A-44B9-8812-AC56521C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CBF-81F2-4CDB-B064-602E5612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242-7D9C-43EA-80BE-A8D5452A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7AF-FF1E-47AF-A9C2-82F50159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069-7286-4A68-A98B-17463741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B58-E551-4546-87A1-035008A4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FA3-0AED-46A9-960F-58042FDA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D9B-1E57-4360-9419-A9A9DEFA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830-2A56-4237-872C-EF97B5BA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5E4-80A6-463D-BA0C-4DDAED5E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40BF-B304-4E0F-B7A4-C1486EF81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20" y="38736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70120" y="1295280"/>
            <a:ext cx="6937200" cy="5580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15840" bIns="1584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2209680"/>
            <a:ext cx="75438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rket Participant Defaul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int Taskforce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4114800"/>
            <a:ext cx="419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to 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7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5497-DBB5-4CE3-B20B-EF659C7FD4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force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 created RMS/WMS joint taskforc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current procedures for Market Participant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whether improvements can b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of taskforce is to minimize or eliminate uplift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875-303A-4006-B1D8-58164B2F5B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ckoff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of recent Market Participant default scenario and customer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of UFE analysis of recent default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of the various potential default scenarios that could lead to a mass transition of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/gap identification with current rules/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57B-1A21-4962-8104-1944E21488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 for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CT Rules (POLR, REP, Terms &amp; Conditions, Customer Prot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s (Sections 9, 11, 15, 16, 2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ty of tim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ty of transition task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cooperation of losing 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B1C-7EDB-4B85-BE36-60A3B4BC4F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for consideration categorized for efficient use of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triggering event issues to be addressed by W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-triggering event issues to be addressed by 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 issues will be handled in the Mass Transition Taskforce currently chaired by Cary Reed (AEP) and Charlie Bratton (TXUES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meeting is scheduled for July 11-12 to address both a short-term and a long-term 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needed, joint meetings will be facilitated to ensure progress and consensus of both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887-71C0-4B73-B79E-FD6592594C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s Transition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work of 07/11 - 07/12 meeting of the Mass Transition Taskforce covering post-triggering event iss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E56-8A22-492B-B11A-897B1B7071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57440" y="2189160"/>
            <a:ext cx="4033800" cy="374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72D-A944-48B3-950A-F9727ED6B1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nn Boren</cp:lastModifiedBy>
  <cp:lastPrinted>2002-08-23T18:53:47Z</cp:lastPrinted>
  <dcterms:modified xsi:type="dcterms:W3CDTF">2005-07-06T13:32:42Z</dcterms:modified>
  <cp:revision>574</cp:revision>
  <dc:subject/>
  <dc:title>PowerPoint Presentation</dc:title>
</cp:coreProperties>
</file>