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6627-AD65-40D2-9815-FDA1F2CE2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F2DF-7731-4173-AD34-34E3A9377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9FE0-6122-4726-AC66-0193F9059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C360-D631-4945-8A2A-DC0D355DB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879A-2716-455E-B9D5-5FAFBB79B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C402-9836-4906-8601-6F5F1E12D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FF5C-F8DD-4DCC-BD36-4D0C90735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320B-C00B-499F-9790-FD660E1E2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61FB-1F4C-4DA2-B90B-06F33B198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BA96-A892-49AF-BBDC-5966E8A61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858E-811D-4F6B-818B-D0512514B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EC6B-584F-4984-B631-7A80372A4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51E7-6087-4A7C-9612-1C0320DB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13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&amp;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6 Prioritization Stat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34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un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S approved RMS recommended prior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C review/approval of complete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gus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6 PPL with priorities presented to Boar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Dire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6 RMS Project Priorities and R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349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view of TAC-approved priorities and rank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view of 2005 PPL Changes of Interest to 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5D81-8B25-46BF-9568-5AF6544708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Ann Boren</cp:lastModifiedBy>
  <dcterms:modified xsi:type="dcterms:W3CDTF">2005-07-06T18:04:51Z</dcterms:modified>
  <cp:revision>93</cp:revision>
  <dc:subject/>
  <dc:title>Slide 1</dc:title>
</cp:coreProperties>
</file>