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0C22-10CC-46F4-8136-916862B3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75AE-2754-4191-A690-E845EF1B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629-DB5D-46C4-98C5-9EDBCF7E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B54-6C9D-43DF-A4D3-D40AF2CC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9CE-13F9-431E-9383-E83769A0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28B4-D832-4CFF-87A2-02647F9A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5AFE-6C95-4836-9A8F-9BC90C7A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AE6D-B3AC-4CAB-BAB0-E68D5654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89FC-3291-421F-87A5-3CA3C876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2DA-D958-434E-9206-C79858ED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D157-B46A-4A30-8445-13FCD206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AB7-4EEF-43A5-A39C-0DF0B264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4F2D-F4CA-4A6E-9526-850F066E9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swilburn@erco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X SET V2.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Coordination Te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Progress - R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1295280"/>
          <a:ext cx="853416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8534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70280" y="6094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Progress – TDSPs/ER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04920" y="1401840"/>
          <a:ext cx="8458200" cy="522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01840"/>
                    <a:ext cx="84582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Meeting scheduled for July 2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ulsa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Market Participant Progress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issues be sent to Suzette Wilburn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wilburn@ercot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COB July 1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 for July MCT Me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.1 M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 all approved Change Controls as identified by the TX SET Working Group for market-wid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coordination, clarification of issues, and documentation for v2.1 Change Controls through the Market Coordination Team (MCT)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the MOU/EC entrance into the Texas deregulated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Disconnect for Non-Pay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additional billing determinants to 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of Market Requirements from TX SET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600200"/>
            <a:ext cx="8308800" cy="48006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March 28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Completed May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Goal to complete early December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Goal to complete late Dec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sign off for Conceptua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Detai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Sign off on Detail Desig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ed Execu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a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xt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 Sign off on ETS and Reprocessing Detai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Internal Training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76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(pens dow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ed April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(internal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Completed May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Completion goal of July 2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ion goal of September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ion goal of November 2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ion goal of September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cember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600200"/>
            <a:ext cx="838224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lead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zette Wilb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2) 248-39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lburn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RCOT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/EC Entrance to Texas Deregulated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Transactional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icient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process soli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828800"/>
            <a:ext cx="754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es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Scripts developed by TTPT Script Su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the following Implementation Guides based on issues identified by M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14_20: Guide did not accurately reflect MCT agreement on Requirement 33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50_01: CC2004-629 inadvertently removed an ANSI required data 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were reposted to the 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.1 M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828800"/>
            <a:ext cx="7620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articipant Progres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arket Participants were requested to provide their progress on Design/Code/Test of TX SET V2.1 and identify any risks that would delay Flight 1005 o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 will be reported through September 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 Reports for August RMS status are due COB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uly 29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n response will default to previous month’s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.1 M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Progress - R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1311120"/>
          <a:ext cx="8763120" cy="516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11120"/>
                    <a:ext cx="8763120" cy="51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Progress - R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0880" y="1371600"/>
          <a:ext cx="85345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534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21:16Z</dcterms:created>
  <dc:creator>jkassel</dc:creator>
  <dc:description/>
  <dc:language>en-US</dc:language>
  <cp:lastModifiedBy>Ann Boren</cp:lastModifiedBy>
  <dcterms:modified xsi:type="dcterms:W3CDTF">2005-07-06T13:36:54Z</dcterms:modified>
  <cp:revision>34</cp:revision>
  <dc:subject/>
  <dc:title>Slide 1</dc:title>
</cp:coreProperties>
</file>