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0194-A067-428D-A40C-6653B943F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2E74-5F69-4B52-AD53-D9F218AF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F531-8971-4039-85A0-AEAE37F1E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282A-90D6-42B4-8C16-A2D971835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215F-8382-4C9A-B078-F17BFB13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3CEC-E46F-457C-8100-6DBD0B1F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B658-9A6D-465C-8D7A-F822D826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268D-64E4-4BD8-9C59-AFA60E2A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09A1-F318-46C4-B264-0E97B381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645D-324B-4C27-8F54-71DB3041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7EA4-143D-46BD-AEB7-B021BEEC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E96E-169C-4570-A6AE-5D509F5D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47E9-CCF8-4A7D-8E56-F7D9B94ED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" y="4114800"/>
            <a:ext cx="9142560" cy="304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0" y="1600200"/>
            <a:ext cx="914256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2437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9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exas Legislative Sessi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05 – Summary of ERCOT and industry impa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52280" y="152280"/>
            <a:ext cx="2819520" cy="1143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057400" y="4648320"/>
            <a:ext cx="557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RCOT TAC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June 2,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rk Wal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95480" y="6091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RCOT Direct Impact - Senate Bill 40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t with Sunset Commission 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Utility Commission Reauthorized to 2011 (OPUC also in SB 40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C clear authority to oversee ERC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ard Gover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 Market Mon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52280" y="152280"/>
            <a:ext cx="28195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95480" y="6091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nate Bill 408 - co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C authority 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see and investigate finances, budget, operations, cost efficiencies, salaries &amp; benefits, use of de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cribe a system of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repor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aud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pect ERCOT facilities, records &amp;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 administrative penal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lve disp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52280" y="152280"/>
            <a:ext cx="28195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5480" y="6091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nate Bill 408 - co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ard Govern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2 new independent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 chairman to be one of the 5 independent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rification of public meetings policy for Board, including 7-day notice, public comment, special prov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 member disclosure of “substantial financial interest” in matters before the board, recusal from voting or particip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CT approval of governance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52280" y="152280"/>
            <a:ext cx="28195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95480" y="6091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nate Bill 408 - co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ependent Market Moni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to support and fund the independent market monitor selected by the P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CT to supervise the Mon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CT to retain enforcement r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ical Standards for Mon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52280" y="152280"/>
            <a:ext cx="28195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95480" y="6091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e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ering &amp; Energy Efficiency (HB 212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competitive metering services limited to customers required by ERCOT to have IDR 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charge to allow TDSPs to recover costs of deploying advanced meters or meter networks for non-IDR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s may request that non-IDR customers receive advanced metering if the REP pays the difference in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rifies that customers own their meter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52280" y="152280"/>
            <a:ext cx="28195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5480" y="6091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ergy Efficien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Efficiency (SB 71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rifies that TDU efficiency programs may address reductions in peak demand as well as energy consumption and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offer programs must be technology-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PUC to expand market transformation programs to include, energy-smart schools, appliance recycling, A/C system tune-ups, trees for energy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he TDUs to spend up to 10% of their efficiency funds on R&amp;D for efficiency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ores the low-income weatherization programs previously funded by the System Benefit F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52280" y="152280"/>
            <a:ext cx="28195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95480" y="6091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tergy area (SE Texa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ition formally delayed until PUC certifies an independent power region for the area (HB 156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ts the transmission rate freeze imposed by SB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52280" y="152280"/>
            <a:ext cx="28195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95480" y="6091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redit Sco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hibits REPs from denying electric service to or setting prices for residential customers based on their credit history (HB 41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52280" y="152280"/>
            <a:ext cx="28195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2T14:10:26Z</dcterms:created>
  <dc:creator>jmarcoux</dc:creator>
  <dc:description/>
  <dc:language>en-US</dc:language>
  <cp:lastModifiedBy>A. Boren</cp:lastModifiedBy>
  <dcterms:modified xsi:type="dcterms:W3CDTF">2005-06-03T13:33:41Z</dcterms:modified>
  <cp:revision>65</cp:revision>
  <dc:subject/>
  <dc:title>PowerPoint Presentation</dc:title>
</cp:coreProperties>
</file>