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D66-188F-40B7-A390-093B8FBE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956-EC7A-48B8-B314-F7C6D721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856-7558-4AF4-9777-0652E2D6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6E4-630B-4191-A3ED-6DA90031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451-467B-4E1D-AD23-6751EF9B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496-43E0-4CAF-8C6F-AD8FA4DF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77F-5C53-4679-8A1D-BE542311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C29-9D31-4A0D-B124-F074D35D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52A-2C8D-4701-BBC7-F0B10315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327-4249-4D51-9DC7-3F800975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AAC-14E8-43E0-9B0D-2F104BF6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CA5-CB34-4892-88CB-28F01C09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1AC9-4CBA-4DBF-A0E4-8085C5A1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V2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Coordination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all approved Change Controls as identified by the TX SET Working Group for market-wid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oordination, clarification of issues, and documentation for v2.1 Change Controls through the Market Coordination Team (MCT)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MOU/EC entrance into the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Disconnect for Non-Pa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additional billing determinants to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Market Requirements from TX SET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830880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March 28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Goal to complete mid Ma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Goal to complete early Dec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late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harter sign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d V2.1 Market Requirements – sign off on April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Internal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Planning Schedule including resource list and cost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Sign off on Internal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nternal Conceptu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enter next phase (Exec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76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pril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Completion goal of May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letion goal of Jul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Septembe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September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600200"/>
            <a:ext cx="838224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zette Wil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lburn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/EC Entrance to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ransactional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cess soli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54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Contac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sent to RMS, TDSP and CR Primary list serves on Tuesday, April 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person will be responsible for providing status on Design, Development, Inter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will be presented to RMS in June, July, August, and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report will be similar to previous market releases (MIMO, V1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report is due 10 days prior to the RMS meeting each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133720"/>
            <a:ext cx="7620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T requests approval for the implementation of TX SET V2.1 over the Decemb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eke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in New Orleans, May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the V2.1 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RMG and Protocols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A. Boren</cp:lastModifiedBy>
  <dcterms:modified xsi:type="dcterms:W3CDTF">2005-05-26T18:59:23Z</dcterms:modified>
  <cp:revision>31</cp:revision>
  <dc:subject/>
  <dc:title>Slide 1</dc:title>
</cp:coreProperties>
</file>