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2EE-5FBA-4A6F-BC2C-AD5D4FD2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FC6-B49B-4243-9031-18EEF7E4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823-E7AE-4206-A29A-91E62601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633-432D-48E6-A4D7-05C4D267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E1C-69A5-4F09-BF15-0B42D66F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D61-9DBC-4A27-BA32-6140507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E17-AE36-42ED-B225-765C4DC9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EB5-10BD-4716-BC30-E8BE4B47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1E1-1568-404A-B7FC-1CABF09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D6F-1DBA-4FBF-8636-515044F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8CF-7585-4B10-B665-BC09A00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2B3-9E45-4211-A816-5BA72B4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B01-47B6-48AE-B10F-62EF364C6B74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8A6B-9B0A-4432-B76C-06EB591A80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- TNT Post Filing Activiti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bel Flor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, 2005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NT Post-filing Summar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filing activity commenced on April 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heduled future meetings through Ju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dentified the “Punch-list” items for completion by the gro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ed Program Management approach to market redesign effor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committee of Credit Working Group and TNT met on April 7 to begin discussions of credit issues on the “Punch-list” and has been reviewing Section 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077-7882-4C3E-8217-F2265CA892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53C39-330D-4C56-B9A9-B60EC6427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utstanding “Punch-list”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sues (Section 16) – Credit Work Grou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Co-Optimization – distributed the whitepaper for com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Revisions Synchronization – as of April 200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Independent Market Moni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397-D791-4123-BA9B-2198730E6A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7C51C-5EA9-4072-8CC0-DC44F594A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ted first round of review for Day-Ahead Settlement, CRR Settlement and RU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/26/05 began review of the Real-Time Settlement formul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be distributing sections for round 2 comments this wee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BB1-9DB6-4F4A-BF15-E6E1D16F58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FC7C6-131E-4572-ADB5-778290180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Sub-Committe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/10/05 posted initial draft of the Section 16 Credit Requirements langu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/24/05 completed review of round 1 comment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/3/05 will distribute Section 16 for round 2 com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/9/05 round 2 comments du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F15-81AC-469B-8CCA-38EC2F2814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603FE-655B-41AB-B2C1-8B570FCF5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ther “Punch-list” Item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Co-optimiz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paper re-circulated and looking for market participant to sponsor details behind the concep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Synchronization- PRS to provide framework for incorporating changes to Protocols after base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Independent Market Monitor- Activity pend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5D4-24DD-4B2B-849B-C84CF7B45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23CBE-25E9-4D6C-AC45-951B46A97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. Boren</cp:lastModifiedBy>
  <dcterms:modified xsi:type="dcterms:W3CDTF">2005-06-01T19:11:37Z</dcterms:modified>
  <cp:revision>375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