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A8ECC9C-2276-476D-BE40-DFFE323DF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s a document with many different documents living inside of it.  Those have now been incorporated into the document.  The primary goal was to provide a more user friendly gu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0E37-0CCD-4BB9-AB6A-E040A199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28800" y="429804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6C2-4D63-4F7B-AD13-FAB2F999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AE2-E72E-4AE5-9A49-45FD406D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09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0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828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09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90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D9C-E6FF-4C11-B6D6-FC0841F7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6171-7683-49A6-8D51-A37D5BDD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3871-B16B-49FB-9E8E-23B91ABD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ACB0-2130-46C6-B4D6-0E0479C4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DEDC-A921-4A77-B4B4-9A07AEF4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31D6-4276-4E89-A1B9-10617F40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3000" y="1219320"/>
            <a:ext cx="693432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9398-96A3-4739-8C6C-4731BF8B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CF3C-92B8-4FFD-8217-6BCEE46D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82880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96F3-55D8-409C-9A26-79F94531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928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7CE1-DD38-4F21-959F-300F5A01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C615-FEA5-40FA-B7BA-00802087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28800" y="429804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A1C8-6700-42DA-A6B6-2BC2EB60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928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2DD8-E3E4-4836-B390-A0A4AE02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09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90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828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09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90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5766-B2EC-421B-88C7-DD82A455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D03-ED63-421A-8FB4-515D4596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CC13-2AB3-40FA-9CE5-48BE9D38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ED6-BA81-4C3B-993E-A94E9514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1219320"/>
            <a:ext cx="693432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6F79-56C8-4B3A-AC0D-F79223EA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B92E-FC5E-48BD-A282-65618F89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1BD-FD0C-4D76-B612-87DDF286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2006-C373-4E00-B9C1-E3C2DA25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2352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7B71-A093-4E92-AE44-B87E058A4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0"/>
            <a:ext cx="2133720" cy="12952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219320"/>
            <a:ext cx="8686800" cy="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5960" y="6405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405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62560" y="6405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13AC-56F4-4B7A-A5AC-EC59CAFFC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0"/>
            <a:ext cx="2133720" cy="12952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686800" cy="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438280" y="5486040"/>
            <a:ext cx="556272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June 2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8240" y="2057400"/>
            <a:ext cx="8915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tail Market Subcommitt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Update to TAC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6324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ting Items 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 742 – Automated Retail Transaction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Date for Texas SET v2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GRR 022 – Draft Reformatted R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88680" y="0"/>
            <a:ext cx="63500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ting Item – SCR 742</a:t>
            </a:r>
            <a:br>
              <a:rPr sz="38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ated Retail Transaction Verifi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by the Texas Test Plan Team to support automated testing of retail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MPs automated testing to verify internal system changes that do not require complete marke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00000"/>
              </a:lnSpc>
              <a:spcBef>
                <a:spcPts val="1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the effort required to complete certification testing for all 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4572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4572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ommunicatio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4572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457200">
              <a:lnSpc>
                <a:spcPct val="100000"/>
              </a:lnSpc>
              <a:spcBef>
                <a:spcPts val="15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the ‘time-to-marke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00000"/>
              </a:lnSpc>
              <a:spcBef>
                <a:spcPts val="1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not replace a thorough end-to-end marke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6324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ting Item – SCR 742</a:t>
            </a:r>
            <a:br>
              <a:rPr sz="38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ated Retail Transaction Verifi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345680"/>
            <a:ext cx="784872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ved by RMS at April 12, 2005 meeting with a priority of 1.3 and a rank of 57.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t to May PRS meeting for prioritiz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itized by PRS  as a 1.3 and a rank of 57.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6324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oting Item – Implementation Date for Texas SET v2.1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42200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December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ek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– Completed April 7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– Completed May 18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– Completion Goal July 7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Testing – Completion Goal September 21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Training – Completion Goal September 9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Testing – Completion Goal November 23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– December 4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5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14600" y="1522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ting Item - RMGRR 022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ormatted Retail Market Gu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46120" y="159984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s and modifies the Retail Market Guide to reflect current market processes and procedures and provides a more user-friendly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520560">
              <a:lnSpc>
                <a:spcPct val="13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yle and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520560">
              <a:lnSpc>
                <a:spcPct val="13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type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520560">
              <a:lnSpc>
                <a:spcPct val="13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for defined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520560">
              <a:lnSpc>
                <a:spcPct val="13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nds embedde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520560">
              <a:lnSpc>
                <a:spcPct val="13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s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520560">
              <a:lnSpc>
                <a:spcPct val="13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broader reference and updated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520560">
              <a:lnSpc>
                <a:spcPct val="15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523880"/>
            <a:ext cx="7391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01:50Z</dcterms:created>
  <dc:creator>CF48</dc:creator>
  <dc:description/>
  <dc:language>en-US</dc:language>
  <cp:lastModifiedBy>A. Boren</cp:lastModifiedBy>
  <dcterms:modified xsi:type="dcterms:W3CDTF">2005-06-01T17:37:27Z</dcterms:modified>
  <cp:revision>68</cp:revision>
  <dc:subject/>
  <dc:title>RMS Report to TAC 6/3/0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62963268</vt:r8>
  </property>
  <property fmtid="{D5CDD505-2E9C-101B-9397-08002B2CF9AE}" pid="3" name="_AuthorEmail">
    <vt:lpwstr>lcao@entergy.com</vt:lpwstr>
  </property>
  <property fmtid="{D5CDD505-2E9C-101B-9397-08002B2CF9AE}" pid="4" name="_AuthorEmailDisplayName">
    <vt:lpwstr>CAO-CONN, LAN</vt:lpwstr>
  </property>
  <property fmtid="{D5CDD505-2E9C-101B-9397-08002B2CF9AE}" pid="5" name="_EmailSubject">
    <vt:lpwstr>June 2, 2005 TAC Meeting Agenda and Available Background  Material - Revised RMS Update</vt:lpwstr>
  </property>
  <property fmtid="{D5CDD505-2E9C-101B-9397-08002B2CF9AE}" pid="6" name="_ReviewingToolsShownOnce">
    <vt:lpwstr/>
  </property>
</Properties>
</file>