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BE4-AC4B-4E23-8F24-4F56365C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6DA-0071-4466-B324-12AAFF3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6EC-F345-4ECB-ADFB-5F54E53E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4E4-1614-4B19-AB6C-0A968C9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A0C-119A-4C5A-8269-2C3EC79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7977-4E11-4448-B4A1-262AB04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B3E-C69C-4AE1-9F25-9668B48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EB0-6A68-444A-A88C-540EBC9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F70-3CA5-45AE-AB08-F486DB4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CC7-1FDE-4DEB-8A51-E83725D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4E1-DDEC-4CBE-B091-83282DB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927-D812-4B84-8DFA-A69DA9DA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F610-24F9-4498-B24A-7CAE7B2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E49-8345-42F6-82D8-66430D3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A37E-BDEE-4C9E-A446-FCE77CE6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39BA-58FF-43BD-A7F0-367EC40B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1924-6206-4C47-9AFD-474FD1BD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524-CFEB-4C3C-9651-43DD4E9D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EA7-4E90-4632-8B99-75D2A850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A77-8674-4903-9255-40E07B1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E5B-3F01-41D7-BAC1-060C907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650-5D07-4195-BD97-0CEDBD3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EEE-44A7-4173-88DB-AF7802E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45C-6330-4DC3-A9D5-9A22A88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E74-40C9-4EDA-9166-773356D68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886200" y="6248520"/>
            <a:ext cx="12193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234-E2B4-4AF4-BD2E-37D3CA73E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86200" y="624852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isac.com/library-CSS-WS.htm" TargetMode="External"/><Relationship Id="rId3" Type="http://schemas.openxmlformats.org/officeDocument/2006/relationships/hyperlink" Target="http://www.nerc.com/~filez/standards-cyber.html" TargetMode="External"/><Relationship Id="rId4" Type="http://schemas.openxmlformats.org/officeDocument/2006/relationships/hyperlink" Target="http://www.nerc.com/~filez/standards/Cyber-Security-Permanent.html" TargetMode="External"/><Relationship Id="rId5" Type="http://schemas.openxmlformats.org/officeDocument/2006/relationships/hyperlink" Target="http://www.nerc.com/~filez/standards/Standards-sitemap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391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 2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86200" y="6172200"/>
            <a:ext cx="12193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057400"/>
            <a:ext cx="8076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yber Security Standard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ritical Infrastructure Prote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oposed Implementation Plan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(cont’d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86440" y="731880"/>
            <a:ext cx="816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liance Schedule for Standard CIP-004-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mission Providers, those Balancing Authorities and Transmission Operators Not Requir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o Self-certify to UA Standard 1200, NERC, and Regional Reliability Organizat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600200"/>
          <a:ext cx="8763120" cy="3429000"/>
        </p:xfrm>
        <a:graphic>
          <a:graphicData uri="http://schemas.openxmlformats.org/drawingml/2006/table">
            <a:tbl>
              <a:tblPr/>
              <a:tblGrid>
                <a:gridCol w="1257480"/>
                <a:gridCol w="1638360"/>
                <a:gridCol w="1828800"/>
                <a:gridCol w="1828800"/>
                <a:gridCol w="220968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ec. 31, 2009 &amp; Beyo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ndard CIP-004-1 – Personnel &amp;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2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6320" y="5105520"/>
            <a:ext cx="8762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 - Auditably Compliant means the entity meets the full intent of the requirement and can prove compliance to an aud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 - Substantially Compliant means an entity has begun the process to become compliant with a requirement, but is not y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uditably Compli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W - Begin Work means a responsible entity has developed a plan to address the requirements of a standar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594360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plementation Plan - Draft 3 contains comparable tables for the other Draft Stand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280" y="1676520"/>
          <a:ext cx="8686800" cy="3387600"/>
        </p:xfrm>
        <a:graphic>
          <a:graphicData uri="http://schemas.openxmlformats.org/drawingml/2006/table">
            <a:tbl>
              <a:tblPr/>
              <a:tblGrid>
                <a:gridCol w="1301760"/>
                <a:gridCol w="1617840"/>
                <a:gridCol w="1725480"/>
                <a:gridCol w="1724040"/>
                <a:gridCol w="2317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gist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stration +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gistration + 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gistration + 36 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ll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ndard CIP-004-1 – Personnel &amp;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2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pliance Schedule for Standard CIP-004-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erchange Authorities, Transmission Owners, Generator Owners, Generator Operators, an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ad-Serving Entities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oposed Implementation Plan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105520"/>
            <a:ext cx="8762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 - Auditably Compliant means the entity meets the full intent of the requirement and can prove compliance to an aud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 - Substantially Compliant means an entity has begun the process to become compliant with a requirement, but is not y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uditably Compli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W - Begin Work means a responsible entity has developed a plan to address the requirements of a standar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594360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plementation Plan - Draft 3 contains comparable tables for the other Draft Stand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RC Cyber Security 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esisac.com/library-CSS-WS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yber Security Workshop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nerc.com/~filez/standards-cyber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RC Urgent Action Cyber Security Standard 12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nerc.com/~filez/standards/Cyber-Security-Permanen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RC Cyber Security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RC Cyber Security Cross-Re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ft Implementation Plan for Cyber Security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www.nerc.com/~filez/standards/Standards-sitemap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RC Reliability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y Have a Cyber Security Standar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ed Cases of Cyber atta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ral SCADA Systems disabled due to virus att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S &amp; SCADA Systems moving toward more standard architectures with known vulner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risk of cyber incidents due to inside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ust 14, 2003 Northeast Black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evidence of terrorist activities, but recognition that the grid is vulner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yber Security Standard Backgroun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ber Security Standards Authorization Request (SAR) for Standard 1200 initiated in April 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RC Board of Trustees adopted this Standard into the NERC Compliance Enforcement Program (CEP) in August 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ontrol Areas and Reliability Coordinators (ERCOT) in North America were expected to self-certify in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arter 200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yber Security Standard Background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cont’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1200 is set to expire in August 2005 and will be replaced by Standard 13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C is re-organizing its Standard’s naming and number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1300 is now part of the Critical Infrastructure Protection (CIP)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P-002 thru CIP-009 will replace 1301 thru 130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ly proposed to become effective on November 1, 200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t/Numbering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82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standards as compared to sections in Draft Standard 1300 – Draf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95280" y="1371600"/>
          <a:ext cx="6731280" cy="4533840"/>
        </p:xfrm>
        <a:graphic>
          <a:graphicData uri="http://schemas.openxmlformats.org/drawingml/2006/table">
            <a:tbl>
              <a:tblPr/>
              <a:tblGrid>
                <a:gridCol w="2057400"/>
                <a:gridCol w="2919600"/>
                <a:gridCol w="175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d Section 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p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Std #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urity Management Contro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3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ical Cyber As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2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nel and 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4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ctronic Secu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5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Secu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6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s Security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7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ident Reporting and Response Plan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8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overy Pl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-009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457200"/>
          <a:ext cx="8229600" cy="5675400"/>
        </p:xfrm>
        <a:graphic>
          <a:graphicData uri="http://schemas.openxmlformats.org/drawingml/2006/table">
            <a:tbl>
              <a:tblPr/>
              <a:tblGrid>
                <a:gridCol w="761760"/>
                <a:gridCol w="1708200"/>
                <a:gridCol w="575964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ho will the Standard Apply to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liability Coordinator (RC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sures the reliability of the bulk transmission system within its Reliability Authority area. This is the highest reliability authorit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alancing Authority (B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ntegrates resource plans ahead of time, and maintains load-interchange-resource balance within its metered boundary and supports system frequency in real ti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nterchange Authority (I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uthorizes valid and balanced Interchange Schedu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lanning Authority (P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lans the bulk electric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ransmission Provider (TP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vides transmission services to qualified market participants under applicable transmission service agree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ransmission Owner (T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wns transmission fac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ransmission Operator (TOP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perates and maintains the transmission facilities, and executes switching ord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istribution Provider (DP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vides and operates the “wires” between the transmission system and the custom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Generator (GOP &amp; G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wns and operates generation unit(s) or runs a market for generation products that performs the functions of supplying energy and Interconnected Operations Ser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urchasing-Selling Entity (PS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he function of purchasing or selling energy, capacity and all necessary Interconnected Operations Services as requir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oad-Serving Entity (LS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ecures energy and transmission (and related generation services) to serve the end us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ndard 1200 Expect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as the Control Area &amp; Reliability Coordinator self-certified in 1Q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self-certification is required of Control Areas and Reliability Coord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wner/operators of SCADA and EM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xpected to be in compli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ut are not required to self-certif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no sanctions that can be imposed at thi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plementation Schedu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P-001- Sabotage Repor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April 1, 2005 for RCs, BAs, TOPs, GOPs, and L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P-002 thru CIP-00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, TOPs, RCs, TPs, NERC, &amp; RROs auditably compliant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quirements by 2Q0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s, TOs, GOs, GOPs, &amp; LSEs auditably compliant within 36 months of registration to a Functional Model 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oposed Implementation Pla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319040" y="760680"/>
            <a:ext cx="656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liance Schedule for Standard CIP-004-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Balancing Authorities and Transmission Operators Required to Self-certify 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Urgent Action (UA) Standard 1200, and Reliability Coordina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3880"/>
          <a:ext cx="8381880" cy="335304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838080"/>
                <a:gridCol w="914400"/>
                <a:gridCol w="914400"/>
                <a:gridCol w="914400"/>
                <a:gridCol w="914400"/>
                <a:gridCol w="9144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Qtr 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qui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trol Cen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ther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trol Cen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ther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trol Cen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ther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trol Cen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ther Faci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ndard CIP-004-1 – Personnel &amp;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2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52280" y="5029200"/>
            <a:ext cx="861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 - Auditably Compliant means the entity meets the full intent of the requirement and can prove compliance to an aud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 - Substantially Compliant means an entity has begun the process to become compliant with a requirement, but is not y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uditably Compli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W - Begin Work means a responsible entity has developed a plan to address the requirements of a standar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86728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plementation Plan - Draft 3 contains comparable tables for the other Draft Stand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5:25:06Z</dcterms:created>
  <dc:creator> </dc:creator>
  <dc:description/>
  <dc:language>en-US</dc:language>
  <cp:lastModifiedBy>A. Boren</cp:lastModifiedBy>
  <dcterms:modified xsi:type="dcterms:W3CDTF">2005-05-26T19:53:00Z</dcterms:modified>
  <cp:revision>24</cp:revision>
  <dc:subject/>
  <dc:title>Slide 1</dc:title>
</cp:coreProperties>
</file>