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1720E-740D-4C3C-9D12-64BCBAAC3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4D347-C5FD-4EEA-8C53-DA127035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96C4C-BEAC-4FCD-BE18-2BADB1E0D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E8E44-83F7-4C1F-B44B-92A5755A1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DBE6C-F911-4C87-8B63-C7A64CC98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9F520-9E9E-4E6F-8F71-40E829E9A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5151A-5AF9-4A04-B343-2D10DC22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ECD63-B85C-4074-941D-4335804F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421EB-1C18-4C97-B248-C14B7AAF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6ABB-30C5-4E18-974F-55BF48AAE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3383-C72B-459F-9228-E00D268E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6B91-CB29-474B-9529-6078E6285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ACC1-60E4-4D9D-B7A2-699358CE9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ummary of TAC Procedure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une 2,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7B012C-F9D2-49EE-A6F2-072D0BFD5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o revisions recommended by any subcommit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PS voted to endorse the proposed revis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3DAA7C-568C-479D-A41F-43EE6B697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COPS &amp; PRS</a:t>
            </a:r>
            <a:endParaRPr b="0" lang="en-US" sz="2800" spc="-1" strike="noStrike">
              <a:solidFill>
                <a:srgbClr val="000000"/>
              </a:solidFill>
              <a:latin typeface="Times New Roman"/>
            </a:endParaRPr>
          </a:p>
        </p:txBody>
      </p:sp>
      <p:sp>
        <p:nvSpPr>
          <p:cNvPr id="71"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P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Membership shall consist of 2 Standing Representatives from each Seg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C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anding Reps on the COPS consist of 14 SRs, 2 from each of the 7 market segmen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rm:  The term of the SRs is one ye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no sig.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mbership shall consist of 2 Standing Representatives from each Segmen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bcommittee Review</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No objection from PRS or COPS</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00BC3C3A-4B06-4632-8A4C-B1374C3B9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RMS, ROS, WMS</a:t>
            </a:r>
            <a:endParaRPr b="0" lang="en-US" sz="2800" spc="-1" strike="noStrike">
              <a:solidFill>
                <a:srgbClr val="000000"/>
              </a:solidFill>
              <a:latin typeface="Times New Roman"/>
            </a:endParaRPr>
          </a:p>
        </p:txBody>
      </p:sp>
      <p:sp>
        <p:nvSpPr>
          <p:cNvPr id="74"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least 1 representative from each of 4 market segments and a majority of the subcommittee members must be present at a meeting to constitute a quorum.</a:t>
            </a:r>
            <a:endParaRPr b="0" lang="en-US" sz="2800" spc="-1" strike="noStrike">
              <a:solidFill>
                <a:srgbClr val="000000"/>
              </a:solidFill>
              <a:latin typeface="Times New Roman"/>
            </a:endParaRPr>
          </a:p>
        </p:txBody>
      </p:sp>
      <p:sp>
        <p:nvSpPr>
          <p:cNvPr id="75"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Representatives may participate in the meeting via telephone, but participation via telephone shall not count towards a quor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bcommittee Review</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No objection from any subcommitte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518B4AF0-56A4-4B54-89A5-D01FE800E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COPS &amp; PRS</a:t>
            </a:r>
            <a:endParaRPr b="0" lang="en-US" sz="2800" spc="-1" strike="noStrike">
              <a:solidFill>
                <a:srgbClr val="000000"/>
              </a:solidFill>
              <a:latin typeface="Times New Roman"/>
            </a:endParaRPr>
          </a:p>
        </p:txBody>
      </p:sp>
      <p:sp>
        <p:nvSpPr>
          <p:cNvPr id="77"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P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t least one standing member from each of 4 market segments must be pres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C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 quorum must be present.  A quorum is at least 1 Standing Rep in each of at least 4 segments.</a:t>
            </a:r>
            <a:endParaRPr b="0" lang="en-US" sz="2800" spc="-1" strike="noStrike">
              <a:solidFill>
                <a:srgbClr val="000000"/>
              </a:solidFill>
              <a:latin typeface="Times New Roman"/>
            </a:endParaRPr>
          </a:p>
        </p:txBody>
      </p:sp>
      <p:sp>
        <p:nvSpPr>
          <p:cNvPr id="78"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no chan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 quorum must be present.  A quorum is defined as at least 1 SR in each of at least 4 Segmen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bcommittee Review</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RS did not comment; COPS voted to support</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70DA8553-0207-4386-A0B4-4D48B9234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C Membership – PUCT Staff</a:t>
            </a:r>
            <a:endParaRPr b="0" lang="en-US" sz="3200" spc="-1" strike="noStrike">
              <a:solidFill>
                <a:srgbClr val="000000"/>
              </a:solidFill>
              <a:latin typeface="Times New Roman"/>
            </a:endParaRPr>
          </a:p>
        </p:txBody>
      </p:sp>
      <p:sp>
        <p:nvSpPr>
          <p:cNvPr id="8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reference in current procedures] </a:t>
            </a:r>
            <a:endParaRPr b="0" lang="en-US" sz="2800" spc="-1" strike="noStrike">
              <a:solidFill>
                <a:srgbClr val="000000"/>
              </a:solidFill>
              <a:latin typeface="Times New Roman"/>
            </a:endParaRPr>
          </a:p>
        </p:txBody>
      </p:sp>
      <p:sp>
        <p:nvSpPr>
          <p:cNvPr id="8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UCT may designate a PUCT staff person to be an ex-officio, non-voting member of TAC.</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2FF31D2-0DF2-4017-871E-A93A74BD35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Entities – COPS &amp; PRS</a:t>
            </a:r>
            <a:endParaRPr b="0" lang="en-US" sz="2800" spc="-1" strike="noStrike">
              <a:solidFill>
                <a:srgbClr val="000000"/>
              </a:solidFill>
              <a:latin typeface="Times New Roman"/>
            </a:endParaRPr>
          </a:p>
        </p:txBody>
      </p:sp>
      <p:sp>
        <p:nvSpPr>
          <p:cNvPr id="8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COPS &amp; P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ities entitled to vote (Voting Entities) are ERCOT Corporate Members, ERCOT Adjunct Members, and entities who are not ERCOT Corporate Members, but who could qualify as a member within the definition of a particular Segment.  Voting Entities must align themselves each calendar year with a Segment for which they qualify or, for Adjunct Members, a Segment to which they are similar.  </a:t>
            </a:r>
            <a:endParaRPr b="0" lang="en-US" sz="2400" spc="-1" strike="noStrike">
              <a:solidFill>
                <a:srgbClr val="000000"/>
              </a:solidFill>
              <a:latin typeface="Times New Roman"/>
            </a:endParaRPr>
          </a:p>
        </p:txBody>
      </p:sp>
      <p:sp>
        <p:nvSpPr>
          <p:cNvPr id="8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oting Entities that align themselves with a Segment must be aligned with that same Segment for all TAC subcommittees, and remain aligned with that Segment for the entire calendar ye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1EEBB06-8DF0-4B5E-B30B-8879022818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Entities – COPS &amp; PRS</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RS did not object to the additional langua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OPS voted to support the additional langua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48BAD9-17B9-440B-94B7-DF4ACD4E35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committee Voting Entities for COPS &amp; PRS – Consumer Segment Addition</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COPS &amp; P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ities entitled to vote (Voting Entities) are ERCOT Corporate Members, ERCOT Adjunct Members, and entities who are not ERCOT Corporate Members, but who could qualify as a member within the definition of a particular Segment.  Voting Entities must align themselves each calendar year with a Segment for which they qualify or, for Adjunct Members, a Segment to which they are similar.  </a:t>
            </a:r>
            <a:endParaRPr b="0" lang="en-US" sz="2400" spc="-1" strike="noStrike">
              <a:solidFill>
                <a:srgbClr val="000000"/>
              </a:solidFill>
              <a:latin typeface="Times New Roman"/>
            </a:endParaRPr>
          </a:p>
        </p:txBody>
      </p:sp>
      <p:sp>
        <p:nvSpPr>
          <p:cNvPr id="89"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 </a:t>
            </a:r>
            <a:r>
              <a:rPr b="1" lang="en-US" sz="2400" spc="-1" strike="noStrike">
                <a:solidFill>
                  <a:srgbClr val="ff3300"/>
                </a:solidFill>
                <a:latin typeface="Times New Roman"/>
              </a:rPr>
              <a:t>same as current, plu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ing Entities that align themselves with a Segment must be aligned with that same Segment for all TAC subcommittees, and remain aligned with that Segment for the entire calendar year.  </a:t>
            </a:r>
            <a:r>
              <a:rPr b="0" lang="en-US" sz="2400" spc="-1" strike="noStrike">
                <a:solidFill>
                  <a:srgbClr val="3333cc"/>
                </a:solidFill>
                <a:latin typeface="Times New Roman"/>
              </a:rPr>
              <a:t>For the Residential subsegment of the Consumer Segment, Voting Entities are limited to the Standing Representative, their designated Alternate Representative or prox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4995ABC-5DA5-4A6F-AAC2-9AB14B712D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is permitted to expedite processes provided the Chair distributes to the roster (e-mail) a detailed description of the issue or proposition.  The chair will submit meeting minutes wherein the vote is recorded for review of accuracy at the next scheduled subcommittee meeting.  (Individual exceptions will be made where needed to accommodate member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515CA4-E207-4E89-83CE-47E9B0F22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93"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mail vote is permitted provided a notification is distributed to the subcommittee distribution list that includes a detailed description of the issue or proposition.  A request for an e-mail vote can only be initiated by the Chair or Vice Chair.  A quorum of Standing Reps must participate in the e-mail vote.  Participation requires casting a vote, or abstaining.  Votes shall be submitted to ERCOT for tallying by the close of two (2) Business Days after notification of the vote.  Votes are tallied in the same manner as a regular meeting.  The final tally shall be distributed to the subcommittee distribution list and posted on the 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596D60-17B5-415B-B06C-2E0C43824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643533-5485-4B47-BBFE-FC661C9C92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s – E-Mail Voting, RMS, ROS, WMS</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o revisions recommended by any subcommitte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5DC314-30EA-48E2-9A44-5708AD1D8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COPS &amp; PRS</a:t>
            </a:r>
            <a:endParaRPr b="0" lang="en-US" sz="2800" spc="-1" strike="noStrike">
              <a:solidFill>
                <a:srgbClr val="000000"/>
              </a:solidFill>
              <a:latin typeface="Times New Roman"/>
            </a:endParaRPr>
          </a:p>
        </p:txBody>
      </p:sp>
      <p:sp>
        <p:nvSpPr>
          <p:cNvPr id="97"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mmendations for Protocol revisions from the PRS must be supported by a majority of the votes cast by the entities present in accordance with segment fractional voting. Votes will be tallied and records retained by ERCO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ct of the majority of the votes represented by members present and a minimum of three (3) votes will be the act of the subcommittee.</a:t>
            </a:r>
            <a:endParaRPr b="0" lang="en-US" sz="2000" spc="-1" strike="noStrike">
              <a:solidFill>
                <a:srgbClr val="000000"/>
              </a:solidFill>
              <a:latin typeface="Times New Roman"/>
            </a:endParaRPr>
          </a:p>
        </p:txBody>
      </p:sp>
      <p:sp>
        <p:nvSpPr>
          <p:cNvPr id="98"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4BBDEDD-439B-4579-B0BA-7F9B73FA4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a:t>
            </a:r>
            <a:br>
              <a:rPr sz="2800"/>
            </a:br>
            <a:r>
              <a:rPr b="1" lang="en-US" sz="2800" spc="-1" strike="noStrike">
                <a:solidFill>
                  <a:srgbClr val="000000"/>
                </a:solidFill>
                <a:latin typeface="Times New Roman"/>
              </a:rPr>
              <a:t>PRS Recommendation</a:t>
            </a:r>
            <a:endParaRPr b="0" lang="en-US" sz="2800" spc="-1" strike="noStrike">
              <a:solidFill>
                <a:srgbClr val="000000"/>
              </a:solidFill>
              <a:latin typeface="Times New Roman"/>
            </a:endParaRPr>
          </a:p>
        </p:txBody>
      </p:sp>
      <p:sp>
        <p:nvSpPr>
          <p:cNvPr id="10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mmendations for Protocol revisions from the PRS must be supported by a majority of the votes cast by the entities present in accordance with segment fractional voting. Votes will be tallied and records retained by ERCO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ct of the majority of the votes represented by members present and a minimum of three (3) votes will be the act of the subcommittee.</a:t>
            </a:r>
            <a:endParaRPr b="0" lang="en-US" sz="2000" spc="-1" strike="noStrike">
              <a:solidFill>
                <a:srgbClr val="000000"/>
              </a:solidFill>
              <a:latin typeface="Times New Roman"/>
            </a:endParaRPr>
          </a:p>
        </p:txBody>
      </p:sp>
      <p:sp>
        <p:nvSpPr>
          <p:cNvPr id="10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motion of the subcommittee passes when 1) a majority of the aggregate of the fractional Segment votes are affirmative and 2) a minimum of three (3) Segment Votes are affirmative.  </a:t>
            </a:r>
            <a:r>
              <a:rPr b="0" lang="en-US" sz="2000" spc="-1" strike="noStrike">
                <a:solidFill>
                  <a:srgbClr val="ff0000"/>
                </a:solidFill>
                <a:latin typeface="Times New Roman"/>
              </a:rPr>
              <a:t>A Segment Vote is considered affirmative when the majority of votes cast for the Segment are affirmative</a:t>
            </a:r>
            <a:r>
              <a:rPr b="0" lang="en-US" sz="2000" spc="-1" strike="noStrike">
                <a:solidFill>
                  <a:srgbClr val="000000"/>
                </a:solidFill>
                <a:latin typeface="Times New Roman"/>
              </a:rPr>
              <a:t>.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8A3318C-DABD-4B61-8F79-116598D53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Entities – COPS &amp; PRS</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OPS voted to support the language as proposed by P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DC20EC-343D-4FB4-BC75-AA8B823A8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76320"/>
            <a:ext cx="6629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COPS &amp; PRS – </a:t>
            </a:r>
            <a:br>
              <a:rPr sz="2800"/>
            </a:br>
            <a:r>
              <a:rPr b="1" lang="en-US" sz="2800" spc="-1" strike="noStrike">
                <a:solidFill>
                  <a:srgbClr val="000000"/>
                </a:solidFill>
                <a:latin typeface="Times New Roman"/>
              </a:rPr>
              <a:t>Consumer Segment Addition</a:t>
            </a:r>
            <a:endParaRPr b="0" lang="en-US" sz="2800" spc="-1" strike="noStrike">
              <a:solidFill>
                <a:srgbClr val="000000"/>
              </a:solidFill>
              <a:latin typeface="Times New Roman"/>
            </a:endParaRPr>
          </a:p>
        </p:txBody>
      </p:sp>
      <p:sp>
        <p:nvSpPr>
          <p:cNvPr id="105" name="PlaceHolder 2"/>
          <p:cNvSpPr>
            <a:spLocks noGrp="1"/>
          </p:cNvSpPr>
          <p:nvPr>
            <p:ph/>
          </p:nvPr>
        </p:nvSpPr>
        <p:spPr>
          <a:xfrm>
            <a:off x="304560" y="1294920"/>
            <a:ext cx="8839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motion of the subcommittee passes when 1) a majority of the aggregate of the fractional Segment votes are affirmative and 2) a minimum of three (3) Segment Votes are affirmative.  </a:t>
            </a:r>
            <a:r>
              <a:rPr b="0" lang="en-US" sz="2000" spc="-1" strike="noStrike">
                <a:solidFill>
                  <a:srgbClr val="ff0000"/>
                </a:solidFill>
                <a:latin typeface="Times New Roman"/>
              </a:rPr>
              <a:t>A Segment Vote is considered affirmative when the majority of votes cast for the Segment are affirmative</a:t>
            </a:r>
            <a:r>
              <a:rPr b="0" lang="en-US" sz="2000" spc="-1" strike="noStrike">
                <a:solidFill>
                  <a:srgbClr val="3333cc"/>
                </a:solidFill>
                <a:latin typeface="Times New Roman"/>
              </a:rPr>
              <a:t>, except for the Consumer Segment</a:t>
            </a:r>
            <a:r>
              <a:rPr b="0" lang="en-US" sz="2000" spc="-1" strike="noStrike">
                <a:solidFill>
                  <a:srgbClr val="000000"/>
                </a:solidFill>
                <a:latin typeface="Times New Roman"/>
              </a:rPr>
              <a:t>.  </a:t>
            </a:r>
            <a:r>
              <a:rPr b="0" lang="en-US" sz="2000" spc="-1" strike="noStrike">
                <a:solidFill>
                  <a:srgbClr val="3333cc"/>
                </a:solidFill>
                <a:latin typeface="Times New Roman"/>
              </a:rPr>
              <a:t>For the Consumer Segment, the Segment Vote is considered affirmative when the majority of votes cast for each subsegment are affirmative.   </a:t>
            </a:r>
            <a:r>
              <a:rPr b="0" lang="en-US" sz="2000" spc="-1" strike="noStrike">
                <a:solidFill>
                  <a:srgbClr val="000000"/>
                </a:solidFill>
                <a:latin typeface="Times New Roman"/>
              </a:rPr>
              <a:t>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C1D5D4-7D63-4A57-AAF8-1BE061CD80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107"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108"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 </a:t>
            </a:r>
            <a:r>
              <a:rPr b="0" lang="en-US" sz="1900" spc="-1" strike="noStrike">
                <a:solidFill>
                  <a:srgbClr val="ff3300"/>
                </a:solidFill>
                <a:latin typeface="Times New Roman"/>
              </a:rPr>
              <a:t>except for the Consumer Segment</a:t>
            </a: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23F3AD01-DB03-4048-AF38-442CC15E06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Abstention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RMS, ROS, WMS and PRS did not have an alternate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F2840D-6757-4F3F-816E-32866E363D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9056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112" name="PlaceHolder 2"/>
          <p:cNvSpPr>
            <a:spLocks noGrp="1"/>
          </p:cNvSpPr>
          <p:nvPr>
            <p:ph/>
          </p:nvPr>
        </p:nvSpPr>
        <p:spPr>
          <a:xfrm>
            <a:off x="304560" y="1371600"/>
            <a:ext cx="8458200" cy="50292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OPS Recommendation for COPS and PRS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2800" spc="-1" strike="noStrike">
                <a:solidFill>
                  <a:srgbClr val="ff3300"/>
                </a:solidFill>
                <a:latin typeface="Times New Roman"/>
              </a:rPr>
              <a:t>In the event that a Voting Entity, their Designated Alternate Representative, or proxy, abstains from a vote, the Segment Vote is allocated among the members casting a vote, except for the Consumer Segm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e Suggestio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e event that a representative of a Voting Entity abstains from a vote, the Segment Vote is allocated among the Voting Entities casting a vote, except for the Consumer Seg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8C313-9077-4EDE-B048-AC560AE9D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PRS</a:t>
            </a:r>
            <a:br>
              <a:rPr sz="4000"/>
            </a:b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a:t>
            </a: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Voting by E-Mail from the Standing Representatives may be used in consideration of an Urgent Revision Request, the need for an ERCOT Impact Analysis, and other administrative functions.  The affirmative vote of eight (8) Standing Representatives shall be the act of the PRS by E-Mail vote.  The structure for E-mail voting is as follows: A request for an E-mail vote can only be initiated by the Chair, Vice Chair or their designate of the PRS or approved designate in the absence of the Chair. Votes for an ERCOT Impact Analysis, and other administrative functions must be returned by the close of two (2) Business Days after issuance to be considered.  Votes for Urgent Requests must be returned within 48 hours.  All votes will be forwarded to ERCOT for tallying. The final tally will be sent to the Standing Representatives of the PRS, the sponsor of the revision request, and forwarded to the PRS distribution list and posted on the M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D2C91-8B5C-49B2-B707-106AC9403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COPS</a:t>
            </a:r>
            <a:br>
              <a:rPr sz="4000"/>
            </a:b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by the Standing Representatives is permitted to expedite processes provided the chair distributes to the ERCOT COPS public distribution list a detailed description of the issue or proposition.  The chair will submit meeting minutes wherein the vote is recorded for review of accuracy at the next scheduled subcommittee meeting.  The chair will establish appropriate timing for e-mail vote responses.  (Individual exceptions will be made where needed to accommodate Standing Representative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8199F3-71DD-440B-84AA-D32109F47E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s of TAC</a:t>
            </a:r>
            <a:endParaRPr b="0" lang="en-US" sz="36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udge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AC shall submit an annual budget to the ERCOT CEO covering expenditures for projects proposed by TAC.  These expenditures will be included in the annual budget submitted to the Board for approval at the ERCOT Annual Meeting. </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ioritization of Projects Proposed by the Marke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AC shall be responsible for setting the priority of projects approved through the PRR, SCR and guide revision processes.  TAC may delegate the responsibility for recommending the priority of market projects to one of its subcommittee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D848E4B-385D-48F4-9047-F032E11F4D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COPS &amp; PRS</a:t>
            </a:r>
            <a:br>
              <a:rPr sz="4000"/>
            </a:br>
            <a:endParaRPr b="0" lang="en-US" sz="2800" spc="-1" strike="noStrike">
              <a:solidFill>
                <a:srgbClr val="000000"/>
              </a:solidFill>
              <a:latin typeface="Times New Roman"/>
            </a:endParaRPr>
          </a:p>
        </p:txBody>
      </p:sp>
      <p:sp>
        <p:nvSpPr>
          <p:cNvPr id="118" name="PlaceHolder 2"/>
          <p:cNvSpPr>
            <a:spLocks noGrp="1"/>
          </p:cNvSpPr>
          <p:nvPr>
            <p:ph/>
          </p:nvPr>
        </p:nvSpPr>
        <p:spPr>
          <a:xfrm>
            <a:off x="228240" y="1219320"/>
            <a:ext cx="8534520" cy="54864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posed</a:t>
            </a:r>
            <a:r>
              <a:rPr b="0" lang="en-US" sz="2200" spc="-1" strike="noStrike">
                <a:solidFill>
                  <a:srgbClr val="000000"/>
                </a:solidFill>
                <a:latin typeface="Times New Roman"/>
              </a:rPr>
              <a:t> –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n e-mail vote is permitted provided a notification is distributed to the subcommittee distribution list that includes a detailed description of the issue or proposition.  E-mail votes for COPS and PRS are primarily conducted for administrative purposes.  A request for an e-mail vote can only be initiated by the Chair or Vice Chair.  For e-mail votes, each Standing Representative shall have one (1) vote and a quorum of Standing Representatives must participate in the vote.  [NOTE: This is different than the current requirement for PRS, which is “The affirmative votes of eight Standing Representatives shall be the act of the PRS by E-Mail vote.”]   Participation requires casting a vote or abstaining.  Votes shall be submitted to ERCOT for tallying by the close of two (2) Business Days after notification of the vote.  A PRS e-mail vote on a request for Urgent Status shall be submitted to ERCOT for tallying within forty-eight (48) hours.  Votes are tallied in the same manner as a regular meeting.  The final tally shall be distributed to the subcommittee distribution list and posted on the MI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F789C32-F200-4858-AF98-F13DEF9E11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s – E-Mail Voting – COPS &amp; PRS</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RS did not have an alternate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EFF31B-BDA3-4459-9299-E9D99B2E6F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Subcommittees – E-Mail Voting</a:t>
            </a:r>
            <a:br>
              <a:rPr sz="4000"/>
            </a:b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PS Recommendation for COPS</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by the </a:t>
            </a:r>
            <a:r>
              <a:rPr b="0" lang="en-US" sz="2800" spc="-1" strike="noStrike">
                <a:solidFill>
                  <a:srgbClr val="ff3300"/>
                </a:solidFill>
                <a:latin typeface="Times New Roman"/>
              </a:rPr>
              <a:t>Voting Entities</a:t>
            </a:r>
            <a:r>
              <a:rPr b="0" lang="en-US" sz="2800" spc="-1" strike="noStrike">
                <a:solidFill>
                  <a:srgbClr val="000000"/>
                </a:solidFill>
                <a:latin typeface="Times New Roman"/>
              </a:rPr>
              <a:t> is permitted to expedite processes provided the chair distributes to the ERCOT COPS public distribution list a detailed description of the issue or proposition.  The chair will submit meeting minutes wherein the vote is recorded for review of accuracy at the next scheduled subcommittee meeting.  The chair will establish appropriate timing for e-mail vote responses.  (Individual exceptions will be made where needed to accommodate </a:t>
            </a:r>
            <a:r>
              <a:rPr b="0" lang="en-US" sz="2800" spc="-1" strike="noStrike">
                <a:solidFill>
                  <a:srgbClr val="ff3300"/>
                </a:solidFill>
                <a:latin typeface="Times New Roman"/>
              </a:rPr>
              <a:t>Voting Entities</a:t>
            </a:r>
            <a:r>
              <a:rPr b="0" lang="en-US" sz="2800" spc="-1" strike="noStrike">
                <a:solidFill>
                  <a:srgbClr val="000000"/>
                </a:solidFill>
                <a:latin typeface="Times New Roman"/>
              </a:rPr>
              <a:t>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F4BBBC-898F-4218-910E-08844A236C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COPS &amp; PRS</a:t>
            </a:r>
            <a:endParaRPr b="0" lang="en-US" sz="2800" spc="-1" strike="noStrike">
              <a:solidFill>
                <a:srgbClr val="000000"/>
              </a:solidFill>
              <a:latin typeface="Times New Roman"/>
            </a:endParaRPr>
          </a:p>
        </p:txBody>
      </p:sp>
      <p:sp>
        <p:nvSpPr>
          <p:cNvPr id="124"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has 1 vote and each entity entitled to vote and present at the meeting will receive an equal fraction of its Segment’s 1 vot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COPS, same as PRS</a:t>
            </a:r>
            <a:endParaRPr b="0" lang="en-US" sz="2000" spc="-1" strike="noStrike">
              <a:solidFill>
                <a:srgbClr val="000000"/>
              </a:solidFill>
              <a:latin typeface="Times New Roman"/>
            </a:endParaRPr>
          </a:p>
        </p:txBody>
      </p:sp>
      <p:sp>
        <p:nvSpPr>
          <p:cNvPr id="125"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expand Consumer Segment Vote to 1 1/2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ll meetings, each Segment shall have one (1) Segment Vote except the Consumer Segment, which shall have one and one-half Segment Votes.  The </a:t>
            </a:r>
            <a:r>
              <a:rPr b="0" lang="en-US" sz="2000" spc="-1" strike="noStrike">
                <a:solidFill>
                  <a:srgbClr val="ff3300"/>
                </a:solidFill>
                <a:latin typeface="Times New Roman"/>
              </a:rPr>
              <a:t>representative</a:t>
            </a:r>
            <a:r>
              <a:rPr b="0" lang="en-US" sz="2000" spc="-1" strike="noStrike">
                <a:solidFill>
                  <a:srgbClr val="000000"/>
                </a:solidFill>
                <a:latin typeface="Times New Roman"/>
              </a:rPr>
              <a:t> of each </a:t>
            </a:r>
            <a:r>
              <a:rPr b="0" lang="en-US" sz="2000" spc="-1" strike="noStrike">
                <a:solidFill>
                  <a:srgbClr val="ff3300"/>
                </a:solidFill>
                <a:latin typeface="Times New Roman"/>
              </a:rPr>
              <a:t>Voting Entity</a:t>
            </a:r>
            <a:r>
              <a:rPr b="0" lang="en-US" sz="2000" spc="-1" strike="noStrike">
                <a:solidFill>
                  <a:srgbClr val="000000"/>
                </a:solidFill>
                <a:latin typeface="Times New Roman"/>
              </a:rPr>
              <a:t> present at the meeting and participating in the vote shall receive an equal fraction of its Segment’s vote, except for the CS which shall be divided into three subseg that receive one third of the CS vote.  For the CS, if no rep from a subseg is present at a meeting or all reps from a subseg abstain, such subseg’s fractional vote is allocated equally to the subseg that are present and casting a vo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E5C384E-ACD9-4319-83A8-BC1F055E75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COPS &amp; PRS</a:t>
            </a:r>
            <a:endParaRPr b="0" lang="en-US" sz="28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RS recommended that the current language be maintained.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OPS voted to recommend that the current language be maintain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071FF4-FE14-42A8-9A51-E3D31DE3BD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for COPS &amp; PRS – Consumer Segment Addition</a:t>
            </a:r>
            <a:endParaRPr b="0" lang="en-US" sz="2800" spc="-1" strike="noStrike">
              <a:solidFill>
                <a:srgbClr val="000000"/>
              </a:solidFill>
              <a:latin typeface="Times New Roman"/>
            </a:endParaRPr>
          </a:p>
        </p:txBody>
      </p:sp>
      <p:sp>
        <p:nvSpPr>
          <p:cNvPr id="129" name="PlaceHolder 2"/>
          <p:cNvSpPr>
            <a:spLocks noGrp="1"/>
          </p:cNvSpPr>
          <p:nvPr>
            <p:ph/>
          </p:nvPr>
        </p:nvSpPr>
        <p:spPr>
          <a:xfrm>
            <a:off x="456840" y="1294920"/>
            <a:ext cx="8458200" cy="5257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ll meetings, each Segment shall have one (1) Segment Vote except the Consumer Segment, which shall have one and one-half Segment Votes.  The </a:t>
            </a:r>
            <a:r>
              <a:rPr b="0" lang="en-US" sz="2400" spc="-1" strike="noStrike">
                <a:solidFill>
                  <a:srgbClr val="ff3300"/>
                </a:solidFill>
                <a:latin typeface="Times New Roman"/>
              </a:rPr>
              <a:t>representative</a:t>
            </a:r>
            <a:r>
              <a:rPr b="0" lang="en-US" sz="2400" spc="-1" strike="noStrike">
                <a:solidFill>
                  <a:srgbClr val="000000"/>
                </a:solidFill>
                <a:latin typeface="Times New Roman"/>
              </a:rPr>
              <a:t> of each </a:t>
            </a:r>
            <a:r>
              <a:rPr b="0" lang="en-US" sz="2400" spc="-1" strike="noStrike">
                <a:solidFill>
                  <a:srgbClr val="ff3300"/>
                </a:solidFill>
                <a:latin typeface="Times New Roman"/>
              </a:rPr>
              <a:t>Voting Entity</a:t>
            </a:r>
            <a:r>
              <a:rPr b="0" lang="en-US" sz="2400" spc="-1" strike="noStrike">
                <a:solidFill>
                  <a:srgbClr val="000000"/>
                </a:solidFill>
                <a:latin typeface="Times New Roman"/>
              </a:rPr>
              <a:t> present at the meeting and participating in the vote shall receive an equal fraction of its Segment’s vote, except for the CS which shall be divided into three subsegments </a:t>
            </a:r>
            <a:r>
              <a:rPr b="0" lang="en-US" sz="2400" spc="-1" strike="noStrike">
                <a:solidFill>
                  <a:srgbClr val="3333cc"/>
                </a:solidFill>
                <a:latin typeface="Times New Roman"/>
              </a:rPr>
              <a:t>(Residential, Commercial and Industrial)</a:t>
            </a:r>
            <a:r>
              <a:rPr b="0" lang="en-US" sz="2400" spc="-1" strike="noStrike">
                <a:solidFill>
                  <a:srgbClr val="000000"/>
                </a:solidFill>
                <a:latin typeface="Times New Roman"/>
              </a:rPr>
              <a:t> that receive one third of the CS vote.  For the CS, if no rep from a subseg is present at a meeting, such subseg’s fractional vote is allocated equally to the subseg that are present.  </a:t>
            </a:r>
            <a:r>
              <a:rPr b="0" lang="en-US" sz="2400" spc="-1" strike="noStrike">
                <a:solidFill>
                  <a:srgbClr val="3333cc"/>
                </a:solidFill>
                <a:latin typeface="Times New Roman"/>
              </a:rPr>
              <a:t>If a representative from a subsegment abstains from a vote, the fraction of the Consumer Segment Vote allocated to such representative is not included in the vote tal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B50483-37CB-4C49-BAF7-FC9ACC6F9E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RMS, ROS, WMS</a:t>
            </a:r>
            <a:endParaRPr b="0" lang="en-US" sz="2800" spc="-1" strike="noStrike">
              <a:solidFill>
                <a:srgbClr val="000000"/>
              </a:solidFill>
              <a:latin typeface="Times New Roman"/>
            </a:endParaRPr>
          </a:p>
        </p:txBody>
      </p:sp>
      <p:sp>
        <p:nvSpPr>
          <p:cNvPr id="131"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AC Procedures </a:t>
            </a:r>
            <a:r>
              <a:rPr b="0" lang="en-US" sz="2200" spc="-1" strike="noStrike">
                <a:solidFill>
                  <a:srgbClr val="000000"/>
                </a:solidFill>
                <a:latin typeface="Times New Roman"/>
              </a:rPr>
              <a:t>Membership shall consist of 1 to 4 representatives from each Segment.</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com. Procedures add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umber of representatives for each Segment shall be determined by the TAC members representing that Segment.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132"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a:t>
            </a:r>
            <a:r>
              <a:rPr b="0" lang="en-US" sz="2000" spc="-1" strike="noStrike">
                <a:solidFill>
                  <a:srgbClr val="000000"/>
                </a:solidFill>
                <a:latin typeface="Times New Roman"/>
              </a:rPr>
              <a:t> </a:t>
            </a:r>
            <a:r>
              <a:rPr b="1" lang="en-US" sz="2000" spc="-1" strike="noStrike">
                <a:solidFill>
                  <a:srgbClr val="000000"/>
                </a:solidFill>
                <a:latin typeface="Times New Roman"/>
              </a:rPr>
              <a:t>TAC Procedur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shall consist of 1 to 4 Standing Representatives from each Segm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 adding:</a:t>
            </a:r>
            <a:endParaRPr b="0" lang="en-US" sz="20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The number of Standing Representatives for each Segment shall be determined by the TAC Representatives for that Segment.  Standing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CD5C69F3-3F85-47FB-A7E9-C20C36933F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81080" y="151920"/>
            <a:ext cx="701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4" name="PlaceHolder 2"/>
          <p:cNvSpPr>
            <a:spLocks noGrp="1"/>
          </p:cNvSpPr>
          <p:nvPr>
            <p:ph/>
          </p:nvPr>
        </p:nvSpPr>
        <p:spPr>
          <a:xfrm>
            <a:off x="380880" y="1371600"/>
            <a:ext cx="83822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mbership:  Membership shall consist of one (1) to four (4) Standing Representatives from each Market Segment elected or appointed by the voting members of the respective Market Segment with the exception of the Consumer Segment. The Consumer Segment shall consist of three (3) subsegments (Residential, Commercial and Industrial).  The number of Standing Representatives for each Market Segment shall be determined by the TAC members representing that Market Segment.  Standing Representatives, if not employed by the voting member thereby represented, must be confirmed in writing by such member (signed by a duly authorized representative of the member).  These will be the voting members of the subcommittee.  The Standing Representatives of the subcommittee shall elect from amongst themselves a Chair and Vice-Chair, subject to confirmation by the TAC, for a one-year term on a calendar year basis.  ERCOT shall appoint an appropriate staff member to attend and participate in the subcommittee meeting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5" name=""/>
          <p:cNvSpPr/>
          <p:nvPr/>
        </p:nvSpPr>
        <p:spPr>
          <a:xfrm>
            <a:off x="2286000" y="152280"/>
            <a:ext cx="6172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A11363-7A57-4971-94DF-D0023B1FC9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RMS, ROS, WMS</a:t>
            </a:r>
            <a:endParaRPr b="0" lang="en-US" sz="2800" spc="-1" strike="noStrike">
              <a:solidFill>
                <a:srgbClr val="000000"/>
              </a:solidFill>
              <a:latin typeface="Times New Roman"/>
            </a:endParaRPr>
          </a:p>
        </p:txBody>
      </p:sp>
      <p:sp>
        <p:nvSpPr>
          <p:cNvPr id="137"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ach Segment has 1 vote except the Consumer Segment, which will have 1 ½ votes.  Votes are fractionally and equally divided among the representatives of each Seg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 </a:t>
            </a:r>
            <a:r>
              <a:rPr b="1" lang="en-US" sz="2400" spc="-1" strike="noStrike">
                <a:solidFill>
                  <a:srgbClr val="ff3300"/>
                </a:solidFill>
                <a:latin typeface="Times New Roman"/>
              </a:rPr>
              <a:t>same as current, plu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divided among the SRs of each segment present at the meeting and casting a vote, except the Consumer Segment which is divided into 3 subsegments </a:t>
            </a:r>
            <a:r>
              <a:rPr b="0" lang="en-US" sz="2400" spc="-1" strike="noStrike">
                <a:solidFill>
                  <a:srgbClr val="3333cc"/>
                </a:solidFill>
                <a:latin typeface="Times New Roman"/>
              </a:rPr>
              <a:t>(Residential, Commercial and Industrial),</a:t>
            </a:r>
            <a:r>
              <a:rPr b="0" lang="en-US" sz="2400" spc="-1" strike="noStrike">
                <a:solidFill>
                  <a:srgbClr val="000000"/>
                </a:solidFill>
                <a:latin typeface="Times New Roman"/>
              </a:rPr>
              <a:t> each of which has 1/3 of the segment vote. For CS, if no SR from a subseg. is present or all SRs from a subseg. abstain, the vote is allocated to subseg. present and casting a vo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F6E3BF0-7EF6-4ECE-8D57-2BEC48859D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for RMS, ROS, WMS – Consumer Segment Addition</a:t>
            </a:r>
            <a:endParaRPr b="0" lang="en-US" sz="2800" spc="-1" strike="noStrike">
              <a:solidFill>
                <a:srgbClr val="000000"/>
              </a:solidFill>
              <a:latin typeface="Times New Roman"/>
            </a:endParaRPr>
          </a:p>
        </p:txBody>
      </p:sp>
      <p:sp>
        <p:nvSpPr>
          <p:cNvPr id="140"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a:solidFill>
                  <a:srgbClr val="000000"/>
                </a:solidFill>
                <a:latin typeface="Times New Roman"/>
              </a:rPr>
              <a:t>Each Segment has 1 vote except the Consumer Segment, which will have 1 ½ votes.  Votes are fractionally and equally divided among the Standing Representatives of each Segment. Votes divided among the SRs of each segment present at the meeting and casting a vote, except the Consumer Segment which is divided into 3 subsegments </a:t>
            </a:r>
            <a:r>
              <a:rPr b="0" lang="en-US" sz="2800" spc="-1" strike="noStrike">
                <a:solidFill>
                  <a:srgbClr val="3333cc"/>
                </a:solidFill>
                <a:latin typeface="Times New Roman"/>
              </a:rPr>
              <a:t>(Residential, Commercial and Industrial),</a:t>
            </a:r>
            <a:r>
              <a:rPr b="0" lang="en-US" sz="2800" spc="-1" strike="noStrike">
                <a:solidFill>
                  <a:srgbClr val="000000"/>
                </a:solidFill>
                <a:latin typeface="Times New Roman"/>
              </a:rPr>
              <a:t> each of which has 1/3 of the segment vote. For CS, if no SR from a subseg. is present, the vote is allocated to subseg. present and casting a vote.  </a:t>
            </a:r>
            <a:r>
              <a:rPr b="0" lang="en-US" sz="2800" spc="-1" strike="noStrike">
                <a:solidFill>
                  <a:srgbClr val="3333cc"/>
                </a:solidFill>
                <a:latin typeface="Times New Roman"/>
              </a:rPr>
              <a:t>If a representative from a subsegment abstains from a vote, the fraction of the Consumer Segment Vote allocated to such representative is not included in the vote tally.</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8FC3F5-1196-4955-940E-9342A58AAF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ation Of Alternate Rep.</a:t>
            </a:r>
            <a:endParaRPr b="0" lang="en-US" sz="36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timefra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used, a designated Alternate Representative and proxy must be sent to ERCOT for each TAC meeting and shall only be valid for such meeting.</a:t>
            </a:r>
            <a:endParaRPr b="0" lang="en-US" sz="28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timefra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TAC Representative wishes to designate an Alternate Representative or proxy, a notification of the designation of such Alternate Representative or proxy must be sent to ERCOT and shall be valid for the time period designated by the TAC Representative.</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3B7387A1-5E35-4FA6-BB86-500C8B07CA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s:  Each Segment shall have a Segment Vote of 1.0 except the Consumer Segment, which shall have a Segment Vote of 1.5. Segment Votes shall be equally divided into Fractional Segment Votes among the Standing Representatives, designated Alternate Representatives and proxies of each Market Segment that cast a vote.  The Consumer Segment Vote shall be equally divided into a Fractional Segment Vote of .5 for each of the three subsegments. The Fractional Segment Vote for each subsegment of the Consumer Segment is allocated to the Standing Representatives, designated Alternate Representatives, and proxies of the subsegment casting a vote.  For the Consumer Segment, if no Standing Representative from a subsegment is present at a meeting or all Standing Representatives, designated Alternate Representatives and proxies of a subsegment abstain from the vote, the Consumer Segment vote is allocated equally to the subsegments that cast a vote.</a:t>
            </a:r>
            <a:endParaRPr b="0" lang="en-US" sz="2400" spc="-1" strike="noStrike">
              <a:solidFill>
                <a:srgbClr val="000000"/>
              </a:solidFill>
              <a:latin typeface="Times New Roman"/>
            </a:endParaRPr>
          </a:p>
        </p:txBody>
      </p:sp>
      <p:sp>
        <p:nvSpPr>
          <p:cNvPr id="142" name=""/>
          <p:cNvSpPr/>
          <p:nvPr/>
        </p:nvSpPr>
        <p:spPr>
          <a:xfrm>
            <a:off x="2286000" y="152280"/>
            <a:ext cx="6172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E636536-F7B6-40FF-AE25-601D8C528E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s:  Each Segment shall have a Segment Vote of 1.0 except the Consumer Segment, which shall have a Segment Vote of 1.5. Segment Votes shall be equally divided into Fractional Segment Votes among the Standing Representatives, designated Alternate Representatives and proxies of each Market Segment that cast a vote.  The Consumer Segment Vote shall be equally divided into a Fractional Segment Vote of .5 for each of the three subsegments. The Fractional Segment Vote for each subsegment of the Consumer Segment is allocated to the Standing Representatives, designated Alternate Representatives, and proxies of the subsegment casting a vote.  For the Consumer Segment, if no Standing Representative from a subsegment is present at a meeting, the Consumer Segment vote is allocated equally to the subsegments that cast a vote. </a:t>
            </a:r>
            <a:r>
              <a:rPr b="0" lang="en-US" sz="2400" spc="-1" strike="noStrike">
                <a:solidFill>
                  <a:srgbClr val="3333cc"/>
                </a:solidFill>
                <a:latin typeface="Times New Roman"/>
              </a:rPr>
              <a:t>If a representative from a subsegment abstains from a vote, the fraction of the Consumer Segment Vote allocated to such representative is not included in the vote tally.</a:t>
            </a:r>
            <a:endParaRPr b="0" lang="en-US" sz="2400" spc="-1" strike="noStrike">
              <a:solidFill>
                <a:srgbClr val="000000"/>
              </a:solidFill>
              <a:latin typeface="Times New Roman"/>
            </a:endParaRPr>
          </a:p>
        </p:txBody>
      </p:sp>
      <p:sp>
        <p:nvSpPr>
          <p:cNvPr id="144" name=""/>
          <p:cNvSpPr/>
          <p:nvPr/>
        </p:nvSpPr>
        <p:spPr>
          <a:xfrm>
            <a:off x="2286000" y="152280"/>
            <a:ext cx="6629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committee Votes – RMS Recommendation w/Consumer Segment Addi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AC0ACBE-55B0-4B8F-9100-8F9BE0A0C8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RMS, ROS, WMS</a:t>
            </a:r>
            <a:endParaRPr b="0" lang="en-US" sz="2800" spc="-1" strike="noStrike">
              <a:solidFill>
                <a:srgbClr val="000000"/>
              </a:solidFill>
              <a:latin typeface="Times New Roman"/>
            </a:endParaRPr>
          </a:p>
        </p:txBody>
      </p:sp>
      <p:sp>
        <p:nvSpPr>
          <p:cNvPr id="14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act of a majority of the votes represented by members present and a minimum of three (3) votes will be the act of the subcommittee.</a:t>
            </a:r>
            <a:endParaRPr b="0" lang="en-US" sz="2800" spc="-1" strike="noStrike">
              <a:solidFill>
                <a:srgbClr val="000000"/>
              </a:solidFill>
              <a:latin typeface="Times New Roman"/>
            </a:endParaRPr>
          </a:p>
        </p:txBody>
      </p:sp>
      <p:sp>
        <p:nvSpPr>
          <p:cNvPr id="14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r>
              <a:rPr b="1" lang="en-US" sz="2000" spc="-1" strike="noStrike">
                <a:solidFill>
                  <a:srgbClr val="ff3300"/>
                </a:solidFill>
                <a:latin typeface="Times New Roman"/>
              </a:rPr>
              <a:t>same as current, pl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304D8E9-191B-4EA6-A43B-A7B284CA0A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for RMS, ROS, WMS – Consumer Segment Additions</a:t>
            </a: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294920"/>
            <a:ext cx="86104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a majority of the votes represented by members present and a minimum of three (3) votes will be the act of the subcommittee. 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a:t>
            </a:r>
            <a:r>
              <a:rPr b="0" lang="en-US" sz="2400" spc="-1" strike="noStrike">
                <a:solidFill>
                  <a:srgbClr val="3333cc"/>
                </a:solidFill>
                <a:latin typeface="Times New Roman"/>
              </a:rPr>
              <a:t>, except for the Consumer Segment</a:t>
            </a:r>
            <a:r>
              <a:rPr b="0" lang="en-US" sz="2400" spc="-1" strike="noStrike">
                <a:solidFill>
                  <a:srgbClr val="000000"/>
                </a:solidFill>
                <a:latin typeface="Times New Roman"/>
              </a:rPr>
              <a:t>.  </a:t>
            </a:r>
            <a:r>
              <a:rPr b="0" lang="en-US" sz="2400" spc="-1" strike="noStrike">
                <a:solidFill>
                  <a:srgbClr val="3333cc"/>
                </a:solidFill>
                <a:latin typeface="Times New Roman"/>
              </a:rPr>
              <a:t>For the Consumer Segment, the Segment Vote is considered affirmative when the majority of votes cast for each subsegment are affirmative.</a:t>
            </a:r>
            <a:r>
              <a:rPr b="0" lang="en-US" sz="2400" spc="-1" strike="noStrike">
                <a:solidFill>
                  <a:srgbClr val="000000"/>
                </a:solidFill>
                <a:latin typeface="Times New Roman"/>
              </a:rPr>
              <a:t>  The results of all votes taken will be reported to TAC, whether or not the vote pass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2EECC1-8AE7-4CEF-8B38-E443E27389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ly Standing Representatives, their designated Alternate Representative, or proxy may vote. A motion of the subcommittee passes when a majority of the aggregate of the Fractional Segment Votes are 1) affirmative and 2) a minimum total of three (3).  The results of all votes taken will be reported to TAC, whether or not the vote passed. </a:t>
            </a:r>
            <a:endParaRPr b="0" lang="en-US" sz="3200" spc="-1" strike="noStrike">
              <a:solidFill>
                <a:srgbClr val="000000"/>
              </a:solidFill>
              <a:latin typeface="Times New Roman"/>
            </a:endParaRPr>
          </a:p>
        </p:txBody>
      </p:sp>
      <p:sp>
        <p:nvSpPr>
          <p:cNvPr id="151" name="PlaceHolder 2"/>
          <p:cNvSpPr>
            <a:spLocks noGrp="1"/>
          </p:cNvSpPr>
          <p:nvPr>
            <p:ph type="title"/>
          </p:nvPr>
        </p:nvSpPr>
        <p:spPr>
          <a:xfrm>
            <a:off x="2057040" y="15192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for RMS, ROS, WMS – 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C74B8A-C6FF-43DD-8490-F5025CBD0B64}"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09320" y="228240"/>
            <a:ext cx="6248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oting</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related to voting was updated to reflect the current ERCOT Bylaw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855BC8-2401-4872-967A-964D967CB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C E-Mail Voting</a:t>
            </a:r>
            <a:endParaRPr b="0" lang="en-US" sz="3600" spc="-1" strike="noStrike">
              <a:solidFill>
                <a:srgbClr val="000000"/>
              </a:solidFill>
              <a:latin typeface="Times New Roman"/>
            </a:endParaRPr>
          </a:p>
        </p:txBody>
      </p:sp>
      <p:sp>
        <p:nvSpPr>
          <p:cNvPr id="58"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mail votes may be utilized when the Chair determines a matter is urgent or requires action prior to the next meeting.  E-mail vote requests will be accompanied by supporting document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a:t>
            </a:r>
            <a:r>
              <a:rPr b="1" lang="en-US" sz="2400" spc="-1" strike="noStrike">
                <a:solidFill>
                  <a:srgbClr val="ff3300"/>
                </a:solidFill>
                <a:latin typeface="Times New Roman"/>
              </a:rPr>
              <a:t>same as current, plu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vide notification to TAC.  A quorum must participate, by casting a vote or abstaining. Votes submitted to ERCOT and tallied in same manner as a regular meeting.  Tally distributed to TAC and poste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4AB751C4-CF1D-4933-BB30-AD392E40F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61"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No language in</a:t>
            </a:r>
            <a:r>
              <a:rPr b="1" lang="en-US" sz="2800" spc="-1" strike="noStrike">
                <a:solidFill>
                  <a:srgbClr val="000000"/>
                </a:solidFill>
                <a:latin typeface="Times New Roman"/>
              </a:rPr>
              <a:t> </a:t>
            </a:r>
            <a:r>
              <a:rPr b="1" lang="en-US" sz="2000" spc="-1" strike="noStrike">
                <a:solidFill>
                  <a:srgbClr val="000000"/>
                </a:solidFill>
                <a:latin typeface="Times New Roman"/>
              </a:rPr>
              <a:t>TAC procedures, but included in subcom. procedures, similar to current TA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434D3B6-83FF-40BD-BE0A-E141D5DA5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564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o revisions recommended by any subcommit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PS voted to endorse the proposed revis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D8EE37-FCC9-4B92-AC99-9CCD7CE45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6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6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055D6D9F-B449-4413-8AC0-ED370A65B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nn Boren</cp:lastModifiedBy>
  <dcterms:modified xsi:type="dcterms:W3CDTF">2005-07-05T21:35:45Z</dcterms:modified>
  <cp:revision>137</cp:revision>
  <dc:subject/>
  <dc:title>Point-to-Point</dc:title>
</cp:coreProperties>
</file>