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BC4-080E-4726-9E1E-438B818F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76B-5FEE-4EE8-9061-11592692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78A-6DB8-4024-96FA-4C8C96BC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BD3-AFEC-4D53-BFD7-3F47672F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AD2-7B3D-4D50-BA9B-5D4EDE8A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418-C815-4BAF-9FA8-7F9BCEFD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61D-EFAF-448A-B055-5396795E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C93-07BF-4F51-93CB-180DFFCE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804-489F-41C3-AF04-E29050F5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D59-377D-4BEF-BF9F-6C74CFF6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05E-A088-4BED-B22E-32568721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D18-0DCF-4C9C-B462-D7826083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DD47-40D5-4310-8C4E-07039FC7C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ne 2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0CC-C9F6-4DDF-A953-5EA52B4C68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3880"/>
            <a:ext cx="838188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voted to recommend to TAC several changes to the proposed TAC Procedures (included in Cheryl’s present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identified 10 projects for 2006 needing Cost Benefit Analysis and will hold a special meeting to June 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continues to refine Transition Plan for moving Initial Settlement from 17 to 10 days and will make a recommendation at July TAC mee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ERCOT staff reviewed planned timing changes to LodeStar Extracts (including Settlement and 72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D07-2787-4B6D-9E8E-C1A792D149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ay Ahead Market Settlement Training workshop was given by Randy Jones and Clayton Gre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S identified 5 Settlement timeline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ll recommend one option and complete draft Protocol language at June 14 special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s part of the ongoing review of ADR (looking forward) COPS has scheduled a combined workshop with RMS / DEV taskforce June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89E-5D22-43CE-9DA9-CDC1A29ED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A. Boren</cp:lastModifiedBy>
  <dcterms:modified xsi:type="dcterms:W3CDTF">2005-05-27T19:16:44Z</dcterms:modified>
  <cp:revision>128</cp:revision>
  <dc:subject/>
  <dc:title>Point-to-Point</dc:title>
</cp:coreProperties>
</file>