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3CD4-C99D-42DD-A2F0-0B90E6012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E0EB-D1B3-4BB9-ADFC-F2BF50D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E157-FF4A-4DB9-8875-AA2C5E3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5E7C-B2F0-4535-91A7-8A85F50A5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204D-16E7-49ED-B73D-697039A4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6360-311D-4F9C-B033-ABAC1A84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0106-3EF7-4322-A235-B27558EA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0A6B-0061-4A54-B64B-3632F914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C064-10C4-4463-84FD-CD374F81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F3B1-ED80-42E9-BCFB-A40DF33A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2E8D-E25E-4DDA-8740-CD19F89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4758-76BF-4F9E-80AB-BFCA3BB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9195-CAB7-43D6-AE7D-B48D4DF8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72880"/>
            <a:ext cx="1603440" cy="85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419040" y="1152360"/>
            <a:ext cx="8255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05-2010 ERCOT Load Forecast and Reserve Margin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2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289320"/>
            <a:ext cx="7391520" cy="69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 algn="ctr">
              <a:lnSpc>
                <a:spcPct val="90000"/>
              </a:lnSpc>
              <a:spcBef>
                <a:spcPts val="110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etric Foreca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5 Model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1640" y="1596600"/>
            <a:ext cx="82807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tain weather and economic variables (historic and forecas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regression equations describing the historic actual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a different equation for each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rly Load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a different equation for each sea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rporate forecasted values of economic variables and normalized temperatures for 2005-2010 into Monthly Energy equation to produce forecasted monthly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rporate normalized temperatures for 2005-2010 into Hourly Load Shape equation to produce forecasted load sha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e hourly demand forecast by fitting forecasted monthly energy under projected hourly load sha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 Variab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Selected Mod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22352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hour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 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, Income, Hour of D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ors, Weekday/Weekend, 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s, Lagged Temps, Heat Index, N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Temp Components (square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e), Temp Gains (diff between dai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nd Low temps), Temp Build-up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w Point, Dark Fractions, Month*Tem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22352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22352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onth 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D, HDD, Income, Population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Indic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22352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22352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520" y="1397160"/>
            <a:ext cx="8666280" cy="5195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2760" y="28692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COT Peak Fore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180400">
            <a:off x="5638680" y="3860280"/>
            <a:ext cx="21718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3%  Avg.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440" y="1486080"/>
            <a:ext cx="8521560" cy="5002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1920" y="482760"/>
            <a:ext cx="650556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COT Energy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116200">
            <a:off x="5638320" y="3860640"/>
            <a:ext cx="21718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0% Avg.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Foreca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will host a conference call to present details of forecast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14, 1-3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 all, but will invite representative group of market participant load forecasters to provide “peer revie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080" y="1257480"/>
            <a:ext cx="8515080" cy="542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Margin w/GATF Chang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New Fore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1371600"/>
            <a:ext cx="73915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GATF recommendation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hballed unit capacity availability based on percentages and lead times provided by unit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generating units with signed interconnection agreements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ak forecast based on econometric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Robinson 2 is RMR fo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M. Davis 2 remains on RMR and Unit 1 is included in operational capacity fo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RMR units unavailable after end of RMR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440" y="390240"/>
            <a:ext cx="8145360" cy="6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d Calculation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1447920"/>
            <a:ext cx="739152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MR Agreement signed with P H Robinson Unit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. Davis Unit 1 will be kept on RMR to ensure adequate voltage control in the Corpus Christi industri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ation will be given to ROS on thi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Must-Run Alternatives (MRA) proposals were accepted as alternatives to the Bates RMR Units through the Bates MRA R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P issued for MRAs to the Laredo RM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I to Bid extended to June 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e date for bids is July 1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1440" y="390240"/>
            <a:ext cx="8145360" cy="6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R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05:47Z</dcterms:created>
  <dc:creator>dwoodfin</dc:creator>
  <dc:description/>
  <dc:language>en-US</dc:language>
  <cp:lastModifiedBy>bbojorquez</cp:lastModifiedBy>
  <dcterms:modified xsi:type="dcterms:W3CDTF">2005-06-01T22:26:57Z</dcterms:modified>
  <cp:revision>120</cp:revision>
  <dc:subject/>
  <dc:title>Slide 1</dc:title>
</cp:coreProperties>
</file>