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E240-4ED1-4ECD-8CBE-C971B15E2356}"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evious meetings we have broken the 14 Patton recommendations into groups.  These were then given to ERCOT, and the CM and QSE working groups of WMS to come up with PRRs to vet the ideas through the full subcommittee process.  We heard reports on the progress of these efforts at our last meeting and gave more direction to the QSEW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heightened awareness of the value of a demand side resource for GATF purposes and that is being worked on and progress is expected out of their May meet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MWG has worked with ROS regarding Double Ckt Planning and is passing on their recommendation to ROS for a vote in Ma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participant issues associated with the reopened Ancillary Service Market in January.  The QSEWG is with ERCOT to extend the time between open and close and proposing a PRR that lets bids be refresh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look at bid stack depletion is underway.  Prevailing understanding may be wro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R is being drafted that will raise the bar on RP metrics – support from QPMWG, ERCOT Compliance, and the PUC for the chan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has looked at at least two methods to control inefficient deployments around CSCs.  There has been a focus on the Shift Factor Average that has now shifted to a Shadow Price Cap.  A couple cap levels have been looked at and their effects reported to the WMS.  This issue is tied to Price Administration, which is not well documented in protocols and procedure for change is not totally clear.  Expectation now is that ERCOT staff will make some changes in their current practice and that WMS will write a PRR that documents the Price Administration practices of ERCOT.  WMS will probably endorse the ERCOT activity but does not have an approval ro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ly discussion of this PRR based in part on a perceived inactivity on SCE contr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has looked at at least two methods to control inefficient deployments around CSCs.  There has been a focus on the Shift Factor Average that has now shifted to a Shadow Price Cap.  A couple cap levels have been looked at and their effects reported to the WMS.  This issue is tied to Price Administration, which is not well documented in protocols and procedure for change is not totally clear.  Expectation now is that ERCOT staff will make some changes in their current practice and that WMS will write a PRR that documents the Price Administration practices of ERCOT.  WMS will probably endorse the ERCOT activity but does not have an approval ro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MWG will be taking up transmission outage scheduling and how it impacts TCR values and will start on the CSC and zone selection process next month (elevated ERCOT effort per PRR 58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MWG will be taking up transmission outage scheduling and how it impacts TCR values and will start on the CSC and zone selection process next month (elevated ERCOT effort per PRR 58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74EDF-9471-4761-8AA0-CE055657B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C8ED8-A273-4EED-947D-B5F3C918D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7567C-9761-47AD-A753-2FD5407C6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C648B-9560-4136-B5D3-C257ECCA8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D606E-2AE8-41A0-BFB0-18088FB87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69AA3-52F6-4EE8-900C-19A3EB844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33E24-89D7-4514-80A3-689664DB5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EA22C-375B-4CC9-993B-80DF78085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7B17E-1EB7-4C7A-B91E-0AB128558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6026D-4B4D-422C-9945-11954DE46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DFDBD-E02B-4AB6-98F2-8F407EA02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DCF5F-27D5-4D71-8FEE-B80F82938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00BA4-A6BB-458F-BBBD-CE5371A34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6A2A7-84F0-4EA5-BB11-2C0289843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75DA0-E833-4D31-9F96-F01CC8F90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08B33-32D8-4DB5-A8FB-0E3CEC211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C9F44-5357-4142-B6CC-5AECF4E0C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A2E5B-5F35-4FE2-86D8-3CEE8EC7B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16E67-7FF6-4A10-AB5C-E15F1BACA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038A7-908D-4ABF-AB57-448413321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E9FD5-BEE1-4A83-BE95-BDA3A0426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4EDBE-714B-4D24-B5E9-5D4394D92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2C9DC-0F98-40FF-B7E4-17C6AE210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A1B67-4784-43D0-9C96-033DC9993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7E99-1F77-4705-9DBA-E6BFA26B1CD1}"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6320-A868-4FF0-8AEB-E088F90457CA}"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2285640"/>
            <a:ext cx="5562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olesale Market Subcommittee</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eport to TAC</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June 2, 2005</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MS Meeting May 18, 2005</a:t>
            </a:r>
            <a:br>
              <a:rPr sz="4400"/>
            </a:br>
            <a:r>
              <a:rPr b="0" lang="en-US" sz="4400" spc="-1" strike="noStrike">
                <a:solidFill>
                  <a:srgbClr val="ebd189"/>
                </a:solidFill>
                <a:latin typeface="Arial"/>
              </a:rPr>
              <a:t>Working Group Efforts</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MWG – Transmission Outage Scheduling and its impact on congestion and TCR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SWG – Formalization of Procedures, Prioritization of Load Related PRRs and has taken up the challenge of defining a demand side generation adequacy produc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QSEWG – Bid Stack Depletion,  Resource Metrics, EMMS releases and PRRs related to Patton’s recommendation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oject Prioritization</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WMS was asked by the PRS to Prioritize and fill out a Cost Benefit Analysis for 22 project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pecial Meeting on June 3r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bd189"/>
                </a:solidFill>
                <a:uFillTx/>
                <a:latin typeface="Times New Roman"/>
              </a:rPr>
              <a:t>PRR 586 – Discussion (again)</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SCE Performance and Regulation Cost Re-allocation</a:t>
            </a:r>
            <a:br>
              <a:rPr sz="3200"/>
            </a:br>
            <a:r>
              <a:rPr b="1" lang="en-US" sz="3200" spc="-1" strike="noStrike">
                <a:solidFill>
                  <a:srgbClr val="eaeaea"/>
                </a:solidFill>
                <a:latin typeface="Times New Roman"/>
              </a:rPr>
              <a:t> </a:t>
            </a:r>
            <a:endParaRPr b="0" lang="en-US" sz="3200" spc="-1" strike="noStrike">
              <a:solidFill>
                <a:srgbClr val="eaeaea"/>
              </a:solidFill>
              <a:latin typeface="Arial"/>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Several Proposed Changes</a:t>
            </a:r>
            <a:endParaRPr b="0" lang="en-US" sz="2800" spc="-1" strike="noStrike">
              <a:solidFill>
                <a:srgbClr val="eaeaea"/>
              </a:solidFill>
              <a:latin typeface="Arial"/>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Possible new PRR on UFE</a:t>
            </a:r>
            <a:endParaRPr b="0" lang="en-US" sz="2800" spc="-1" strike="noStrike">
              <a:solidFill>
                <a:srgbClr val="eaeaea"/>
              </a:solidFill>
              <a:latin typeface="Arial"/>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Perceived weakness in PRR 525</a:t>
            </a:r>
            <a:endParaRPr b="0" lang="en-US" sz="2800" spc="-1" strike="noStrike">
              <a:solidFill>
                <a:srgbClr val="eaeaea"/>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RCOT Staff Presentations</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Value for “X” approved by the Board used to filter out price reversals in Ancillary Service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enalty Factors in ERCOT software (shadow price cap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
          <p:cNvSpPr/>
          <p:nvPr/>
        </p:nvSpPr>
        <p:spPr>
          <a:xfrm>
            <a:off x="762120" y="457200"/>
            <a:ext cx="8381880" cy="573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rial Narrow"/>
              </a:rPr>
              <a:t>May 25, 2005   Market Notice of System Change</a:t>
            </a:r>
            <a:endParaRPr b="0" lang="en-US" sz="3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The effect on the Balancing Energy Services market in the ERCOT Region will be that the system will stop trying to solve Zonal Congestion once the marginal cost of doing so exceeds the Zonal Congestion Penalty Factor.  When the cost of solving Zonal Congestion has reached this limit, ERCOT will use operator manual dispatch procedures to ensure system security.</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       </a:t>
            </a:r>
            <a:r>
              <a:rPr b="1" lang="en-US" sz="2400" spc="-1" strike="noStrike">
                <a:solidFill>
                  <a:srgbClr val="eaeaea"/>
                </a:solidFill>
                <a:latin typeface="Arial Narrow"/>
              </a:rPr>
              <a:t>Old                 New</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      </a:t>
            </a:r>
            <a:r>
              <a:rPr b="1" lang="en-US" sz="2400" spc="-1" strike="noStrike">
                <a:solidFill>
                  <a:srgbClr val="eaeaea"/>
                </a:solidFill>
                <a:latin typeface="Arial Narrow"/>
              </a:rPr>
              <a:t>75,000              1,001    Ramp Rate Constrai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    </a:t>
            </a:r>
            <a:r>
              <a:rPr b="1" lang="en-US" sz="2400" spc="-1" strike="noStrike">
                <a:solidFill>
                  <a:srgbClr val="eaeaea"/>
                </a:solidFill>
                <a:latin typeface="Arial Narrow"/>
              </a:rPr>
              <a:t>750,000              2,500    Zonal Congestion (OC1) Constrai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    </a:t>
            </a:r>
            <a:r>
              <a:rPr b="1" lang="en-US" sz="2400" spc="-1" strike="noStrike">
                <a:solidFill>
                  <a:srgbClr val="eaeaea"/>
                </a:solidFill>
                <a:latin typeface="Arial Narrow"/>
              </a:rPr>
              <a:t>500,000              3,000    Local Constraint (OC2)</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    </a:t>
            </a:r>
            <a:r>
              <a:rPr b="1" lang="en-US" sz="2400" spc="-1" strike="noStrike">
                <a:solidFill>
                  <a:srgbClr val="eaeaea"/>
                </a:solidFill>
                <a:latin typeface="Arial Narrow"/>
              </a:rPr>
              <a:t>250,000              3,000    Local Constraint (OC3 - Contingency)</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 </a:t>
            </a:r>
            <a:r>
              <a:rPr b="1" lang="en-US" sz="2400" spc="-1" strike="noStrike">
                <a:solidFill>
                  <a:srgbClr val="eaeaea"/>
                </a:solidFill>
                <a:latin typeface="Arial Narrow"/>
              </a:rPr>
              <a:t>1,000,000          100,000    Local Constraint (OC3 - Basecas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Be Done in June</a:t>
            </a:r>
            <a:endParaRPr b="0" lang="en-US" sz="4400" spc="-1" strike="noStrike">
              <a:solidFill>
                <a:srgbClr val="ebd189"/>
              </a:solidFill>
              <a:latin typeface="Arial"/>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1" lang="en-US" sz="2800" spc="-1" strike="noStrike">
                <a:solidFill>
                  <a:srgbClr val="eaeaea"/>
                </a:solidFill>
                <a:latin typeface="Arial"/>
              </a:rPr>
              <a:t>Congestion Management WG</a:t>
            </a:r>
            <a:endParaRPr b="0" lang="en-US" sz="2800" spc="-1" strike="noStrike">
              <a:solidFill>
                <a:srgbClr val="eaeaea"/>
              </a:solidFill>
              <a:latin typeface="Arial"/>
            </a:endParaRPr>
          </a:p>
          <a:p>
            <a:pPr lvl="1" marL="743040" indent="-28584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utage Scheduling and TCRs</a:t>
            </a:r>
            <a:endParaRPr b="0" lang="en-US" sz="2400" spc="-1" strike="noStrike">
              <a:solidFill>
                <a:srgbClr val="eaeaea"/>
              </a:solidFill>
              <a:latin typeface="Arial"/>
            </a:endParaRPr>
          </a:p>
          <a:p>
            <a:pPr lvl="1" marL="743040" indent="-28584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SC and Zone selection for 2006</a:t>
            </a:r>
            <a:endParaRPr b="0" lang="en-US" sz="2400" spc="-1" strike="noStrike">
              <a:solidFill>
                <a:srgbClr val="eaeaea"/>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QSE WG</a:t>
            </a:r>
            <a:endParaRPr b="0" lang="en-US" sz="2800" spc="-1" strike="noStrike">
              <a:solidFill>
                <a:srgbClr val="eaeaea"/>
              </a:solidFill>
              <a:latin typeface="Arial"/>
            </a:endParaRPr>
          </a:p>
          <a:p>
            <a:pPr lvl="1" marL="743040" indent="-28584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id Stack Depletion</a:t>
            </a:r>
            <a:endParaRPr b="0" lang="en-US" sz="2400" spc="-1" strike="noStrike">
              <a:solidFill>
                <a:srgbClr val="eaeaea"/>
              </a:solidFill>
              <a:latin typeface="Arial"/>
            </a:endParaRPr>
          </a:p>
          <a:p>
            <a:pPr lvl="1" marL="743040" indent="-28584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aising the Bar on Resource Plan Metrics</a:t>
            </a:r>
            <a:endParaRPr b="0" lang="en-US" sz="2400" spc="-1" strike="noStrike">
              <a:solidFill>
                <a:srgbClr val="eaeaea"/>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Demand Side WG</a:t>
            </a:r>
            <a:endParaRPr b="0" lang="en-US" sz="2800" spc="-1" strike="noStrike">
              <a:solidFill>
                <a:srgbClr val="eaeaea"/>
              </a:solidFill>
              <a:latin typeface="Arial"/>
            </a:endParaRPr>
          </a:p>
          <a:p>
            <a:pPr lvl="1" marL="743040" indent="-28584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apacity Adequacy Product</a:t>
            </a:r>
            <a:endParaRPr b="0" lang="en-US" sz="2400" spc="-1" strike="noStrike">
              <a:solidFill>
                <a:srgbClr val="eaeaea"/>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Be Done in June (cont.)</a:t>
            </a:r>
            <a:endParaRPr b="0" lang="en-US" sz="4400" spc="-1" strike="noStrike">
              <a:solidFill>
                <a:srgbClr val="ebd189"/>
              </a:solidFill>
              <a:latin typeface="Arial"/>
            </a:endParaRPr>
          </a:p>
        </p:txBody>
      </p:sp>
      <p:sp>
        <p:nvSpPr>
          <p:cNvPr id="12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roject Prioritization and CBA</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losure on the Alternate Fuel PRR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More Discussion on PRR 586 &amp; 525</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0:25:07Z</dcterms:created>
  <dc:creator>Brady J. Belk</dc:creator>
  <dc:description/>
  <dc:language>en-US</dc:language>
  <cp:lastModifiedBy>A. Boren</cp:lastModifiedBy>
  <dcterms:modified xsi:type="dcterms:W3CDTF">2005-05-26T18:45:26Z</dcterms:modified>
  <cp:revision>2</cp:revision>
  <dc:subject/>
  <dc:title>Wholesale Market Subcommittee </dc:title>
</cp:coreProperties>
</file>