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25BB3287-5915-43BC-8D00-9F7E6EA899C4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0">
              <a:spcBef>
                <a:spcPts val="10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10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10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800" indent="0" algn="ctr">
              <a:spcBef>
                <a:spcPts val="10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MS Release 4  - TAC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800" indent="0" algn="ctr">
              <a:spcBef>
                <a:spcPts val="70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0" algn="ctr">
              <a:spcBef>
                <a:spcPts val="70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yant Tam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, Energy &amp; Market Management System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MMS R4A Deliver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61800" y="901800"/>
          <a:ext cx="8506080" cy="5835600"/>
        </p:xfrm>
        <a:graphic>
          <a:graphicData uri="http://schemas.openxmlformats.org/drawingml/2006/table">
            <a:tbl>
              <a:tblPr/>
              <a:tblGrid>
                <a:gridCol w="1229040"/>
                <a:gridCol w="7277040"/>
              </a:tblGrid>
              <a:tr h="71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ociated PRR 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R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ssociation of BE Bids with R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R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ptimization for the Whole Operating Day in RPRS Procurement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 Plan Improvement (Phase 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Specific Bid Limits based on Generic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4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Simultaneous S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R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patch of Generation Resources Below Minimum Operating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R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OM Zonal Dispatch Instru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nhancement to OOM tools for congestion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rove Data Elements for Local Constraints &amp; 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MS Parameters Capture for MMS Reclear Fide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 Participation in Providing Ancillar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CT Add Corrected MCPE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Upgrade S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Protection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ower System Model Maintenance via Database Archive Compari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ments to VSAT/TS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MMS R4A Issues Impacting Schedu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prising high number of defects discovered during Factory &amp; Site Acceptance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instances of the Break/Fix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ous regression mode of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irs existing critical operator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time performance does not meet ERCOT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does not satisfy temporal constraints for self scheduled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number of defects affecting operato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40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MMS R4A Mitigation Pla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320" y="901440"/>
            <a:ext cx="867708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6720" indent="0">
              <a:spcBef>
                <a:spcPts val="400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budget to cover remaining effort by AREVA and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349"/>
              </a:spcBef>
              <a:spcAft>
                <a:spcPts val="349"/>
              </a:spcAft>
              <a:buClr>
                <a:srgbClr val="006666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oved Budg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7,800,6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34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/Foreca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7,507,4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3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 Budge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3,066,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a phased delivery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tools for reliability management (SPS, VSAT/TSAT) within the June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ws resources to focus on the remaining Market appl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otiated to have on-site support from ARE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MMS R4A Timelin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760" y="857160"/>
            <a:ext cx="8696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A. Boren</cp:lastModifiedBy>
  <cp:lastPrinted>1999-12-01T22:56:09Z</cp:lastPrinted>
  <dcterms:modified xsi:type="dcterms:W3CDTF">2005-05-27T20:07:54Z</dcterms:modified>
  <cp:revision>695</cp:revision>
  <dc:subject/>
  <dc:title>No Slide Title</dc:title>
</cp:coreProperties>
</file>