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730AB-771B-4590-B853-7C9A71FAFB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CE572-B95D-44C2-AAA9-591156C1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DE5C-E8DB-4F9E-9564-6655A029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448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580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448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580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BDB44-FE94-4385-959E-4BB421263D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6780240" cy="1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B02C-B169-4AB8-BC51-85A1DA36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6448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95800" y="8377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6448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95800" y="35841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BD83-FDE3-4EBF-8A17-5E0D0AE3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7563-EA40-4B90-940C-5CAC9F6C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987C-C6EE-4ACB-9A07-90DAF3E2E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400" y="152280"/>
            <a:ext cx="6780240" cy="1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B32EF-2471-4BEB-A773-B047AFF3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0B92-8ADA-4D72-9150-0D4F0782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080" y="358416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82F33-3ECB-4DEA-B248-F9C4B592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840"/>
            <a:ext cx="6780240" cy="51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837720"/>
            <a:ext cx="394128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584160"/>
            <a:ext cx="8076960" cy="250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B882C-DEBF-4FAE-B786-D41AC47C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 Rounded MT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DE9D-F749-4B65-82E1-246A52CADB5C}" type="datetime"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324480"/>
            <a:ext cx="106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Arial Rounded MT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2A8B-5B8C-4F66-8146-ED0FFED79400}" type="slidenum"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6576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3724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© Property of ERCOT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1908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6680" cy="5824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609480"/>
            <a:ext cx="9144000" cy="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" name="" descr="Welcome to ERCOT"/>
          <p:cNvPicPr/>
          <p:nvPr/>
        </p:nvPicPr>
        <p:blipFill>
          <a:blip r:embed="rId2"/>
          <a:srcRect l="26763" t="-1444" r="0" b="0"/>
          <a:stretch/>
        </p:blipFill>
        <p:spPr>
          <a:xfrm>
            <a:off x="7772400" y="1295280"/>
            <a:ext cx="1414440" cy="5562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0" y="0"/>
            <a:ext cx="251460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537240"/>
            <a:ext cx="19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 Rounded MT Bold"/>
              </a:rPr>
              <a:t>© Property of ERCOT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68580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lectric Reliability Council of Texa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95280" y="5410080"/>
          <a:ext cx="10670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5410080"/>
                    <a:ext cx="10670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876400" y="5410080"/>
          <a:ext cx="1086120" cy="1067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76400" y="5410080"/>
                    <a:ext cx="10861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419720" y="5410080"/>
          <a:ext cx="1066680" cy="1067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9720" y="5410080"/>
                    <a:ext cx="1066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991120" y="5410080"/>
          <a:ext cx="1095480" cy="1067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991120" y="5410080"/>
                    <a:ext cx="1095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830592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Discussion on Proposals to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Improve OOME as Instructed Deviation &amp;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Portfolio Ramp Rate Recal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Young Li</a:t>
            </a:r>
            <a:endParaRPr b="1" lang="en-US" sz="32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6946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roposed Changes to Improve Operation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Utilize Resource-specific scheduling, bidding and deploy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Utilize Resource-specific ramp rates in dispat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Utilize Resource-specific shift fact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Develop financial incentives for participants to follow schedules and instruction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Develop scheduling rules and/or market mechanisms to mitigate effects of block sche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Develop mechanism to ensure deliverability of Ancillary Servic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Increase observability of the transmission syst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Issue dispatch instructions every five minu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Assign local congestion costs directl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90000"/>
              <a:buFont typeface="Arial Rounded MT Bol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ff"/>
                </a:solidFill>
                <a:latin typeface="Arial Rounded MT Bold"/>
              </a:rPr>
              <a:t>Implement a more robust Day Ahead unit commitmen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7205-B568-4AFF-BC1D-291F30F2EE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90149-CE64-43AD-955F-EE9DD7A410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Will the Proposed Changes Resolve This Issue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The top two prioritized changes are Resource Specific scheduling, bidding, deployment and Resource specific ramp rat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Will this proposed change resolve the issu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In this example, the coal unit and gas unit will have separate schedules, bids and ramp ra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hen the coal unit is asked to go down, the gas unit will be deployed based on its bid curve and ramp r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At the same time, the coal unit’s up room will not be used for up balancing deploy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6A807-CB60-4CA6-9868-DC28F712C8D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9FEDC3-CB21-4264-BF4C-FA17B52D6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762012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Other Alternatives Available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Bus level scheduling, bidding and disp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77AA2-7D22-49C5-BB82-709CED536C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B45F5A-537C-42CA-993E-4C7A40E637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00040" y="152280"/>
            <a:ext cx="571500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Criteria for Evaluating Proposal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989640" y="1389960"/>
            <a:ext cx="7319880" cy="4382640"/>
            <a:chOff x="989640" y="1389960"/>
            <a:chExt cx="7319880" cy="4382640"/>
          </a:xfrm>
        </p:grpSpPr>
        <p:sp>
          <p:nvSpPr>
            <p:cNvPr id="157" name=""/>
            <p:cNvSpPr/>
            <p:nvPr/>
          </p:nvSpPr>
          <p:spPr>
            <a:xfrm>
              <a:off x="1649880" y="1676520"/>
              <a:ext cx="5799600" cy="37350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67040" y="1389960"/>
              <a:ext cx="1563480" cy="647640"/>
            </a:xfrm>
            <a:prstGeom prst="ellipse">
              <a:avLst/>
            </a:prstGeom>
            <a:solidFill>
              <a:srgbClr val="66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Rounded MT Bold"/>
                </a:rPr>
                <a:t>GOO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81600" y="5049000"/>
              <a:ext cx="1627920" cy="647640"/>
            </a:xfrm>
            <a:prstGeom prst="ellipse">
              <a:avLst/>
            </a:prstGeom>
            <a:solidFill>
              <a:srgbClr val="00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Rounded MT Bold"/>
                </a:rPr>
                <a:t>CHE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89640" y="5124960"/>
              <a:ext cx="1237680" cy="647640"/>
            </a:xfrm>
            <a:prstGeom prst="ellipse">
              <a:avLst/>
            </a:prstGeom>
            <a:solidFill>
              <a:srgbClr val="00ffff"/>
            </a:solidFill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 Rounded MT Bold"/>
                </a:rPr>
                <a:t>FA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429000" y="4717440"/>
            <a:ext cx="2286000" cy="518760"/>
          </a:xfrm>
          <a:prstGeom prst="rect">
            <a:avLst/>
          </a:prstGeom>
          <a:solidFill>
            <a:srgbClr val="66ffff"/>
          </a:solidFill>
          <a:ln w="1260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roposal discussed at last QSE PM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3061440"/>
            <a:ext cx="1905120" cy="518760"/>
          </a:xfrm>
          <a:prstGeom prst="rect">
            <a:avLst/>
          </a:prstGeom>
          <a:solidFill>
            <a:srgbClr val="66ffff"/>
          </a:solidFill>
          <a:ln w="3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ERC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proposed chan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8FA6-8E16-47EA-B538-A9EF8E0FEBE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AC45F-ED73-4F54-AEA2-5270E88D0C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Discussion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557680" y="1295280"/>
            <a:ext cx="24814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838080" y="1905120"/>
            <a:ext cx="3962520" cy="3352680"/>
            <a:chOff x="838080" y="1905120"/>
            <a:chExt cx="3962520" cy="3352680"/>
          </a:xfrm>
        </p:grpSpPr>
        <p:sp>
          <p:nvSpPr>
            <p:cNvPr id="166" name=""/>
            <p:cNvSpPr/>
            <p:nvPr/>
          </p:nvSpPr>
          <p:spPr>
            <a:xfrm>
              <a:off x="838080" y="1905120"/>
              <a:ext cx="3962520" cy="3352680"/>
            </a:xfrm>
            <a:custGeom>
              <a:avLst/>
              <a:gdLst/>
              <a:ahLst/>
              <a:rect l="l" t="t" r="r" b="b"/>
              <a:pathLst>
                <a:path w="3386" h="3161">
                  <a:moveTo>
                    <a:pt x="896" y="0"/>
                  </a:moveTo>
                  <a:lnTo>
                    <a:pt x="896" y="1354"/>
                  </a:lnTo>
                  <a:lnTo>
                    <a:pt x="0" y="1354"/>
                  </a:lnTo>
                  <a:lnTo>
                    <a:pt x="0" y="1443"/>
                  </a:lnTo>
                  <a:lnTo>
                    <a:pt x="447" y="1883"/>
                  </a:lnTo>
                  <a:lnTo>
                    <a:pt x="447" y="2022"/>
                  </a:lnTo>
                  <a:lnTo>
                    <a:pt x="854" y="2276"/>
                  </a:lnTo>
                  <a:lnTo>
                    <a:pt x="923" y="2035"/>
                  </a:lnTo>
                  <a:lnTo>
                    <a:pt x="1085" y="1946"/>
                  </a:lnTo>
                  <a:lnTo>
                    <a:pt x="1132" y="2051"/>
                  </a:lnTo>
                  <a:lnTo>
                    <a:pt x="1391" y="2051"/>
                  </a:lnTo>
                  <a:lnTo>
                    <a:pt x="1617" y="2399"/>
                  </a:lnTo>
                  <a:lnTo>
                    <a:pt x="1617" y="2522"/>
                  </a:lnTo>
                  <a:lnTo>
                    <a:pt x="1807" y="2687"/>
                  </a:lnTo>
                  <a:lnTo>
                    <a:pt x="1807" y="2891"/>
                  </a:lnTo>
                  <a:lnTo>
                    <a:pt x="1958" y="3006"/>
                  </a:lnTo>
                  <a:lnTo>
                    <a:pt x="2443" y="3161"/>
                  </a:lnTo>
                  <a:lnTo>
                    <a:pt x="2336" y="2903"/>
                  </a:lnTo>
                  <a:lnTo>
                    <a:pt x="2336" y="2687"/>
                  </a:lnTo>
                  <a:lnTo>
                    <a:pt x="2405" y="2551"/>
                  </a:lnTo>
                  <a:lnTo>
                    <a:pt x="2961" y="2206"/>
                  </a:lnTo>
                  <a:lnTo>
                    <a:pt x="2961" y="2125"/>
                  </a:lnTo>
                  <a:lnTo>
                    <a:pt x="2996" y="2097"/>
                  </a:lnTo>
                  <a:lnTo>
                    <a:pt x="2903" y="2005"/>
                  </a:lnTo>
                  <a:lnTo>
                    <a:pt x="2903" y="1927"/>
                  </a:lnTo>
                  <a:lnTo>
                    <a:pt x="2984" y="1959"/>
                  </a:lnTo>
                  <a:lnTo>
                    <a:pt x="3043" y="1915"/>
                  </a:lnTo>
                  <a:lnTo>
                    <a:pt x="3115" y="1927"/>
                  </a:lnTo>
                  <a:lnTo>
                    <a:pt x="3067" y="2035"/>
                  </a:lnTo>
                  <a:lnTo>
                    <a:pt x="3267" y="1959"/>
                  </a:lnTo>
                  <a:lnTo>
                    <a:pt x="3267" y="1746"/>
                  </a:lnTo>
                  <a:lnTo>
                    <a:pt x="3386" y="1656"/>
                  </a:lnTo>
                  <a:lnTo>
                    <a:pt x="3267" y="1505"/>
                  </a:lnTo>
                  <a:lnTo>
                    <a:pt x="3267" y="1354"/>
                  </a:lnTo>
                  <a:lnTo>
                    <a:pt x="3149" y="1197"/>
                  </a:lnTo>
                  <a:lnTo>
                    <a:pt x="3149" y="791"/>
                  </a:lnTo>
                  <a:lnTo>
                    <a:pt x="2961" y="895"/>
                  </a:lnTo>
                  <a:lnTo>
                    <a:pt x="2830" y="729"/>
                  </a:lnTo>
                  <a:lnTo>
                    <a:pt x="2775" y="771"/>
                  </a:lnTo>
                  <a:lnTo>
                    <a:pt x="2689" y="729"/>
                  </a:lnTo>
                  <a:lnTo>
                    <a:pt x="2575" y="805"/>
                  </a:lnTo>
                  <a:lnTo>
                    <a:pt x="2467" y="805"/>
                  </a:lnTo>
                  <a:lnTo>
                    <a:pt x="2443" y="715"/>
                  </a:lnTo>
                  <a:lnTo>
                    <a:pt x="2239" y="715"/>
                  </a:lnTo>
                  <a:lnTo>
                    <a:pt x="2194" y="791"/>
                  </a:lnTo>
                  <a:lnTo>
                    <a:pt x="2159" y="729"/>
                  </a:lnTo>
                  <a:lnTo>
                    <a:pt x="2089" y="791"/>
                  </a:lnTo>
                  <a:lnTo>
                    <a:pt x="2077" y="636"/>
                  </a:lnTo>
                  <a:lnTo>
                    <a:pt x="1970" y="698"/>
                  </a:lnTo>
                  <a:lnTo>
                    <a:pt x="1759" y="606"/>
                  </a:lnTo>
                  <a:lnTo>
                    <a:pt x="1652" y="606"/>
                  </a:lnTo>
                  <a:lnTo>
                    <a:pt x="1593" y="530"/>
                  </a:lnTo>
                  <a:lnTo>
                    <a:pt x="1534" y="530"/>
                  </a:lnTo>
                  <a:lnTo>
                    <a:pt x="1534" y="0"/>
                  </a:lnTo>
                  <a:lnTo>
                    <a:pt x="896" y="0"/>
                  </a:lnTo>
                  <a:lnTo>
                    <a:pt x="8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66ccff"/>
                </a:gs>
              </a:gsLst>
              <a:lin ang="5400000"/>
            </a:gradFill>
            <a:ln w="381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67" name=""/>
            <p:cNvGraphicFramePr/>
            <p:nvPr/>
          </p:nvGraphicFramePr>
          <p:xfrm>
            <a:off x="2635200" y="2849760"/>
            <a:ext cx="1542600" cy="1407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635200" y="2849760"/>
                      <a:ext cx="1542600" cy="14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692EB-59DB-4431-A118-E14AC8B0953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61FDB1-2B91-432E-8300-04FE590192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Portfolio Balancing Deployment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0" y="1523880"/>
            <a:ext cx="4724280" cy="26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Zonal portfolio schedule &amp; bid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"/>
              <a:tabLst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Zonal balancing energy deployed by ERCOT to resolve zonal congestion and energy ba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8120" y="1270080"/>
            <a:ext cx="6781680" cy="42926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4191120" y="1260360"/>
            <a:ext cx="4930560" cy="5217120"/>
            <a:chOff x="4191120" y="1260360"/>
            <a:chExt cx="4930560" cy="5217120"/>
          </a:xfrm>
        </p:grpSpPr>
        <p:sp>
          <p:nvSpPr>
            <p:cNvPr id="108" name=""/>
            <p:cNvSpPr/>
            <p:nvPr/>
          </p:nvSpPr>
          <p:spPr>
            <a:xfrm>
              <a:off x="4971240" y="5865840"/>
              <a:ext cx="397548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            </a:t>
              </a: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CS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Rounded MT Bold"/>
                </a:rPr>
                <a:t>(Commercially Significant Constrain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4191120" y="1260360"/>
              <a:ext cx="4500360" cy="4284720"/>
              <a:chOff x="4191120" y="1260360"/>
              <a:chExt cx="4500360" cy="4284720"/>
            </a:xfrm>
          </p:grpSpPr>
          <p:sp>
            <p:nvSpPr>
              <p:cNvPr id="110" name=""/>
              <p:cNvSpPr/>
              <p:nvPr/>
            </p:nvSpPr>
            <p:spPr>
              <a:xfrm>
                <a:off x="4191120" y="2032200"/>
                <a:ext cx="4500360" cy="3512880"/>
              </a:xfrm>
              <a:custGeom>
                <a:avLst/>
                <a:gdLst/>
                <a:ahLst/>
                <a:rect l="l" t="t" r="r" b="b"/>
                <a:pathLst>
                  <a:path w="5026689" h="4044950">
                    <a:moveTo>
                      <a:pt x="2485910" y="0"/>
                    </a:moveTo>
                    <a:cubicBezTo>
                      <a:pt x="2493397" y="3743"/>
                      <a:pt x="2523379" y="17422"/>
                      <a:pt x="2530360" y="25400"/>
                    </a:cubicBezTo>
                    <a:cubicBezTo>
                      <a:pt x="2540411" y="36887"/>
                      <a:pt x="2548934" y="49848"/>
                      <a:pt x="2555760" y="63500"/>
                    </a:cubicBezTo>
                    <a:cubicBezTo>
                      <a:pt x="2559993" y="71967"/>
                      <a:pt x="2562400" y="81628"/>
                      <a:pt x="2568460" y="88900"/>
                    </a:cubicBezTo>
                    <a:cubicBezTo>
                      <a:pt x="2573346" y="94763"/>
                      <a:pt x="2581160" y="97367"/>
                      <a:pt x="2587510" y="101600"/>
                    </a:cubicBezTo>
                    <a:cubicBezTo>
                      <a:pt x="2598708" y="100480"/>
                      <a:pt x="2655393" y="97907"/>
                      <a:pt x="2676410" y="88900"/>
                    </a:cubicBezTo>
                    <a:cubicBezTo>
                      <a:pt x="2762578" y="51971"/>
                      <a:pt x="2634238" y="96607"/>
                      <a:pt x="2714510" y="69850"/>
                    </a:cubicBezTo>
                    <a:cubicBezTo>
                      <a:pt x="2720860" y="71967"/>
                      <a:pt x="2728333" y="72019"/>
                      <a:pt x="2733560" y="76200"/>
                    </a:cubicBezTo>
                    <a:cubicBezTo>
                      <a:pt x="2739519" y="80968"/>
                      <a:pt x="2743160" y="88276"/>
                      <a:pt x="2746260" y="95250"/>
                    </a:cubicBezTo>
                    <a:cubicBezTo>
                      <a:pt x="2756320" y="117886"/>
                      <a:pt x="2754415" y="135155"/>
                      <a:pt x="2771660" y="152400"/>
                    </a:cubicBezTo>
                    <a:cubicBezTo>
                      <a:pt x="2786278" y="167018"/>
                      <a:pt x="2796679" y="166592"/>
                      <a:pt x="2816110" y="171450"/>
                    </a:cubicBezTo>
                    <a:cubicBezTo>
                      <a:pt x="2855717" y="197855"/>
                      <a:pt x="2814775" y="177800"/>
                      <a:pt x="2854210" y="177800"/>
                    </a:cubicBezTo>
                    <a:cubicBezTo>
                      <a:pt x="2873377" y="177800"/>
                      <a:pt x="2892310" y="182033"/>
                      <a:pt x="2911360" y="184150"/>
                    </a:cubicBezTo>
                    <a:cubicBezTo>
                      <a:pt x="2915593" y="190500"/>
                      <a:pt x="2918664" y="197804"/>
                      <a:pt x="2924060" y="203200"/>
                    </a:cubicBezTo>
                    <a:cubicBezTo>
                      <a:pt x="2938678" y="217818"/>
                      <a:pt x="2949079" y="217392"/>
                      <a:pt x="2968510" y="222250"/>
                    </a:cubicBezTo>
                    <a:cubicBezTo>
                      <a:pt x="2974860" y="220133"/>
                      <a:pt x="2981408" y="218537"/>
                      <a:pt x="2987560" y="215900"/>
                    </a:cubicBezTo>
                    <a:cubicBezTo>
                      <a:pt x="2996261" y="212171"/>
                      <a:pt x="3003561" y="204328"/>
                      <a:pt x="3012960" y="203200"/>
                    </a:cubicBezTo>
                    <a:cubicBezTo>
                      <a:pt x="3057143" y="197898"/>
                      <a:pt x="3101860" y="198967"/>
                      <a:pt x="3146310" y="196850"/>
                    </a:cubicBezTo>
                    <a:cubicBezTo>
                      <a:pt x="3182293" y="172861"/>
                      <a:pt x="3150543" y="184856"/>
                      <a:pt x="3178060" y="203200"/>
                    </a:cubicBezTo>
                    <a:cubicBezTo>
                      <a:pt x="3185322" y="208041"/>
                      <a:pt x="3194993" y="207433"/>
                      <a:pt x="3203460" y="209550"/>
                    </a:cubicBezTo>
                    <a:cubicBezTo>
                      <a:pt x="3205577" y="215900"/>
                      <a:pt x="3205077" y="223867"/>
                      <a:pt x="3209810" y="228600"/>
                    </a:cubicBezTo>
                    <a:cubicBezTo>
                      <a:pt x="3214543" y="233333"/>
                      <a:pt x="3224969" y="229503"/>
                      <a:pt x="3228860" y="234950"/>
                    </a:cubicBezTo>
                    <a:cubicBezTo>
                      <a:pt x="3236641" y="245843"/>
                      <a:pt x="3237327" y="260350"/>
                      <a:pt x="3241560" y="273050"/>
                    </a:cubicBezTo>
                    <a:cubicBezTo>
                      <a:pt x="3243677" y="279400"/>
                      <a:pt x="3242341" y="288387"/>
                      <a:pt x="3247910" y="292100"/>
                    </a:cubicBezTo>
                    <a:cubicBezTo>
                      <a:pt x="3254260" y="296333"/>
                      <a:pt x="3259945" y="301794"/>
                      <a:pt x="3266960" y="304800"/>
                    </a:cubicBezTo>
                    <a:cubicBezTo>
                      <a:pt x="3274982" y="308238"/>
                      <a:pt x="3283893" y="309033"/>
                      <a:pt x="3292360" y="311150"/>
                    </a:cubicBezTo>
                    <a:cubicBezTo>
                      <a:pt x="3305060" y="302683"/>
                      <a:pt x="3319667" y="296543"/>
                      <a:pt x="3330460" y="285750"/>
                    </a:cubicBezTo>
                    <a:cubicBezTo>
                      <a:pt x="3354243" y="261967"/>
                      <a:pt x="3340991" y="269540"/>
                      <a:pt x="3368560" y="260350"/>
                    </a:cubicBezTo>
                    <a:cubicBezTo>
                      <a:pt x="3381260" y="262467"/>
                      <a:pt x="3395481" y="260312"/>
                      <a:pt x="3406660" y="266700"/>
                    </a:cubicBezTo>
                    <a:cubicBezTo>
                      <a:pt x="3412472" y="270021"/>
                      <a:pt x="3408829" y="280523"/>
                      <a:pt x="3413010" y="285750"/>
                    </a:cubicBezTo>
                    <a:cubicBezTo>
                      <a:pt x="3423973" y="299454"/>
                      <a:pt x="3442208" y="300987"/>
                      <a:pt x="3457460" y="304800"/>
                    </a:cubicBezTo>
                    <a:cubicBezTo>
                      <a:pt x="3482860" y="302683"/>
                      <a:pt x="3508396" y="301819"/>
                      <a:pt x="3533660" y="298450"/>
                    </a:cubicBezTo>
                    <a:cubicBezTo>
                      <a:pt x="3540295" y="297565"/>
                      <a:pt x="3546723" y="289107"/>
                      <a:pt x="3552710" y="292100"/>
                    </a:cubicBezTo>
                    <a:cubicBezTo>
                      <a:pt x="3558697" y="295093"/>
                      <a:pt x="3554879" y="305923"/>
                      <a:pt x="3559060" y="311150"/>
                    </a:cubicBezTo>
                    <a:cubicBezTo>
                      <a:pt x="3563828" y="317109"/>
                      <a:pt x="3571760" y="319617"/>
                      <a:pt x="3578110" y="323850"/>
                    </a:cubicBezTo>
                    <a:cubicBezTo>
                      <a:pt x="3586577" y="321733"/>
                      <a:pt x="3596942" y="323247"/>
                      <a:pt x="3603510" y="317500"/>
                    </a:cubicBezTo>
                    <a:cubicBezTo>
                      <a:pt x="3603510" y="317500"/>
                      <a:pt x="3635260" y="269875"/>
                      <a:pt x="3641610" y="260350"/>
                    </a:cubicBezTo>
                    <a:cubicBezTo>
                      <a:pt x="3645323" y="254781"/>
                      <a:pt x="3654310" y="256117"/>
                      <a:pt x="3660660" y="254000"/>
                    </a:cubicBezTo>
                    <a:cubicBezTo>
                      <a:pt x="3669127" y="258233"/>
                      <a:pt x="3677359" y="262971"/>
                      <a:pt x="3686060" y="266700"/>
                    </a:cubicBezTo>
                    <a:cubicBezTo>
                      <a:pt x="3715661" y="279386"/>
                      <a:pt x="3739062" y="276137"/>
                      <a:pt x="3774960" y="279400"/>
                    </a:cubicBezTo>
                    <a:cubicBezTo>
                      <a:pt x="3785543" y="281517"/>
                      <a:pt x="3797730" y="279763"/>
                      <a:pt x="3806710" y="285750"/>
                    </a:cubicBezTo>
                    <a:cubicBezTo>
                      <a:pt x="3812279" y="289463"/>
                      <a:pt x="3808879" y="299573"/>
                      <a:pt x="3813060" y="304800"/>
                    </a:cubicBezTo>
                    <a:cubicBezTo>
                      <a:pt x="3817828" y="310759"/>
                      <a:pt x="3825900" y="313064"/>
                      <a:pt x="3832110" y="317500"/>
                    </a:cubicBezTo>
                    <a:cubicBezTo>
                      <a:pt x="3840722" y="323651"/>
                      <a:pt x="3849043" y="330200"/>
                      <a:pt x="3857510" y="336550"/>
                    </a:cubicBezTo>
                    <a:cubicBezTo>
                      <a:pt x="3870210" y="332317"/>
                      <a:pt x="3882910" y="328083"/>
                      <a:pt x="3895610" y="323850"/>
                    </a:cubicBezTo>
                    <a:cubicBezTo>
                      <a:pt x="3901960" y="321733"/>
                      <a:pt x="3914660" y="317500"/>
                      <a:pt x="3914660" y="317500"/>
                    </a:cubicBezTo>
                    <a:cubicBezTo>
                      <a:pt x="3975431" y="256729"/>
                      <a:pt x="3897621" y="328859"/>
                      <a:pt x="3952760" y="292100"/>
                    </a:cubicBezTo>
                    <a:cubicBezTo>
                      <a:pt x="3960232" y="287119"/>
                      <a:pt x="3963960" y="277411"/>
                      <a:pt x="3971810" y="273050"/>
                    </a:cubicBezTo>
                    <a:cubicBezTo>
                      <a:pt x="3983512" y="266549"/>
                      <a:pt x="3996923" y="263597"/>
                      <a:pt x="4009910" y="260350"/>
                    </a:cubicBezTo>
                    <a:cubicBezTo>
                      <a:pt x="4087484" y="240957"/>
                      <a:pt x="4043307" y="248989"/>
                      <a:pt x="4143260" y="241300"/>
                    </a:cubicBezTo>
                    <a:cubicBezTo>
                      <a:pt x="4149610" y="237067"/>
                      <a:pt x="4154782" y="229855"/>
                      <a:pt x="4162310" y="228600"/>
                    </a:cubicBezTo>
                    <a:cubicBezTo>
                      <a:pt x="4168912" y="227500"/>
                      <a:pt x="4174667" y="234950"/>
                      <a:pt x="4181360" y="234950"/>
                    </a:cubicBezTo>
                    <a:cubicBezTo>
                      <a:pt x="4213180" y="234950"/>
                      <a:pt x="4244860" y="230717"/>
                      <a:pt x="4276610" y="228600"/>
                    </a:cubicBezTo>
                    <a:cubicBezTo>
                      <a:pt x="4285077" y="215900"/>
                      <a:pt x="4297183" y="176020"/>
                      <a:pt x="4302010" y="190500"/>
                    </a:cubicBezTo>
                    <a:cubicBezTo>
                      <a:pt x="4304127" y="196850"/>
                      <a:pt x="4303627" y="204817"/>
                      <a:pt x="4308360" y="209550"/>
                    </a:cubicBezTo>
                    <a:cubicBezTo>
                      <a:pt x="4313093" y="214283"/>
                      <a:pt x="4321060" y="213783"/>
                      <a:pt x="4327410" y="215900"/>
                    </a:cubicBezTo>
                    <a:cubicBezTo>
                      <a:pt x="4331643" y="222250"/>
                      <a:pt x="4334151" y="230182"/>
                      <a:pt x="4340110" y="234950"/>
                    </a:cubicBezTo>
                    <a:cubicBezTo>
                      <a:pt x="4345337" y="239131"/>
                      <a:pt x="4352666" y="239677"/>
                      <a:pt x="4359160" y="241300"/>
                    </a:cubicBezTo>
                    <a:cubicBezTo>
                      <a:pt x="4376910" y="245738"/>
                      <a:pt x="4412026" y="251169"/>
                      <a:pt x="4429010" y="254000"/>
                    </a:cubicBezTo>
                    <a:cubicBezTo>
                      <a:pt x="4433243" y="260350"/>
                      <a:pt x="4438297" y="266224"/>
                      <a:pt x="4441710" y="273050"/>
                    </a:cubicBezTo>
                    <a:cubicBezTo>
                      <a:pt x="4447686" y="285002"/>
                      <a:pt x="4447525" y="302878"/>
                      <a:pt x="4460760" y="311150"/>
                    </a:cubicBezTo>
                    <a:cubicBezTo>
                      <a:pt x="4472112" y="318245"/>
                      <a:pt x="4486160" y="319617"/>
                      <a:pt x="4498860" y="323850"/>
                    </a:cubicBezTo>
                    <a:cubicBezTo>
                      <a:pt x="4538388" y="337026"/>
                      <a:pt x="4511346" y="328887"/>
                      <a:pt x="4581410" y="342900"/>
                    </a:cubicBezTo>
                    <a:cubicBezTo>
                      <a:pt x="4587974" y="344213"/>
                      <a:pt x="4593966" y="347627"/>
                      <a:pt x="4600460" y="349250"/>
                    </a:cubicBezTo>
                    <a:cubicBezTo>
                      <a:pt x="4610931" y="351868"/>
                      <a:pt x="4621627" y="353483"/>
                      <a:pt x="4632210" y="355600"/>
                    </a:cubicBezTo>
                    <a:cubicBezTo>
                      <a:pt x="4680093" y="339639"/>
                      <a:pt x="4621071" y="361169"/>
                      <a:pt x="4670310" y="336550"/>
                    </a:cubicBezTo>
                    <a:cubicBezTo>
                      <a:pt x="4676297" y="333557"/>
                      <a:pt x="4683010" y="332317"/>
                      <a:pt x="4689360" y="330200"/>
                    </a:cubicBezTo>
                    <a:cubicBezTo>
                      <a:pt x="4693593" y="336550"/>
                      <a:pt x="4698647" y="342424"/>
                      <a:pt x="4702060" y="349250"/>
                    </a:cubicBezTo>
                    <a:cubicBezTo>
                      <a:pt x="4706615" y="358360"/>
                      <a:pt x="4712725" y="385562"/>
                      <a:pt x="4714760" y="393700"/>
                    </a:cubicBezTo>
                    <a:cubicBezTo>
                      <a:pt x="4712643" y="421217"/>
                      <a:pt x="4707622" y="448663"/>
                      <a:pt x="4708410" y="476250"/>
                    </a:cubicBezTo>
                    <a:cubicBezTo>
                      <a:pt x="4711341" y="578830"/>
                      <a:pt x="4717352" y="597160"/>
                      <a:pt x="4733810" y="679450"/>
                    </a:cubicBezTo>
                    <a:cubicBezTo>
                      <a:pt x="4736745" y="694126"/>
                      <a:pt x="4737559" y="709161"/>
                      <a:pt x="4740160" y="723900"/>
                    </a:cubicBezTo>
                    <a:cubicBezTo>
                      <a:pt x="4743911" y="745157"/>
                      <a:pt x="4748627" y="766233"/>
                      <a:pt x="4752860" y="787400"/>
                    </a:cubicBezTo>
                    <a:cubicBezTo>
                      <a:pt x="4758731" y="816753"/>
                      <a:pt x="4761327" y="846667"/>
                      <a:pt x="4765560" y="876300"/>
                    </a:cubicBezTo>
                    <a:cubicBezTo>
                      <a:pt x="4767677" y="891117"/>
                      <a:pt x="4769793" y="905933"/>
                      <a:pt x="4771910" y="920750"/>
                    </a:cubicBezTo>
                    <a:cubicBezTo>
                      <a:pt x="4781363" y="986918"/>
                      <a:pt x="4775984" y="961725"/>
                      <a:pt x="4784610" y="1035050"/>
                    </a:cubicBezTo>
                    <a:cubicBezTo>
                      <a:pt x="4786359" y="1049915"/>
                      <a:pt x="4788025" y="1064824"/>
                      <a:pt x="4790960" y="1079500"/>
                    </a:cubicBezTo>
                    <a:cubicBezTo>
                      <a:pt x="4792273" y="1086064"/>
                      <a:pt x="4792577" y="1093817"/>
                      <a:pt x="4797310" y="1098550"/>
                    </a:cubicBezTo>
                    <a:cubicBezTo>
                      <a:pt x="4802043" y="1103283"/>
                      <a:pt x="4810373" y="1101907"/>
                      <a:pt x="4816360" y="1104900"/>
                    </a:cubicBezTo>
                    <a:cubicBezTo>
                      <a:pt x="4823186" y="1108313"/>
                      <a:pt x="4829060" y="1113367"/>
                      <a:pt x="4835410" y="1117600"/>
                    </a:cubicBezTo>
                    <a:cubicBezTo>
                      <a:pt x="4843877" y="1130300"/>
                      <a:pt x="4855983" y="1141220"/>
                      <a:pt x="4860810" y="1155700"/>
                    </a:cubicBezTo>
                    <a:cubicBezTo>
                      <a:pt x="4867934" y="1177072"/>
                      <a:pt x="4867305" y="1178179"/>
                      <a:pt x="4879860" y="1200150"/>
                    </a:cubicBezTo>
                    <a:cubicBezTo>
                      <a:pt x="4883646" y="1206776"/>
                      <a:pt x="4889460" y="1212226"/>
                      <a:pt x="4892560" y="1219200"/>
                    </a:cubicBezTo>
                    <a:cubicBezTo>
                      <a:pt x="4897997" y="1231433"/>
                      <a:pt x="4901027" y="1244600"/>
                      <a:pt x="4905260" y="1257300"/>
                    </a:cubicBezTo>
                    <a:cubicBezTo>
                      <a:pt x="4907377" y="1263650"/>
                      <a:pt x="4909493" y="1270000"/>
                      <a:pt x="4911610" y="1276350"/>
                    </a:cubicBezTo>
                    <a:cubicBezTo>
                      <a:pt x="4915793" y="1288899"/>
                      <a:pt x="4919469" y="1305498"/>
                      <a:pt x="4930660" y="1314450"/>
                    </a:cubicBezTo>
                    <a:cubicBezTo>
                      <a:pt x="4935887" y="1318631"/>
                      <a:pt x="4943360" y="1318683"/>
                      <a:pt x="4949710" y="1320800"/>
                    </a:cubicBezTo>
                    <a:cubicBezTo>
                      <a:pt x="4953943" y="1333500"/>
                      <a:pt x="4958177" y="1346200"/>
                      <a:pt x="4962410" y="1358900"/>
                    </a:cubicBezTo>
                    <a:cubicBezTo>
                      <a:pt x="4964527" y="1365250"/>
                      <a:pt x="4966643" y="1371600"/>
                      <a:pt x="4968760" y="1377950"/>
                    </a:cubicBezTo>
                    <a:cubicBezTo>
                      <a:pt x="4970877" y="1384300"/>
                      <a:pt x="4973797" y="1390436"/>
                      <a:pt x="4975110" y="1397000"/>
                    </a:cubicBezTo>
                    <a:cubicBezTo>
                      <a:pt x="4982957" y="1436234"/>
                      <a:pt x="4975473" y="1419770"/>
                      <a:pt x="4994160" y="1447800"/>
                    </a:cubicBezTo>
                    <a:cubicBezTo>
                      <a:pt x="4996277" y="1456267"/>
                      <a:pt x="4998112" y="1464809"/>
                      <a:pt x="5000510" y="1473200"/>
                    </a:cubicBezTo>
                    <a:cubicBezTo>
                      <a:pt x="5002349" y="1479636"/>
                      <a:pt x="5005408" y="1485716"/>
                      <a:pt x="5006860" y="1492250"/>
                    </a:cubicBezTo>
                    <a:cubicBezTo>
                      <a:pt x="5009653" y="1504819"/>
                      <a:pt x="5011093" y="1517650"/>
                      <a:pt x="5013210" y="1530350"/>
                    </a:cubicBezTo>
                    <a:cubicBezTo>
                      <a:pt x="5014817" y="1556066"/>
                      <a:pt x="5026689" y="1645008"/>
                      <a:pt x="5013210" y="1682750"/>
                    </a:cubicBezTo>
                    <a:cubicBezTo>
                      <a:pt x="5008076" y="1697124"/>
                      <a:pt x="4996277" y="1708150"/>
                      <a:pt x="4987810" y="1720850"/>
                    </a:cubicBezTo>
                    <a:cubicBezTo>
                      <a:pt x="4945493" y="1784326"/>
                      <a:pt x="5001757" y="1741185"/>
                      <a:pt x="4956060" y="1771650"/>
                    </a:cubicBezTo>
                    <a:cubicBezTo>
                      <a:pt x="4980410" y="1808174"/>
                      <a:pt x="4962410" y="1771765"/>
                      <a:pt x="4962410" y="1828800"/>
                    </a:cubicBezTo>
                    <a:cubicBezTo>
                      <a:pt x="4962410" y="1847967"/>
                      <a:pt x="4965001" y="1867155"/>
                      <a:pt x="4968760" y="1885950"/>
                    </a:cubicBezTo>
                    <a:cubicBezTo>
                      <a:pt x="4971385" y="1899077"/>
                      <a:pt x="4977227" y="1911350"/>
                      <a:pt x="4981460" y="1924050"/>
                    </a:cubicBezTo>
                    <a:cubicBezTo>
                      <a:pt x="4983577" y="1930400"/>
                      <a:pt x="4985693" y="1936750"/>
                      <a:pt x="4987810" y="1943100"/>
                    </a:cubicBezTo>
                    <a:cubicBezTo>
                      <a:pt x="4989927" y="1949450"/>
                      <a:pt x="4994160" y="1962150"/>
                      <a:pt x="4994160" y="1962150"/>
                    </a:cubicBezTo>
                    <a:cubicBezTo>
                      <a:pt x="4989927" y="1974850"/>
                      <a:pt x="4988886" y="1989111"/>
                      <a:pt x="4981460" y="2000250"/>
                    </a:cubicBezTo>
                    <a:cubicBezTo>
                      <a:pt x="4951079" y="2045822"/>
                      <a:pt x="4966853" y="2027557"/>
                      <a:pt x="4937010" y="2057400"/>
                    </a:cubicBezTo>
                    <a:cubicBezTo>
                      <a:pt x="4921049" y="2105283"/>
                      <a:pt x="4942579" y="2046261"/>
                      <a:pt x="4917960" y="2095500"/>
                    </a:cubicBezTo>
                    <a:cubicBezTo>
                      <a:pt x="4914967" y="2101487"/>
                      <a:pt x="4913727" y="2108200"/>
                      <a:pt x="4911610" y="2114550"/>
                    </a:cubicBezTo>
                    <a:cubicBezTo>
                      <a:pt x="4909493" y="2133600"/>
                      <a:pt x="4915419" y="2155446"/>
                      <a:pt x="4905260" y="2171700"/>
                    </a:cubicBezTo>
                    <a:cubicBezTo>
                      <a:pt x="4900635" y="2179101"/>
                      <a:pt x="4888587" y="2165350"/>
                      <a:pt x="4879860" y="2165350"/>
                    </a:cubicBezTo>
                    <a:cubicBezTo>
                      <a:pt x="4864893" y="2165350"/>
                      <a:pt x="4850227" y="2169583"/>
                      <a:pt x="4835410" y="2171700"/>
                    </a:cubicBezTo>
                    <a:cubicBezTo>
                      <a:pt x="4776954" y="2210671"/>
                      <a:pt x="4867951" y="2148207"/>
                      <a:pt x="4790960" y="2209800"/>
                    </a:cubicBezTo>
                    <a:cubicBezTo>
                      <a:pt x="4779041" y="2219335"/>
                      <a:pt x="4765560" y="2226733"/>
                      <a:pt x="4752860" y="2235200"/>
                    </a:cubicBezTo>
                    <a:cubicBezTo>
                      <a:pt x="4746510" y="2239433"/>
                      <a:pt x="4741050" y="2245487"/>
                      <a:pt x="4733810" y="2247900"/>
                    </a:cubicBezTo>
                    <a:cubicBezTo>
                      <a:pt x="4721110" y="2252133"/>
                      <a:pt x="4707684" y="2254613"/>
                      <a:pt x="4695710" y="2260600"/>
                    </a:cubicBezTo>
                    <a:cubicBezTo>
                      <a:pt x="4664323" y="2276293"/>
                      <a:pt x="4679290" y="2270307"/>
                      <a:pt x="4651260" y="2279650"/>
                    </a:cubicBezTo>
                    <a:cubicBezTo>
                      <a:pt x="4644910" y="2286000"/>
                      <a:pt x="4639109" y="2292951"/>
                      <a:pt x="4632210" y="2298700"/>
                    </a:cubicBezTo>
                    <a:cubicBezTo>
                      <a:pt x="4626347" y="2303586"/>
                      <a:pt x="4618556" y="2306004"/>
                      <a:pt x="4613160" y="2311400"/>
                    </a:cubicBezTo>
                    <a:cubicBezTo>
                      <a:pt x="4565902" y="2358658"/>
                      <a:pt x="4619955" y="2319570"/>
                      <a:pt x="4575060" y="2349500"/>
                    </a:cubicBezTo>
                    <a:cubicBezTo>
                      <a:pt x="4553893" y="2381250"/>
                      <a:pt x="4568710" y="2364317"/>
                      <a:pt x="4524260" y="2393950"/>
                    </a:cubicBezTo>
                    <a:cubicBezTo>
                      <a:pt x="4514297" y="2400592"/>
                      <a:pt x="4507871" y="2411465"/>
                      <a:pt x="4498860" y="2419350"/>
                    </a:cubicBezTo>
                    <a:cubicBezTo>
                      <a:pt x="4490895" y="2426319"/>
                      <a:pt x="4482072" y="2432249"/>
                      <a:pt x="4473460" y="2438400"/>
                    </a:cubicBezTo>
                    <a:cubicBezTo>
                      <a:pt x="4467250" y="2442836"/>
                      <a:pt x="4460114" y="2446030"/>
                      <a:pt x="4454410" y="2451100"/>
                    </a:cubicBezTo>
                    <a:cubicBezTo>
                      <a:pt x="4389165" y="2509095"/>
                      <a:pt x="4440495" y="2473076"/>
                      <a:pt x="4397260" y="2501900"/>
                    </a:cubicBezTo>
                    <a:cubicBezTo>
                      <a:pt x="4380327" y="2527300"/>
                      <a:pt x="4363393" y="2552700"/>
                      <a:pt x="4346460" y="2578100"/>
                    </a:cubicBezTo>
                    <a:cubicBezTo>
                      <a:pt x="4341479" y="2585572"/>
                      <a:pt x="4332923" y="2590061"/>
                      <a:pt x="4327410" y="2597150"/>
                    </a:cubicBezTo>
                    <a:cubicBezTo>
                      <a:pt x="4318039" y="2609198"/>
                      <a:pt x="4314710" y="2626783"/>
                      <a:pt x="4302010" y="2635250"/>
                    </a:cubicBezTo>
                    <a:cubicBezTo>
                      <a:pt x="4265401" y="2659656"/>
                      <a:pt x="4300716" y="2638526"/>
                      <a:pt x="4263910" y="2654300"/>
                    </a:cubicBezTo>
                    <a:cubicBezTo>
                      <a:pt x="4255209" y="2658029"/>
                      <a:pt x="4247211" y="2663271"/>
                      <a:pt x="4238510" y="2667000"/>
                    </a:cubicBezTo>
                    <a:cubicBezTo>
                      <a:pt x="4232358" y="2669637"/>
                      <a:pt x="4225311" y="2670099"/>
                      <a:pt x="4219460" y="2673350"/>
                    </a:cubicBezTo>
                    <a:cubicBezTo>
                      <a:pt x="4206117" y="2680763"/>
                      <a:pt x="4194060" y="2690283"/>
                      <a:pt x="4181360" y="2698750"/>
                    </a:cubicBezTo>
                    <a:cubicBezTo>
                      <a:pt x="4166837" y="2708432"/>
                      <a:pt x="4147493" y="2707217"/>
                      <a:pt x="4130560" y="2711450"/>
                    </a:cubicBezTo>
                    <a:cubicBezTo>
                      <a:pt x="4117573" y="2714697"/>
                      <a:pt x="4104434" y="2718163"/>
                      <a:pt x="4092460" y="2724150"/>
                    </a:cubicBezTo>
                    <a:cubicBezTo>
                      <a:pt x="4083993" y="2728383"/>
                      <a:pt x="4075279" y="2732154"/>
                      <a:pt x="4067060" y="2736850"/>
                    </a:cubicBezTo>
                    <a:cubicBezTo>
                      <a:pt x="4060434" y="2740636"/>
                      <a:pt x="4054836" y="2746137"/>
                      <a:pt x="4048010" y="2749550"/>
                    </a:cubicBezTo>
                    <a:cubicBezTo>
                      <a:pt x="4019371" y="2763869"/>
                      <a:pt x="4037207" y="2745852"/>
                      <a:pt x="4009910" y="2768600"/>
                    </a:cubicBezTo>
                    <a:cubicBezTo>
                      <a:pt x="3961017" y="2809344"/>
                      <a:pt x="4019108" y="2768818"/>
                      <a:pt x="3971810" y="2800350"/>
                    </a:cubicBezTo>
                    <a:cubicBezTo>
                      <a:pt x="3959110" y="2819400"/>
                      <a:pt x="3946410" y="2838450"/>
                      <a:pt x="3933710" y="2857500"/>
                    </a:cubicBezTo>
                    <a:cubicBezTo>
                      <a:pt x="3929477" y="2863850"/>
                      <a:pt x="3925243" y="2870200"/>
                      <a:pt x="3921010" y="2876550"/>
                    </a:cubicBezTo>
                    <a:cubicBezTo>
                      <a:pt x="3916777" y="2882900"/>
                      <a:pt x="3913706" y="2890204"/>
                      <a:pt x="3908310" y="2895600"/>
                    </a:cubicBezTo>
                    <a:cubicBezTo>
                      <a:pt x="3901960" y="2901950"/>
                      <a:pt x="3894480" y="2907342"/>
                      <a:pt x="3889260" y="2914650"/>
                    </a:cubicBezTo>
                    <a:cubicBezTo>
                      <a:pt x="3883758" y="2922353"/>
                      <a:pt x="3882620" y="2932778"/>
                      <a:pt x="3876560" y="2940050"/>
                    </a:cubicBezTo>
                    <a:cubicBezTo>
                      <a:pt x="3871674" y="2945913"/>
                      <a:pt x="3863720" y="2948314"/>
                      <a:pt x="3857510" y="2952750"/>
                    </a:cubicBezTo>
                    <a:cubicBezTo>
                      <a:pt x="3848898" y="2958901"/>
                      <a:pt x="3840722" y="2965649"/>
                      <a:pt x="3832110" y="2971800"/>
                    </a:cubicBezTo>
                    <a:cubicBezTo>
                      <a:pt x="3825900" y="2976236"/>
                      <a:pt x="3818764" y="2979430"/>
                      <a:pt x="3813060" y="2984500"/>
                    </a:cubicBezTo>
                    <a:cubicBezTo>
                      <a:pt x="3789485" y="3005456"/>
                      <a:pt x="3776360" y="3026336"/>
                      <a:pt x="3749560" y="3041650"/>
                    </a:cubicBezTo>
                    <a:cubicBezTo>
                      <a:pt x="3743748" y="3044971"/>
                      <a:pt x="3736860" y="3045883"/>
                      <a:pt x="3730510" y="3048000"/>
                    </a:cubicBezTo>
                    <a:cubicBezTo>
                      <a:pt x="3726277" y="3054350"/>
                      <a:pt x="3717810" y="3059418"/>
                      <a:pt x="3717810" y="3067050"/>
                    </a:cubicBezTo>
                    <a:cubicBezTo>
                      <a:pt x="3717810" y="3074682"/>
                      <a:pt x="3727097" y="3079274"/>
                      <a:pt x="3730510" y="3086100"/>
                    </a:cubicBezTo>
                    <a:cubicBezTo>
                      <a:pt x="3733503" y="3092087"/>
                      <a:pt x="3734743" y="3098800"/>
                      <a:pt x="3736860" y="3105150"/>
                    </a:cubicBezTo>
                    <a:cubicBezTo>
                      <a:pt x="3704034" y="3154389"/>
                      <a:pt x="3716287" y="3128770"/>
                      <a:pt x="3698760" y="3181350"/>
                    </a:cubicBezTo>
                    <a:cubicBezTo>
                      <a:pt x="3693505" y="3197116"/>
                      <a:pt x="3676835" y="3207660"/>
                      <a:pt x="3667010" y="3219450"/>
                    </a:cubicBezTo>
                    <a:cubicBezTo>
                      <a:pt x="3622807" y="3272494"/>
                      <a:pt x="3690915" y="3201895"/>
                      <a:pt x="3635260" y="3257550"/>
                    </a:cubicBezTo>
                    <a:cubicBezTo>
                      <a:pt x="3624677" y="3289300"/>
                      <a:pt x="3614093" y="3321050"/>
                      <a:pt x="3603510" y="3352800"/>
                    </a:cubicBezTo>
                    <a:cubicBezTo>
                      <a:pt x="3601393" y="3359150"/>
                      <a:pt x="3599277" y="3365500"/>
                      <a:pt x="3597160" y="3371850"/>
                    </a:cubicBezTo>
                    <a:cubicBezTo>
                      <a:pt x="3595043" y="3378200"/>
                      <a:pt x="3590810" y="3390900"/>
                      <a:pt x="3590810" y="3390900"/>
                    </a:cubicBezTo>
                    <a:cubicBezTo>
                      <a:pt x="3592927" y="3409950"/>
                      <a:pt x="3594627" y="3429051"/>
                      <a:pt x="3597160" y="3448050"/>
                    </a:cubicBezTo>
                    <a:cubicBezTo>
                      <a:pt x="3598862" y="3460812"/>
                      <a:pt x="3602867" y="3473291"/>
                      <a:pt x="3603510" y="3486150"/>
                    </a:cubicBezTo>
                    <a:cubicBezTo>
                      <a:pt x="3612299" y="3661924"/>
                      <a:pt x="3602773" y="3650966"/>
                      <a:pt x="3616210" y="3771900"/>
                    </a:cubicBezTo>
                    <a:cubicBezTo>
                      <a:pt x="3617863" y="3786776"/>
                      <a:pt x="3619883" y="3801624"/>
                      <a:pt x="3622560" y="3816350"/>
                    </a:cubicBezTo>
                    <a:cubicBezTo>
                      <a:pt x="3628842" y="3850904"/>
                      <a:pt x="3630662" y="3844377"/>
                      <a:pt x="3654310" y="3879850"/>
                    </a:cubicBezTo>
                    <a:cubicBezTo>
                      <a:pt x="3658543" y="3886200"/>
                      <a:pt x="3664597" y="3891660"/>
                      <a:pt x="3667010" y="3898900"/>
                    </a:cubicBezTo>
                    <a:cubicBezTo>
                      <a:pt x="3671243" y="3911600"/>
                      <a:pt x="3672284" y="3925861"/>
                      <a:pt x="3679710" y="3937000"/>
                    </a:cubicBezTo>
                    <a:cubicBezTo>
                      <a:pt x="3688177" y="3949700"/>
                      <a:pt x="3700283" y="3960620"/>
                      <a:pt x="3705110" y="3975100"/>
                    </a:cubicBezTo>
                    <a:cubicBezTo>
                      <a:pt x="3709343" y="3987800"/>
                      <a:pt x="3717810" y="4013200"/>
                      <a:pt x="3717810" y="4013200"/>
                    </a:cubicBezTo>
                    <a:cubicBezTo>
                      <a:pt x="3715693" y="4021667"/>
                      <a:pt x="3716912" y="4031785"/>
                      <a:pt x="3711460" y="4038600"/>
                    </a:cubicBezTo>
                    <a:cubicBezTo>
                      <a:pt x="3707279" y="4043827"/>
                      <a:pt x="3699103" y="4044950"/>
                      <a:pt x="3692410" y="4044950"/>
                    </a:cubicBezTo>
                    <a:cubicBezTo>
                      <a:pt x="3656364" y="4044950"/>
                      <a:pt x="3620443" y="4040717"/>
                      <a:pt x="3584460" y="4038600"/>
                    </a:cubicBezTo>
                    <a:cubicBezTo>
                      <a:pt x="3580227" y="4032250"/>
                      <a:pt x="3577503" y="4024576"/>
                      <a:pt x="3571760" y="4019550"/>
                    </a:cubicBezTo>
                    <a:cubicBezTo>
                      <a:pt x="3549708" y="4000254"/>
                      <a:pt x="3538660" y="3994672"/>
                      <a:pt x="3514610" y="3987800"/>
                    </a:cubicBezTo>
                    <a:cubicBezTo>
                      <a:pt x="3506219" y="3985402"/>
                      <a:pt x="3497601" y="3983848"/>
                      <a:pt x="3489210" y="3981450"/>
                    </a:cubicBezTo>
                    <a:cubicBezTo>
                      <a:pt x="3438093" y="3966845"/>
                      <a:pt x="3516740" y="3983922"/>
                      <a:pt x="3425710" y="3968750"/>
                    </a:cubicBezTo>
                    <a:cubicBezTo>
                      <a:pt x="3415064" y="3966976"/>
                      <a:pt x="3404712" y="3963335"/>
                      <a:pt x="3393960" y="3962400"/>
                    </a:cubicBezTo>
                    <a:cubicBezTo>
                      <a:pt x="3355945" y="3959094"/>
                      <a:pt x="3317760" y="3958167"/>
                      <a:pt x="3279660" y="3956050"/>
                    </a:cubicBezTo>
                    <a:cubicBezTo>
                      <a:pt x="3266960" y="3951817"/>
                      <a:pt x="3254260" y="3947583"/>
                      <a:pt x="3241560" y="3943350"/>
                    </a:cubicBezTo>
                    <a:cubicBezTo>
                      <a:pt x="3241560" y="3943350"/>
                      <a:pt x="3193935" y="3911600"/>
                      <a:pt x="3184410" y="3905250"/>
                    </a:cubicBezTo>
                    <a:cubicBezTo>
                      <a:pt x="3178060" y="3901017"/>
                      <a:pt x="3171710" y="3896783"/>
                      <a:pt x="3165360" y="3892550"/>
                    </a:cubicBezTo>
                    <a:cubicBezTo>
                      <a:pt x="3159010" y="3888317"/>
                      <a:pt x="3153714" y="3881701"/>
                      <a:pt x="3146310" y="3879850"/>
                    </a:cubicBezTo>
                    <a:cubicBezTo>
                      <a:pt x="3138172" y="3877815"/>
                      <a:pt x="3110970" y="3871705"/>
                      <a:pt x="3101860" y="3867150"/>
                    </a:cubicBezTo>
                    <a:cubicBezTo>
                      <a:pt x="3095034" y="3863737"/>
                      <a:pt x="3089956" y="3857130"/>
                      <a:pt x="3082810" y="3854450"/>
                    </a:cubicBezTo>
                    <a:cubicBezTo>
                      <a:pt x="3072704" y="3850660"/>
                      <a:pt x="3061531" y="3850718"/>
                      <a:pt x="3051060" y="3848100"/>
                    </a:cubicBezTo>
                    <a:cubicBezTo>
                      <a:pt x="3044566" y="3846477"/>
                      <a:pt x="3038446" y="3843589"/>
                      <a:pt x="3032010" y="3841750"/>
                    </a:cubicBezTo>
                    <a:cubicBezTo>
                      <a:pt x="3011085" y="3835772"/>
                      <a:pt x="2996684" y="3833415"/>
                      <a:pt x="2974860" y="3829050"/>
                    </a:cubicBezTo>
                    <a:cubicBezTo>
                      <a:pt x="2968510" y="3822700"/>
                      <a:pt x="2960791" y="3817472"/>
                      <a:pt x="2955810" y="3810000"/>
                    </a:cubicBezTo>
                    <a:cubicBezTo>
                      <a:pt x="2952097" y="3804431"/>
                      <a:pt x="2952453" y="3796937"/>
                      <a:pt x="2949460" y="3790950"/>
                    </a:cubicBezTo>
                    <a:cubicBezTo>
                      <a:pt x="2946047" y="3784124"/>
                      <a:pt x="2940173" y="3778726"/>
                      <a:pt x="2936760" y="3771900"/>
                    </a:cubicBezTo>
                    <a:cubicBezTo>
                      <a:pt x="2933767" y="3765913"/>
                      <a:pt x="2933403" y="3758837"/>
                      <a:pt x="2930410" y="3752850"/>
                    </a:cubicBezTo>
                    <a:cubicBezTo>
                      <a:pt x="2926997" y="3746024"/>
                      <a:pt x="2920810" y="3740774"/>
                      <a:pt x="2917710" y="3733800"/>
                    </a:cubicBezTo>
                    <a:cubicBezTo>
                      <a:pt x="2912273" y="3721567"/>
                      <a:pt x="2909243" y="3708400"/>
                      <a:pt x="2905010" y="3695700"/>
                    </a:cubicBezTo>
                    <a:cubicBezTo>
                      <a:pt x="2900777" y="3683000"/>
                      <a:pt x="2896543" y="3670300"/>
                      <a:pt x="2892310" y="3657600"/>
                    </a:cubicBezTo>
                    <a:cubicBezTo>
                      <a:pt x="2890193" y="3651250"/>
                      <a:pt x="2889673" y="3644119"/>
                      <a:pt x="2885960" y="3638550"/>
                    </a:cubicBezTo>
                    <a:cubicBezTo>
                      <a:pt x="2849564" y="3583955"/>
                      <a:pt x="2893200" y="3653030"/>
                      <a:pt x="2866910" y="3600450"/>
                    </a:cubicBezTo>
                    <a:cubicBezTo>
                      <a:pt x="2853295" y="3573221"/>
                      <a:pt x="2854821" y="3587629"/>
                      <a:pt x="2835160" y="3562350"/>
                    </a:cubicBezTo>
                    <a:cubicBezTo>
                      <a:pt x="2825789" y="3550302"/>
                      <a:pt x="2818227" y="3536950"/>
                      <a:pt x="2809760" y="3524250"/>
                    </a:cubicBezTo>
                    <a:cubicBezTo>
                      <a:pt x="2802334" y="3513111"/>
                      <a:pt x="2801293" y="3498850"/>
                      <a:pt x="2797060" y="3486150"/>
                    </a:cubicBezTo>
                    <a:cubicBezTo>
                      <a:pt x="2794943" y="3479800"/>
                      <a:pt x="2790710" y="3467100"/>
                      <a:pt x="2790710" y="3467100"/>
                    </a:cubicBezTo>
                    <a:cubicBezTo>
                      <a:pt x="2788593" y="3418417"/>
                      <a:pt x="2787832" y="3369655"/>
                      <a:pt x="2784360" y="3321050"/>
                    </a:cubicBezTo>
                    <a:cubicBezTo>
                      <a:pt x="2783736" y="3312320"/>
                      <a:pt x="2774613" y="3274236"/>
                      <a:pt x="2771660" y="3263900"/>
                    </a:cubicBezTo>
                    <a:cubicBezTo>
                      <a:pt x="2769821" y="3257464"/>
                      <a:pt x="2770043" y="3249583"/>
                      <a:pt x="2765310" y="3244850"/>
                    </a:cubicBezTo>
                    <a:cubicBezTo>
                      <a:pt x="2754517" y="3234057"/>
                      <a:pt x="2739910" y="3227917"/>
                      <a:pt x="2727210" y="3219450"/>
                    </a:cubicBezTo>
                    <a:cubicBezTo>
                      <a:pt x="2716071" y="3212024"/>
                      <a:pt x="2689110" y="3206750"/>
                      <a:pt x="2689110" y="3206750"/>
                    </a:cubicBezTo>
                    <a:cubicBezTo>
                      <a:pt x="2676410" y="3187700"/>
                      <a:pt x="2663710" y="3168650"/>
                      <a:pt x="2651010" y="3149600"/>
                    </a:cubicBezTo>
                    <a:cubicBezTo>
                      <a:pt x="2646777" y="3143250"/>
                      <a:pt x="2640723" y="3137790"/>
                      <a:pt x="2638310" y="3130550"/>
                    </a:cubicBezTo>
                    <a:cubicBezTo>
                      <a:pt x="2636193" y="3124200"/>
                      <a:pt x="2636069" y="3116784"/>
                      <a:pt x="2631960" y="3111500"/>
                    </a:cubicBezTo>
                    <a:cubicBezTo>
                      <a:pt x="2584162" y="3050045"/>
                      <a:pt x="2612749" y="3086020"/>
                      <a:pt x="2574810" y="3067050"/>
                    </a:cubicBezTo>
                    <a:cubicBezTo>
                      <a:pt x="2567984" y="3063637"/>
                      <a:pt x="2562110" y="3058583"/>
                      <a:pt x="2555760" y="3054350"/>
                    </a:cubicBezTo>
                    <a:cubicBezTo>
                      <a:pt x="2547293" y="3041650"/>
                      <a:pt x="2538827" y="3028950"/>
                      <a:pt x="2530360" y="3016250"/>
                    </a:cubicBezTo>
                    <a:cubicBezTo>
                      <a:pt x="2518619" y="2998638"/>
                      <a:pt x="2504001" y="2983062"/>
                      <a:pt x="2492260" y="2965450"/>
                    </a:cubicBezTo>
                    <a:cubicBezTo>
                      <a:pt x="2488027" y="2959100"/>
                      <a:pt x="2482660" y="2953374"/>
                      <a:pt x="2479560" y="2946400"/>
                    </a:cubicBezTo>
                    <a:cubicBezTo>
                      <a:pt x="2466344" y="2916664"/>
                      <a:pt x="2467150" y="2906429"/>
                      <a:pt x="2460510" y="2876550"/>
                    </a:cubicBezTo>
                    <a:cubicBezTo>
                      <a:pt x="2458617" y="2868031"/>
                      <a:pt x="2455872" y="2859708"/>
                      <a:pt x="2454160" y="2851150"/>
                    </a:cubicBezTo>
                    <a:cubicBezTo>
                      <a:pt x="2451635" y="2838525"/>
                      <a:pt x="2451881" y="2825264"/>
                      <a:pt x="2447810" y="2813050"/>
                    </a:cubicBezTo>
                    <a:cubicBezTo>
                      <a:pt x="2444329" y="2802607"/>
                      <a:pt x="2423797" y="2780476"/>
                      <a:pt x="2416060" y="2774950"/>
                    </a:cubicBezTo>
                    <a:cubicBezTo>
                      <a:pt x="2408357" y="2769448"/>
                      <a:pt x="2398687" y="2767267"/>
                      <a:pt x="2390660" y="2762250"/>
                    </a:cubicBezTo>
                    <a:cubicBezTo>
                      <a:pt x="2381685" y="2756641"/>
                      <a:pt x="2373872" y="2749351"/>
                      <a:pt x="2365260" y="2743200"/>
                    </a:cubicBezTo>
                    <a:cubicBezTo>
                      <a:pt x="2359050" y="2738764"/>
                      <a:pt x="2351606" y="2735896"/>
                      <a:pt x="2346210" y="2730500"/>
                    </a:cubicBezTo>
                    <a:cubicBezTo>
                      <a:pt x="2338726" y="2723016"/>
                      <a:pt x="2333510" y="2713567"/>
                      <a:pt x="2327160" y="2705100"/>
                    </a:cubicBezTo>
                    <a:cubicBezTo>
                      <a:pt x="2318609" y="2653795"/>
                      <a:pt x="2324881" y="2679214"/>
                      <a:pt x="2308110" y="2628900"/>
                    </a:cubicBezTo>
                    <a:cubicBezTo>
                      <a:pt x="2303522" y="2615137"/>
                      <a:pt x="2298028" y="2595660"/>
                      <a:pt x="2289060" y="2584450"/>
                    </a:cubicBezTo>
                    <a:cubicBezTo>
                      <a:pt x="2277840" y="2570425"/>
                      <a:pt x="2260923" y="2561294"/>
                      <a:pt x="2250960" y="2546350"/>
                    </a:cubicBezTo>
                    <a:cubicBezTo>
                      <a:pt x="2216658" y="2494897"/>
                      <a:pt x="2263214" y="2562032"/>
                      <a:pt x="2219210" y="2508250"/>
                    </a:cubicBezTo>
                    <a:cubicBezTo>
                      <a:pt x="2165075" y="2442085"/>
                      <a:pt x="2196982" y="2478400"/>
                      <a:pt x="2168410" y="2438400"/>
                    </a:cubicBezTo>
                    <a:cubicBezTo>
                      <a:pt x="2162259" y="2429788"/>
                      <a:pt x="2157270" y="2420031"/>
                      <a:pt x="2149360" y="2413000"/>
                    </a:cubicBezTo>
                    <a:cubicBezTo>
                      <a:pt x="2137952" y="2402859"/>
                      <a:pt x="2123960" y="2396067"/>
                      <a:pt x="2111260" y="2387600"/>
                    </a:cubicBezTo>
                    <a:cubicBezTo>
                      <a:pt x="2100121" y="2380174"/>
                      <a:pt x="2085134" y="2380887"/>
                      <a:pt x="2073160" y="2374900"/>
                    </a:cubicBezTo>
                    <a:cubicBezTo>
                      <a:pt x="2064693" y="2370667"/>
                      <a:pt x="2055787" y="2367217"/>
                      <a:pt x="2047760" y="2362200"/>
                    </a:cubicBezTo>
                    <a:cubicBezTo>
                      <a:pt x="2038785" y="2356591"/>
                      <a:pt x="2031335" y="2348759"/>
                      <a:pt x="2022360" y="2343150"/>
                    </a:cubicBezTo>
                    <a:cubicBezTo>
                      <a:pt x="2014333" y="2338133"/>
                      <a:pt x="2005077" y="2335320"/>
                      <a:pt x="1996960" y="2330450"/>
                    </a:cubicBezTo>
                    <a:cubicBezTo>
                      <a:pt x="1983872" y="2322597"/>
                      <a:pt x="1973340" y="2309877"/>
                      <a:pt x="1958860" y="2305050"/>
                    </a:cubicBezTo>
                    <a:cubicBezTo>
                      <a:pt x="1952510" y="2302933"/>
                      <a:pt x="1945797" y="2301693"/>
                      <a:pt x="1939810" y="2298700"/>
                    </a:cubicBezTo>
                    <a:cubicBezTo>
                      <a:pt x="1932984" y="2295287"/>
                      <a:pt x="1927734" y="2289100"/>
                      <a:pt x="1920760" y="2286000"/>
                    </a:cubicBezTo>
                    <a:cubicBezTo>
                      <a:pt x="1908527" y="2280563"/>
                      <a:pt x="1895360" y="2277533"/>
                      <a:pt x="1882660" y="2273300"/>
                    </a:cubicBezTo>
                    <a:cubicBezTo>
                      <a:pt x="1876310" y="2271183"/>
                      <a:pt x="1869179" y="2270663"/>
                      <a:pt x="1863610" y="2266950"/>
                    </a:cubicBezTo>
                    <a:cubicBezTo>
                      <a:pt x="1842738" y="2253035"/>
                      <a:pt x="1848514" y="2254473"/>
                      <a:pt x="1825510" y="2247900"/>
                    </a:cubicBezTo>
                    <a:cubicBezTo>
                      <a:pt x="1790174" y="2237804"/>
                      <a:pt x="1753758" y="2234419"/>
                      <a:pt x="1717560" y="2228850"/>
                    </a:cubicBezTo>
                    <a:cubicBezTo>
                      <a:pt x="1704835" y="2226892"/>
                      <a:pt x="1692029" y="2225293"/>
                      <a:pt x="1679460" y="2222500"/>
                    </a:cubicBezTo>
                    <a:cubicBezTo>
                      <a:pt x="1672926" y="2221048"/>
                      <a:pt x="1666760" y="2218267"/>
                      <a:pt x="1660410" y="2216150"/>
                    </a:cubicBezTo>
                    <a:cubicBezTo>
                      <a:pt x="1651943" y="2218267"/>
                      <a:pt x="1642587" y="2218170"/>
                      <a:pt x="1635010" y="2222500"/>
                    </a:cubicBezTo>
                    <a:cubicBezTo>
                      <a:pt x="1589238" y="2248655"/>
                      <a:pt x="1641555" y="2235116"/>
                      <a:pt x="1596910" y="2254250"/>
                    </a:cubicBezTo>
                    <a:cubicBezTo>
                      <a:pt x="1575893" y="2263257"/>
                      <a:pt x="1519208" y="2265830"/>
                      <a:pt x="1508010" y="2266950"/>
                    </a:cubicBezTo>
                    <a:cubicBezTo>
                      <a:pt x="1501660" y="2273300"/>
                      <a:pt x="1494473" y="2278911"/>
                      <a:pt x="1488960" y="2286000"/>
                    </a:cubicBezTo>
                    <a:cubicBezTo>
                      <a:pt x="1455502" y="2329017"/>
                      <a:pt x="1472127" y="2312283"/>
                      <a:pt x="1450860" y="2349500"/>
                    </a:cubicBezTo>
                    <a:cubicBezTo>
                      <a:pt x="1447074" y="2356126"/>
                      <a:pt x="1441260" y="2361576"/>
                      <a:pt x="1438160" y="2368550"/>
                    </a:cubicBezTo>
                    <a:cubicBezTo>
                      <a:pt x="1432723" y="2380783"/>
                      <a:pt x="1429693" y="2393950"/>
                      <a:pt x="1425460" y="2406650"/>
                    </a:cubicBezTo>
                    <a:cubicBezTo>
                      <a:pt x="1423047" y="2413890"/>
                      <a:pt x="1415860" y="2418726"/>
                      <a:pt x="1412760" y="2425700"/>
                    </a:cubicBezTo>
                    <a:cubicBezTo>
                      <a:pt x="1412760" y="2425700"/>
                      <a:pt x="1396885" y="2473325"/>
                      <a:pt x="1393710" y="2482850"/>
                    </a:cubicBezTo>
                    <a:cubicBezTo>
                      <a:pt x="1386884" y="2503328"/>
                      <a:pt x="1385243" y="2525183"/>
                      <a:pt x="1381010" y="2546350"/>
                    </a:cubicBezTo>
                    <a:cubicBezTo>
                      <a:pt x="1379697" y="2552914"/>
                      <a:pt x="1377911" y="2559549"/>
                      <a:pt x="1374660" y="2565400"/>
                    </a:cubicBezTo>
                    <a:cubicBezTo>
                      <a:pt x="1362453" y="2587373"/>
                      <a:pt x="1349360" y="2606591"/>
                      <a:pt x="1330210" y="2622550"/>
                    </a:cubicBezTo>
                    <a:cubicBezTo>
                      <a:pt x="1324347" y="2627436"/>
                      <a:pt x="1318134" y="2632150"/>
                      <a:pt x="1311160" y="2635250"/>
                    </a:cubicBezTo>
                    <a:cubicBezTo>
                      <a:pt x="1298927" y="2640687"/>
                      <a:pt x="1273060" y="2647950"/>
                      <a:pt x="1273060" y="2647950"/>
                    </a:cubicBezTo>
                    <a:cubicBezTo>
                      <a:pt x="1260360" y="2645833"/>
                      <a:pt x="1246845" y="2646552"/>
                      <a:pt x="1234960" y="2641600"/>
                    </a:cubicBezTo>
                    <a:cubicBezTo>
                      <a:pt x="1220871" y="2635729"/>
                      <a:pt x="1196860" y="2616200"/>
                      <a:pt x="1196860" y="2616200"/>
                    </a:cubicBezTo>
                    <a:cubicBezTo>
                      <a:pt x="1151478" y="2548127"/>
                      <a:pt x="1222152" y="2651439"/>
                      <a:pt x="1165110" y="2578100"/>
                    </a:cubicBezTo>
                    <a:cubicBezTo>
                      <a:pt x="1155739" y="2566052"/>
                      <a:pt x="1154190" y="2544827"/>
                      <a:pt x="1139710" y="2540000"/>
                    </a:cubicBezTo>
                    <a:cubicBezTo>
                      <a:pt x="1070235" y="2516842"/>
                      <a:pt x="1175468" y="2553776"/>
                      <a:pt x="1101610" y="2520950"/>
                    </a:cubicBezTo>
                    <a:cubicBezTo>
                      <a:pt x="1089377" y="2515513"/>
                      <a:pt x="1074649" y="2515676"/>
                      <a:pt x="1063510" y="2508250"/>
                    </a:cubicBezTo>
                    <a:cubicBezTo>
                      <a:pt x="1052682" y="2501031"/>
                      <a:pt x="1021297" y="2480108"/>
                      <a:pt x="1006360" y="2470150"/>
                    </a:cubicBezTo>
                    <a:cubicBezTo>
                      <a:pt x="1000791" y="2466437"/>
                      <a:pt x="993297" y="2466793"/>
                      <a:pt x="987310" y="2463800"/>
                    </a:cubicBezTo>
                    <a:cubicBezTo>
                      <a:pt x="980484" y="2460387"/>
                      <a:pt x="975086" y="2454513"/>
                      <a:pt x="968260" y="2451100"/>
                    </a:cubicBezTo>
                    <a:cubicBezTo>
                      <a:pt x="962273" y="2448107"/>
                      <a:pt x="955477" y="2447100"/>
                      <a:pt x="949210" y="2444750"/>
                    </a:cubicBezTo>
                    <a:cubicBezTo>
                      <a:pt x="938537" y="2440748"/>
                      <a:pt x="928133" y="2436052"/>
                      <a:pt x="917460" y="2432050"/>
                    </a:cubicBezTo>
                    <a:cubicBezTo>
                      <a:pt x="895477" y="2423806"/>
                      <a:pt x="891205" y="2425272"/>
                      <a:pt x="866660" y="2413000"/>
                    </a:cubicBezTo>
                    <a:cubicBezTo>
                      <a:pt x="859834" y="2409587"/>
                      <a:pt x="853960" y="2404533"/>
                      <a:pt x="847610" y="2400300"/>
                    </a:cubicBezTo>
                    <a:cubicBezTo>
                      <a:pt x="835466" y="2363867"/>
                      <a:pt x="849957" y="2397875"/>
                      <a:pt x="822210" y="2362200"/>
                    </a:cubicBezTo>
                    <a:cubicBezTo>
                      <a:pt x="812839" y="2350152"/>
                      <a:pt x="805277" y="2336800"/>
                      <a:pt x="796810" y="2324100"/>
                    </a:cubicBezTo>
                    <a:cubicBezTo>
                      <a:pt x="792577" y="2317750"/>
                      <a:pt x="789506" y="2310446"/>
                      <a:pt x="784110" y="2305050"/>
                    </a:cubicBezTo>
                    <a:cubicBezTo>
                      <a:pt x="777760" y="2298700"/>
                      <a:pt x="771410" y="2292350"/>
                      <a:pt x="765060" y="2286000"/>
                    </a:cubicBezTo>
                    <a:cubicBezTo>
                      <a:pt x="760827" y="2273300"/>
                      <a:pt x="756593" y="2260600"/>
                      <a:pt x="752360" y="2247900"/>
                    </a:cubicBezTo>
                    <a:cubicBezTo>
                      <a:pt x="747876" y="2234448"/>
                      <a:pt x="742176" y="2203332"/>
                      <a:pt x="739660" y="2190750"/>
                    </a:cubicBezTo>
                    <a:cubicBezTo>
                      <a:pt x="741777" y="2163233"/>
                      <a:pt x="740924" y="2135325"/>
                      <a:pt x="746010" y="2108200"/>
                    </a:cubicBezTo>
                    <a:cubicBezTo>
                      <a:pt x="747416" y="2100699"/>
                      <a:pt x="757631" y="2096705"/>
                      <a:pt x="758710" y="2089150"/>
                    </a:cubicBezTo>
                    <a:cubicBezTo>
                      <a:pt x="762697" y="2061243"/>
                      <a:pt x="751466" y="2063452"/>
                      <a:pt x="733310" y="2057400"/>
                    </a:cubicBezTo>
                    <a:cubicBezTo>
                      <a:pt x="729077" y="2044700"/>
                      <a:pt x="724843" y="2032000"/>
                      <a:pt x="720610" y="2019300"/>
                    </a:cubicBezTo>
                    <a:cubicBezTo>
                      <a:pt x="717850" y="2011021"/>
                      <a:pt x="718590" y="2001477"/>
                      <a:pt x="714260" y="1993900"/>
                    </a:cubicBezTo>
                    <a:cubicBezTo>
                      <a:pt x="709805" y="1986103"/>
                      <a:pt x="701560" y="1981200"/>
                      <a:pt x="695210" y="1974850"/>
                    </a:cubicBezTo>
                    <a:cubicBezTo>
                      <a:pt x="674202" y="1911827"/>
                      <a:pt x="709448" y="2008099"/>
                      <a:pt x="669810" y="1936750"/>
                    </a:cubicBezTo>
                    <a:cubicBezTo>
                      <a:pt x="663309" y="1925048"/>
                      <a:pt x="661343" y="1911350"/>
                      <a:pt x="657110" y="1898650"/>
                    </a:cubicBezTo>
                    <a:cubicBezTo>
                      <a:pt x="654993" y="1892300"/>
                      <a:pt x="655493" y="1884333"/>
                      <a:pt x="650760" y="1879600"/>
                    </a:cubicBezTo>
                    <a:cubicBezTo>
                      <a:pt x="622893" y="1851733"/>
                      <a:pt x="624398" y="1851442"/>
                      <a:pt x="580910" y="1822450"/>
                    </a:cubicBezTo>
                    <a:cubicBezTo>
                      <a:pt x="574560" y="1818217"/>
                      <a:pt x="568686" y="1813163"/>
                      <a:pt x="561860" y="1809750"/>
                    </a:cubicBezTo>
                    <a:cubicBezTo>
                      <a:pt x="555873" y="1806757"/>
                      <a:pt x="548797" y="1806393"/>
                      <a:pt x="542810" y="1803400"/>
                    </a:cubicBezTo>
                    <a:cubicBezTo>
                      <a:pt x="527928" y="1795959"/>
                      <a:pt x="502291" y="1772777"/>
                      <a:pt x="492010" y="1765300"/>
                    </a:cubicBezTo>
                    <a:cubicBezTo>
                      <a:pt x="492010" y="1765300"/>
                      <a:pt x="444385" y="1733550"/>
                      <a:pt x="434860" y="1727200"/>
                    </a:cubicBezTo>
                    <a:cubicBezTo>
                      <a:pt x="426054" y="1721329"/>
                      <a:pt x="417927" y="1714500"/>
                      <a:pt x="409460" y="1708150"/>
                    </a:cubicBezTo>
                    <a:cubicBezTo>
                      <a:pt x="407343" y="1701800"/>
                      <a:pt x="407291" y="1694327"/>
                      <a:pt x="403110" y="1689100"/>
                    </a:cubicBezTo>
                    <a:cubicBezTo>
                      <a:pt x="398342" y="1683141"/>
                      <a:pt x="390270" y="1680836"/>
                      <a:pt x="384060" y="1676400"/>
                    </a:cubicBezTo>
                    <a:cubicBezTo>
                      <a:pt x="375448" y="1670249"/>
                      <a:pt x="367272" y="1663501"/>
                      <a:pt x="358660" y="1657350"/>
                    </a:cubicBezTo>
                    <a:cubicBezTo>
                      <a:pt x="352450" y="1652914"/>
                      <a:pt x="345314" y="1649720"/>
                      <a:pt x="339610" y="1644650"/>
                    </a:cubicBezTo>
                    <a:cubicBezTo>
                      <a:pt x="326186" y="1632718"/>
                      <a:pt x="316454" y="1616513"/>
                      <a:pt x="301510" y="1606550"/>
                    </a:cubicBezTo>
                    <a:cubicBezTo>
                      <a:pt x="274988" y="1588869"/>
                      <a:pt x="287856" y="1599246"/>
                      <a:pt x="263410" y="1574800"/>
                    </a:cubicBezTo>
                    <a:cubicBezTo>
                      <a:pt x="247449" y="1526917"/>
                      <a:pt x="268979" y="1585939"/>
                      <a:pt x="244360" y="1536700"/>
                    </a:cubicBezTo>
                    <a:cubicBezTo>
                      <a:pt x="241367" y="1530713"/>
                      <a:pt x="242119" y="1522934"/>
                      <a:pt x="238010" y="1517650"/>
                    </a:cubicBezTo>
                    <a:cubicBezTo>
                      <a:pt x="226983" y="1503473"/>
                      <a:pt x="212610" y="1492250"/>
                      <a:pt x="199910" y="1479550"/>
                    </a:cubicBezTo>
                    <a:cubicBezTo>
                      <a:pt x="185866" y="1465506"/>
                      <a:pt x="179491" y="1456641"/>
                      <a:pt x="161810" y="1447800"/>
                    </a:cubicBezTo>
                    <a:cubicBezTo>
                      <a:pt x="155823" y="1444807"/>
                      <a:pt x="148912" y="1444087"/>
                      <a:pt x="142760" y="1441450"/>
                    </a:cubicBezTo>
                    <a:cubicBezTo>
                      <a:pt x="134059" y="1437721"/>
                      <a:pt x="125827" y="1432983"/>
                      <a:pt x="117360" y="1428750"/>
                    </a:cubicBezTo>
                    <a:cubicBezTo>
                      <a:pt x="113127" y="1420283"/>
                      <a:pt x="106956" y="1412533"/>
                      <a:pt x="104660" y="1403350"/>
                    </a:cubicBezTo>
                    <a:cubicBezTo>
                      <a:pt x="100521" y="1386794"/>
                      <a:pt x="105241" y="1368144"/>
                      <a:pt x="98310" y="1352550"/>
                    </a:cubicBezTo>
                    <a:cubicBezTo>
                      <a:pt x="95592" y="1346433"/>
                      <a:pt x="85111" y="1349451"/>
                      <a:pt x="79260" y="1346200"/>
                    </a:cubicBezTo>
                    <a:cubicBezTo>
                      <a:pt x="65917" y="1338787"/>
                      <a:pt x="53860" y="1329267"/>
                      <a:pt x="41160" y="1320800"/>
                    </a:cubicBezTo>
                    <a:cubicBezTo>
                      <a:pt x="34810" y="1316567"/>
                      <a:pt x="22110" y="1308100"/>
                      <a:pt x="22110" y="1308100"/>
                    </a:cubicBezTo>
                    <a:cubicBezTo>
                      <a:pt x="30163" y="1195359"/>
                      <a:pt x="0" y="1213672"/>
                      <a:pt x="47510" y="1225550"/>
                    </a:cubicBezTo>
                    <a:cubicBezTo>
                      <a:pt x="49563" y="1226063"/>
                      <a:pt x="51743" y="1225550"/>
                      <a:pt x="53860" y="122555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413760" y="1260360"/>
                <a:ext cx="0" cy="769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436000" y="1260360"/>
                <a:ext cx="97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436000" y="1260360"/>
                <a:ext cx="0" cy="18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08040" y="3096720"/>
                <a:ext cx="122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360" rIns="3636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5702400" y="3168720"/>
              <a:ext cx="610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We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08960" y="2228760"/>
              <a:ext cx="544320" cy="507960"/>
            </a:xfrm>
            <a:custGeom>
              <a:avLst/>
              <a:gdLst/>
              <a:ahLst/>
              <a:rect l="l" t="t" r="r" b="b"/>
              <a:pathLst>
                <a:path w="343" h="320">
                  <a:moveTo>
                    <a:pt x="33" y="63"/>
                  </a:moveTo>
                  <a:cubicBezTo>
                    <a:pt x="9" y="78"/>
                    <a:pt x="5" y="85"/>
                    <a:pt x="14" y="113"/>
                  </a:cubicBezTo>
                  <a:cubicBezTo>
                    <a:pt x="12" y="130"/>
                    <a:pt x="11" y="146"/>
                    <a:pt x="8" y="163"/>
                  </a:cubicBezTo>
                  <a:cubicBezTo>
                    <a:pt x="7" y="170"/>
                    <a:pt x="0" y="176"/>
                    <a:pt x="2" y="182"/>
                  </a:cubicBezTo>
                  <a:cubicBezTo>
                    <a:pt x="5" y="189"/>
                    <a:pt x="14" y="190"/>
                    <a:pt x="20" y="194"/>
                  </a:cubicBezTo>
                  <a:cubicBezTo>
                    <a:pt x="65" y="260"/>
                    <a:pt x="96" y="292"/>
                    <a:pt x="171" y="320"/>
                  </a:cubicBezTo>
                  <a:cubicBezTo>
                    <a:pt x="177" y="316"/>
                    <a:pt x="186" y="314"/>
                    <a:pt x="189" y="307"/>
                  </a:cubicBezTo>
                  <a:cubicBezTo>
                    <a:pt x="191" y="301"/>
                    <a:pt x="179" y="293"/>
                    <a:pt x="183" y="288"/>
                  </a:cubicBezTo>
                  <a:cubicBezTo>
                    <a:pt x="192" y="276"/>
                    <a:pt x="221" y="263"/>
                    <a:pt x="221" y="263"/>
                  </a:cubicBezTo>
                  <a:cubicBezTo>
                    <a:pt x="235" y="240"/>
                    <a:pt x="246" y="235"/>
                    <a:pt x="271" y="226"/>
                  </a:cubicBezTo>
                  <a:cubicBezTo>
                    <a:pt x="283" y="222"/>
                    <a:pt x="308" y="213"/>
                    <a:pt x="308" y="213"/>
                  </a:cubicBezTo>
                  <a:cubicBezTo>
                    <a:pt x="317" y="187"/>
                    <a:pt x="316" y="179"/>
                    <a:pt x="290" y="169"/>
                  </a:cubicBezTo>
                  <a:cubicBezTo>
                    <a:pt x="298" y="144"/>
                    <a:pt x="312" y="148"/>
                    <a:pt x="327" y="126"/>
                  </a:cubicBezTo>
                  <a:cubicBezTo>
                    <a:pt x="343" y="76"/>
                    <a:pt x="305" y="17"/>
                    <a:pt x="258" y="0"/>
                  </a:cubicBezTo>
                  <a:cubicBezTo>
                    <a:pt x="190" y="7"/>
                    <a:pt x="134" y="18"/>
                    <a:pt x="70" y="38"/>
                  </a:cubicBezTo>
                  <a:cubicBezTo>
                    <a:pt x="62" y="43"/>
                    <a:pt x="33" y="77"/>
                    <a:pt x="33" y="63"/>
                  </a:cubicBezTo>
                  <a:close/>
                </a:path>
              </a:pathLst>
            </a:cu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638760" y="2809800"/>
              <a:ext cx="5032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070760" y="3313080"/>
              <a:ext cx="144360" cy="4320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91480" y="3492360"/>
              <a:ext cx="216000" cy="325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647120" y="4033800"/>
              <a:ext cx="287280" cy="179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7610400" y="2557440"/>
              <a:ext cx="252360" cy="17928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62400" y="6048360"/>
              <a:ext cx="50328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602400" y="4140360"/>
              <a:ext cx="72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Sou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13680" y="4176720"/>
              <a:ext cx="10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Houst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53320" y="1944720"/>
              <a:ext cx="1189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Arial Rounded MT Bold"/>
                </a:rPr>
                <a:t>Northe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78760" y="2916360"/>
              <a:ext cx="611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 Rounded MT Bold"/>
                </a:rPr>
                <a:t>Nor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6629400" y="2514600"/>
              <a:ext cx="5335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C85FD-1EF3-4033-92AA-F9983B28A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E5577-FF35-4989-9A12-5ED4F45BF6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08516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OOME/Resource Specific Deployment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15920"/>
            <a:ext cx="50767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Local Congestio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2819520"/>
            <a:ext cx="3816360" cy="15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SzPct val="102884"/>
              <a:buBlip>
                <a:blip r:embed="rId1"/>
              </a:buBlip>
              <a:tabLst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Unit specific deplo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150"/>
              </a:spcBef>
              <a:spcAft>
                <a:spcPts val="601"/>
              </a:spcAft>
              <a:buSzPct val="102884"/>
              <a:buBlip>
                <a:blip r:embed="rId2"/>
              </a:buBlip>
              <a:tabLst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OOME deplo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492360" y="990720"/>
            <a:ext cx="548640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D7F22-7259-46A9-8EBD-4E5C36FF14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A949C-4ABA-4717-845E-62A54EEAAD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Portfolio Ramp Rate Recal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As required by PRR349, Balancing Energy Market Clearing must incorporate QSE’s portfolio bid ramp rate w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524"/>
              </a:spcBef>
              <a:spcAft>
                <a:spcPts val="34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Issuing instructions to change QSE’s BES deployment from the previous interval to current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spcAft>
                <a:spcPts val="249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Changes from previously deployed UBES to or DBES to z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374"/>
              </a:spcBef>
              <a:spcAft>
                <a:spcPts val="249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Changes from UBES to DBES or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0607-3E11-4FA9-AC63-AD130DE837F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69AF0B-5B8A-4B4E-89E9-C0B94EE469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7400" y="152280"/>
            <a:ext cx="678024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OOME as Instructed Deviati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83772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In PRR373, Resource Specific OOME instruction entered prior to start of RTB Market Clearing, Instructed Deviation will be calculated and included in portfolio BES deploymen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Manual resource specific OOME honors resource specific ramp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6BDB-5E32-4901-AA97-2AC3D33B0AF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B1675-BF4E-4139-B1EF-0C8BAAEE42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096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Balancing Energy Market Clearing Engin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7629480" cy="57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5807-A99B-42BB-9052-A37295DB53A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637985-42E5-46AD-B1F8-7FFD017131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When OOME and Ramp Rate Recall Interac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When OOME Instructions and Portfolio Ramp Rate Recall occur simultaneously, the solution for the Balancing energy Market Clearing becomes very challeng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14 scenarios in Market Bulletin #19 explain the relationship between Instructed Deviation and portfolio balancing bid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Rounded MT Bold"/>
              </a:rPr>
              <a:t>A proposal was discussed at last QSE PM meeting to change scenario #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4D62-2A70-48FC-BA37-869A24D0040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AC2F6-0754-4436-8FE0-DDB6130D65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08516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An Example for the Proposed Chang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838080"/>
            <a:ext cx="259092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0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150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762120"/>
            <a:ext cx="2286000" cy="1752480"/>
          </a:xfrm>
          <a:prstGeom prst="ellipse">
            <a:avLst/>
          </a:prstGeom>
          <a:solidFill>
            <a:srgbClr val="ece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90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800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2666880"/>
            <a:ext cx="8280360" cy="29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5960" indent="-34596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Assume this QSE has a bilateral schedule of 950MW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Each unit has the ramp rate of 5MW/Mi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 Rounded MT Bold"/>
              </a:rPr>
              <a:t>Coal Unit Scheduled to run at 800MW and Gas Unit Scheduled to run at 150MW at its Minimum Sustainable Lim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C4ECA-1623-454E-AD94-496A55AD955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F19622-AD42-4F7B-8588-33850FEF4D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085160" cy="4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Questions for the Proposed Chang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817560"/>
            <a:ext cx="2590920" cy="10875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50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150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@$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762120"/>
            <a:ext cx="2286000" cy="1143000"/>
          </a:xfrm>
          <a:prstGeom prst="ellipse">
            <a:avLst/>
          </a:prstGeom>
          <a:solidFill>
            <a:srgbClr val="ece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Co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900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800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Rounded MT Bold"/>
              </a:rPr>
              <a:t>@$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905120"/>
            <a:ext cx="850896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5960" indent="-345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hen there is transmission congestion, Coal Unit is OOMEd down to 600M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According to the proposal as discussed at previous meeting, this QSE could get 100MW up balancing when the MCPE greater than $2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Questions to answer before system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93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Is this QSE capable of providing 100MW up balanc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93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hat should the QSE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93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  <a:tab algn="l" pos="3600360"/>
                <a:tab algn="l" pos="37720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Can the payment cover this QSEs cost in following the instru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863E-A7A1-46F3-BE1A-204F24F2DF1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7ECC8-AE1C-46E0-A7C1-64514C1828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ERCOT</dc:creator>
  <dc:description/>
  <cp:keywords/>
  <dc:language>en-US</dc:language>
  <cp:lastModifiedBy>Young Li</cp:lastModifiedBy>
  <cp:lastPrinted>2000-04-06T20:17:02Z</cp:lastPrinted>
  <dcterms:modified xsi:type="dcterms:W3CDTF">2005-06-10T21:34:11Z</dcterms:modified>
  <cp:revision>1175</cp:revision>
  <dc:subject>Presentation</dc:subject>
  <dc:title>Texas Electricity Market</dc:title>
</cp:coreProperties>
</file>