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177F3536-E82E-49B3-AA45-50D7F0FB64FA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5360" y="1038240"/>
            <a:ext cx="4191120" cy="14670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te Acceptance Testing contin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0920" y="101772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24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TION TO PLANNING WITH NO CAPITAL BUDG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YET APPR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200" y="789120"/>
            <a:ext cx="24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 Scope/Deliver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8640" y="317484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5080" y="2583000"/>
            <a:ext cx="15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sues / 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09440" y="450072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Milestones as of 5/31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75320" y="812880"/>
            <a:ext cx="3427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18360" bIns="18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ive Summary of Sta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60496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4540320"/>
            <a:ext cx="429588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914400"/>
            <a:ext cx="0" cy="56563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9600" y="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30183 EMMS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88960" y="338040"/>
            <a:ext cx="197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M:  Jeffrey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 Mgr: Oba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8680" y="3479760"/>
          <a:ext cx="3922560" cy="3240000"/>
        </p:xfrm>
        <a:graphic>
          <a:graphicData uri="http://schemas.openxmlformats.org/drawingml/2006/table">
            <a:tbl>
              <a:tblPr/>
              <a:tblGrid>
                <a:gridCol w="1566720"/>
                <a:gridCol w="752400"/>
                <a:gridCol w="790560"/>
                <a:gridCol w="81288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cstd. Comple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3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e Loc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8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 Desig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9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 and Uni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/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-FA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4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ory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1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10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/05 thru 8/2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5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progre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Acceptance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/05 thru 8/9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Participant Te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10/05 thru 8/23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igration – E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5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Migration - M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/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c20000"/>
                          </a:solidFill>
                          <a:latin typeface="Arial"/>
                        </a:rPr>
                        <a:t>0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tarte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287880" y="338040"/>
            <a:ext cx="19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onsor: Saath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 Lead: Patt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027760" y="71280"/>
            <a:ext cx="3857400" cy="638280"/>
            <a:chOff x="5027760" y="71280"/>
            <a:chExt cx="3857400" cy="638280"/>
          </a:xfrm>
        </p:grpSpPr>
        <p:sp>
          <p:nvSpPr>
            <p:cNvPr id="59" name=""/>
            <p:cNvSpPr/>
            <p:nvPr/>
          </p:nvSpPr>
          <p:spPr>
            <a:xfrm>
              <a:off x="833508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78356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3384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78720" y="49680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2900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77480" y="49680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7760" y="49680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Last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3508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78356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384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78720" y="28404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2900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77480" y="28404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760" y="28404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is Upd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33508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Bus Align/ Scop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8356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chnical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23384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chedule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678720" y="71280"/>
              <a:ext cx="55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affing 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9000" y="71280"/>
              <a:ext cx="54972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spcBef>
                  <a:spcPts val="176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inancial   Ris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77480" y="71280"/>
              <a:ext cx="5511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77480" y="71280"/>
              <a:ext cx="330732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7760" y="28404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27760" y="496800"/>
              <a:ext cx="38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7760" y="709560"/>
              <a:ext cx="3857400" cy="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7760" y="284040"/>
              <a:ext cx="0" cy="42552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74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12900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7872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3384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8356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35080" y="71280"/>
              <a:ext cx="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85160" y="71280"/>
              <a:ext cx="0" cy="638280"/>
            </a:xfrm>
            <a:prstGeom prst="line">
              <a:avLst/>
            </a:prstGeom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570560" y="712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75400" y="309600"/>
            <a:ext cx="18288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8016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34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134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5440" y="71280"/>
            <a:ext cx="18252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1864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18640" y="509760"/>
            <a:ext cx="182520" cy="172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561520" y="29988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61520" y="500040"/>
            <a:ext cx="182520" cy="17316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2600" y="3081240"/>
            <a:ext cx="4295880" cy="180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4746600"/>
          <a:ext cx="4419360" cy="1997280"/>
        </p:xfrm>
        <a:graphic>
          <a:graphicData uri="http://schemas.openxmlformats.org/drawingml/2006/table">
            <a:tbl>
              <a:tblPr/>
              <a:tblGrid>
                <a:gridCol w="504720"/>
                <a:gridCol w="638280"/>
                <a:gridCol w="628560"/>
                <a:gridCol w="638280"/>
                <a:gridCol w="657000"/>
                <a:gridCol w="704880"/>
                <a:gridCol w="64764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Budg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 Forecast / Actu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i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ns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oreca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to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4572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VA Labo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76"/>
                        </a:spcBef>
                        <a:tabLst>
                          <a:tab algn="l" pos="0"/>
                          <a:tab algn="l" pos="820800"/>
                          <a:tab algn="l" pos="1641600"/>
                          <a:tab algn="l" pos="2462040"/>
                          <a:tab algn="l" pos="3282840"/>
                          <a:tab algn="l" pos="4103640"/>
                          <a:tab algn="l" pos="4924440"/>
                          <a:tab algn="l" pos="5745240"/>
                          <a:tab algn="l" pos="6566040"/>
                          <a:tab algn="l" pos="7386480"/>
                          <a:tab algn="l" pos="8207280"/>
                          <a:tab algn="l" pos="9028080"/>
                          <a:tab algn="l" pos="9848880"/>
                          <a:tab algn="l" pos="106696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443400" y="838080"/>
            <a:ext cx="231840" cy="17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61200" y="79200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80160" y="299880"/>
            <a:ext cx="187200" cy="17784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80440" y="509760"/>
            <a:ext cx="187200" cy="1774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60920" y="1038240"/>
            <a:ext cx="4343400" cy="148752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 major deliverables from AREVA (MOS–5, POS-4, PUCT-1) + 7 internal sub projects (4 Billing &amp; Settlements, 3 DA/DW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illing &amp; Settlements development underway.  OOM Tool Enhancements planning near comple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/EDW planning comp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24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XML Specifications released 2/2/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2835360"/>
            <a:ext cx="4343400" cy="1654200"/>
          </a:xfrm>
          <a:prstGeom prst="roundRect">
            <a:avLst>
              <a:gd name="adj" fmla="val 16667"/>
            </a:avLst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Participant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 Relations will re-establish timeli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51480" y="299880"/>
            <a:ext cx="187560" cy="1778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51440" y="71280"/>
            <a:ext cx="182520" cy="173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liverables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85840" y="901800"/>
          <a:ext cx="8620200" cy="5638680"/>
        </p:xfrm>
        <a:graphic>
          <a:graphicData uri="http://schemas.openxmlformats.org/drawingml/2006/table">
            <a:tbl>
              <a:tblPr/>
              <a:tblGrid>
                <a:gridCol w="1245960"/>
                <a:gridCol w="7374240"/>
              </a:tblGrid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ociated PRR 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c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R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ssociation of BE Bids with RP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R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ptimization for the Whole Operating Day in RPRS Procurement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ource Plan Improvement (Phase I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t Specific Bid Limits based on Generic Cos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34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R4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 Simultaneous Sel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R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Dispatch of Generation Resources Below Minimum Operating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RR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OM Zonal Dispatch Instru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nhancement to OOM tools for congestion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prove Data Elements for Local Constraints &amp; OO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MS Parameters Capture for MMS Reclear Fide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OM Participation in Providing Ancillary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CT Add Corrected MCPE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CT Upgrade SP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al Protection Schem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 Power System Model Maintenance via Database Archive Compar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rovements to VSAT/TS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ssues Impacting Schedule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5760" y="923760"/>
            <a:ext cx="8620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quality delivery from AR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M SAT uncovered over 30 new critical or high software problems (SPR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8 SAT SPR’s identified (18 Crit’s, 85 High’s, 39 Med’s, 56 Low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VA’s fix of SAT SPR’s created new 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inued Break/Fix process surrounding 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8 approved CCM’s submitted between start of FAT (February) and n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Sche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enough time scheduled to fix FAT/SAT SPR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planned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rd iteration to correct SPR’s (April 29th, May 24th and June 2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37960" y="866880"/>
          <a:ext cx="8696520" cy="57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866880"/>
                    <a:ext cx="8696520" cy="57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itch Seagraves</dc:creator>
  <dc:description/>
  <dc:language>en-US</dc:language>
  <cp:lastModifiedBy>Jeffrey Robinson</cp:lastModifiedBy>
  <cp:lastPrinted>1999-12-01T22:56:09Z</cp:lastPrinted>
  <dcterms:modified xsi:type="dcterms:W3CDTF">2005-06-13T13:20:13Z</dcterms:modified>
  <cp:revision>724</cp:revision>
  <dc:subject/>
  <dc:title>No Slide Title</dc:title>
</cp:coreProperties>
</file>