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DF43-8CA5-432B-9265-0C9762A01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69AB-B96B-4AB7-B551-EA225D17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660-75D9-4E47-8A33-183441A2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CF8-1F10-4381-9BB3-490BCA97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2665-D11C-4690-8949-580D16FD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6E08-B5B7-4038-A27B-4993013D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DA0E-84AE-4D99-A044-17E4B1A7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8213-F6F3-4133-B80E-5649F696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25A7-239A-40DA-9345-A7E11ECF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33A2-805A-442B-89C7-A1740F42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3760-34D4-41DD-A242-B8571777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09A4-5333-4A04-8E02-3176BF76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7C19-40CB-40A2-AE7A-976796D2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EA95-89DC-4176-9A43-F19AF089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0B4C-1FCD-4AB7-B5BA-7364C5D8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8A6A-DFF4-410C-A845-4ADA75E8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D337-4C65-4295-AD1E-41C56247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E744-4F80-44EC-9685-B16925AB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38CF-3D6E-4101-A0B2-22946CAA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FC85-4535-4EA9-B7BF-21C47148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EE2-ECBD-4A1C-B279-7601E502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D446-E42B-4055-8EDE-0DB2C53A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FDCB-4FDB-4DF3-93D7-3AD7751E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909D-C238-449C-A958-96E65BE7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5AC2-A56D-468A-B7BC-4633772810E5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467480" y="6095880"/>
            <a:ext cx="113364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D146-588A-48F6-913D-A822A275358C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7010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wn Regulation in Depleted Interv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3 June, 200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SE Project Managers W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randon Whitt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COT Market Operations Sup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was the Question?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do we deploy Down Regulation in Intervals where UBES is depleted? (Original Ques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indicated that a larger sample size was prefer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uggestion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more than 50% of Down Regulation deployed when more than 90% of UBES bid is cleared?   (Percentages adjustab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560" y="1904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adily Observa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tion Required &amp; De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ing Bid &amp; Deplo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PE (average?) or Heat 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on Requirement – Telemetered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C Tie Schedules – DC Tie Tele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Schedules – Dynamic Tele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D Energy Schedule – QSE Energ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 Readily Observa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 Disp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Network Var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20:22:10Z</dcterms:created>
  <dc:creator>Brandon Whittle</dc:creator>
  <dc:description/>
  <dc:language>en-US</dc:language>
  <cp:lastModifiedBy>Brandon Whittle</cp:lastModifiedBy>
  <dcterms:modified xsi:type="dcterms:W3CDTF">2005-06-13T14:23:47Z</dcterms:modified>
  <cp:revision>15</cp:revision>
  <dc:subject/>
  <dc:title>Depletion of the Balancing Bid Stack Summary</dc:title>
</cp:coreProperties>
</file>