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0345-C20C-4D47-A08E-0009BDCE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075-5158-4328-8BBF-85E2A995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52A-4AB0-4124-979F-8A5F912C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F6B-62D4-4E12-9A92-6B28A069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72E-DAA9-4E5F-BA29-4654FDF1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82C-F6EA-40DB-981A-248B5855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C23-F704-4036-B35A-CC387FDB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B34-B026-48BB-A57B-8F65CD55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A33-8EF2-4250-A82E-CC124635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843A-479E-4A6F-9BCE-E5B06A8C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349-1212-45BF-92D3-3E7517F3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78A-BDEC-4FE2-95B5-134A7B87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99FB-34B1-4183-AF03-C6CA32688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Charge Project Discuss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 Ba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6/28/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4AB-A81B-494F-8A65-301BE47561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C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240" y="990720"/>
            <a:ext cx="8772480" cy="52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42E-44D2-4C46-97FF-C41FB84A70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C #3 - P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229600" cy="59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9D1-7A27-46FC-85BD-6690901093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C #3 - Qua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2400" y="914400"/>
            <a:ext cx="8010720" cy="587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C14-9C2C-41F9-B510-3A34375279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C Type Stats – Row 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49440" y="2484360"/>
          <a:ext cx="6070320" cy="2010960"/>
        </p:xfrm>
        <a:graphic>
          <a:graphicData uri="http://schemas.openxmlformats.org/drawingml/2006/table">
            <a:tbl>
              <a:tblPr/>
              <a:tblGrid>
                <a:gridCol w="3035160"/>
                <a:gridCol w="303516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zero values (#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zero values (#2 and 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26F-2980-42C2-8CC3-8858EC26E8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 Charge Database Statistics (Production L* DB 4/26/0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2133720"/>
          <a:ext cx="7734240" cy="3932280"/>
        </p:xfrm>
        <a:graphic>
          <a:graphicData uri="http://schemas.openxmlformats.org/drawingml/2006/table">
            <a:tbl>
              <a:tblPr/>
              <a:tblGrid>
                <a:gridCol w="904680"/>
                <a:gridCol w="1400400"/>
                <a:gridCol w="1315800"/>
                <a:gridCol w="1316160"/>
                <a:gridCol w="1398600"/>
                <a:gridCol w="1398600"/>
              </a:tblGrid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tal ZC Disk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tal ZC Disk Space /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% Disk Space – All Zer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ll Zeroes ONLY Total Disk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ll Zeroes ONLY Disk Space /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RO-CHAR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6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6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 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3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 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4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1 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63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26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56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73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20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3FFA-7A2D-4B4C-8A43-A062D23629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7524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$80,000/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280" y="2895480"/>
          <a:ext cx="8686800" cy="2212920"/>
        </p:xfrm>
        <a:graphic>
          <a:graphicData uri="http://schemas.openxmlformats.org/drawingml/2006/table">
            <a:tbl>
              <a:tblPr/>
              <a:tblGrid>
                <a:gridCol w="838440"/>
                <a:gridCol w="1143000"/>
                <a:gridCol w="1143000"/>
                <a:gridCol w="1066680"/>
                <a:gridCol w="990720"/>
                <a:gridCol w="990360"/>
                <a:gridCol w="838440"/>
                <a:gridCol w="838080"/>
                <a:gridCol w="83808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ZC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sk Space P2 Pr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2 Lower Environ D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tal P2 Disk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tal P3 Disk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verall Total Disk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Total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sk Space /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Cost /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Zeroes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 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 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$328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$5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Z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6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 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 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$512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$7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E73-EF5E-4535-B113-AEAE6C1CDC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0720" y="2282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with Zero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Amount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and Fil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u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87E-602E-40C7-84EF-BEF6EA31B2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rigin of Zero Cha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Settlement Syste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Market Participants transparency into ERCOT Settlement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all calculated settlement interval outputs regardless of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calculation output provided in Settlement Statements and Settlement and Billing Ex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is our existing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data calculated and 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56A-2D1F-4D2C-A804-523E5A3EEA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COT’s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producing Zero Charges on all settlement output with BILLAMT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producing Zero Charge on ALL ZERO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design – Transparent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448-1D7C-41BF-A6F7-B67A060758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75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be the impact to Market Participant Systems for #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NT eff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8DC-E7D3-4C7C-B5B9-736EB170F7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6019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 Charge Process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 Charge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F35-66C9-4B45-9CC5-19BB31A6F1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F42-C34B-41F7-BE37-833A3F0EB0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Zero Charge Proc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Logic and data to keep track of all settlement calculation output with total billable amount equal to zero per trade date, settlement run, and charge typ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cery Store Receipt Ana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30D-31AA-4F3B-A70A-22E85A57C6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Charge Process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calculations result in either ZERO or NON-ZERO total billable amount for every charge type, settlement run, and trade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657600" y="1600200"/>
          <a:ext cx="5028840" cy="4525920"/>
        </p:xfrm>
        <a:graphic>
          <a:graphicData uri="http://schemas.openxmlformats.org/drawingml/2006/table">
            <a:tbl>
              <a:tblPr/>
              <a:tblGrid>
                <a:gridCol w="2514240"/>
                <a:gridCol w="2514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 = 3/14/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ILLA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… 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3B3-AB65-4CB7-8353-C51F2FF7F7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Charge Process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s with ZERO total billable amount written to ZEROCHARGE and LSCH/LSCD (Interval Database) tables in Lodestar D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row in ZC table is associated with 5 rows in LSCH and LSCD for 5 settlement output determin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280" y="4648320"/>
          <a:ext cx="8839440" cy="1323720"/>
        </p:xfrm>
        <a:graphic>
          <a:graphicData uri="http://schemas.openxmlformats.org/drawingml/2006/table">
            <a:tbl>
              <a:tblPr/>
              <a:tblGrid>
                <a:gridCol w="1219320"/>
                <a:gridCol w="990720"/>
                <a:gridCol w="1371600"/>
                <a:gridCol w="1066680"/>
                <a:gridCol w="1143000"/>
                <a:gridCol w="1752480"/>
                <a:gridCol w="1295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 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M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ILLQ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ILLAM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4/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C7E-E838-4047-B29D-FC3C6E42B4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Charge Process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 data flows to Market Participants through 1)Settlement Statement process and 2)Extract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se processes, large volumes of data are copied multiple times and carried across to multiple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C49-C739-436D-B4D0-36384B6CAB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 Charge Database Statistics (Production L* DB 4/26/0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1676520"/>
          <a:ext cx="8534520" cy="4525920"/>
        </p:xfrm>
        <a:graphic>
          <a:graphicData uri="http://schemas.openxmlformats.org/drawingml/2006/table">
            <a:tbl>
              <a:tblPr/>
              <a:tblGrid>
                <a:gridCol w="838080"/>
                <a:gridCol w="1295640"/>
                <a:gridCol w="1218960"/>
                <a:gridCol w="1295640"/>
                <a:gridCol w="1143000"/>
                <a:gridCol w="914400"/>
                <a:gridCol w="914400"/>
                <a:gridCol w="914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tal Row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ZC Row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tal Disk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tal ZC Disk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% Row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% Disk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yte / R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RO-CHAR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6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,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,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6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,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,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4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B08-35AA-4AE1-B202-938B31D352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C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2133720"/>
          <a:ext cx="6095880" cy="3063600"/>
        </p:xfrm>
        <a:graphic>
          <a:graphicData uri="http://schemas.openxmlformats.org/drawingml/2006/table">
            <a:tbl>
              <a:tblPr/>
              <a:tblGrid>
                <a:gridCol w="1136520"/>
                <a:gridCol w="1654200"/>
                <a:gridCol w="1757520"/>
                <a:gridCol w="1547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ZC Row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yte / R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tal ZC Disk Space /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RO-CHAR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0 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5 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1 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E11-DAEB-4C1D-99C1-2223141B82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ro Charg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Every value in all cuts are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Non-zero values sum to a total of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BILLABLE AMOUNT = 0 for all intervals, but other cuts have non-zero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411-8CCA-4494-924A-DE13089046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 Boren</cp:lastModifiedBy>
  <dcterms:modified xsi:type="dcterms:W3CDTF">2005-06-27T14:23:33Z</dcterms:modified>
  <cp:revision>1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