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26D-CE11-41FA-9E13-B7832772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B2B-0861-4AD2-B8C9-0D3D518E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99D-6140-44D4-9017-1B4433B4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7B5-70E6-4E59-BCEA-66744991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7A5-AC6E-4013-8793-B4EDBD32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739-3B87-4C2B-B5F0-B061B8DB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69A-178E-4C79-BC6F-C78C221A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E3C-C723-4743-8501-41D5144F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0C7-A074-4302-BF73-671646D7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150-CC16-4D81-BDE6-78ACB3DF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42B-D18B-4C86-9EF2-DC837FF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20D-E8CB-46B6-9EC4-416C07DE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E44A-57E9-4484-BF9B-3BAF9544E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PR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8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e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ing held on June 17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ment timeline was fo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nt Consen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ment timeline does not need to be changed, except for the possibility of changing the True-Up Settlement from 180 days to after the 216 day for customer rebi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should be made to the dispute and ADR processes to cause settlements to be finalized in a more timely ma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. Boren</cp:lastModifiedBy>
  <dcterms:modified xsi:type="dcterms:W3CDTF">2005-06-20T18:04:42Z</dcterms:modified>
  <cp:revision>5</cp:revision>
  <dc:subject/>
  <dc:title>PowerPoint Presentation</dc:title>
</cp:coreProperties>
</file>