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CD0-76F9-4284-B5A6-0E323446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B58-E43D-4BEF-A61F-12F48763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E50-D233-45D8-9263-BD6533BD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6CC-6DA2-4CA6-A102-304696F5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D20-F1DA-4A3D-ACCB-D309CDDA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954-B46C-4F0C-83AC-FBEAF20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F8-DF19-4305-8528-625F937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646-889C-435E-B465-1666179F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25E-B030-438A-B14C-099FE94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7B5-6B52-41D0-A532-F3DD6A7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7D8-9668-4EB6-BA37-FF8AA11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526-B9DC-4FBA-B81B-25FB639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63F-6039-422C-A7CA-04D32F804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S UPDATE / ACTION IT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568 Implementation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Initial Settlements from 17 to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8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on Item Slides noted in top left cor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3AE-C972-4FC1-85A3-4AD8FE3C4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143000"/>
          <a:ext cx="7543800" cy="5580000"/>
        </p:xfrm>
        <a:graphic>
          <a:graphicData uri="http://schemas.openxmlformats.org/drawingml/2006/table">
            <a:tbl>
              <a:tblPr/>
              <a:tblGrid>
                <a:gridCol w="2313000"/>
                <a:gridCol w="1935000"/>
                <a:gridCol w="1935360"/>
                <a:gridCol w="13604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5720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8 –  Proposed Settlement Statement Calend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9170000">
            <a:off x="-75600" y="3045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B00-0360-495D-BC3A-4CD81CF5E7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125360"/>
          <a:ext cx="7620120" cy="5580360"/>
        </p:xfrm>
        <a:graphic>
          <a:graphicData uri="http://schemas.openxmlformats.org/drawingml/2006/table">
            <a:tbl>
              <a:tblPr/>
              <a:tblGrid>
                <a:gridCol w="2335320"/>
                <a:gridCol w="1955520"/>
                <a:gridCol w="1954440"/>
                <a:gridCol w="13748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8 –  Proposed Settlement Statement Calend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170000">
            <a:off x="-75600" y="3045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9C3-2A08-4D26-89C2-9D1565CE5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1371600"/>
          <a:ext cx="7543800" cy="5276880"/>
        </p:xfrm>
        <a:graphic>
          <a:graphicData uri="http://schemas.openxmlformats.org/drawingml/2006/table">
            <a:tbl>
              <a:tblPr/>
              <a:tblGrid>
                <a:gridCol w="2311560"/>
                <a:gridCol w="1936440"/>
                <a:gridCol w="1935360"/>
                <a:gridCol w="13604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8 –  Proposed Settlement Statement Calend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170000">
            <a:off x="-75600" y="3805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D93-0E94-419E-8312-87CD4A2B12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1828800"/>
          <a:ext cx="7238880" cy="4114440"/>
        </p:xfrm>
        <a:graphic>
          <a:graphicData uri="http://schemas.openxmlformats.org/drawingml/2006/table">
            <a:tbl>
              <a:tblPr/>
              <a:tblGrid>
                <a:gridCol w="2218680"/>
                <a:gridCol w="1857240"/>
                <a:gridCol w="1857240"/>
                <a:gridCol w="1305720"/>
              </a:tblGrid>
              <a:tr h="91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304920" y="5335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8 –  Proposed Settlement Statement Calend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9170000">
            <a:off x="360" y="39492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11D-67B0-48C2-B6E3-2F18083DC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568 Implementation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eriod to determine expected impact when initial settlements are reduced from 17 to 10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Impact (next several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impact  (ref. Implementation Schedule sli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arket consensus on threshold that would suggest recommendation to TAC to stop the migration to day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ettlement Statement publication begins reducing from 17 days to 10 days over a seven week period starting during the week of 2/1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(7) weekly invoices published beginning on 2/9/06 will contain eight (8) initial Settlement Statements instead of the current seven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40A-ACFB-4972-9E9C-13344EE20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568 – Credit Impac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provided impact analysis on collateral requirements when initial settlements are reduced from 17 to 10 days (after any interim st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s in collateral will be realized as long as the quality of data utilized for the credit calculations is substantially the same as the curren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ggregate Liability (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-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026-3A80-4D86-9073-7F0D75DE9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568 – Credit Impact Analysi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L Collat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EAL calculation by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R 568 is implemented, EAL initials will be reduced from 40 to 33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Aggregate Net Load Imbalance Liability and Net Resource Imbalance Liability (NLRI) calculation by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R 568 is implemented, NLRI will be reduced from 28 to 21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97B-06C3-45BF-8245-034AC1A13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568 – Credit Impact Analy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L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3560" cy="152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8683560" cy="152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CA3-4CFA-4DDE-AFDC-D6BF71EDD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568 – Credit Impact Analy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ter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transition period, adjustments will be made to EAL and NLRI credit calculation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s will be made to TNT Protocols Section 16 credit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5F5-9CF4-49A2-9C6C-CAE340BE1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568 Implementation Pla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530360"/>
          <a:ext cx="8763120" cy="4740120"/>
        </p:xfrm>
        <a:graphic>
          <a:graphicData uri="http://schemas.openxmlformats.org/drawingml/2006/table">
            <a:tbl>
              <a:tblPr/>
              <a:tblGrid>
                <a:gridCol w="1828800"/>
                <a:gridCol w="6934320"/>
              </a:tblGrid>
              <a:tr h="277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is Peri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begins provides Ch 0 cuts for Load and Generation Extra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0 day run in Aug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0 day run Sept 15 to Oct 15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 0 is a day 8 aggregation, the data that would be used for day 10 sett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provides reporting similar to Report provided at COPS Feb 2005 mt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s exchange ideas observations of Ch 0 cuts in conference calls every 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all to occur approximately 20 days after the first date Ch 0 data was made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 15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Participants end Ch 0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1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 recommendation to TAC if desired to change the Jan 15, 2006 implementation schedule for PRR5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 17,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e Date to Start the migration to Day 10 Initial Settlement, Publication of binding Settlement Statement for this date would be February 1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7200" y="91440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Recommends the following Schedule for COPS V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170000">
            <a:off x="360" y="39492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B8C-77D9-4657-8DFB-DEE22E5B5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568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410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170000">
            <a:off x="360" y="39492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27476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Metrics have been discussed by the Task Force and require COP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arket Wide UFE comparing Day 10 to Day 17 results - Suggestion to make this limi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???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fference in number of meters Market Wide that would be estimated at Initial Settlement – Suggestion to make this limi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???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Individual Market Participant shift in settlement impact would not exce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???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Discussion and Action needed for setting Triggers that would lead to recommendation for TAC to authorize stopping the migration to Day 10 Initial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E9D-4686-45A2-BB7C-894016733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68 Proposed Settlement Statement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143000"/>
          <a:ext cx="7543800" cy="5580000"/>
        </p:xfrm>
        <a:graphic>
          <a:graphicData uri="http://schemas.openxmlformats.org/drawingml/2006/table">
            <a:tbl>
              <a:tblPr/>
              <a:tblGrid>
                <a:gridCol w="2313000"/>
                <a:gridCol w="1935000"/>
                <a:gridCol w="1935360"/>
                <a:gridCol w="13604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Operating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itial Statement Public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Days from Operating Day to init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Invoic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/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33520" y="68580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Recommends the following Calendar for COPS V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170000">
            <a:off x="360" y="38052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43A-6899-4EA5-9798-53B82E37D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6:57:36Z</dcterms:created>
  <dc:creator>vspells</dc:creator>
  <dc:description/>
  <dc:language>en-US</dc:language>
  <cp:lastModifiedBy>A. Boren</cp:lastModifiedBy>
  <dcterms:modified xsi:type="dcterms:W3CDTF">2005-06-22T13:16:58Z</dcterms:modified>
  <cp:revision>29</cp:revision>
  <dc:subject/>
  <dc:title>Change Initial Settlements from 17 to 10 Days </dc:title>
</cp:coreProperties>
</file>