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5B2E0-EB72-4767-A3EF-0E0CD6AD62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C8D8D-DC85-4CCF-8DBB-A276B585A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052500-F93D-47B6-930F-414A1DED4E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EA85AD-D079-4681-B739-69B62F0860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DD533-42AE-4206-A2EC-7B5BEF116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46B9D-2369-4CD6-8987-EC5D22C5F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99446-6D7A-4C12-9589-CD0726EF0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7D8E7-3AD3-4915-8979-25050E0DC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E843D-A4EC-46C9-959B-515A54F29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78F49-748B-404E-9482-259713C34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39490-DC7F-45FF-95A5-0650C6502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A8AC0-DCF8-4E77-A2C1-B55AD69935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A42DD-08AC-477E-B30A-5A2F851CCF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TAC Procedur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ne 28, 200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rrent Voting Requirement</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act of the majority of the votes represented by members present and a minimum of three (3) votes will be the act of the subcommitte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posed Change Presented to TAC</a:t>
            </a:r>
            <a:endParaRPr b="0" lang="en-US" sz="40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 motion of the subcommittee passes when 1) a majority of the aggregate of the fractional Segment votes are affirmative and 2) a minimum of three (3) Segment Votes are affirmative.  A Segment Vote is considered affirmative when the majority of Standing Representatives of the Segment voted affirmatively.  The results of all votes taken will be reported to TAC, whether or not the vote passed.</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quested Action</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equest that COPS vote to support use of original voting structu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 Boren</cp:lastModifiedBy>
  <dcterms:modified xsi:type="dcterms:W3CDTF">2005-06-20T18:05:19Z</dcterms:modified>
  <cp:revision>4</cp:revision>
  <dc:subject/>
  <dc:title>PowerPoint Presentation</dc:title>
</cp:coreProperties>
</file>