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21C-3267-4C96-8AA1-72231D37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BE4-D69E-454C-8D48-D47D5773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967-B72B-4728-BBF3-DE589FCA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206-48B2-4ADD-9D56-200FF718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083-6779-4D93-B55C-9C29996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A5F-6022-4FCC-B09A-18DB21F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1E8-7BDA-406B-B17B-218B9BA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5AD-6261-4DFA-878A-52EA873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C04-6C2D-4C51-ACB4-1C913AF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47F-2741-46B4-AB64-DB8042A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D96-BA56-47DC-AC2E-3D18744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CDB-5471-4869-BB24-8B3F54F2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0DD-3C59-45F7-BF86-31271875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5002" t="8593" r="5002" b="9375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0:55:34Z</dcterms:created>
  <dc:creator>jashbaugh</dc:creator>
  <dc:description/>
  <dc:language>en-US</dc:language>
  <cp:lastModifiedBy>Ann Boren</cp:lastModifiedBy>
  <dcterms:modified xsi:type="dcterms:W3CDTF">2005-07-05T21:22:33Z</dcterms:modified>
  <cp:revision>5</cp:revision>
  <dc:subject/>
  <dc:title>Slide 1</dc:title>
</cp:coreProperties>
</file>