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D4B3-3CFF-432C-8C3B-75151C96B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AF4C-1E07-4E83-AABC-EE346E353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7EF8-494A-45D9-9BD6-B142B3A1B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AC08-F46D-409F-BB42-D5D292EC2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AD21-4266-42F7-B809-FF866484B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BF2E-07DF-4009-92FD-E56E8019E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5E75-837E-450B-822F-A382BFC37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F1FF-42D1-46A4-96A5-A224F6C56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72A3-6D2E-4139-84DF-4D03494B4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C7BF-25AD-46E2-95C9-291E4540F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81B9-294F-4D8F-A0CA-52EBAC21E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6405-7226-4333-B5BC-3862774DA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DD9E-7A30-4402-8FBA-8E56CE4C0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6B75-4049-4589-BB64-B524A2293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2F8B-76B1-4146-BA46-47E5058DE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C9BA-7FF5-4AF9-9877-5FB366B16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37A6-4218-482C-856F-577BD1CA9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C8DE-B6A6-4097-AEBE-14F53330B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08E9-57CC-40DD-B118-ED9C6060D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386F-C7D9-437C-8DCB-4D869EECC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1F3F-AB06-4B1B-81BA-1AD3E4997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9F4A-97CE-4448-984F-B83350CC7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3256-940B-49C1-AB32-DF9125E3E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ProtocolRevisions/SCRRevfilesystem.cfm?action=viewfolder&amp;path=../ercotpublicweb/market/ftp/SystemChangeRequests/Project_Priority_List" TargetMode="External"/><Relationship Id="rId2" Type="http://schemas.openxmlformats.org/officeDocument/2006/relationships/hyperlink" Target="http://www.ercot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Updates to DEW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ckie Ashba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16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1295280"/>
            <a:ext cx="87631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026 EPS Meter Data Extract/Resource ID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data ownership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the timing logic for when to run and what data to include in each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/Complete the updates for the extract creation and delivery tim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necessary test cases and retest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6521-53FA-43A0-8B88-F461DC3A36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280" y="1295280"/>
            <a:ext cx="87631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42_06 Lodestar Batch Ex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, Generation, Settlements &amp; Billing, Settlement Input Data and Shadow Pr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efining business requirements to meet the needs of providing complete, approved batch of trade dates on a daily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 extract timelines into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Initial and daily extracts logic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Settlement Input Data Extract to include the Settlement data that is not related to the batch runs being provided in the Settlement &amp; Billing Extract aka day after operating da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business requirements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ll extract timing logic trig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18AE-13D1-43E9-88BA-7D8B1F7CD6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riority List (PPL)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523880"/>
            <a:ext cx="8839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PPL posted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rcot.com/ProtocolRevisions/SCRRevfilesystem.cfm?action=viewfolder&amp;path=../ercotpublicweb/market/ftp/SystemChangeRequests/Project_Priority_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…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ercot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/ Protocols / System Change Requests / Project Priority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7E2A-53FF-4A62-8DA6-3E0AA5E362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129528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ject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07 - FasTra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106 - 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24 - Enhancements to SCR 727 (SCR 740 Web Service for ESIID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007 - SCR727 move from Data Archive to 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30026 - EPS Meter Data Extract/Resource ID Ex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042_06 - Lodestar Batch Extra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005 Upcoming Proj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cessary Project Updat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560" y="8222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9480" y="792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roject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F677-B313-441B-84F9-1F7D0CFF221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0280" y="1523880"/>
            <a:ext cx="8156520" cy="44197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scheduled for 1st Qtr. 2006 – Market Decision for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 with Market Participants three times in May/J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a review of  FasTrak process flows &amp;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demos scheduled for 06/13 - 06/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selection will occur after requirements are fin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ing detailed business requirements for signoff on 06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Product Selection by 06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Conceptual Design  mid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 Detailed Design by 08/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8C25-9597-4094-A961-40456D5207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Serena Software’s CMS product &amp; Google Appliance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 Search Appliance and TIBCO are independent of one another.  They could work together, but at ERCOT they will not be working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d contracts with CIBER who began work at ERCOT on 06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an purchase process for Google Search Ap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Serena’s CMS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Google Search Ap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Execu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732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ork on resigning ERCOT’s public website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424E-620E-49E2-B993-ACD84A5CA8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50024  Enhancements to SCR 7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ing business and development analytical design for phase 1 (Business Intelligence Layer – query log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design of Queuing Theory for web service request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ing analytical design for phase 2 (Services – architec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date: 02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for phase 1 &amp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developing test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B1391-E33A-4FF0-9870-76BF011D02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1295280"/>
            <a:ext cx="8763120" cy="48006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 ERCOT Projects to move Lodestar Extracts to 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s includ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27 ESIID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S Meter Data Extract aka Resource ID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s &amp; Billing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Input Data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Reference Data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dow Pricing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design recommendation for data time frame and creation timings for all the Lodestar extracts presented to DEWG 5/12/2005 and COPS 5/24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updated after meeting with 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 is to implement all Lodestar Extracts out of the ODS environment by the end of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56F9-7B2E-4D10-9FA3-AE92609F15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1295280"/>
            <a:ext cx="8763120" cy="48006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d Lodestar Extracts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impact to dispute timeline as the current extra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mpact to dispute timeline for trade dates with backouts/re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abl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extracts posted every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ant with exist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s include complete, approved trade date data that correspond to Settlement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d postings for SCR 727 and RID extracts to Load, Generation, and Settlements &amp; Billing ex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DB62-C577-429F-BAC7-42F0FF4F0E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1295280"/>
            <a:ext cx="87631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07 SCR 727 Ph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27 ESIID Extract, Public Reference Data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market level data extract called Public Reference Data Extract to include all non-interval market data provided in RID, SCR 727, Load, Generation, and Settlements &amp; Billing Ex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Analytical Design; incorporate extra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question for MRE/TDS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, market participants that are MREs, but not the TDSPs of an ESIID receive a separate MRE extract. With the move to the ODS, ERCOT would like to propose that the MRE and TDSP extracts be merged to provide one extract file per DUNs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Analytical Design and 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he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E8FF-D168-4FEC-B776-621BFCFA3A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jashbaugh</cp:lastModifiedBy>
  <dcterms:modified xsi:type="dcterms:W3CDTF">2005-06-15T23:06:56Z</dcterms:modified>
  <cp:revision>261</cp:revision>
  <dc:subject/>
  <dc:title>Slide 1</dc:title>
</cp:coreProperties>
</file>