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8EC0-F83A-4405-8362-ACD5465C5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1613-19E1-4259-9DA5-16225D59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11AC-6087-4C14-BCA8-9C3FE846F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12D9-0EE1-48D9-B6E2-14387256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8F60-44FD-4C27-ADCE-6EB2A8D1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0FC0-893E-46D0-BEA6-F73D7007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A29E-58AB-4107-875D-E3DBF5E9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2548-75FC-4B16-AC18-02029F34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D452-495F-4B03-A533-82DDC8B0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B3E2-6FAF-4323-9F70-6A33E773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EDB3-9569-4381-903C-C0A373A7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17B2-3D10-4E42-9167-2994D887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8A59-9B7E-437B-AAED-252558279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rcial Applications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ages/Service Availability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4234-FB99-45AD-8A2A-D51ACF89A5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ages/Service Avai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949320" y="890640"/>
          <a:ext cx="1349280" cy="395280"/>
        </p:xfrm>
        <a:graphic>
          <a:graphicData uri="http://schemas.openxmlformats.org/drawingml/2006/table">
            <a:tbl>
              <a:tblPr/>
              <a:tblGrid>
                <a:gridCol w="13492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1219320" y="1981080"/>
          <a:ext cx="655308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81080"/>
                    <a:ext cx="6553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266F-D2A2-4660-B2BC-DBDD24631A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ages/Service Avai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49320" y="890640"/>
          <a:ext cx="1349280" cy="395280"/>
        </p:xfrm>
        <a:graphic>
          <a:graphicData uri="http://schemas.openxmlformats.org/drawingml/2006/table">
            <a:tbl>
              <a:tblPr/>
              <a:tblGrid>
                <a:gridCol w="13492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685800" y="1752480"/>
          <a:ext cx="7543800" cy="2443320"/>
        </p:xfrm>
        <a:graphic>
          <a:graphicData uri="http://schemas.openxmlformats.org/drawingml/2006/table">
            <a:tbl>
              <a:tblPr/>
              <a:tblGrid>
                <a:gridCol w="2133720"/>
                <a:gridCol w="1295280"/>
                <a:gridCol w="4114800"/>
              </a:tblGrid>
              <a:tr h="12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/25/2005 13:13-14: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perfre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 minute delay in processing da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26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ript that moves data to Paperfree from NAESB stopped run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26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itoring indicated there were processing issue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26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reshold reduced to indicate more quick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/31/2005 14:30-16: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A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minute hold of transactions in Paperfre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26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sing issue/degradation for 140 minut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26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action reprocessing requir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26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NMP alert raised issu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26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ue issues address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FAB7-63BA-43BC-ABE2-2433DFD779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jneef</cp:lastModifiedBy>
  <cp:lastPrinted>2002-09-24T18:27:58Z</cp:lastPrinted>
  <dcterms:modified xsi:type="dcterms:W3CDTF">2005-06-08T15:47:14Z</dcterms:modified>
  <cp:revision>421</cp:revision>
  <dc:subject/>
  <dc:title>PowerPoint Presentation</dc:title>
</cp:coreProperties>
</file>