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23E-77EA-4FA2-B440-16521646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6D6-D585-4805-BF0E-2DFC2D3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20A-5819-4B78-BE9A-3DA85101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9E9-C730-4D70-AD72-6E0B135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337-A627-4B3D-B9F0-61958AD6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FC9-3F6F-45FE-9769-4EFBA774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233-E1E0-4F49-9EE5-53782905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CC7-7CFD-40C6-8B4A-9B3930A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8DC-57ED-4599-B8BD-6171420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513-2E3E-400B-A4C5-C213326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B99-7A9D-4F81-9E41-8D90C2C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2BF-7781-4E54-9BBA-71E2384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C787-0D58-4621-801E-2919B1A0C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DTWG    06-08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TWG Document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474-EE84-47A8-B9E8-59A932F169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DTWG    06-08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time, all of the security decisions have not been made.  The Security Department is still formulating the Security Guidelines for ERCOT.com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decision that has been made is the ERCOT.com project will only deal with "public"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261-845A-4391-B68A-6D5343DBFB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DTWG    06-08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ggestion that was made in preliminary discussions – post these materials to 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ew MP are provided a test digital cert during flight, so they could gain access to the postings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MP that need to keep updated already have digital certif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Market Participants would have to gain access to documents from ERCOT client Rel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E06-D7A8-4F6A-A197-D7AE47C22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farley</cp:lastModifiedBy>
  <cp:lastPrinted>2002-09-24T18:27:58Z</cp:lastPrinted>
  <dcterms:modified xsi:type="dcterms:W3CDTF">2005-06-07T20:39:14Z</dcterms:modified>
  <cp:revision>419</cp:revision>
  <dc:subject/>
  <dc:title>PowerPoint Presentation</dc:title>
</cp:coreProperties>
</file>