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729-CD89-4CE5-ABC4-0DE74FE6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12B-E8B3-4672-9226-5C82263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08A-6DC6-45FF-BAFD-D46C60EE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E35-38A6-4B1F-A730-8E2760C1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785-D526-4734-A4AE-3DAB61FB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8BF-369A-4E2D-B896-A2BCE0C9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C7B-EB67-489E-8400-3DA06EB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E02-F1AA-4898-9353-BBF708B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8B2-910C-490D-9EB9-3125B45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802-1DDB-4573-A434-BD5B64D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54E-1118-4A9C-ABD6-423D928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3D5-0C14-4370-A06A-9D070CF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BD3-53A8-49E9-A17F-603B5241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Job Sit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 Tool to Improve Your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78080" cy="696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2438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EP Market Data Clearing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nsition Projec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Job Sit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 Tool to Improve Your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780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at is the project’s 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28744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, test, and operate MDCH software at AEP for all AEP’s Customer Choic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and train AEP personnel to operate and manage AEP’s Clearing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Job Sit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 Tool to Improve Your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78080" cy="69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38440" y="91440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at is the project’s 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08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ally, the transition projec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MDCH products and services being used today; now they will be operated at A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EP applications and middle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terface point with AEP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physical connectivity point with our market particip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who hosts the hard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78080" cy="696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at are the major mileston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Transi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Hardware Inst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br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Software Inst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Pre-Production Tes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Data Center 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Transition 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Tran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Job Sit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 Tool to Improve Your Safety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178080" cy="69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are CRs impac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s will see very little impact because this project is primarily a data center move. AEPCH will provide same levels of customer services as MD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800 number to call AEPCH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  email address to AEPCH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EPCH Operations bulletins issued a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P and our trading partners will conduct connectivity testing in August or September 2005 as the physical connection point addresses are cha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additional external testing or coordination is required as the same MDCH products and AEP back-end applications are being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P Account Executives will provide updates keyed around the milest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1:39:27Z</dcterms:created>
  <dc:creator>c713501</dc:creator>
  <dc:description/>
  <dc:language>en-US</dc:language>
  <cp:lastModifiedBy>AEP</cp:lastModifiedBy>
  <dcterms:modified xsi:type="dcterms:W3CDTF">2004-10-13T12:07:32Z</dcterms:modified>
  <cp:revision>3</cp:revision>
  <dc:subject/>
  <dc:title> </dc:title>
</cp:coreProperties>
</file>