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3FA3-CBB4-49D1-9D66-3340C6A69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4495680" cy="183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50532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886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Presentation on Recent Trends in Ancillary Services Bidding for R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257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S Monthl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2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5840" y="380880"/>
            <a:ext cx="4724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Participation in AS - 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s participate in Ancillary Services as LaaR’s—Loads acting as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aR’s can participate in RRS, RPRS and NS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ost Loads participate only in R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aR’s participation in RRS is limited to 50% of total requi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RS currently set at 2300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50% of RRS comes from Generation Resources and 50% from LaaR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half of each type RRS is self arranged and half is purchased from the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Participation in AS - 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18 MW of LaaR’s currently qualified to provide R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11/04, LaaR’s typically hit the 1150 MW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is an intermediate tied bid price at which point LaaR’s are pro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u early May, tie bid price was positive or $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arly May, QSEs representing LaaRs started bidding more aggressively (negatively) in an attempt to be procu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ds for Generation Resources are “expected” to set the clearing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Participation in AS - 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371600"/>
          <a:ext cx="822960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229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Participation in AS - 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1371600"/>
          <a:ext cx="8076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76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d Participation in A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articipants have asked “What are negative bid limits for Ancillary Services?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staff position is that the limits for all AS bids should be +/-$1000, the same as the limits for Balancing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CT staff have indicated support of the +/-$1000 li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604 is currently under review to clarify bid limits for RPRS and other Ancillary Services. Additional changes have been proposed to establish a $0 lower bid lim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d Participation in 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MS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David Cantrel</dc:creator>
  <dc:description/>
  <dc:language>en-US</dc:language>
  <cp:lastModifiedBy>A. Boren</cp:lastModifiedBy>
  <cp:lastPrinted>2000-09-19T10:42:49Z</cp:lastPrinted>
  <dcterms:modified xsi:type="dcterms:W3CDTF">2005-06-21T20:14:47Z</dcterms:modified>
  <cp:revision>220</cp:revision>
  <dc:subject/>
  <dc:title>No Slide Title</dc:title>
</cp:coreProperties>
</file>