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92D7A-2008-452C-89AC-849F209AB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D9AE-D64E-42EE-BED4-BF630ABD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66762-99BE-443A-B949-1988AEF2B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CA18-47BE-4173-A959-E459FB0EE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5655-E3FB-4559-BAC2-324CDA6E8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41E1-CE06-4A48-9645-C9DBB088B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FF92-DF9A-418F-BC8F-C17EDDE72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0F4A7-962B-4604-9D48-D9DBF178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6D34B-7B91-4B07-AA80-EAF1FEAE7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2C54B-B6EE-4958-99CB-7C83EE38F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CE23-4149-401B-BCFA-19D5BBBD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3916-0101-4658-A009-340A01C7D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E502-A954-4E5E-929E-73C38BE945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 Failover DNS Option 1 for API Failover</a:t>
            </a:r>
            <a:br>
              <a:rPr sz="3200"/>
            </a:br>
            <a:endParaRPr b="0" lang="en-US" sz="3200" spc="-1" strike="noStrike">
              <a:solidFill>
                <a:srgbClr val="000000"/>
              </a:solidFill>
              <a:latin typeface="Arial"/>
            </a:endParaRPr>
          </a:p>
        </p:txBody>
      </p:sp>
      <p:graphicFrame>
        <p:nvGraphicFramePr>
          <p:cNvPr id="42" name=""/>
          <p:cNvGraphicFramePr/>
          <p:nvPr/>
        </p:nvGraphicFramePr>
        <p:xfrm>
          <a:off x="0" y="1371600"/>
          <a:ext cx="4952880" cy="4648320"/>
        </p:xfrm>
        <a:graphic>
          <a:graphicData uri="http://schemas.openxmlformats.org/presentationml/2006/ole">
            <p:oleObj r:id="rId1" spid="">
              <p:embed/>
              <p:pic>
                <p:nvPicPr>
                  <p:cNvPr id="43" name="" descr=""/>
                  <p:cNvPicPr/>
                  <p:nvPr/>
                </p:nvPicPr>
                <p:blipFill>
                  <a:blip r:embed="rId2"/>
                  <a:stretch/>
                </p:blipFill>
                <p:spPr>
                  <a:xfrm>
                    <a:off x="0" y="1371600"/>
                    <a:ext cx="4952880" cy="4648320"/>
                  </a:xfrm>
                  <a:prstGeom prst="rect">
                    <a:avLst/>
                  </a:prstGeom>
                  <a:ln w="0">
                    <a:noFill/>
                  </a:ln>
                </p:spPr>
              </p:pic>
            </p:oleObj>
          </a:graphicData>
        </a:graphic>
      </p:graphicFrame>
      <p:sp>
        <p:nvSpPr>
          <p:cNvPr id="44"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DNS structure that allows ERCOT to fail over services between sites can also be used to allow MPs to transparently fail over services during a move to their Backup sit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provide and maintain their own DNS server which must be accessible over the ERCOT WAN if they wish to make use of this op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implementation, when a MP Backup site failover is desired, the participant simply updates the zone file with their disaster recovery IP addresses and pushes it out to the ERCOT DNS servers and the change will take effect immediat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eb-Based DNS Option 2 for API Failover</a:t>
            </a:r>
            <a:br>
              <a:rPr sz="3200"/>
            </a:br>
            <a:endParaRPr b="0" lang="en-US" sz="3200" spc="-1" strike="noStrike">
              <a:solidFill>
                <a:srgbClr val="000000"/>
              </a:solidFill>
              <a:latin typeface="Arial"/>
            </a:endParaRPr>
          </a:p>
        </p:txBody>
      </p:sp>
      <p:sp>
        <p:nvSpPr>
          <p:cNvPr id="46" name=""/>
          <p:cNvSpPr/>
          <p:nvPr/>
        </p:nvSpPr>
        <p:spPr>
          <a:xfrm>
            <a:off x="4648320" y="16765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being evaluated as an alternative method for those who do not wish to maintain their own DNS server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are made active in a matter of second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use web based interfac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based authentication allows users to only see servers they are authoritative fo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ail over to a Disaster Recovery site you simply need to update the IP address of the existing entry.  ERCOT servers will pick up the change and start using the new IP immediately.</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57200" y="1371600"/>
            <a:ext cx="3809880" cy="462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TU and ICCP Communications For Backup Sites</a:t>
            </a:r>
            <a:endParaRPr b="0" lang="en-US" sz="2800" spc="-1" strike="noStrike">
              <a:solidFill>
                <a:srgbClr val="000000"/>
              </a:solidFill>
              <a:latin typeface="Arial"/>
            </a:endParaRPr>
          </a:p>
        </p:txBody>
      </p:sp>
      <p:sp>
        <p:nvSpPr>
          <p:cNvPr id="4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 of current ICCP and RTU conn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current options for both ICCP and DNP (RT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the requirements, maintenance and testing procedures for both ICCP and DN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to ERCOT System Operations findings and different op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xt</a:t>
            </a:r>
            <a:r>
              <a:rPr b="0" lang="en-US" sz="3600" spc="-1" strike="noStrike" u="sng">
                <a:solidFill>
                  <a:srgbClr val="000000"/>
                </a:solidFill>
                <a:uFillTx/>
                <a:latin typeface="Arial"/>
              </a:rPr>
              <a:t> Steps</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ERCOT Operating Guides to include DNS option 1 &amp; 2 for API communications with Primary and Backup si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e each QSE on WAN to either option 1 or 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e ERCOT’s API’s to use DNS  for QSE UR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PI.QSEX.CO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by end of November 2005.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SE’s with backup sites will be migrated firs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changes in ERCOT Operating Guides for RTU and ICCP communications to Backup s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changes in ERCOT Operating Guides for Testing Backup si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16:54:07Z</dcterms:created>
  <dc:creator>Jake Jacobs</dc:creator>
  <dc:description/>
  <dc:language>en-US</dc:language>
  <cp:lastModifiedBy>A. Boren</cp:lastModifiedBy>
  <cp:lastPrinted>2003-08-07T15:36:00Z</cp:lastPrinted>
  <dcterms:modified xsi:type="dcterms:W3CDTF">2005-06-17T16:20:01Z</dcterms:modified>
  <cp:revision>72</cp:revision>
  <dc:subject/>
  <dc:title>No Slide Title</dc:title>
</cp:coreProperties>
</file>