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DE9B0-63D7-4E25-9C70-575C6085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7421-E149-44AF-9595-DF82E487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0988-E5B8-4D4F-B1BB-A11429E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68767-D6CF-431A-9ADE-6EEE612F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56180-2263-44F2-A673-8736102F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0BE53-FC22-4A2E-890B-04C91C7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32403-813E-4F0A-AC35-86316BD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A034-0C38-4750-A46E-EAE1EFA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B6172-B46E-4BAF-87FF-7A1DA6C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89E78-8F7E-4BC5-B726-4434155D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43EA-179E-40F5-8EFC-350713C3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C5DAF-7984-4C0E-BE29-193A1AB1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2362320" cy="12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36232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57680" y="6612480"/>
            <a:ext cx="885960" cy="24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d006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06/16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52280"/>
          <a:ext cx="36576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36576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60" y="174600"/>
            <a:ext cx="168120" cy="6054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2560" y="0"/>
            <a:ext cx="507960" cy="325440"/>
            <a:chOff x="52560" y="0"/>
            <a:chExt cx="507960" cy="325440"/>
          </a:xfrm>
        </p:grpSpPr>
        <p:sp>
          <p:nvSpPr>
            <p:cNvPr id="48" name=""/>
            <p:cNvSpPr/>
            <p:nvPr/>
          </p:nvSpPr>
          <p:spPr>
            <a:xfrm>
              <a:off x="52560" y="82800"/>
              <a:ext cx="179280" cy="16992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2640" y="0"/>
              <a:ext cx="407880" cy="325440"/>
            </a:xfrm>
            <a:prstGeom prst="rightArrow">
              <a:avLst>
                <a:gd name="adj1" fmla="val 50000"/>
                <a:gd name="adj2" fmla="val 62671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2320" y="69840"/>
            <a:ext cx="8490240" cy="511200"/>
            <a:chOff x="652320" y="69840"/>
            <a:chExt cx="8490240" cy="511200"/>
          </a:xfrm>
        </p:grpSpPr>
        <p:sp>
          <p:nvSpPr>
            <p:cNvPr id="51" name=""/>
            <p:cNvSpPr/>
            <p:nvPr/>
          </p:nvSpPr>
          <p:spPr>
            <a:xfrm>
              <a:off x="652320" y="69840"/>
              <a:ext cx="8344080" cy="1634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8831160" y="71280"/>
              <a:ext cx="311400" cy="509760"/>
              <a:chOff x="8831160" y="71280"/>
              <a:chExt cx="311400" cy="509760"/>
            </a:xfrm>
          </p:grpSpPr>
          <p:sp>
            <p:nvSpPr>
              <p:cNvPr id="53" name=""/>
              <p:cNvSpPr/>
              <p:nvPr/>
            </p:nvSpPr>
            <p:spPr>
              <a:xfrm>
                <a:off x="8901000" y="71280"/>
                <a:ext cx="165240" cy="179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1160" y="169920"/>
                <a:ext cx="311400" cy="411120"/>
              </a:xfrm>
              <a:prstGeom prst="downArrow">
                <a:avLst>
                  <a:gd name="adj1" fmla="val 50000"/>
                  <a:gd name="adj2" fmla="val 66018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6283440"/>
            <a:ext cx="8488440" cy="512640"/>
            <a:chOff x="0" y="6283440"/>
            <a:chExt cx="8488440" cy="512640"/>
          </a:xfrm>
        </p:grpSpPr>
        <p:sp>
          <p:nvSpPr>
            <p:cNvPr id="56" name=""/>
            <p:cNvSpPr/>
            <p:nvPr/>
          </p:nvSpPr>
          <p:spPr>
            <a:xfrm>
              <a:off x="149400" y="6632640"/>
              <a:ext cx="8339040" cy="163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0" y="6283440"/>
              <a:ext cx="309600" cy="511200"/>
              <a:chOff x="0" y="6283440"/>
              <a:chExt cx="309600" cy="511200"/>
            </a:xfrm>
          </p:grpSpPr>
          <p:sp>
            <p:nvSpPr>
              <p:cNvPr id="58" name=""/>
              <p:cNvSpPr/>
              <p:nvPr/>
            </p:nvSpPr>
            <p:spPr>
              <a:xfrm>
                <a:off x="76320" y="6613560"/>
                <a:ext cx="164880" cy="1810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283440"/>
                <a:ext cx="309600" cy="411120"/>
              </a:xfrm>
              <a:prstGeom prst="upArrow">
                <a:avLst>
                  <a:gd name="adj1" fmla="val 50000"/>
                  <a:gd name="adj2" fmla="val 66389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8569440" y="636480"/>
            <a:ext cx="507960" cy="6213600"/>
            <a:chOff x="8569440" y="636480"/>
            <a:chExt cx="507960" cy="6213600"/>
          </a:xfrm>
        </p:grpSpPr>
        <p:sp>
          <p:nvSpPr>
            <p:cNvPr id="61" name=""/>
            <p:cNvSpPr/>
            <p:nvPr/>
          </p:nvSpPr>
          <p:spPr>
            <a:xfrm>
              <a:off x="8908920" y="636480"/>
              <a:ext cx="168480" cy="6032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8569440" y="6526080"/>
              <a:ext cx="507960" cy="324000"/>
              <a:chOff x="8569440" y="6526080"/>
              <a:chExt cx="507960" cy="324000"/>
            </a:xfrm>
          </p:grpSpPr>
          <p:sp>
            <p:nvSpPr>
              <p:cNvPr id="63" name=""/>
              <p:cNvSpPr/>
              <p:nvPr/>
            </p:nvSpPr>
            <p:spPr>
              <a:xfrm>
                <a:off x="8897760" y="6599160"/>
                <a:ext cx="179640" cy="1684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9440" y="6526080"/>
                <a:ext cx="407880" cy="324000"/>
              </a:xfrm>
              <a:prstGeom prst="leftArrow">
                <a:avLst>
                  <a:gd name="adj1" fmla="val 50000"/>
                  <a:gd name="adj2" fmla="val 62938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5720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Issue Notification Process </a:t>
            </a:r>
            <a:br>
              <a:rPr sz="2400"/>
            </a:b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Presentation to ROS</a:t>
            </a:r>
            <a:br>
              <a:rPr sz="2400"/>
            </a:b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June 16, 2005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Proposing Procedure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is in process of writing a Shift Supervisor procedure requiring Hot Line notification of Participants for various system failures at ERCOT including Portal failure.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proposal requires notification of participants when system fails, and when system is restored.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s:  When we get a very short failure, we do not want to be making a hot line call, followed by a second hot line call minutes later.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QUESTIONS/DISCUSSION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54360" y="1631880"/>
            <a:ext cx="4638600" cy="48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22:29:49Z</dcterms:created>
  <dc:creator/>
  <dc:description/>
  <dc:language>en-US</dc:language>
  <cp:lastModifiedBy/>
  <dcterms:modified xsi:type="dcterms:W3CDTF">2005-06-17T16:07:09Z</dcterms:modified>
  <cp:revision>419</cp:revision>
  <dc:subject/>
  <dc:title>GENERATION INTERCONN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4686421</vt:r8>
  </property>
  <property fmtid="{D5CDD505-2E9C-101B-9397-08002B2CF9AE}" pid="3" name="_NewReviewCycle">
    <vt:lpwstr/>
  </property>
  <property fmtid="{D5CDD505-2E9C-101B-9397-08002B2CF9AE}" pid="4" name="_ReviewingToolsShownOnce">
    <vt:lpwstr/>
  </property>
</Properties>
</file>