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82B-E01D-41FC-A124-5BB4E026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d at the May and June 2003 OWG meetings.  Mailed to Chief System Operators. In June.  ERCOT annou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8B3E-709F-4690-9A14-9049797FF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B924-7999-4913-8884-635D04EB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9F87-5AC3-44B7-8DEB-EE2E4D07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40A3-FC35-40E9-9147-7D45DE52D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88EC8-C694-475D-BF4F-E9C9C9D3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F24DB-5EF4-42E6-B118-D1B0486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0204-BCD2-4839-A53E-43D1364F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C2CF6-6B24-4B12-9F9B-EF0BFE7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0A23E-1893-4F8E-9FBC-234F9C7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055960" y="227160"/>
            <a:ext cx="67831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F5B62-D134-45A1-A313-099D5928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06EC5-739F-49BF-AC2F-6489EA50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D414-25FB-41EC-9E5E-7D652A9F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2672F-01F7-4BFE-8BAC-E33FC158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998A2-B525-4D13-9D87-32F71B8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2334F-E5A6-4E0D-A113-A616F4EF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247EF-C01A-43C8-BA79-81789519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52543-67EA-4AD8-8B15-83663C71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D52D-086D-4914-A77E-ECE2B3E0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FE01-E89B-4CF3-A36A-49B6F977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0D82-C362-4711-9454-E10C23EA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5960" y="227160"/>
            <a:ext cx="67831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D82B-32C5-48CA-8EA5-14791E79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4C03-CED4-48F7-BC02-081EB77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824C-3027-46EF-A64B-E0679F88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5960" y="194040"/>
            <a:ext cx="678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4167-D06B-4662-BE56-AE34B81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7F3C-ACC6-4A37-A925-2C4E61CEA2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2055960" y="227160"/>
            <a:ext cx="6783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DB3B-36A5-49FB-B061-BA725358B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2362320"/>
            <a:ext cx="67057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G Omega"/>
              </a:rPr>
              <a:t>Outage Schedule Ti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31240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52280" y="5334120"/>
          <a:ext cx="8839440" cy="1371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5334120"/>
                    <a:ext cx="8839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2286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ned Extension 1452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6360" y="1066680"/>
          <a:ext cx="8226360" cy="4267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6360" y="1066680"/>
                    <a:ext cx="8226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5000" t="0" r="18750" b="46876"/>
          <a:stretch/>
        </p:blipFill>
        <p:spPr>
          <a:xfrm>
            <a:off x="380880" y="1219320"/>
            <a:ext cx="830592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33520" y="5638680"/>
          <a:ext cx="8076960" cy="81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638680"/>
                    <a:ext cx="80769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990720" y="152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ced Extension 1489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63000" cy="44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457200" y="5638680"/>
          <a:ext cx="8153280" cy="8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638680"/>
                    <a:ext cx="8153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90720" y="152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ced Extension 1489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990720"/>
          <a:ext cx="8481960" cy="4443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990720"/>
                    <a:ext cx="848196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5960" y="224640"/>
            <a:ext cx="678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itching of Outages that deviate more than 30 minutes from the approved planned start or planned end time require ERCOT notification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ual Start and Actual End time entries are restricted to current day by softwar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age Switching Requirements &amp;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1447920"/>
            <a:ext cx="76960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rt time is defined as when the first device is operated that breaks the power flow and/or removes lo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ual end time is defined as when power flow and/or load is re-establ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ual start/end times on equipment that does not interrupt load such as a breaker in a ring bus or a line that is served by multiple breakers, the actual start/end time is defined as when the device is opened or cl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80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s for actual start/en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783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of Actual Entri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066680"/>
          <a:ext cx="843444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843444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79320" y="271440"/>
          <a:ext cx="7837560" cy="60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71440"/>
                    <a:ext cx="783756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04920" y="1143000"/>
          <a:ext cx="8610480" cy="53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15000" t="0" r="18900" b="46876"/>
          <a:stretch/>
        </p:blipFill>
        <p:spPr>
          <a:xfrm>
            <a:off x="228600" y="1219320"/>
            <a:ext cx="868680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28600" y="5715000"/>
          <a:ext cx="8686800" cy="91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715000"/>
                    <a:ext cx="8686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228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ned Outage 138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15000" t="0" r="18900" b="46876"/>
          <a:stretch/>
        </p:blipFill>
        <p:spPr>
          <a:xfrm>
            <a:off x="228600" y="1219320"/>
            <a:ext cx="8686800" cy="441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14250" t="32813" r="22503" b="37500"/>
          <a:stretch/>
        </p:blipFill>
        <p:spPr>
          <a:xfrm>
            <a:off x="228600" y="1523880"/>
            <a:ext cx="868824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304920" y="5638680"/>
          <a:ext cx="8305560" cy="91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638680"/>
                    <a:ext cx="8305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228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ned Outage 138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1240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grayscl/>
          </a:blip>
          <a:srcRect l="15000" t="0" r="18224" b="25313"/>
          <a:stretch/>
        </p:blipFill>
        <p:spPr>
          <a:xfrm>
            <a:off x="380880" y="1143000"/>
            <a:ext cx="84582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52280" y="5334120"/>
          <a:ext cx="8839440" cy="134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5334120"/>
                    <a:ext cx="883944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33520" y="2286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ned Extension 1452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6:51:01Z</dcterms:created>
  <dc:creator>RPoston</dc:creator>
  <dc:description/>
  <dc:language>en-US</dc:language>
  <cp:lastModifiedBy>A. Boren</cp:lastModifiedBy>
  <dcterms:modified xsi:type="dcterms:W3CDTF">2005-06-17T16:08:23Z</dcterms:modified>
  <cp:revision>10</cp:revision>
  <dc:subject/>
  <dc:title>Slide 1</dc:title>
</cp:coreProperties>
</file>