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25F6F-026F-4E22-BF1E-2B51093259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 Frequency Response during 11 out of the last 12 events at the B + 30 second performance metric has kept the rolling 6 event average below standard.  The average performance at the B point is just above the minimum with the last two events in March being very low.  So far this quarter, only one event has qualified as a measurable event.  It occurred on May 31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t 22:28.  Performance during this event has just begu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EE9D-C347-4DF3-8CC8-8DBD6FB68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7909-5800-451F-B655-C82D3BF7C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1719-07F6-4C5D-B6E7-C519C1729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EB7F-4C09-4569-883E-D41FBDC6B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2633-F212-4B05-BBD9-2293EA184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C74E-7ADB-4186-853F-EAF1A62CD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8922-DD4D-4A66-A877-4611E9076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D0B5-1447-4332-9BB2-AAA06D31A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7065-C127-4079-B220-DA78A6DBB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0C0F-F40E-4AF5-9F70-B2F42FFD0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CCAF-74B7-4324-AB7E-75045E471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3B82-8EE6-4A90-903E-E4D461B46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FD30F-3A01-407B-9FE0-032A6DD2BF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609480" y="576360"/>
            <a:ext cx="8305560" cy="6281280"/>
            <a:chOff x="609480" y="576360"/>
            <a:chExt cx="8305560" cy="6281280"/>
          </a:xfrm>
        </p:grpSpPr>
        <p:pic>
          <p:nvPicPr>
            <p:cNvPr id="49" name="" descr=""/>
            <p:cNvPicPr/>
            <p:nvPr/>
          </p:nvPicPr>
          <p:blipFill>
            <a:blip r:embed="rId1"/>
            <a:stretch/>
          </p:blipFill>
          <p:spPr>
            <a:xfrm>
              <a:off x="609480" y="1357200"/>
              <a:ext cx="8305560" cy="550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" descr=""/>
            <p:cNvPicPr/>
            <p:nvPr/>
          </p:nvPicPr>
          <p:blipFill>
            <a:blip r:embed="rId2"/>
            <a:stretch/>
          </p:blipFill>
          <p:spPr>
            <a:xfrm>
              <a:off x="609480" y="576360"/>
              <a:ext cx="8305560" cy="739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RCOT Frequency 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811160" y="0"/>
            <a:ext cx="66834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137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R 525 SCPS2 through M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8160" y="914400"/>
            <a:ext cx="9105840" cy="55339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anuary 2005 CPS1 133.9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990720"/>
            <a:ext cx="9105840" cy="58672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ebruary 2005 CPS1 123.1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rch 2005 CPS1 135.9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8160" y="990720"/>
            <a:ext cx="910584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8160" y="990720"/>
            <a:ext cx="9105840" cy="586728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ril 2005 CPS1 127.2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990720"/>
            <a:ext cx="9105840" cy="586728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y 2005 CPS1 114.8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2560" y="0"/>
            <a:ext cx="903888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RCOT CPS1 by Day - M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RCOT 12 mo Rolling Avg CPS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514600" y="272880"/>
            <a:ext cx="6629400" cy="658512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21337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R 525 SCPS1 through M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3T14:57:48Z</dcterms:created>
  <dc:creator>sniemeyer</dc:creator>
  <dc:description/>
  <dc:language>en-US</dc:language>
  <cp:lastModifiedBy>sniemeyer</cp:lastModifiedBy>
  <dcterms:modified xsi:type="dcterms:W3CDTF">2005-06-14T02:36:30Z</dcterms:modified>
  <cp:revision>6</cp:revision>
  <dc:subject/>
  <dc:title>PowerPoint Presentation</dc:title>
</cp:coreProperties>
</file>