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40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6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5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40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6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78A37-7BB0-43BB-A727-4D32D32D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8D592-EF7B-46DC-884E-B0D25E43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93342-E1B3-4139-81B2-2558D3B4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DDC2E-6738-4F6B-8148-03625816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26294-90E9-4D02-9461-73A3934E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286000" y="0"/>
            <a:ext cx="68580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C5872-B105-4DF9-98D4-59CC7088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EBCE9-DD8A-447C-B18A-D3160A14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7911F-1529-4F50-850F-E760942F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611DA-C2AF-43EC-99F9-2C022B46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CAFB0-DAA6-4291-BDF1-D45C8482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87586-A977-4BCE-A2C7-CB9C93EE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9640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36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55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9640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36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E88D5-3AF4-4CC2-AD70-D0853E57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0"/>
            <a:ext cx="68580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2362320" cy="127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36232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57680" y="6612480"/>
            <a:ext cx="885960" cy="246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d006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d006c"/>
                </a:solidFill>
                <a:latin typeface="Tahoma"/>
              </a:rPr>
              <a:t>06/16/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152280"/>
          <a:ext cx="3657600" cy="196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365760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60" y="174600"/>
            <a:ext cx="168120" cy="605484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2560" y="0"/>
            <a:ext cx="507960" cy="325440"/>
            <a:chOff x="52560" y="0"/>
            <a:chExt cx="507960" cy="325440"/>
          </a:xfrm>
        </p:grpSpPr>
        <p:sp>
          <p:nvSpPr>
            <p:cNvPr id="48" name=""/>
            <p:cNvSpPr/>
            <p:nvPr/>
          </p:nvSpPr>
          <p:spPr>
            <a:xfrm>
              <a:off x="52560" y="82800"/>
              <a:ext cx="179280" cy="169920"/>
            </a:xfrm>
            <a:prstGeom prst="ellipse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2640" y="0"/>
              <a:ext cx="407880" cy="325440"/>
            </a:xfrm>
            <a:prstGeom prst="rightArrow">
              <a:avLst>
                <a:gd name="adj1" fmla="val 50000"/>
                <a:gd name="adj2" fmla="val 62671"/>
              </a:avLst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52320" y="69840"/>
            <a:ext cx="8490240" cy="511200"/>
            <a:chOff x="652320" y="69840"/>
            <a:chExt cx="8490240" cy="511200"/>
          </a:xfrm>
        </p:grpSpPr>
        <p:sp>
          <p:nvSpPr>
            <p:cNvPr id="51" name=""/>
            <p:cNvSpPr/>
            <p:nvPr/>
          </p:nvSpPr>
          <p:spPr>
            <a:xfrm>
              <a:off x="652320" y="69840"/>
              <a:ext cx="8344080" cy="1634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8831160" y="71280"/>
              <a:ext cx="311400" cy="509760"/>
              <a:chOff x="8831160" y="71280"/>
              <a:chExt cx="311400" cy="509760"/>
            </a:xfrm>
          </p:grpSpPr>
          <p:sp>
            <p:nvSpPr>
              <p:cNvPr id="53" name=""/>
              <p:cNvSpPr/>
              <p:nvPr/>
            </p:nvSpPr>
            <p:spPr>
              <a:xfrm>
                <a:off x="8901000" y="71280"/>
                <a:ext cx="165240" cy="17964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1160" y="169920"/>
                <a:ext cx="311400" cy="411120"/>
              </a:xfrm>
              <a:prstGeom prst="downArrow">
                <a:avLst>
                  <a:gd name="adj1" fmla="val 50000"/>
                  <a:gd name="adj2" fmla="val 66018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6283440"/>
            <a:ext cx="8488440" cy="512640"/>
            <a:chOff x="0" y="6283440"/>
            <a:chExt cx="8488440" cy="512640"/>
          </a:xfrm>
        </p:grpSpPr>
        <p:sp>
          <p:nvSpPr>
            <p:cNvPr id="56" name=""/>
            <p:cNvSpPr/>
            <p:nvPr/>
          </p:nvSpPr>
          <p:spPr>
            <a:xfrm>
              <a:off x="149400" y="6632640"/>
              <a:ext cx="8339040" cy="163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0" y="6283440"/>
              <a:ext cx="309600" cy="511200"/>
              <a:chOff x="0" y="6283440"/>
              <a:chExt cx="309600" cy="511200"/>
            </a:xfrm>
          </p:grpSpPr>
          <p:sp>
            <p:nvSpPr>
              <p:cNvPr id="58" name=""/>
              <p:cNvSpPr/>
              <p:nvPr/>
            </p:nvSpPr>
            <p:spPr>
              <a:xfrm>
                <a:off x="76320" y="6613560"/>
                <a:ext cx="164880" cy="1810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283440"/>
                <a:ext cx="309600" cy="411120"/>
              </a:xfrm>
              <a:prstGeom prst="upArrow">
                <a:avLst>
                  <a:gd name="adj1" fmla="val 50000"/>
                  <a:gd name="adj2" fmla="val 66389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" name=""/>
          <p:cNvGrpSpPr/>
          <p:nvPr/>
        </p:nvGrpSpPr>
        <p:grpSpPr>
          <a:xfrm>
            <a:off x="8569440" y="636480"/>
            <a:ext cx="507960" cy="6213600"/>
            <a:chOff x="8569440" y="636480"/>
            <a:chExt cx="507960" cy="6213600"/>
          </a:xfrm>
        </p:grpSpPr>
        <p:sp>
          <p:nvSpPr>
            <p:cNvPr id="61" name=""/>
            <p:cNvSpPr/>
            <p:nvPr/>
          </p:nvSpPr>
          <p:spPr>
            <a:xfrm>
              <a:off x="8908920" y="636480"/>
              <a:ext cx="168480" cy="60325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8569440" y="6526080"/>
              <a:ext cx="507960" cy="324000"/>
              <a:chOff x="8569440" y="6526080"/>
              <a:chExt cx="507960" cy="324000"/>
            </a:xfrm>
          </p:grpSpPr>
          <p:sp>
            <p:nvSpPr>
              <p:cNvPr id="63" name=""/>
              <p:cNvSpPr/>
              <p:nvPr/>
            </p:nvSpPr>
            <p:spPr>
              <a:xfrm>
                <a:off x="8897760" y="6599160"/>
                <a:ext cx="179640" cy="1684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69440" y="6526080"/>
                <a:ext cx="407880" cy="324000"/>
              </a:xfrm>
              <a:prstGeom prst="leftArrow">
                <a:avLst>
                  <a:gd name="adj1" fmla="val 50000"/>
                  <a:gd name="adj2" fmla="val 62938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25720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Treatment of Generating Unit Contingencies in Operations and Planning</a:t>
            </a:r>
            <a:br>
              <a:rPr sz="3600"/>
            </a:br>
            <a:br>
              <a:rPr sz="2400"/>
            </a:b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Potential Need for Reliability Criteria Clarification</a:t>
            </a:r>
            <a:br>
              <a:rPr sz="2400"/>
            </a:b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Presentation to ROS</a:t>
            </a:r>
            <a:br>
              <a:rPr sz="2400"/>
            </a:b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June 16, 2004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Operating Guide – Section 2 Operation Criteria</a:t>
            </a:r>
            <a:endParaRPr b="1" lang="en-US" sz="36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27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2.2.2</a:t>
            </a: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ecurity Criteria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</a:rPr>
              <a:t>A credible single contingency is defined as the Forced Outage of two generating units in the ERCOT System within a short period of time, or the Forced Outage of any single transmission element (such as a circuit or transformer)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Operating Guides – Section 5-Planning Criteria</a:t>
            </a:r>
            <a:endParaRPr b="1" lang="en-US" sz="36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19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.1.4 Transmission Reliability Testing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</a:rPr>
              <a:t>With any single generating unit unavailable, and with any other generation preemptively redispatched, the contingency loss of a single transmission elem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Why Discuss Now?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30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utdown of generation in urban areas makes voltage collapse a greater risk then it has been historically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nsequence of a voltage collapse in an urban area is much higher then the historic thermal overload consequence; and the required post-contingency speed of diagnosis/response is MUCH faster then resolution of thermal problems.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Why Discuss Now?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30040" y="1201680"/>
          <a:ext cx="860112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201680"/>
                    <a:ext cx="86011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415200" y="1436760"/>
            <a:ext cx="20764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06c"/>
                </a:solidFill>
                <a:latin typeface="Tahoma"/>
              </a:rPr>
              <a:t>In this slide % outages = # Train Outages/# CC Trains in ERC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Issues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39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Inconsistency between security operations criteria and planning criteria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Treatment of Combined Cycle plants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The loss of a steam turbine can make the CT(s) unavailable 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No bypass for the steam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Single point of failure for both the Steam and CT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Modeling of the loads netted with CC generation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Because private networks are not modeled, ERCOT may not adequately detect local load increase or local voltage collapse resulting from a unit trip.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Recommendation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33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Changes to Operating Guides: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ECTION 2: Combined Cycle trains modeled as a single contingency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ECTION 5: 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Analyze Double Unit outages as well as single unit/single circuit.  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QUESTIONS/DISCUSSION</a:t>
            </a:r>
            <a:endParaRPr b="1" lang="en-US" sz="3600" spc="-1" strike="noStrike">
              <a:solidFill>
                <a:srgbClr val="0d006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54360" y="1631880"/>
            <a:ext cx="4638600" cy="482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5T22:29:49Z</dcterms:created>
  <dc:creator/>
  <dc:description/>
  <dc:language>en-US</dc:language>
  <cp:lastModifiedBy/>
  <dcterms:modified xsi:type="dcterms:W3CDTF">2005-06-17T16:06:39Z</dcterms:modified>
  <cp:revision>418</cp:revision>
  <dc:subject/>
  <dc:title>GENERATION INTERCONN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35565724</vt:r8>
  </property>
  <property fmtid="{D5CDD505-2E9C-101B-9397-08002B2CF9AE}" pid="3" name="_NewReviewCycle">
    <vt:lpwstr/>
  </property>
  <property fmtid="{D5CDD505-2E9C-101B-9397-08002B2CF9AE}" pid="4" name="_ReviewingToolsShownOnce">
    <vt:lpwstr/>
  </property>
</Properties>
</file>