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986D-4737-4C1C-8CF9-ABA59DAC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051C-277B-45E3-9DFF-B439756C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304B-2B1C-4C36-8790-5814388F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1DA-43AA-4D5A-AD80-0AFBF059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C1D7-D5FA-47A3-A2C2-0CA9A15A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B5C1-0DD1-4D56-8E79-53C3FB36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1BD-FF40-4BA4-A53F-6E9A8FD0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78C-11FA-49FC-8A61-63CA9AED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E19F-B90E-44C7-8692-C7F2812B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11D1-E029-4231-B020-92AF5990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2A85-8C0D-4384-93B4-50E8405C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A152-A436-4702-9559-CE9A1B08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C41E-6B60-4277-ACDE-86C2997DE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segger@erco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solution to either enhance or replace the FasTrak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/Why is this important?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the transparency for issues that are submitted via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users to have improved access to th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reporting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search functionality associ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monitoring and response capabiliti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us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upgrade – only if Siebel is chosen as the replacement tool for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240" y="68580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360" y="5943600"/>
            <a:ext cx="19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ne 9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32880" y="594360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99072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as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in Feb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March 14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August 17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– January/Febr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Febr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 with MPs 3 times to finalize business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vendor demonstrations for June 1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d detailed business requirements on June 10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xt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 product selection (June 2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 conceptual design (Mid Ju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 detailed design (August 1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9360" y="71136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5440" y="152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7680" y="594360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ne 9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target dates will become firm after design is complete and project plan fin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June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(published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ly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December ’05 – January ’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cember ’05 – Jan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an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an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anuary/Febr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7920" y="71136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5440" y="152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4080" y="597708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ne 9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Scott Eg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512-248-316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gger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ke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5440" y="152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7680" y="5867280"/>
            <a:ext cx="19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ne 9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segger</cp:lastModifiedBy>
  <dcterms:modified xsi:type="dcterms:W3CDTF">2005-06-09T21:27:12Z</dcterms:modified>
  <cp:revision>171</cp:revision>
  <dc:subject/>
  <dc:title>TX SET V1.5 RFP Evaluation Recommen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5-03-16T00:00:00Z</vt:lpwstr>
  </property>
  <property fmtid="{D5CDD505-2E9C-101B-9397-08002B2CF9AE}" pid="3" name="GUID">
    <vt:lpwstr>{20050316-2134-581F-B2D0-2DA44B90E9B3}</vt:lpwstr>
  </property>
  <property fmtid="{D5CDD505-2E9C-101B-9397-08002B2CF9AE}" pid="4" name="Owner">
    <vt:lpwstr>197</vt:lpwstr>
  </property>
  <property fmtid="{D5CDD505-2E9C-101B-9397-08002B2CF9AE}" pid="5" name="Status">
    <vt:lpwstr>Final</vt:lpwstr>
  </property>
</Properties>
</file>