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481-C184-4987-9A85-38EEE20D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0F0-8C3C-4FF8-AF8C-7BE41636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2E8-00FB-4AA4-AA9E-844A9602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7EA-FA9C-41B3-A4E1-91A87874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C31-E220-494B-9643-352FA084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802-C766-42F9-9826-420DA291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565-E434-4D53-8DAC-3F4765AD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08D-F46A-4CE9-AAA4-924C6796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7EA-7967-4212-8163-BC15A1A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6E0-D2EC-4F96-B8C9-F7735A3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0BF-B134-4C41-A687-EDD326A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F12-786B-4B28-B202-5F0D769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041E-0962-4B4A-8E9C-BC350A80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295280"/>
          <a:ext cx="8763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763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0280" y="6094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Progress – TDSPs/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71600"/>
          <a:ext cx="861084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6108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Meeting – Houston June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cripts developed by TTPT Script Sub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track Market Participant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Production Implement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early 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sign off for Conceptu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Detai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Sign off on Detail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ed 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Sign off on ETS and Reprocessing Detai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Internal Train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ion goal of Jul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on Implement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TX SET CC for Quality Service Credits into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810_02 SAC04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_02 Implementation Guide posted with updated SAC04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828800"/>
            <a:ext cx="7620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gres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rket Participants were requested to provide their progress on Design/Code/Test of TX SET V2.1 and identify any risks that would delay Flight 1005 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will be reported through September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Reports for July RMS status are due COB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uly 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n response will default to previous month’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295280"/>
          <a:ext cx="8686800" cy="49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295280"/>
          <a:ext cx="86868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Progress -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A. Boren</cp:lastModifiedBy>
  <dcterms:modified xsi:type="dcterms:W3CDTF">2005-06-08T14:21:38Z</dcterms:modified>
  <cp:revision>32</cp:revision>
  <dc:subject/>
  <dc:title>Slide 1</dc:title>
</cp:coreProperties>
</file>