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7008813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A357A-97C1-4ABA-B852-64BFA2174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D833C-0AFC-45FB-AC48-411F8B59B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A98B4-A5D9-4997-801E-D77B6FC70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DF130-B263-4D09-9690-DF11C33FF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61309-8F77-4F4A-8ACC-781F8EF2F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B527D-121F-423E-8AD0-FC72971F4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DAA37-B86B-4FF5-B7FD-CECE263CC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CCF46-C0E7-43A9-9E3B-F259E251E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E3BFA-C4C4-4592-A73E-8D4D14572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19811-169F-4F48-8B6A-87393136A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69D0E-B927-4B70-85C8-15885BF3A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DA2D5-C92F-4671-94B8-AA83A341E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AB48E-AE66-48F0-B8DD-C76ACF45D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64DFA-FBA4-4BC3-9FC6-01E9F709A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D6CD3-4A8D-4F2F-BE1D-BE6A407B8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3743D-6A0B-4FD6-816F-5F70E7E19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8FD4C-AD04-4276-9257-9744203B9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FE3C5-4032-4489-BB5C-55CD54384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3CD5E-04F6-4B21-BC00-EADEB75BC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726E9-64A0-4AEA-8573-D84D1569D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D5022-A333-4EE2-B4F9-D559A3F9A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E7AB8-8702-42A6-94A7-F7890DF80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C01CE-511A-4E67-BD3A-3E8E073A4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B4025-643A-4089-8A06-C795F5FC9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76C51-599F-465B-93DA-A1B8B17636F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7EF08-680F-4720-B36C-5A07A208F64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609480" y="609480"/>
            <a:ext cx="7696440" cy="567720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12193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idential Survey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sk For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44792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Update to R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June 15, 200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rvey Updat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lete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proval of Survey at May TAC meeting. 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lingual versions of the cover letter and surve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RCOT website content and coding.  Website poste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urement activities with the firm to provide names for sampled address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urement activities with selected Market Research fir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rvey population (stratified by profile type and weather zone) has been identified and addresses are being validated against databas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les delivered to Market Research firm for Pilo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rvey Updat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2017800"/>
            <a:ext cx="8345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rogres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de development to validate responses regarding heating typ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une 9 is the anticipated mailing date for the Pilot. Survey results are expected 4 weeks after the mailing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uring the Phase I, the contact number provided on the survey form and website will direct respondents to ERCOT’s Load Profiling staff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Ste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alyze results from Phase I Pilot Surve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commend a Go/No-Go decision based upon accuracy, required response rate and budget constrai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-33480" y="279360"/>
            <a:ext cx="8561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rojected Residential Survey Timeline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287280" y="1047600"/>
            <a:ext cx="8739360" cy="5133960"/>
            <a:chOff x="287280" y="1047600"/>
            <a:chExt cx="8739360" cy="5133960"/>
          </a:xfrm>
        </p:grpSpPr>
        <p:sp>
          <p:nvSpPr>
            <p:cNvPr id="108" name=""/>
            <p:cNvSpPr/>
            <p:nvPr/>
          </p:nvSpPr>
          <p:spPr>
            <a:xfrm>
              <a:off x="287280" y="1047600"/>
              <a:ext cx="2105280" cy="5133960"/>
            </a:xfrm>
            <a:prstGeom prst="rect">
              <a:avLst/>
            </a:prstGeom>
            <a:solidFill>
              <a:srgbClr val="eaeae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36440" rIns="136440" tIns="639720" bIns="639720" anchor="t">
              <a:noAutofit/>
            </a:bodyPr>
            <a:p>
              <a:pPr>
                <a:spcBef>
                  <a:spcPts val="21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</a:rPr>
                <a:t>Conduct Pilot Surve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21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STF/RMS Review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21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</a:rPr>
                <a:t>TAC Review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21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onduct Full Survey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21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</a:rPr>
                <a:t>Responses provided to ERCO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21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RCOT analysis of survey respons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21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</a:rPr>
                <a:t>PWG review of analysi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382840" y="1053720"/>
              <a:ext cx="6577200" cy="51278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405160" y="1053720"/>
              <a:ext cx="53496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</a:rPr>
                <a:t>JA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954520" y="1053720"/>
              <a:ext cx="53496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</a:rPr>
                <a:t>FE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1053720"/>
              <a:ext cx="53820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</a:rPr>
                <a:t>MA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051440" y="1053720"/>
              <a:ext cx="53640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</a:rPr>
                <a:t>AP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602240" y="1053720"/>
              <a:ext cx="53496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</a:rPr>
                <a:t>MA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149800" y="1053720"/>
              <a:ext cx="53676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</a:rPr>
                <a:t>JU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699160" y="1053720"/>
              <a:ext cx="53676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</a:rPr>
                <a:t>JU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248520" y="1053720"/>
              <a:ext cx="53640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</a:rPr>
                <a:t>AU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797880" y="1053720"/>
              <a:ext cx="53640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</a:rPr>
                <a:t>SE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46880" y="1053720"/>
              <a:ext cx="53496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</a:rPr>
                <a:t>OC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896240" y="1053720"/>
              <a:ext cx="53676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</a:rPr>
                <a:t>NOV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8447040" y="1053720"/>
              <a:ext cx="53496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</a:rPr>
                <a:t>DE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H="1">
              <a:off x="2940120" y="1047600"/>
              <a:ext cx="7920" cy="5108400"/>
            </a:xfrm>
            <a:prstGeom prst="line">
              <a:avLst/>
            </a:prstGeom>
            <a:ln w="64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flipH="1">
              <a:off x="3478320" y="1047600"/>
              <a:ext cx="17280" cy="5108400"/>
            </a:xfrm>
            <a:prstGeom prst="line">
              <a:avLst/>
            </a:prstGeom>
            <a:ln w="64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044960" y="1047600"/>
              <a:ext cx="9720" cy="5108400"/>
            </a:xfrm>
            <a:prstGeom prst="line">
              <a:avLst/>
            </a:prstGeom>
            <a:ln w="64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 flipH="1">
              <a:off x="4590720" y="1047600"/>
              <a:ext cx="4680" cy="5108400"/>
            </a:xfrm>
            <a:prstGeom prst="line">
              <a:avLst/>
            </a:prstGeom>
            <a:ln w="64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 flipH="1">
              <a:off x="5129280" y="1047600"/>
              <a:ext cx="14400" cy="5108400"/>
            </a:xfrm>
            <a:prstGeom prst="line">
              <a:avLst/>
            </a:prstGeom>
            <a:ln w="64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692680" y="1047600"/>
              <a:ext cx="12960" cy="5108400"/>
            </a:xfrm>
            <a:prstGeom prst="line">
              <a:avLst/>
            </a:prstGeom>
            <a:ln w="64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243840" y="1047600"/>
              <a:ext cx="0" cy="5108400"/>
            </a:xfrm>
            <a:prstGeom prst="line">
              <a:avLst/>
            </a:prstGeom>
            <a:ln w="64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 flipH="1">
              <a:off x="6779880" y="1047600"/>
              <a:ext cx="11160" cy="5108400"/>
            </a:xfrm>
            <a:prstGeom prst="line">
              <a:avLst/>
            </a:prstGeom>
            <a:ln w="64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40760" y="1047600"/>
              <a:ext cx="15840" cy="5108400"/>
            </a:xfrm>
            <a:prstGeom prst="line">
              <a:avLst/>
            </a:prstGeom>
            <a:ln w="64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889760" y="1047600"/>
              <a:ext cx="5040" cy="5108400"/>
            </a:xfrm>
            <a:prstGeom prst="line">
              <a:avLst/>
            </a:prstGeom>
            <a:ln w="64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 flipH="1">
              <a:off x="8431200" y="1047600"/>
              <a:ext cx="7920" cy="5108400"/>
            </a:xfrm>
            <a:prstGeom prst="line">
              <a:avLst/>
            </a:prstGeom>
            <a:ln w="64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799160" y="1688760"/>
              <a:ext cx="156960" cy="149400"/>
            </a:xfrm>
            <a:prstGeom prst="ellips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e4e4f3"/>
                </a:gs>
              </a:gsLst>
              <a:lin ang="10800000"/>
            </a:gradFill>
            <a:ln w="64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643720" y="1688760"/>
              <a:ext cx="156960" cy="149400"/>
            </a:xfrm>
            <a:prstGeom prst="ellips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e3e3f3"/>
                </a:gs>
              </a:gsLst>
              <a:lin ang="10800000"/>
            </a:gradFill>
            <a:ln w="64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35" name=""/>
            <p:cNvCxnSpPr>
              <a:stCxn id="133" idx="6"/>
              <a:endCxn id="134" idx="2"/>
            </p:cNvCxnSpPr>
            <p:nvPr/>
          </p:nvCxnSpPr>
          <p:spPr>
            <a:xfrm>
              <a:off x="4956120" y="1762920"/>
              <a:ext cx="687960" cy="1080"/>
            </a:xfrm>
            <a:prstGeom prst="straightConnector1">
              <a:avLst/>
            </a:prstGeom>
            <a:ln w="19080">
              <a:solidFill>
                <a:srgbClr val="000099"/>
              </a:solidFill>
              <a:miter/>
            </a:ln>
          </p:spPr>
        </p:cxnSp>
        <p:sp>
          <p:nvSpPr>
            <p:cNvPr id="136" name=""/>
            <p:cNvSpPr/>
            <p:nvPr/>
          </p:nvSpPr>
          <p:spPr>
            <a:xfrm>
              <a:off x="5643720" y="2230200"/>
              <a:ext cx="156960" cy="1490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e2e2e2"/>
                </a:gs>
              </a:gsLst>
              <a:lin ang="10800000"/>
            </a:gra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831080" y="3185640"/>
              <a:ext cx="158760" cy="14940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e4e4e4"/>
                </a:gs>
              </a:gsLst>
              <a:lin ang="10800000"/>
            </a:gra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38" name=""/>
            <p:cNvCxnSpPr>
              <a:stCxn id="139" idx="6"/>
              <a:endCxn id="137" idx="2"/>
            </p:cNvCxnSpPr>
            <p:nvPr/>
          </p:nvCxnSpPr>
          <p:spPr>
            <a:xfrm>
              <a:off x="6419880" y="3260160"/>
              <a:ext cx="141192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sp>
          <p:nvSpPr>
            <p:cNvPr id="140" name=""/>
            <p:cNvSpPr/>
            <p:nvPr/>
          </p:nvSpPr>
          <p:spPr>
            <a:xfrm>
              <a:off x="7832880" y="4530240"/>
              <a:ext cx="156960" cy="14940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e4e4e4"/>
                </a:gs>
              </a:gsLst>
              <a:lin ang="10800000"/>
            </a:gra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599680" y="4530240"/>
              <a:ext cx="158760" cy="14940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e4e4e4"/>
                </a:gs>
              </a:gsLst>
              <a:lin ang="10800000"/>
            </a:gra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42" name=""/>
            <p:cNvCxnSpPr>
              <a:stCxn id="140" idx="6"/>
              <a:endCxn id="141" idx="2"/>
            </p:cNvCxnSpPr>
            <p:nvPr/>
          </p:nvCxnSpPr>
          <p:spPr>
            <a:xfrm>
              <a:off x="7989840" y="4604760"/>
              <a:ext cx="61056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sp>
          <p:nvSpPr>
            <p:cNvPr id="143" name=""/>
            <p:cNvSpPr/>
            <p:nvPr/>
          </p:nvSpPr>
          <p:spPr>
            <a:xfrm>
              <a:off x="2398680" y="1418760"/>
              <a:ext cx="6589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872560" y="5221080"/>
              <a:ext cx="154080" cy="152280"/>
            </a:xfrm>
            <a:prstGeom prst="ellips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e4e4f3"/>
                </a:gs>
              </a:gsLst>
              <a:lin ang="10800000"/>
            </a:gradFill>
            <a:ln w="64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604360" y="5225760"/>
              <a:ext cx="156960" cy="149040"/>
            </a:xfrm>
            <a:prstGeom prst="ellips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e4e4f3"/>
                </a:gs>
              </a:gsLst>
              <a:lin ang="10800000"/>
            </a:gradFill>
            <a:ln w="64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46" name=""/>
            <p:cNvCxnSpPr>
              <a:stCxn id="145" idx="6"/>
              <a:endCxn id="144" idx="2"/>
            </p:cNvCxnSpPr>
            <p:nvPr/>
          </p:nvCxnSpPr>
          <p:spPr>
            <a:xfrm flipV="1">
              <a:off x="8760960" y="5296320"/>
              <a:ext cx="111960" cy="3960"/>
            </a:xfrm>
            <a:prstGeom prst="straightConnector1">
              <a:avLst/>
            </a:prstGeom>
            <a:ln w="19080">
              <a:solidFill>
                <a:srgbClr val="000099"/>
              </a:solidFill>
              <a:miter/>
            </a:ln>
          </p:spPr>
        </p:cxnSp>
        <p:sp>
          <p:nvSpPr>
            <p:cNvPr id="139" name=""/>
            <p:cNvSpPr/>
            <p:nvPr/>
          </p:nvSpPr>
          <p:spPr>
            <a:xfrm>
              <a:off x="6261120" y="3185640"/>
              <a:ext cx="158760" cy="14940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e4e4e4"/>
                </a:gs>
              </a:gsLst>
              <a:lin ang="10800000"/>
            </a:gra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47" name=""/>
            <p:cNvCxnSpPr>
              <a:stCxn id="136" idx="6"/>
            </p:cNvCxnSpPr>
            <p:nvPr/>
          </p:nvCxnSpPr>
          <p:spPr>
            <a:xfrm flipV="1">
              <a:off x="5800320" y="2299320"/>
              <a:ext cx="134280" cy="540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sp>
          <p:nvSpPr>
            <p:cNvPr id="148" name=""/>
            <p:cNvSpPr/>
            <p:nvPr/>
          </p:nvSpPr>
          <p:spPr>
            <a:xfrm>
              <a:off x="5916600" y="2230200"/>
              <a:ext cx="157320" cy="1490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e2e2e2"/>
                </a:gs>
              </a:gsLst>
              <a:lin ang="10800000"/>
            </a:gra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261120" y="2687400"/>
              <a:ext cx="157320" cy="149040"/>
            </a:xfrm>
            <a:prstGeom prst="ellips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e4e4f3"/>
                </a:gs>
              </a:gsLst>
              <a:lin ang="10800000"/>
            </a:gradFill>
            <a:ln w="64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832880" y="3838320"/>
              <a:ext cx="156960" cy="149040"/>
            </a:xfrm>
            <a:prstGeom prst="ellips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e4e4f3"/>
                </a:gs>
              </a:gsLst>
              <a:lin ang="10800000"/>
            </a:gradFill>
            <a:ln w="64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1T15:13:16Z</dcterms:created>
  <dc:creator>jtayl13</dc:creator>
  <dc:description/>
  <dc:language>en-US</dc:language>
  <cp:lastModifiedBy>A. Boren</cp:lastModifiedBy>
  <dcterms:modified xsi:type="dcterms:W3CDTF">2005-06-08T13:40:15Z</dcterms:modified>
  <cp:revision>16</cp:revision>
  <dc:subject/>
  <dc:title>Residential Survey  Task For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334967883</vt:r8>
  </property>
  <property fmtid="{D5CDD505-2E9C-101B-9397-08002B2CF9AE}" pid="3" name="_AuthorEmail">
    <vt:lpwstr>lcao@entergy.com</vt:lpwstr>
  </property>
  <property fmtid="{D5CDD505-2E9C-101B-9397-08002B2CF9AE}" pid="4" name="_AuthorEmailDisplayName">
    <vt:lpwstr>CAO-CONN, LAN</vt:lpwstr>
  </property>
  <property fmtid="{D5CDD505-2E9C-101B-9397-08002B2CF9AE}" pid="5" name="_EmailSubject">
    <vt:lpwstr>Residential Survey Taskforce Update to RMS</vt:lpwstr>
  </property>
  <property fmtid="{D5CDD505-2E9C-101B-9397-08002B2CF9AE}" pid="6" name="_ReviewingToolsShownOnce">
    <vt:lpwstr/>
  </property>
</Properties>
</file>