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4B2-C58E-4271-9E5A-A2530BC8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9A5-6010-4AF9-8CDE-33E3A761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CE0-5EB3-4161-B14B-10006A2F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908-1463-440C-B959-A8F17F7C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FF3-9749-4FA4-8826-179F9A0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AE5-E095-4D97-B281-1CF894A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8B1-74E8-4426-8578-B605122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286-DD1B-4423-80D2-2AA8AA4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05D-600D-49FA-B03D-3A1BB4F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77C-D34D-4F28-8E5E-8E94CFA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BEF-EE90-4BED-8827-62C70D5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C97-E4DA-4ECC-8B46-E92E82C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AE5-A97E-4DE9-9851-0FA3CA35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4A8-1CC5-43FA-B897-086C14CFCD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3886200"/>
          <a:ext cx="5972400" cy="217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6200"/>
                    <a:ext cx="597240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84D-DE75-41C6-B7AB-8AE945AD8A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4 issues = 224,4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274-416C-4066-B637-6546D5364C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,1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B3E-4446-4604-BDC2-D4BC1CF531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6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5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3,9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,0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9760" y="1447920"/>
          <a:ext cx="517824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47920"/>
                    <a:ext cx="51782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19F-8B11-4F63-8968-113C23646E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64960" y="1752480"/>
          <a:ext cx="8169480" cy="367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1752480"/>
                    <a:ext cx="81694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 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1F6-4105-4B88-82BD-A8761A7BAA0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0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1447920"/>
          <a:ext cx="7442280" cy="29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4228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CD8-4D2B-4E1A-BBAF-9166EE92A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305920" cy="25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8D6-6C7A-46A2-9472-E86E06545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2012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BDA-9A7F-4993-8E94-E8DD657AFE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36760"/>
            <a:ext cx="7848720" cy="44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429-8A52-4077-A91A-3DCE4799C6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70F-D8E4-4A84-B637-00C2580D2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BFB-B31F-4034-8621-5B66CC517F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56272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above includes only data since August 2004 TX SET 2.0 Implement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cancellation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CFD-7780-4748-AF17-AF9A3ECCB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45E-8EDB-49CE-850F-8D42544B8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/03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4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12C-8CB7-470B-B205-CAE2FB4709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6-08T14:22:51Z</dcterms:modified>
  <cp:revision>566</cp:revision>
  <dc:subject/>
  <dc:title>PowerPoint Presentation</dc:title>
</cp:coreProperties>
</file>