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363618-F010-44A4-9D06-F1BD6D465C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A298E-2CFE-40CB-B371-F5C2E8542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6DEF7-1B95-45B6-88AF-DC401D212D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BA4137-09D0-4F13-82D8-77756085E6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57CB2-6EBD-4D31-9751-C157E3F6D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5B6F9-6746-47DD-8829-A5DECDBF1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CC269-2AA5-4231-9475-F2E378368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96843-BB9D-4BFC-BF70-F987AB51F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76212-1110-48A6-855E-117CB88C4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70772-6A80-4DC9-A6C4-CF5DFC9E3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54534-A85B-4EA2-8D3F-777721412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B6F8D-A340-4019-942F-E7A0EAE822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9C657-B540-4B07-AE0E-B7340084F51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7086600" y="152280"/>
            <a:ext cx="1828800" cy="982800"/>
          </a:xfrm>
          <a:prstGeom prst="rect">
            <a:avLst/>
          </a:prstGeom>
          <a:ln w="0">
            <a:noFill/>
          </a:ln>
        </p:spPr>
      </p:pic>
      <p:sp>
        <p:nvSpPr>
          <p:cNvPr id="6" name=""/>
          <p:cNvSpPr/>
          <p:nvPr/>
        </p:nvSpPr>
        <p:spPr>
          <a:xfrm>
            <a:off x="380880" y="1219320"/>
            <a:ext cx="8305920" cy="7596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000" bIns="3600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txBox="1"/>
          <p:nvPr/>
        </p:nvSpPr>
        <p:spPr>
          <a:xfrm>
            <a:off x="228600" y="380880"/>
            <a:ext cx="1285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8000"/>
                  </a:solidFill>
                  <a:miter/>
                </a:ln>
                <a:solidFill>
                  <a:srgbClr val="33cccc"/>
                </a:solidFill>
                <a:effectLst>
                  <a:outerShdw dist="17819" dir="2700000" blurRad="0" rotWithShape="0">
                    <a:srgbClr val="990000"/>
                  </a:outerShdw>
                </a:effectLst>
                <a:latin typeface="Impact"/>
              </a:rPr>
              <a:t>TDTWG</a:t>
            </a:r>
            <a:endParaRPr b="0" lang="en-US" sz="2400" spc="1" strike="noStrike">
              <a:ln w="19080">
                <a:solidFill>
                  <a:srgbClr val="008000"/>
                </a:solidFill>
                <a:miter/>
              </a:ln>
              <a:solidFill>
                <a:srgbClr val="33cccc"/>
              </a:solidFill>
              <a:effectLst>
                <a:outerShdw dist="17819" dir="2700000" blurRad="0" rotWithShape="0">
                  <a:srgbClr val="990000"/>
                </a:outerShdw>
              </a:effectLst>
              <a:latin typeface="Impact"/>
              <a:ea typeface="Impac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752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DTWG </a:t>
            </a:r>
            <a:br>
              <a:rPr sz="4400"/>
            </a:br>
            <a:r>
              <a:rPr b="0" lang="en-US" sz="4400" spc="-1" strike="noStrike">
                <a:solidFill>
                  <a:srgbClr val="000000"/>
                </a:solidFill>
                <a:latin typeface="Arial"/>
              </a:rPr>
              <a:t>Report to RMS</a:t>
            </a:r>
            <a:endParaRPr b="0" lang="en-US" sz="4400" spc="-1" strike="noStrike">
              <a:solidFill>
                <a:srgbClr val="000000"/>
              </a:solidFill>
              <a:latin typeface="Arial"/>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ess of SCR745</a:t>
            </a:r>
            <a:endParaRPr b="0" lang="en-US" sz="3200" spc="-1" strike="noStrike">
              <a:solidFill>
                <a:srgbClr val="000000"/>
              </a:solidFill>
              <a:latin typeface="Arial"/>
            </a:endParaRPr>
          </a:p>
        </p:txBody>
      </p:sp>
      <p:sp>
        <p:nvSpPr>
          <p:cNvPr id="47" name=""/>
          <p:cNvSpPr/>
          <p:nvPr/>
        </p:nvSpPr>
        <p:spPr>
          <a:xfrm>
            <a:off x="6632640" y="5911920"/>
            <a:ext cx="2323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dnesday, June 1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9A42B014-D038-4729-A410-55F5028E9266}" type="slidenum">
              <a:t>1</a:t>
            </a:fld>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ess for SCR745</a:t>
            </a:r>
            <a:endParaRPr b="0" lang="en-US" sz="3200" spc="-1" strike="noStrike">
              <a:solidFill>
                <a:srgbClr val="000000"/>
              </a:solidFill>
              <a:latin typeface="Arial"/>
            </a:endParaRPr>
          </a:p>
        </p:txBody>
      </p:sp>
      <p:sp>
        <p:nvSpPr>
          <p:cNvPr id="49" name="PlaceHolder 2"/>
          <p:cNvSpPr>
            <a:spLocks noGrp="1"/>
          </p:cNvSpPr>
          <p:nvPr>
            <p:ph/>
          </p:nvPr>
        </p:nvSpPr>
        <p:spPr>
          <a:xfrm>
            <a:off x="228600" y="1523880"/>
            <a:ext cx="8763120" cy="5029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DTWG has been monitoring ERCOT System Outages since SCR745 was released to the Market for the 21 day comment period.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DTWG met on June 8</a:t>
            </a:r>
            <a:r>
              <a:rPr b="1" lang="en-US" sz="1400" spc="-1" strike="noStrike" baseline="30000">
                <a:solidFill>
                  <a:srgbClr val="000000"/>
                </a:solidFill>
                <a:latin typeface="Arial"/>
              </a:rPr>
              <a:t>th</a:t>
            </a:r>
            <a:r>
              <a:rPr b="1" lang="en-US" sz="1400" spc="-1" strike="noStrike">
                <a:solidFill>
                  <a:srgbClr val="000000"/>
                </a:solidFill>
                <a:latin typeface="Arial"/>
              </a:rPr>
              <a:t> and reviewed those outages</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DTWG is confident that the two outages that occurred since SCR745 was created will also be addressed in the detailed evaluation to be done by ERCOT. This is due to the fact that the systems that caused the outages were already identified in SCR745. </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addition TDTWG will continue to monitor ERCOT outages, provide expertise as needed and work with ERCOT and RMS to ensure all future outages are addressed</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an effort to immediately move forward TDTWG is asking RMS to vote to recommend approval of SCR745 to TAC and ultimately the ERCOT Board.  Once the SCR 745 is considered by TAC, it is forwarded to the Board. Approval of SCR745 by the Board will allow ERCOT to perform a full evaluation of systems and processes as defined in SCR745.</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DTWG fully believes that the only method for ensuring a successful approach for resolution is to begin with this full evaluation.  </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the SCR745 is complete, ERCOT will present options for resolving.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ce RMS has determined the option(s) that best meets the needs of the Market, a separate SCR will be needed for implementation of that option. </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83779C54-0FE0-4F4A-9CEB-B31A88A4BDC4}" type="slidenum">
              <a:t>2</a:t>
            </a:fld>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on</a:t>
            </a:r>
            <a:endParaRPr b="0" lang="en-US" sz="2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 approval of SCR745 with the scope to  perform a full evaluation of the retail systems and determine possibilities for resolving and eliminating ERCOT system outages.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ADE99AB-74C1-4426-9B09-B15FB07A8E9C}" type="slidenum">
              <a:t>3</a:t>
            </a:fld>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C6433B8F-315D-4ECC-BEAB-450C82227E68}" type="slidenum">
              <a:t>4</a:t>
            </a:fld>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Registered User</cp:lastModifiedBy>
  <cp:lastPrinted>2002-09-24T18:27:58Z</cp:lastPrinted>
  <dcterms:modified xsi:type="dcterms:W3CDTF">2005-06-13T22:21:34Z</dcterms:modified>
  <cp:revision>356</cp:revision>
  <dc:subject/>
  <dc:title>PowerPoint Presentation</dc:title>
</cp:coreProperties>
</file>