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BA77-37CD-4283-A329-140B114B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82C2-FECB-45A6-858F-799B2218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CABC-CAA0-411F-83D5-5416F325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83F3-0D5B-4761-A0CC-E72D9656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6E82-EDC5-4BA1-A06C-3D2AE04B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1AD-09FD-4A2C-9DB1-06F72981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85C1-DC03-4316-8855-B2442148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3BC1-CA81-47C9-AF9F-80969F82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3265-A7B8-4399-AA84-4FA0DD6A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107-7F64-42A7-856F-3037F0E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786-0ACC-43EB-A572-E1ABBCA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1DC6-2528-4A4A-9858-9B07102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AB80-03E6-42D0-9566-1D8F3EA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E912-9B41-42F7-9018-A04A348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2CB1-8D50-46C6-BCB9-373C000B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4F7F-0245-4B95-9EB6-D12E341A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7374-A0FC-44FB-B78B-D6E39E2C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0E42-B746-4BE3-B9D1-5AAD217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7DEC-AC38-4183-827B-EA68DA43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5BB5-4B4A-4B52-B4FF-54E7C454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330A-A1F4-4959-8438-CA8932A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F98C-7945-4DF8-B281-F345491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003D-6469-4470-811F-9488225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6721-E91A-4987-9ED6-6CE9288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2918-67C7-4377-9E08-44521159F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DD3E-5B44-4051-B9C8-9AFFBB8A6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ne 15, 20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port to R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2680"/>
            <a:ext cx="26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MGRR00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Submit TTPT Working Group Procedures for inclusion in 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T Procedures defin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TT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TPT Meeting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rs, Membership, and election guidelines for TT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for Test Scripts development and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for Test Flight Schedule development and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of the Texas Market Test Plan (TM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A. Boren</cp:lastModifiedBy>
  <dcterms:modified xsi:type="dcterms:W3CDTF">2005-06-08T13:44:10Z</dcterms:modified>
  <cp:revision>58</cp:revision>
  <dc:subject/>
  <dc:title>TTPT RMS April Report</dc:title>
</cp:coreProperties>
</file>