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EDAD-07B2-4056-A4C2-E439EA71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9F46-1232-49E9-B519-37DF06EB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64F6-0ADE-40F8-B469-9B0156C5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C57-EBD0-44D1-8EB2-01FDCC29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BFF6-D1F0-4215-930D-DDF70DA1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49BE-BCA2-4E8B-BF1B-BF2721D0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FE0D-791F-44F4-B3F4-B89C8DE4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3092-D5DC-49E6-BC87-7718BCBA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417B-AF7F-4FFB-A4D1-5B8DB020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432F-1FEF-4B1A-9450-0DBD0899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C52-C850-41CD-ABB0-D205E6A8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F4B-76E6-4345-818F-7BF53AF3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89C7-223F-4CAA-9BD3-BA8AE2CD0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514600"/>
            <a:ext cx="81532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n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 Data Extract Variance Repo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CR DEV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of 99 Competitive Retailers reported numbers by the due date for May (06/02/0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of 11 Competitive Retailers that filed DEV Issues within the 90 days proceeding the reporting deadline reported numb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for July RMS (June Reports) are due by July 5,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80880" y="1523880"/>
          <a:ext cx="8457840" cy="4419360"/>
        </p:xfrm>
        <a:graphic>
          <a:graphicData uri="http://schemas.openxmlformats.org/drawingml/2006/table">
            <a:tbl>
              <a:tblPr/>
              <a:tblGrid>
                <a:gridCol w="2366640"/>
                <a:gridCol w="1599840"/>
                <a:gridCol w="1629000"/>
                <a:gridCol w="1432080"/>
                <a:gridCol w="1430280"/>
              </a:tblGrid>
              <a:tr h="106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7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,3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,6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,0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,2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1523880"/>
          <a:ext cx="8305200" cy="4571640"/>
        </p:xfrm>
        <a:graphic>
          <a:graphicData uri="http://schemas.openxmlformats.org/drawingml/2006/table">
            <a:tbl>
              <a:tblPr/>
              <a:tblGrid>
                <a:gridCol w="2323800"/>
                <a:gridCol w="1571040"/>
                <a:gridCol w="1599480"/>
                <a:gridCol w="1406520"/>
                <a:gridCol w="1404360"/>
              </a:tblGrid>
              <a:tr h="109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7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80880" y="1523880"/>
          <a:ext cx="8229240" cy="4647960"/>
        </p:xfrm>
        <a:graphic>
          <a:graphicData uri="http://schemas.openxmlformats.org/drawingml/2006/table">
            <a:tbl>
              <a:tblPr/>
              <a:tblGrid>
                <a:gridCol w="2302560"/>
                <a:gridCol w="1556640"/>
                <a:gridCol w="1585080"/>
                <a:gridCol w="1393560"/>
                <a:gridCol w="1391400"/>
              </a:tblGrid>
              <a:tr h="111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5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XU Electric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04920" y="1447920"/>
          <a:ext cx="8381520" cy="4647600"/>
        </p:xfrm>
        <a:graphic>
          <a:graphicData uri="http://schemas.openxmlformats.org/drawingml/2006/table">
            <a:tbl>
              <a:tblPr/>
              <a:tblGrid>
                <a:gridCol w="2345040"/>
                <a:gridCol w="1585440"/>
                <a:gridCol w="1614240"/>
                <a:gridCol w="1419480"/>
                <a:gridCol w="1417320"/>
              </a:tblGrid>
              <a:tr h="111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6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7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7,9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,3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,7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y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04920" y="1523880"/>
          <a:ext cx="8381520" cy="4952880"/>
        </p:xfrm>
        <a:graphic>
          <a:graphicData uri="http://schemas.openxmlformats.org/drawingml/2006/table">
            <a:tbl>
              <a:tblPr/>
              <a:tblGrid>
                <a:gridCol w="2345040"/>
                <a:gridCol w="1585440"/>
                <a:gridCol w="1614240"/>
                <a:gridCol w="1419480"/>
                <a:gridCol w="1417320"/>
              </a:tblGrid>
              <a:tr h="119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1523880"/>
          <a:ext cx="8457840" cy="4571640"/>
        </p:xfrm>
        <a:graphic>
          <a:graphicData uri="http://schemas.openxmlformats.org/drawingml/2006/table">
            <a:tbl>
              <a:tblPr/>
              <a:tblGrid>
                <a:gridCol w="2366640"/>
                <a:gridCol w="1599840"/>
                <a:gridCol w="1629000"/>
                <a:gridCol w="1432080"/>
                <a:gridCol w="1430280"/>
              </a:tblGrid>
              <a:tr h="109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. Boren</cp:lastModifiedBy>
  <cp:lastPrinted>2002-09-24T18:27:58Z</cp:lastPrinted>
  <dcterms:modified xsi:type="dcterms:W3CDTF">2005-06-08T14:23:32Z</dcterms:modified>
  <cp:revision>295</cp:revision>
  <dc:subject/>
  <dc:title>PowerPoint Presentation</dc:title>
</cp:coreProperties>
</file>