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1B67-CC2D-4AE1-9447-D1D96C373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9BB0-C617-45D4-9D19-6E091AF5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77D8-3810-4F66-A018-D8CF3D4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8EC4-4E0C-4D58-A6A2-FD474F95D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24A4-B8DE-499C-8D29-624E267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74E3-6618-48E7-AD83-6D05F5F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6C5D-BB65-435C-950C-6CE736EB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43B6-5E49-47C9-A9D5-CD8828B8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1B05-3D10-488F-91F5-60F44844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F4A5-8080-4E8B-9C90-9D60309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F46C-BAB1-4AFB-A81F-632DAF5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5803-9B3E-4A48-87D2-2365935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438C-8B07-4FBD-90F2-C51878807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1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64AA-2C11-4982-9B8D-1AED89D362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19400"/>
            <a:ext cx="845820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 TDSPs are complete as of June 9,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Great Job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TDSP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ERCOT Load Profiling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2005 Algorithm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9A53-3580-4C69-9546-82359293464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19400"/>
            <a:ext cx="845820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ff"/>
                </a:solidFill>
                <a:uFillTx/>
                <a:latin typeface="Arial"/>
                <a:ea typeface="Arial"/>
              </a:rPr>
              <a:t>Action item copied from March 23, 2005 PWG meeting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Ps shall do one of the following by mid Ju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DSPs shall utilize 727 extracts to compare the TDSP’s Profile ID, and status for each ESIID and provide a list of ESIIDs that are out of sync. The report shall contain ESIID, TDSP Profile ID, ERCOT Profile ID, TDSP Status code, ERCOT Status Co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DSP shall create a file containing a complete list of ESIIDs, TDSP Profile ID, and TDSP Status codes for their population.  The TDSP shall coordinate a snapshot day with ERCOT staff prior to creating the file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TATUS as of 6/7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One TDSP complet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ll others TDSPs are working on the action i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2005 Action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139D-2920-4944-9FED-DAB452790B0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19400"/>
            <a:ext cx="84582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4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 of Profile Type Assignment for RES and BUS Profile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DSPs shall utilize the historical usage and demand data in their databases to derive Usage Month values for each Active and De-Energized ESI ID for the time period specified in the current Profile Decision Tre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DSPs shall determine the Profile Segment for each Active and De-Energized ESI ID in their service territory, based on the current Profile Decision Tree.  TDSPs shall provide a report to ERCOT listing the ESI IDs, current Profile ID, and the recommended Profile ID for those ESI IDs that require a change in Profile ID assignment.  An electronic copy of this report shall be delivered to ERCOT no later th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une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2005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C362-404F-4570-9A7C-3A4F91766AB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5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A. Boren</cp:lastModifiedBy>
  <dcterms:modified xsi:type="dcterms:W3CDTF">2005-06-14T20:25:04Z</dcterms:modified>
  <cp:revision>125</cp:revision>
  <dc:subject/>
  <dc:title>PowerPoint Presentation</dc:title>
</cp:coreProperties>
</file>