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7F3-D0AE-4AC2-B015-3BE2F94A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81F-18D4-4DEC-A09B-D22E8EDA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05F-426D-46D0-B738-8C3CD5ED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C0B-92C3-45D1-8A36-599F952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914-3A61-4712-A2ED-A382810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497-1B0A-44C4-A0CF-ABEC9A7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FEC-50CA-4CA8-8131-78343E1E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A85-2A42-416E-AD3E-66F8AA9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E4B-ACBC-492B-80B0-FAEE977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EB7-C31C-422A-B5F7-9008C5F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427-D014-4759-924F-F3631D1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300-47A8-4DB7-847E-1D4B063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9688-08CD-4899-BC24-FD9376B2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00F-7A3F-4210-9DF2-A0C1AB786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F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04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completed on time as scheduled with all testing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E6C-A8C5-4493-A6FE-BF96DD386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ew REPs – 7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ew Umbrella DUNS – 13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xisting REP testing in new territory – 5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4800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E41-B89C-4A10-B944-4900F9C510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Jun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Matrix was sent out Jun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beds are due Jun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will begin Jun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 for June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a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944-711B-45AF-A46C-869F67DB4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begins June 14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 kick off call Friday June 27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start to flow Monday June 30th at 8:00 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July RMS (7/13/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scheduled to be on Day 13 of Flight 07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should b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August RMS (8/10/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scheduled to be on Day 33 of Flight 07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0705 scheduled to complete on 8/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461-A413-4D57-8FE2-E040FDA02C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6-10T20:01:05Z</dcterms:modified>
  <cp:revision>367</cp:revision>
  <dc:subject/>
  <dc:title>PowerPoint Presentation</dc:title>
</cp:coreProperties>
</file>