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5289-082B-434A-B2EC-DB54F5A6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6622-FEDA-4EBC-BAF3-3933E6E2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8FE5-6EDC-4303-A7B3-CA130568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1157-4D74-4726-81E3-D7460E66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E62D-2A0F-441A-B240-CA62CDA8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0F5A-A20B-45D5-84EA-415B6EBF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70DC-DE4A-4B18-AF2E-FA23697E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26C8-A554-4F8A-8572-F275261D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E79C-C555-41E2-9882-7532E4F3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C961-3261-4EB2-85FA-38AD0BAC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854F-FE23-4B07-80E1-C0744264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7CF5-6C0E-4964-BD44-9536A9FD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96F1-3622-451B-960F-70543382D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June 15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A403-B0A5-4ABB-9B9D-5322480936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PS Upd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523880"/>
            <a:ext cx="838188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COPS voted to recommend to TAC several changes to the proposed TAC Procedures (included in Cheryl’s presenta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COPS identified 10 projects for 2006 needing Cost Benefit Analysis and will hold a special meeting to June 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COPS continues to refine Transition Plan for moving Initial Settlement from 17 to 10 days and will make a recommendation at July TAC mee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ERCOT staff reviewed planned timing changes to LodeStar Extracts (including Settlement and 727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3F1A-1DF3-4549-9019-BC04BF7601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PS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ay Ahead Market Settlement Training workshop was given by Randy Jones and Clayton Gre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PS identified 5 Settlement timeline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ill recommend one option and complete draft Protocol language at June 14 special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s part of the ongoing review of ADR (looking forward) COPS has scheduled a combined workshop with RMS / DEV taskforce June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49DA-CDCB-465B-AF33-1A7B80DF00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A. Boren</cp:lastModifiedBy>
  <dcterms:modified xsi:type="dcterms:W3CDTF">2005-06-08T13:30:11Z</dcterms:modified>
  <cp:revision>129</cp:revision>
  <dc:subject/>
  <dc:title>Point-to-Point</dc:title>
</cp:coreProperties>
</file>