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572-BDDE-41D7-A48D-3C488A20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C56-72D7-41AF-8F93-755E4935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1BE-D991-4F39-9960-4719D2C8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00C-4C5D-45FB-A017-53376E88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6B5-7ECB-41B9-BE5F-BB2CB513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6E8-6F9B-45E8-86DF-40A35688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765-895B-4377-A467-D59CFDFB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BC6-4B68-47B4-A0D8-60A39350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0AB-BE2E-4B5D-BAFF-AB87736A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CEC-0E59-4B8D-8C9A-2BA35DF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612-D828-4115-9593-333840AD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A23-2292-4756-BB60-93473CD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7B20-6211-4966-BF7F-FEEC3FF6D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of 99 Competitive Retailers reported numbers by the due date for May (06/02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1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July RMS (June Reports) are due by July 5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523880"/>
          <a:ext cx="8457840" cy="441936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06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,3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,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,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,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523880"/>
          <a:ext cx="8305200" cy="457164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480"/>
                <a:gridCol w="1406520"/>
                <a:gridCol w="140436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523880"/>
          <a:ext cx="8305560" cy="457164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840"/>
                <a:gridCol w="1406520"/>
                <a:gridCol w="140436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,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447920"/>
          <a:ext cx="8381520" cy="4647600"/>
        </p:xfrm>
        <a:graphic>
          <a:graphicData uri="http://schemas.openxmlformats.org/drawingml/2006/table">
            <a:tbl>
              <a:tblPr/>
              <a:tblGrid>
                <a:gridCol w="2345040"/>
                <a:gridCol w="1585440"/>
                <a:gridCol w="1614240"/>
                <a:gridCol w="1419480"/>
                <a:gridCol w="141732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6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,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,7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2345040"/>
                <a:gridCol w="1585440"/>
                <a:gridCol w="1614240"/>
                <a:gridCol w="1419480"/>
                <a:gridCol w="1417320"/>
              </a:tblGrid>
              <a:tr h="11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523880"/>
          <a:ext cx="8457840" cy="457164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5-06-10T15:14:41Z</dcterms:modified>
  <cp:revision>296</cp:revision>
  <dc:subject/>
  <dc:title>PowerPoint Presentation</dc:title>
</cp:coreProperties>
</file>