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919-58D3-4222-9325-8387F758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9AF-D6E7-48D3-A5A0-D9E41FA6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798-FBE3-4091-840D-E01B530F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AF1-4F20-4593-9A59-5BC2850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69C-AB66-4B22-9AC2-52282AED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82DE-AA06-4198-A462-E135F7D4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01B-3DC3-4409-854D-7EBD3406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356-4546-45F3-8131-0D7E4D5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BEC2-A3BF-438F-9BEE-F3974AD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FDED-5DE2-42D8-B24B-A4A1E600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1CC-96BC-4F90-BE12-7E9A867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67A-ECDE-40AF-A3C4-F043375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EE5F-4DF2-413F-B199-DCF8BB8A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7B63-2B45-439E-8FA3-FFFB256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1BDD-4390-4563-A8D8-DDF9A6C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50ED-97CD-4D13-863E-10F73B9D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E3AD-8B2E-4FD9-AFA8-B5B84AA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5F28B-5B7F-4C8D-959E-D24B7001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43B41-F957-4C5D-8609-4BBC4C5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AE183-C2CF-403B-AF47-1DF7E94D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223B5-A560-428E-8EA1-B92E974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C1468-240D-471E-943A-373A3D65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939-CB85-4CE1-8986-DA20ED3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C5B37-F90C-49F3-80BB-23E19D7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365C-EED7-4FDA-8F4C-81ED29C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2E6E1-0774-468F-B540-48E48CD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71B86-A1A1-44B5-9E2D-2B8A84F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A3ABD-7689-4383-9D43-70089EC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91E5E-EBD9-4883-BF07-195C3E1C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69F77-5AE2-4E52-94D1-2A6F640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D6AE-B0ED-4A43-B76A-4DACC1C7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9048-A304-4C92-9E60-6ADFB16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F665-C95D-4F12-BB8C-39C62C4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3BD-B2A5-44DA-89A5-56267AD5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613FE-5F8D-48BF-A29F-48346B0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8298-EFF1-464B-AE69-E9AEFB9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D197-B56B-4E99-BE91-CF51E55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22F0-29C2-443E-B006-58E6DCE2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E19A-0A08-4931-B920-99EAAAE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8B6F-CBEB-48DA-B7F4-95F8255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C90D-01BE-41FA-9604-8AFB6D04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2927-413C-4379-936C-A49E3A1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180A-F2A3-4CB5-BB96-70ACF11C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01C-1FAE-423D-B73D-7DF82D3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CE6-7DDF-490C-BE05-97BACF6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F1D-169E-420D-AE81-187F85C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F61-8244-4874-8279-EE19723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761-CD81-4B49-9BAC-5D685AD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ADC-0309-4EDD-9D7F-283B502A0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08FB-BCD8-4C28-985C-DF65002FC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B81E-C48D-4271-B7A1-E6F8B7F23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045-7DB4-462A-A4FF-573894BC5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S Project requiring CB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L Phase 3 – Wholesale enhancements (includes Dispute tool Improv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Tie Transaction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R Sync with Cre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ttlement 17 – 10 Days (may not be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of Settlement Timeline (Placeho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G – Retail 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G – Wholesale 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G – Web Services 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G – TDSP Load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G – Disputes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6:22:25Z</dcterms:created>
  <dc:creator>bday</dc:creator>
  <dc:description/>
  <dc:language>en-US</dc:language>
  <cp:lastModifiedBy>thailu</cp:lastModifiedBy>
  <dcterms:modified xsi:type="dcterms:W3CDTF">2005-06-01T13:58:01Z</dcterms:modified>
  <cp:revision>36</cp:revision>
  <dc:subject/>
  <dc:title>Proposed Timeline</dc:title>
</cp:coreProperties>
</file>