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0AC-D770-438F-BE14-E0C60E7F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7AD-8607-4E0E-87C5-AC2F1789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81D-9D73-4D6D-8842-EC78502F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B14-71D2-4F4E-A8FB-2F3F2940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A212-96FB-4198-A965-EC6C12F7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56A9-BBCE-4074-AEE0-783E08CE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B596-59B9-4171-B094-28000FBB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4C6-98DF-44CE-8C5A-E8CCB30C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B30C-F321-42D2-AA39-7C5A46D1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E5BB-D1FE-4D43-BCEA-6DA85DAF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9B57-8C97-4FA2-B5F7-3A4926D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57D-795C-4122-A2DC-2EF4E475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40AB-45C6-4145-B0BC-2FAFCC4B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C7F4-66E8-4B2A-8F91-7E8968B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110C-6C77-4444-8C4D-77937ABE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7A1A-BB43-4C06-98EE-0DA4EF64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A8DA-C706-4BF3-8683-0D365985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FDFF3-8FCD-47C3-8B2B-DB9F3FB8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E4812-2F1C-43D2-AEE8-B35A6D15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671A2-A0C2-41F8-89D7-7FFB9A9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34C6F-1795-4701-BDDA-A01F26A7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FA8ED-2F31-41E9-9FEB-63F3E2E5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B4E-1D41-4621-ABB5-0F2039F3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C4362-855D-4812-876F-8D65CC45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7B870-FDB4-4E3D-B2CC-64ECEC99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7D572-6FD2-4338-B012-43BA0969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27022-AFC5-4281-A774-BAEF6AF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29D2D-7CB3-48D6-9D68-EAD10869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73F24-7023-42AB-BBD4-AE4A13E5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D9724-D3A1-45FF-9F5F-223CBAE2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97A2-C56D-4495-A955-335A852A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83011-020F-4552-9B3E-E19353F8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4BE54-3F13-4D86-9EBB-E725816A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FE5-E497-4CE8-9AC8-31BFF904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4369-EED8-4942-A3C7-27498581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FAE4-C0DD-444C-92A1-D977ACE6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4074-E7E5-4FD5-B45B-1E15A799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E19C-027F-436A-A92C-D7047A72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4D44-C7A5-46FE-BF33-E5467BD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B363-E8E9-4209-9C65-D6BD7F9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A33A-6D02-4137-B932-A1A00A13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5B5E0-22B5-4693-9DF0-506C38FD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953F4-40BB-427F-9421-1A9626D8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FCD-03B0-470B-9D84-5AAE96A1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B94-AAA9-4432-9DC3-47064D82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DCE-9684-4B88-91B7-0A8FA6BB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7BD-46F5-424A-AD9B-42689DF8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F1E-0084-443B-8F8D-6E48D4EA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C76F-2B66-46A8-A4B3-0E8969C45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122-1781-430D-B8BD-FD7CA45D1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2FD7-EE09-4A2F-8354-6A6F93CD4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D2F4-F765-4D6B-A0BC-1922457C6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S June 2005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568 Transition Plan Conf C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ving init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s from 17 to 10 days after the operating 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ine for ranking DAM Timelin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568 Transition Plan Conf C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S Me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termine DAM Timelin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BA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es will be tak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tracts Working Group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 and DEV joint workshop on re-writ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ment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568 Transition Plan Conf C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working group Conf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6:22:25Z</dcterms:created>
  <dc:creator>bday</dc:creator>
  <dc:description/>
  <dc:language>en-US</dc:language>
  <cp:lastModifiedBy>A. Boren</cp:lastModifiedBy>
  <dcterms:modified xsi:type="dcterms:W3CDTF">2005-06-13T13:37:19Z</dcterms:modified>
  <cp:revision>38</cp:revision>
  <dc:subject/>
  <dc:title>Proposed Timeline</dc:title>
</cp:coreProperties>
</file>