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C162-5319-4160-A1C9-D5CD1B34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E83A-0C1E-46A3-BF28-2231737E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14A7-4702-40C3-A1E8-1B25F922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4EEA-6BCA-48C7-BEC3-3C75C32C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347F-EB45-4E16-AC6F-47171143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5DE0-8418-4EA0-99E5-6F8AC9FD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ECCA-8FDC-4979-9FFC-A3CD3FC1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9B4A-BCEB-461B-BB11-1F5AB37E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F66B-9285-4911-998B-70FD6299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FC02-6BC3-49D7-9CDB-56D65D29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0AB6-96D0-44EF-8743-CE968AC6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179-20E9-4955-A764-C79A7F91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3C19-61A6-45F2-9933-46E04E90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8C84-C720-4DC7-8F58-FBACF89A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F1E1-1822-4C96-999A-46D6F6DA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DDB9-7D1B-40CE-ADF0-D682B02E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0E08-4F7B-4EE7-AC2A-7C9669F2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7AE1A-A6C1-4005-B5A0-15013D3C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CAFFF-7F56-4348-A2D7-091FC315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AC01C-6D6D-43A1-BC5C-DCD7C4AD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CA6BD-7A92-4528-BA63-DAEB186C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76F6A-61BF-43A1-BB6A-A68D77C9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70C0-FFE9-4F9B-B029-D8DC70F7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B2E4A-0F75-4C88-980E-B650D11D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084BB-075B-4E05-B2FE-90189BDC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AE598-4C3B-428B-AF63-1FA76389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4F9814-3638-4A71-80F2-2FBE35BA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CE091-0FBB-42AC-8B09-47D88A90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94B20-7544-4496-9A17-350691A0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6F29F-2071-4236-A997-C986F38E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A9770-8591-46BE-A1FA-07DC0ADD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92EBF-6CDF-48FD-8C0E-220FEC70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D119B-A98E-4BD2-8DE8-D80DB3CD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273-0C18-4EB3-AEB7-1013BD23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65097-0DBA-4242-83FA-4DC58685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7F0C0-1C2B-4F04-B8FB-52E76A91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34FBF-FCA3-4F00-B6CA-ED6701B4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3F3CD-5AF5-48C0-A75F-D3AAE48C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E0B12-61DA-41AD-AA30-CB07125A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D4683-24D2-42C6-8168-34E5B221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F0815-F9E8-4B63-93D6-EC68119E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24719-62C2-4FD2-8A09-40A1D2DF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AAFD6-A1A2-46AA-8AD0-5733CD58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54FE-0325-4E2D-B233-2D284713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8A42-0E7A-4323-9BD0-2451E860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F019-4638-49CA-B4F2-77C49F19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CE17-3525-4D86-A80D-1E058BBC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7D46-0F33-44CD-89F2-D8448F35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A8E7-176D-4BCB-8C04-C7C505308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D95C-C6B1-4453-B3F5-76A37AB7F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0BE6-E451-483E-9F5A-284F0C4D5A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3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7D40-5077-40B0-B74E-4FE2283DEC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Thailu@ercot.com" TargetMode="Externa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ay-ahead Settlement Timeline Option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rcial Operations Sub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Draft for Discus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540720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6000" y="5407200"/>
            <a:ext cx="646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54072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ing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1120" y="5407200"/>
            <a:ext cx="70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Day-ahead Settlement Timeline - Op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58760" y="3882960"/>
            <a:ext cx="7920" cy="150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206800"/>
            <a:ext cx="0" cy="318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2041560"/>
            <a:ext cx="1067040" cy="851040"/>
          </a:xfrm>
          <a:prstGeom prst="rightArrow">
            <a:avLst>
              <a:gd name="adj1" fmla="val 50000"/>
              <a:gd name="adj2" fmla="val 3134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47800" y="2222640"/>
            <a:ext cx="100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ily In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352680" y="4111560"/>
            <a:ext cx="5040" cy="128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8280" y="1676520"/>
            <a:ext cx="7920" cy="371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892600"/>
            <a:ext cx="381240" cy="2514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5407200"/>
            <a:ext cx="99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ment  and Invoice 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2282760"/>
            <a:ext cx="0" cy="311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90920" y="5407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2242800" y="3911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ice Payments 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1135080"/>
            <a:ext cx="3733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Day = Mo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Settlement Statement for operating day Monday is scheduled to be posted by midnight Tues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Invoice for operating day Monday is scheduled to be posted by midnight Tues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s due to ERCOT for the DAM Invoice for operating day Monday are due to ERCOT by 5:00 p.m. CPT on Thur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s owed to Invoice Recipients are due to them by 5:00 p.m. CPT on Fri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-365040" y="32108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366480" y="45824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1128960" y="313524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1966680" y="45824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2576520" y="3058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2282760"/>
            <a:ext cx="380880" cy="3124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3240000" y="403668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ice Funds P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3414600" y="45824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06880" y="3882960"/>
            <a:ext cx="7920" cy="150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54864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5 or next Business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Draft for Discus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Day-ahead Settlement Timeline - Op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990720"/>
            <a:ext cx="37339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Day = Mo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Settlement Statement for operating day Monday is scheduled to be posted by midnight Tues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Invoice for operating day Monday is scheduled to be posted by midnight Tues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s due to ERCOT for the DAM Invoice for operating day Monday by 5:00 p.m. CPT on Fri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s owed to Invoice Recipients are due to them by 5:00 p.m. CPT on Mon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5254560"/>
            <a:ext cx="5105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6000" y="5254560"/>
            <a:ext cx="646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525456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ing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58760" y="3730680"/>
            <a:ext cx="7920" cy="150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2054160"/>
            <a:ext cx="0" cy="318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2816280"/>
            <a:ext cx="0" cy="242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8280" y="1523880"/>
            <a:ext cx="7920" cy="371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5254560"/>
            <a:ext cx="99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ment  and Invoice 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2286000"/>
            <a:ext cx="0" cy="295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90920" y="52545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-365040" y="3058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366480" y="44301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1082520" y="29822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966680" y="44301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2652840" y="290664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6920" y="2130480"/>
            <a:ext cx="380880" cy="3124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4014720" y="388440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ice Funds P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3414600" y="44301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06880" y="3730680"/>
            <a:ext cx="7920" cy="150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176720" y="44301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525456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6 or next Business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39200" y="5254560"/>
            <a:ext cx="70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2120760"/>
            <a:ext cx="1828800" cy="698760"/>
          </a:xfrm>
          <a:prstGeom prst="rightArrow">
            <a:avLst>
              <a:gd name="adj1" fmla="val 50000"/>
              <a:gd name="adj2" fmla="val 6543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47800" y="22860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ily In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14800" y="2895480"/>
            <a:ext cx="380880" cy="2362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3081240" y="391464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ice Payments 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9568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Draft for Discus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Day-ahead Settlement Timeline - Opti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57800" y="1135080"/>
            <a:ext cx="373392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Day = Mo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Settlement Statement for operating day Monday is scheduled to be posted by noon Tues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Invoice for operating day                     Monday is scheduled to be posted by midnight Tues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s due to ERCOT for the DAM Invoice for operating day Monday are due to ERCOT by 5:00 p.m. CPT on Thurs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s owed to Invoice Recipients are due to them by 5:00 p.m. CPT on Fri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555948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6000" y="5559480"/>
            <a:ext cx="646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555948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ing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01120" y="5559480"/>
            <a:ext cx="70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8760" y="4035600"/>
            <a:ext cx="7920" cy="150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28800" y="2359080"/>
            <a:ext cx="0" cy="318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193840"/>
            <a:ext cx="1524240" cy="698760"/>
          </a:xfrm>
          <a:prstGeom prst="rightArrow">
            <a:avLst>
              <a:gd name="adj1" fmla="val 50000"/>
              <a:gd name="adj2" fmla="val 5453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352680" y="4264200"/>
            <a:ext cx="5040" cy="128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8280" y="1828800"/>
            <a:ext cx="7920" cy="371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52680" y="3044880"/>
            <a:ext cx="381240" cy="2514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5559480"/>
            <a:ext cx="99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ment  and Invoice 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403560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90920" y="55594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2242800" y="406368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ice Payments 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-364680" y="336384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366840" y="473544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1128600" y="32871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1967040" y="473544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2652480" y="32108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2435400"/>
            <a:ext cx="380880" cy="3124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3240000" y="418896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ice Funds P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6200000">
            <a:off x="3414960" y="473544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06880" y="4035600"/>
            <a:ext cx="7920" cy="150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09680" y="23590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1509840" y="473544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:00 N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09680" y="235908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ily In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2435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555948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5 or next Business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Draft for Discus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114800" y="3429000"/>
            <a:ext cx="380880" cy="2438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Day-ahead Settlement Timeline - Option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838080"/>
            <a:ext cx="381024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Day = Mo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Settlement Statement for operating day Monday is scheduled to be posted by midnight Tues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Invoice for operating days  Monday through Sunday of the previous week scheduled to be posted by midnight Thurs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s for invoices for operating days  Monday through Sunday of the previous week due to ERCOT by 5:00 p.m. CPT on Mon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s owed to Invoice Recipients are due to them by 5:00 p.m. CPT on Tues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586728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3360" y="5867280"/>
            <a:ext cx="646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586728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ing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80360" y="5867280"/>
            <a:ext cx="70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0160" y="4343400"/>
            <a:ext cx="7920" cy="150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2666880"/>
            <a:ext cx="0" cy="318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514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2666880"/>
            <a:ext cx="100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ek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2666880"/>
            <a:ext cx="0" cy="318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7000" y="2136600"/>
            <a:ext cx="7920" cy="371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5867280"/>
            <a:ext cx="990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ment  and Invoice 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666880"/>
            <a:ext cx="0" cy="318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5867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3081240" y="447984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ice Payments 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-394920" y="3671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137880" y="5042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823680" y="3594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1585800" y="5042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2271960" y="351936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881080" y="5042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666880"/>
            <a:ext cx="0" cy="318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00600" y="3429000"/>
            <a:ext cx="380880" cy="2438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3924360" y="461916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ice Funds P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442000">
            <a:off x="2615760" y="837720"/>
            <a:ext cx="279360" cy="15242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8623400">
            <a:off x="2000880" y="140508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ement for Mon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2442000">
            <a:off x="3352320" y="837720"/>
            <a:ext cx="279360" cy="15242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8623400">
            <a:off x="2673720" y="1447200"/>
            <a:ext cx="15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ement for Tuesd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2442000">
            <a:off x="3962520" y="761760"/>
            <a:ext cx="279360" cy="1689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8623400">
            <a:off x="3242520" y="1467360"/>
            <a:ext cx="180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ement for  Wednesd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 rot="921600">
            <a:off x="838080" y="2461680"/>
            <a:ext cx="2746440" cy="281160"/>
          </a:xfrm>
          <a:prstGeom prst="rightArrow">
            <a:avLst>
              <a:gd name="adj1" fmla="val 50000"/>
              <a:gd name="adj2" fmla="val 244206"/>
            </a:avLst>
          </a:prstGeom>
          <a:solidFill>
            <a:srgbClr val="99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28600" y="761760"/>
            <a:ext cx="1676160" cy="1449720"/>
            <a:chOff x="228600" y="761760"/>
            <a:chExt cx="1676160" cy="1449720"/>
          </a:xfrm>
        </p:grpSpPr>
        <p:sp>
          <p:nvSpPr>
            <p:cNvPr id="314" name=""/>
            <p:cNvSpPr/>
            <p:nvPr/>
          </p:nvSpPr>
          <p:spPr>
            <a:xfrm>
              <a:off x="228600" y="1734840"/>
              <a:ext cx="167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8600" y="173484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39600" y="17604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8600" y="988920"/>
              <a:ext cx="468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1880" y="988920"/>
              <a:ext cx="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923400" y="987480"/>
              <a:ext cx="3240" cy="73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7960" y="1734840"/>
              <a:ext cx="33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90120" y="988920"/>
              <a:ext cx="3240" cy="73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93720" y="1734840"/>
              <a:ext cx="29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6200000">
              <a:off x="1420200" y="1213200"/>
              <a:ext cx="701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nd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1080" y="1216440"/>
              <a:ext cx="701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nd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6200000">
              <a:off x="229680" y="1216440"/>
              <a:ext cx="701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uesd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6200000">
              <a:off x="345240" y="1101960"/>
              <a:ext cx="92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dnesd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6200000">
              <a:off x="613080" y="1137960"/>
              <a:ext cx="84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ursd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6200000">
              <a:off x="915480" y="1202040"/>
              <a:ext cx="701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id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158840" y="988920"/>
              <a:ext cx="1440" cy="74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392120" y="988920"/>
              <a:ext cx="144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25400" y="988920"/>
              <a:ext cx="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72880" y="17604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06160" y="17604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38000" y="17604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6200000">
              <a:off x="1144080" y="1202040"/>
              <a:ext cx="701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turd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3120" y="1935000"/>
              <a:ext cx="120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vious We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04760" y="990360"/>
              <a:ext cx="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114800" y="3276720"/>
            <a:ext cx="0" cy="257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00600" y="2666880"/>
            <a:ext cx="0" cy="318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3414600" y="3442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4100400" y="5042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5867280"/>
            <a:ext cx="759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09880" y="5638680"/>
            <a:ext cx="763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3886200" y="5638320"/>
            <a:ext cx="763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962160" y="586728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495680" y="2819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Draft for Discus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Day-ahead Settlement Timeline - Option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922320"/>
            <a:ext cx="3962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Day = Mo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Settlement Statement per option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itial Statement per settlement calendar (assumed 10 days after operating 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ted Invoice for Real-Time, DAM and CRRs for operating days Mon – Sun of week-1 posted by midnight Thursday (week-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s due to ERCOT by 5:00 p.m. CPT on Mon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s owed to Invoice Recipients are due to them by 5:00 p.m. CPT on Tues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2442000">
            <a:off x="2590920" y="946080"/>
            <a:ext cx="279360" cy="14162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8623400">
            <a:off x="2112480" y="1493280"/>
            <a:ext cx="130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day Stat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2442000">
            <a:off x="3276720" y="946080"/>
            <a:ext cx="279360" cy="14162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8623400">
            <a:off x="2791800" y="1478160"/>
            <a:ext cx="134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uesday Stat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2442000">
            <a:off x="3911400" y="914400"/>
            <a:ext cx="279360" cy="15238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18623400">
            <a:off x="3303360" y="1559160"/>
            <a:ext cx="153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dnesday Stat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04560" y="961920"/>
            <a:ext cx="2210760" cy="790560"/>
            <a:chOff x="304560" y="961920"/>
            <a:chExt cx="2210760" cy="790560"/>
          </a:xfrm>
        </p:grpSpPr>
        <p:sp>
          <p:nvSpPr>
            <p:cNvPr id="356" name=""/>
            <p:cNvSpPr/>
            <p:nvPr/>
          </p:nvSpPr>
          <p:spPr>
            <a:xfrm>
              <a:off x="343080" y="1752480"/>
              <a:ext cx="213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3080" y="988920"/>
              <a:ext cx="0" cy="76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1037880" y="987480"/>
              <a:ext cx="3240" cy="76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9880" y="988920"/>
              <a:ext cx="0" cy="76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560" y="1219320"/>
              <a:ext cx="801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ek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n-Su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476440" y="961920"/>
              <a:ext cx="1296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90360" y="1219320"/>
              <a:ext cx="801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ek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n-Su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14320" y="1219320"/>
              <a:ext cx="801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ek-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n-Su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4114800" y="3429000"/>
            <a:ext cx="380880" cy="2438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586728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53360" y="5867280"/>
            <a:ext cx="646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586728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ing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80360" y="5867280"/>
            <a:ext cx="70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30160" y="4343400"/>
            <a:ext cx="7920" cy="150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23880" y="2438280"/>
            <a:ext cx="0" cy="341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2514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05320" y="2666880"/>
            <a:ext cx="100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ek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2666880"/>
            <a:ext cx="0" cy="318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97000" y="2136600"/>
            <a:ext cx="7920" cy="371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47920" y="5867280"/>
            <a:ext cx="990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ment  and Invoice 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86000" y="2666880"/>
            <a:ext cx="0" cy="318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5867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3081240" y="447984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ice Payments 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-394920" y="3671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137880" y="5042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6200000">
            <a:off x="823680" y="3594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16200000">
            <a:off x="1585800" y="5042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2271960" y="351936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6200000">
            <a:off x="2881080" y="5042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581280" y="2666880"/>
            <a:ext cx="0" cy="318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800600" y="3429000"/>
            <a:ext cx="380880" cy="2438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6200000">
            <a:off x="3924360" y="461916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ice Funds P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812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 rot="1447800">
            <a:off x="520200" y="2205720"/>
            <a:ext cx="3116520" cy="204480"/>
          </a:xfrm>
          <a:prstGeom prst="rightArrow">
            <a:avLst>
              <a:gd name="adj1" fmla="val 50000"/>
              <a:gd name="adj2" fmla="val 381030"/>
            </a:avLst>
          </a:prstGeom>
          <a:solidFill>
            <a:srgbClr val="99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3276720"/>
            <a:ext cx="0" cy="257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00600" y="2666880"/>
            <a:ext cx="0" cy="318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6200000">
            <a:off x="3414600" y="3442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4100400" y="5042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33920" y="5867280"/>
            <a:ext cx="759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809880" y="5638680"/>
            <a:ext cx="763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3886200" y="5638320"/>
            <a:ext cx="763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3962160" y="586728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95680" y="2819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Draft for Discus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s for Settlement of D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lement timeline proposed in the 3/2/05 presentation to T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yment date of Invoice out by on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Statement publish date to noon of the day following the Operating Day (but move Operating Day trade adjustments to the real-time Statemen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Statements but weekly Inv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ize DAM and real-time Inv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– Prefer one statement for D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Draft for Discus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MP Review of 5 O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k in descending order (least favorable at bott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list to Ted Hailu (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Thailu@ercot.co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 by close of business June 7 (Please use “DAM Options” as the subject of the e-mai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will compile 2 top options and begin drafting DAM Protocol langu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S review top 2 options and vote for approval at June 14 meeting. Complete DAM Protoco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nd vote for approval of DAM Protocol Language at June 28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Draft for Discus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16:22:25Z</dcterms:created>
  <dc:creator>bday</dc:creator>
  <dc:description/>
  <dc:language>en-US</dc:language>
  <cp:lastModifiedBy>A. Boren</cp:lastModifiedBy>
  <dcterms:modified xsi:type="dcterms:W3CDTF">2005-06-13T13:41:13Z</dcterms:modified>
  <cp:revision>42</cp:revision>
  <dc:subject/>
  <dc:title>Proposed Timeline</dc:title>
</cp:coreProperties>
</file>