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918-7A5F-4BBF-A62D-74892776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17B-BB46-4078-B839-1623A15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329-6C35-452A-A1B9-7D11342C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D48-55C9-4D5B-94CE-3501A421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44D-4A81-4E78-B78C-7532F13B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61A-EBEA-4072-8799-9ACD764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442-F208-4FAC-A075-FE3896F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C884-B628-4044-AFBF-84CC347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EBD3-098A-4307-914C-6C11A18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B91-DBF8-41D2-B336-5EFBB75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4A7-6431-4D98-8C42-A6D4E19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BA0-CA5B-47C2-964E-EC29DEB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1CE-E677-4C15-9AB7-64439494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457-B898-4B38-B149-35B239C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970-0179-4926-9058-FD64C14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C655-3BD3-4EA8-810E-717ADB46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39E-79DB-41DC-A875-9D8887F4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9BD-6CE8-4E6B-A2EC-F903331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CBD-C252-44B4-ACC3-67267D2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2E9-2B88-4EFB-8A05-00FDE152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3BB-21E7-44EE-9253-19D7BE6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CAB-F2AB-4DDA-B68D-A2BEA47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C0B-4FBE-4C04-A9D2-D6386589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672-24A1-490D-9653-EA80B33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1CC-79AC-4CFA-AC03-2293AF64844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133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155C-DDCE-495D-B6B7-9E84CB0A3A8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wn Regulation in Depleted Interv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 May,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Project Managers W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ndon Whitt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Market Operations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is Net Regulation Deployed not equal to Zero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expected change in QSE S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Schedule Dev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Forecast E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D modified Energy Sche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 Dispatch (OOME, VDI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C Tie Schedule Dev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te Network Load (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gulation Usage in Depleted Interv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d Forecast Er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D deploys Balancing Energy based on more than Load Foreca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 Load Forecast Error, 271 of the 396 intervals would have net down regulation deployed (Difference of 4 interva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Reasons for net Down Regulation during depleted intervals, mostly based on Deviations from 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Forecast Error does not seem to be the primary rea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Operations Support is devoting resources to study Load Foreca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9:33:32Z</dcterms:created>
  <dc:creator>Brandon Whittle</dc:creator>
  <dc:description/>
  <dc:language>en-US</dc:language>
  <cp:lastModifiedBy>bwhittle</cp:lastModifiedBy>
  <dcterms:modified xsi:type="dcterms:W3CDTF">2005-05-09T14:33:36Z</dcterms:modified>
  <cp:revision>6</cp:revision>
  <dc:subject/>
  <dc:title>Down Regulation in Depleted Intervals</dc:title>
</cp:coreProperties>
</file>