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57438486-B1F9-40E9-9542-F4395BB92300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38240"/>
            <a:ext cx="4191120" cy="259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Acceptance Testing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0920" y="101772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ON TO PLANNING WITH NO CAPITAL BUD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YET 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640" y="3727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9440" y="450072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Milestones as of 2/28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680" y="4046400"/>
          <a:ext cx="3922560" cy="2762280"/>
        </p:xfrm>
        <a:graphic>
          <a:graphicData uri="http://schemas.openxmlformats.org/drawingml/2006/table">
            <a:tbl>
              <a:tblPr/>
              <a:tblGrid>
                <a:gridCol w="1566720"/>
                <a:gridCol w="752400"/>
                <a:gridCol w="790560"/>
                <a:gridCol w="812880"/>
              </a:tblGrid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cstd.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Lo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Uni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 thru 5/13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7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6/05 thru 5/20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8/05 thru 6/1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59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309600"/>
            <a:ext cx="18288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371952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4746600"/>
          <a:ext cx="4419360" cy="1997280"/>
        </p:xfrm>
        <a:graphic>
          <a:graphicData uri="http://schemas.openxmlformats.org/drawingml/2006/table">
            <a:tbl>
              <a:tblPr/>
              <a:tblGrid>
                <a:gridCol w="504720"/>
                <a:gridCol w="638280"/>
                <a:gridCol w="628560"/>
                <a:gridCol w="638280"/>
                <a:gridCol w="657000"/>
                <a:gridCol w="704880"/>
                <a:gridCol w="6476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/ Act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c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4572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VA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57,6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jor deliverables from AREVA (MOS–5, POS-4, PUCT-1) + 7 internal sub projects (4 Billing &amp; Settlements, 3 DA/D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illing &amp; Settlements development underway.  OOM Tool Enhancements planning near comple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/EDW planning comp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ML Specifications released 2/2/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Participant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st Preparation Survey [5/9/05-5/13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firm Test URL/IP addr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P “Test” Listeners Conne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lease 4 XML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1480" y="299880"/>
            <a:ext cx="187560" cy="177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144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9200" y="1114560"/>
            <a:ext cx="33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84280" y="1778040"/>
            <a:ext cx="28195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901800"/>
          <a:ext cx="7772400" cy="5738760"/>
        </p:xfrm>
        <a:graphic>
          <a:graphicData uri="http://schemas.openxmlformats.org/drawingml/2006/table">
            <a:tbl>
              <a:tblPr/>
              <a:tblGrid>
                <a:gridCol w="1046160"/>
                <a:gridCol w="1025640"/>
                <a:gridCol w="5700600"/>
              </a:tblGrid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20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/PRR211 Association of BE Bids with R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 - Optimization for the Whole Operating Day in RPRS Procurement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 Protection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59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 - Dispatch of Generation Resources Below Minimum Operating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 - OOM Zonal Dispatch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Data Elements for Local Constraints &amp; 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Upgrade S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Add Corrected MCPEs to the MOS dbase and pass to 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s to VSA/D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 A Business Process will be put in place to address standardization of Constraint Nam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0160" y="873000"/>
            <a:ext cx="87343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440" y="1631880"/>
            <a:ext cx="7435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9 – 13: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 Surv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16 – 20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rm Test URL/IP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 “Test” Listeners 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18 – 20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tructured Testing on 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23 – JUNE 1:  Release 4 XML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ed Notification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tructured Testing on 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9200" y="1114560"/>
            <a:ext cx="33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440" y="1555920"/>
            <a:ext cx="74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9 – 13: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9200" y="103824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440" y="1933560"/>
            <a:ext cx="7797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Q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Test Lead [Name, phone, cell#, emai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ary Test Contact [Name, phone, cell#, emai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of Product [in-house or product nam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 Test Digital Certificate is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Sender URL/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Listener URL/IP Address for those requesting to receive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Release 4 changes intending to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OM notifications interested i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ID for OOME Notific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440" y="161280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9 – 13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 Example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9200" y="103824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440" y="2381400"/>
            <a:ext cx="708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OOM Deplo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RPRS Bid and A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440" y="1631880"/>
            <a:ext cx="74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6 – 2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Test URL/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“Test” Listeners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9200" y="111456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2440" y="2857680"/>
            <a:ext cx="75690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test of QSE’s TEST listener with ERCOT Account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will be scheduled on internal test cale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 for ERCOT test lead will be provided to QSE Test L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with connectivity with ERCOT MOTE needs to be addressed starting with ERCOT Help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440" y="1631880"/>
            <a:ext cx="743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8 – 20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tructured Testing on M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c20000"/>
                </a:solidFill>
                <a:latin typeface="Arial"/>
              </a:rPr>
              <a:t>08:00 – 17:00 CP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9200" y="111456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440" y="2629080"/>
            <a:ext cx="7569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’s who have confirmed connectivity with ERCOT MOTE may begin testing on Releas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Release 4 TEST LAB will </a:t>
            </a:r>
            <a:r>
              <a:rPr b="1" lang="en-US" sz="1800" spc="-1" strike="noStrike">
                <a:solidFill>
                  <a:srgbClr val="c2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 manned during this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with connectivity with ERCOT MOTE needs to be addressed starting with ERCOT Help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 regarding Release 4 XML specification may be addressed to ERCOT Account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16680" y="338040"/>
            <a:ext cx="19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Test Lead: C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440" y="1631880"/>
            <a:ext cx="743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3 – JUNE 1:  Release 4 XML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000" spc="-1" strike="noStrike">
                <a:solidFill>
                  <a:srgbClr val="c20000"/>
                </a:solidFill>
                <a:latin typeface="Arial"/>
              </a:rPr>
              <a:t>08:00 – 17:00 CP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d Notification Tests  &amp;  Unstructure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9200" y="111456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 Tes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440" y="3171960"/>
            <a:ext cx="75690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E’s who have confirmed connectivity with ERCOT MOTE may test Release 4 (Unstructured Test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Release 4 TEST LAB </a:t>
            </a:r>
            <a:r>
              <a:rPr b="1" lang="en-US" sz="1800" spc="-1" strike="noStrike">
                <a:solidFill>
                  <a:srgbClr val="c20000"/>
                </a:solidFill>
                <a:latin typeface="Arial"/>
              </a:rPr>
              <a:t>W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 manned during this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d Notification testing will be scheduled and performed through contact with the TEST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with connectivity with ERCOT MOTE needs to be addressed starting with ERCOT Help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pcoon</cp:lastModifiedBy>
  <cp:lastPrinted>1999-12-01T22:56:09Z</cp:lastPrinted>
  <dcterms:modified xsi:type="dcterms:W3CDTF">2005-05-06T23:06:54Z</dcterms:modified>
  <cp:revision>720</cp:revision>
  <dc:subject/>
  <dc:title>No Slide Title</dc:title>
</cp:coreProperties>
</file>