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C54-9546-44F8-864B-7377305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C89-F3A0-47A3-83A9-C9A313F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51F-D238-4FCC-9B25-0624EF52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1D1-3B06-4D6D-94F3-8959B484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1E1D-52C8-42CF-A9AA-0E91F515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6C63-3E76-4265-8822-D929C310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75A-EA37-4383-A480-3EB7A83C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1CFA-5B28-4957-A005-A2CB1734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273F-8486-416D-BA12-36E31B4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4C65-01B8-4205-8185-4C76663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8DB-217A-46E7-835A-AFD75AD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808-608F-4DE4-8454-8C284CB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7ED9-9287-4E9D-AB77-86CB480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DE04-C00C-4F95-B184-B88EBE1C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4150-97A0-4CE2-BC3B-0645330B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D869-B841-469F-81F8-40088883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6092-AC5E-4BEB-8753-961A693D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CCE-8285-4089-81FA-9C4DFC51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496-59DB-478D-BF5A-72A497E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EF0-5C2A-45F5-8270-7D14FC63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4C6-258B-4277-9C03-E9CB85F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052-90D8-4E07-B4A9-F0C7038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5DA-17A5-425C-8B9F-023ED01C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07A-73C3-42A6-B33E-BCA3570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941-14D6-4F22-8372-60E5D056D76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67480" y="6095880"/>
            <a:ext cx="1133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235-8A2C-463C-9CB5-FC3364D0004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pletion of the Balancing Bid St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 May, 20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SE Project Managers W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ndon Whitt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Market Operations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nuary &amp; February WMS Me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voiced concern over lack of Balancing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Project Managers asked to review th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ch QSE Meeti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esented slides showing that the amount of Balancing Energy Up has decreas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was asked to determine possible reasons f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ril QSE Me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esented additional information requested by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QSE Me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a summary of the findings of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ffect of OOM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51840" cy="4581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624852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BES bid and Cleared are Monthly Averages for Hours 16-18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4456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BES Bid Stack Over 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624852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BES bid and Cleared are Monthly Averages for Hours 16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cheduled Online Capac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mmary of Resul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has UBES Bid Stack Decreas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 in OO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Scheduled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do we see more UBES deple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ES Bid Stack has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 Rate Recall Constraint (Releas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ME as Instructe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vals may have been Depleted before Release 3 due to local congestion in Step 2, but we cannot readily deter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ons to Ensure System Reli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can procure additional capacity through RPRS Mark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pin can be procured when spinning reserve less than 4600 M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 Unit Dispatch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et O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20:22:10Z</dcterms:created>
  <dc:creator>Brandon Whittle</dc:creator>
  <dc:description/>
  <dc:language>en-US</dc:language>
  <cp:lastModifiedBy>Brandon Whittle</cp:lastModifiedBy>
  <dcterms:modified xsi:type="dcterms:W3CDTF">2005-05-05T18:55:37Z</dcterms:modified>
  <cp:revision>11</cp:revision>
  <dc:subject/>
  <dc:title>Depletion of the Balancing Bid Stack Summary</dc:title>
</cp:coreProperties>
</file>