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BD68-99B8-42A7-8A0F-67CE637D3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57F7-B7FF-4569-AE74-352E61A68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D8E1-FA9E-43E3-9D02-6EBA5C165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A94C-B91B-4A3F-BFBA-A1F3AC02B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68480" y="-108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0465D-5311-4346-8C85-FCFA67C0E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90D91-8266-4719-8F55-26B8F49689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06E74-9776-4C40-A0B2-58F52F7A97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9DB57-41D2-40E6-8FC4-A400BC76BB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9EA4C-4AC2-451A-A53C-13E7B9468D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4BAD8-5207-4842-8856-1F88ADCB85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232E-EC4D-4914-99E2-EC98866551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968480" y="-108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24B49-FA02-4027-AF4A-08A65D97CB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A3EA7-F3A7-42C6-BDA0-8FBDA6FF05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FF8FB-B663-4DA9-9E48-6E27C8F972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16E09-8FBC-403D-B042-5506FED074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1984E-00FD-4551-AC2C-1EE05B04A9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C4DEE-A2D4-4F4E-AA76-427536A9CD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5D6C2-4B3B-445C-B972-4ECF38D33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D2DF-9C24-48E7-839C-CAA70D8A6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BD8C-7ECF-40CF-8DA8-5A31A8E51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68480" y="-108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B10F-2D8B-448D-9AC4-C9AD21AFF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95AA-A99C-4795-9EF3-78B663EEF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6ACA3-0714-4357-A483-E1B038273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5367-72D2-4324-A86A-6402E6268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C611039E-5D50-4C54-BF79-2A12B2FB177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36640" y="4191120"/>
            <a:ext cx="5883480" cy="7596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20088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Num" idx="2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E72AAA94-CC07-479E-AFC9-490F13E6AA9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981080"/>
            <a:ext cx="777240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olesale Market Interface Enhancements - TML</a:t>
            </a:r>
            <a:br>
              <a:rPr sz="3600"/>
            </a:br>
            <a:br>
              <a:rPr sz="2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-project Effort</a:t>
            </a: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828440" y="47242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urrent Statu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y 9, 20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181800"/>
            <a:ext cx="76201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Wholesale Market Interface Enhancements - TML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ummary of 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Q &amp; 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5f5d"/>
                </a:solidFill>
                <a:latin typeface="Arial"/>
              </a:rPr>
              <a:t>Summary of Issues 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ore than 250 Issues Identifi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chedu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ttl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por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utage Schedu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rke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ortal Access / Secur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ta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er’s Gu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en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5f5d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vided Outage Scheduler issues to Oper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s were created to address production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 to track analysis of dynamic extra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fined Portal Best Pract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lped define MID infrastructure by providing future business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vided MP digital certificate issues for the VeriSign Pro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68480" y="-108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5f5d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ispute and service request to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ebel 7.7 Upgrade -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eService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instal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itiate 2006 Project – other enhanc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itiate 2006 Project to enhance digital certificate 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Leverage O&amp;M and project efforts to implement TML enhanc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 process of hiring Website Content Coordina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1219320" y="1600200"/>
            <a:ext cx="4800240" cy="5028840"/>
            <a:chOff x="1219320" y="1600200"/>
            <a:chExt cx="4800240" cy="502884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1219320" y="1600200"/>
              <a:ext cx="4800240" cy="50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889640" y="2133000"/>
              <a:ext cx="1944000" cy="2493360"/>
            </a:xfrm>
            <a:custGeom>
              <a:avLst/>
              <a:gdLst/>
              <a:ahLst/>
              <a:rect l="l" t="t" r="r" b="b"/>
              <a:pathLst>
                <a:path w="1143" h="1418">
                  <a:moveTo>
                    <a:pt x="678" y="80"/>
                  </a:moveTo>
                  <a:lnTo>
                    <a:pt x="385" y="0"/>
                  </a:lnTo>
                  <a:lnTo>
                    <a:pt x="232" y="141"/>
                  </a:lnTo>
                  <a:lnTo>
                    <a:pt x="92" y="446"/>
                  </a:lnTo>
                  <a:lnTo>
                    <a:pt x="0" y="751"/>
                  </a:lnTo>
                  <a:lnTo>
                    <a:pt x="55" y="1264"/>
                  </a:lnTo>
                  <a:lnTo>
                    <a:pt x="238" y="1417"/>
                  </a:lnTo>
                  <a:lnTo>
                    <a:pt x="788" y="1295"/>
                  </a:lnTo>
                  <a:lnTo>
                    <a:pt x="873" y="995"/>
                  </a:lnTo>
                  <a:lnTo>
                    <a:pt x="1062" y="739"/>
                  </a:lnTo>
                  <a:lnTo>
                    <a:pt x="1142" y="458"/>
                  </a:lnTo>
                  <a:lnTo>
                    <a:pt x="1013" y="171"/>
                  </a:lnTo>
                  <a:lnTo>
                    <a:pt x="678" y="80"/>
                  </a:lnTo>
                </a:path>
              </a:pathLst>
            </a:custGeom>
            <a:solidFill>
              <a:srgbClr val="010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92880" y="2491560"/>
              <a:ext cx="1706040" cy="2052000"/>
            </a:xfrm>
            <a:custGeom>
              <a:avLst/>
              <a:gdLst/>
              <a:ahLst/>
              <a:rect l="l" t="t" r="r" b="b"/>
              <a:pathLst>
                <a:path w="1003" h="1167">
                  <a:moveTo>
                    <a:pt x="506" y="0"/>
                  </a:moveTo>
                  <a:lnTo>
                    <a:pt x="715" y="137"/>
                  </a:lnTo>
                  <a:lnTo>
                    <a:pt x="617" y="300"/>
                  </a:lnTo>
                  <a:lnTo>
                    <a:pt x="700" y="411"/>
                  </a:lnTo>
                  <a:lnTo>
                    <a:pt x="740" y="414"/>
                  </a:lnTo>
                  <a:lnTo>
                    <a:pt x="789" y="493"/>
                  </a:lnTo>
                  <a:lnTo>
                    <a:pt x="835" y="516"/>
                  </a:lnTo>
                  <a:lnTo>
                    <a:pt x="938" y="531"/>
                  </a:lnTo>
                  <a:lnTo>
                    <a:pt x="965" y="594"/>
                  </a:lnTo>
                  <a:lnTo>
                    <a:pt x="1002" y="627"/>
                  </a:lnTo>
                  <a:lnTo>
                    <a:pt x="922" y="760"/>
                  </a:lnTo>
                  <a:lnTo>
                    <a:pt x="921" y="873"/>
                  </a:lnTo>
                  <a:lnTo>
                    <a:pt x="841" y="980"/>
                  </a:lnTo>
                  <a:lnTo>
                    <a:pt x="761" y="994"/>
                  </a:lnTo>
                  <a:lnTo>
                    <a:pt x="776" y="944"/>
                  </a:lnTo>
                  <a:lnTo>
                    <a:pt x="749" y="955"/>
                  </a:lnTo>
                  <a:lnTo>
                    <a:pt x="743" y="988"/>
                  </a:lnTo>
                  <a:lnTo>
                    <a:pt x="609" y="1001"/>
                  </a:lnTo>
                  <a:lnTo>
                    <a:pt x="585" y="989"/>
                  </a:lnTo>
                  <a:lnTo>
                    <a:pt x="514" y="994"/>
                  </a:lnTo>
                  <a:lnTo>
                    <a:pt x="502" y="1014"/>
                  </a:lnTo>
                  <a:lnTo>
                    <a:pt x="485" y="1008"/>
                  </a:lnTo>
                  <a:lnTo>
                    <a:pt x="483" y="1038"/>
                  </a:lnTo>
                  <a:lnTo>
                    <a:pt x="436" y="1056"/>
                  </a:lnTo>
                  <a:lnTo>
                    <a:pt x="421" y="1114"/>
                  </a:lnTo>
                  <a:lnTo>
                    <a:pt x="428" y="1138"/>
                  </a:lnTo>
                  <a:lnTo>
                    <a:pt x="406" y="1166"/>
                  </a:lnTo>
                  <a:lnTo>
                    <a:pt x="369" y="1143"/>
                  </a:lnTo>
                  <a:lnTo>
                    <a:pt x="345" y="1109"/>
                  </a:lnTo>
                  <a:lnTo>
                    <a:pt x="318" y="1098"/>
                  </a:lnTo>
                  <a:lnTo>
                    <a:pt x="259" y="1026"/>
                  </a:lnTo>
                  <a:lnTo>
                    <a:pt x="287" y="904"/>
                  </a:lnTo>
                  <a:lnTo>
                    <a:pt x="264" y="824"/>
                  </a:lnTo>
                  <a:lnTo>
                    <a:pt x="272" y="705"/>
                  </a:lnTo>
                  <a:lnTo>
                    <a:pt x="255" y="683"/>
                  </a:lnTo>
                  <a:lnTo>
                    <a:pt x="245" y="646"/>
                  </a:lnTo>
                  <a:lnTo>
                    <a:pt x="221" y="631"/>
                  </a:lnTo>
                  <a:lnTo>
                    <a:pt x="189" y="602"/>
                  </a:lnTo>
                  <a:lnTo>
                    <a:pt x="157" y="593"/>
                  </a:lnTo>
                  <a:lnTo>
                    <a:pt x="110" y="626"/>
                  </a:lnTo>
                  <a:lnTo>
                    <a:pt x="76" y="617"/>
                  </a:lnTo>
                  <a:lnTo>
                    <a:pt x="37" y="543"/>
                  </a:lnTo>
                  <a:lnTo>
                    <a:pt x="27" y="480"/>
                  </a:lnTo>
                  <a:lnTo>
                    <a:pt x="52" y="425"/>
                  </a:lnTo>
                  <a:lnTo>
                    <a:pt x="46" y="373"/>
                  </a:lnTo>
                  <a:lnTo>
                    <a:pt x="13" y="287"/>
                  </a:lnTo>
                  <a:lnTo>
                    <a:pt x="0" y="209"/>
                  </a:lnTo>
                  <a:lnTo>
                    <a:pt x="12" y="187"/>
                  </a:lnTo>
                  <a:lnTo>
                    <a:pt x="158" y="275"/>
                  </a:lnTo>
                  <a:lnTo>
                    <a:pt x="271" y="357"/>
                  </a:lnTo>
                  <a:lnTo>
                    <a:pt x="50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114800" y="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5f5d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5334120"/>
            <a:ext cx="1981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amela Dau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512-248-39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235600">
            <a:off x="2342520" y="3260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/>
  <dc:description/>
  <dc:language>en-US</dc:language>
  <cp:lastModifiedBy>PDautel</cp:lastModifiedBy>
  <dcterms:modified xsi:type="dcterms:W3CDTF">2005-05-08T22:23:56Z</dcterms:modified>
  <cp:revision>184</cp:revision>
  <dc:subject/>
  <dc:title>Slide 1</dc:title>
</cp:coreProperties>
</file>