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4C5-186C-4433-A49E-A28DE9F5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457-D05A-4595-AA11-A754ED60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9B4-3B83-4A31-8F4B-0AFDF782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F26-6C5C-40D4-BBBC-9892FC18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B8E-41D8-4A60-82F3-36060B6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FF9-0A0B-41B2-8252-E7251F2D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4B6-E4CB-4860-B5A5-E303D821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445-F7BA-4112-B5F1-AC3D25C1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6FA-F132-4578-BE21-33899C06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BE1-871D-4511-96F9-9285525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C81-F140-4638-904A-8E41A96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2DB-0CC1-4F2A-B352-0D1F6CF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3DFB-B455-49A7-AE7D-19931519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160" y="91440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nuary 2005 CPS1 133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WG Meeting April 28 &amp;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Droop Testing/forms and graph of expected performance for DWG and 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1str qtr Disturbances (7 even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SE performance revi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or Sustained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or Adequ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or Dead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SE Bias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aten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C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5600"/>
            <a:ext cx="8610480" cy="629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op Character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WG Meeting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disturbance Frequ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frequency oscillation following system disturb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Responsive Reserve recall ramp rate contributing to control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d recall ramp rate to be reduced by one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unable to adjust without impacting deployment ramp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a SIR be submitted to allow adjustment of the recall ramp rate without impacting the deploy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Interconnect concerned about recent frequency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ern Interconnect developing a white paper on Frequency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JM investigating Frequency Respons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73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006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RCOT Frequency – 2 second data May 18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190760" y="4723920"/>
            <a:ext cx="6094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14479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outhern Control Area: 6 second data April 22, 2005 at 07:20:24 AM C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97180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onnection Frequency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bruary 2005 CPS1 123.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2005 CPS1 135.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160" y="990720"/>
            <a:ext cx="9105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160" y="99072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2005 CPS1 127.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039240" cy="5952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2005 CPS1 by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OT CPS1 12 Month Rolling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 of Time on T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8680" y="0"/>
            <a:ext cx="647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25 SCPS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55800" y="0"/>
            <a:ext cx="63882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66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25 SCPS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4:11:52Z</dcterms:created>
  <dc:creator>sniemeyer</dc:creator>
  <dc:description/>
  <dc:language>en-US</dc:language>
  <cp:lastModifiedBy>sniemeyer</cp:lastModifiedBy>
  <dcterms:modified xsi:type="dcterms:W3CDTF">2005-05-11T15:21:18Z</dcterms:modified>
  <cp:revision>7</cp:revision>
  <dc:subject/>
  <dc:title>PowerPoint Presentation</dc:title>
</cp:coreProperties>
</file>