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F98-8C86-4D69-AE58-83CAD9A6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D07-2326-4670-AAF7-0D62C1DA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87F-92E6-4EA3-8492-19102FC4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E66-6F0D-4352-AB51-BD942436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5E6-4EED-4890-AE3E-6506DCD1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28E-D10C-4BEF-8365-7F0B9588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FB3-567D-4898-863D-545982F9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A83-0A1C-4B75-B284-5374B9AF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DF3-637C-4747-909D-A7EB75AD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DF2-7079-48A7-9040-EC687CC8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180-25EF-4D5D-909C-23A10EB1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C74-A32D-4190-96E9-ECBA610C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24DA-2AB0-4CD3-A360-F63FF8254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with Backup Ce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– May 12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COT has a procedure in its EMMS group guiding switch to Back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ACT EMMS Personnel on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 move to the backup path, QSE’s must make configuration changes, so make sure they are ready before doing any switch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QSE has 6 primary paths, three on ERPFEA/C and three on ERPFEB/D.  If the QSE has a backup there will also be 6 paths for that site, these paths are usually removed from service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list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all primary paths except the one that is oneline (path with solid green line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in service all the backup p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primary path that is oneline.  This will cause the RTU to fail to the left most, healthy path, which should be the first backup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allow all the paths to attempt to s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l paths fail, call for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5:10:43Z</dcterms:created>
  <dc:creator>jadams</dc:creator>
  <dc:description/>
  <dc:language>en-US</dc:language>
  <cp:lastModifiedBy>A. Boren</cp:lastModifiedBy>
  <dcterms:modified xsi:type="dcterms:W3CDTF">2005-05-24T21:50:45Z</dcterms:modified>
  <cp:revision>7</cp:revision>
  <dc:subject/>
  <dc:title>ERCOT Cascading outage Practice &amp; Possible improvement</dc:title>
</cp:coreProperties>
</file>