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1C02BB-7EBC-4A44-A2F5-0D3217B2F8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DEC66B-5BBE-441F-A898-79204E851D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9711ED-086E-4D7F-A817-8DCDF9B649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535A9D-29F9-41D0-B79B-E3A12E6BDE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B5DB94-CA12-49F8-8AB0-94969FA3B8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33AE3B-2AF8-4D20-8483-55A46FA75A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99847E-4C67-435C-A593-12AD3820F3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3D8D0D-5506-48E0-895C-A8094D309A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308825-941C-42AD-A769-25F8D75E05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03B14-D92A-41FD-BA2A-6F959B05C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DF74B-3964-4866-8291-6186CAAD6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C07FF-1653-40C7-A2A4-AC8E57959F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BBD21-3DF9-4303-90C6-AC80066450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SRS deployment April 22 - 23</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Adam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S – May 12, 200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perating Period Procedures – Respond to Hour Ahead Results</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REVIEW HA Output details of the study case for the interval for which the Load Forecast is valid.  (If case is not reasonable, the operator will log the error and ask the Frequency Desk operator to review the load forecas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VERIFY URS margin is acceptable (not indicated in red) and proceed.  IF in red</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PS"/>
                <a:ea typeface="SymbolPS"/>
              </a:rPr>
              <a:t></a:t>
            </a:r>
            <a:r>
              <a:rPr b="0" lang="en-US" sz="1800" spc="-1" strike="noStrike">
                <a:solidFill>
                  <a:srgbClr val="000000"/>
                </a:solidFill>
                <a:latin typeface="Arial"/>
              </a:rPr>
              <a:t>	</a:t>
            </a:r>
            <a:r>
              <a:rPr b="0" lang="en-US" sz="1800" spc="-1" strike="noStrike">
                <a:solidFill>
                  <a:srgbClr val="000000"/>
                </a:solidFill>
                <a:latin typeface="Arial"/>
              </a:rPr>
              <a:t>Identify the QSE where deficiency exists and request QSE to update the resource pla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a:t>
            </a:r>
            <a:r>
              <a:rPr b="0" lang="en-US" sz="1800" spc="-1" strike="noStrike">
                <a:solidFill>
                  <a:srgbClr val="000000"/>
                </a:solidFill>
                <a:latin typeface="Arial"/>
              </a:rPr>
              <a:t>Discrepancies of less than 10 MWs may be due to rounding errors and may be ignored at the discretion of the operato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a Market Participant is using LaaR for Responsive Reserve, this calculation may be in error and no action is require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VERIFY DRS margin is acceptable (not indicated in red) and proceed.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in red</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PS"/>
                <a:ea typeface="SymbolPS"/>
              </a:rPr>
              <a:t></a:t>
            </a:r>
            <a:r>
              <a:rPr b="0" lang="en-US" sz="1800" spc="-1" strike="noStrike">
                <a:solidFill>
                  <a:srgbClr val="000000"/>
                </a:solidFill>
                <a:latin typeface="Arial"/>
              </a:rPr>
              <a:t>	</a:t>
            </a:r>
            <a:r>
              <a:rPr b="0" lang="en-US" sz="1800" spc="-1" strike="noStrike">
                <a:solidFill>
                  <a:srgbClr val="000000"/>
                </a:solidFill>
                <a:latin typeface="Arial"/>
              </a:rPr>
              <a:t>Identify QSE where deficiency exists and request to update resource plan.</a:t>
            </a:r>
            <a:r>
              <a:rPr b="1" lang="en-US" sz="1800" spc="-1" strike="noStrike">
                <a:solidFill>
                  <a:srgbClr val="000000"/>
                </a:solidFill>
                <a:latin typeface="Arial"/>
              </a:rPr>
              <a:t>NOTE:</a:t>
            </a:r>
            <a:r>
              <a:rPr b="0" lang="en-US" sz="1800" spc="-1" strike="noStrike">
                <a:solidFill>
                  <a:srgbClr val="000000"/>
                </a:solidFill>
                <a:latin typeface="Arial"/>
              </a:rPr>
              <a:t>Discrepancies of less than 10 MWs may be due to rounding errors and may be ignored at the discretion of the operat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perating Period Procedures – Respond to Hour Ahead Results</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VERIFY RRS margin is acceptable (not indicated in red) proceed.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n re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eck QSE suspect for deficiency (available is less than requir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ficiency is due to a resource plan being insufficient to support the scheduled services, then call the QSE provider and notify it of the deficiency; inquiring if they can correct it.  If they agree to correct the deficiency, log this and take no further immediate action.  If they are unable to correct the deficiency (i.e. insufficient resources are available to provide agreed upon services) then proceed as shown bel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perating Period Procedures – Respond to Hour Ahead Results</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bulleted steps are only taken if the ERCOT operator has concluded there is a real physical shortage of resources to provide the ERCOT total required RRS in the next hour.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repancies of less than 10 MWs may be due to rounding errors and may be ignored at the discretion of the operator)</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municate with Transmission &amp; Security Desk to ensure an active constraint won’t be negatively impacted, then deploy NSRS as scheduled.  (If no NSRS is scheduled, inform Frequency Desk.  Frequency Desk will communicate with the Transmission and Security Desk then issue a VDI to a QSE to raise generation to recover RRS if system operations deems necessary.</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deficiency is due to a failure of the QSE to schedule services which i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greed to provide prior to, or as a result of the bidding process; call the QSE and direct them to schedule the services it is obligated to provide.  If the QSE does not comply with your instruction, notify the shift supervisor of a possible protocol violation and log the event.  No further action is require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the Operator Saw – Hour Ahead results - recreated</a:t>
            </a:r>
            <a:endParaRPr b="0" lang="en-US" sz="4000" spc="-1" strike="noStrike">
              <a:solidFill>
                <a:srgbClr val="000000"/>
              </a:solidFill>
              <a:latin typeface="Arial"/>
            </a:endParaRPr>
          </a:p>
        </p:txBody>
      </p:sp>
      <p:graphicFrame>
        <p:nvGraphicFramePr>
          <p:cNvPr id="50" name=""/>
          <p:cNvGraphicFramePr/>
          <p:nvPr/>
        </p:nvGraphicFramePr>
        <p:xfrm>
          <a:off x="380880" y="1676520"/>
          <a:ext cx="8305920" cy="1981080"/>
        </p:xfrm>
        <a:graphic>
          <a:graphicData uri="http://schemas.openxmlformats.org/drawingml/2006/table">
            <a:tbl>
              <a:tblPr/>
              <a:tblGrid>
                <a:gridCol w="2251080"/>
                <a:gridCol w="955440"/>
                <a:gridCol w="1091160"/>
                <a:gridCol w="1586520"/>
                <a:gridCol w="801360"/>
                <a:gridCol w="1620360"/>
              </a:tblGrid>
              <a:tr h="14364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tervalending</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BES</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BES</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SRS Available</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hort</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BES Bid</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4468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4/23/2005 23:0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83</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55</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25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414</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103</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1" name=""/>
          <p:cNvSpPr/>
          <p:nvPr/>
        </p:nvSpPr>
        <p:spPr>
          <a:xfrm>
            <a:off x="1600200" y="4343400"/>
            <a:ext cx="64008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 Inability to deploy full 2103 due to resource plan limitation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rt means the schedule + UBES – DBES &lt; Load Foreca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the Operator Saw – Hour Ahead results - recreated</a:t>
            </a:r>
            <a:endParaRPr b="0" lang="en-US" sz="4000" spc="-1" strike="noStrike">
              <a:solidFill>
                <a:srgbClr val="000000"/>
              </a:solidFill>
              <a:latin typeface="Arial"/>
            </a:endParaRPr>
          </a:p>
        </p:txBody>
      </p:sp>
      <p:graphicFrame>
        <p:nvGraphicFramePr>
          <p:cNvPr id="53" name=""/>
          <p:cNvGraphicFramePr/>
          <p:nvPr/>
        </p:nvGraphicFramePr>
        <p:xfrm>
          <a:off x="762120" y="1676520"/>
          <a:ext cx="8229600" cy="2239920"/>
        </p:xfrm>
        <a:graphic>
          <a:graphicData uri="http://schemas.openxmlformats.org/drawingml/2006/table">
            <a:tbl>
              <a:tblPr/>
              <a:tblGrid>
                <a:gridCol w="2546280"/>
                <a:gridCol w="1420920"/>
                <a:gridCol w="1420560"/>
                <a:gridCol w="1420920"/>
                <a:gridCol w="1420920"/>
              </a:tblGrid>
              <a:tr h="8427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ervalending</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BE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BE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RS Availabl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SRS Availabl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139716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22/2005 19:0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59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87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227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17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4T15:10:43Z</dcterms:created>
  <dc:creator>jadams</dc:creator>
  <dc:description/>
  <dc:language>en-US</dc:language>
  <cp:lastModifiedBy>A. Boren</cp:lastModifiedBy>
  <dcterms:modified xsi:type="dcterms:W3CDTF">2005-05-24T21:51:25Z</dcterms:modified>
  <cp:revision>6</cp:revision>
  <dc:subject/>
  <dc:title>ERCOT Cascading outage Practice &amp; Possible improvement</dc:title>
</cp:coreProperties>
</file>