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57FF3-8016-4B58-A133-D26073D89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A7C9-F4D7-462D-A840-24E343E5E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37600-DA54-4816-9534-DC1A7F359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F2FD5-06F3-491A-83B0-D0E1911DE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14D55-E4CF-4333-B354-35B8EFFFB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9A7AA-FD0B-4282-8230-C518D550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0DBF5-C12F-4B4A-B109-0D898A7FD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308BC-4CF9-4459-AD3E-7893C187B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E804B-6D7F-4350-BFDA-38C262BD9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D22C-0239-4D6F-96E6-6643A5971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BFA8-124A-4204-8A99-D6C5C2BD3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3301A-F3BE-485B-B13B-A9B1CF64F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52D3-B689-4FFC-B468-22D01004A6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ts of March 7th</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 – May 12,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ch 2</a:t>
            </a:r>
            <a:r>
              <a:rPr b="0" lang="en-US" sz="4400" spc="-1" strike="noStrike" baseline="30000">
                <a:solidFill>
                  <a:srgbClr val="000000"/>
                </a:solidFill>
                <a:latin typeface="Arial"/>
              </a:rPr>
              <a:t>nd</a:t>
            </a:r>
            <a:r>
              <a:rPr b="0" lang="en-US" sz="4400" spc="-1" strike="noStrike">
                <a:solidFill>
                  <a:srgbClr val="000000"/>
                </a:solidFill>
                <a:latin typeface="Arial"/>
              </a:rPr>
              <a:t>- Backup Maintena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March 2</a:t>
            </a:r>
            <a:r>
              <a:rPr b="0" lang="en-US" sz="3200" spc="-1" strike="noStrike" baseline="30000">
                <a:solidFill>
                  <a:srgbClr val="000000"/>
                </a:solidFill>
                <a:latin typeface="Arial"/>
              </a:rPr>
              <a:t>nd</a:t>
            </a:r>
            <a:r>
              <a:rPr b="0" lang="en-US" sz="3200" spc="-1" strike="noStrike">
                <a:solidFill>
                  <a:srgbClr val="000000"/>
                </a:solidFill>
                <a:latin typeface="Arial"/>
              </a:rPr>
              <a:t> routine patch application at the backup site of a large QSE was performed.  The boxes involved were programmed to come up in an “active” state.  Normal procedure would have had them de-activated when the site was not active.  This did not take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ch ? – Primary glitc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at QSE had an ICCP glitch making the primary IP address unavailable to ERCOT.  ERCOT showed an active backup site and began reading data from the backup site.  This ICCP data was not val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ncluded LAAR relay status, Gen. MVAR , High &amp; Low limits, and Generator Breaker stat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ch 6 – RTU glitch</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RTU at large QSE had a problem.  ISD data froze, Freezing all generator MW and SCE to ERCOT.   Detected at 14:1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ENTRY: XXXXX: Still showing XXX mw's on XXXXXXXX at ERCOT. XXXX showing XXXXXXX at 0 and sending a 0 signal to ERCOT. Techs on ERCOT and XXX checking on the problem. All XXXX values for the XXXX units at XXXXXX are frozen on ERCOT's e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ppears that XXXX generation signal went flat beginning at 12:28, and did not normalize until 14:29. Additionally, their telemetered SCE signal was also flat across the same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ch 7</a:t>
            </a:r>
            <a:r>
              <a:rPr b="0" lang="en-US" sz="4400" spc="-1" strike="noStrike" baseline="30000">
                <a:solidFill>
                  <a:srgbClr val="000000"/>
                </a:solidFill>
                <a:latin typeface="Arial"/>
              </a:rPr>
              <a:t>th</a:t>
            </a:r>
            <a:r>
              <a:rPr b="0" lang="en-US" sz="4400" spc="-1" strike="noStrike">
                <a:solidFill>
                  <a:srgbClr val="000000"/>
                </a:solidFill>
                <a:latin typeface="Arial"/>
              </a:rPr>
              <a:t> – Problem detecte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XXXXXXXX and discussed the suspect data on all of the Generator breaker status along with the MVAR status for all units ... XXXX indicated he thought it was on our end .. In the analog status page of the substation, the Info key was selected, and the flags indicated the remote end was susp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XXXXX make repairs to the communication for the status point of CB's and MVAR's at all of XXXX generating facil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15:10:43Z</dcterms:created>
  <dc:creator>jadams</dc:creator>
  <dc:description/>
  <dc:language>en-US</dc:language>
  <cp:lastModifiedBy>A. Boren</cp:lastModifiedBy>
  <dcterms:modified xsi:type="dcterms:W3CDTF">2005-05-24T21:50:20Z</dcterms:modified>
  <cp:revision>4</cp:revision>
  <dc:subject/>
  <dc:title>ERCOT Cascading outage Practice &amp; Possible improvement</dc:title>
</cp:coreProperties>
</file>