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7B2CF2-83BE-4938-8838-EBCE195D6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90520" y="703440"/>
            <a:ext cx="4630680" cy="347328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Version 0 tells us if you do not know the consequence of a forced outage you must treat a violation as an I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2CEC2-EF70-4DBB-ACA9-A0BAC2C6E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0469D-AE2F-429E-AD2E-A035A3F8C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40652-BCF7-4152-A531-FDFB020E0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D534C-4304-40C5-93D5-04B37B126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E3974-A2F6-4939-9CE7-5F54CED8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28E07-969D-4BF5-99FB-C7EBEE0C5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5F963-616B-4FC6-81DD-37212CA06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670BF-DD69-4887-989D-6DE9580A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E6D4E-E66F-4259-B398-B47AFB35D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0860-A778-4991-B0A1-DE60C5F96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A756-643A-4564-91AB-FBFCB2657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3598-ABA8-42B6-A77F-D66D269DC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2FD2-CD54-492C-A8C5-A17612CA3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Cascading outage Practice &amp; Possible improvement</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 – May 12,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Operating Guide 2.2.2</a:t>
            </a:r>
            <a:br>
              <a:rPr sz="4400"/>
            </a:br>
            <a:r>
              <a:rPr b="0" lang="en-US" sz="4400" spc="-1" strike="noStrike">
                <a:solidFill>
                  <a:srgbClr val="000000"/>
                </a:solidFill>
                <a:latin typeface="Arial"/>
              </a:rPr>
              <a:t>Security Criteria - continued</a:t>
            </a:r>
            <a:endParaRPr b="0" lang="en-US" sz="4400" spc="-1" strike="noStrike">
              <a:solidFill>
                <a:srgbClr val="000000"/>
              </a:solidFill>
              <a:latin typeface="Arial"/>
            </a:endParaRPr>
          </a:p>
        </p:txBody>
      </p:sp>
      <p:sp>
        <p:nvSpPr>
          <p:cNvPr id="67" name="PlaceHolder 2"/>
          <p:cNvSpPr>
            <a:spLocks noGrp="1"/>
          </p:cNvSpPr>
          <p:nvPr>
            <p:ph/>
          </p:nvPr>
        </p:nvSpPr>
        <p:spPr>
          <a:xfrm>
            <a:off x="304920" y="1523880"/>
            <a:ext cx="86868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redible single contingency is defined as the Forced Outage of two generating units in the ERCOT system within a short period of time, or the Forced Outage of any single transmission element (such as a circuit or transformer). The Forced Outage of a double-circuit transmission line will be considered a credible single circuit contingency during any ERCOT declared Alert or for any operating condition characterized by high DCKT Outage probability or consequ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240"/>
            <a:ext cx="9524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Operating Guide 4.3</a:t>
            </a:r>
            <a:br>
              <a:rPr sz="4400"/>
            </a:br>
            <a:r>
              <a:rPr b="0" lang="en-US" sz="4400" spc="-1" strike="noStrike">
                <a:solidFill>
                  <a:srgbClr val="000000"/>
                </a:solidFill>
                <a:latin typeface="Arial"/>
              </a:rPr>
              <a:t>Operation to Maintain Transmission</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9" name="PlaceHolder 2"/>
          <p:cNvSpPr>
            <a:spLocks noGrp="1"/>
          </p:cNvSpPr>
          <p:nvPr>
            <p:ph/>
          </p:nvPr>
        </p:nvSpPr>
        <p:spPr>
          <a:xfrm>
            <a:off x="304560" y="1143000"/>
            <a:ext cx="8839080" cy="5410080"/>
          </a:xfrm>
          <a:prstGeom prst="rect">
            <a:avLst/>
          </a:prstGeom>
          <a:noFill/>
          <a:ln w="0">
            <a:noFill/>
          </a:ln>
        </p:spPr>
        <p:txBody>
          <a:bodyPr lIns="90000" rIns="90000" tIns="46800" bIns="46800" anchor="t">
            <a:normAutofit fontScale="97000"/>
          </a:bodyPr>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ingle contingency” criteria are specified as follows:</a:t>
            </a:r>
            <a:endParaRPr b="0" lang="en-US" sz="1800" spc="-1" strike="noStrike">
              <a:solidFill>
                <a:srgbClr val="000000"/>
              </a:solidFill>
              <a:latin typeface="Arial"/>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edible single contingency is defined as the Forced Outage of two generating units in the ERCOT System within a short period of time, or the Forced Outage of any single transmission element (such as a circuit or transformer).  </a:t>
            </a:r>
            <a:endParaRPr b="0" lang="en-US" sz="1800" spc="-1" strike="noStrike">
              <a:solidFill>
                <a:srgbClr val="000000"/>
              </a:solidFill>
              <a:latin typeface="Arial"/>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ced Outage of a double-circuit transmission line (DCKT) will be considered a credible single contingency for any of the following operating conditions characterized by high DCKT Outage probability </a:t>
            </a:r>
            <a:r>
              <a:rPr b="0" lang="en-US" sz="1800" spc="-1" strike="noStrike" u="sng">
                <a:solidFill>
                  <a:srgbClr val="000000"/>
                </a:solidFill>
                <a:uFillTx/>
                <a:latin typeface="Arial"/>
              </a:rPr>
              <a:t>or</a:t>
            </a:r>
            <a:r>
              <a:rPr b="0" lang="en-US" sz="1800" spc="-1" strike="noStrike">
                <a:solidFill>
                  <a:srgbClr val="000000"/>
                </a:solidFill>
                <a:latin typeface="Arial"/>
              </a:rPr>
              <a:t> consequence: </a:t>
            </a:r>
            <a:endParaRPr b="0" lang="en-US" sz="1800" spc="-1" strike="noStrike">
              <a:solidFill>
                <a:srgbClr val="000000"/>
              </a:solidFill>
              <a:latin typeface="Arial"/>
            </a:endParaRPr>
          </a:p>
          <a:p>
            <a:pPr marL="517320" indent="-517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Outage Probability </a:t>
            </a:r>
            <a:endParaRPr b="0" lang="en-US" sz="1800" spc="-1" strike="noStrike">
              <a:solidFill>
                <a:srgbClr val="000000"/>
              </a:solidFill>
              <a:latin typeface="Arial"/>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weather conditions are forecasted by ERCOT in the vicinity of the DCKT.</a:t>
            </a:r>
            <a:endParaRPr b="0" lang="en-US" sz="1800" spc="-1" strike="noStrike">
              <a:solidFill>
                <a:srgbClr val="000000"/>
              </a:solidFill>
              <a:latin typeface="Arial"/>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conditions indicate a high risk of insulator flashover on the DCKT.</a:t>
            </a:r>
            <a:endParaRPr b="0" lang="en-US" sz="1800" spc="-1" strike="noStrike">
              <a:solidFill>
                <a:srgbClr val="000000"/>
              </a:solidFill>
              <a:latin typeface="Arial"/>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circuits that are part of the DCKT have experienced repeated Forced Outages within the preceding 48 hours possibly indicating unresolved problems.</a:t>
            </a:r>
            <a:endParaRPr b="0" lang="en-US" sz="1800" spc="-1" strike="noStrike">
              <a:solidFill>
                <a:srgbClr val="000000"/>
              </a:solidFill>
              <a:latin typeface="Arial"/>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gh risk of DCKT Outage exists due to fire in progress near the DCKT right-of-way.</a:t>
            </a:r>
            <a:endParaRPr b="0" lang="en-US" sz="1800" spc="-1" strike="noStrike">
              <a:solidFill>
                <a:srgbClr val="000000"/>
              </a:solidFill>
              <a:latin typeface="Arial"/>
            </a:endParaRPr>
          </a:p>
          <a:p>
            <a:pPr marL="517320" indent="-517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Outage Consequence</a:t>
            </a:r>
            <a:endParaRPr b="0" lang="en-US" sz="1800" spc="-1" strike="noStrike">
              <a:solidFill>
                <a:srgbClr val="000000"/>
              </a:solidFill>
              <a:latin typeface="Arial"/>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transmission Facility, which significantly increases the impact of an Outage to the DCKT, is out of service.</a:t>
            </a:r>
            <a:endParaRPr b="0" lang="en-US" sz="1800" spc="-1" strike="noStrike">
              <a:solidFill>
                <a:srgbClr val="000000"/>
              </a:solidFill>
              <a:latin typeface="Arial"/>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es indicate Outage of the DCKT would result in cascading outages or voltage collapse.</a:t>
            </a:r>
            <a:endParaRPr b="0" lang="en-US" sz="1800" spc="-1" strike="noStrike">
              <a:solidFill>
                <a:srgbClr val="000000"/>
              </a:solidFill>
              <a:latin typeface="Arial"/>
            </a:endParaRPr>
          </a:p>
          <a:p>
            <a:pPr marL="517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udies indicate Outage of the DCKT poses a significant risk of uncontrolled outages because it would result in equipment overloads, which cannot be eliminated through execution of specific, predefined operating procedures in time to prevent equipment damage or failu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guide 3.1.6</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perating the Transmission Grid ERCOT shall use these ratings as follow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hall limit pre-contingency flows to enforce the  Continuous Ra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valid Remedial Action Plan is unavailable to unload the Transmission Facility post contingency …ERCOT shall enforce pre-contingency system Operating Limits(s) to control the post contingency loading of the facility to levels below the Emergency Ra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valid Remedial Action Plan is documented at ERCOT to relieve the loading on the Transmission facility within fifteen minutes; ERCOT shall enforce pre-contingency System Operating Limit(s) to control the post contingency loading of the facility to levels below the Fifteen Minute Ra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 vs Now</a:t>
            </a:r>
            <a:endParaRPr b="0" lang="en-US" sz="4400" spc="-1" strike="noStrike">
              <a:solidFill>
                <a:srgbClr val="000000"/>
              </a:solidFill>
              <a:latin typeface="Arial"/>
            </a:endParaRPr>
          </a:p>
        </p:txBody>
      </p:sp>
      <p:sp>
        <p:nvSpPr>
          <p:cNvPr id="73" name="PlaceHolder 2"/>
          <p:cNvSpPr>
            <a:spLocks noGrp="1"/>
          </p:cNvSpPr>
          <p:nvPr>
            <p:ph/>
          </p:nvPr>
        </p:nvSpPr>
        <p:spPr>
          <a:xfrm>
            <a:off x="762120" y="1142640"/>
            <a:ext cx="8076960" cy="53341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te 90’s, when the wholesale market was in operation, the ATC calculation used multiple contingency lists which were implemented based upon weather in the area. At that time TDSPs/control areas had control of generation and transmission and could relieve reliability violations independently from ERCOT.</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 there is no reliability organization outside of the ERCOT Control Area to maintain ERCOT reliability. Many operating changes have reduced the operating reliability margin since the 1990’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Ratings – reduced margin</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s; SPS – reduced margin</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stability analysis instead of annual – reduced margin</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intends to implement conditional RAP’s as soon as software is implemente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ly the Control Area was the equipment owner, and could choose to risk its equipment. ERCOT, as an operator, not an owner, cannot accept a risk of rating violations outside of guide require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5" name="PlaceHolder 2"/>
          <p:cNvSpPr>
            <a:spLocks noGrp="1"/>
          </p:cNvSpPr>
          <p:nvPr>
            <p:ph/>
          </p:nvPr>
        </p:nvSpPr>
        <p:spPr>
          <a:xfrm>
            <a:off x="762120" y="1219320"/>
            <a:ext cx="761976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position is that a line projected to be over its applicable rating post-contingency is a high consequence.</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is obligated to honor double circuit contingencies if it has a high consequence. (4.3)</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is obligated to prevent significant risk of… equipment overloads which cannot be eliminated through execution of specific pre-defined operating procedures in time to prevent equipment damage. ERCOT cannot recognize this high consequence of a double circuit outage without analyzing this outage. Section 3.1.6 obligates ERCOT to limit pre-contingency loading to avoid violating a post-contingency emergency rating.  NERC TOP-004 obligates ERCOT to remain in a known secure operating condi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Idea  to reduce costs while maintaining secur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C power flow to evaluate how many buses will be shed assuming next line trips whenever above emergency lim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each double circuit outage using this software, and enforce congestion management if, and only if, expected load trip is &gt; x MW.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desired: Estimate risk = probability*load loss*Cost/mw.  Set a threshold for allowable r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arallel with this process, execute Voltage Stability Analysis (VSAT) and Transient Stability Analysis (TSAT) on double circuit contingencies and constrain as neee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Idea  to reduce costs while maintaining secur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wer flow to evaluate if opening overloaded line relives all security violations.  If so, take no congestion management a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RC Standard 0 definition of Cascadin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controlled successive loss of sysem elements triggered by an incident at any location.  Cascading results in widespread electric service interruption that cannot be restrained from sequentially spreading beyond an area predetermined by stu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s use of Cascading: 5.1.4 - Plann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ontingency loss of a double-circuit transmission line that exceeds 0.5 miles in length (either without a fault or subsequent to a normally-cleared non-three-phase fault) with all other facilities normal should not cause a) </a:t>
            </a:r>
            <a:r>
              <a:rPr b="0" lang="en-US" sz="2000" spc="-1" strike="noStrike">
                <a:solidFill>
                  <a:srgbClr val="333399"/>
                </a:solidFill>
                <a:latin typeface="Arial"/>
              </a:rPr>
              <a:t>cascading or uncontrolled outages,</a:t>
            </a:r>
            <a:r>
              <a:rPr b="0" lang="en-US" sz="2000" spc="-1" strike="noStrike">
                <a:solidFill>
                  <a:srgbClr val="000000"/>
                </a:solidFill>
                <a:latin typeface="Arial"/>
              </a:rPr>
              <a:t> b) instability of generating units at multiple plant locations, or c) interruption of service to firm demand or generation other than that isolated by the double-circuit loss, following the execution of all automatic operating actions such as relaying and special protection systems. Furthermore, the loss should result in no damage to or failure of equipment and, following the execution of specific non-automatic predefined operator-directed actions (i.e., Remedial Action Plans), such as generation schedule changes or curtailment of interruptible Load, should not result in applicable voltage or thermal ratings being exceed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s use of Cascading 7.2.2 (14):</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wner(s) of existing, modified, or proposed SPS shall submit documentation of the SPS to ERCOT for review and compilation into an ERCOT SPS database.  The documentation shall detail the design, operation, functional testing, and coordination of the SPS with other protection and control system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hall conduct a review of proposed or modified SPS before the SPS is placed in service.  This review shall verify that the SPS complies with ERCOT and NERC criteria and guides.  The review shall include system studies verifying that failure of a single component of the SPS, which would result in failure of the SPS to operate when required, </a:t>
            </a:r>
            <a:r>
              <a:rPr b="0" lang="en-US" sz="2000" spc="-1" strike="noStrike">
                <a:solidFill>
                  <a:srgbClr val="333399"/>
                </a:solidFill>
                <a:latin typeface="Arial"/>
              </a:rPr>
              <a:t>would not result in cascading transmission outages.</a:t>
            </a:r>
            <a:r>
              <a:rPr b="0" lang="en-US" sz="2000" spc="-1" strike="noStrike">
                <a:solidFill>
                  <a:srgbClr val="000000"/>
                </a:solidFill>
                <a:latin typeface="Arial"/>
              </a:rPr>
              <a:t>  The review shall also verify that misoperation, incorrect operation, or unintended operation of an SPS, when considered by itself, shall meet the system performance requirements of all applicable NERC criteria.  This review shall be documented and the documentation provided to NERC on request within 30 d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ocols Use of Cascading 5.6.6:</a:t>
            </a:r>
            <a:endParaRPr b="0" lang="en-US" sz="4000" spc="-1" strike="noStrike">
              <a:solidFill>
                <a:srgbClr val="000000"/>
              </a:solidFill>
              <a:latin typeface="Arial"/>
            </a:endParaRPr>
          </a:p>
        </p:txBody>
      </p:sp>
      <p:sp>
        <p:nvSpPr>
          <p:cNvPr id="57"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Notice</a:t>
            </a:r>
            <a:endParaRPr b="0" lang="en-US" sz="16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will issue an Emergency Notice only for the following reason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cannot maintain minimum reliability standards (for reasons including fuel shortages) during the Operating Period using every Resource practicably obtainable from the marke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is in an unreliable condition, as defined below;</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mmediate action must be taken to avoid or relieve an overloaded transmission element; or</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varies from timing requirements or omits one or more scheduling procedures, as described in Section 4.8, Temporary Deviations from Scheduling Procedur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actions ERCOT takes during an Emergency Condition will depend on the nature and severity of the situatio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ERCOT is considered to be in an unreliable condition whenever ERCOT Transmission Grid status is such that the most severe single-contingency event presents the threat of uncontrolled separation or cascading outages and/or large-scale service disruption to Load</a:t>
            </a:r>
            <a:r>
              <a:rPr b="0" i="1" lang="en-US" sz="1800" spc="-1" strike="noStrike">
                <a:solidFill>
                  <a:srgbClr val="000000"/>
                </a:solidFill>
                <a:latin typeface="Arial"/>
              </a:rPr>
              <a:t> (other than Load being served from radial transmission service) and/or overload of a critical transmission element, and no timely solution is obtainable from the mar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s use of Cascading 4.2.4:</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is considered to be in an insecure state whenever ERCOT Transmission Grid status is such that the </a:t>
            </a:r>
            <a:r>
              <a:rPr b="0" i="1" lang="en-US" sz="1800" spc="-1" strike="noStrike">
                <a:solidFill>
                  <a:srgbClr val="333399"/>
                </a:solidFill>
                <a:latin typeface="Arial"/>
              </a:rPr>
              <a:t>most severe single-contingency even presents the threat of uncontrolled separation of cascading outages and/or large-scale service disruption to Load (other than Load being served from a single-feed transmission service) and/or overload of a critical transmission element, and no timely solution is obtainable from the marke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will only issue an Emergency Notice when it recognizes that immediate action is required becaus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cannot maintain minimum reliability standards (for reasons including fuel shortages) during the Operating Period using every Resource practicably obtainable from the marke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must avoid or relieve an overloaded transmission elemen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is in an insecure sta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RCOT varies from Timing Requirements or omits one or more Scheduling 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ractic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Transmission Element is loaded post contingency; either single transmission element or double transmission element above its emergency rating; it is assumed to be a potentially cascading ev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ction is required by NERC standard TOP-004-0 which states: “If a transmission Operator enters an unknown operating state (i.e. any state for which valid operating limits have not been determined), it will be considered to be in an emergency and shall restore operations to respect proven reliable power system limits within 30 min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Current Processes co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re are about 2100 contingencies defined in the ERCOT Network Analysis database (CTGS) Posted on ERCOT websi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2 of them are double-circuit contingencies, roughly 8% of total contingencies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8 double circuit/single tower contingencies over .5 mile exist. (ERCOT Operations models ~12% of those exis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ERCOT models all known 345 kV double circuit contingencies, and select 138 kV double circuit contingenc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400" y="151920"/>
            <a:ext cx="6934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Protocols</a:t>
            </a:r>
            <a:endParaRPr b="0" lang="en-US" sz="4400" spc="-1" strike="noStrike">
              <a:solidFill>
                <a:srgbClr val="000000"/>
              </a:solidFill>
              <a:latin typeface="Arial"/>
            </a:endParaRPr>
          </a:p>
        </p:txBody>
      </p:sp>
      <p:sp>
        <p:nvSpPr>
          <p:cNvPr id="65" name="PlaceHolder 2"/>
          <p:cNvSpPr>
            <a:spLocks noGrp="1"/>
          </p:cNvSpPr>
          <p:nvPr>
            <p:ph/>
          </p:nvPr>
        </p:nvSpPr>
        <p:spPr>
          <a:xfrm>
            <a:off x="152280" y="1523880"/>
            <a:ext cx="8763120" cy="457200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and TDSPs shall operate the ERCOT system in compliance with Good Utility Practice and NERC and ERCOT standards, policies, guidelines and operating procedures. (5.2.2)</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Dispatch Instructions shall respect all equipment operating limits. (5.2.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15:10:43Z</dcterms:created>
  <dc:creator>jadams</dc:creator>
  <dc:description/>
  <dc:language>en-US</dc:language>
  <cp:lastModifiedBy>A. Boren</cp:lastModifiedBy>
  <dcterms:modified xsi:type="dcterms:W3CDTF">2005-05-24T21:51:53Z</dcterms:modified>
  <cp:revision>5</cp:revision>
  <dc:subject/>
  <dc:title>ERCOT Cascading outage Practice &amp; Possible improvement</dc:title>
</cp:coreProperties>
</file>