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BA38-BE07-4BE5-97FB-AEED134FF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David Penney @ LCRA, Bitter Creek 345kV breakers opened at 11:00:25 and closed back at 11:03: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Mark Chronister @ TXU, Mulberry Creek AutoXFMR CB5700 tripped at 11:00:28 and closed back at 11:05: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C73-C380-485A-AF42-2DCCD257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08C-DC7E-4C44-8416-12660C7A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215-6F17-461C-A908-E07A0FD5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117-711A-451F-B1D6-0CF0962B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88B-580D-4C3F-BF9C-6FC1D57E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3AE-D4F7-4B71-9FF2-FCA7EC7B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5CC-CD15-4AAD-834B-D77D8F40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8E4-A106-4286-A72F-3EC3462D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470-54A5-4149-8CD8-A72D5F6E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E3A3-C834-4717-AB4B-A3BDF430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2AA-46AC-4BC9-B686-6B76FD0C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FA1-A624-445B-9EA8-CCBFCCC2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5903-7C9C-46CF-A826-F7BC61118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RCOT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ystem Protection Working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57600" y="3314880"/>
            <a:ext cx="2057400" cy="3162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16002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tter Creek 345kV tri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ch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62320" y="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RCOT system one-lin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4876920"/>
            <a:ext cx="1371600" cy="457200"/>
          </a:xfrm>
          <a:prstGeom prst="ellipse">
            <a:avLst/>
          </a:prstGeom>
          <a:noFill/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4038480"/>
            <a:ext cx="1371600" cy="457200"/>
          </a:xfrm>
          <a:prstGeom prst="ellipse">
            <a:avLst/>
          </a:prstGeom>
          <a:noFill/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4724280"/>
            <a:ext cx="990720" cy="304920"/>
          </a:xfrm>
          <a:prstGeom prst="ellipse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114800" y="473868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4738680"/>
            <a:ext cx="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800240" y="580536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5067360" y="5509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3214800"/>
            <a:ext cx="9907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1995120"/>
            <a:ext cx="0" cy="1219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199548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161460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1919160"/>
            <a:ext cx="22860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13848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676160" y="3443400"/>
            <a:ext cx="24382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06216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36708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336708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91516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6324480"/>
            <a:ext cx="9907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5881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m Cr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990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ham DFR (TX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6049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berry Cr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6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RA Bitter Cr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5715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8 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5 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971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4114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3429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3429000"/>
            <a:ext cx="0" cy="838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426708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4281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berry Creek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371240" y="3733920"/>
            <a:ext cx="4724640" cy="2666880"/>
            <a:chOff x="1371240" y="3733920"/>
            <a:chExt cx="4724640" cy="2666880"/>
          </a:xfrm>
        </p:grpSpPr>
        <p:sp>
          <p:nvSpPr>
            <p:cNvPr id="84" name=""/>
            <p:cNvSpPr/>
            <p:nvPr/>
          </p:nvSpPr>
          <p:spPr>
            <a:xfrm>
              <a:off x="1371600" y="4238280"/>
              <a:ext cx="0" cy="10810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71600" y="5319360"/>
              <a:ext cx="123012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01720" y="5319360"/>
              <a:ext cx="0" cy="10810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01720" y="6400800"/>
              <a:ext cx="349380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095880" y="3733920"/>
              <a:ext cx="0" cy="26668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371240" y="3733920"/>
              <a:ext cx="4724280" cy="5043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81040" y="2362320"/>
            <a:ext cx="2209680" cy="1600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2286000"/>
            <a:ext cx="2286000" cy="15238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80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schematic diagram of substations &amp; circuits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4100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 59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86360" y="4390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 5700 &amp; 6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4662360"/>
            <a:ext cx="22860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ult on AEP 138kV line between Mulberry Creek and Elm Cr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ham switching station (TXU) DFR shows low current remote fault on phase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ter Creek DFR showed AG fault with fault current of around 590A on A phase (3Io = 410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ter Creek (LCRA) CB11480/11500 over-tripp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-trip due to carrier fail to block cond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y setting error for carrier start elements on TXU’s 345kV CB7010 terminal at Mulberry Cr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 summary (cont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berry Creek to Elm Creek 138kV line locked out on 1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by SCADA after 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P personnel are investigating reclosing relay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was patrolled but no cause of fault wa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ter Creek 345kV breakers closed back after 2.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RA owns the 345kV breakers and relaying at Bitter C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U owns the line and remote relay terminals (Mulberry Cr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ham switching station DF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81080" y="2743200"/>
            <a:ext cx="320040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6668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9 cycle clearing time; fault on A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905040"/>
          <a:ext cx="9144000" cy="59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5040"/>
                    <a:ext cx="9144000" cy="59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2209680" y="914400"/>
            <a:ext cx="5257800" cy="3886200"/>
            <a:chOff x="2209680" y="914400"/>
            <a:chExt cx="5257800" cy="3886200"/>
          </a:xfrm>
        </p:grpSpPr>
        <p:grpSp>
          <p:nvGrpSpPr>
            <p:cNvPr id="107" name=""/>
            <p:cNvGrpSpPr/>
            <p:nvPr/>
          </p:nvGrpSpPr>
          <p:grpSpPr>
            <a:xfrm>
              <a:off x="2209680" y="2071800"/>
              <a:ext cx="3352680" cy="2728800"/>
              <a:chOff x="2209680" y="2071800"/>
              <a:chExt cx="3352680" cy="27288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2209680" y="2071800"/>
                <a:ext cx="1752480" cy="1357200"/>
                <a:chOff x="2209680" y="2071800"/>
                <a:chExt cx="1752480" cy="13572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209680" y="2362320"/>
                  <a:ext cx="1752480" cy="1066680"/>
                </a:xfrm>
                <a:prstGeom prst="ellipse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514600" y="2071800"/>
                  <a:ext cx="114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B11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200400" y="3048120"/>
                <a:ext cx="2361960" cy="1752480"/>
                <a:chOff x="3200400" y="3048120"/>
                <a:chExt cx="2361960" cy="17524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267080" y="3048120"/>
                  <a:ext cx="1295280" cy="1752480"/>
                </a:xfrm>
                <a:prstGeom prst="ellipse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200400" y="3747960"/>
                  <a:ext cx="114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B1148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4190760" y="1066680"/>
              <a:ext cx="1295640" cy="8384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10080" y="91440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45 kV line to Mulberry Cre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2860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RA Bitter Creek substation one-lin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s &amp; corrective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ter Creek (LCRA) over-tripped due to carrier fail to block condition at Mulberry Creek (TX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y setting error for carrier start elements on TXU’s 345kV CB7010 terminal at Mulberry Cr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rrier start/stop ground overcurrent pickup levels at the TXU end were not properly coordinated with the settings for similar elements at the LCRA 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berry Creek terminal settings were corr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vide an appropriate pickup ratio between the Mulberry carrier ground start/block element and the Bitter Creek stop/trip el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sure that carrier block element will reliably pick up before the carrier trip element 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7:25:14Z</dcterms:created>
  <dc:creator>vatani</dc:creator>
  <dc:description/>
  <dc:language>en-US</dc:language>
  <cp:lastModifiedBy>A. Boren</cp:lastModifiedBy>
  <dcterms:modified xsi:type="dcterms:W3CDTF">2005-05-11T15:31:18Z</dcterms:modified>
  <cp:revision>28</cp:revision>
  <dc:subject/>
  <dc:title>SPWG</dc:title>
</cp:coreProperties>
</file>