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BFA-8142-4551-A70B-7031F389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9A5-24B8-4D4E-A0D4-5EC5D06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B05-5F67-46CF-9F20-B6C88E2A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6F2-DF65-482A-BAD6-4CA4D999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FC2-E533-49AF-AC82-8CDEE62B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EBC-0B03-4539-A01B-9110BFDE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730-FB4C-40C7-851F-10DACE7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C9B-B2DF-4AC1-AC34-87850C99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C91-317F-4A1A-82FD-37A3B2F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059-1338-49CB-9253-5254BF19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D19-D1FD-4F9C-869B-387597A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E4F-FA21-4FB3-9228-7766D49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2F15-A206-4D8A-972F-697AF8F6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V2.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Coordination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all approved Change Controls as identified by the TX SET Working Group for market-wid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oordination, clarification of issues, and documentation for v2.1 Change Controls through the Market Coordination Team (MCT)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MOU/EC entrance into the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Disconnect for Non-Pa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additional billing determinants to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Market Requirements from TX SET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00200"/>
            <a:ext cx="8308800" cy="48006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March 28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Goal to complete mid Ma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to complete early 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to complete late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harter sign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d V2.1 Market Requirements – sign off on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Internal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Planning Schedule including resource list and cost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 Sign off on Internal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nternal Conceptu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enter next phase (Exec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76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ed April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internal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Completion goal of May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letion goal of Jul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November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mpletion goal of September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600200"/>
            <a:ext cx="83822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zette Wilb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2) 248-3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lburn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/EC Entrance to Texas Deregulated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ransaction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cess soli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-40034/TX SET V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54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Contac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sent to RMS, TDSP and CR Primary list serves on Tuesday, April 2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person will be responsible for providing status on Design, Development, Inter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will be presented to RMS in June, July, August, and 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report will be similar to previous market releases (MIMO, V1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 report is due 10 days prior to the RMS meeting each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133720"/>
            <a:ext cx="7620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T requests RMS approval for the implementation of TX SET V2.1 over the Decemb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eken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60020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14240" indent="-25704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in New Orleans, May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the V2.1 Implement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RMG and Protocols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.1 M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A. Boren</cp:lastModifiedBy>
  <dcterms:modified xsi:type="dcterms:W3CDTF">2005-05-03T18:18:16Z</dcterms:modified>
  <cp:revision>30</cp:revision>
  <dc:subject/>
  <dc:title>Slide 1</dc:title>
</cp:coreProperties>
</file>