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FFD-D4C7-4087-8B8D-4547D271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380-AF04-41BD-98C2-6878B76E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42-AA32-4D28-A287-B052BCD7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F01B-3B43-4939-B723-81B5B24E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0E2-F5C7-43EE-8EFD-06E7BCE4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EAA-5D61-45FE-805A-8694CB2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475C-07D0-4BFB-87F5-B2F979AF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87A-5F39-4419-80A8-46D820BF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1D3-3BF5-467D-A7B0-DCA4C15A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9820-E778-4918-A25F-72B6492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0A3D-EFF3-418E-BB46-C40F2937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AC1-A645-4089-8DA1-8EE0964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D432-916E-4540-94A3-9B1B1DA3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CF7-812C-49D0-83E5-7FC3427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449C-F8C1-4165-8825-19A0A71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DCD8-A696-4665-A5C6-9F3830EF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902-6D2C-4256-8BC4-DC2CC56A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6C3-9E12-4DEB-8A34-A6025BE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27F-04D6-42D4-B210-FAE7F299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D66-08AB-4D51-81EC-8C7845CF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DFE-D9AF-4283-AD44-07E619A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5AC-7DE7-4998-9EE9-5BA2D1A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DC9-C1E3-411A-91D1-BE08956D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8A5-2665-40D6-9EF3-8BD8254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6A5F-0302-4103-9F9A-2164024231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1A7-EE13-45CA-A802-FDB248E08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696440" cy="567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idential Survey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sk For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pdate to 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ay 10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t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val of Survey at May TAC meeting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ingual versions of the cover letter and surv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website content and coding.  Website will be posted shor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the firm to provide names for sampled addr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population (stratified by profile type and weather zone) has been identified and addresses are being validated against datab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ogres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urement activities with selected Market Research fir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development to validate responses regarding heating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rvey Up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 to changes in ERCOT procurement procedures, the date of mailing is unknown.  However, survey results are expected 4 weeks after the mail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the Phase I, the contact number provided on the survey form and website will direct respondents to ERCOT’s Load Profiling staf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lectronic version of the survey responses (minus specific customer identifying information) will be available to MPs upon requests.  A matched file of usage records and survey response will also be made avail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5:13:16Z</dcterms:created>
  <dc:creator>jtayl13</dc:creator>
  <dc:description/>
  <dc:language>en-US</dc:language>
  <cp:lastModifiedBy>A. Boren</cp:lastModifiedBy>
  <dcterms:modified xsi:type="dcterms:W3CDTF">2005-05-06T20:48:09Z</dcterms:modified>
  <cp:revision>13</cp:revision>
  <dc:subject/>
  <dc:title>Residential Survey 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22612509</vt:r8>
  </property>
  <property fmtid="{D5CDD505-2E9C-101B-9397-08002B2CF9AE}" pid="3" name="_AuthorEmail">
    <vt:lpwstr>lcao@entergy.com</vt:lpwstr>
  </property>
  <property fmtid="{D5CDD505-2E9C-101B-9397-08002B2CF9AE}" pid="4" name="_AuthorEmailDisplayName">
    <vt:lpwstr>CAO-CONN, LAN</vt:lpwstr>
  </property>
  <property fmtid="{D5CDD505-2E9C-101B-9397-08002B2CF9AE}" pid="5" name="_EmailSubject">
    <vt:lpwstr>Residential Survey Update to RMS</vt:lpwstr>
  </property>
  <property fmtid="{D5CDD505-2E9C-101B-9397-08002B2CF9AE}" pid="6" name="_ReviewingToolsShownOnce">
    <vt:lpwstr/>
  </property>
</Properties>
</file>