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BAE-C5C4-47B3-B8D5-46BE3EC8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765-8EF2-428D-B8D2-2321028A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C2B-7314-40B0-AB33-54E71BA5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19A-91F4-4337-BBA1-CC71AFD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738-2398-4213-8B05-FEA9829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E18-E1A9-4E8B-9E26-52FC4699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567-D78A-4026-9330-9415B43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3F4-4D38-4A7C-809E-7293971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A64-CAFD-4AC5-AE16-ABAA102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A6B-F243-40A3-9F89-44A1D95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899-E722-493C-99BC-883D1791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349-F902-41C2-99E3-DC28C658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017BC1C1-CA30-4FE6-A44B-85D14A7A0B8D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Project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122-1318-47FD-8C9E-C417CE064F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62320" y="152280"/>
            <a:ext cx="4114800" cy="197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0280" y="1343160"/>
            <a:ext cx="8156520" cy="48924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deliver a technology and framework that allows business to optimize their business processes through better orchestration, management and monito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urrent SeeBeyond components with TIB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sufficient TIBCO licensing footprint to support futur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 Service Oriented Architecture (S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480" y="89388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ope / Why is this 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5280" y="15228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121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0280" y="1255680"/>
            <a:ext cx="8156520" cy="52038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 project has a l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ruber / Jim Galvin are Director leve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P identified EAI as a major challenge for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66_06 was initiated to evaluate EAI vendors, and to make a recommendation on how ERCOT should implement its future EAI strategy.  ERCOT worked with three short listed vendors to install their products in a lab environment and performed a set of reliability, performance, manageability and productivity tests.  The tests resulted in a recommendation to replace SeeBeyond with the TIBCO EAI produ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ard approved the recommendation and funding in October 2004.  The SOA project will be delivered in a series of sub-projects throughout 2005, 2006 and into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840" y="78264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5280" y="152280"/>
            <a:ext cx="44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121 Service Orient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348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0121, Service Oriented Architect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b-Component Descrip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5600" y="901800"/>
          <a:ext cx="8750160" cy="5284800"/>
        </p:xfrm>
        <a:graphic>
          <a:graphicData uri="http://schemas.openxmlformats.org/drawingml/2006/table">
            <a:tbl>
              <a:tblPr/>
              <a:tblGrid>
                <a:gridCol w="812880"/>
                <a:gridCol w="1677960"/>
                <a:gridCol w="2458800"/>
                <a:gridCol w="3800520"/>
              </a:tblGrid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n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 Oriented Architecture, Enterprise Integration Frame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BCO software purchase; SOA sub-project definition/delivery strategy; SOA methodology approach, standards, template docu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BCO Haw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tion of TIBCO production monitoring softwa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Information Distribution (M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RMC component and SeeBeyond integration within Report Explorer functionali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mework Services (F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key underlying TIBCO framework components to support business process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21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us Service Agreement (C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CSA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point Services (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existing SeeBeyond point-to-point integration between applications that reside outside of a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In (MV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MVI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tain ESI (MES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MESI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ch (SW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SWI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Out (MV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MVO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op to POLR (DR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DRP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storical Usage (US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ment of SeeBeyond components contained within the USG business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833400"/>
          <a:ext cx="9144000" cy="57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3400"/>
                    <a:ext cx="914400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89240" y="104760"/>
            <a:ext cx="74865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0121, Service Oriented Architect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livery Approach – 7 projects / Consolidated Test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3254400" y="17128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17880" y="27432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4680" y="3032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70280" y="330660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33960" y="36370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00560" y="4314960"/>
            <a:ext cx="33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– Iterative Development / Consolidated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3995640"/>
            <a:ext cx="199080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695920" y="4687920"/>
            <a:ext cx="681120" cy="79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14640" y="2506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duncan</dc:creator>
  <dc:description/>
  <dc:language>en-US</dc:language>
  <cp:lastModifiedBy>A. Boren</cp:lastModifiedBy>
  <cp:lastPrinted>1999-12-01T22:56:09Z</cp:lastPrinted>
  <dcterms:modified xsi:type="dcterms:W3CDTF">2005-05-03T18:19:39Z</dcterms:modified>
  <cp:revision>783</cp:revision>
  <dc:subject/>
  <dc:title>Toll Gate</dc:title>
</cp:coreProperties>
</file>