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8A1-0F55-495E-8BD1-6C3C32CA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89B-8BA2-4E24-B97C-41CBEF13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609-90D9-4343-9C50-CA9FB61A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C76-AF50-4700-876D-64F0609D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1AC-4DCD-4F07-A6F6-5DDE7439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127-421A-4A02-A812-86BB4A3C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890-A60C-4638-A2D7-6EA6C073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479-03FA-4AB1-959F-23AD3A62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823-C52D-4A28-A6CE-1EDF19E2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769-282D-4B70-AD0A-F1D01BB0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395-53E7-441C-BB7A-BFBC67B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15A-54C5-4182-ADED-88F8064D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3B21-B1D5-4026-9E65-63892ADD5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xSET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of Meter estimations does not warrant additional Market Reporting or the addition of Protocol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utilize existing communication methods between TDSP’s and CR’s that can reduce estimates, i.e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ers removed,  requiring MVO from 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er Obstructed/ Locked/ Inaccessibl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communication between CR and TDSP remain flexible vs. establishing Protocol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ows flexibility for CR to communicate with Customer, determine timeframes for meter acces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ows CR to determine if on-going meter estimation is acceptable, and if not, to contact the TDSP to discuss installation of AMR, phone lines, ITRON, etc to secure actual rea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rter 2005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er Estimation Valid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SP’s agreed to compile data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2005 by month to help validate July 2004 report by TX Set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WG found TX Set July report to be higher th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indings; which would be in-line based on time of year and continuous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the TDSP’s consolidated internal estimation codes from field readers, ranging from 15 to 35 unique codes by T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view does not distinguish between single and consecutive months estimated - 36% of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.61% estimated reads have the potential to be consecutive months due to access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848720" y="228600"/>
            <a:ext cx="1066680" cy="685440"/>
            <a:chOff x="7848720" y="228600"/>
            <a:chExt cx="1066680" cy="685440"/>
          </a:xfrm>
        </p:grpSpPr>
        <p:graphicFrame>
          <p:nvGraphicFramePr>
            <p:cNvPr id="47" name=""/>
            <p:cNvGraphicFramePr/>
            <p:nvPr/>
          </p:nvGraphicFramePr>
          <p:xfrm>
            <a:off x="8173080" y="349560"/>
            <a:ext cx="486720" cy="42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73080" y="349560"/>
                      <a:ext cx="486720" cy="42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 txBox="1"/>
            <p:nvPr/>
          </p:nvSpPr>
          <p:spPr>
            <a:xfrm>
              <a:off x="7848720" y="672120"/>
              <a:ext cx="1066680" cy="24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Working Group</a:t>
              </a:r>
              <a:endParaRPr b="0" lang="en-US" sz="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7848720" y="228600"/>
              <a:ext cx="1066680" cy="12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Market Metric</a:t>
              </a:r>
              <a:endParaRPr b="0" lang="en-US" sz="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317360" y="609588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for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rter 200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hly View of Meter Est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848720" y="228600"/>
            <a:ext cx="1066680" cy="685440"/>
            <a:chOff x="7848720" y="228600"/>
            <a:chExt cx="1066680" cy="685440"/>
          </a:xfrm>
        </p:grpSpPr>
        <p:graphicFrame>
          <p:nvGraphicFramePr>
            <p:cNvPr id="54" name=""/>
            <p:cNvGraphicFramePr/>
            <p:nvPr/>
          </p:nvGraphicFramePr>
          <p:xfrm>
            <a:off x="8173080" y="349560"/>
            <a:ext cx="486720" cy="42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73080" y="349560"/>
                      <a:ext cx="486720" cy="42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 txBox="1"/>
            <p:nvPr/>
          </p:nvSpPr>
          <p:spPr>
            <a:xfrm>
              <a:off x="7848720" y="672120"/>
              <a:ext cx="1066680" cy="24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Working Group</a:t>
              </a:r>
              <a:endParaRPr b="0" lang="en-US" sz="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7848720" y="228600"/>
              <a:ext cx="1066680" cy="12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Market Metric</a:t>
              </a:r>
              <a:endParaRPr b="0" lang="en-US" sz="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317360" y="609588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for 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1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0880" y="1758960"/>
            <a:ext cx="8305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rter 2005 Average %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er Estimations by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848720" y="228600"/>
            <a:ext cx="1066680" cy="685440"/>
            <a:chOff x="7848720" y="228600"/>
            <a:chExt cx="1066680" cy="685440"/>
          </a:xfrm>
        </p:grpSpPr>
        <p:graphicFrame>
          <p:nvGraphicFramePr>
            <p:cNvPr id="62" name=""/>
            <p:cNvGraphicFramePr/>
            <p:nvPr/>
          </p:nvGraphicFramePr>
          <p:xfrm>
            <a:off x="8173080" y="349560"/>
            <a:ext cx="486720" cy="42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73080" y="349560"/>
                      <a:ext cx="486720" cy="42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 txBox="1"/>
            <p:nvPr/>
          </p:nvSpPr>
          <p:spPr>
            <a:xfrm>
              <a:off x="7848720" y="672120"/>
              <a:ext cx="1066680" cy="24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Working Group</a:t>
              </a:r>
              <a:endParaRPr b="0" lang="en-US" sz="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8720" y="228600"/>
              <a:ext cx="1066680" cy="12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Market Metric</a:t>
              </a:r>
              <a:endParaRPr b="0" lang="en-US" sz="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319160" y="631656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 for 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10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49160" y="976320"/>
          <a:ext cx="8394840" cy="49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976320"/>
                    <a:ext cx="83948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04 Comparison to 1Q 2005 Avg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er data from AEP, CNP, TNMP and TXU ED onl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sample includes single and consecutive meter estim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0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Q 2005 Av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ers Inaccessible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27,264    38.9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15,399    42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ers estimated due to 3-d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21,358    30.5%           2,200      6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pment Problems / Missing Meters       12,804   18.3%          11,840    32.6%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 / Illness / Safety / Mi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6,537     9.3%            5,678    15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ers requiring MVO from CR                     2,092     3.0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1,157      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Meters Estimat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70,055   100.0%        36,274   100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Meters in Samp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5,872,25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,944,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Percent Estim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1.1929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.610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267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4267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2133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2133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848720" y="228600"/>
            <a:ext cx="1066680" cy="685440"/>
            <a:chOff x="7848720" y="228600"/>
            <a:chExt cx="1066680" cy="685440"/>
          </a:xfrm>
        </p:grpSpPr>
        <p:graphicFrame>
          <p:nvGraphicFramePr>
            <p:cNvPr id="76" name=""/>
            <p:cNvGraphicFramePr/>
            <p:nvPr/>
          </p:nvGraphicFramePr>
          <p:xfrm>
            <a:off x="8173080" y="349560"/>
            <a:ext cx="486720" cy="42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73080" y="349560"/>
                      <a:ext cx="486720" cy="42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 txBox="1"/>
            <p:nvPr/>
          </p:nvSpPr>
          <p:spPr>
            <a:xfrm>
              <a:off x="7848720" y="672120"/>
              <a:ext cx="1066680" cy="24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Working Group</a:t>
              </a:r>
              <a:endParaRPr b="0" lang="en-US" sz="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7848720" y="228600"/>
              <a:ext cx="1066680" cy="12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Market Metric</a:t>
              </a:r>
              <a:endParaRPr b="0" lang="en-US" sz="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319160" y="611964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 for 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10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2:52:16Z</dcterms:created>
  <dc:creator>ERXP</dc:creator>
  <dc:description/>
  <dc:language>en-US</dc:language>
  <cp:lastModifiedBy>Registered User</cp:lastModifiedBy>
  <dcterms:modified xsi:type="dcterms:W3CDTF">2005-05-06T14:26:39Z</dcterms:modified>
  <cp:revision>41</cp:revision>
  <dc:subject/>
  <dc:title>Meter Estimations July 2004</dc:title>
</cp:coreProperties>
</file>