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6182-5A24-4862-9D23-79113094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25E-F1F3-44E4-8F75-562829A9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924-494A-4EE3-A667-5DC332E9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C782-50C3-4C20-A1D8-0F00158B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EFE-CA94-4A45-AFFA-3744687E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FC9-F55B-4600-BE67-6438C954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3B7-597D-4751-A222-77E742D2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255-DB0C-47FB-A7C4-E00B76BA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2EB-0157-4355-AFFD-9440ADFA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7EBD-3C2E-400E-887F-0D31533C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6F6-B37C-4A56-95DD-6032CA79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2F4-DF68-4CBF-9AB5-ACF81EF7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16F9-9556-4765-857D-17C89B342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segger@erco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solution to either enhance or replace the FasTrak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/Why is this important?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the transparency for issues that are submitted via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users to have improved access to th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reporting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search functionality associ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monitoring and response capabiliti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us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upgrade – only if Siebel is chosen as the replacement tool for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240" y="68580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360" y="5943600"/>
            <a:ext cx="19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y 3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32880" y="594360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182520"/>
            <a:ext cx="792468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hancements to FasTrak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733920"/>
            <a:ext cx="18288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mit SCR 7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on of project team to develop detailed system requirements for an enhanced FasTrak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2666880"/>
            <a:ext cx="99036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ne ‘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2666880"/>
            <a:ext cx="106704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g ‘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666880"/>
            <a:ext cx="11430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 ‘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9960" y="2666880"/>
            <a:ext cx="11239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 ‘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2666880"/>
            <a:ext cx="11430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v ‘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2666880"/>
            <a:ext cx="1295280" cy="307080"/>
          </a:xfrm>
          <a:prstGeom prst="rect">
            <a:avLst/>
          </a:prstGeom>
          <a:solidFill>
            <a:srgbClr val="ffff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143000"/>
            <a:ext cx="20574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 With MPs to Gather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 with 14 M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3733920"/>
            <a:ext cx="19810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 with MPs to finalize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914400"/>
            <a:ext cx="25146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e PR 50007 &amp; Met with MPs to prioritize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2666880"/>
            <a:ext cx="1295280" cy="304920"/>
          </a:xfrm>
          <a:prstGeom prst="rect">
            <a:avLst/>
          </a:prstGeom>
          <a:solidFill>
            <a:srgbClr val="ffff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r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057400" y="1980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3733920"/>
            <a:ext cx="198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 Meeting to Review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 Meeting to Review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048120" y="2971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62120"/>
            <a:ext cx="190512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mit SCR 7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on of project to implement the system requirements for an enhanced FasTrak process as defined in SCR 7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1480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81480" y="2971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1523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380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3505320"/>
            <a:ext cx="13716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 meeting to finalize process flows &amp; discuss project implementation 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77240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99072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as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in Feb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March 14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Starting August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– January/Febr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Febr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process diagr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creating “as is”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ing detailed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 with MPs April 27th to verify process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 with MPs to finalize implementation date – January/February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MPs (Q1 ’06), 2 MPs (Dec ’05), 1 MP (Nov ’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xt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with MPs in May to finalize detailed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enhancement method (upgrade current tool, Siebel or A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9360" y="71136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5440" y="152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7680" y="594360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y 3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3048120"/>
            <a:ext cx="3048120" cy="457200"/>
          </a:xfrm>
          <a:prstGeom prst="rightArrow">
            <a:avLst>
              <a:gd name="adj1" fmla="val 50000"/>
              <a:gd name="adj2" fmla="val 16667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182520"/>
            <a:ext cx="7924680" cy="70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tail Ops 2005 Release Pl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518000"/>
            <a:ext cx="251460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 RO 5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066_03 Siebel Upgrade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019 Retail Testing Website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1600200"/>
            <a:ext cx="4191120" cy="91440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Transaction Proc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Transparency and Rpt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Marke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Client Servi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Market Re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I ID Retail – WS Sy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Mark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600200"/>
            <a:ext cx="4191120" cy="91440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I (SeeBeyond/TIB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1254240"/>
            <a:ext cx="4191120" cy="34596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254240"/>
            <a:ext cx="4191120" cy="345960"/>
          </a:xfrm>
          <a:prstGeom prst="rect">
            <a:avLst/>
          </a:prstGeom>
          <a:solidFill>
            <a:srgbClr val="308076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60800" y="2666880"/>
            <a:ext cx="14112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2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2666880"/>
            <a:ext cx="14670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3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47880" y="2666880"/>
            <a:ext cx="135252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1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960" y="2666880"/>
            <a:ext cx="142884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4 ‘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39000" y="2666880"/>
            <a:ext cx="13716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4 ‘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10600" y="2666880"/>
            <a:ext cx="1352520" cy="307080"/>
          </a:xfrm>
          <a:prstGeom prst="rect">
            <a:avLst/>
          </a:prstGeom>
          <a:solidFill>
            <a:srgbClr val="3b5d5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1 ‘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38880" y="3081240"/>
            <a:ext cx="2500200" cy="457200"/>
          </a:xfrm>
          <a:prstGeom prst="rightArrow">
            <a:avLst>
              <a:gd name="adj1" fmla="val 50000"/>
              <a:gd name="adj2" fmla="val 136713"/>
            </a:avLst>
          </a:prstGeom>
          <a:solidFill>
            <a:srgbClr val="3b5d5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13848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RO 5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4495680"/>
            <a:ext cx="266688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 RO 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106 ERCOT.com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-50026 SIR Enhancements (1.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40034 Texas SET 2.1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4503600"/>
            <a:ext cx="266688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 5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50007 SCR 738 (1.1) Enhancements to Fast Tr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-50023 Potential Load Loss (1.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581280"/>
            <a:ext cx="685800" cy="228600"/>
          </a:xfrm>
          <a:prstGeom prst="rect">
            <a:avLst/>
          </a:prstGeom>
          <a:solidFill>
            <a:srgbClr val="ffff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200400"/>
            <a:ext cx="790560" cy="228600"/>
          </a:xfrm>
          <a:prstGeom prst="rect">
            <a:avLst/>
          </a:prstGeom>
          <a:solidFill>
            <a:srgbClr val="3b5d59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310032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RO 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3505320"/>
            <a:ext cx="3809880" cy="457200"/>
          </a:xfrm>
          <a:prstGeom prst="rightArrow">
            <a:avLst>
              <a:gd name="adj1" fmla="val 50000"/>
              <a:gd name="adj2" fmla="val 208327"/>
            </a:avLst>
          </a:prstGeom>
          <a:solidFill>
            <a:srgbClr val="ffff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5284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RO 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886200"/>
            <a:ext cx="7924680" cy="533520"/>
          </a:xfrm>
          <a:prstGeom prst="rightArrow">
            <a:avLst>
              <a:gd name="adj1" fmla="val 50000"/>
              <a:gd name="adj2" fmla="val 371339"/>
            </a:avLst>
          </a:prstGeom>
          <a:solidFill>
            <a:srgbClr val="ccffff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ease RO 6.0 S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5791320"/>
            <a:ext cx="4343400" cy="109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 RO 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-50121 Service Oriented Architecture (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ing sub-projects of PR-501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-50121_03 Market Information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-50121_04 Framework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-50121_05 C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3581280"/>
            <a:ext cx="685800" cy="228600"/>
          </a:xfrm>
          <a:prstGeom prst="rect">
            <a:avLst/>
          </a:prstGeom>
          <a:solidFill>
            <a:srgbClr val="ffff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target dates will become firm after design is complete and project plan fin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June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(published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ly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December ’05 – January ’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cember ’05 – Jan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an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an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anuary/February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7920" y="71136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5440" y="152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5880" y="5977080"/>
            <a:ext cx="141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y 3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Scott Eg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512-248-316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gger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ke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5440" y="152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7680" y="5867280"/>
            <a:ext cx="19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y 3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A. Boren</cp:lastModifiedBy>
  <dcterms:modified xsi:type="dcterms:W3CDTF">2005-05-05T12:59:51Z</dcterms:modified>
  <cp:revision>169</cp:revision>
  <dc:subject/>
  <dc:title>TX SET V1.5 RFP Evaluation Recommen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5-03-16T00:00:00Z</vt:lpwstr>
  </property>
  <property fmtid="{D5CDD505-2E9C-101B-9397-08002B2CF9AE}" pid="3" name="GUID">
    <vt:lpwstr>{20050316-2134-581F-B2D0-2DA44B90E9B3}</vt:lpwstr>
  </property>
  <property fmtid="{D5CDD505-2E9C-101B-9397-08002B2CF9AE}" pid="4" name="Owner">
    <vt:lpwstr>197</vt:lpwstr>
  </property>
  <property fmtid="{D5CDD505-2E9C-101B-9397-08002B2CF9AE}" pid="5" name="Status">
    <vt:lpwstr>Final</vt:lpwstr>
  </property>
</Properties>
</file>