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73E4C-ED4F-48C8-BD86-065A88511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D991A-B4E5-4540-A8B2-00431505C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595DC-059D-4208-ACC7-78CC97D07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E8AC1-741B-4F4A-AB1A-E4911165A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29CDE-45CB-450B-88B9-AF1FCB50D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2976E-BFE7-4423-8B68-A4EB467E8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C99E5-8659-48D4-9921-614F4F946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B8465-C704-4F7B-86A2-290A9B040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A4C2C-C2DF-45D3-80B3-D1670DA85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67749-A05F-4314-A8D1-037498AD4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9CF3B-066B-452A-9F13-965611E95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CE97-1F70-4FC2-9870-0181AFFAB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EE9C-22CB-4FD5-A2AB-47D1DFD7E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152280" y="76320"/>
            <a:ext cx="1828800" cy="982440"/>
          </a:xfrm>
          <a:prstGeom prst="rect">
            <a:avLst/>
          </a:prstGeom>
          <a:ln w="0">
            <a:noFill/>
          </a:ln>
        </p:spPr>
      </p:pic>
      <p:sp>
        <p:nvSpPr>
          <p:cNvPr id="8"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4200"/>
            <a:ext cx="7772400" cy="11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Summary of TAC Procedures – RMS, ROS, WMS</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y 9,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CA5A4D-6F5C-46A0-A074-57D8027E06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Times New Roman"/>
              </a:rPr>
              <a:t>Subcommittees – E-Mail Voting, RMS, ROS, WMS</a:t>
            </a:r>
            <a:br>
              <a:rPr sz="4000"/>
            </a:br>
            <a:endParaRPr b="0" lang="en-US" sz="2800" spc="-1" strike="noStrike">
              <a:solidFill>
                <a:srgbClr val="000000"/>
              </a:solidFill>
              <a:latin typeface="Times New Roman"/>
            </a:endParaRPr>
          </a:p>
        </p:txBody>
      </p:sp>
      <p:sp>
        <p:nvSpPr>
          <p:cNvPr id="7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mail voting is permitted to expedite processes provided the Chair distributes to the roster (e-mail) a detailed description of the issue or proposition.  The chair will submit meeting minutes wherein the vote is recorded for review of accuracy at the next scheduled subcommittee meeting.  (Individual exceptions will be made where needed to accommodate members who do not have e-mail addresses.)  “Discussion Required” votes count as “N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89CA5D-865A-4766-91AE-47DF3BDEDA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09320" y="151920"/>
            <a:ext cx="6248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000000"/>
                </a:solidFill>
                <a:latin typeface="Times New Roman"/>
              </a:rPr>
              <a:t>Subcommittees – E-Mail Voting, RMS, ROS, WMS</a:t>
            </a:r>
            <a:br>
              <a:rPr sz="4000"/>
            </a:br>
            <a:endParaRPr b="0" lang="en-US" sz="2800" spc="-1" strike="noStrike">
              <a:solidFill>
                <a:srgbClr val="000000"/>
              </a:solidFill>
              <a:latin typeface="Times New Roman"/>
            </a:endParaRPr>
          </a:p>
        </p:txBody>
      </p:sp>
      <p:sp>
        <p:nvSpPr>
          <p:cNvPr id="73"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e-mail vote is permitted provided a notification is distributed to the subcommittee distribution list that includes a detailed description of the issue or proposition.  A request for an e-mail vote can only be initiated by the Chair or Vice Chair.  A quorum of Standing Reps must participate in the e-mail vote.  Participation requires casting a vote, or abstaining.  Votes shall be submitted to ERCOT for tallying by the close of two (2) Business Days after notification of the vote.  Votes are tallied in the same manner as a regular meeting.  The final tally shall be distributed to the subcommittee distribution list and posted on the M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AD6830-551E-4285-836E-56B6E128D2AE}"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09680" y="151920"/>
            <a:ext cx="6553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br>
              <a:rPr sz="3600"/>
            </a:br>
            <a:r>
              <a:rPr b="1" lang="en-US" sz="3600" spc="-1" strike="noStrike">
                <a:solidFill>
                  <a:srgbClr val="000000"/>
                </a:solidFill>
                <a:latin typeface="Times New Roman"/>
              </a:rPr>
              <a:t>Revision of TAC Procedures</a:t>
            </a:r>
            <a:endParaRPr b="0" lang="en-US" sz="3600" spc="-1" strike="noStrike">
              <a:solidFill>
                <a:srgbClr val="000000"/>
              </a:solidFill>
              <a:latin typeface="Times New Roman"/>
            </a:endParaRPr>
          </a:p>
        </p:txBody>
      </p:sp>
      <p:sp>
        <p:nvSpPr>
          <p:cNvPr id="48" name="PlaceHolder 2"/>
          <p:cNvSpPr>
            <a:spLocks noGrp="1"/>
          </p:cNvSpPr>
          <p:nvPr>
            <p:ph/>
          </p:nvPr>
        </p:nvSpPr>
        <p:spPr>
          <a:xfrm>
            <a:off x="380520" y="1600200"/>
            <a:ext cx="8458200" cy="46483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ject began in October 2004 to incorporate the Commercial Operations Subcommittee into the TAC Procedure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January 2005, the project was expanded to provide more clarity and information related to the structure and voting process for TAC and all the subcommittees (PRS, RMS, ROS, WM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ral conference calls have been conducted to discuss areas of concern by partie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mary goal was to add more information and clarity</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changes have also been proposed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E7C4B8-1B3E-4808-B2CD-EFC6D4474D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Designation Of Alternate Rep.</a:t>
            </a:r>
            <a:endParaRPr b="0" lang="en-US" sz="2800" spc="-1" strike="noStrike">
              <a:solidFill>
                <a:srgbClr val="000000"/>
              </a:solidFill>
              <a:latin typeface="Times New Roman"/>
            </a:endParaRPr>
          </a:p>
        </p:txBody>
      </p:sp>
      <p:sp>
        <p:nvSpPr>
          <p:cNvPr id="50"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urrent – No language in TAC procedures, but included in subcom. procedures, similar to current TAC]</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f used, a designated Alternate Representative and proxy must be sent to ERCOT for each subcommittee meeting and shall only be valid for such meeting. Alternate Representatives, if not employed by the voting member thereby represented, must be confirmed in writing by such member (signed by a duly authorized representative of the member).</a:t>
            </a:r>
            <a:endParaRPr b="0" lang="en-US" sz="2200" spc="-1" strike="noStrike">
              <a:solidFill>
                <a:srgbClr val="000000"/>
              </a:solidFill>
              <a:latin typeface="Times New Roman"/>
            </a:endParaRPr>
          </a:p>
        </p:txBody>
      </p:sp>
      <p:sp>
        <p:nvSpPr>
          <p:cNvPr id="51"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Proposed – change to timeframe</a:t>
            </a:r>
            <a:endParaRPr b="0" lang="en-US" sz="21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f the Standing Representative wishes to designate an Alternate Representative or proxy, a notification of the designation of such Alternate Representative or proxy must be sent to ERCOT and shall be valid for the time period designated by the Standing Representative. </a:t>
            </a:r>
            <a:r>
              <a:rPr b="0" lang="en-US" sz="2000" spc="-1" strike="noStrike">
                <a:solidFill>
                  <a:srgbClr val="000000"/>
                </a:solidFill>
                <a:latin typeface="Times New Roman"/>
              </a:rPr>
              <a:t>Alternate Representatives, if not employed by the voting member thereby represented, must be confirmed in writing by such member (signed by a duly authorized representative of the member).</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6BDE127-A547-4BB3-AD50-74D0AC2F5D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etings and Notification</a:t>
            </a:r>
            <a:endParaRPr b="0" lang="en-US" sz="2800" spc="-1" strike="noStrike">
              <a:solidFill>
                <a:srgbClr val="000000"/>
              </a:solidFill>
              <a:latin typeface="Times New Roman"/>
            </a:endParaRPr>
          </a:p>
        </p:txBody>
      </p:sp>
      <p:sp>
        <p:nvSpPr>
          <p:cNvPr id="53"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urrent – No language in TAC procedures, but included in subcom. procedures</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etings called by the Chair and notice sent to each member and posted on website at least 1 week prior to the meeting, unless an emergency condition should suggest otherwise.  In addition to the above, subcom. meetings are normally attended by an ERCOT Staff Member who provides support for meeting arrangements, subcom. meeting minutes, meeting notes and other administrative support.</a:t>
            </a:r>
            <a:endParaRPr b="0" lang="en-US" sz="2300" spc="-1" strike="noStrike">
              <a:solidFill>
                <a:srgbClr val="000000"/>
              </a:solidFill>
              <a:latin typeface="Times New Roman"/>
            </a:endParaRPr>
          </a:p>
        </p:txBody>
      </p:sp>
      <p:sp>
        <p:nvSpPr>
          <p:cNvPr id="54"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Proposed – minor change </a:t>
            </a:r>
            <a:endParaRPr b="0" lang="en-US" sz="2300" spc="-1" strike="noStrike">
              <a:solidFill>
                <a:srgbClr val="000000"/>
              </a:solidFill>
              <a:latin typeface="Times New Roman"/>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	</a:t>
            </a:r>
            <a:r>
              <a:rPr b="0" lang="en-US" sz="2300" spc="-1" strike="noStrike">
                <a:solidFill>
                  <a:srgbClr val="000000"/>
                </a:solidFill>
                <a:latin typeface="Times New Roman"/>
              </a:rPr>
              <a:t>Meetings called by the Chair and notices sent to each SR, the subcom. distribution list and posted on website at least 1 week prior to meeting unless an emergency condition requires a shorter notice.  In addition, subcommittee meetings are attended by ERCOT Staff person(s) who coordinate ERCOT support of the meeting, including meeting arrangements, meeting minutes, and ERCOT Staff participation in the meeting. </a:t>
            </a:r>
            <a:endParaRPr b="0" lang="en-US" sz="2300" spc="-1" strike="noStrike">
              <a:solidFill>
                <a:srgbClr val="000000"/>
              </a:solidFill>
              <a:latin typeface="Times New Roman"/>
            </a:endParaRPr>
          </a:p>
        </p:txBody>
      </p:sp>
      <p:sp>
        <p:nvSpPr>
          <p:cNvPr id="5" name="PlaceHolder 4"/>
          <p:cNvSpPr>
            <a:spLocks noGrp="1"/>
          </p:cNvSpPr>
          <p:nvPr>
            <p:ph type="sldNum" idx="3"/>
          </p:nvPr>
        </p:nvSpPr>
        <p:spPr/>
        <p:txBody>
          <a:bodyPr/>
          <a:p>
            <a:fld id="{9801CFED-3479-4B6F-8B59-6472A3C146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Membership – RMS, ROS, WMS</a:t>
            </a:r>
            <a:endParaRPr b="0" lang="en-US" sz="2800" spc="-1" strike="noStrike">
              <a:solidFill>
                <a:srgbClr val="000000"/>
              </a:solidFill>
              <a:latin typeface="Times New Roman"/>
            </a:endParaRPr>
          </a:p>
        </p:txBody>
      </p:sp>
      <p:sp>
        <p:nvSpPr>
          <p:cNvPr id="56"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fontScale="98000"/>
          </a:bodyPr>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urrent –</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TAC Procedures </a:t>
            </a:r>
            <a:r>
              <a:rPr b="0" lang="en-US" sz="2200" spc="-1" strike="noStrike">
                <a:solidFill>
                  <a:srgbClr val="000000"/>
                </a:solidFill>
                <a:latin typeface="Times New Roman"/>
              </a:rPr>
              <a:t>Membership shall consist of 1 to 4 representatives from each Segment.</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bcom. Procedures adds:</a:t>
            </a:r>
            <a:endParaRPr b="0"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number of representatives for each Segment shall be determined by the TAC members representing that Segment.  Representatives, if not employed by the voting member thereby represented, must be confirmed in writing by such member (Signed by a duly authorized representative of the member).</a:t>
            </a:r>
            <a:endParaRPr b="0" lang="en-US" sz="2200" spc="-1" strike="noStrike">
              <a:solidFill>
                <a:srgbClr val="000000"/>
              </a:solidFill>
              <a:latin typeface="Times New Roman"/>
            </a:endParaRPr>
          </a:p>
        </p:txBody>
      </p:sp>
      <p:sp>
        <p:nvSpPr>
          <p:cNvPr id="57"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a:t>
            </a:r>
            <a:r>
              <a:rPr b="0" lang="en-US" sz="2000" spc="-1" strike="noStrike">
                <a:solidFill>
                  <a:srgbClr val="000000"/>
                </a:solidFill>
                <a:latin typeface="Times New Roman"/>
              </a:rPr>
              <a:t> </a:t>
            </a:r>
            <a:r>
              <a:rPr b="1" lang="en-US" sz="2000" spc="-1" strike="noStrike">
                <a:solidFill>
                  <a:srgbClr val="000000"/>
                </a:solidFill>
                <a:latin typeface="Times New Roman"/>
              </a:rPr>
              <a:t>TAC Procedur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hip shall consist of 1 to 4 Standing Representatives from each Segmen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2AEA341-41AD-4DA1-9422-EB9B883934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Quorum – RMS, ROS, WMS</a:t>
            </a:r>
            <a:endParaRPr b="0" lang="en-US" sz="2800" spc="-1" strike="noStrike">
              <a:solidFill>
                <a:srgbClr val="000000"/>
              </a:solidFill>
              <a:latin typeface="Times New Roman"/>
            </a:endParaRPr>
          </a:p>
        </p:txBody>
      </p:sp>
      <p:sp>
        <p:nvSpPr>
          <p:cNvPr id="59"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least 1 representative from each of 4 market segments and a majority of the subcommittee members must be present at a meeting to constitute a quorum.</a:t>
            </a:r>
            <a:endParaRPr b="0" lang="en-US" sz="2800" spc="-1" strike="noStrike">
              <a:solidFill>
                <a:srgbClr val="000000"/>
              </a:solidFill>
              <a:latin typeface="Times New Roman"/>
            </a:endParaRPr>
          </a:p>
        </p:txBody>
      </p:sp>
      <p:sp>
        <p:nvSpPr>
          <p:cNvPr id="60"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 </a:t>
            </a:r>
            <a:r>
              <a:rPr b="1" lang="en-US" sz="2800" spc="-1" strike="noStrike">
                <a:solidFill>
                  <a:srgbClr val="ff3300"/>
                </a:solidFill>
                <a:latin typeface="Times New Roman"/>
              </a:rPr>
              <a:t>same as current, plu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nding Representatives may participate in the meeting via telephone, but participation via telephone shall not count towards a quoru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5272E5F2-1264-485A-9EBE-540F62D65B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es – RMS, ROS, WMS</a:t>
            </a:r>
            <a:endParaRPr b="0" lang="en-US" sz="2800" spc="-1" strike="noStrike">
              <a:solidFill>
                <a:srgbClr val="000000"/>
              </a:solidFill>
              <a:latin typeface="Times New Roman"/>
            </a:endParaRPr>
          </a:p>
        </p:txBody>
      </p:sp>
      <p:sp>
        <p:nvSpPr>
          <p:cNvPr id="62"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Each Segment has 1 vote except the Consumer Segment, which will have 1 ½ votes.  Votes are fractionally and equally divided among the representatives of each Seg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 </a:t>
            </a:r>
            <a:r>
              <a:rPr b="1" lang="en-US" sz="2400" spc="-1" strike="noStrike">
                <a:solidFill>
                  <a:srgbClr val="ff3300"/>
                </a:solidFill>
                <a:latin typeface="Times New Roman"/>
              </a:rPr>
              <a:t>same as current, pl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tes divided among the SRs of each segment present at the meeting and casting a vote, except the Consumer Segment which is divided into 3 subsegments, each of which has 1/3 of the segment vote. For CS, if no SR from a subseg. is present or all SRs from a subseg. abstain, the vote is allocated to subseg. present and casting a vo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5C3FB2F-5874-45B5-9CC0-39261B7283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Voting – RMS, ROS, WMS</a:t>
            </a:r>
            <a:endParaRPr b="0" lang="en-US" sz="2800" spc="-1" strike="noStrike">
              <a:solidFill>
                <a:srgbClr val="000000"/>
              </a:solidFill>
              <a:latin typeface="Times New Roman"/>
            </a:endParaRPr>
          </a:p>
        </p:txBody>
      </p:sp>
      <p:sp>
        <p:nvSpPr>
          <p:cNvPr id="65"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The act of a majority of the votes represented by members present and a minimum of three (3) votes will be the act of the subcommittee</a:t>
            </a:r>
            <a:endParaRPr b="0" lang="en-US" sz="2800" spc="-1" strike="noStrike">
              <a:solidFill>
                <a:srgbClr val="000000"/>
              </a:solidFill>
              <a:latin typeface="Times New Roman"/>
            </a:endParaRPr>
          </a:p>
        </p:txBody>
      </p:sp>
      <p:sp>
        <p:nvSpPr>
          <p:cNvPr id="66"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posed – </a:t>
            </a:r>
            <a:r>
              <a:rPr b="1" lang="en-US" sz="2000" spc="-1" strike="noStrike">
                <a:solidFill>
                  <a:srgbClr val="ff3300"/>
                </a:solidFill>
                <a:latin typeface="Times New Roman"/>
              </a:rPr>
              <a:t>same as current, plu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ly Standing Representatives, their designated Alternate Representative, or proxy may vote.  A motion of the subcommittee passes when 1) a majority of the aggregate of the fractional Segment votes are affirmative and 2) a minimum of three (3) Segment Votes are affirmative.  A Segment Vote is considered affirmative when the majority of Standing Representatives of the Segment voted affirmatively.  The results of all votes taken will be reported to TAC, whether or not the vote passe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F10FCABE-4D93-4EDF-9181-92D29BA059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5640" y="151920"/>
            <a:ext cx="6172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committee - Abstentions</a:t>
            </a:r>
            <a:endParaRPr b="0" lang="en-US" sz="2800" spc="-1" strike="noStrike">
              <a:solidFill>
                <a:srgbClr val="000000"/>
              </a:solidFill>
              <a:latin typeface="Times New Roman"/>
            </a:endParaRPr>
          </a:p>
        </p:txBody>
      </p:sp>
      <p:sp>
        <p:nvSpPr>
          <p:cNvPr id="68" name="PlaceHolder 2"/>
          <p:cNvSpPr>
            <a:spLocks noGrp="1"/>
          </p:cNvSpPr>
          <p:nvPr>
            <p:ph/>
          </p:nvPr>
        </p:nvSpPr>
        <p:spPr>
          <a:xfrm>
            <a:off x="304560" y="1294920"/>
            <a:ext cx="419076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urrent language in TAC or subcom. procedures on treatment of abstentions except that abstentions during roll call votes will be recorded.]</a:t>
            </a:r>
            <a:endParaRPr b="0" lang="en-US" sz="2400" spc="-1" strike="noStrike">
              <a:solidFill>
                <a:srgbClr val="000000"/>
              </a:solidFill>
              <a:latin typeface="Times New Roman"/>
            </a:endParaRPr>
          </a:p>
        </p:txBody>
      </p:sp>
      <p:sp>
        <p:nvSpPr>
          <p:cNvPr id="69" name="PlaceHolder 3"/>
          <p:cNvSpPr>
            <a:spLocks noGrp="1"/>
          </p:cNvSpPr>
          <p:nvPr>
            <p:ph/>
          </p:nvPr>
        </p:nvSpPr>
        <p:spPr>
          <a:xfrm>
            <a:off x="4647960" y="1294920"/>
            <a:ext cx="426708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posed – </a:t>
            </a:r>
            <a:endParaRPr b="0" lang="en-US" sz="1800" spc="-1" strike="noStrike">
              <a:solidFill>
                <a:srgbClr val="000000"/>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900" spc="-1" strike="noStrike">
                <a:solidFill>
                  <a:srgbClr val="000000"/>
                </a:solidFill>
                <a:latin typeface="Times New Roman"/>
              </a:rPr>
              <a:t>In the event that a voting member, their designated Alternate Representative, or proxy, is not present during a roll call vote, or abstains from voting, that member’s fractional vote will be reallocated equally among the remaining voting members of that Segment; except for the Consumer Segment.                                                </a:t>
            </a:r>
            <a:r>
              <a:rPr b="1" lang="en-US" sz="1900" spc="-1" strike="noStrike">
                <a:solidFill>
                  <a:srgbClr val="000000"/>
                </a:solidFill>
                <a:latin typeface="Times New Roman"/>
              </a:rPr>
              <a:t> NOTE: Alternative language for abstention:</a:t>
            </a:r>
            <a:r>
              <a:rPr b="0" lang="en-US" sz="1900" spc="-1" strike="noStrike">
                <a:solidFill>
                  <a:srgbClr val="000000"/>
                </a:solidFill>
                <a:latin typeface="Times New Roman"/>
              </a:rPr>
              <a:t> [For purposes of voting, an abstention is treated as if the individual did not cast a vote.  A vote is cast as an “aye” or a “nay” vote.  An abstention is not a vote.]  In the event that a voting member, their Designated Alternate Representative, or proxy, abstains from a vote, the Segment vote is allocated among the members casting a vote.</a:t>
            </a:r>
            <a:endParaRPr b="0" lang="en-US" sz="1900" spc="-1" strike="noStrike">
              <a:solidFill>
                <a:srgbClr val="000000"/>
              </a:solidFill>
              <a:latin typeface="Times New Roman"/>
            </a:endParaRPr>
          </a:p>
        </p:txBody>
      </p:sp>
      <p:sp>
        <p:nvSpPr>
          <p:cNvPr id="5" name="PlaceHolder 4"/>
          <p:cNvSpPr>
            <a:spLocks noGrp="1"/>
          </p:cNvSpPr>
          <p:nvPr>
            <p:ph type="sldNum" idx="3"/>
          </p:nvPr>
        </p:nvSpPr>
        <p:spPr/>
        <p:txBody>
          <a:bodyPr/>
          <a:p>
            <a:fld id="{349E19FD-52FD-4556-91F2-B5AEFDF1E8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A. Boren</cp:lastModifiedBy>
  <dcterms:modified xsi:type="dcterms:W3CDTF">2005-05-09T14:09:16Z</dcterms:modified>
  <cp:revision>128</cp:revision>
  <dc:subject/>
  <dc:title>Point-to-Point</dc:title>
</cp:coreProperties>
</file>