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95234-2702-49A5-8539-1EBEBB058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07B0D-000E-438E-8D91-72B41BDDF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8EB9F-BF56-47A8-9BB7-26D8C1FDF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EFE98-E5DB-4FA5-92BC-ABF43586F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5CBEB-3507-40B4-AFB7-7975B362D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57930-8E4B-47FB-9AFC-BFB7115AD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5730E-B9DD-4514-8CF5-5E6003652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4EAF6-8F45-430B-97AC-CD7CE0249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30492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14DC9-B91F-4556-879C-0F83EDDB8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3FC15-BDE3-4249-8BF7-DCE743382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25FDE-5F3A-4518-B9FD-57D1DA0B6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39A4D-E9AC-4C4C-AC01-8E6E0EE60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7E6C7-373B-4F60-B1D3-DE89415CAF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828800" cy="98280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228600" y="1143000"/>
            <a:ext cx="8686800" cy="76320"/>
          </a:xfrm>
          <a:prstGeom prst="rect">
            <a:avLst/>
          </a:prstGeom>
          <a:gradFill rotWithShape="0">
            <a:gsLst>
              <a:gs pos="0">
                <a:srgbClr val="00475e"/>
              </a:gs>
              <a:gs pos="100000">
                <a:srgbClr val="0099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6360" bIns="36360" anchor="ctr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3160" y="2514600"/>
            <a:ext cx="7924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light 0405 Upda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CE5E3-F650-4059-BB7D-477BAC1A891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light 0405 Upd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78487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light manif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 New REPs – 32 New Relationsh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 New Umbrella DUNS – 24 New Relationsh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Existing REP testing in new territory – 1 New Relationsh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 Existing REP testing new functional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 Existing REPs changing Service Provi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 Existing REPs changing Ban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TDSP changing Ban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out 8000 Tasks to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56374-42CD-40D9-9CE3-F501BDEE830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light 0405 Upd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78487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gr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ight sign-up deadline was March 9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al Test Matrix was sent out March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st beds were due April 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nectivity comple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of 4/29 – Flight is 47.6% comple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ek 1 comple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ek 2 99.5% comple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ek 3 90.3% comple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1C492-CAD3-42C5-848E-5DD3F14419E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light 0405 Next Ste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09480" y="1447560"/>
            <a:ext cx="78487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y June RMS (6/15/0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ight 0405 scheduled to complete on 6/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ext Flight - 07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ientation Meeting June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20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ight Deadline – June 8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20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nectivity Kick-off – June 1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20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ight Kick-off – June 2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20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22F30-3CED-48B0-ADA5-5350BF56F11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29T21:45:07Z</dcterms:created>
  <dc:creator>kcotner</dc:creator>
  <dc:description/>
  <dc:language>en-US</dc:language>
  <cp:lastModifiedBy>A. Boren</cp:lastModifiedBy>
  <cp:lastPrinted>2002-09-24T18:27:58Z</cp:lastPrinted>
  <dcterms:modified xsi:type="dcterms:W3CDTF">2005-05-03T18:20:16Z</dcterms:modified>
  <cp:revision>367</cp:revision>
  <dc:subject/>
  <dc:title>PowerPoint Presentation</dc:title>
</cp:coreProperties>
</file>