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69B-2A3A-4733-B57E-C5F2A5C9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FE3-68D8-4CDA-A0FF-91E5E836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4B7-C9F3-4663-82F5-1BA48858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FEC-7FBE-477E-B039-CC2FB9C4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8AB-58F0-4696-B2CF-41FB350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4C2-433C-4228-9E7C-C60CBEA3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AA0-DF7B-4D41-8549-18E36D6B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0AE-D1D3-4458-90E4-04C18EFD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E36-CC0C-45E3-A925-2593E3FE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514-D0F4-46B1-AB61-6E77CB13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BC0-BF57-4996-A824-DCC3D82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E32-A6D2-4E53-BF26-3CC4C90A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FC00-352E-45E6-AA9E-6AD400188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2D4-0C2E-45A4-9D53-3291EC6305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4/27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066680"/>
          <a:ext cx="532440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32440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791320" y="129528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1600" y="3809880"/>
          <a:ext cx="6172200" cy="225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809880"/>
                    <a:ext cx="6172200" cy="22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6F3-9C86-4CDD-9238-1C9D6C1050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4/27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34080" y="17334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4 issues = 224,4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733400"/>
          <a:ext cx="540072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3400"/>
                    <a:ext cx="5400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637-3D20-41D5-AF50-C15124FAD55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4/27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1066680"/>
          <a:ext cx="532440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32440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791320" y="129528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,2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and In Progress Non-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36B-DDCF-4F6A-AB7B-39D75552640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4/27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4479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4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14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5 =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6,0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24640" y="4343400"/>
            <a:ext cx="3214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,14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39760" y="1447920"/>
          <a:ext cx="517824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47920"/>
                    <a:ext cx="51782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01B-E274-4493-815B-8A8CEC06DF1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4/27/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1600200"/>
          <a:ext cx="8439120" cy="38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4391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828800" y="601992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2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&amp; In Progress ERCOT Issues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4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745-6DCC-4A04-A175-96CF6125F04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4/27/05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1447920"/>
          <a:ext cx="7419960" cy="28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1996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473-A668-4B50-8D76-7946B46A6E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815328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596-6492-4664-A47D-6B60FD48D0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82160" cy="36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463-88D0-4215-8CB7-75C5E3A5C0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58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87B-96D1-4401-A36C-7BBEF3EB62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C94-9967-4A9F-9928-F0D893D77E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4D4-2F57-4BAE-92A2-0B1C9DF000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56272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 above includes only data since August 2004 TX SET 2.0 Implementatio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e to changes in cancellation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8680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3CB-4F65-48E1-B33C-4CA97AEA98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AB0-89D6-4FB9-9010-008122F5FE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04/27/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34080" y="17334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3 issues = 324,4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1733400"/>
          <a:ext cx="540072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3400"/>
                    <a:ext cx="5400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EC8-DBE9-4DCD-93A0-E4D9FB82ED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5-05T13:01:00Z</dcterms:modified>
  <cp:revision>556</cp:revision>
  <dc:subject/>
  <dc:title>PowerPoint Presentation</dc:title>
</cp:coreProperties>
</file>