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92D-FB6D-4EEC-B055-E83B143D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C09-06EE-414E-8199-EBD4B6D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23C-CD72-4A15-B77B-27B273AC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5F7-0D6B-4065-AD1C-9A60DD8A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653-569C-4F43-B00C-6DFE697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237-D679-4FFB-BC9C-BDC75D22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8F0-2A70-47F3-B893-7ADE8285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2C7-15C8-46F1-9AAC-0807B057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0B0-4685-463A-BDA6-98F373AC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E88-FC61-415D-BBD1-0A4C3DE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2FF-C33D-48B8-9782-E178DFD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A41-8E92-4448-891B-A58EC0EF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B2C-0D0F-4FBE-A3C6-F1802B9C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y 5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DA5-D782-49B9-9A6F-9FA971C86D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523880"/>
            <a:ext cx="838188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COPS approved the following for submission to P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ft PRR 548 (Notification for Mismatched Inter-QSE Energy Schedules).  ERCOT will provide a record of the amount of mismatch to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pa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ft SCR (QSE Dispute 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raft PRR 568 (Change Initial Settlement from 17 days to 10 days) - Accepted ERCOT comments including transition language.  Established Task Force to create implementation plan in parallel with PRR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7C6-8764-4DB1-8503-E21BF188F6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eting to be scheduled prior to COPS May 24th meeting to discuss implementation plan for Draft PRR 568 (Change Initial Settlement from 17 days to 10 day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going discussion concerning future Dispute and ADR Process. (Policy Issues versus Mitigating Risk)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will be useful when determining Settlement Tim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038-196B-40E3-BCA2-154AA7524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. Boren</cp:lastModifiedBy>
  <dcterms:modified xsi:type="dcterms:W3CDTF">2005-05-04T13:16:36Z</dcterms:modified>
  <cp:revision>125</cp:revision>
  <dc:subject/>
  <dc:title>Point-to-Point</dc:title>
</cp:coreProperties>
</file>