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A566-725D-4483-97F4-EC73A1CF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1A01-3843-4421-927D-DBF52D24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6FBC-9B5A-433C-95D4-9E6D9F06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FA7B-F0A5-46B0-A41B-9511772A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4FBD-EBBA-425E-B04F-1F3FA38A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166F-E314-41B3-BF69-7071093B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8FAA-9DEA-403C-B7A4-E8326C5B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34D-0124-457D-AB31-8CB298AB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58EA-CBA3-480F-9CCB-FB32BB3D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DFB7-C82F-4267-AB9F-C5AA3E39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09E5-32DF-40BD-8C60-66FBF366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E88C-4B44-4FA5-9CAE-23AE977F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372B-5DFE-427E-838B-C98CA28F9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67600"/>
            <a:ext cx="883908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0280" y="1111320"/>
            <a:ext cx="8156520" cy="489276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grade Siebel to a supported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grade Oracle database to 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 all existing user functionality with no degradation in perform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o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grade Siebel software v6.3 to v7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grade Oracle database 8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9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all existing Siebel functionality from v6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all existing functionality to interfaces (L*, Reports/Extracts, ETS        (internal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developers to more easily enhance system functionality going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 thin-client for external Settlement Disputes &amp; Service Reque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6480" y="711360"/>
            <a:ext cx="35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ope / Why is this 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54920" y="15228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0280" y="1069920"/>
            <a:ext cx="8156520" cy="48736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as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on – Completed in Sept ‘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– Completed in January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– Completed April 18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ing – Goal to complete early June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c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ed all components to Production except eService (new Service Requests and Settlement Disputes functiona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xt step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to monitor transac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e eService component for Service Requests and Settlement Disp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9360" y="71136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54920" y="15228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0280" y="1069920"/>
            <a:ext cx="8156520" cy="48736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(pens dow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ed early January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Design (Internal documen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ed mid February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Completed late February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ed mid April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ed mid March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Web Cast for Settlement Disputes Completed April 15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(Go liv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hase 1 completed April 15-17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46440" indent="-204840">
              <a:lnSpc>
                <a:spcPct val="100000"/>
              </a:lnSpc>
              <a:tabLst>
                <a:tab algn="l" pos="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2 scheduled for May 21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46440" indent="-204840">
              <a:lnSpc>
                <a:spcPct val="100000"/>
              </a:lnSpc>
              <a:tabLst>
                <a:tab algn="l" pos="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7920" y="71136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leve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920" y="15228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0280" y="1069920"/>
            <a:ext cx="8156520" cy="48736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Lead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hn Kass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2) 248-65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kassel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RCO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ject was a CASUP recommendation approved by ERCOT Executive committee and the ERCOT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dor support expired for existing version of Siebel and Oracle in 2004 – cost to maintain becomes significant if major problems a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 is the Registration system for all ERCOT’s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 has limited Portal interaction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6840" y="71136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54920" y="15228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0280" y="1066680"/>
            <a:ext cx="8156520" cy="502920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ow is the status of the Siebel v7.7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sting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has ru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v7.7 Test Cases with all applications in iTest for Phase 1 (GUI / CRM / eService / Reporting)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has ru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9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9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v7.7 Test Cases with all applications in iTest for Phase 2 (Retail Transactions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has ru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7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7.7 Test Cases to d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UAT,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n defects remained out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fects logged… Note: onl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sues reported required cod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UI Post Implementation tests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nal EDIM Post Implementation tests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4920" y="152280"/>
            <a:ext cx="35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71136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ing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0280" y="1066680"/>
            <a:ext cx="8156520" cy="502920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ow is the status of the Siebel v7.7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gration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execu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pgrade Planning Preparatio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execu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e-Upgrade Tas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execu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pgrade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execu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st-Upgrade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execu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nctional Verificatio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chnical error logged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sue reported throughout the migration (related to TML connectivity to Siebel)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from Operations, Networks, DBAs, Infrastructure, and IT Development worked approximate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8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 hours over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r span, from 4am Friday through 6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in support of the Migration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54920" y="152280"/>
            <a:ext cx="35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4200" y="71136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0280" y="1066680"/>
            <a:ext cx="8156520" cy="502920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ow is the status of the Siebel v7.7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duction Verification Effo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  Transaction Proces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execu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rip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  Retail Client Servic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execu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  Wholesale Client Services execu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ipt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ximate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ople from Transaction Processing, RCS, and WCS worked roughl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tal man hours in support of the Production Verification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ference Calls were scheduled throughout the Migration weekend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turday &amp; Sund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iday &amp; Mon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SP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Provider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(2 C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2 (15 C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54920" y="152280"/>
            <a:ext cx="35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760" y="711360"/>
            <a:ext cx="26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Ver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0280" y="1066680"/>
            <a:ext cx="8156520" cy="502920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ervice application implementation to be rescheduled (5/21/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ghter firewall security policies created constraints (eService is Web-ba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ing testing the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ep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 process will begin after normal business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Request and Settlement Dispute data will be migrated into 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L will be pointed to new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ervice module will be instant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on Verification will be performed by RCS and W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will be sent to Market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have no impact on transac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54920" y="152280"/>
            <a:ext cx="35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3 Siebel 7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4560" y="71136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ervic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9:20:30Z</dcterms:created>
  <dc:creator>Michelle Duncan</dc:creator>
  <dc:description/>
  <dc:language>en-US</dc:language>
  <cp:lastModifiedBy>A. Boren</cp:lastModifiedBy>
  <dcterms:modified xsi:type="dcterms:W3CDTF">2005-05-03T18:19:00Z</dcterms:modified>
  <cp:revision>220</cp:revision>
  <dc:subject/>
  <dc:title>TX SET V1.5 RFP Evaluation Recommendation</dc:title>
</cp:coreProperties>
</file>