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85C-EF4D-4784-934F-B80DF692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FBC-814A-480A-8A4A-9D35036D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D73-3B9C-43D1-ADC9-0CA5EE50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8123-C9AD-4B08-ACE6-E73E3C18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6B0-8CE3-4A49-8C0E-1810E07C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C3E6-3DE5-43FD-8D57-76C15116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AC7B-6BD1-453A-8C7C-DD89D5B6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A27-D512-4B21-9E4B-07854C27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B13C-395B-4F5A-A152-3D545542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CEBB-C92D-42CD-94D2-043A0973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60B-1784-4ED0-B1D5-0D61DB2A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FA16-F8B1-4EC7-9B64-BA0AFFA9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DABE-0AC8-4C2B-987C-56326C20C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0405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A48-BDC8-4A8A-804B-A5A5B0F6D7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F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01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ight completed on time as scheduled with all testing completed success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8CFD-0FF6-45DD-9F2D-EA2A5C3EAC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405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New REPs – 32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New Umbrella DUNS – 24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xisting REP testing in new territory – 1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Existing REP testing new functi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xisting REPs changing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xisting REPs changing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TDSP changing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8000 Tasks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77F-EBD5-46DC-BA96-A6B4DBF780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405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sign-up deadline was March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Test Matrix was sent out March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beds were due April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Testing began March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ver 90% complete – on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ess for April 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  -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are a g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F95-9578-4458-8AD7-42C4EC7BDC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405 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Take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kick off call Friday April 8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 start to flow Monday 4/11 at 8:00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status calls - 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May RMS (5/10/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cheduled to be on Day 22 of Flight 04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should be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scheduled to be 75.6%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June RMS (6/15/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0405 scheduled to complete on 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242-8012-48DD-ACB5-E8ED17AD3C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. Boren</cp:lastModifiedBy>
  <cp:lastPrinted>2002-09-24T18:27:58Z</cp:lastPrinted>
  <dcterms:modified xsi:type="dcterms:W3CDTF">2005-04-05T21:36:45Z</dcterms:modified>
  <cp:revision>365</cp:revision>
  <dc:subject/>
  <dc:title>PowerPoint Presentation</dc:title>
</cp:coreProperties>
</file>