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695-88D7-47C7-9E03-DA3F7A98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10C-01B5-4270-97F5-56EC795E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4FC-F705-4886-9922-A1CAF646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4EF-F92A-4214-816B-E16B1463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31F-7EE1-4569-A375-BDAADB3E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A09-6045-4D4D-ABB1-4A9CD2DF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EDE-FAD3-4C0C-8E35-B932D89C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02B-358B-4206-8E63-E3D803A0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F87-133F-4524-8FDD-15D0110A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D2A-C131-4189-A711-173FE548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770-4BF0-45EE-9958-BB292989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D92-58CB-4419-B6B7-7841E18E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B4D2-1E0E-46D4-BA76-ECDC627E9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ril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2C0-C84A-496D-9F14-E9E0805DB5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of 99 Competitive Retailers reported numbers by the due date for March (04/04/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of 15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May RMS (April Reports) are due by May 3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7AA-F130-4C77-990C-D56DE0F06E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523880"/>
          <a:ext cx="8457840" cy="464796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,4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,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,7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,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A22-F084-4A6B-8278-EDCB0141BF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447920"/>
          <a:ext cx="8457840" cy="464760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5B8-8B8F-4C78-85E7-D74EE9BFB7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1447920"/>
          <a:ext cx="8381880" cy="4647600"/>
        </p:xfrm>
        <a:graphic>
          <a:graphicData uri="http://schemas.openxmlformats.org/drawingml/2006/table">
            <a:tbl>
              <a:tblPr/>
              <a:tblGrid>
                <a:gridCol w="2345040"/>
                <a:gridCol w="1585800"/>
                <a:gridCol w="1614240"/>
                <a:gridCol w="1419480"/>
                <a:gridCol w="141732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,6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673-103A-4327-96C1-7962E1E1DD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447920"/>
          <a:ext cx="8457840" cy="464760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,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,6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02B-3A3E-469E-9742-6F3305A5C6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447920"/>
          <a:ext cx="8381880" cy="4723920"/>
        </p:xfrm>
        <a:graphic>
          <a:graphicData uri="http://schemas.openxmlformats.org/drawingml/2006/table">
            <a:tbl>
              <a:tblPr/>
              <a:tblGrid>
                <a:gridCol w="2345040"/>
                <a:gridCol w="1585800"/>
                <a:gridCol w="1614240"/>
                <a:gridCol w="1419480"/>
                <a:gridCol w="141732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D22-A3FB-4D74-9B6F-5AF26EDA06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447920"/>
          <a:ext cx="8610120" cy="4647600"/>
        </p:xfrm>
        <a:graphic>
          <a:graphicData uri="http://schemas.openxmlformats.org/drawingml/2006/table">
            <a:tbl>
              <a:tblPr/>
              <a:tblGrid>
                <a:gridCol w="2409120"/>
                <a:gridCol w="1628640"/>
                <a:gridCol w="1658520"/>
                <a:gridCol w="1458000"/>
                <a:gridCol w="145584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EB4-EDBD-40B3-9A79-56A64946A1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. Boren</cp:lastModifiedBy>
  <cp:lastPrinted>2002-09-24T18:27:58Z</cp:lastPrinted>
  <dcterms:modified xsi:type="dcterms:W3CDTF">2005-04-08T13:51:02Z</dcterms:modified>
  <cp:revision>290</cp:revision>
  <dc:subject/>
  <dc:title>PowerPoint Presentation</dc:title>
</cp:coreProperties>
</file>