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854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767760"/>
            <a:ext cx="854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13940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13940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76776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76776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76776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728CF-B3A7-414F-BC4B-B9BE2F60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1680" y="113940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3CE47-C097-47F7-8C7B-030D1198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9B033-A134-49BF-865D-3E4E9F27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1F8B8-80B9-459E-A006-3B19B4D1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4D9AB-4548-48B4-887D-68B9BE13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0" y="380520"/>
            <a:ext cx="6327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3FA40-053D-45EE-81BC-F5089B6F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168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33B70-C922-49BE-B1B6-5FC8320F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13940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20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471FA-3CE9-40EC-867C-21FEA3E8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1680" y="3767760"/>
            <a:ext cx="854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FF1D1-8694-431C-8207-F42F8147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854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1680" y="3767760"/>
            <a:ext cx="854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99A18-7939-4881-A91E-4A29B81B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168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20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3BE40-4F01-4EE4-83B3-79A0516B9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9240" y="113940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6800" y="113940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1680" y="376776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9240" y="376776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6800" y="376776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30207-A70C-455F-AAED-04AD8077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0" y="380520"/>
            <a:ext cx="6327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767760"/>
            <a:ext cx="854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dfd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301680" y="113940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601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425600" indent="-338040"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830240" indent="-290520">
              <a:spcBef>
                <a:spcPts val="601"/>
              </a:spcBef>
              <a:buClr>
                <a:srgbClr val="00808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68640" indent="-223920">
              <a:spcBef>
                <a:spcPts val="601"/>
              </a:spcBef>
              <a:buClr>
                <a:srgbClr val="00808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68640" indent="-223920">
              <a:spcBef>
                <a:spcPts val="601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68640" indent="-223920">
              <a:spcBef>
                <a:spcPts val="601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2057400" y="990720"/>
            <a:ext cx="6781680" cy="0"/>
          </a:xfrm>
          <a:prstGeom prst="line">
            <a:avLst/>
          </a:prstGeom>
          <a:ln w="1015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957680" cy="94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B4D1-6D21-4FF7-B847-CB3CD980E3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1015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362320" y="152280"/>
            <a:ext cx="4114800" cy="1978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173160" algn="ctr">
              <a:spcBef>
                <a:spcPts val="451"/>
              </a:spcBef>
              <a:buClr>
                <a:srgbClr val="00808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168120" algn="ctr">
              <a:spcBef>
                <a:spcPts val="400"/>
              </a:spcBef>
              <a:buClr>
                <a:srgbClr val="008080"/>
              </a:buClr>
              <a:buFont typeface="Wingdings 3" charset="2"/>
              <a:buChar char="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115920" algn="ctr">
              <a:spcBef>
                <a:spcPts val="400"/>
              </a:spcBef>
              <a:buClr>
                <a:srgbClr val="008080"/>
              </a:buClr>
              <a:buSzPct val="80000"/>
              <a:buFont typeface="Wingdings 3" charset="2"/>
              <a:buChar char="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115920">
              <a:spcBef>
                <a:spcPts val="400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115920">
              <a:spcBef>
                <a:spcPts val="400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98108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M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odestar Upgrade UPDAT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5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dfd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igration Pl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280" y="1139400"/>
            <a:ext cx="883944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roximately 250 migration tasks were completed on Saturday, March 19, for the upgra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5 check-points identified, monitored and communicated throughout Saturda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grade procedure started at 6:30am Saturday (as schedul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grade procedure completed at 7:30pm Saturday (2½ hours ahead of schedul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51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tch for Saturday initiated at 8:30p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51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oll back option scheduled for 10:00pm Saturday (as need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51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rop dead completion time scheduled for 2:00am Sunda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425600" indent="-338040">
              <a:spcBef>
                <a:spcPts val="400"/>
              </a:spcBef>
              <a:buClr>
                <a:srgbClr val="00808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814_20 Outage was scheduled to end at 2:00am Sunda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425600" indent="-338040">
              <a:spcBef>
                <a:spcPts val="400"/>
              </a:spcBef>
              <a:buClr>
                <a:srgbClr val="00808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9:30pm Saturday night, Market was notified that Outage was complet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 Market calls scheduled (two optional for Sunday, March 2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51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e participant called Sunday, March 20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dfd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atch Performance Metric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ELIMINARY RESUL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rate Settlements Statements executed three to four hours earlier than previously experienc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5600" indent="-338040">
              <a:spcBef>
                <a:spcPts val="451"/>
              </a:spcBef>
              <a:buClr>
                <a:srgbClr val="00808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erate usually runs about 1 hour per trade da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425600" indent="-338040">
              <a:spcBef>
                <a:spcPts val="451"/>
              </a:spcBef>
              <a:buClr>
                <a:srgbClr val="00808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erate ran for 30 minutes per trade da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ree trade days executed in 4 hours vs. three trade days in 6.5 hou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dfd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R-725 Reporting Issue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ad Count and Load Volume Rep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ational report providing information on ESI-ID settlement:  actual, historical estimate, defaul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e report for the 09/20/04 True-up settlement did not generate and is unrecoverab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, the reports are processing as expect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5600" indent="-338040">
              <a:spcBef>
                <a:spcPts val="451"/>
              </a:spcBef>
              <a:buClr>
                <a:srgbClr val="00808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COT has developed a manual work-around for fall-back purpos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dfd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362320" y="2209680"/>
            <a:ext cx="45622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UCCESS 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estions/Comments ?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5T03:41:46Z</dcterms:created>
  <dc:creator>Steve Wallace</dc:creator>
  <dc:description/>
  <dc:language>en-US</dc:language>
  <cp:lastModifiedBy>A. Boren</cp:lastModifiedBy>
  <cp:lastPrinted>2009-04-22T19:24:48Z</cp:lastPrinted>
  <dcterms:modified xsi:type="dcterms:W3CDTF">2005-04-05T21:35:57Z</dcterms:modified>
  <cp:revision>95</cp:revision>
  <dc:subject/>
  <dc:title>ERCOT POS MOS V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