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FBA-6F62-40DC-888F-B53608C7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CCE-C0A6-4805-BE8A-9FDE61FC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D65-19FD-4208-89CA-DFBA5400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769-6CB4-4A43-B96A-396A06F3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093-F4DD-40CE-9351-8CB46A81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496-BEF1-46BF-AFD3-6A02BDA7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982-B19D-4CFB-8773-D2963819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230-1A7B-495F-A7EB-0286E002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66E-90FC-428C-B562-9DB02E93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227-5F54-49DD-A489-6D715BA1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D12-E82A-4BBF-8538-A7D16D0D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306-181E-415A-937C-1EAD56B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1605-4D84-4633-9926-B230903F7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111320"/>
            <a:ext cx="8156520" cy="48927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Siebel to a supported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Oracle database to 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all existing user functionality with no degradation in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Siebel software v6.3 to v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Oracle database 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all existing Siebel functionality from v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all existing functionality to interfaces (L*, Reports/Extracts, ETS        (interna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developers to more easily enhance system functionality going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thin-client for external Settlement Disputes &amp; Service Requ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480" y="71136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pe / Why is this 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0280" y="1066680"/>
            <a:ext cx="8156520" cy="48769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, April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10:00 p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Siebel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Data Archive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ML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AI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Verification for al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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/ No-Go check points will occur at various times throughout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4920" y="7113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0280" y="1066680"/>
            <a:ext cx="8156520" cy="48769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day, April 1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6:00 p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Production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y remaining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e any outstand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periodic “Go Live” Check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Li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on all Inbound and Outbound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monitoring transaction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4920" y="7113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0280" y="1066680"/>
            <a:ext cx="8156520" cy="48769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day, April 1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rting @ 8:00 p.m. (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 Back out Pla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Database back from Oracle 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Oracle 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 Siebel data from April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pe back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Siebel application servers from v7.7 back down to v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 TML upgrade for 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 TCH/EAI upgrade for 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initiate settlement disputes with old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Verification of Back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4920" y="7113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0280" y="1066680"/>
            <a:ext cx="8156520" cy="48769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day (4/11) &amp; Wednesday (4/13) 2:00 p.m. Retail Market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discussion of upcoming shut-down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ll-in number 1-800-373-0950 Pass Code 1233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s &amp; TDSPs to provide status of transaction volumes throughout the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 April 15th @ 8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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In #:  1-888-205-5513     Pass code:  159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ransaction process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u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c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 April 15th @ 4:00 p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iebel migration Statu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4920" y="71136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renc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066680"/>
            <a:ext cx="8156520" cy="48769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day April 16th @ 10:00 a.m.  &amp;   8:00 p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8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iebel migration Statu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8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8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/ No-Go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day April 17th @ 10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8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iebel migration Status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8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8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/ No-Go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day April 17th @ 8:00 p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iebel migration Status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Go / No-Go Decision (with possible back 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4920" y="71136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renc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0280" y="1066680"/>
            <a:ext cx="8156520" cy="50292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is the status to-date of the Siebel v7.7 Testing Efforts as of 4/01/2005 in anticipation of the 04/17/2005 roll-out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v7.7 Test Cases with all applications in iTest for Phase 1 (GUI / CRM / eService / Reporting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v7.7 Test Cases with all applications in iTest for Phase 2 (Retail Transactions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7.7 Test Cases to 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urrently h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n defects out of a total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ged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o date on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reported required cod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cumentation and Script errors o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Bugs (Coding errors requiring application level chan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ystem or Environment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nknown (Root cause not reported or still in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200" y="71136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0280" y="1066680"/>
            <a:ext cx="8156520" cy="48769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st Descrip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A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test (Regr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Processing          58% (396 script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 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rvi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100% (11 script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0% 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50% (43 scrip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100% (25 script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0% 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88% (57 scrip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100% (10 script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100% (13 scrip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Metrics Reporting       100% (4 script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0% 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Archive Reporting        100% (1 scrip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EDIM Processes       80% (67 script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4200" y="71136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0280" y="10699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in Januar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In Progress – Scheduled Implementation April 15-17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early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internal use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Market Notification of iTest 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Migration Plan including Contingency “Fall-back”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e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production migration and data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0280" y="10699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early Januar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mid Februar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ed late Februar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Goal to complete mid April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mid March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eb Cast conducted for Settlement Disputes prior to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15-17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Kass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2) 248-6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kassel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was a CASUP recommendation approved by ERCOT Executive committee and the ERCOT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support expired for existing version of Siebel and Oracle in 2004 – cost to maintain becomes significant if major problems a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 is the Registration system for all ERCOT’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 has limited Portal interaction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0280" y="10699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nagement of all 814 and 867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workflow of service orders and servic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administration and relationship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 and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Requests functionality and screen design (Wholesale and Ret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Disputes functionality and screen design (Wholes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920" y="71136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0280" y="10699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time, ERCOT anticipates the outage timeframe below for the April Maintenance Retail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frame is subject to change and confirmation will be provided prior to the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, April 15, 2005 through Sunday, April 17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he out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nsactions sent to ERCO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held at the Paperfree server during the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7 trans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forwarded during the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ESB EDM and ANSI respons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sent during the outage (i.e. This includes 997 Functional Acknowledg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functionality wi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components of the TML and API wi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vailable (i.e. This includes Find ESI, Find Transaction and Submit Transa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Disputes and Service Requests wi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9360" y="71136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System Outag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0280" y="10699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utdown times listed will be strictly adhered to unless prior notice is given to all 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Ps should submit transactions well in advance of the shutdown time so that large transaction volumes are not experienced just prior to shut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 if you run batch jobs, schedule them throughout the day)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Ps will have the opportunity to call-in to each conference call during the implementation if they wish to hear a progress update – a roll call will be taken during th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imes listed are Central Prevail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7560" y="71136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utdow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0280" y="1069920"/>
            <a:ext cx="8156520" cy="49500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, April 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@ 4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up NAESB and Paper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 down XML Mover (for 814 &amp; 824 transactions) and 867 Up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 down Retail TML components (Find ESI, Find Trans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 down TML component for Settlement Disputes – for Q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 down TML component for Service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isolate TCH process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9999"/>
              </a:buClr>
              <a:buFont typeface="Arial"/>
              <a:buChar char="–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bound MP transactions will be held at Paper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84320" indent="-342720">
              <a:lnSpc>
                <a:spcPct val="100000"/>
              </a:lnSpc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ESB EDM Respon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73200" indent="-34272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I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84320" indent="-342720">
              <a:lnSpc>
                <a:spcPct val="100000"/>
              </a:lnSpc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transactions will be converted to XML and staged for T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inbound shut down, all in-flight transactions will continue to be processed and corresponding outbound transactions will be delivered until 8:00 a.m. when outbound processing will be shut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6840" y="71136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 Processing - In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222800"/>
            <a:ext cx="344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ERCOT will continue to sen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415908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0280" y="1066680"/>
            <a:ext cx="8156520" cy="48769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, April 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@  8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sending 814 &amp; 824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Siebel code migration and data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040" y="71136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 Processing - Out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A. Boren</cp:lastModifiedBy>
  <dcterms:modified xsi:type="dcterms:W3CDTF">2005-04-05T20:12:31Z</dcterms:modified>
  <cp:revision>193</cp:revision>
  <dc:subject/>
  <dc:title>TX SET V1.5 RFP Evaluation Recommendation</dc:title>
</cp:coreProperties>
</file>