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425-0765-4ECE-AEAA-BA7C29F5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E5F-120E-4D69-A7C2-E86EDCC8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958-2DC4-4B84-8411-8163A3F2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734-337A-4AD6-87D1-CFF6BFBA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AA1-9681-41EE-B97B-B2AFA24E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684-632B-45AC-899E-4DDD2B5D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42C-6B80-4D6F-A6C7-7E67C3EA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CDA-305A-4C9B-B8AF-779F8627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BDA-CA23-46A6-A836-55234FE5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73B-47CD-4100-81AB-48D5E0B6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A26-FC5D-4FBD-B502-E994BD4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502-C603-46F7-8E88-CE7E335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558F-D69F-4393-A2CA-AB8CC811F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upgrade – only if Siebel is chosen as the replacement tool for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360" y="5943600"/>
            <a:ext cx="142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4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2193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Feb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March 14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Starting August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– Goal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Starting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process diagrams &amp; an “as is” document with interna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with MPs in April to verify process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finalizing detailed requirements, after process diagram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with MPs in May to finalize detailed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nhancement method (upgrade current tool, Siebel or A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9360" y="71136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5943600"/>
            <a:ext cx="142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4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will become firm after design is complete and project plan fin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l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August/Nov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ugust/Nov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/Dec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/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5160" y="5977080"/>
            <a:ext cx="14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4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7680" y="5943600"/>
            <a:ext cx="142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4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A. Boren</cp:lastModifiedBy>
  <dcterms:modified xsi:type="dcterms:W3CDTF">2005-04-05T20:14:12Z</dcterms:modified>
  <cp:revision>159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