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4BC-D559-4FEC-93BE-9D879555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098-525B-41E5-9862-6DCA0BAA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962-4F36-426F-B12F-FACD3873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C25-0459-4744-A7E5-0D4063A8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E1C-539D-47ED-ACF2-5B4ADA70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2E3-F07F-4A70-9AC4-D0F14F2F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B1C-2700-4403-831F-4FF7973D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8A7-F450-443D-A85E-27C140F4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CC1-1048-472B-A7D8-1B498865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366-0C80-4B03-8964-C9008AD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B23-55D4-4780-86E1-E793B665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180-63E9-4128-9B7D-3FE7D355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28C0-5A7B-4AB0-A192-C75997571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Processing Revie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, 2005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M. John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, Commercial Applications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-12-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D3E-166C-4EC8-B7D1-D64FC13D03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03: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ESB Outage: 40 minut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er cycled on Saturdays as a preventative measur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4: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ESB Outage: 172 minut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age Sub-system unavail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dware failure on system storage devic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/15-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perFree outage:  648 minut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/17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age taken to take measures to address processing issu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o protect the data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9: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deStar Upgra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hanges to production leading to upgrad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24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ESB Outage: 32 minut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able to connect to database</a:t>
            </a:r>
            <a:br>
              <a:rPr sz="1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219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age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2A6-A641-4C6E-AB62-9C9DAE05B4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5 10:15 am – 11:25 am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formance issues on Paperfree fileserver encounte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itoring indicated service performance probl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indication that data was incorrectly processed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5 4:00 pm – 6:00 pm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itoring indicated service performance issues encountered:  Duplicate transactions and file/MP mix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6 3:00 am – 5:30 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itoring indicated service performance issues encountered:  Duplicate transactions and file/MP mix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abled server services at 11:00 to eliminate resource contention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6 4:00 pm – 5:30 p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onitoring indicated service performance issues encountered:  Duplicate transactions and file/MP mix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6 7:00 pm: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utdown application to prevent more duplicates from going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laced fileserver to rule out defective serv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ed to recreate the iss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ed a filter to ensure that 867’s are not mixed in incorrect MP fi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ed additional monitoring to alert ERCOT Support of 867 processing issu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eased transactions at 1:30am 3/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219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perfree Processing Issues – Action 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C06-B8DB-46CE-B1BA-8B1373C770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7 4:30 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itoring indicated service performance issues encountered: Duplicate transactions creat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/Files not mixed due to filter put in pla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plicates moved off at 7:30a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7 10:00 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holding transactions in NAESB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laced HBA card in fileserver to eliminate I/O contention/overflow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eased transactions from NAESB at 2:18p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29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-evaluated server configuration to ensure maximum processing efficienc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219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perfree Processing Issues – Action 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7BA-910F-40AA-8648-A85C22A396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support continues to monitor the Retail services closely in order to quickly act on processing issues should they arise. 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is investigating the hardware and Operating System in an effort to find permanent resolution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NAESB migration to blades was postponed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rns with the Siebel migration are not foreseen as Siebel is not I/O intensiv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analysis took longer than normal due to the scale and scope of the iss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uous data analysis is under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19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perfree Processing Issues – Going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773-554D-44DE-9700-9D961407D4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547640"/>
          <a:ext cx="769608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47640"/>
                    <a:ext cx="769608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261-D586-4145-BD2C-984C885893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3880" y="1523880"/>
          <a:ext cx="6181920" cy="486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18192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30A-7403-462F-B91E-84510EE3A7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Quarter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1276200"/>
          <a:ext cx="7086600" cy="49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76200"/>
                    <a:ext cx="708660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8E6-46FB-4E96-AD3A-4A86E204F4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E5F-A673-4090-AC5B-F074966E47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9-24T18:27:58Z</cp:lastPrinted>
  <dcterms:modified xsi:type="dcterms:W3CDTF">2005-04-08T13:49:46Z</dcterms:modified>
  <cp:revision>404</cp:revision>
  <dc:subject/>
  <dc:title>PowerPoint Presentation</dc:title>
</cp:coreProperties>
</file>