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F099-EA8E-4226-9C08-507C004B1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0386-F2D6-4CDF-A3A9-338C140B3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8556-89DE-4996-AD72-536CBAD26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2118-96D1-4AEA-B3A8-64421C1AF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ACF6-750F-4808-8222-6D6089E5B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A972-6642-4335-980C-86E330720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2CB7-FB0A-4384-B6AE-0ACE6361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7590-CF46-4EB8-B9DE-62C958F1B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566D-CDFC-450F-BBC0-D4F0C8740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19FE-5E55-4808-9676-063321BE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8AFA-9DD6-4E79-B4E6-27AC31DBA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7BBA-6566-4B5F-9AD8-EF060EB1E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219-A055-4D2F-88F8-37ADFCA08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2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5000"/>
          </a:bodyPr>
          <a:p>
            <a:pPr marL="277200" indent="-27720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PL changes relating to R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C Enhancement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Closed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ank 0.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CT Order 284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MR Autom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0.4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xas SET 2.1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hancements to FasTrak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CR 727 Phase I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Execu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amework Servic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Initi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1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project to Service Oriented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inuous Service Agreemen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Initi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1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project to Service Oriented Architectur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R Enhancement Release 5.2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Plannin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– Rank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420 – Modified Competitive Solution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ttlement Mismatched Inter-QSE Schedule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ank 34.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54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25920" indent="-2124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vision to Balancing Energy Pmts from Specific Res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M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Rank 34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11560" indent="-2656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486396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 56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E735-BE12-4232-831D-249848592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2006 Projec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ected Schedule for 2006 Prioritiz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unicate sched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vide details of prioritization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un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MS prioritization of MO and RO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S prioritization of entire PP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gus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 PPL with priorities presented to Boar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Dire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should RMS be doing no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bmit PRRs and SCRs for new ideas that need to be included in 2006 priorit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AAEB-E6FB-4D43-8A75-09313E905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4560"/>
            <a:ext cx="5181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Supporting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10152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MO 2005 Release Plan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86200"/>
            <a:ext cx="201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66_01 Lodestar 3.7 Upgrade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600200"/>
            <a:ext cx="21337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/Bi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R/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2193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3886200"/>
            <a:ext cx="1904760" cy="21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B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75 SIR Enhancement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R4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30026 EPS/RID Meter Data Extrac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MS Release 4 (4 MO projects) (1.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15 TCR Report Enhancemen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0 SIR Enhancement 5.2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886200"/>
            <a:ext cx="2133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50024 SCR 740 Enhancements to SCR 727 (1.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MS Release 5 (TBD projects)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2 SIR Enhancement 5.4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R-50025 Enhance ESI-ID Look-up Function (1.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53844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3505320" cy="457200"/>
          </a:xfrm>
          <a:prstGeom prst="rightArrow">
            <a:avLst>
              <a:gd name="adj1" fmla="val 50000"/>
              <a:gd name="adj2" fmla="val 191673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47976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“B1” &amp; “B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1600200"/>
            <a:ext cx="205740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R/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sale Client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Me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886200"/>
            <a:ext cx="19051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ease B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07 SCR 727 Phase 2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093 RMR Automation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R-40108 PRR515 Disclosure of Local Congestion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-40104 Zero Charge Enhancements (1.0 – 2004 carr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-50011 SIR Enhancement 5.3 (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7E70-9789-4AA2-8BE2-5032122C0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Retail Ops 2005 Release Plan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518000"/>
            <a:ext cx="2514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3 Siebel Upgrad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19 Retail Testing Websit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Transaction 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parency and Rp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Client Servi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 ID Retail – WS 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I (SeeBeyond/TIB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49568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6 ERCOT.com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-50026 SIR Enhancement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34 Texas SET 2.1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50360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07 SCR 738 (1.1) Enhancements to Fast Tr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-50023 Potential Load Los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3505320"/>
            <a:ext cx="3809880" cy="457200"/>
          </a:xfrm>
          <a:prstGeom prst="rightArrow">
            <a:avLst>
              <a:gd name="adj1" fmla="val 50000"/>
              <a:gd name="adj2" fmla="val 208327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8280" y="35528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886200"/>
            <a:ext cx="7924680" cy="533520"/>
          </a:xfrm>
          <a:prstGeom prst="rightArrow">
            <a:avLst>
              <a:gd name="adj1" fmla="val 50000"/>
              <a:gd name="adj2" fmla="val 371339"/>
            </a:avLst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6.0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791320"/>
            <a:ext cx="4343400" cy="94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121 Service Oriented Architectur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sub-projects of PR-501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-50121_03 Market Inform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9B0E-F3D3-4ADD-801C-F054855527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A. Boren</cp:lastModifiedBy>
  <dcterms:modified xsi:type="dcterms:W3CDTF">2005-04-05T20:12:58Z</dcterms:modified>
  <cp:revision>89</cp:revision>
  <dc:subject/>
  <dc:title>Slide 1</dc:title>
</cp:coreProperties>
</file>