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186AC-FE07-4E4B-B851-0BADA8EC63B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1BF13-1A1D-474B-B1EE-470D49B17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E3D3D-AD25-4341-8658-62140B1A2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332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17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332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F8435-172F-4EA7-863E-8B3821CB6A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D735A-744A-49DB-88D6-09684A66D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56941-C696-4B14-BF5A-D5C5B7DA5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7ABA6-6EE8-4BBD-B29C-DECAB5F35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1FCB9-8752-4CC5-85D9-8B923145D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BFF5C-F614-4B8F-8907-4DAE5DACE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E616F-47C4-4AF1-9048-0FD5F61B4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48B7F-86B3-4CD0-B4E9-93361A08E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C0FAD-4A91-4F5C-BB6C-88C76A08F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380880" y="76320"/>
            <a:ext cx="2590920" cy="1050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429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39C13-F803-4A79-AC65-C3C8A50AF8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352680" y="380880"/>
            <a:ext cx="49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rofiling Working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40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WG Update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nie Podra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Reliant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PWG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MS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pril 12,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BA94D-F43F-48A3-A0C3-EF3A9153D8D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2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1355760"/>
            <a:ext cx="876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IDR Removal Proced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1981080"/>
            <a:ext cx="7848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 requested at the RMS meeting of 3/9/05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athersbee asked that PWG take lead action on this issue and have a recommendation for an action plan of how to move forward with the implementation of PRR 479 for the April RMS mee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"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E2D89-D101-42FA-993D-F66C59382333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2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355760"/>
            <a:ext cx="876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IDR Removal Proced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1981080"/>
            <a:ext cx="7848720" cy="35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WG actions since 3/9/05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Arial"/>
                <a:ea typeface="Arial"/>
              </a:rPr>
              <a:t>With leadership of the PWG on vacation or ill, Carl Raish and Kathy Scott, took the lead to set up an informal PWG meeting to get a broader audience for the discussion of the issue. The meeting was Monday 3/21/05. (minutes sent to RMS 3/24). Note not all Market Participants were successful in getting on the conference call, perhaps due to too few conference ports.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he PWG meet on Wednesday 3/23/05. The PWG added to the draft notes from the Monday meeting, highlighting some of the outstanding issues. (attachment sent to RMS 3/24).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315A5-4B1F-478C-BD2A-1B761CE176BB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2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355760"/>
            <a:ext cx="876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IDR Removal Proced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1981080"/>
            <a:ext cx="784872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RECOMMENDED PWG ACTION PL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Recommend RMS Task Force to continue the discussion of Market Participants and write necessary language for Retail Market Guides and/or PRR.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PWG submits current discussion notes to RMS Task Force and RMS (issued 3/24).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PWG requests Market Participants to report to the RMS Task Force the number of current IDR removal requests.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94B13-CC64-49F7-A5DA-0ED898DD57E8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2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1355760"/>
            <a:ext cx="876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Status of Annual Validation Changes for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1981080"/>
            <a:ext cx="784872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Test new software implementation as of 4/4/05 4:58 P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DSP comple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5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DSPs Exchanging files and working through issu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1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DSP No files exchanged, currently working with programm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3962520"/>
            <a:ext cx="792504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rch 1, 2005, TDSPs and ERCOT complete system change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y 1, 2005, TDSPs and ERCOT complete testing system change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June 15, 2005, normal start of 2005 annual,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ctober 2005, normal flow of annual validation transactio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71D56-2BB0-4922-95FF-363C3A642F20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2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1:33:53Z</dcterms:created>
  <dc:creator>Administrator</dc:creator>
  <dc:description/>
  <dc:language>en-US</dc:language>
  <cp:lastModifiedBy>A. Boren</cp:lastModifiedBy>
  <dcterms:modified xsi:type="dcterms:W3CDTF">2005-04-05T13:26:33Z</dcterms:modified>
  <cp:revision>122</cp:revision>
  <dc:subject/>
  <dc:title>PowerPoint Presentation</dc:title>
</cp:coreProperties>
</file>