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E0F-D19B-463B-AC6C-C482EC5C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03E-6571-400B-8600-640471F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31C-A912-4C7A-8A3D-911FEE18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5BA-EBA5-45FE-A9BB-BBB70118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290-2BED-4189-99ED-E85BBE8D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B8E-C8B8-44C0-ABCD-4603498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462-98DC-4A41-A22A-FB891D66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E70-9020-494B-A519-8ACD1A9D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E7D-28DA-4E82-846B-5010238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C56-E9A1-4B14-AEE8-2379A27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63E-E320-4B3F-A7F9-B642E59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663-CC20-44A8-B649-C3EC7E4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0F6B-D256-4C5B-8D02-0C3438D5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O/Stacking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uding Tx SET Version 2.0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3F3-8C43-4064-B4C5-40C821BA9B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led with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of orders cancelled for A95 – Cancelled with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2 – Benefits 3,4,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11268" r="5830" b="0"/>
          <a:stretch/>
        </p:blipFill>
        <p:spPr>
          <a:xfrm>
            <a:off x="76320" y="2133720"/>
            <a:ext cx="8610480" cy="43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F1F-9010-4884-B3CE-9F865B1B4B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ESI ID Re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of Move-Ins rejected for A76 – Invalid ESI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2 – Benefit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1092" r="5830" b="0"/>
          <a:stretch/>
        </p:blipFill>
        <p:spPr>
          <a:xfrm>
            <a:off x="76320" y="2057400"/>
            <a:ext cx="861048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A98-7F21-4F6C-9B76-B775C8A32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of Drop to AREPs with an 814_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Drop to AREP orders where ERCOT generated an 814_14 Enrollment Request to the A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1.1b – Benefit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2620" r="6671" b="0"/>
          <a:stretch/>
        </p:blipFill>
        <p:spPr>
          <a:xfrm>
            <a:off x="-76320" y="2209680"/>
            <a:ext cx="906804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B54-8683-40CA-9092-DC86C9BDE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of Move-Out to CSAs with an 814_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Move-Out to CSA orders where ERCOT generated an 814_22 Enrollment Request to the CSA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2.1b – Benefit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2411" r="5736" b="0"/>
          <a:stretch/>
        </p:blipFill>
        <p:spPr>
          <a:xfrm>
            <a:off x="-76320" y="2133720"/>
            <a:ext cx="9068040" cy="38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AA6-0258-410B-9596-20F3DD024A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Orpha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SPs provided quantity of Orphan Accounts at the end of each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.1 – Benefit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800360"/>
          <a:ext cx="7924680" cy="46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00360"/>
                    <a:ext cx="792468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A1C-3D49-432C-9596-D6994E1D34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Safety Nets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7524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89B-B303-4C75-804C-74838A1EC8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Safety Nets without 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of orders where EDI was not received by the time the order was wo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738440"/>
          <a:ext cx="822960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8440"/>
                    <a:ext cx="82296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0F9-E25B-4649-B746-022FECDEC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urrent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processing of transactions was a major part of Stacking.  The following details the occurrences of multiple service orders completing successfully – Benefits 1,2,3,4,&amp; 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Move-Ins – 15,224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 prior to a Move-In - 580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 prior to a Switch - 175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 prior to a Move-In - 362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 prior to a Move-Out - 149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witches – 69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 prior to a Move-Out - 49 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were successfully processed concurrently a total of 16,606 times between August and Febru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36C-8CBC-4D82-B45F-657E9177BC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Stacking Sta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has been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7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duction in the average number of rejects for Move-Ins leapfrogging. (1.6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ve-Out retry is effective in allowing appropriate Move-Outs to be processed instead of being rejected. (4.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at Move-Outs and Drop to AREPs are properly authorized, ERCOT is canceling Move-Outs and Drop to AREPs at the evaluation window if the REP is no longer the REP of Record. (4.2.1 - Benefits 3, 5, &amp;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through February Volume – 5,1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is successfully canceling Move-Outs when they are scheduled on the same day as a Move-In on the same ESI ID.  This contributes to market synchronization. (4.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through February volume – 30,8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949-C919-49AD-A994-EE97DC9DBA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Stacking Sta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 to AREPs are being successfully canceled when scheduled on the same ESI ID as a Switch with the same or later date.  This is helping to enforce the customers right to choose. (4.5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through February Volume – 5,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w iteration counter is allowing REPs to submit multiple Date Changes on a single order and these are helping to ensure the customer is getting the last date they requested.  (4.13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participants are now electronically notified of Duplicate transactions.  (4.1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through February Volume = 55,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s are effectively rejecting backdated Move-Ins and Move-Outs that are not part of a coordinated back-office cleanup.  (5.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ust and September Volume = 41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E63-38E0-4EB4-8519-4B71880823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 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s presented to RMS prior to implemen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reduction in NFI re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reduction in need for Safety Net Move-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manages customer expectations (Dates, billin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backdated clean up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Cancel/Re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keep systems in 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transaction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dites connecting and billing the customers by the correct 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s transaction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6EA-E0B8-4136-AD83-A6AFC664F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CF4-6695-498E-9698-DAE17C259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s Expect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rouped into 8 categ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eduction in NFI re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eduction in need for Safety Net Move-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dites connecting and billing the customers by the correct CR / Better manages customer expectations (Dates, billing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er Cancel/Re-bills / Helps keep systems in 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s UFE / Helps keep systems in 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er backdated clean up efforts / Helps keep systems in 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s transaction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s transaction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B87-E0F1-49EF-8780-F9793D4DE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nt of NFI Rejects by Orde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.1 – Benefits 1,2,3,&amp;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719600" y="1981080"/>
          <a:ext cx="3665520" cy="19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9600" y="1981080"/>
                    <a:ext cx="3665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rcRect l="0" t="17409" r="0" b="7178"/>
          <a:stretch/>
        </p:blipFill>
        <p:spPr>
          <a:xfrm>
            <a:off x="0" y="1905120"/>
            <a:ext cx="9144000" cy="42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39B-9C7A-4B9C-8078-9691815AF5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NFI Rejects by Ord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2 – Benefits 1,2,3,&amp;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8255" r="0" b="7711"/>
          <a:stretch/>
        </p:blipFill>
        <p:spPr>
          <a:xfrm>
            <a:off x="0" y="1981080"/>
            <a:ext cx="9144000" cy="403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4120" y="2209680"/>
            <a:ext cx="29811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FI Rejects have been reduced by an average of 94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338-BCC4-41EF-B0C1-A8494B976A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All Rejects by Ord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jects for DUP – Duplicate and DOT – Duplicate Original Transaction Id have been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4b – Benefits 1,2,&amp;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0684" r="0" b="0"/>
          <a:stretch/>
        </p:blipFill>
        <p:spPr>
          <a:xfrm>
            <a:off x="0" y="213840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D91-7481-41C5-86BB-1F4C7EB4F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ate of Accepted Move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ion percentage of orders once they have been accepted – does not include rejected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.2 – Benefits 1 &amp;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9005" r="5830" b="0"/>
          <a:stretch/>
        </p:blipFill>
        <p:spPr>
          <a:xfrm>
            <a:off x="152280" y="2057400"/>
            <a:ext cx="86108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DB4-B01D-4A41-A150-659F942A3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Backdated Move-In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Move-Ins with a requested date that is earlier than the date the request is received by ERC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.1 – Benefits 1,2,4,6,7, &amp;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7556" r="15005" b="8428"/>
          <a:stretch/>
        </p:blipFill>
        <p:spPr>
          <a:xfrm>
            <a:off x="76320" y="1981080"/>
            <a:ext cx="861048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911-7063-4B28-AF52-0B0C59141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Implementation Succ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 of Re-Bills on Final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s for Move-Ins and Switche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.1 – Benefits 1,2,3, &amp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10806" r="6671" b="0"/>
          <a:stretch/>
        </p:blipFill>
        <p:spPr>
          <a:xfrm>
            <a:off x="76320" y="2057400"/>
            <a:ext cx="8534160" cy="44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B6B-0A95-431A-9E93-2337449BCA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4-05T20:11:56Z</dcterms:modified>
  <cp:revision>394</cp:revision>
  <dc:subject/>
  <dc:title>PowerPoint Presentation</dc:title>
</cp:coreProperties>
</file>