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EB36-0F6E-4476-9766-354AC596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B520-1FCC-4474-9960-0485A26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27A6-ADAA-4B95-898D-93D520B1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239C-FCD1-4658-B130-7392B74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B00-FBD1-496C-B549-548ACAB2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3EDE-0F25-4F74-A843-1A674F3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21E8-76A2-4713-AC29-88080F62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E85C-31D1-4716-AA7A-846AE76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D71A-8F5B-4FEE-8CCD-E5E6A23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64E-9C34-4B28-98B8-77F2E7A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EB0-325A-4DF3-8A44-E33683C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FD47-B009-417A-BE78-DFFB7CF6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A7CD-ED04-4885-AA1A-929BF4F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75A-FD05-46CF-933B-45FF274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18E-0684-46DB-A89F-C1AF1A05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F3F-6BB7-4455-BBD9-B0875DC2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DBD-D89A-4201-B8D8-1A3C83D9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B5C3-F32C-4352-979F-30662CC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A940-AADF-424F-9EB3-7CD79B2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D763-F008-4279-9C80-ADD0C595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8D56-13B6-4DA8-A541-21293DB0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C3C5-99FC-4041-A794-C1B5EEA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B2C0-7C57-4C20-991E-DA3E6FE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C095-D629-4C22-B8A8-1A6C8C6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833-429D-4178-BE8B-96633271D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C95-9F71-4E5C-9820-3D3796599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ril 12, 20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port to RM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5000" y="60948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DSP Comments on 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s with AEP’s comments on the ETOD Simulated TDSP Certificatio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savings of 77% labor hours on non version Release Flights when using the previous testing tool - ET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to End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00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D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60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000" y="60948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DSP Comments on 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U ED &amp; 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use ETOD Simulated TDSP Certification Testing but continue to do end to end testing for each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DSP’s agree that an automated testing tool could not be used for billing, payment and point to poin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SP’s suggest ERCOT being added to the transaction validation requirements for new TX Set Version Releas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3353040" cy="3284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39760" y="1295280"/>
            <a:ext cx="678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4280" y="380880"/>
            <a:ext cx="826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utomated Retail Transaction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ools that support the market in testing retail transactions in an automated fash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broken into 3 functio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ommun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320" y="6094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quality of transactions during the market test f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quality of the data in the ERCOT marketplace during t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the effort required to complete certification testing for all MP’s – decrease costs associated with certificat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‘time-to-market’ for new REPs or REPs entering new TDSP terri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5720" y="609480"/>
            <a:ext cx="43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Vali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arket participants to validate the accuracy of their transactions to X12 and TX Se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 will inform tester of problem with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4640" y="609480"/>
            <a:ext cx="63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e Communication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arket Participants to upload and download test files 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ESB 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60948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(library) of transaction samples available for MP’s to download and use to test inter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ll EDI transactions would be available for 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upport 2 TX Set Versions of transaction samples (when a Version upgrade is plann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5000" y="6094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COT Comments on 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analyzed errors from Flight 0105 and determined that 44.1% of errors could have been avoided if Automated Testing system was available for M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pril 2003 thru March 2004 there were 2432 files tested against the ETO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5000" y="60948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DSP Comments on 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em to function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D Simulated TDSP Certification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 creates simulated TDSP transactions for participating TDSPs, in lieu of TDSPs generating E2E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should automatically create a proper response transaction to the CR’s initiating transaction, including if possible, a tie back to the ISA, GS, and ST control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should have the choice of using this tool or E2E testing during non-TX SET version release fligh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5000" y="60948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DSP Comments on SCR7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savings of 50% labor hours on non version Release Flights when using the previous testing tool - ET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to End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00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D T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80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A. Boren</cp:lastModifiedBy>
  <dcterms:modified xsi:type="dcterms:W3CDTF">2005-04-08T18:52:14Z</dcterms:modified>
  <cp:revision>52</cp:revision>
  <dc:subject/>
  <dc:title>TTPT RMS April Report</dc:title>
</cp:coreProperties>
</file>