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9FF7-FB7C-4EFF-BB3E-45A1D697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E3C1-E41D-41BF-901A-10577361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5DC9-38A4-4EA9-A8D9-31A545A2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087D-3A72-492C-BC73-138ED413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D494-3E03-453D-848C-64E3660C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8756-4E42-4D03-A6B9-A184C71D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5001-C6B2-4906-8EC0-31164553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4B61-AB8B-4EA8-8365-7DBE065B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E0E2-1AF1-4CF1-B40B-23104DF0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CAB3-D7BE-4C21-9196-92FC2E46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A90-3B57-45E3-B626-816BF862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CCF7-2EAF-46DC-90F8-DF481366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5A2C-D8AD-4974-BA20-1D5860C8B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R Monthly Upda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C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24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R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erence call w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y 13, 20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:30 - 10: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d 9 pending PR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d 593 through 6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Rs 593, 595, 596, 597, 600 and 601 were determined to be operational and to have no settlement i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R 594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ment Reserve Service Payment Formula - Urg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s the formulas for settling RPRS, which is scheduled to be implemented with EMMS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s the RPRS payment formula to result in negative am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sored by ERC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S approved on 4/21/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 approved on 5/5/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ERCOT Market Bulletin #22 for New and Impacted Billing Determinants for RP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R 598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 of Credit Against OOM Start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CPE is greater than Resource Category Generic Minimum Energy Cost, the difference will be credited against Startup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Billing Determinant - RCGSC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 against the Resource Category Generic Startup Cost due if the generation unit continues to run pas a Dispatch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sored by OPUC, Kenan Ogel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due to PRS on 5-13-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S Review scheduled for 5-19-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R 599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fication for Mismatched Inter-QSE Energy Sched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R requires that notice be provided to both QSEs involved in a mismatch in the event that ERCOT remedies a mis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ct Billing Determinants to be determined after approval by P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sored by C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due to PRS on 5-23-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S Review scheduled for 6-23-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R 601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Minute Ramping for BES and Base Power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omac Economics Recommendation Numb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ettlement impact, however change in 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10 minute ramping for BES to 15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5 minute base power schedule to 7.5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sored by QSE Managers 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due to PRS on 5-25-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S Review scheduled for 6-23-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R 568 Implementation Plan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Initial Settlement for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 to 10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erence call scheduled fo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y 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9:30 - 11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draft implementation plans prepared by Ed Echols and ERC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to finalize Implementation Plan at June COPS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CPRWG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next regularly scheduled June meeting has been cancelled and a special meeting to addres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ttlement Time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b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ne 17 from 9:30 to 3:3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. Boren</cp:lastModifiedBy>
  <dcterms:modified xsi:type="dcterms:W3CDTF">2005-05-17T16:25:03Z</dcterms:modified>
  <cp:revision>26</cp:revision>
  <dc:subject/>
  <dc:title>PowerPoint Presentation</dc:title>
</cp:coreProperties>
</file>