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299-8BE5-4719-82B8-A98C3C76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B96-D937-4B90-95A1-4C224235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FE6-E4F8-4B75-8924-2E3B5D92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E1D-C1EA-44B9-ABB3-0135FC0E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05C7-CFC9-4D13-8E28-B990CE94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71A6-8A6E-40F1-8355-20B5BABE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7574-9DD4-4927-8531-20FA4764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BC28-9591-40FB-B7F9-EACA71E7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B098-D384-4A78-8229-00F3DBF8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9D2E-9AA3-4D32-91A9-4DC839EF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48FC-1179-4EB5-9B1F-6BF2A703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232-4AEE-4C2A-AAD0-510B106C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65A1-F9EF-41A3-85B1-2F71A217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7818-D44B-4AD0-8B82-D34E4B4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7F4B-73BE-45A2-80DD-F0261C3E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8294-02C7-450A-877C-2970A01F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AD29-1DAA-4DCA-A815-DCE9485A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CAC-9FB5-4835-BAB1-79791DE3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FF0-71C5-44DC-8185-B40B14A1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D5A-C999-451E-8686-2597DFC6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A77-8126-4C63-94AF-B5496F21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7CB-078B-479D-8300-8D0519EC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743-ECAC-4F42-8E8E-7FDDE3B1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2B6-3EDF-448C-BC8F-5458A5F7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52C5-6BC8-4716-8AE2-096483CB27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E096-5A6C-4C6D-9AB5-C887844164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RCOT Lodestar Extracts </a:t>
            </a:r>
            <a:br>
              <a:rPr sz="2600"/>
            </a:b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Timing Recommendation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48320" y="5257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May 20, 200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CR 727 ESIID Extract and Resource ID Extract Timing Chang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38080" y="2552760"/>
          <a:ext cx="8267760" cy="3728880"/>
        </p:xfrm>
        <a:graphic>
          <a:graphicData uri="http://schemas.openxmlformats.org/drawingml/2006/table">
            <a:tbl>
              <a:tblPr/>
              <a:tblGrid>
                <a:gridCol w="1681200"/>
                <a:gridCol w="3144960"/>
                <a:gridCol w="34416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y Extract is Generated and Publish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Current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Recommendation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4:00AM - Mon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~4:00:00 AM – Satur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4:00AM - Tues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~4:00:00 AM – Su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4:00AM - Wednes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~4:00:00 AM – Mo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4:00AM - Thurs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~4:00:00 AM – Tu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4:00AM - Fri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~4:00:00 AM – Wedn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4:00AM - Satur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~4:00:00 AM – Thur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4:00AM - Sunday 3:59:59AM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~4:00:00 AM – Fri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and Generation Extracts contain all outputs for a trade date in one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ttlement &amp; Billing Daily Extract contains Settlements input data used and output data created for each approved trade date for all trade dates within a batch run becoming a complete trade date specific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 complete batch run with all Trade Dates approved accounting for subsequent Trade Date reruns prior to Settlements Approv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Process Flow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ERCOT Recommended Process from ODS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By market participants scheduling the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th extract creation and posting delay, No additional logic necessary to accommodate for receipt of unapproved Trade Date data and extract schedule chan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p to an additional 3 day lag to the delivery timeline to accommodate for synchronization of extracts with approved settlement data (weekends &amp; holidays), Lodestar ODS data synchronization including scheduled &amp; unscheduled environment maintenance and troubleshooting data &amp; system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sistent synchronization of SCR 727 ESIID Extract data and RID Extract data in conjunction with corresponding Load &amp; Generation Extract postings – Granular data necessary to shadow settle is posted 2 days prior to the Aggregation and Settlement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proposal discussed with DEWG at May 2005 mee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Load, Generation, and Settlements &amp; Billing Extracts ERCOT Recommended Process from ODS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iming Chang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851040" y="2349360"/>
          <a:ext cx="8165880" cy="4376880"/>
        </p:xfrm>
        <a:graphic>
          <a:graphicData uri="http://schemas.openxmlformats.org/drawingml/2006/table">
            <a:tbl>
              <a:tblPr/>
              <a:tblGrid>
                <a:gridCol w="1244520"/>
                <a:gridCol w="2417760"/>
                <a:gridCol w="2014560"/>
                <a:gridCol w="248904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y Extract is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Current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atch Trade Dates for due Settlement Statement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Recommendation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, Friday, 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Batch Trade Date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12:30 AM - Mon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Fri, Sat, Su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12:30AM - Tu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Mo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12:30AM - Wedn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ue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12:30AM - Thur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Wed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12:30AM - Fri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hur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approved statements post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approved statements post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Batch Trade Dates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ettlement Input Data Extracts (New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ains all input data passed from MOS to the settlement system or entered by settlement personnel; data that is currently provided in the Settlement &amp; Billing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By market participants scheduling the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ettlement Input Data Extracts (New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 Recommended Process from ODS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defines Settlement &amp; Billing Extract to only provide complete approved trade date inputs and outputs synchronized with the Load and Generation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load time window is captured by the initiation of granular data changes (Lodestar Batch usage data loading) at SYSDATE -3 to the next day’s initiation of  granular data changes (Lodestar Batch usage data load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ettlement Input Data Extracts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iming Chang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812880" y="2438280"/>
          <a:ext cx="8305560" cy="4240080"/>
        </p:xfrm>
        <a:graphic>
          <a:graphicData uri="http://schemas.openxmlformats.org/drawingml/2006/table">
            <a:tbl>
              <a:tblPr/>
              <a:tblGrid>
                <a:gridCol w="1681200"/>
                <a:gridCol w="3004920"/>
                <a:gridCol w="3619440"/>
              </a:tblGrid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y Extract is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Current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ettlements &amp; Billing Extract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Recommendation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ew Extract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~4:00:00 AM – Satur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12:30 AM - Mon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Fri, Sat, Su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~4:00:00 AM – Su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12:30AM - Tu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Mo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~4:00:00 AM – Mo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12:30AM - Wedn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ue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~4:00:00 AM – Tu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12:30AM - Thur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Wed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~4:00:00 AM – Wedn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12:30AM - Fri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hur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~4:00:00 AM – Thur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~4:00:00 AM – Fri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hadow Pricing Extracts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ains shadow pricing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Automatically by data inser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load time window is captured by the initiation of granular data changes (Lodestar Batch usage data loading) at SYSDATE -3 to the next day’s initiation of  granular data changes (Lodestar Batch usage data load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Public Reference Table Extracts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iming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812880" y="2438280"/>
          <a:ext cx="8305560" cy="4259160"/>
        </p:xfrm>
        <a:graphic>
          <a:graphicData uri="http://schemas.openxmlformats.org/drawingml/2006/table">
            <a:tbl>
              <a:tblPr/>
              <a:tblGrid>
                <a:gridCol w="1681200"/>
                <a:gridCol w="3004920"/>
                <a:gridCol w="361944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y Extract is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Current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Recommendation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ata Addtime Time Window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~4:00:00 AM – Satur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 12:30 AM - Mon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Fri, Sat, Su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 ~4:00:00 AM – Su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12:30AM - Tu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Mon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 ~4:00:00 AM – Mon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12:30AM - Wedne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ue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day ~4:00:00 AM – Tu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12:30AM - Thurs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Wed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uesday ~4:00:00 AM – Wedne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12:30AM - Friday 12:29:59AM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Thurs batch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dnesday ~4:00:00 AM – Thurs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 extract produced and publish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hursday ~4:00:00 AM – Friday ~3:59:59 AM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odestar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urrent Extract Process for Lodestar Extracts from Data Arch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RCOT Recommended Process for Lodestar Extracts from O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RCOT Recommended Timing Process for Lodestar Extracts from O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Public Reference Table Extracts (New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ains full tables of non-interval market level data (ex. TDSP, STATION, CMZONE, etc.) from Lodestar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; only one daily extract available (no historical postings); delivery timeline same as SCR 727 ESIID and Resource ID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Automatically by data inserts/updates/dele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What’s Next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omments, Feedback,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RCOT complete Analytical Designs of Execution Phase for the following project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 30026 – Resource ID Extrac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 40007 – SCR 727 Phase II (SCR 727 ESIID Extract and  Public Reference Table Extrac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R 40042_06 – Lodestar Batch Extracts (Load, Generation, Settlements &amp; Billing, Settlement Input Data, and Shadow Pricing Extract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destar Extrac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0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CR 727 ESIID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esource ID Extract (Ne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Load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Generation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ettlements &amp; Billing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ettlement Input Data Extract (Ne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hadow Pricing Extra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Public Reference Table Extract (Ne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CR 727 ESIID Extracts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Current Process from Data Archiv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ESIID level data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At 5:00AM, Lodestar Data Archive process runs to capture the existing records with addtimes/timestamps of previous day 4:00AM through current day 3:59:59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Automatically by data inserts/updates/dele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Current Process from Data Archiv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S and bill determinant trade date (Settlement Input Data) data as early as two days after operating day and may receive data changes up until the initial settl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Aggregation and Settlement interval data outputs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At 5:00AM, Lodestar Data Archive process runs to capture the existing records with addtimes/timestamps of previous day 4:00AM through current day 3:59:59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Extract process occurs Tuesday – Saturday only and is modified as necessary for holiday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By market participants scheduling the extract; Not dependent on Data Archive Proc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d, Generation, and Settlements &amp; Billing Extracts Current Process from Data Archive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Known Reasons for Improveme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tential for trade date outputs to be contained in multiple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 dependency on settlement trade date approvals allowing trade date outputs to be received in multiple extracts with different addtimes/timestamps to account for backouts/reruns of unapproved settlements prior to posting an approved stat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consistent synchronization of SCR 727 ESIID Extract data in conjunction with corresponding Load &amp; Generation Extract postin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2003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hadow Pricing Extracts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Current Process from Data Archiv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Contains shadow pricing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At 5:00AM, Lodestar Data Archive process runs to capture the existing records with addtimes/timestamps of previous day 4:00AM through current day 3:59:59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Extract process occurs Tuesday – Saturday only and is modified as necessary for holiday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Automatically by data inser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SCR 727 ESIID Extracts and Resource ID Extracts ERCOT Recommended Process from OD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Typ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CR 727 ESIID Extract contains ESIID level data (granular dat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ource ID Extract contains Resource ID level data (granular data) - N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Data Flow Proc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Continuous data flow from the Lodestar Source System -&gt; Replicated Source System -&gt; Lodestar ODS capturing intraday data updates and point in time sele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Generation and posting of extract occurs daily and is posted to market participants after being audi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Extract Creation Trigg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Automatically by data inserts/updates/dele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ecommended Chang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load time window for the granular data Point in Time is captured by the initiation of granular data changes (Lodestar Batch usage data loading) at SYSDATE -3 to the next day’s initiation of  granular data changes (Lodestar Batch usage data load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duce on a 2 day lag from the data load time window stop time to accommodate for extract trade date synchronization and Lodestar ODS data synchronization including scheduled &amp; unscheduled environment maintenance and troubleshooting data &amp; system issu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included within daily extract is synchronized to one posting of a complete batch of trade dates for the Load, Generation and Settlements &amp; Billing Extra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proposal discussed with DEWG at February - May 2005 meetin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CR 727 ESIID Extracts and Resource ID Extracts ERCOT Recommended Process from ODS – con’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syedavalli</dc:creator>
  <dc:description/>
  <dc:language>en-US</dc:language>
  <cp:lastModifiedBy>A. Boren</cp:lastModifiedBy>
  <dcterms:modified xsi:type="dcterms:W3CDTF">2005-05-20T13:22:02Z</dcterms:modified>
  <cp:revision>462</cp:revision>
  <dc:subject/>
  <dc:title>ODS Source Schema Standards</dc:title>
</cp:coreProperties>
</file>