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6C6-FD0E-42A3-A50D-D8EAF03E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0DD-08AD-4A53-AAE2-EAD3089F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E36-C2A2-4DCB-B3C9-0EDB6584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671-6589-4A1C-AF0F-1782C222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6A38-FFE7-4832-A05F-218235CB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AC69-4000-4E3A-96DC-D2EBE5BC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EE29-2FEB-442D-ADED-453B3981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EF5B-9262-43CC-A7A7-FBEBCE33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8AA2-6D21-474D-914C-4B2C0760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8666-A21F-48DE-96B3-06EE6B7B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8F66-2998-4F5B-9EF9-3464E48C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C70-CD7C-4D35-AF64-04AE1CF4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6966-2CD9-41A4-9BC4-D6D79EAC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0F15-5849-4F6C-95AE-1D3AFF10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04EB-CC5A-4BE6-A034-0881A999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C495-0DDC-41E4-A8A7-1D043DE7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BE8B-CEF5-4D79-A72E-7BEBA567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B182-3F02-4C1C-B2BE-8FAB7B7F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45A-D34F-49DB-804C-09DF20BE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0C4-35FA-4EFB-9F1D-F0997B18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8FC-2D7A-4BA2-B12F-853CAE19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C934-6151-4734-97F3-ECEB1153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B6C-3C98-4A9A-A05A-D62697F3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5F6-2639-48FC-A588-B53A5A3E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AB39-ABB2-45BC-9F8E-65DE24CE00D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903D-F079-48AE-B175-8F4345B197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114264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ERCOT Lodestar Extracts </a:t>
            </a:r>
            <a:br>
              <a:rPr sz="2600"/>
            </a:b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Timing Recommendation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48320" y="525780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  <a:ea typeface="Times New Roman"/>
              </a:rPr>
              <a:t>ERCO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  <a:ea typeface="Times New Roman"/>
              </a:rPr>
              <a:t>May 24, 200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CR 727 ESIID Extract and Resource ID Extract Timing Chang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838080" y="2552760"/>
          <a:ext cx="8267760" cy="3728880"/>
        </p:xfrm>
        <a:graphic>
          <a:graphicData uri="http://schemas.openxmlformats.org/drawingml/2006/table">
            <a:tbl>
              <a:tblPr/>
              <a:tblGrid>
                <a:gridCol w="1681200"/>
                <a:gridCol w="3144960"/>
                <a:gridCol w="344160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y Extract is Generated and Publish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ea typeface="Times New Roman"/>
                        </a:rPr>
                        <a:t>Current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ta Addtime Time Wind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ea typeface="Times New Roman"/>
                        </a:rPr>
                        <a:t>Recommendation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ta Addtime Time Wind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unday 4:00AM - Monday 3:59:59AM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 ~4:00:00 AM – Satur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 4:00AM - Tuesday 3:59:59AM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aturday ~4:00:00 AM – Sun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 4:00AM - Wednesday 3:59:59AM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unday ~4:00:00 AM – Mon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 4:00AM - Thursday 3:59:59AM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 ~4:00:00 AM – Tues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 4:00AM - Friday 3:59:59AM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 ~4:00:00 AM – Wednes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 4:00AM - Saturday 3:59:59AM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 ~4:00:00 AM – Thurs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aturday 4:00AM - Sunday 3:59:59AM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 ~4:00:00 AM – Fri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Load, Generation, and Settlements &amp; Billing Extracts ERCOT Recommended Process from OD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Typ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and Generation Extracts contain all outputs for a trade date in one extra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ttlement &amp; Billing Daily Extract contains Settlements input data used and output data created for each approved trade date for all trade dates within a batch run becoming a complete trade date specific extra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vide complete batch run with all Trade Dates approved accounting for subsequent Trade Date reruns prior to Settlements Approv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Process Flow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Continuous data flow from the Lodestar Source System -&gt; Replicated Source System -&gt; Lodestar ODS capturing intraday data updates and point in time selectiv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Load, Generation, and Settlements &amp; Billing Extracts ERCOT Recommended Process from ODS – con’t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Generation and posting of extract occurs daily and is posted to market participants after being audi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Extract Creation Trigg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By market participants scheduling the extra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Recommended Change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th extract creation and posting delay, No additional logic necessary to accommodate for receipt of unapproved Trade Date data and extract schedule chang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p to an additional 3 day lag to the delivery timeline to accommodate for synchronization of extracts with approved settlement data (weekends &amp; holidays), Lodestar ODS data synchronization including scheduled &amp; unscheduled environment maintenance and troubleshooting data &amp; system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Recommended Chang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sistent synchronization of SCR 727 ESIID Extract data and RID Extract data in conjunction with corresponding Load &amp; Generation Extract postings – Granular data necessary to shadow settle is posted 2 days prior to the Aggregation and Settlement extra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ing proposal discussed with DEWG at May 2005 meet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Load, Generation, and Settlements &amp; Billing Extracts ERCOT Recommended Process from ODS – con’t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Load, Generation, and Settlements &amp; Billing Extracts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iming Chang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851040" y="2349360"/>
          <a:ext cx="8165880" cy="4376880"/>
        </p:xfrm>
        <a:graphic>
          <a:graphicData uri="http://schemas.openxmlformats.org/drawingml/2006/table">
            <a:tbl>
              <a:tblPr/>
              <a:tblGrid>
                <a:gridCol w="1244520"/>
                <a:gridCol w="2417760"/>
                <a:gridCol w="2014560"/>
                <a:gridCol w="248904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y Extract is Produced and Publish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ea typeface="Times New Roman"/>
                        </a:rPr>
                        <a:t>Current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ta Addtime Time Window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Batch Trade Dates for due Settlement Statements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ea typeface="Times New Roman"/>
                        </a:rPr>
                        <a:t>Recommendation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ta Time Window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o extract produced and publish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, Friday, Satur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 Batch Trade Dates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 12:30 AM - Mon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Fri, Sat, Sun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 Batch Trade Dates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 12:30AM - Tues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Mon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 Batch Trade Dates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 12:30AM - Wednes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Tues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aturday Batch Trade Dates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 12:30AM - Thurs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Wed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unday Batch Trade Dates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 12:30AM - Fri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Thurs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o approved statements post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 Batch Trade Dates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o extract produced and publish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o approved statements post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 Batch Trade Dates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Settlement Input Data Extracts (New)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ERCOT Recommended Process from OD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Typ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Contains all input data passed from MOS to the settlement system or entered by settlement personnel; data that is currently provided in the Settlement &amp; Billing Extra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Flow Proces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Continuous data flow from the Lodestar Source System -&gt; Replicated Source System -&gt; Lodestar ODS capturing intraday data updates and point in time selectiv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Generation and posting of extract occurs daily and is posted to market participants after being audi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Extract Creation Trigg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By market participants scheduling the extra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Settlement Input Data Extracts (New)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ERCOT Recommended Process from ODS – con’t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Recommended Change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defines Settlement &amp; Billing Extract to only provide complete approved trade date inputs and outputs synchronized with the Load and Generation Extra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load time window is captured by the initiation of granular data changes (Lodestar Batch usage data loading) at SYSDATE -3 to the next day’s initiation of  granular data changes (Lodestar Batch usage data load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Settlement Input Data Extracts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iming Chang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812880" y="2438280"/>
          <a:ext cx="8305560" cy="4240080"/>
        </p:xfrm>
        <a:graphic>
          <a:graphicData uri="http://schemas.openxmlformats.org/drawingml/2006/table">
            <a:tbl>
              <a:tblPr/>
              <a:tblGrid>
                <a:gridCol w="1681200"/>
                <a:gridCol w="3004920"/>
                <a:gridCol w="3619440"/>
              </a:tblGrid>
              <a:tr h="86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y Extract is Produced and Publish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ea typeface="Times New Roman"/>
                        </a:rPr>
                        <a:t>Current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ettlements &amp; Billing Extract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ta Addtime Time Window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ea typeface="Times New Roman"/>
                        </a:rPr>
                        <a:t>Recommendation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ew Extract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ta Addtime Time Window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2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o extract produced and publish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 ~4:00:00 AM – Satur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 12:30 AM - Mon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Fri, Sat, Sun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aturday ~4:00:00 AM – Sun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 12:30AM - Tues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Mon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unday ~4:00:00 AM – Mon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 12:30AM - Wednes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Tues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 ~4:00:00 AM – Tues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 12:30AM - Thurs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Wed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 ~4:00:00 AM – Wednes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 12:30AM - Fri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Thurs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 ~4:00:00 AM – Thurs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2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o extract produced and publish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 ~4:00:00 AM – Fri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Shadow Pricing Extracts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ERCOT Recommended Process from OD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Typ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Contains shadow pricing d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Flow Proces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Continuous data flow from the Lodestar Source System -&gt; Replicated Source System -&gt; Lodestar ODS capturing intraday data updates and point in time selectiv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Generation and posting of extract occurs daily and is posted to market participants after being audi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Extract Creation Trigg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Automatically by data inser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Recommended Change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load time window is captured by the initiation of granular data changes (Lodestar Batch usage data loading) at SYSDATE -3 to the next day’s initiation of  granular data changes (Lodestar Batch usage data load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Settlement Input Data Extracts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iming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812880" y="2438280"/>
          <a:ext cx="8305560" cy="4259160"/>
        </p:xfrm>
        <a:graphic>
          <a:graphicData uri="http://schemas.openxmlformats.org/drawingml/2006/table">
            <a:tbl>
              <a:tblPr/>
              <a:tblGrid>
                <a:gridCol w="1681200"/>
                <a:gridCol w="3004920"/>
                <a:gridCol w="361944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y Extract is Produced and Publish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ea typeface="Times New Roman"/>
                        </a:rPr>
                        <a:t>Current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ta Addtime Time Window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ea typeface="Times New Roman"/>
                        </a:rPr>
                        <a:t>Recommendation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ta Addtime Time Window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o extract produced and publish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 ~4:00:00 AM – Satur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 12:30 AM - Mon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Fri, Sat, Sun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aturday ~4:00:00 AM – Sun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 12:30AM - Tues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Mon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unday ~4:00:00 AM – Mon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 12:30AM - Wednes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Tues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 ~4:00:00 AM – Tues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 12:30AM - Thurs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Wed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 ~4:00:00 AM – Wednes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 12:30AM - Fri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Thurs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 ~4:00:00 AM – Thurs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o extract produced and publish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 ~4:00:00 AM – Fri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6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Lodestar Extra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Current Extract Process for Lodestar Extracts from Data Archiv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RCOT Recommended Process for Lodestar Extracts from O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RCOT Recommended Timing Process for Lodestar Extracts from O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Public Reference Table Extracts (New)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ERCOT Recommended Process from OD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Typ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Contains full tables of non-interval market level data (ex. TDSP, STATION, CMZONE, etc.) from Lodestar extra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Flow Proces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Continuous data flow from the Lodestar Source System -&gt; Replicated Source System -&gt; Lodestar ODS capturing intraday data updates and point in time selectiv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Generation and posting of extract occurs daily and is posted to market participants after being audited; only one daily extract available (no historical postings); delivery timeline same as SCR 727 ESIID and Resource ID Extra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Extract Creation Trigg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Automatically by data inserts/updates/dele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What’s Next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4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Comments, Feedback, Ques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RCOT complete Analytical Designs of Execution Phase for the following project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R 30026 – Resource ID Extrac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R 40007 – SCR 727 Phase II (SCR 727 ESIID Extract and  Public Reference Table Extrac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R 40042_06 – Lodestar Batch Extracts (Load, Generation, Settlements &amp; Billing, Settlement Input Data, and Shadow Pricing Extract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Lodestar Extract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301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CR 727 ESIID Extra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esource ID Extract (New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Load Extra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Generation Extra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ettlements &amp; Billing Extra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ettlement Input Data Extract (New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hadow Pricing Extra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ublic Reference Table Extract (New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SCR 727 ESIID Extracts 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Current Process from Data Archiv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Typ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ESIID level data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Flow Proces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At 5:00AM, Lodestar Data Archive process runs to capture the existing records with addtimes/timestamps of previous day 4:00AM through current day 3:59:59A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Generation and posting of extract occurs daily and is posted to market participants after being audi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Extract Creation Trigg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Automatically by data inserts/updates/dele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Load, Generation, and Settlements &amp; Billing Extracts Current Process from Data Archiv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Typ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OS and bill determinant trade date (Settlement Input Data) data as early as two days after operating day and may receive data changes up until the initial settlem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Aggregation and Settlement interval data outputs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Flow Proces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At 5:00AM, Lodestar Data Archive process runs to capture the existing records with addtimes/timestamps of previous day 4:00AM through current day 3:59:59A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Extract process occurs Tuesday – Saturday only and is modified as necessary for holiday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Extract Creation Trigg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By market participants scheduling the extract; Not dependent on Data Archive Proce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Load, Generation, and Settlements &amp; Billing Extracts Current Process from Data Archive – con’t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Known Reasons for Improvement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tential for trade date outputs to be contained in multiple extra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 dependency on settlement trade date approvals allowing trade date outputs to be received in multiple extracts with different addtimes/timestamps to account for backouts/reruns of unapproved settlements prior to posting an approved statem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consistent synchronization of SCR 727 ESIID Extract data in conjunction with corresponding Load &amp; Generation Extract posting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2003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Shadow Pricing Extracts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Current Process from Data Archiv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Typ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Contains shadow pricing d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Flow Proces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At 5:00AM, Lodestar Data Archive process runs to capture the existing records with addtimes/timestamps of previous day 4:00AM through current day 3:59:59A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Extract process occurs Tuesday – Saturday only and is modified as necessary for holiday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Extract Creation Trigg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Automatically by data inser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SCR 727 ESIID Extracts and Resource ID Extracts ERCOT Recommended Process from OD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Typ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CR 727 ESIID Extract contains ESIID level data (granular dat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source ID Extract contains Resource ID level data (granular data) - New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Flow Proces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Continuous data flow from the Lodestar Source System -&gt; Replicated Source System -&gt; Lodestar ODS capturing intraday data updates and point in time selectiv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Generation and posting of extract occurs daily and is posted to market participants after being audi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Extract Creation Trigg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Automatically by data inserts/updates/dele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Recommended Change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load time window for the granular data Point in Time is captured by the initiation of granular data changes (Lodestar Batch usage data loading) at SYSDATE -3 to the next day’s initiation of  granular data changes (Lodestar Batch usage data load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duce on a 2 day lag from the data load time window stop time to accommodate for extract trade date synchronization and Lodestar ODS data synchronization including scheduled &amp; unscheduled environment maintenance and troubleshooting data &amp; system issu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included within daily extract is synchronized to one posting of a complete batch of trade dates for the Load, Generation and Settlements &amp; Billing Extra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ing proposal discussed with DEWG at February - May 2005 meeting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CR 727 ESIID Extracts and Resource ID Extracts ERCOT Recommended Process from ODS – con’t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20:23:20Z</dcterms:created>
  <dc:creator>syedavalli</dc:creator>
  <dc:description/>
  <dc:language>en-US</dc:language>
  <cp:lastModifiedBy>jashbaugh</cp:lastModifiedBy>
  <dcterms:modified xsi:type="dcterms:W3CDTF">2005-05-25T14:17:50Z</dcterms:modified>
  <cp:revision>464</cp:revision>
  <dc:subject/>
  <dc:title>ODS Source Schema Standards</dc:title>
</cp:coreProperties>
</file>