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75D-EA53-478A-B630-FBD81F0F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087-86C9-4C97-80DD-8DA056B8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A82-44CF-42C6-B8A1-F58C5745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CC7-C489-45B2-83F9-062EC932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1594-B59E-4AC4-98A6-EC18B04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1463-07B7-4198-9A3C-2277A01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5B53-5DB0-418F-AEAA-C81964A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A52D-3112-44B0-B70F-6E9B6E1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6A6-6EBC-44C5-8512-19C66AC3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13A1-3910-40AC-A752-96EE0FB7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B64A-DB27-465A-B4CA-35F7345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89F-F7F2-4EB8-A023-0D9F20B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5503-B076-49CD-A999-DF6C83F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EA98-DB6F-4557-9F85-82B316A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5196-B2B3-4C95-A22F-682B76E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A5EC-9434-440A-BA7B-EADAD894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108-3D7A-41EB-B9EC-2D558B3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005-6FDD-4BF1-BF51-ED1B7AD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EBB-4842-49AC-9919-FFD7210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F61-6A0B-4594-94CD-E4F8F3D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47A-A053-45ED-94C1-BCD50591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901-40AA-46C5-A3D3-EFA17CE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F19-FD0A-4CE9-ABB6-6E0390ED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7B9-BBDF-4CBE-ADAD-B8F06B9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45B-2F29-4D44-8233-4786B5AAC3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9AF-271C-445E-AB9E-D23035C0D3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R 568 Implementation Task Force – Update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PS 5/24/0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ption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ve to Day 14 Initial settlement in late Sept or early O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ld for analysis period – 60 days for market to determine any conc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inue to Day 10 Initial Settlement in January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ption 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 thru data process/delivery issues to getting Ch 0 aggregation data for Day 10 Initial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valuate Ch 0 to determine effects of Day 10 Initial Settl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egin moving by 1 Initial day on Tuesdays with Thursday invoice having 8 days settled – lasts 7 wee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nge A/S look-back from 21 days to 14 upon comple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1:46:46Z</dcterms:created>
  <dc:creator>Phone call notes</dc:creator>
  <dc:description/>
  <dc:language>en-US</dc:language>
  <cp:lastModifiedBy>Phone call notes</cp:lastModifiedBy>
  <dcterms:modified xsi:type="dcterms:W3CDTF">2005-05-24T11:52:50Z</dcterms:modified>
  <cp:revision>1</cp:revision>
  <dc:subject/>
  <dc:title>PRR 568 Implementation Task Force – Update COPS 5/24/05</dc:title>
</cp:coreProperties>
</file>