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58A9C-7F63-4776-809D-1FB10ECA3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5068-BCB4-472E-B4F0-E4934BCFA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8E984-C0EB-4A03-8480-57A8902F8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AFAC6-AD7A-488F-B635-7C0658433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09D9D-5E7C-4D28-80B9-AF26F2BCD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885F-DBDB-462C-979A-C1492F635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4EA14-E33B-495A-9CB3-42245AEFC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01F85-6BC9-4768-B419-8F74EB2E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F756D-CA90-43E1-85A9-B375D5F2E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6EA7-00A6-4FDC-B4F0-5D7194654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FC03-11E7-472B-8100-C19CC6EA5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04F9-64E4-4AA4-AECA-164FD99A2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CAEA-F413-46DB-915A-1CB99A2AB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for COPS &amp; PR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17,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FE72CA-CBB8-401B-AD7B-938D6B8100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71"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2B09D585-5BC2-4FEB-87B9-8B7434CC4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PRS</a:t>
            </a:r>
            <a:br>
              <a:rPr sz="4000"/>
            </a:br>
            <a:endParaRPr b="0" lang="en-US" sz="2800" spc="-1" strike="noStrike">
              <a:solidFill>
                <a:srgbClr val="000000"/>
              </a:solidFill>
              <a:latin typeface="Times New Roman"/>
            </a:endParaRPr>
          </a:p>
        </p:txBody>
      </p:sp>
      <p:sp>
        <p:nvSpPr>
          <p:cNvPr id="7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a:t>
            </a: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Voting by E-Mail from the Standing Representatives may be used in consideration of an Urgent Revision Request, the need for an ERCOT Impact Analysis, and other administrative functions.  The affirmative vote of eight (8) Standing Representatives shall be the act of the PRS by E-Mail vote.  The structure for E-mail voting is as follows: A request for an E-mail vote can only be initiated by the Chair, Vice Chair or their designate of the PRS or approved designate in the absence of the Chair. Votes for an ERCOT Impact Analysis, and other administrative functions must be returned by the close of two (2) Business Days after issuance to be considered.  Votes for Urgent Requests must be returned within 48 hours.  All votes will be forwarded to ERCOT for tallying. The final tally will be sent to the Standing Representatives of the PRS, the sponsor of the revision request, and forwarded to the PRS distribution list and posted on the M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80B94C-69E1-4325-B5D7-2E5AA6AB57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COPS</a:t>
            </a:r>
            <a:br>
              <a:rPr sz="4000"/>
            </a:b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by the Standing Representatives is permitted to expedite processes provided the chair distributes to the ERCOT COPS public distribution list a detailed description of the issue or proposition.  The chair will submit meeting minutes wherein the vote is recorded for review of accuracy at the next scheduled subcommittee meeting.  The chair will establish appropriate timing for e-mail vote responses.  (Individual exceptions will be made where needed to accommodate Standing Representative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B9FD38-8613-45DE-B1FE-C2787A09B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 COPS &amp; PRS</a:t>
            </a:r>
            <a:br>
              <a:rPr sz="4000"/>
            </a:br>
            <a:endParaRPr b="0" lang="en-US" sz="2800" spc="-1" strike="noStrike">
              <a:solidFill>
                <a:srgbClr val="000000"/>
              </a:solidFill>
              <a:latin typeface="Times New Roman"/>
            </a:endParaRPr>
          </a:p>
        </p:txBody>
      </p:sp>
      <p:sp>
        <p:nvSpPr>
          <p:cNvPr id="78" name="PlaceHolder 2"/>
          <p:cNvSpPr>
            <a:spLocks noGrp="1"/>
          </p:cNvSpPr>
          <p:nvPr>
            <p:ph/>
          </p:nvPr>
        </p:nvSpPr>
        <p:spPr>
          <a:xfrm>
            <a:off x="228240" y="1219320"/>
            <a:ext cx="8534520" cy="54864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posed</a:t>
            </a:r>
            <a:r>
              <a:rPr b="0" lang="en-US" sz="2200" spc="-1" strike="noStrike">
                <a:solidFill>
                  <a:srgbClr val="000000"/>
                </a:solidFill>
                <a:latin typeface="Times New Roman"/>
              </a:rPr>
              <a:t> –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n e-mail vote is permitted provided a notification is distributed to the subcommittee distribution list that includes a detailed description of the issue or proposition.  E-mail votes for COPS and PRS are primarily conducted for administrative purposes.  A request for an e-mail vote can only be initiated by the Chair or Vice Chair.  For e-mail votes, each Standing Representative shall have one (1) vote and a quorum of Standing Representatives must participate in the vote.  [NOTE: This is different than the current requirement for PRS, which is “The affirmative votes of eight Standing Representatives shall be the act of the PRS by E-Mail vote.”]   Participation requires casting a vote or abstaining.  Votes shall be submitted to ERCOT for tallying by the close of two (2) Business Days after notification of the vote.  A PRS e-mail vote on a request for Urgent Status shall be submitted to ERCOT for tallying within forty-eight (48) hours.  Votes are tallied in the same manner as a regular meeting.  The final tally shall be distributed to the subcommittee distribution list and posted on the MI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58394B5-2F41-4D2D-B639-4006D7CB9D1C}"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B380BB-B214-4C3A-AE7C-78A305A06F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No language in</a:t>
            </a:r>
            <a:r>
              <a:rPr b="1" lang="en-US" sz="2800" spc="-1" strike="noStrike">
                <a:solidFill>
                  <a:srgbClr val="000000"/>
                </a:solidFill>
                <a:latin typeface="Times New Roman"/>
              </a:rPr>
              <a:t> </a:t>
            </a:r>
            <a:r>
              <a:rPr b="1" lang="en-US" sz="2000" spc="-1" strike="noStrike">
                <a:solidFill>
                  <a:srgbClr val="000000"/>
                </a:solidFill>
                <a:latin typeface="Times New Roman"/>
              </a:rPr>
              <a:t>TAC procedures, but included in subcom. procedures, similar to current TA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6AFCAFF-9802-49F1-881E-1317AC1BD2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2BD43136-D49A-45A0-A153-241560234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COPS &amp; PRS</a:t>
            </a:r>
            <a:endParaRPr b="0" lang="en-US" sz="2800" spc="-1" strike="noStrike">
              <a:solidFill>
                <a:srgbClr val="000000"/>
              </a:solidFill>
              <a:latin typeface="Times New Roman"/>
            </a:endParaRPr>
          </a:p>
        </p:txBody>
      </p:sp>
      <p:sp>
        <p:nvSpPr>
          <p:cNvPr id="5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P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Membership shall consist of 2 Standing Representatives from each Seg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C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anding Reps on the COPS consist of 14 SRs, 2 from each of the 7 market segmen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rm:  The term of the SRs is one year.</a:t>
            </a:r>
            <a:endParaRPr b="0" lang="en-US" sz="2800" spc="-1" strike="noStrike">
              <a:solidFill>
                <a:srgbClr val="000000"/>
              </a:solidFill>
              <a:latin typeface="Times New Roman"/>
            </a:endParaRPr>
          </a:p>
        </p:txBody>
      </p:sp>
      <p:sp>
        <p:nvSpPr>
          <p:cNvPr id="5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no sig.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mbership shall consist of 2 Standing Representatives from each Segmen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CBE5C4C8-C97D-4177-9EBF-47B9E74E00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COPS &amp; PRS</a:t>
            </a:r>
            <a:endParaRPr b="0" lang="en-US" sz="2800" spc="-1" strike="noStrike">
              <a:solidFill>
                <a:srgbClr val="000000"/>
              </a:solidFill>
              <a:latin typeface="Times New Roman"/>
            </a:endParaRPr>
          </a:p>
        </p:txBody>
      </p:sp>
      <p:sp>
        <p:nvSpPr>
          <p:cNvPr id="59"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P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t least one standing member from each of 4 market segments must be pres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 COP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 quorum must be present.  A quorum is at least 1 Standing Rep in each of at least 4 segments.</a:t>
            </a:r>
            <a:endParaRPr b="0" lang="en-US" sz="2800" spc="-1" strike="noStrike">
              <a:solidFill>
                <a:srgbClr val="000000"/>
              </a:solidFill>
              <a:latin typeface="Times New Roman"/>
            </a:endParaRPr>
          </a:p>
        </p:txBody>
      </p:sp>
      <p:sp>
        <p:nvSpPr>
          <p:cNvPr id="60"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no chang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order to take action, a quorum must be present.  A quorum is defined as at least 1 SR in each of at least 4 Segments.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639D174F-1AA0-4784-B7C8-0541BABBC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COPS &amp; PRS</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has 1 vote and each entity entitled to vote and present at the meeting will receive an equal fraction of its Segment’s 1 vot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COPS, same as PRS</a:t>
            </a:r>
            <a:endParaRPr b="0" lang="en-US" sz="2000" spc="-1" strike="noStrike">
              <a:solidFill>
                <a:srgbClr val="000000"/>
              </a:solidFill>
              <a:latin typeface="Times New Roman"/>
            </a:endParaRPr>
          </a:p>
        </p:txBody>
      </p:sp>
      <p:sp>
        <p:nvSpPr>
          <p:cNvPr id="63"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expand Consum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ll meetings, each Segment shall have one (1) Segment Vote except the Consumer Segment, which shall have one and one-half Segment Votes.  The SRs of each entity entitled to vote, present at the meeting and participating in the vote shall receive an equal fraction of its Segment’s vote, except for the CS which shall be divided into three subseg that receive one third of the CS vote.  For the CS, if no rep from a subseg is present at a meeting or all reps from a subseg abstain, such subseg’s fractional vote is allocated equally to the subseg that are present and casting a vo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B1937EA-83C6-4A51-B062-BAECF5D97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Entities – COPS &amp; PRS</a:t>
            </a:r>
            <a:endParaRPr b="0" lang="en-US" sz="2800" spc="-1" strike="noStrike">
              <a:solidFill>
                <a:srgbClr val="000000"/>
              </a:solidFill>
              <a:latin typeface="Times New Roman"/>
            </a:endParaRPr>
          </a:p>
        </p:txBody>
      </p:sp>
      <p:sp>
        <p:nvSpPr>
          <p:cNvPr id="6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COPS &amp; P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ities entitled to vote (Voting Entities) are ERCOT Corporate Members, ERCOT Adjunct Members, and entities who are not ERCOT Corporate Members, but who could qualify as a member within the definition of a particular Segment.  Voting Entities must align themselves each calendar year with a Segment for which they qualify or, for Adjunct Members, a Segment to which they are similar.  </a:t>
            </a: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oting Entities that align themselves with a Segment must be aligned with that same Segment for all TAC subcommittees, and remain aligned with that Segment for the entire calendar ye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AAD1D01-22E4-41E3-BF1B-C00F435A06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COPS &amp; PRS</a:t>
            </a:r>
            <a:endParaRPr b="0" lang="en-US" sz="2800" spc="-1" strike="noStrike">
              <a:solidFill>
                <a:srgbClr val="000000"/>
              </a:solidFill>
              <a:latin typeface="Times New Roman"/>
            </a:endParaRPr>
          </a:p>
        </p:txBody>
      </p:sp>
      <p:sp>
        <p:nvSpPr>
          <p:cNvPr id="68"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 P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mmendations for Protocol revisions from the PRS must be supported by a majority of the votes cast by the entities present in accordance with segment fractional voting. Votes will be tallied and records retained by ERCO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ct of the majority of the votes represented by members present and a minimum of three (3) votes will be the act of the subcommittee.</a:t>
            </a:r>
            <a:endParaRPr b="0" lang="en-US" sz="2000" spc="-1" strike="noStrike">
              <a:solidFill>
                <a:srgbClr val="000000"/>
              </a:solidFill>
              <a:latin typeface="Times New Roman"/>
            </a:endParaRPr>
          </a:p>
        </p:txBody>
      </p:sp>
      <p:sp>
        <p:nvSpPr>
          <p:cNvPr id="69"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D8134F2-E530-416B-9AFC-2116F630A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 Boren</cp:lastModifiedBy>
  <dcterms:modified xsi:type="dcterms:W3CDTF">2005-05-17T16:49:37Z</dcterms:modified>
  <cp:revision>131</cp:revision>
  <dc:subject/>
  <dc:title>Point-to-Point</dc:title>
</cp:coreProperties>
</file>