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E9D-5F09-453B-9AE1-BD933CE7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131-E11C-485C-B7B8-59A5717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6A6-2EEF-4960-A4AD-2A9D34D9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707-0E33-4DED-975D-765F4FE4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C95-2370-41A0-820D-CFA66CF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831-97BA-4271-9777-485FB1A4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A32-7AE5-43D9-BF29-87508D8D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9A9-44C3-4CDA-8D18-7908AE9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E22-3D07-46A7-8EFB-C6A9C8A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22C-8833-4F81-A618-5DF4D01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E61-4D5A-4CF4-AD46-4BD3AD6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039-E56A-4A5A-8CEB-22066E51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8623-7EBF-437C-BBE0-F58ED52E9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18736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RCOT Lodestar Extracts Timing Recommendation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isio Diagra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5257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ackie Ashba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y 12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81040" y="317520"/>
          <a:ext cx="7983360" cy="62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317520"/>
                    <a:ext cx="798336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914400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144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 5/17/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5:59:36Z</dcterms:created>
  <dc:creator>jashbaugh</dc:creator>
  <dc:description/>
  <dc:language>en-US</dc:language>
  <cp:lastModifiedBy>jashbaugh</cp:lastModifiedBy>
  <dcterms:modified xsi:type="dcterms:W3CDTF">2005-05-22T15:03:37Z</dcterms:modified>
  <cp:revision>6</cp:revision>
  <dc:subject/>
  <dc:title>Slide 1</dc:title>
</cp:coreProperties>
</file>