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E86B-5547-4AA4-87F3-847450F7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4CB4-1AD9-49D3-BB8F-D2CBA0708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FE33-43AF-4EFA-B5B2-80ED1EFA1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A64-8730-4928-AC76-1E394F61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2A69-3A02-4D74-89ED-7FD28BD2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E89C-8C3C-4FB7-9A4A-C324C109A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CC49-41AF-4EFC-9294-E9232A6E1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3B88-4D7B-464F-8151-2C5424DCB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EC13-5F09-4403-A5C3-654112F1B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CA6C-97BC-48AC-9A8D-E5F318E29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4D57-E0F5-4513-808A-E71ECA619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B0B2-2A08-4178-BC1E-71993B011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25D1-2E17-426B-A47C-0DAC1DB13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951D-FBF4-4D2F-8387-417F20C35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6A60-2A4D-478E-8696-91DD771AE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A139-651F-4722-9E28-9A8BAA85B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2530-471C-4A1B-9F79-0DEE1572F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A5F4-7F1F-4CEF-AE29-5DD40D72E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9A48-AD24-4BAF-B641-77AB9BCD2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7ABE-A25E-433C-90D9-929B875AD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12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iority List (PP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FE93-59FD-4D0F-9ECA-DBFCA4286E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106 -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4 - Enhancements to SCR 727 (SCR 740 Web Service for ESII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5 - EMMS Reports/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07 - SCR727 move from Data Archive to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30026 - EPS Meter Data Extract/Resource ID Ex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6 - Lodestar Batch Extr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5 Upcoming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cessary Project Upda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480" y="79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jec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0199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11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E7B9-1B4B-4BCB-AA90-3346EC0488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0280" y="15238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Market Participants on April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a review of  FasTrak process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information as to proposed timelines f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tr. 2006 – Market Decision for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selection will occur after requirements are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01992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May 11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DE51-53A1-46AF-893B-866DCE8501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RFP for professional services on ERCOT’s web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Serena Software’s CMS product &amp; Google Applianc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B251-68E6-44B0-ADD3-6DD81C68DC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analytical design for ph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 focus on Business Intelligence Layer (query log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design of Queuing Theory for web service request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B57E-974D-448D-A7C9-C84A12612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5 EMMS Reports/Ex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o move EMMS Reports/Extracts to OD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d signoff of 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D2B0-0A03-4D33-B64C-F529AD35B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295280"/>
            <a:ext cx="87631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 ERCOT Projects to move Lodestar Extracts to 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ERCOT design recommendation for data time frame and creation timings for all the Lodestar extracts will be presented to DEWG 5/12/2005 and COPS 5/24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Market Level Data Extract to include all market data in RID, SCR 727, Load, Generation, and Settlements &amp; Billing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026 EPS Meter Data Extract/Resource ID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data ownership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042_06 Lodestar Batch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of Initial extracts logic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7CB7-BBC8-44ED-9E7D-3FE16A321A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5-12T05:54:33Z</dcterms:modified>
  <cp:revision>227</cp:revision>
  <dc:subject/>
  <dc:title>Slide 1</dc:title>
</cp:coreProperties>
</file>