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83BB-CD34-4ABD-9DA9-68A647E0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ADD5-8EFA-415C-BDB1-95BAC64C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C7F-3FFB-4626-8350-739B0773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9B5-CE6A-4DD7-BA91-29D1DA42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13A9-071C-44AD-B0BF-0FFBFDA6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383B-A275-4374-A63D-CA172579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B74F-F066-4229-BE45-DB50F532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15A8-6E36-47F3-A5FC-B1DF33FB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D174-89CC-4563-8A68-7CCF223C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05AB-435C-4A8F-944F-C9F5E66B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2520-98C3-404F-860C-60EE1052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0F9-D884-4C03-8DAC-81BDD21B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8177-97A2-4884-979E-8EF74ADF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F03B-D82C-4E80-AD7A-06ACF603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6CF0-2A24-40A9-9B96-5FD7CC18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3542-5E11-491F-9795-3562F0F7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1BA8-0F3B-4A8F-AF41-2FD25534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70429-E471-4E53-A973-C53CF760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CBBDD-F31F-41EE-8CDC-CE97DB41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8B402-7623-4084-B743-8A06D631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69BD9-32C7-42C5-B1DC-4331C1E1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BB765-3E24-486C-8A5F-62945E6B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19FB-242B-4850-A4D1-098E54EA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B0A14-4566-4BAD-8968-3C49F691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99025-60ED-4477-9D31-17462260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E516F-19A3-4B75-B174-93BDC8B4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82D40-B1ED-4EEB-909A-0260B2CA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59FEF-029D-4846-AEB9-D69A9C3E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F3D05-5426-4C89-A18D-5501DE37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6968C-BB58-4A89-89B7-5E403DAA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67A3-6291-4729-8B2C-1494E392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3C6D-DCCA-427C-8C63-31AC80A2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2C74-6DC9-4911-9DF3-70BCD1A4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E37C-F304-4AB7-8B8A-A3FD061C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B204-C6D5-455D-96ED-9377AA68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41C5-235A-40E2-873F-0152E478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05D8-DCC8-4E68-AE15-A42276A1588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2136-9555-41C5-9864-B37A511F241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EF8E-8FFE-4361-97C2-81FE1949C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114264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RCOT Enterprise Information Services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nvironment Overview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72000" y="5257800"/>
            <a:ext cx="38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aymond F. Chase</a:t>
            </a:r>
            <a:br>
              <a:rPr sz="1400"/>
            </a:b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Manager, Enterprise Information Servic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"/>
          <p:cNvGraphicFramePr/>
          <p:nvPr/>
        </p:nvGraphicFramePr>
        <p:xfrm>
          <a:off x="380880" y="1600200"/>
          <a:ext cx="8305920" cy="760320"/>
        </p:xfrm>
        <a:graphic>
          <a:graphicData uri="http://schemas.openxmlformats.org/drawingml/2006/table">
            <a:tbl>
              <a:tblPr/>
              <a:tblGrid>
                <a:gridCol w="854280"/>
                <a:gridCol w="904680"/>
                <a:gridCol w="816120"/>
                <a:gridCol w="1316160"/>
                <a:gridCol w="623880"/>
                <a:gridCol w="1319040"/>
                <a:gridCol w="1312920"/>
                <a:gridCol w="11588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IDESIID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RVICECOD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RTTIM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PTIM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PCOD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_STAR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_STOP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V_ROW_STATUS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200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YY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01/2005 08:04:3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47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6/01/200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29/2004 23:59: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YY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01/2005 07:42: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47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80880" y="3124080"/>
          <a:ext cx="8305920" cy="1447920"/>
        </p:xfrm>
        <a:graphic>
          <a:graphicData uri="http://schemas.openxmlformats.org/drawingml/2006/table">
            <a:tbl>
              <a:tblPr/>
              <a:tblGrid>
                <a:gridCol w="852480"/>
                <a:gridCol w="908280"/>
                <a:gridCol w="812520"/>
                <a:gridCol w="1317960"/>
                <a:gridCol w="623880"/>
                <a:gridCol w="1315800"/>
                <a:gridCol w="1319400"/>
                <a:gridCol w="1155600"/>
              </a:tblGrid>
              <a:tr h="347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IDESIID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RVICECOD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RTTIM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PTIM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PCOD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_STAR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_STOP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V_ROW_STATUS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21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1/200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YY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5/2005 07:16:0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47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200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0/2005 23:59: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YY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5/2005 07:07:28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47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1/200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LL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5/2005 07:07:28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5/2005 07:15:5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200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YY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01/2005 08:04:3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5/2005 07:07:2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6/01/200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29/2004 23:59: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YY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01/2005 07:42: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5/2005 07:07:2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09960" y="1219320"/>
            <a:ext cx="73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hat did the system look like on 02/15/2005 00:00:00? (Matches Point-in-Time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7800" y="2819520"/>
            <a:ext cx="512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hat did the system look like on 02/16/2005 00:00:00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8880" y="4849920"/>
            <a:ext cx="36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oint-in-Time of 02/16/2005 00:00:00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3640" y="50148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380880" y="5257800"/>
          <a:ext cx="8305560" cy="837720"/>
        </p:xfrm>
        <a:graphic>
          <a:graphicData uri="http://schemas.openxmlformats.org/drawingml/2006/table">
            <a:tbl>
              <a:tblPr/>
              <a:tblGrid>
                <a:gridCol w="853560"/>
                <a:gridCol w="903600"/>
                <a:gridCol w="817200"/>
                <a:gridCol w="1317240"/>
                <a:gridCol w="623520"/>
                <a:gridCol w="1316520"/>
                <a:gridCol w="1317240"/>
                <a:gridCol w="1156680"/>
              </a:tblGrid>
              <a:tr h="36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IDESIID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RVICECOD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RTTIM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PTIM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PCOD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_STAR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_STOP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V_ROW_STATUS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23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1/200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YY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5/2005 07:16:0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47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3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200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0/2005 23:59: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YY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5/2005 07:07:28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47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CR740 - System Integratio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990720" y="2590920"/>
            <a:ext cx="7619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90720" y="228600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tegration with Business Intelligence and Data Delivery Modu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Elementary &amp; Integrated Servic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cheduling &amp; Queuing of workloa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ayload delivery to Market Information Repository (MIR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tegration with Market Information Repository (MIR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hort &amp; Long term storage of requested payloa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ayload delivery to requesto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tegration with TIBCO Service Oriented Architectu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Externally exposed composite servic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rvicing requests for information by Marke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SCR740 - System Integration (cont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981080" y="2362320"/>
            <a:ext cx="53722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pen Discussio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ank you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Questions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mments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verview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rganization Renam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he Data Archive/Data Warehouse team has been renam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he team is now Enterprise Information Services (EIS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he ERCOT Data Warehouse environment (EDW) is a part of EI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plic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oint-in-Tim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ystem Integr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Replication - Syst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333440" y="2743200"/>
            <a:ext cx="6858000" cy="3429000"/>
            <a:chOff x="1333440" y="2743200"/>
            <a:chExt cx="6858000" cy="3429000"/>
          </a:xfrm>
        </p:grpSpPr>
        <p:sp>
          <p:nvSpPr>
            <p:cNvPr id="143" name=""/>
            <p:cNvSpPr/>
            <p:nvPr/>
          </p:nvSpPr>
          <p:spPr>
            <a:xfrm>
              <a:off x="1333440" y="2743200"/>
              <a:ext cx="1257480" cy="251460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33440" y="2743200"/>
              <a:ext cx="1257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Source Systems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1638360" y="3314880"/>
              <a:ext cx="609480" cy="342720"/>
              <a:chOff x="1638360" y="3314880"/>
              <a:chExt cx="609480" cy="342720"/>
            </a:xfrm>
          </p:grpSpPr>
          <p:sp>
            <p:nvSpPr>
              <p:cNvPr id="146" name=""/>
              <p:cNvSpPr/>
              <p:nvPr/>
            </p:nvSpPr>
            <p:spPr>
              <a:xfrm>
                <a:off x="1638360" y="3314880"/>
                <a:ext cx="60948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638360" y="3314880"/>
                <a:ext cx="60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Lodestar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1638360" y="3772080"/>
              <a:ext cx="609480" cy="342720"/>
              <a:chOff x="1638360" y="3772080"/>
              <a:chExt cx="609480" cy="342720"/>
            </a:xfrm>
          </p:grpSpPr>
          <p:sp>
            <p:nvSpPr>
              <p:cNvPr id="149" name=""/>
              <p:cNvSpPr/>
              <p:nvPr/>
            </p:nvSpPr>
            <p:spPr>
              <a:xfrm>
                <a:off x="1638360" y="3772080"/>
                <a:ext cx="60948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38360" y="3772080"/>
                <a:ext cx="60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EMMS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1638360" y="4229280"/>
              <a:ext cx="609480" cy="342720"/>
              <a:chOff x="1638360" y="4229280"/>
              <a:chExt cx="609480" cy="342720"/>
            </a:xfrm>
          </p:grpSpPr>
          <p:sp>
            <p:nvSpPr>
              <p:cNvPr id="152" name=""/>
              <p:cNvSpPr/>
              <p:nvPr/>
            </p:nvSpPr>
            <p:spPr>
              <a:xfrm>
                <a:off x="1638360" y="4229280"/>
                <a:ext cx="60948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638360" y="4229280"/>
                <a:ext cx="60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Siebel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1638360" y="4686480"/>
              <a:ext cx="609480" cy="342720"/>
              <a:chOff x="1638360" y="4686480"/>
              <a:chExt cx="609480" cy="342720"/>
            </a:xfrm>
          </p:grpSpPr>
          <p:sp>
            <p:nvSpPr>
              <p:cNvPr id="155" name=""/>
              <p:cNvSpPr/>
              <p:nvPr/>
            </p:nvSpPr>
            <p:spPr>
              <a:xfrm>
                <a:off x="1638360" y="4686480"/>
                <a:ext cx="60948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638360" y="4686480"/>
                <a:ext cx="60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EAI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991040" y="2743200"/>
              <a:ext cx="1257480" cy="251460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91040" y="2743200"/>
              <a:ext cx="12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ODS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34320" y="2743200"/>
              <a:ext cx="1257120" cy="251460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34320" y="2743200"/>
              <a:ext cx="125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Data Warehouse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48520" y="4229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62640" y="400068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91040" y="5600880"/>
              <a:ext cx="1257480" cy="57132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91040" y="5600880"/>
              <a:ext cx="12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Extraction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91040" y="4915080"/>
              <a:ext cx="1257480" cy="34272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91040" y="4915080"/>
              <a:ext cx="12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DDM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62720" y="525780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2743200"/>
              <a:ext cx="1257120" cy="251460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48120" y="2743200"/>
              <a:ext cx="125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RSS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47840" y="34290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47840" y="38862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47840" y="43434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47840" y="4800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352680" y="3314880"/>
              <a:ext cx="609840" cy="342720"/>
              <a:chOff x="3352680" y="3314880"/>
              <a:chExt cx="609840" cy="342720"/>
            </a:xfrm>
          </p:grpSpPr>
          <p:sp>
            <p:nvSpPr>
              <p:cNvPr id="175" name=""/>
              <p:cNvSpPr/>
              <p:nvPr/>
            </p:nvSpPr>
            <p:spPr>
              <a:xfrm>
                <a:off x="3352680" y="3314880"/>
                <a:ext cx="60984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52680" y="3314880"/>
                <a:ext cx="609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Lodestar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3352680" y="3772080"/>
              <a:ext cx="609840" cy="342720"/>
              <a:chOff x="3352680" y="3772080"/>
              <a:chExt cx="609840" cy="342720"/>
            </a:xfrm>
          </p:grpSpPr>
          <p:sp>
            <p:nvSpPr>
              <p:cNvPr id="178" name=""/>
              <p:cNvSpPr/>
              <p:nvPr/>
            </p:nvSpPr>
            <p:spPr>
              <a:xfrm>
                <a:off x="3352680" y="3772080"/>
                <a:ext cx="60984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352680" y="3772080"/>
                <a:ext cx="609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EMMS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3352680" y="4229280"/>
              <a:ext cx="609840" cy="342720"/>
              <a:chOff x="3352680" y="4229280"/>
              <a:chExt cx="609840" cy="342720"/>
            </a:xfrm>
          </p:grpSpPr>
          <p:sp>
            <p:nvSpPr>
              <p:cNvPr id="181" name=""/>
              <p:cNvSpPr/>
              <p:nvPr/>
            </p:nvSpPr>
            <p:spPr>
              <a:xfrm>
                <a:off x="3352680" y="4229280"/>
                <a:ext cx="60984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352680" y="4229280"/>
                <a:ext cx="609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Siebel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3352680" y="4686480"/>
              <a:ext cx="609840" cy="342720"/>
              <a:chOff x="3352680" y="4686480"/>
              <a:chExt cx="609840" cy="342720"/>
            </a:xfrm>
          </p:grpSpPr>
          <p:sp>
            <p:nvSpPr>
              <p:cNvPr id="184" name=""/>
              <p:cNvSpPr/>
              <p:nvPr/>
            </p:nvSpPr>
            <p:spPr>
              <a:xfrm>
                <a:off x="3352680" y="4686480"/>
                <a:ext cx="60984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52680" y="4686480"/>
                <a:ext cx="609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EAI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3962520" y="342900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62520" y="388620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62520" y="434340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62520" y="480060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19520" y="4876920"/>
              <a:ext cx="0" cy="685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8320" y="4876920"/>
              <a:ext cx="0" cy="685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19520" y="5562720"/>
              <a:ext cx="18288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75640" y="5410080"/>
              <a:ext cx="8863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SharePlex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Replication – Method Overview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al-time replication uses SharePlex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ome custom code used for handling transaction point-in-time and auditing aspec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DS side stores all versions of a recor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grpSp>
        <p:nvGrpSpPr>
          <p:cNvPr id="198" name=""/>
          <p:cNvGrpSpPr/>
          <p:nvPr/>
        </p:nvGrpSpPr>
        <p:grpSpPr>
          <a:xfrm>
            <a:off x="1981080" y="3429000"/>
            <a:ext cx="6286680" cy="3047760"/>
            <a:chOff x="1981080" y="3429000"/>
            <a:chExt cx="6286680" cy="3047760"/>
          </a:xfrm>
        </p:grpSpPr>
        <p:sp>
          <p:nvSpPr>
            <p:cNvPr id="199" name=""/>
            <p:cNvSpPr/>
            <p:nvPr/>
          </p:nvSpPr>
          <p:spPr>
            <a:xfrm>
              <a:off x="2057400" y="3733560"/>
              <a:ext cx="1257480" cy="121932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81080" y="34290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Source System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48240" y="3733560"/>
              <a:ext cx="1257480" cy="274320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10080" y="34290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ODS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72080" y="3733560"/>
              <a:ext cx="1257120" cy="121932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4290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RSS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71880" y="4343400"/>
              <a:ext cx="1066680" cy="21564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66"/>
                  </a:solidFill>
                  <a:latin typeface="Arial"/>
                </a:rPr>
                <a:t>Record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48040" y="4343400"/>
              <a:ext cx="1067040" cy="21564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66"/>
                  </a:solidFill>
                  <a:latin typeface="Arial"/>
                </a:rPr>
                <a:t>Record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24560" y="4343400"/>
              <a:ext cx="1066680" cy="21564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66"/>
                  </a:solidFill>
                  <a:latin typeface="Arial"/>
                </a:rPr>
                <a:t>Record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24560" y="5491080"/>
              <a:ext cx="1066680" cy="21564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66"/>
                  </a:solidFill>
                  <a:latin typeface="Arial"/>
                </a:rPr>
                <a:t>Record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24560" y="5796000"/>
              <a:ext cx="1066680" cy="21564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66"/>
                  </a:solidFill>
                  <a:latin typeface="Arial"/>
                </a:rPr>
                <a:t>Record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24560" y="6100560"/>
              <a:ext cx="1066680" cy="21564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3366"/>
                  </a:solidFill>
                  <a:latin typeface="Arial"/>
                </a:rPr>
                <a:t>Record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09960" y="4647960"/>
              <a:ext cx="1214280" cy="733680"/>
            </a:xfrm>
            <a:custGeom>
              <a:avLst/>
              <a:gdLst>
                <a:gd name="textAreaLeft" fmla="*/ 212400 w 1214280"/>
                <a:gd name="textAreaRight" fmla="*/ 880560 w 1214280"/>
                <a:gd name="textAreaTop" fmla="*/ 98280 h 733680"/>
                <a:gd name="textAreaBottom" fmla="*/ 63540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33640" y="5029200"/>
              <a:ext cx="1257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Insert, Update, Update, Updat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86480" y="4647960"/>
              <a:ext cx="1214280" cy="733680"/>
            </a:xfrm>
            <a:custGeom>
              <a:avLst/>
              <a:gdLst>
                <a:gd name="textAreaLeft" fmla="*/ 212400 w 1214280"/>
                <a:gd name="textAreaRight" fmla="*/ 880560 w 1214280"/>
                <a:gd name="textAreaTop" fmla="*/ 98280 h 733680"/>
                <a:gd name="textAreaBottom" fmla="*/ 63540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10160" y="5029200"/>
              <a:ext cx="1257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Insert, Update, Update, Updat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43880" y="4343400"/>
              <a:ext cx="733320" cy="1981080"/>
            </a:xfrm>
            <a:custGeom>
              <a:avLst/>
              <a:gdLst>
                <a:gd name="textAreaLeft" fmla="*/ 98280 w 733320"/>
                <a:gd name="textAreaRight" fmla="*/ 635040 w 733320"/>
                <a:gd name="textAreaTop" fmla="*/ 346680 h 1981080"/>
                <a:gd name="textAreaBottom" fmla="*/ 14364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05640" y="5029200"/>
              <a:ext cx="762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Insert  Insert Insert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24560" y="4114800"/>
              <a:ext cx="1066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66"/>
                  </a:solidFill>
                  <a:latin typeface="Arial"/>
                </a:rPr>
                <a:t>Current</a:t>
              </a:r>
              <a:endParaRPr b="0" lang="en-US" sz="9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24560" y="5257800"/>
              <a:ext cx="1066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66"/>
                  </a:solidFill>
                  <a:latin typeface="Arial"/>
                </a:rPr>
                <a:t>History</a:t>
              </a:r>
              <a:endParaRPr b="0" lang="en-US" sz="9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37335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Table_A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33920" y="37335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Table_A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10080" y="37335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Table_A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Point-in-Tim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mprised of a start date-time (PIT_START) and stop date-time (PIT_STOP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Used to track record changes over tim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llows current and historical, “as of” querying capabiliti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1447920" y="4114800"/>
            <a:ext cx="6629400" cy="852480"/>
            <a:chOff x="1447920" y="4114800"/>
            <a:chExt cx="6629400" cy="852480"/>
          </a:xfrm>
        </p:grpSpPr>
        <p:sp>
          <p:nvSpPr>
            <p:cNvPr id="226" name=""/>
            <p:cNvSpPr/>
            <p:nvPr/>
          </p:nvSpPr>
          <p:spPr>
            <a:xfrm>
              <a:off x="1752480" y="4114800"/>
              <a:ext cx="1828800" cy="22860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Insert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81280" y="4114800"/>
              <a:ext cx="182880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Updat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10080" y="4114800"/>
              <a:ext cx="1828800" cy="228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Updat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38880" y="4114800"/>
              <a:ext cx="838440" cy="228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Deleted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81280" y="434340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76720" y="4648320"/>
              <a:ext cx="6253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07/11/2004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10080" y="434340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05520" y="4648320"/>
              <a:ext cx="6253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10/31/2004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38880" y="434340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34320" y="4648320"/>
              <a:ext cx="6253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05/05/2005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52480" y="434340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47920" y="4648320"/>
              <a:ext cx="6253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05/01/2004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Point-in-Time (Two Tables/Two Records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llows reconstruction of what the system looked like at any point-in-tim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Insert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3505320"/>
            <a:ext cx="18288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Updat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31240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Updat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71800" y="373392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4038480"/>
            <a:ext cx="6256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07/11/200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95680" y="4038480"/>
            <a:ext cx="6256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0/31/200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43000" y="373392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4038480"/>
            <a:ext cx="6256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05/01/200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38280" y="4495680"/>
            <a:ext cx="1828800" cy="2286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Insert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67080" y="4495680"/>
            <a:ext cx="18288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Updat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5880" y="4495680"/>
            <a:ext cx="182880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Updat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472428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5029200"/>
            <a:ext cx="625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09/09/200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472428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91320" y="5029200"/>
            <a:ext cx="625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2/31/200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472428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33720" y="5029200"/>
            <a:ext cx="625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06/20/200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2895480"/>
            <a:ext cx="152280" cy="3429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11840" y="6324480"/>
            <a:ext cx="428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hat did the system look like on 07/04/2004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Point-in-Time (Two Tables/Two Records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llows reconstruction of what the system looked like at any point-in-tim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Insert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3505320"/>
            <a:ext cx="18288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Updat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00600" y="3505320"/>
            <a:ext cx="31240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Updat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71800" y="373392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66880" y="4038480"/>
            <a:ext cx="6256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07/11/200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038480"/>
            <a:ext cx="6256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0/31/200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43000" y="373392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4038480"/>
            <a:ext cx="6256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05/01/200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38280" y="4495680"/>
            <a:ext cx="1828800" cy="2286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Insert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67080" y="4495680"/>
            <a:ext cx="18288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Updat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5880" y="4495680"/>
            <a:ext cx="182880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Updat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472428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5029200"/>
            <a:ext cx="625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09/09/200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95880" y="472428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91320" y="5029200"/>
            <a:ext cx="625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2/31/200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472428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33720" y="5029200"/>
            <a:ext cx="625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06/20/200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2895480"/>
            <a:ext cx="152280" cy="3429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11840" y="6324480"/>
            <a:ext cx="428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hat did the system look like on 09/12/2004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Point-in-Time (Two Tables/Two Records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llows reconstruction of what the system looked like at any point-in-tim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Insert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71800" y="3505320"/>
            <a:ext cx="18288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Updat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00600" y="3505320"/>
            <a:ext cx="312408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Updat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373392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66880" y="4038480"/>
            <a:ext cx="6256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07/11/200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95680" y="4038480"/>
            <a:ext cx="6256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0/31/200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43000" y="373392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4038480"/>
            <a:ext cx="6256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05/01/200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438280" y="4495680"/>
            <a:ext cx="1828800" cy="2286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Insert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67080" y="4495680"/>
            <a:ext cx="18288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Updat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5880" y="4495680"/>
            <a:ext cx="182880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Updat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67080" y="472428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62520" y="5029200"/>
            <a:ext cx="625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09/09/200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95880" y="472428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91320" y="5029200"/>
            <a:ext cx="625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2/31/200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38280" y="472428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133720" y="5029200"/>
            <a:ext cx="625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06/20/200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72200" y="2895480"/>
            <a:ext cx="152280" cy="3429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11840" y="6324480"/>
            <a:ext cx="428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hat did the system look like on 01/05/2005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8" name=""/>
          <p:cNvGraphicFramePr/>
          <p:nvPr/>
        </p:nvGraphicFramePr>
        <p:xfrm>
          <a:off x="228600" y="685800"/>
          <a:ext cx="7086600" cy="5987880"/>
        </p:xfrm>
        <a:graphic>
          <a:graphicData uri="http://schemas.openxmlformats.org/drawingml/2006/table">
            <a:tbl>
              <a:tblPr/>
              <a:tblGrid>
                <a:gridCol w="776160"/>
                <a:gridCol w="687600"/>
                <a:gridCol w="876240"/>
                <a:gridCol w="1197000"/>
                <a:gridCol w="501480"/>
                <a:gridCol w="1262160"/>
                <a:gridCol w="1197000"/>
                <a:gridCol w="58896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IDESIID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RVICECOD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RTTIM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OPTIM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PCOD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_STAR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_STOP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V_ROW_STATUS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/11/200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YY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/13/2005 09:17:0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47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/15/200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/10/2005 23:59: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YY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/13/2005 09:09:0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47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1/200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/14/2005 23:59: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YY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/13/2005 09:09:0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47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200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0/2005 23:59: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YY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/18/2005 14:15:0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47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6/01/200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29/2004 23:59: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YY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5/2005 07:07:28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47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/13/200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/31/2004 23:59: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YY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01/2005 07:42: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47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2/200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/12/2004 23:59: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YY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6/04/2004 09:28:5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47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20/200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1/2004 23:59: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YY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/15/2004 09:18:3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47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22/200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19/2004 23:59: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LL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7/2004 09:27:2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47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8/12/200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21/2003 23:59: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YY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25/2003 10:51:4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47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8/06/200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8/11/2003 23:59: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LL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25/2003 10:51:4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47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6/13/200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8/05/2003 23:59: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YY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8/09/2003 13:17:2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47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6/05/200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6/12/2003 23:59: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LL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8/09/2003 13:17:2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47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/23/200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6/04/2003 23:59: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ZZ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6/08/2003 05:42:1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47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23/200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/22/2002 23:59: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YY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6/08/2003 05:42:1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47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6/01/200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22/2002 23:59: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A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29/2002 14:51:4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47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01/197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/31/2001 23:59: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A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29/2002 14:51:4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47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/11/200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LL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/13/2005 09:09:0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/13/2005 09:17:0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/15/200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YY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/18/2005 14:33:3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/13/2005 09:09:0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D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1/200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/14/2005 23:59: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YY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/18/2005 14:15:0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/13/2005 09:09:0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D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/15/200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LL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/18/2005 14:15:0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/18/2005 14:33:3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1/200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YY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5/2005 07:16:0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/18/2005 14:15: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200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0/2005 23:59: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YY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5/2005 07:07:28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/18/2005 14:15: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D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1/200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LL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5/2005 07:07:28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5/2005 07:15:5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30/200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YY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01/2005 08:04:3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5/2005 07:07:2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XXXXX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6/01/200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29/2004 23:59: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YY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/01/2005 07:42:1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/15/2005 07:07:2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>
            <a:off x="228960" y="304920"/>
            <a:ext cx="488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SIIDSERVICEHIST data for UIDESIID XXXXXXXX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20:23:20Z</dcterms:created>
  <dc:creator>syedavalli</dc:creator>
  <dc:description/>
  <dc:language>en-US</dc:language>
  <cp:lastModifiedBy>rchase</cp:lastModifiedBy>
  <dcterms:modified xsi:type="dcterms:W3CDTF">2005-05-12T16:05:16Z</dcterms:modified>
  <cp:revision>63</cp:revision>
  <dc:subject/>
  <dc:title>ODS Source Schema Standards</dc:title>
</cp:coreProperties>
</file>