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05F943-4D10-4B7C-9D8C-8E61CAFE20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B922FB-785B-40E4-AB0A-C41A0E7D2A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99EE7D-62F6-4087-88A4-8D31494AB8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359028-A044-46E8-A678-28184715F6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91D950-2672-48D9-9EC3-4B98CD04D0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9F0364-BBFE-47EC-B951-FFDF8AF746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5E3054-4471-4211-8B01-3E7572E785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BF64BF-5926-4477-A288-AA4C73CA86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1F3711-E544-4C54-BE20-518797B66E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F98DA5-F204-450C-B421-507E903238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8C1143-27AA-47B7-B4F6-C674447334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25C4E0-DC31-47DF-8EF4-DA013E30DB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CBD3E-692B-455E-8F4A-900348E649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ation Adequacy Task Force Report to</a:t>
            </a:r>
            <a:br>
              <a:rPr sz="4000"/>
            </a:br>
            <a:r>
              <a:rPr b="0" lang="en-US" sz="4000" spc="-1" strike="noStrike">
                <a:solidFill>
                  <a:srgbClr val="000000"/>
                </a:solidFill>
                <a:latin typeface="Arial"/>
              </a:rPr>
              <a:t>TAC</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5, 2005</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A23453B-082C-46F4-AD0B-2C21DE365D80}"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tems Approved by TAC on April 7 </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ad Forecast</a:t>
            </a:r>
            <a:r>
              <a:rPr b="0" lang="en-US" sz="2800" spc="-1" strike="noStrike">
                <a:solidFill>
                  <a:srgbClr val="000000"/>
                </a:solidFill>
                <a:latin typeface="Arial"/>
              </a:rPr>
              <a:t> – use new ERCOT load forecast based on an econometric model of the ERCOT service are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isting Installed Capacity</a:t>
            </a:r>
            <a:r>
              <a:rPr b="0" lang="en-US" sz="2800" spc="-1" strike="noStrike">
                <a:solidFill>
                  <a:srgbClr val="000000"/>
                </a:solidFill>
                <a:latin typeface="Arial"/>
              </a:rPr>
              <a:t> – use Summer Net Dependable Generating Capability based on ERCOT testing criteria.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w Installed Capacity</a:t>
            </a:r>
            <a:r>
              <a:rPr b="0" lang="en-US" sz="2800" spc="-1" strike="noStrike">
                <a:solidFill>
                  <a:srgbClr val="000000"/>
                </a:solidFill>
                <a:latin typeface="Arial"/>
              </a:rPr>
              <a:t> - No change but also include capacity from any NOIE that has submitted a letter to ERCOT regarding the interconnection of new generating capacity pursuant requirements contained in the ERCOT Power System Planning Charter and Processe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6689B88-872B-4AED-964D-D0AD520364F6}"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4">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tems Approved by TAC on April 7 </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ad Participation</a:t>
            </a:r>
            <a:r>
              <a:rPr b="0" lang="en-US" sz="2400" spc="-1" strike="noStrike">
                <a:solidFill>
                  <a:srgbClr val="000000"/>
                </a:solidFill>
                <a:latin typeface="Arial"/>
              </a:rPr>
              <a:t> – Include the amount of Loads Acting as Resources (LaaRs), Balancing Up Loads (BULs) and loads providing other Ancillary Services (e.g., Responsive Reserves, Non-Spin and Replacement).  For 2005, this amount will be the LaaR amount procured by ERCOT (i.e., 1,150 MW).  For future forecasts, the amount will be based on the average of historical amount of load resources offered into these markets during peak load hours.  It may also include any load resources available from NOIE, TDSP or other market participant demand-side programs that meet certain criteria developed by the GATF (provided that the impacts of such programs are not already incorporated into the ERCOT econometric load forecast).</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0C60ABA-A182-48EA-A34B-89021F1648C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tems Approved by TAC on April 7 </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nd Generating Capacity</a:t>
            </a:r>
            <a:r>
              <a:rPr b="0" lang="en-US" sz="2400" spc="-1" strike="noStrike">
                <a:solidFill>
                  <a:srgbClr val="000000"/>
                </a:solidFill>
                <a:latin typeface="Arial"/>
              </a:rPr>
              <a:t> – Include a percentage of installed wind generating capacity based on actual historical wind production during the summer peak load hours (i.e., weekdays in July and August for the hours 16:00 through 18:00).  For 2005, this percentage is </a:t>
            </a:r>
            <a:r>
              <a:rPr b="1" lang="en-US" sz="2400" spc="-1" strike="noStrike">
                <a:solidFill>
                  <a:srgbClr val="000000"/>
                </a:solidFill>
                <a:latin typeface="Arial"/>
              </a:rPr>
              <a:t>2.9%</a:t>
            </a:r>
            <a:r>
              <a:rPr b="0" lang="en-US" sz="2400" spc="-1" strike="noStrike">
                <a:solidFill>
                  <a:srgbClr val="000000"/>
                </a:solidFill>
                <a:latin typeface="Arial"/>
              </a:rPr>
              <a:t> based on historical data for the years 2002-2004.</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Switchable” Capacity</a:t>
            </a:r>
            <a:r>
              <a:rPr b="0" lang="en-US" sz="2400" spc="-1" strike="noStrike">
                <a:solidFill>
                  <a:srgbClr val="000000"/>
                </a:solidFill>
                <a:latin typeface="Arial"/>
              </a:rPr>
              <a:t> – Include the Summer Net Dependable Capability of switchable capacity less the amount of capacity reported by the owners of switchable capacity to be unavailable to ERCOT during the summer peak load period as the result of a unit-specific contract for delivery outside of ERCOT. This information would be updated on an annual basis (PRR 591).</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2CC8B54-F4CB-4E1D-9B96-7591231AA103}" type="slidenum">
              <a:t>4</a:t>
            </a:fld>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48">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sensus Item: “Mothballed” Capacity</a:t>
            </a:r>
            <a:endParaRPr b="0" lang="en-US" sz="3200" spc="-1" strike="noStrike">
              <a:solidFill>
                <a:srgbClr val="000000"/>
              </a:solidFill>
              <a:latin typeface="Arial"/>
            </a:endParaRPr>
          </a:p>
        </p:txBody>
      </p:sp>
      <p:sp>
        <p:nvSpPr>
          <p:cNvPr id="50"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tly assume that 100% of “mothballed” capacity is not available in the first year of the forecast and that 100% is available in the second through fifth years of the forecas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mmendation:</a:t>
            </a:r>
            <a:endParaRPr b="0" lang="en-US" sz="1800" spc="-1" strike="noStrike">
              <a:solidFill>
                <a:srgbClr val="000000"/>
              </a:solidFill>
              <a:latin typeface="Arial"/>
            </a:endParaRPr>
          </a:p>
          <a:p>
            <a:pPr lvl="1" marL="808200" indent="-3510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ddition to “lead-time” to return a “mothballed” unit to service (PRR 573), resource owners would be required to report (confidentially) to ERCOT an estimate of the probability (in %) that their mothballed capacity would return to operation by season for each of the 5 years in the forecast period (PRR 596).</a:t>
            </a:r>
            <a:endParaRPr b="0" lang="en-US" sz="1800" spc="-1" strike="noStrike">
              <a:solidFill>
                <a:srgbClr val="000000"/>
              </a:solidFill>
              <a:latin typeface="Arial"/>
            </a:endParaRPr>
          </a:p>
          <a:p>
            <a:pPr lvl="1" marL="808200" indent="-3510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would then determine the amount of mothballed capacity that would return to service in each year of the forecast period subject to the minimum lead-time and the owner’s estimated probability and use that amount of capacity for the reserve margin calculation and</a:t>
            </a:r>
            <a:r>
              <a:rPr b="0" lang="en-US" sz="1800" spc="-1" strike="noStrike">
                <a:solidFill>
                  <a:srgbClr val="ff3300"/>
                </a:solidFill>
                <a:latin typeface="Arial"/>
              </a:rPr>
              <a:t> </a:t>
            </a:r>
            <a:r>
              <a:rPr b="0" lang="en-US" sz="1800" spc="-1" strike="noStrike">
                <a:solidFill>
                  <a:srgbClr val="000000"/>
                </a:solidFill>
                <a:latin typeface="Arial"/>
              </a:rPr>
              <a:t>for reporting purposes.  </a:t>
            </a:r>
            <a:endParaRPr b="0" lang="en-US" sz="1800" spc="-1" strike="noStrike">
              <a:solidFill>
                <a:srgbClr val="000000"/>
              </a:solidFill>
              <a:latin typeface="Arial"/>
            </a:endParaRPr>
          </a:p>
          <a:p>
            <a:pPr lvl="1" marL="808200" indent="-3510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would also calculate a “high” reserve margin assuming all mothballed capacity returns to service as soon as possible (subject to the minimum lead-time) and a “low” reserve margin assuming that none of the mothballed capacity returns to service during the forecast period.</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6076F94-747D-4B3B-8196-564BB370651B}" type="slidenum">
              <a:t>5</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0">
                                            <p:txEl>
                                              <p:pRg st="0" end="0"/>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50">
                                            <p:txEl>
                                              <p:pRg st="1" end="1"/>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50">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50">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5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n-Consensus Item: DC Ties</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use 100% of ERCOT DC Tie import capability (856 MW)</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 1 - Based on Southwest Power Pool (SPP) Capacity</a:t>
            </a:r>
            <a:endParaRPr b="0" lang="en-US" sz="2400" spc="-1" strike="noStrike">
              <a:solidFill>
                <a:srgbClr val="000000"/>
              </a:solidFill>
              <a:latin typeface="Arial"/>
            </a:endParaRPr>
          </a:p>
          <a:p>
            <a:pPr lvl="1" marL="743040" indent="-285840">
              <a:lnSpc>
                <a:spcPct val="80000"/>
              </a:lnSpc>
              <a:spcBef>
                <a:spcPts val="751"/>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 the amount of excess capacity available in the SPP by subtracting the SPP load and minimum reserve requirement from SPP’s capacity;</a:t>
            </a:r>
            <a:endParaRPr b="0" lang="en-US" sz="2000" spc="-1" strike="noStrike">
              <a:solidFill>
                <a:srgbClr val="000000"/>
              </a:solidFill>
              <a:latin typeface="Arial"/>
            </a:endParaRPr>
          </a:p>
          <a:p>
            <a:pPr lvl="1" marL="743040" indent="-285840">
              <a:lnSpc>
                <a:spcPct val="80000"/>
              </a:lnSpc>
              <a:spcBef>
                <a:spcPts val="751"/>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ply the result by 50%; and</a:t>
            </a:r>
            <a:endParaRPr b="0" lang="en-US" sz="2000" spc="-1" strike="noStrike">
              <a:solidFill>
                <a:srgbClr val="000000"/>
              </a:solidFill>
              <a:latin typeface="Arial"/>
            </a:endParaRPr>
          </a:p>
          <a:p>
            <a:pPr lvl="1" marL="743040" indent="-285840">
              <a:lnSpc>
                <a:spcPct val="80000"/>
              </a:lnSpc>
              <a:spcBef>
                <a:spcPts val="751"/>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 the lesser of: the 50% SPP excess capacity number as calculated above or the maximum ERCOT DC Tie import capability (currently 856 MW). </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 2 - Use 50% of the maximum ERCOT DC Tie import capability (428 MW).</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3926F63-B5CD-4FA4-A7FE-03F63758D40A}" type="slidenum">
              <a:t>6</a:t>
            </a:fld>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52">
                                            <p:txEl>
                                              <p:pRg st="0" end="0"/>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52">
                                            <p:txEl>
                                              <p:pRg st="1" end="1"/>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52">
                                            <p:txEl>
                                              <p:pRg st="2" end="2"/>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52">
                                            <p:txEl>
                                              <p:pRg st="3" end="3"/>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52">
                                            <p:txEl>
                                              <p:pRg st="4" end="4"/>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5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1752480" y="1676520"/>
            <a:ext cx="2362320" cy="207324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4145040" y="1676520"/>
            <a:ext cx="2361960" cy="20732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523880" y="3733920"/>
            <a:ext cx="518184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2097000" y="1828800"/>
            <a:ext cx="1692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Pric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er in SP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wer flow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 of ERCOT)</a:t>
            </a:r>
            <a:endParaRPr b="0" lang="en-US" sz="1800" spc="-1" strike="noStrike">
              <a:solidFill>
                <a:srgbClr val="000000"/>
              </a:solidFill>
              <a:latin typeface="Arial"/>
            </a:endParaRPr>
          </a:p>
        </p:txBody>
      </p:sp>
      <p:sp>
        <p:nvSpPr>
          <p:cNvPr id="57" name=""/>
          <p:cNvSpPr/>
          <p:nvPr/>
        </p:nvSpPr>
        <p:spPr>
          <a:xfrm>
            <a:off x="4269960" y="1828800"/>
            <a:ext cx="195624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Pric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er in ERCO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wer flow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o ERCOT)</a:t>
            </a:r>
            <a:endParaRPr b="0" lang="en-US" sz="1800" spc="-1" strike="noStrike">
              <a:solidFill>
                <a:srgbClr val="000000"/>
              </a:solidFill>
              <a:latin typeface="Arial"/>
            </a:endParaRPr>
          </a:p>
        </p:txBody>
      </p:sp>
      <p:sp>
        <p:nvSpPr>
          <p:cNvPr id="58" name=""/>
          <p:cNvSpPr/>
          <p:nvPr/>
        </p:nvSpPr>
        <p:spPr>
          <a:xfrm>
            <a:off x="1219680" y="3787920"/>
            <a:ext cx="695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a:t>
            </a:r>
            <a:endParaRPr b="0" lang="en-US" sz="1400" spc="-1" strike="noStrike">
              <a:solidFill>
                <a:srgbClr val="000000"/>
              </a:solidFill>
              <a:latin typeface="Arial"/>
            </a:endParaRPr>
          </a:p>
        </p:txBody>
      </p:sp>
      <p:sp>
        <p:nvSpPr>
          <p:cNvPr id="59" name=""/>
          <p:cNvSpPr/>
          <p:nvPr/>
        </p:nvSpPr>
        <p:spPr>
          <a:xfrm>
            <a:off x="307440" y="3124080"/>
            <a:ext cx="10677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C Ti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a:t>
            </a:r>
            <a:endParaRPr b="0" lang="en-US" sz="1800" spc="-1" strike="noStrike">
              <a:solidFill>
                <a:srgbClr val="000000"/>
              </a:solidFill>
              <a:latin typeface="Arial"/>
            </a:endParaRPr>
          </a:p>
        </p:txBody>
      </p:sp>
      <p:sp>
        <p:nvSpPr>
          <p:cNvPr id="60" name=""/>
          <p:cNvSpPr/>
          <p:nvPr/>
        </p:nvSpPr>
        <p:spPr>
          <a:xfrm>
            <a:off x="3887640" y="3787920"/>
            <a:ext cx="43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p:txBody>
      </p:sp>
      <p:sp>
        <p:nvSpPr>
          <p:cNvPr id="61" name=""/>
          <p:cNvSpPr/>
          <p:nvPr/>
        </p:nvSpPr>
        <p:spPr>
          <a:xfrm>
            <a:off x="6172920" y="3787920"/>
            <a:ext cx="636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a:t>
            </a:r>
            <a:endParaRPr b="0" lang="en-US" sz="1400" spc="-1" strike="noStrike">
              <a:solidFill>
                <a:srgbClr val="000000"/>
              </a:solidFill>
              <a:latin typeface="Arial"/>
            </a:endParaRPr>
          </a:p>
        </p:txBody>
      </p:sp>
      <p:grpSp>
        <p:nvGrpSpPr>
          <p:cNvPr id="62" name=""/>
          <p:cNvGrpSpPr/>
          <p:nvPr/>
        </p:nvGrpSpPr>
        <p:grpSpPr>
          <a:xfrm>
            <a:off x="5046120" y="5418000"/>
            <a:ext cx="3151080" cy="830520"/>
            <a:chOff x="5046120" y="5418000"/>
            <a:chExt cx="3151080" cy="830520"/>
          </a:xfrm>
        </p:grpSpPr>
        <p:sp>
          <p:nvSpPr>
            <p:cNvPr id="63" name=""/>
            <p:cNvSpPr/>
            <p:nvPr/>
          </p:nvSpPr>
          <p:spPr>
            <a:xfrm>
              <a:off x="5046120" y="541800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a:t>
              </a:r>
              <a:endParaRPr b="0" lang="en-US" sz="1400" spc="-1" strike="noStrike">
                <a:solidFill>
                  <a:srgbClr val="000000"/>
                </a:solidFill>
                <a:latin typeface="Arial"/>
              </a:endParaRPr>
            </a:p>
          </p:txBody>
        </p:sp>
        <p:sp>
          <p:nvSpPr>
            <p:cNvPr id="64" name=""/>
            <p:cNvSpPr/>
            <p:nvPr/>
          </p:nvSpPr>
          <p:spPr>
            <a:xfrm>
              <a:off x="5181480" y="5715000"/>
              <a:ext cx="228600" cy="533520"/>
            </a:xfrm>
            <a:prstGeom prst="upArrow">
              <a:avLst>
                <a:gd name="adj1" fmla="val 50000"/>
                <a:gd name="adj2" fmla="val 58346"/>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7086960" y="5791320"/>
              <a:ext cx="111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tion 2</a:t>
              </a:r>
              <a:endParaRPr b="0" lang="en-US" sz="1800" spc="-1" strike="noStrike">
                <a:solidFill>
                  <a:srgbClr val="000000"/>
                </a:solidFill>
                <a:latin typeface="Arial"/>
              </a:endParaRPr>
            </a:p>
          </p:txBody>
        </p:sp>
      </p:grpSp>
      <p:grpSp>
        <p:nvGrpSpPr>
          <p:cNvPr id="66" name=""/>
          <p:cNvGrpSpPr/>
          <p:nvPr/>
        </p:nvGrpSpPr>
        <p:grpSpPr>
          <a:xfrm>
            <a:off x="6340320" y="4054320"/>
            <a:ext cx="2707560" cy="533520"/>
            <a:chOff x="6340320" y="4054320"/>
            <a:chExt cx="2707560" cy="533520"/>
          </a:xfrm>
        </p:grpSpPr>
        <p:sp>
          <p:nvSpPr>
            <p:cNvPr id="67" name=""/>
            <p:cNvSpPr/>
            <p:nvPr/>
          </p:nvSpPr>
          <p:spPr>
            <a:xfrm>
              <a:off x="6553800" y="4191120"/>
              <a:ext cx="2494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rrent Methodology</a:t>
              </a:r>
              <a:endParaRPr b="0" lang="en-US" sz="1800" spc="-1" strike="noStrike">
                <a:solidFill>
                  <a:srgbClr val="000000"/>
                </a:solidFill>
                <a:latin typeface="Arial"/>
              </a:endParaRPr>
            </a:p>
          </p:txBody>
        </p:sp>
        <p:sp>
          <p:nvSpPr>
            <p:cNvPr id="68" name=""/>
            <p:cNvSpPr/>
            <p:nvPr/>
          </p:nvSpPr>
          <p:spPr>
            <a:xfrm>
              <a:off x="6340320" y="4054320"/>
              <a:ext cx="228600" cy="533520"/>
            </a:xfrm>
            <a:prstGeom prst="upArrow">
              <a:avLst>
                <a:gd name="adj1" fmla="val 50000"/>
                <a:gd name="adj2" fmla="val 58346"/>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9" name=""/>
          <p:cNvGrpSpPr/>
          <p:nvPr/>
        </p:nvGrpSpPr>
        <p:grpSpPr>
          <a:xfrm>
            <a:off x="3827160" y="4952880"/>
            <a:ext cx="4370040" cy="368280"/>
            <a:chOff x="3827160" y="4952880"/>
            <a:chExt cx="4370040" cy="368280"/>
          </a:xfrm>
        </p:grpSpPr>
        <p:sp>
          <p:nvSpPr>
            <p:cNvPr id="70" name=""/>
            <p:cNvSpPr/>
            <p:nvPr/>
          </p:nvSpPr>
          <p:spPr>
            <a:xfrm>
              <a:off x="6385680" y="4968720"/>
              <a:ext cx="636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a:t>
              </a:r>
              <a:endParaRPr b="0" lang="en-US" sz="1400" spc="-1" strike="noStrike">
                <a:solidFill>
                  <a:srgbClr val="000000"/>
                </a:solidFill>
                <a:latin typeface="Arial"/>
              </a:endParaRPr>
            </a:p>
          </p:txBody>
        </p:sp>
        <p:sp>
          <p:nvSpPr>
            <p:cNvPr id="71" name=""/>
            <p:cNvSpPr/>
            <p:nvPr/>
          </p:nvSpPr>
          <p:spPr>
            <a:xfrm>
              <a:off x="4191120" y="5006880"/>
              <a:ext cx="2286000" cy="228600"/>
            </a:xfrm>
            <a:prstGeom prst="leftRightArrow">
              <a:avLst>
                <a:gd name="adj1" fmla="val 50000"/>
                <a:gd name="adj2" fmla="val 199074"/>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7086960" y="4952880"/>
              <a:ext cx="111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tion 1</a:t>
              </a:r>
              <a:endParaRPr b="0" lang="en-US" sz="1800" spc="-1" strike="noStrike">
                <a:solidFill>
                  <a:srgbClr val="000000"/>
                </a:solidFill>
                <a:latin typeface="Arial"/>
              </a:endParaRPr>
            </a:p>
          </p:txBody>
        </p:sp>
        <p:sp>
          <p:nvSpPr>
            <p:cNvPr id="73" name=""/>
            <p:cNvSpPr/>
            <p:nvPr/>
          </p:nvSpPr>
          <p:spPr>
            <a:xfrm>
              <a:off x="3827160" y="4968720"/>
              <a:ext cx="43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p:txBody>
        </p:sp>
      </p:grpSp>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C Tie Options</a:t>
            </a:r>
            <a:endParaRPr b="0" lang="en-US" sz="4400" spc="-1" strike="noStrike">
              <a:solidFill>
                <a:srgbClr val="000000"/>
              </a:solidFill>
              <a:latin typeface="Arial"/>
            </a:endParaRPr>
          </a:p>
        </p:txBody>
      </p:sp>
      <p:sp>
        <p:nvSpPr>
          <p:cNvPr id="75" name=""/>
          <p:cNvSpPr/>
          <p:nvPr/>
        </p:nvSpPr>
        <p:spPr>
          <a:xfrm>
            <a:off x="6784200" y="3124080"/>
            <a:ext cx="1067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C Ti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9787827-CE3C-41F5-A278-68B48D2605E0}" type="slidenum">
              <a:t>7</a:t>
            </a:fld>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66"/>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69"/>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1T16:15:03Z</dcterms:created>
  <dc:creator>TXU Energy</dc:creator>
  <dc:description/>
  <dc:language>en-US</dc:language>
  <cp:lastModifiedBy>A. Boren</cp:lastModifiedBy>
  <dcterms:modified xsi:type="dcterms:W3CDTF">2005-04-28T13:50:18Z</dcterms:modified>
  <cp:revision>34</cp:revision>
  <dc:subject/>
  <dc:title>Generation Adequacy Task Force Report to TAC</dc:title>
</cp:coreProperties>
</file>