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30DC-24E3-4D73-9401-9C047F855802}"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evious meetings we have broken the 14 Patton recommendations into groups.  These were then given to ERCOT, and the CM and QSE working groups of WMS to come up with PRRs to vet the ideas through the full subcommittee process.  We heard reports on the progress of these efforts at our last meeting and gave more direction to the QSEW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heightened awareness of the value of a demand side resource for GATF purposes and that is being worked on and progress is expected out of their May meet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MWG has worked with ROS regarding Double Ckt Planning and is passing on their recommendation to ROS for a vote in Ma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participant issues associated with the reopened Ancillary Service Market in January.  The QSEWG is with ERCOT to extend the time between open and close and proposing a PRR that lets bids be refresh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look at bid stack depletion is underway.  Prevailing understanding may be wro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R is being drafted that will raise the bar on RP metrics – support from QPMWG, ERCOT Compliance, and the PUC for the chang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has looked at at least two methods to control inefficient deployments around CSCs.  There has been a focus on the Shift Factor Average that has now shifted to a Shadow Price Cap.  A couple cap levels have been looked at and their effects reported to the WMS.  This issue is tied to Price Administration, which is not well documented in protocols and procedure for change is not totally clear.  Expectation now is that ERCOT staff will make some changes in their current practice and that WMS will write a PRR that documents the Price Administration practices of ERCOT.  WMS will probably endorse the ERCOT activity but does not have an approval ro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ely discussion of this PRR based in part on a perceived inactivity on SCE contro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MWG will be taking up transmission outage scheduling and how it impacts TCR values and will start on the CSC and zone selection process next month (elevated ERCOT effort per PRR 58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40C56-6C94-4FCB-B81F-F23898C16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4283C-D745-4388-98DF-C53B818C7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E26D4-6420-4387-9F2C-6DDE3CBBA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7B421-9B9C-47CB-B3EB-AF2E2CA67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5ABD7A-F55A-4A37-B789-FD3E74293F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33818-41A3-49BB-A61F-E98A7DCC5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8661F-EEDB-4E99-8BA4-60CB9A7D0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0D1BC-8F43-458E-9ECF-1966A0E5F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4A49C-D4AA-4D3A-AFB3-AF7AFB21A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F7006-C356-4703-A84D-43D9EAE8A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7E57B-0D69-419A-82BB-B3552BF59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AB856-E3B2-47D8-A0D4-9E7584365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DDCC0-0085-4268-A90F-E52226431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B7C47-E948-43F1-B3A5-C2433826C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A9D08-3532-4BDC-8ECB-F9C064FA0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A1F24A-4A6F-4B24-A5F2-F61D52383F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4A5951-09F7-490D-96CA-41EA191690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5B1E2-311E-45F8-B415-19376EAB3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1C95C-0744-4316-8DD4-1016F2EE5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3776B-FF8C-4354-8C86-B654576CC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8D472-895C-4F7A-8C5D-D7728C440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2CDE0-3ABD-4CF6-9F1B-883B1ED96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6FE75-6EAF-4F64-BEA4-D00382F05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F7994-42C1-48F6-BC73-1C5426903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26F13-FEF3-43F5-A4B5-ECFCDF6711BB}"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E6BCF-3FBE-4EAC-8683-901D08FADD51}"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olesale Market Subcommittee</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09"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port to TAC</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5, 2005</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MS Meeting April 22, 2005</a:t>
            </a:r>
            <a:br>
              <a:rPr sz="4400"/>
            </a:br>
            <a:r>
              <a:rPr b="0" lang="en-US" sz="4400" spc="-1" strike="noStrike">
                <a:solidFill>
                  <a:srgbClr val="ebd189"/>
                </a:solidFill>
                <a:latin typeface="Arial"/>
              </a:rPr>
              <a:t>Working Group Efforts</a:t>
            </a:r>
            <a:endParaRPr b="0" lang="en-US" sz="4400" spc="-1" strike="noStrike">
              <a:solidFill>
                <a:srgbClr val="ebd189"/>
              </a:solidFill>
              <a:latin typeface="Arial"/>
            </a:endParaRPr>
          </a:p>
        </p:txBody>
      </p:sp>
      <p:sp>
        <p:nvSpPr>
          <p:cNvPr id="11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atton recommendation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mand Side Product for the GATF</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ouble Circuit contingency operation</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ncillary Service Market Re-Open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id Stack Depletion Study</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aising the bar on Resource Plan Metrics</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RCOT Zonal Congestion</a:t>
            </a:r>
            <a:endParaRPr b="0" lang="en-US" sz="4400" spc="-1" strike="noStrike">
              <a:solidFill>
                <a:srgbClr val="ebd189"/>
              </a:solidFill>
              <a:latin typeface="Arial"/>
            </a:endParaRPr>
          </a:p>
        </p:txBody>
      </p:sp>
      <p:sp>
        <p:nvSpPr>
          <p:cNvPr id="11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RCOT staff seeking input from WMS</a:t>
            </a:r>
            <a:endParaRPr b="0" lang="en-US" sz="3200" spc="-1" strike="noStrike">
              <a:solidFill>
                <a:srgbClr val="eaeaea"/>
              </a:solidFill>
              <a:latin typeface="Arial"/>
            </a:endParaRPr>
          </a:p>
          <a:p>
            <a:pPr lvl="1" marL="743040" indent="-285840">
              <a:lnSpc>
                <a:spcPct val="10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Times New Roman"/>
              </a:rPr>
              <a:t>Shift Factor Average</a:t>
            </a:r>
            <a:endParaRPr b="0" lang="en-US" sz="2800" spc="-1" strike="noStrike">
              <a:solidFill>
                <a:srgbClr val="eaeaea"/>
              </a:solidFill>
              <a:latin typeface="Arial"/>
            </a:endParaRPr>
          </a:p>
          <a:p>
            <a:pPr lvl="1" marL="743040" indent="-285840">
              <a:lnSpc>
                <a:spcPct val="10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Times New Roman"/>
              </a:rPr>
              <a:t>Shadow Price Cap</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3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bd189"/>
                </a:solidFill>
                <a:uFillTx/>
                <a:latin typeface="Times New Roman"/>
              </a:rPr>
              <a:t>PRR 586 – Discussion </a:t>
            </a:r>
            <a:endParaRPr b="0" lang="en-US" sz="4400" spc="-1" strike="noStrike">
              <a:solidFill>
                <a:srgbClr val="ebd189"/>
              </a:solidFill>
              <a:latin typeface="Arial"/>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Times New Roman"/>
              </a:rPr>
              <a:t>SCE Performance and Regulation Cost Re-allocation</a:t>
            </a:r>
            <a:br>
              <a:rPr sz="3200"/>
            </a:br>
            <a:r>
              <a:rPr b="1" lang="en-US" sz="3200" spc="-1" strike="noStrike" u="sng">
                <a:solidFill>
                  <a:srgbClr val="eaeaea"/>
                </a:solidFill>
                <a:uFillTx/>
                <a:latin typeface="Times New Roman"/>
              </a:rPr>
              <a:t> </a:t>
            </a:r>
            <a:endParaRPr b="0" lang="en-US" sz="3200" spc="-1" strike="noStrike">
              <a:solidFill>
                <a:srgbClr val="eaeaea"/>
              </a:solidFill>
              <a:latin typeface="Arial"/>
            </a:endParaRPr>
          </a:p>
          <a:p>
            <a:pPr lvl="1" marL="743040" indent="-285840">
              <a:lnSpc>
                <a:spcPct val="10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Times New Roman"/>
              </a:rPr>
              <a:t>Impact assessment from ERCOT</a:t>
            </a:r>
            <a:endParaRPr b="0" lang="en-US" sz="2800" spc="-1" strike="noStrike">
              <a:solidFill>
                <a:srgbClr val="eaeaea"/>
              </a:solidFill>
              <a:latin typeface="Arial"/>
            </a:endParaRPr>
          </a:p>
          <a:p>
            <a:pPr lvl="1" marL="743040" indent="-285840">
              <a:lnSpc>
                <a:spcPct val="10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Times New Roman"/>
              </a:rPr>
              <a:t>Concern over who is impacted</a:t>
            </a:r>
            <a:endParaRPr b="0" lang="en-US" sz="2800" spc="-1" strike="noStrike">
              <a:solidFill>
                <a:srgbClr val="eaeaea"/>
              </a:solidFill>
              <a:latin typeface="Arial"/>
            </a:endParaRPr>
          </a:p>
          <a:p>
            <a:pPr lvl="1" marL="743040" indent="-285840">
              <a:lnSpc>
                <a:spcPct val="10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Times New Roman"/>
              </a:rPr>
              <a:t>Perception of inactivity on SCE control</a:t>
            </a:r>
            <a:endParaRPr b="0" lang="en-US" sz="2800" spc="-1" strike="noStrike">
              <a:solidFill>
                <a:srgbClr val="eaeaea"/>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o Be Done in May</a:t>
            </a:r>
            <a:endParaRPr b="0" lang="en-US" sz="4400" spc="-1" strike="noStrike">
              <a:solidFill>
                <a:srgbClr val="ebd189"/>
              </a:solidFill>
              <a:latin typeface="Arial"/>
            </a:endParaRPr>
          </a:p>
        </p:txBody>
      </p:sp>
      <p:sp>
        <p:nvSpPr>
          <p:cNvPr id="1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Congestion Management WG</a:t>
            </a:r>
            <a:endParaRPr b="0" lang="en-US" sz="32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utage Scheduling and TCRs</a:t>
            </a: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SC and Zone selection for 2006</a:t>
            </a:r>
            <a:endParaRPr b="0" lang="en-US" sz="28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QSE WG</a:t>
            </a:r>
            <a:endParaRPr b="0" lang="en-US" sz="32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id Stack Depletion</a:t>
            </a: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ising the Bar on Resource Plan Metrics</a:t>
            </a:r>
            <a:endParaRPr b="0" lang="en-US" sz="28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mand Side WG</a:t>
            </a:r>
            <a:endParaRPr b="0" lang="en-US" sz="32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pacity Adequacy Product</a:t>
            </a:r>
            <a:endParaRPr b="0" lang="en-US" sz="2800" spc="-1" strike="noStrike">
              <a:solidFill>
                <a:srgbClr val="eaeae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5T10:25:07Z</dcterms:created>
  <dc:creator>Brady J. Belk</dc:creator>
  <dc:description/>
  <dc:language>en-US</dc:language>
  <cp:lastModifiedBy>A. Boren</cp:lastModifiedBy>
  <dcterms:modified xsi:type="dcterms:W3CDTF">2005-05-09T19:13:12Z</dcterms:modified>
  <cp:revision>1</cp:revision>
  <dc:subject/>
  <dc:title>Wholesale Market Subcommittee </dc:title>
</cp:coreProperties>
</file>