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0B1-5B96-44B2-B876-6B20EDB9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3915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3782160"/>
            <a:ext cx="73915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623-1D26-47F1-9DDE-59C339EA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564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EB6-8E72-4CEC-85FC-CBC080A9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7560" y="175212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36680" y="175212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378216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7560" y="378216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36680" y="378216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9C0-8DBB-447B-8B80-78397AB0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AA1C-34D0-4959-BA57-53A692E2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20E-97B0-40DD-AC29-8CD0070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43BF-7EF9-4F89-967D-9E6F777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2FA7-AE79-4C83-ADDC-4CD980BE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1AD2-9BB2-444B-9E04-B95FFBDB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2320" y="-36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98A8-3C87-45D5-9F6A-1AA9D23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CFE-5A4C-4047-BE03-152AA9C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EAA-A756-49EC-B721-E9E9AFE3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564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B75B-363A-4543-A6DF-E3953CB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782160"/>
            <a:ext cx="73915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325D-CB46-468E-8E7A-80D2BBC5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3915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3782160"/>
            <a:ext cx="73915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DD81-C791-43F0-AB7F-A78FD915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564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28B0-20A1-4ADE-90C1-1C665012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7560" y="175212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36680" y="175212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378216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7560" y="378216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36680" y="3782160"/>
            <a:ext cx="237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1B1-EEC4-44B8-8791-7BDA0A1F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D9E-C0D3-4F5B-997C-53AB70D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84B-E3DD-43E2-BE18-64680E5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B6D-FF6E-4D76-939F-0732D73C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2320" y="-36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4E9-EC0A-4F95-8ACB-AA27B380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BD5-77DA-4AD8-9D80-AFFFBD7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5640" y="378216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F6C-0DC4-474C-8E2B-AD2D4FE4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5640" y="1752120"/>
            <a:ext cx="3606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3782160"/>
            <a:ext cx="73915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A31-F9E0-4D55-8C90-48A085FA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8672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771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gulated Industries Committee   April 7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A773-743A-4F73-9E53-2B03333BF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293760"/>
            <a:ext cx="1905120" cy="9255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4476-2E33-4F3D-ABF9-38DCCDE82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7160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0400" y="380880"/>
            <a:ext cx="2514600" cy="12225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93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serve Margin Update</a:t>
            </a:r>
            <a:br>
              <a:rPr sz="36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COT Board Mee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ril, 200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am Jones, CO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ctric Reliability Council of Tex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re We Are Toda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2120" y="1371600"/>
          <a:ext cx="7592760" cy="53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592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785-C737-4FE4-B976-F6B4BE07E6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3520" y="1981080"/>
          <a:ext cx="7924680" cy="2679840"/>
        </p:xfrm>
        <a:graphic>
          <a:graphicData uri="http://schemas.openxmlformats.org/drawingml/2006/table">
            <a:tbl>
              <a:tblPr/>
              <a:tblGrid>
                <a:gridCol w="993600"/>
                <a:gridCol w="1116000"/>
                <a:gridCol w="1117800"/>
                <a:gridCol w="1241280"/>
                <a:gridCol w="1117440"/>
                <a:gridCol w="1119240"/>
                <a:gridCol w="1219320"/>
              </a:tblGrid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T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914400" y="5410080"/>
            <a:ext cx="73915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es mothballed units return after 1 y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ERCOT minimum reserve requirement is 12.5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2160" y="151920"/>
            <a:ext cx="6711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rrent Reserve Margin Projec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02E-80D6-4323-AED2-006108599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sjones</cp:lastModifiedBy>
  <dcterms:modified xsi:type="dcterms:W3CDTF">2005-04-18T21:30:31Z</dcterms:modified>
  <cp:revision>169</cp:revision>
  <dc:subject/>
  <dc:title>Point-to-Point</dc:title>
</cp:coreProperties>
</file>