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82E-9511-412C-BC63-40A429A6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3B5-A2D0-47C4-9ED7-7E5FDD2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D51-16A2-4F89-A97D-3F527A63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504-ACB2-4235-A658-3B056393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DFA-7C63-4284-967C-D27C0F6B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E1BF-7690-4AAB-98A6-C25AC699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8B4-FB27-41B2-917A-974DDB4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5C6B-B8AF-4E83-8987-71DE425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A70-256F-42D8-B756-365CF9AB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2BE1-DC17-453E-9DE6-749E7E0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C4AB-8B21-46C5-9A18-1F95495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548-27A1-4F1D-B42B-8692E54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C44-F824-44AD-AAE8-D1E85038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B317-1464-47A7-9646-664752C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01D5-130B-4CD5-AC42-D01D2EC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B4CD-A6ED-4857-97F5-20BE0986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0043-7F1D-4FF3-ABF2-F776DA5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B1A-DCF7-4B83-B248-71975AD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DB9-6422-4A85-A266-96A3F51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E82-3F6C-4D60-B6D5-EF50CAF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3CE-7C4E-4A62-BC6A-3052E65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390-674C-431C-8C7F-B4AA00B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43C-0CF4-4996-814C-C1D4FCE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290-430A-4113-BC97-B47BC9B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C22-EA29-4D2F-8DEE-96C1AEC0A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A76-DE3D-4E69-BF6B-A08A324B17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67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dential Survey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Fo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date to 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pril 12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WG Meetings – August/September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recommended and presented proposed survey for residential sector and timel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WG accepted sponsorship for recommendation to R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MS Meeting – October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roved concept of a residential surve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gnificant discussion surrounding administration of the surv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WG Meeting – October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ified survey form, letter, and developed a timel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MS E-mail vote, accepted, and forwarded to TA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C Meeting – November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gnificant discussion surrounding administration of the surv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rvey remanded back to RMS for further discu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MS Meeting – November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sk Force set up to review, develop if necessary, and determine direction of surv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velop a more accurate algorithm to predict the presence and use of electric heat for residential customers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rithm inputs are premise level historical usage and weather z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rithm output is probability of having electric he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 data to support analysis to potentially develop new profile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Alterna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viewed and investigated alternatives to conducting a customer surv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rchase information from a third-party vend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sual inspe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viewed and investigated various survey mediu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-mail survey to ERCOT exploder l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lephone surv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or-to-door surv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 surv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inations of the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il survey is the most suitable alternative, given the tim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d budget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-Phased Survey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1:  Pilot mail survey to 1,000 customers, equally distributed across all weather zo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imate response rate for phase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ess response accura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2:  Full mail surve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/No-Go decision based on pilot respon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aluate accuracy based on usage hist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yze response rate to determine sample size required to achieve statistically significant 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sure the budget supports the required sample 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raw sample based on pilot response rate resul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Admin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ducing Customer Confu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ilingual (English/Spanish), short, simple to understand cover letter and survey fo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COT supported 24-hour, bilingual, toll-free telephon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COT supported web page containing ERCOT background, survey question details, toll-free telephone number, and “Frequently Asked Questions” (FAQ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nimizing Call Center Impa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ver letter will refer customer questions/concerns to toll fre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AQs will be provided to REPs to be used as training materials for the call center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roving Response R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stage-paid return envelo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COT to purchase customer name associated with address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rrelating ESI-ID to Respo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r-coded survey form linking ESI-ID to respon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ed Residential Survey Time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66840" y="1952640"/>
            <a:ext cx="8776800" cy="4905360"/>
            <a:chOff x="366840" y="1952640"/>
            <a:chExt cx="8776800" cy="4905360"/>
          </a:xfrm>
        </p:grpSpPr>
        <p:grpSp>
          <p:nvGrpSpPr>
            <p:cNvPr id="115" name=""/>
            <p:cNvGrpSpPr/>
            <p:nvPr/>
          </p:nvGrpSpPr>
          <p:grpSpPr>
            <a:xfrm>
              <a:off x="366840" y="1952640"/>
              <a:ext cx="8700480" cy="4905360"/>
              <a:chOff x="366840" y="1952640"/>
              <a:chExt cx="8700480" cy="4905360"/>
            </a:xfrm>
          </p:grpSpPr>
          <p:sp>
            <p:nvSpPr>
              <p:cNvPr id="116" name=""/>
              <p:cNvSpPr/>
              <p:nvPr/>
            </p:nvSpPr>
            <p:spPr>
              <a:xfrm>
                <a:off x="366840" y="1952640"/>
                <a:ext cx="2104560" cy="49053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6440" rIns="136440" tIns="639720" bIns="639720" anchor="t">
                <a:noAutofit/>
              </a:bodyPr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RSTF revised form &amp; cover le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RCOT to approve vend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Conduct Pilot Surve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duct Full Surve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Responses provided to ERCO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RCOT analysis of survey respon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PWG review of analy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84360" y="1958760"/>
                <a:ext cx="6576480" cy="48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84360" y="1958760"/>
                <a:ext cx="534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33360" y="1958760"/>
                <a:ext cx="534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81280" y="1958760"/>
                <a:ext cx="5378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280" y="1958760"/>
                <a:ext cx="5364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81440" y="1958760"/>
                <a:ext cx="534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29000" y="1958760"/>
                <a:ext cx="5360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78360" y="1958760"/>
                <a:ext cx="5360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JU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27720" y="1958760"/>
                <a:ext cx="5360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76720" y="1958760"/>
                <a:ext cx="5364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26080" y="1958760"/>
                <a:ext cx="534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75440" y="1958760"/>
                <a:ext cx="5360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26240" y="1958760"/>
                <a:ext cx="534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018960" y="1952640"/>
                <a:ext cx="756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557160" y="1952640"/>
                <a:ext cx="1692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24160" y="1952640"/>
                <a:ext cx="900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670280" y="1952640"/>
                <a:ext cx="432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208480" y="1952640"/>
                <a:ext cx="1368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71880" y="1952640"/>
                <a:ext cx="1224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22680" y="1952640"/>
                <a:ext cx="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859440" y="1952640"/>
                <a:ext cx="1080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419600" y="1952640"/>
                <a:ext cx="1548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968960" y="1952640"/>
                <a:ext cx="432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510040" y="1952640"/>
                <a:ext cx="7560" cy="488124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49360" y="2686680"/>
                <a:ext cx="158400" cy="1422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4e4f3"/>
                  </a:gs>
                </a:gsLst>
                <a:lin ang="10800000"/>
              </a:gradFill>
              <a:ln w="64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87560" y="2686680"/>
                <a:ext cx="155160" cy="1422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4e4f3"/>
                  </a:gs>
                </a:gsLst>
                <a:lin ang="10800000"/>
              </a:gradFill>
              <a:ln w="64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stCxn id="142" idx="2"/>
                <a:endCxn id="141" idx="6"/>
              </p:cNvCxnSpPr>
              <p:nvPr/>
            </p:nvCxnSpPr>
            <p:spPr>
              <a:xfrm flipH="1">
                <a:off x="3407400" y="2757600"/>
                <a:ext cx="379800" cy="1080"/>
              </a:xfrm>
              <a:prstGeom prst="straightConnector1">
                <a:avLst/>
              </a:prstGeom>
              <a:ln w="19080">
                <a:solidFill>
                  <a:srgbClr val="000099"/>
                </a:solidFill>
                <a:miter/>
              </a:ln>
            </p:spPr>
          </p:cxnSp>
          <p:sp>
            <p:nvSpPr>
              <p:cNvPr id="144" name=""/>
              <p:cNvSpPr/>
              <p:nvPr/>
            </p:nvSpPr>
            <p:spPr>
              <a:xfrm>
                <a:off x="4323960" y="3310200"/>
                <a:ext cx="15696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4e4e4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23960" y="3933720"/>
                <a:ext cx="156960" cy="1422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4e4f3"/>
                  </a:gs>
                </a:gsLst>
                <a:lin ang="10800000"/>
              </a:gradFill>
              <a:ln w="64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30720" y="3933720"/>
                <a:ext cx="156600" cy="1422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3e3f3"/>
                  </a:gs>
                </a:gsLst>
                <a:lin ang="10800000"/>
              </a:gradFill>
              <a:ln w="64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7" name=""/>
              <p:cNvCxnSpPr>
                <a:stCxn id="145" idx="6"/>
                <a:endCxn id="146" idx="2"/>
              </p:cNvCxnSpPr>
              <p:nvPr/>
            </p:nvCxnSpPr>
            <p:spPr>
              <a:xfrm>
                <a:off x="4480920" y="4004640"/>
                <a:ext cx="649800" cy="1080"/>
              </a:xfrm>
              <a:prstGeom prst="straightConnector1">
                <a:avLst/>
              </a:prstGeom>
              <a:ln w="19080">
                <a:solidFill>
                  <a:srgbClr val="000099"/>
                </a:solidFill>
                <a:miter/>
              </a:ln>
            </p:spPr>
          </p:cxnSp>
          <p:sp>
            <p:nvSpPr>
              <p:cNvPr id="148" name=""/>
              <p:cNvSpPr/>
              <p:nvPr/>
            </p:nvSpPr>
            <p:spPr>
              <a:xfrm>
                <a:off x="5127480" y="4484160"/>
                <a:ext cx="156600" cy="142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2e2e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81680" y="4487040"/>
                <a:ext cx="158400" cy="142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4e4e4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" name=""/>
              <p:cNvCxnSpPr>
                <a:stCxn id="148" idx="6"/>
                <a:endCxn id="149" idx="2"/>
              </p:cNvCxnSpPr>
              <p:nvPr/>
            </p:nvCxnSpPr>
            <p:spPr>
              <a:xfrm>
                <a:off x="5284440" y="4555440"/>
                <a:ext cx="1497600" cy="3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151" name=""/>
              <p:cNvSpPr/>
              <p:nvPr/>
            </p:nvSpPr>
            <p:spPr>
              <a:xfrm>
                <a:off x="6776640" y="5146920"/>
                <a:ext cx="158400" cy="14256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3e3f3"/>
                  </a:gs>
                </a:gsLst>
                <a:lin ang="10800000"/>
              </a:gradFill>
              <a:ln w="64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78440" y="5771880"/>
                <a:ext cx="156600" cy="142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4e4e4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91200" y="5771880"/>
                <a:ext cx="158400" cy="142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4e4e4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4" name=""/>
              <p:cNvCxnSpPr>
                <a:stCxn id="152" idx="6"/>
                <a:endCxn id="153" idx="2"/>
              </p:cNvCxnSpPr>
              <p:nvPr/>
            </p:nvCxnSpPr>
            <p:spPr>
              <a:xfrm>
                <a:off x="6935400" y="5842800"/>
                <a:ext cx="9561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155" name=""/>
              <p:cNvSpPr/>
              <p:nvPr/>
            </p:nvSpPr>
            <p:spPr>
              <a:xfrm>
                <a:off x="2477880" y="2307600"/>
                <a:ext cx="658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8989920" y="6430320"/>
              <a:ext cx="153720" cy="1454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12080" y="6430320"/>
              <a:ext cx="156600" cy="14220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>
              <a:stCxn id="157" idx="6"/>
              <a:endCxn id="156" idx="2"/>
            </p:cNvCxnSpPr>
            <p:nvPr/>
          </p:nvCxnSpPr>
          <p:spPr>
            <a:xfrm>
              <a:off x="8068680" y="6501600"/>
              <a:ext cx="921240" cy="216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Re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al of cover letter and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al to initiate the Pilot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he resolutions forward to TAC for appro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. Boren</cp:lastModifiedBy>
  <dcterms:modified xsi:type="dcterms:W3CDTF">2005-04-28T21:16:03Z</dcterms:modified>
  <cp:revision>11</cp:revision>
  <dc:subject/>
  <dc:title>Residential Survey  Task Force</dc:title>
</cp:coreProperties>
</file>