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49B-B014-46A5-B4FC-D781E458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6C7-F72D-41C8-9944-D981E76E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6C4-5876-46F0-BFA8-B783F3C5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BA2-1792-4F38-A599-307A7A7E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401-E151-4709-B7D8-27252207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5CE-1D7C-43E8-8B66-3EFF42C4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FEF-4299-4AF2-94AF-4CF9C3AF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506-2BC6-4DBD-886F-6AAAC3AC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DD4-52BB-499F-B432-2043DA9F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95B-A51B-4A55-8466-D84C0300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684-51FD-40E0-A039-DC0D85D5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07A-7C91-4BBA-9932-AB947080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C34B-4B35-47F0-A9C6-F31701E5CAA2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AA69-B260-4F5B-8EC1-FD3EDEC7E40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977760" cy="85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436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964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3587760" cy="346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T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TAC Updat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040" y="472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Galvi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5, 200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5530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lanning Phas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equirement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Staff identifies requirements stated in the Nodal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review and comment on Preliminary Requirements identified by ERC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Statement of Work (SOW) from approved Preliminary Requirements for the RFP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FA9-352F-459A-B65F-C9CB28C405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26A13-76ED-4954-B8AA-B9224AC77F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5530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lanning Phase (cont’d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for Proposal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eliminary requirements to develop RFP to meet S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vendor(s) proposals and solu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vendor pool to implement appropriate solutions in the areas of System Operations (SO), Market Operations (MO) and Enterprise Data Warehouse (ED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ppropriate vendors in SO, MO and EDW areas for consid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4DF-21DC-475D-A4AF-27861E7A632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6EC0B-184F-40AF-ADB0-EB01CA92E7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5530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lanning Phase (cont’d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quirements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equirements incorporate vendor solutions and provide additional detail to Preliminary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review and comment on Final Requir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nd ERCOT staff ensure Final Requirements meet SOW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ppropriate vendors for SO, MO and ED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Exec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08C-4676-48A8-85E3-9E07C45BB41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326AD-B8F3-49EB-A104-17C36D5614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5530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lanning Phase (cont’d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Design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 and selected vendors develop software design based on the Final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review and comment on Conceptual Desig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 Pla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nal ERCOT effort that will evaluate hardware needs and interface impa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08F-1D5D-44C1-98EF-D1E2012F22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CCAD8-A3CA-4D35-880A-8A9905D205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5530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xecution Phas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Design &amp; Coding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Operations (MO) – will have substantial internal support from leveraging current systems with vendor as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perations (SO) – more than likely vendor driven with internal support &amp; projec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Data Warehouse (EDW) – will have substantial internal support from leveraging current systems with vendor as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 &amp; SO coding can take place concurrentl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W development will shadow and complete after SO and MO development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B36-E9D2-44B9-B435-60E97336B1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FCFB7-5A36-46CB-8CDF-9A72EED911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5530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xecution Phase (cont’d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Test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of software during the development st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Testing (P-test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of the completed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Testing (I-Test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of the completed code as integrated with other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8DC-699D-46DD-B861-EA48B9E72C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B9E0A-6BCC-40FB-AE77-6F2CD6138D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5530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xecution Phase (cont’d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ion Plan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lan for code migration into the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e system environment for the mig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 Plan is tested during I-te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9EA-29F4-43E8-B8DC-22B826CB20C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B57F2-8992-4492-8FE2-907AA361AE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7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Disclaimer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is ERCOT’s Program Management approach for a project that will incorporate changes to the ERCOT Wholesale Market Design.  Since a decision has not been made to determine the Wholesale Market Design requirements, ERCOT will monitor the rulemaking process and prepare for a range of possible market design solutions.  A timeline and fine-tuning of the procedures necessary for the implementation of a new market design  will be made once a decision is reached at the PUCT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8284-8A40-4772-B76C-54B3BF2661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36ED7-F885-4EA1-9B31-B6BDE85A4E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404640"/>
            <a:ext cx="6553080" cy="7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pproach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8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will follow internal Program Management procedures to implement the market redesign effort from Planning to Implementation to Execu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managed, not vendor manag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touch-points with Market Participants for transparency and knowledge transf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254-90C3-4712-A169-E9C3DB864A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75D4C-6A66-480F-8E34-82BE7F37D6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404640"/>
            <a:ext cx="6553080" cy="7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Implementation Timelin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ollowing slides provide a schematic view of a high-level Project Plan outlining the phases discussed in this present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h of time for each phase is not defined in this schematic as requirements are at this time unknow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Plan is flexible and subject to change based on input from Market Participants and/or vendor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87A-4B6E-4C7F-958D-D9E18750403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75CE5-067B-4115-A9E9-D36CC98377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04920"/>
            <a:ext cx="687996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Implementation Timelin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752480"/>
            <a:ext cx="1905120" cy="4953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project docu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pe &amp; staf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requirements from the Protocol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requirements to MPs for revie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requir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 review of Final requir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P pr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dor de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dor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ua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 review of Conceptual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752480"/>
            <a:ext cx="6858000" cy="4953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1295280"/>
            <a:ext cx="6858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458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3249720"/>
            <a:ext cx="4191120" cy="30456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quirements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72360" y="612936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00720" y="2637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lize Require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6273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 Conceptual Design to M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4834080"/>
            <a:ext cx="83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ssue RF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39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56000" y="310500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87640" y="2565360"/>
            <a:ext cx="133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 requirements to MPs  for re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35733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7640" y="382428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liminary Requirements ident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5697360"/>
            <a:ext cx="2362320" cy="4320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ceptual Design/Environment Pl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001000" y="55620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56610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00360" y="5913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endor demos: 10/03 to 11/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40360" y="4724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endor Sel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59280" y="310500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56000" y="515772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1640" y="37893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P comments to final requirements d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5300640"/>
            <a:ext cx="2666880" cy="3240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FP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2205000"/>
            <a:ext cx="762120" cy="3762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 pre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77080" y="35733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327640" y="515772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508464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P comments to Conceptual Design d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9C3-9A67-415C-9CE9-05340EBBAE3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5D0C6-D882-4E1D-AD20-4057CB1B4D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879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Implementation Timelin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752480"/>
            <a:ext cx="1905120" cy="4953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Design &amp;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Operations (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Operations (S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Data Warehouse (ED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752480"/>
            <a:ext cx="6858000" cy="4953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1305000"/>
            <a:ext cx="6858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458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2895480"/>
            <a:ext cx="6858000" cy="47484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chnical Design &amp; Coding/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33526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20968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 coding 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3505320"/>
            <a:ext cx="1067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: Unit Test 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gin P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33526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3581280"/>
            <a:ext cx="106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gin Unit Testing for MO, SO, &amp; ED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839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8001000" y="27424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763120" y="33526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3352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35812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: P-Test 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9810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715000" y="27424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213372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gin technical design &amp; co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72400" y="2133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 coding 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35812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W coding 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C5C-2643-4204-8F7A-0B1CFED0E1C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36FD7-058D-4547-8692-F4D94E0B52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8072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Implementation Timelin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752480"/>
            <a:ext cx="1905120" cy="4953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Design &amp;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Operations (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Operations (S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Data Warehouse (ED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752480"/>
            <a:ext cx="6858000" cy="4953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1295280"/>
            <a:ext cx="6858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458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4267080"/>
            <a:ext cx="3048120" cy="30168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igration Plan/Environment Configu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8954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7242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ize Environment configu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24680" y="6095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895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182880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W: Unit Test complet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gin P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839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304812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: Unit Test complet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gin P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2895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7600" y="30481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: P-Test 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477120" y="2438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01000" y="5867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8672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60958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gin Market T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952880" y="24382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809880" y="24382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6095880"/>
            <a:ext cx="106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gin Market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5562720"/>
            <a:ext cx="5410080" cy="30456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et Training &amp; T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2590920"/>
            <a:ext cx="4572000" cy="30456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ding &amp;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45720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58672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18288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W: P-Test 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304812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gin I-Test for MO, SO &amp; ED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1905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lete I-Test for MO, SO &amp; ED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45720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47242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ize Migration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88E-6535-426C-884B-199B51C640F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AE2B8-B682-4441-9F9E-594B8DD63E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5530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arket Participant touch-point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 Desig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Train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Tria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month effort to synchronize communications between MPs &amp; ERCO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 multiple day sim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832-7062-4D59-9E72-2CE2C85985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C1BF3-3D59-4B66-BDBE-79BEE5AD0F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Initiation Phas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441440"/>
            <a:ext cx="846144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the Administrative phase where staff prepares documentation for project start, includes project scope description and justific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management approvals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high-level cost &amp; time estimate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 staffing requirements for project Core Team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gin Planning St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6B9-1E5F-400D-9EC0-DB46203EE7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33737-9F32-4618-9790-729781891B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xas Nodal Team</dc:creator>
  <dc:description/>
  <dc:language>en-US</dc:language>
  <cp:lastModifiedBy>A. Boren</cp:lastModifiedBy>
  <dcterms:modified xsi:type="dcterms:W3CDTF">2005-04-28T14:13:03Z</dcterms:modified>
  <cp:revision>368</cp:revision>
  <dc:subject/>
  <dc:title>TNT 1022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