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484-39A5-4D58-B7B5-39089EE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0FF-4A28-45C7-BAEC-739CD1B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6FB-D32F-4743-AD2E-0CE6939A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89E-E9D6-47A0-916A-0F4BA5AF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A29-0917-4F7D-AC3A-A6773AF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F31-E5A6-46A0-BCA3-780F1A9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60-70C1-46CE-BE41-E25CAC3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E3B-D116-4FF4-80C5-C6BF1FD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BB6-ABA7-4DEC-AF3B-20645CD2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667-209C-4375-92B3-98A7B30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342-75C0-4C8C-A299-72D5A3A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F24-E625-497D-8180-038F7D5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299-EF10-479F-AFAD-87B0FE29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B27-2858-4536-8825-3EDEB3BD56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3880"/>
            <a:ext cx="838188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approved the following for submission to P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PRR 548 (Notification for Mismatched Inter-QSE Energy Schedules).  ERCOT will provide a record of the amount of mismatch to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a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SCR (QSE Dispute 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PRR 568 (Change Initial Settlement from 17 days to 10 days) - Accepted ERCOT comments including transition language.  Established Task Force to create implementation plan in parallel with PRR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6E3-0829-4FE5-B9E7-771742728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eting to be scheduled prior to COPS May 24th meeting to discuss implementation plan for Draft PRR 568 (Change Initial Settlement from 17 days to 10 day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going discussion concerning future Dispute and ADR Process. (Policy Issues versus Mitigating Risk)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will be useful when determining Settlement Tim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0F1-67A9-4BA4-9C68-FF57E50DF7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4-28T13:46:18Z</dcterms:modified>
  <cp:revision>125</cp:revision>
  <dc:subject/>
  <dc:title>Point-to-Point</dc:title>
</cp:coreProperties>
</file>