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DDE-43B0-404E-BF91-5D9CA4D6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241-88B7-46F2-9DB6-DC01951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422-F173-4F7A-A8D5-C9DFFD6C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E9C-5A48-4A66-8EAB-A8BA8F5F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0EC-5D65-452A-B12B-F495A945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BAF-1931-4994-90B5-5E14C2DC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C76-9A4D-4BAC-88D1-B7D28578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238-3658-42C1-8545-287B01FB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3E2-4568-461D-8A21-3984225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1D1-2388-4D1D-961A-E3062D9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213-1117-46E5-A9F2-50DBEC4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829-20A2-4C68-856B-6ACB9A28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1066680"/>
            <a:ext cx="693756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52280" y="152280"/>
          <a:ext cx="175284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752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56E6-0F83-41CA-8807-FC448647C9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ERCOT Information Class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 Advisory Commit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ril 7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business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risk management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 policy and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an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laws (i.e. D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CT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 security audit recommend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Information Classification</a:t>
            </a: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B37-631F-4832-BC7E-B6CD1FB771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Information Classific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bjec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policy/procedures/processes that kee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risk information sec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 Protected Information 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information 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AB2-994F-438C-BDC3-AF8C0CCAC8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Information Classific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2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tep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policy (classification definitions), guidelines and handling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2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implementation plan for ERCOT roll-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3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/educate ERCOT Staff and MP’s on policy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4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 5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mpliance / process review and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02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We are at Step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 draft policy docu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2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been routed to market, feedback recei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02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arket calls scheduled to discuss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D9E-14B9-4650-AA17-8BDCBF2933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Information Classification</a:t>
            </a: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Preliminary 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ve Policies Q2 ‘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ize Plans Q3/4 ‘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/Educate Q3/4 ‘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te Implementation Q4 ‘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601-13C7-4F70-9280-C2448A7C8B1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1:11:05Z</dcterms:created>
  <dc:creator>kwariner</dc:creator>
  <dc:description/>
  <dc:language>en-US</dc:language>
  <cp:lastModifiedBy>A. Boren</cp:lastModifiedBy>
  <dcterms:modified xsi:type="dcterms:W3CDTF">2005-04-05T19:35:31Z</dcterms:modified>
  <cp:revision>300</cp:revision>
  <dc:subject/>
  <dc:title>01-21-04 - Market Operations Board Report</dc:title>
</cp:coreProperties>
</file>