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A9AF6-7855-4EC9-85F6-164C922BF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5F902-E228-49FD-837E-68BCADAD6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68F4E-6B0A-416C-9656-451011F13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AACD7-DD26-4442-898D-FB51611E5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02C46-DA20-4555-A1DE-7D379072D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9C13F-7730-4ABF-819E-59930DF7A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4F264-FE75-4DB4-9323-611EAA5C1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E7E66-6FAF-43CB-B964-3C8C521D1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5931E-86B9-460E-9973-ECFD9865F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73375-6AFD-472B-BA66-F1217757A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B2E8D-580E-46A0-86B0-847711E86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EA57B-4A3B-499B-92BD-DFFD0B83C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9AC0-1D84-42F6-9393-41C7F0BC92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tion Adequacy Task Force Report to TA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7, 2005</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AF960FE-F04E-4C0D-BCAE-10B0387C56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nsus Items: Wind Generation</a:t>
            </a:r>
            <a:endParaRPr b="0" lang="en-US" sz="4000" spc="-1" strike="noStrike">
              <a:solidFill>
                <a:srgbClr val="000000"/>
              </a:solidFill>
              <a:latin typeface="Arial"/>
            </a:endParaRPr>
          </a:p>
        </p:txBody>
      </p:sp>
      <p:sp>
        <p:nvSpPr>
          <p:cNvPr id="60"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use 10% of installed capac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F Recommend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ctual historical hourly production data for weekday hours beginning 16:00 – 18:00 for the months of July and Augu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ed by installed capac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 confidence level for wind resource availability rate that is equal to one minus the capacity–weighted system equivalent forced outage rate used in the most recent LOLP study (8% F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up to 10-years of actual data (currently, 3 years of data is avail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0B0D3D9-CCAA-4244-B459-ED3E59BE82B3}" type="slidenum">
              <a:t>10</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0">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0">
                                            <p:txEl>
                                              <p:pRg st="2" end="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0">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nsus Items: Wind Generation</a:t>
            </a:r>
            <a:endParaRPr b="0" lang="en-US" sz="4000" spc="-1" strike="noStrike">
              <a:solidFill>
                <a:srgbClr val="000000"/>
              </a:solidFill>
              <a:latin typeface="Arial"/>
            </a:endParaRPr>
          </a:p>
        </p:txBody>
      </p:sp>
      <p:sp>
        <p:nvSpPr>
          <p:cNvPr id="62"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will update the calculation every year using actual data from the previous calendar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current data available (years 2002-2004), the capacity value for wind generation will be </a:t>
            </a:r>
            <a:r>
              <a:rPr b="1" lang="en-US" sz="3200" spc="-1" strike="noStrike">
                <a:solidFill>
                  <a:srgbClr val="000000"/>
                </a:solidFill>
                <a:latin typeface="Arial"/>
              </a:rPr>
              <a:t>2.9%</a:t>
            </a:r>
            <a:r>
              <a:rPr b="0" lang="en-US" sz="3200" spc="-1" strike="noStrike">
                <a:solidFill>
                  <a:srgbClr val="000000"/>
                </a:solidFill>
                <a:latin typeface="Arial"/>
              </a:rPr>
              <a:t> for all ERCOT CDR calculations prepared in 2005.</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8CAF7A9-ABF1-43C2-BE00-32AC4A7B6187}" type="slidenum">
              <a:t>11</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nsus Items: “Switchable” Units</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include 100% of capacity of “switchable” un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F Recommendation:</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switchable” units, use the Summer Net Dependable Capability of “switchable” units less the amount of capacity reported by the owners of “switchable” capacity to be unavailable to ERCOT during the summer peak load period as the result of a unit-specific contract for delivery outside of ERCO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R will be prepared to require owners of “switchable” capacity to report the amount of “switchable” capacity unavailable to ERCOT as the result of a unit-specific contract for delivery outside of ERCO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861ED05-BD85-4937-A12D-D1F57E8EC83A}" type="slidenum">
              <a:t>12</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4">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Consensus Items: “Mothballed” Capacity</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assume that 100% of “mothballed” capacity is not available in the first year of the forecast and that 100% is available in the second through fifth years of the foreca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1 – Essentially creates a range for reserve margin depending on how “mothballed” units are counted.  The upper end of the range assumes 100% of “mothballed” units are available in every year of the forecast subject to the lead-time required to return the unit to service as reported pursuant to PRR 573.  The lower end of the range assumes that none of the “mothballed” units return to service during the forecast period.  For reporting purposes, the upper end of the range will be us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2 – Use Probability Matrix which considers technology type, lead-time to return to service and length of time the unit is in mothballed stat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DD33A3C-140A-4F33-B44B-1A3A5239BD4B}" type="slidenum">
              <a:t>13</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Mothballed Capacity” Probability Matrix</a:t>
            </a:r>
            <a:endParaRPr b="0" lang="en-US" sz="3600" spc="-1" strike="noStrike">
              <a:solidFill>
                <a:srgbClr val="000000"/>
              </a:solidFill>
              <a:latin typeface="Arial"/>
            </a:endParaRPr>
          </a:p>
        </p:txBody>
      </p:sp>
      <p:graphicFrame>
        <p:nvGraphicFramePr>
          <p:cNvPr id="68" name=""/>
          <p:cNvGraphicFramePr/>
          <p:nvPr/>
        </p:nvGraphicFramePr>
        <p:xfrm>
          <a:off x="457200" y="1600200"/>
          <a:ext cx="7848720" cy="4467240"/>
        </p:xfrm>
        <a:graphic>
          <a:graphicData uri="http://schemas.openxmlformats.org/drawingml/2006/table">
            <a:tbl>
              <a:tblPr/>
              <a:tblGrid>
                <a:gridCol w="1962000"/>
                <a:gridCol w="1017720"/>
                <a:gridCol w="871560"/>
                <a:gridCol w="944640"/>
                <a:gridCol w="1017360"/>
                <a:gridCol w="1017720"/>
                <a:gridCol w="1017720"/>
              </a:tblGrid>
              <a:tr h="666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f Years Mothballed</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60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eheat</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9018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heat</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6660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CT</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66ccff"/>
                    </a:solidFill>
                  </a:tcPr>
                </a:tc>
              </a:tr>
              <a:tr h="665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66ccff"/>
                    </a:solidFill>
                  </a:tcPr>
                </a:tc>
              </a:tr>
            </a:tbl>
          </a:graphicData>
        </a:graphic>
      </p:graphicFrame>
      <p:sp>
        <p:nvSpPr>
          <p:cNvPr id="3" name="PlaceHolder 2"/>
          <p:cNvSpPr>
            <a:spLocks noGrp="1"/>
          </p:cNvSpPr>
          <p:nvPr>
            <p:ph type="sldNum" idx="3"/>
          </p:nvPr>
        </p:nvSpPr>
        <p:spPr/>
        <p:txBody>
          <a:bodyPr/>
          <a:p>
            <a:fld id="{DBF2AD02-CF4A-4C81-AB95-A02CB66BE5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Consensus Items: DC Ti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use 100% of ERCOT DC Tie import capability (856 M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 - Based on Southwest Power Pool (SPP) Capacity</a:t>
            </a:r>
            <a:endParaRPr b="0" lang="en-US" sz="2400" spc="-1" strike="noStrike">
              <a:solidFill>
                <a:srgbClr val="000000"/>
              </a:solidFill>
              <a:latin typeface="Arial"/>
            </a:endParaRPr>
          </a:p>
          <a:p>
            <a:pPr lvl="1" marL="743040" indent="-285840">
              <a:lnSpc>
                <a:spcPct val="80000"/>
              </a:lnSpc>
              <a:spcBef>
                <a:spcPts val="75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the amount of excess capacity available in the SPP by subtracting the SPP load and minimum reserve requirement from SPP’s capacity;</a:t>
            </a:r>
            <a:endParaRPr b="0" lang="en-US" sz="2000" spc="-1" strike="noStrike">
              <a:solidFill>
                <a:srgbClr val="000000"/>
              </a:solidFill>
              <a:latin typeface="Arial"/>
            </a:endParaRPr>
          </a:p>
          <a:p>
            <a:pPr lvl="1" marL="743040" indent="-285840">
              <a:lnSpc>
                <a:spcPct val="80000"/>
              </a:lnSpc>
              <a:spcBef>
                <a:spcPts val="75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the result by 50%; and</a:t>
            </a:r>
            <a:endParaRPr b="0" lang="en-US" sz="2000" spc="-1" strike="noStrike">
              <a:solidFill>
                <a:srgbClr val="000000"/>
              </a:solidFill>
              <a:latin typeface="Arial"/>
            </a:endParaRPr>
          </a:p>
          <a:p>
            <a:pPr lvl="1" marL="743040" indent="-285840">
              <a:lnSpc>
                <a:spcPct val="80000"/>
              </a:lnSpc>
              <a:spcBef>
                <a:spcPts val="75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the lesser of: the 50% SPP excess capacity number as calculated above or the maximum ERCOT DC Tie import capability (currently 856 MW).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 - Use 50% of the maximum ERCOT DC Tie import capability (428 MW).</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5FB275-4B95-4F28-B246-6B8029D44FA9}" type="slidenum">
              <a:t>15</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70">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70">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0">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gress</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F has met a total of five times since Febru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hed general consensus on all components of the ERCOT Reserve Margin Calculation Equation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 Ties 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thballed” Uni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5A0FCA3-81DE-4923-B264-25DAE403414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ERCOT Reserve Margin Calculation Methodology</a:t>
            </a:r>
            <a:endParaRPr b="0" lang="en-US" sz="4000" spc="-1" strike="noStrike">
              <a:solidFill>
                <a:srgbClr val="000000"/>
              </a:solidFill>
              <a:latin typeface="Arial"/>
            </a:endParaRPr>
          </a:p>
        </p:txBody>
      </p:sp>
      <p:sp>
        <p:nvSpPr>
          <p:cNvPr id="46"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 Load = Forecasted total summer peak demand – LaaRs – BULs</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Resources = Installed Capacity (excluding wind generatio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0% of DC Ties</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0% of “Switchable” Capacity</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 of Wind Generatio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0% of Planned Generation (with signed Interconnect </a:t>
            </a:r>
            <a:r>
              <a:rPr b="0" lang="en-US" sz="2000" spc="-1" strike="noStrike">
                <a:solidFill>
                  <a:srgbClr val="000000"/>
                </a:solidFill>
                <a:latin typeface="Arial"/>
              </a:rPr>
              <a:t>	</a:t>
            </a:r>
            <a:r>
              <a:rPr b="0" lang="en-US" sz="2000" spc="-1" strike="noStrike">
                <a:solidFill>
                  <a:srgbClr val="000000"/>
                </a:solidFill>
                <a:latin typeface="Arial"/>
              </a:rPr>
              <a:t>Agreement)</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 of Planned Wind Generation (with signe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erconnection Agreement)</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0% of “Mothballed” Units (first year of forecast only)</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00% of Retiring Units (all forecast years)</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e Margin = (Available Resources – Firm Load)/Firm Loa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90BA000-D350-48F3-A7DF-405CE48BE4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laime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ATF recognizes that there is </a:t>
            </a:r>
            <a:r>
              <a:rPr b="1" lang="en-US" sz="2400" spc="-1" strike="noStrike">
                <a:solidFill>
                  <a:srgbClr val="000000"/>
                </a:solidFill>
                <a:latin typeface="Arial"/>
              </a:rPr>
              <a:t>uncertainty</a:t>
            </a:r>
            <a:r>
              <a:rPr b="0" lang="en-US" sz="2400" spc="-1" strike="noStrike">
                <a:solidFill>
                  <a:srgbClr val="000000"/>
                </a:solidFill>
                <a:latin typeface="Arial"/>
              </a:rPr>
              <a:t> associated with a number of the inputs to the ERCOT Reserve Margin Calculation (e.g., load forecast, market price impacts on capacity available from DC ties, “switchable” units and mothballed units, etc.).  The following recommendations consider these uncertainties to the extent possible in a formulaic approach while attempting to produce an equation to calculate an ERCOT reserve margin forecast that produces a reasonable estimate of such reserve margins while not being overly cumbersome or complex. The GATF recognizes that it is not possible to create an equation that can capture all of the subtle and not-so-subtle impacts of market prices on capacity reserves.  But the GATF believes that the following recommendations represent an improvement in the existing ERCOT reserve margin calculatio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7F2C49B-63D2-45E0-B5F2-51325CF65A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nsus Items: Load</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econometric load forecast will be used for the next CDR calculation (likely to be in May 2005).</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of Load resources to include is based on recommended eligibility criteria from the Demand-Side Working Group (DSWG):</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ual with obligation to perform</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atchable or controllable by ERCO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availability needs to coincide with system peak</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measurement and verification (M&amp;V) for deployments (responsibility of hos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contract or installed control equipment investmen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 to review by ERCO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reporting of subscrip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51FB166-C34C-475C-AEBE-C59DD0A89066}" type="slidenum">
              <a:t>5</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0">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0">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0">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0">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0">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0">
                                            <p:txEl>
                                              <p:pRg st="7" end="7"/>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nsus Items: Load</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F Recommendation:</a:t>
            </a:r>
            <a:endParaRPr b="0" lang="en-US" sz="24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ly set load participation value at 1,150 MW, based on the amount of RRS that ERCOT currently deploys from LaaRs on a daily basis and 0 MW for load participation in nearly all other Ancillary Services (same as current methodology).</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2005, base the amount of load participation on historical use in providing RRS:</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Participation (RRS) = Historical Self-Arranged + [(Historical Amount Bid into RRS market by LaaRs) x Z], but no greater than ERCOT established participation level (i.e., currently 1,150 MW), where Z is to be determined as additional historical summer data becomes available that the resources will be available during summer peak load periods.  A method for determining the value of Z has not yet been established. </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storical actual average amounts for each year will be based on a rolling average of up to 3 years of historical data for weekday hours beginning 16:00-18:00 during the months of July and August for each yea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C19C499-3FAF-4D7B-B338-0A41EEC85410}" type="slidenum">
              <a:t>6</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2">
                                            <p:txEl>
                                              <p:pRg st="2" end="2"/>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nsus Items: Loa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2005, the same methodology will be applied to determine the contribution from Non-Spin, Replacement Reserve Services and Balancing Up Loads (BULs) to the extent that loads actually participate in any of these servic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ions from load management programs operated by other market participants that conform to the eligibility criteria will also be included (after submittal of verification data by host to ERCOT) unless they are implicitly included in ERCOT’s peak demand forecast (i.e., no double-count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tocol Revision Request (PRR) will be developed and submitted to establish reporting requirements for load management programs operated by other market participants that meet the eligibility criteri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A0A78D5-4A5D-4E17-86E2-A13F93438756}" type="slidenum">
              <a:t>7</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nsus Items: Installed Capacity</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 use capacity as shown in resource registration, as updated through a questionnaire last f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F Recommendati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Net Summer Dependable Capability pursuant to ERCOT testing require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E89C411-0109-4C61-8CF6-E6532D90F9A2}" type="slidenum">
              <a:t>8</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6">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nsus Items: New Installed Capacity</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 include capacity that has a signed Generation Interconnect Agre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F Recommendation: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 but also include capacity from any NOIE that has submitted a letter to ERCOT regarding the interconnection of new generating capacity pursuant requirements contained in the ERCOT Power System Planning Charter and Process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993CC26-CAF9-4949-8BDB-D7C9F8F86FED}" type="slidenum">
              <a:t>9</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8">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15:03Z</dcterms:created>
  <dc:creator>TXU Energy</dc:creator>
  <dc:description/>
  <dc:language>en-US</dc:language>
  <cp:lastModifiedBy>Henry Durrwachter</cp:lastModifiedBy>
  <dcterms:modified xsi:type="dcterms:W3CDTF">2005-03-30T22:54:49Z</dcterms:modified>
  <cp:revision>20</cp:revision>
  <dc:subject/>
  <dc:title>Generation Adequacy Task Force Report to TAC</dc:title>
</cp:coreProperties>
</file>