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62C-CE1F-488C-A53E-8E156AF6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64B-E744-4393-9625-0C203FD0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D27-D810-4FF1-A28F-E4765917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C9A-022C-4C35-B48C-69FA14B8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BDB-B008-486A-B485-410CD6E6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23D-C5DE-493C-A65B-4291DF76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A01B-1084-4E87-B6F1-E9D1A3F4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B37C-B1DE-4BC3-9E98-97CC2CAE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2140-3153-47B5-841C-D97CC376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1E21-75C9-4C4A-AEB0-B8EEC354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DA41-640B-4212-97E8-AC18206E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227D-1F80-4AC6-8C25-329D6610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81A8-0776-4808-B34E-D8E8EACD0837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7665-28E0-475F-B2C4-384B4B6C9B4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977760" cy="855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436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45964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3587760" cy="3463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T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TAC Updat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040" y="4723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Galvi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7, 2005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55308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lanning Phas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equirement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Staff identifies requirements stated in the Nodal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review and comment on Preliminary Requirements identified by ERC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Statement of Work (SOW) from approved Preliminary Requirements for the RFP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B6D9-ABE8-410B-AC57-29D9D8CE568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70111-E786-4FEC-9A1A-CC1152EAE6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55308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lanning Phase (cont’d)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for Proposal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eliminary requirements to develop RFP to meet S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vendor(s) proposals and solu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vendor pool to implement appropriate solutions in the areas of System Operations (SO), Market Operations (MO) and Enterprise Data Warehouse (ED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ppropriate vendors in SO, MO and EDW areas for conside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A7E-23B0-43D4-86F4-295E1261D83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D483F-00A9-413F-805F-38AA118C23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55308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lanning Phase (cont’d)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Requirements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equirements incorporate vendor solutions and provide additional detail to Preliminary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review and comment on Final Requir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nd ERCOT staff ensure Final Requirements meet SOW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ppropriate vendors for SO, MO and ED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Exec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E8D1-6225-476C-8341-04D894538FB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090C2-B6E1-4218-8007-DACE7FED9C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55308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lanning Phase (cont’d)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 Design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taff and selected vendors develop software design based on the Final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review and comment on Conceptual Desig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 Pla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nal ERCOT effort that will evaluate hardware needs and interface impa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11B-48F2-4151-BBF5-0BF7E8E7445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86B43-5D42-43E7-8949-776A1FCF05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55308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xecution Phas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Design &amp; Coding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Operations (MO) – will have substantial internal support from leveraging current systems with vendor as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Operations (SO) – more than likely vendor driven with internal support &amp; project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 Data Warehouse (EDW) – will have substantial internal support from leveraging current systems with vendor as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 &amp; SO coding can take place concurrentl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W development will shadow and complete after SO and MO development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87E-6217-4045-A4C6-D968627D68F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93373-41C6-4AFF-A745-A2FA88D18C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55308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xecution Phase (cont’d)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Test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of software during the development st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Testing (P-test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of the completed co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Testing (I-Test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of the completed code as integrated with other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9B6-B2FB-4018-BBDE-3B7004CC6B4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49AB3-650A-4405-99F7-188F46D775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55308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xecution Phase (cont’d)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ion Plan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lan for code migration into the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e system environment for the mig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ion Plan is tested during I-tes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56A-9C1B-4A74-AB8C-DDCA0AD82F6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F9675-46BD-49C8-9C38-A44A1EB53B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7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Disclaimer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is ERCOT’s Program Management approach for a project that will incorporate changes to the ERCOT Wholesale Market Design.  Since a decision has not been made to determine the Wholesale Market Design requirements, ERCOT will monitor the rulemaking process and prepare for a range of possible market design solutions.  A timeline and fine-tuning of the procedures necessary for the implementation of a new market design  will be made once a decision is reached at the PUCT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9CAF-A6A8-41BA-A27E-1BD08A4332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39A7D-3184-48F3-A95D-661F786E7C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404640"/>
            <a:ext cx="6553080" cy="7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pproach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8560" y="1599840"/>
            <a:ext cx="856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will follow internal Program Management procedures to implement the market redesign effort from Planning to Implementation to Execu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managed, not vendor manag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on touch-points with Market Participants for transparency and knowledge transf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A3C0-B957-4F73-8C6E-501698808B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7D722-9F6E-43E9-9920-3E40F7C713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404640"/>
            <a:ext cx="6553080" cy="7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Implementation Timelin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ollowing slides provide a schematic view of a high-level Project Plan outlining the phases discussed in this present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h of time for each phase is not defined in this schematic as requirements are at this time unknow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 Plan is flexible and subject to change based on input from Market Participants and/or vendor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BDF0-2202-40B8-B747-D319F6623AA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42CF5-0379-439D-8C51-620199D370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304920"/>
            <a:ext cx="687996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Implementation Timelin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752480"/>
            <a:ext cx="1905120" cy="4953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project docu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pe &amp; staf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requirements from the Protocol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requirements to MPs for revie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requir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 review of Final requir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FP pr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dor de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dor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ua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 review of Conceptual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752480"/>
            <a:ext cx="6858000" cy="4953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1295280"/>
            <a:ext cx="6858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45820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71640" y="3249720"/>
            <a:ext cx="4191120" cy="30456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quirements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72360" y="612936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00720" y="2637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lize Require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6273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vide Conceptual Design to M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4834080"/>
            <a:ext cx="83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ssue RF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39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56000" y="310500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87640" y="2565360"/>
            <a:ext cx="133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vide requirements to MPs  for re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35733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7640" y="382428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liminary Requirements identifi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5697360"/>
            <a:ext cx="2362320" cy="43200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ceptual Design/Environment Pl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001000" y="55620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56610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00360" y="5913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endor demos: 10/03 to 11/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40360" y="4724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endor Sel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59280" y="310500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56000" y="515772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1640" y="37893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P comments to final requirements d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5300640"/>
            <a:ext cx="2666880" cy="32400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FP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2205000"/>
            <a:ext cx="762120" cy="37620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oc pre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77080" y="35733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327640" y="515772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508464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P comments to Conceptual Design d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DF6-6609-408C-8480-EE4036E52E4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8D076-400F-46EC-AB9C-7627AEEA74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879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Implementation Timelin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752480"/>
            <a:ext cx="1905120" cy="4953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Design &amp;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Operations (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Operations (S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 Data Warehouse (ED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-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752480"/>
            <a:ext cx="6858000" cy="4953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1305000"/>
            <a:ext cx="6858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45820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2895480"/>
            <a:ext cx="6858000" cy="47484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chnical Design &amp; Coding/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33526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20968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 coding comp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3505320"/>
            <a:ext cx="1067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: Unit Test comp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gin P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33526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3581280"/>
            <a:ext cx="106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gin Unit Testing for MO, SO, &amp; ED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839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8001000" y="27424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763120" y="33526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33526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35812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: P-Test comp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981080" y="27424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715000" y="27424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213372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gin technical design &amp; co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72400" y="2133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 coding comp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24680" y="35812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W coding comp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BB9-5CD5-4D1C-8EB0-44E4413E839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772FB-F7C1-46D0-A4F5-FE012D6563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8072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Implementation Timelin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1752480"/>
            <a:ext cx="1905120" cy="4953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Design &amp;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Operations (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Operations (S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prise Data Warehouse (ED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-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1752480"/>
            <a:ext cx="6858000" cy="4953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1295280"/>
            <a:ext cx="6858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0532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7732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458200" y="1752480"/>
            <a:ext cx="0" cy="4953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4267080"/>
            <a:ext cx="3048120" cy="30168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igration Plan/Environment Configu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8954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4724280"/>
            <a:ext cx="19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ize Environment configu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24680" y="6095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2895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182880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W: Unit Test complet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gin P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839080" y="1295280"/>
            <a:ext cx="0" cy="5410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304812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: Unit Test complet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gin P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2895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57600" y="30481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: P-Test Comp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477120" y="24382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01000" y="58672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8672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60958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gin Market T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952880" y="24382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809880" y="24382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6095880"/>
            <a:ext cx="106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gin Market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5562720"/>
            <a:ext cx="5410080" cy="30456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et Training &amp; T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2590920"/>
            <a:ext cx="4572000" cy="30456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ding &amp;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45720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58672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182880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W: P-Test Comp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304812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gin I-Test for MO, SO &amp; ED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43600" y="1905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lete I-Test for MO, SO &amp; ED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45720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47242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ize Migration P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663-583E-4EC6-B565-B0BF3278C69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672F2-62AD-4AB0-A36C-A6A86EA832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55308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arket Participant touch-point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 Desig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Train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Tria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month effort to synchronize communications between MPs &amp; ERCO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a multiple day sim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486-BE31-4A88-B63E-7E4E58BCBA1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48748-04ED-4C37-88A6-D8B8522988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Initiation Phas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441440"/>
            <a:ext cx="846144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the Administrative phase where staff prepares documentation for project start, includes project scope description and justification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ain management approvals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high-level cost &amp; time estimates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 staffing requirements for project Core Team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gin Planning Stag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E46-8315-4522-9EE0-517DAFA07AA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A7D14-8589-4375-B36A-3EC6EBB2F2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xas Nodal Team</dc:creator>
  <dc:description/>
  <dc:language>en-US</dc:language>
  <cp:lastModifiedBy>A. Boren</cp:lastModifiedBy>
  <dcterms:modified xsi:type="dcterms:W3CDTF">2005-04-04T13:19:55Z</dcterms:modified>
  <cp:revision>367</cp:revision>
  <dc:subject/>
  <dc:title>TNT 1022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