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D30-C245-463B-9D41-69BCD2ED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6AD-A049-4DBB-8F5F-55BC530D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88B-47DB-4AB6-9330-72A62331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D93-4ADF-4454-A31D-52EE2F22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CCA5-EFAA-49E6-8739-497C4D5C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785-D459-4DB4-A5A8-8C917BC0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64D-6499-4D3F-9C80-15B56A5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5FB2-DA32-40DF-AB91-A305AFC3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1EF-D250-4759-8BDA-62D2275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60E-EA1E-4225-A501-137C4BF9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340-DD33-46DE-BB97-99338218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F6E-031B-4A8E-986E-2CEF907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399-AB32-4D4A-A3C3-AC4E4B14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8B93-243A-4FD3-8620-0A86CAA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EA95-34BC-4D6D-BCC1-DFBBBA7E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3B0E-5ABB-4690-9B7B-1F0C49EC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4CAC-E52A-46C2-84B7-8DDEF808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122-70B2-432B-9465-7CFAE4B3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3B8-8771-4309-9F5A-E416F6A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BA0-FE2A-4606-82DB-AE0130BE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763-B294-46DC-9933-980EACB9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EB4-898F-46A4-BB30-CC9047F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0A8-2D1D-4DF4-8400-19EC499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648-D79F-4DAA-9881-DB101B1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BE0-8B70-4A30-81DC-9D8C0B940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9A6-9925-478B-8871-F406A2074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R 586  Back-Cas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to W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2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ry Service Demand Factor (ASD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minute summation of 1 minute intervals results in applying penalty to every 15 minut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Frequenc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 would have to be modified to correlate acceptable frequency control (ERCOT CPS1) with QS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R586 Inputs &amp; Assum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cast of historical data for Novembe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est ERCOT CPS1 Performance in Rec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tal cost of Regulation Services for the month was $23 million (MCPC for URS &amp; DRS multiplied by total oblig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the regulation service cost for a 15 minute interval is allocated when the penalty criteria is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nalty criteria is (-1*ISCE*REGNm) where this is greater than z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lerance dead-band is used that measures the aggregate sum of the QSEs IS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 of the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enalty cost equaled $11.5 million for the month of November 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DF for all participants had at least 1 minute of the 15 minute sum in which an interval met the criteria for applying the penal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a dead-band around an individual QSE’s ISCE, there is a risk of having a low ISCE and paying a large share of the penalty (i.e. if most QSEs have a ASDF = 0 in the inter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frequency was outside of the acceptable tolerance (+/-0.03 Hz dead-band) 11,460 one minute intervals out of a total of 43,200 one minute interv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3 or 3,796 of the 11,460 intervals would not have had a penalty applied even though ERCOT frequency was outside an acceptable range, however, this can be addressed with a small change to the formula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change to the formula is needed so that QSE will not receive a good score when ERCOT is un-deploying regulation and the QSE is generating in an undesirable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why this change is needed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Nm (regulation need) = the one minute ERCOT deployed Regulation minus ERCOT Area Control Error (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– ERCOT frequency = 60.00 Hz and ACE = 0 total deployed Regulation = -500 MW; (initial cond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increases 1 minute later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frequency = 59.95 Hz; ERCOT ACE = -200 MW total deployed Regulation = -300 MW (un-deployed from 500 down to 300 down) ; QSEa is under generating and their SCE = -100 (hurting frequen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REGNm = -300 – (-200) = 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ASDF = (-1*-100*-100) = -10,000&lt;0 = 0 (good sco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tion Considere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 Current Propos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1 minute intervals that meet the penalty criteria for one or more Q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48% of the intervals in the month met the penal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Conside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System-wide deadband and, in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deadband to individual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L10 values from PRR 52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ASDF from (-1*ISCE*REGnm) to (ISCE*ACE) to align the metric with ERCOT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in 35,901intervals out of 43,200 1 minute intervals in which the penalty criteria would be met by one or more Q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view of Uninstructed Resource Charge (URC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inputs to existing Uninstructed Resource Charge (URC)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s revenue meter quality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s allow Deadband mod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inputs easily modifiable with Protocol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design already in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apply penalty for under generating  when MCPE is po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15 minute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not significantly address 0600 and 2200 ramp period schedu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alternative does not satisfy Potomac Recommendation #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pricing language to apply an appropriate penalty price for over or under generating regardless of magnitude of MC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Uninstructed Factor to apply tighter tole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5:34:32Z</dcterms:created>
  <dc:creator>jdumas</dc:creator>
  <dc:description/>
  <dc:language>en-US</dc:language>
  <cp:lastModifiedBy>Nieves Lopez2</cp:lastModifiedBy>
  <dcterms:modified xsi:type="dcterms:W3CDTF">2005-04-28T17:26:58Z</dcterms:modified>
  <cp:revision>46</cp:revision>
  <dc:subject/>
  <dc:title>Slide 1</dc:title>
</cp:coreProperties>
</file>