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B4C-80D7-435E-93B5-3CA83C7B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BA4-F14E-40DE-AA32-3A65D406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B4F-4FEC-45B6-9D97-F4533EC4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6CE-ADD4-460A-89C0-0F76E7E7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2E43-911A-4487-B6B5-0A416254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0045-E462-42EA-96DF-FF6CFF4E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BC72-3EC8-47D4-8BFB-1AAC3B98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B09E-87FF-46CC-A445-EE80136E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7543-4B77-4C06-BA73-927BE9E5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7714-8737-42FB-8787-C8638329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5F73-180F-4CD6-B3E4-EEBAE80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5E7-F813-4174-9A35-3BF6D87F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755-50FB-4BAC-9A3A-4DA5F9B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276F-6DCB-407F-A3BD-0CECA8B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6724-00A0-43E1-A20E-C9C3E60E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C167-1450-427A-8CB1-7D0CC637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AC5-D5B2-42AB-982F-D4C6809E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631-7E57-4AAF-B3F6-C19F8A0D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2DC-90FF-4928-8CFC-BF686DA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B29-3501-414B-8541-9329B4BD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1B2-9A3A-46B4-B20D-97D21067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060-7A5E-43D5-A91E-88D1B0D0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761-7847-45FA-BB7E-E133824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491-BC29-47DB-8417-4288CAE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F475-676A-4009-B5E6-CC16695E774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467480" y="6095880"/>
            <a:ext cx="1133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BF4F-F2CB-4252-93C5-30F8198F037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multaneous Selection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cillary Services X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 May,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ndon Whit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Market Operations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ultaneous Selection of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cillary Services X%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4, 2004 WMS Votes X=1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100,000 may not match the intentions of 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what X=100,000 m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WMS to recommend course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 -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bidding rules for linked bid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S bid cannot exceed the URS bid by more than X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RS bid &lt;= URS bid  + ( X/100 * URS b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RS bid cannot exceed the RRS bid by more than X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RS bid &lt;= RRS bid + (X/100 * RRS B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 is adjustable, Currently set at 10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S 2/24/05 Recommended 100,000 with the intent of setting the number high enough to not have any restrictions, but restrictions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past 6 months, one QSE, for one hour of one day, had one bid which would have been rej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10,000,000 would have no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80880" y="914400"/>
                <a:ext cx="70866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 - Ex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iven: X = 100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SE A bids 10 MW;  $9  URS, $5   R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SE B bids 10 MW; $1 URS, $1000   R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SE C bids 10 MW; $.01 URS, $30 R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9240" y="2819520"/>
            <a:ext cx="8924760" cy="1473120"/>
            <a:chOff x="219240" y="2819520"/>
            <a:chExt cx="8924760" cy="1473120"/>
          </a:xfrm>
        </p:grpSpPr>
        <p:grpSp>
          <p:nvGrpSpPr>
            <p:cNvPr id="101" name=""/>
            <p:cNvGrpSpPr/>
            <p:nvPr/>
          </p:nvGrpSpPr>
          <p:grpSpPr>
            <a:xfrm>
              <a:off x="219240" y="2819520"/>
              <a:ext cx="8924760" cy="581400"/>
              <a:chOff x="219240" y="2819520"/>
              <a:chExt cx="8924760" cy="581400"/>
            </a:xfrm>
          </p:grpSpPr>
          <p:sp>
            <p:nvSpPr>
              <p:cNvPr id="102" name=""/>
              <p:cNvSpPr/>
              <p:nvPr/>
            </p:nvSpPr>
            <p:spPr>
              <a:xfrm>
                <a:off x="219240" y="2890800"/>
                <a:ext cx="6108480" cy="439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243000" y="2880720"/>
                <a:ext cx="6070320" cy="45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3880" y="2819520"/>
                <a:ext cx="2670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Stencil"/>
                  </a:rPr>
                  <a:t> 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Stencil"/>
                  </a:rPr>
                  <a:t>REJECTED</a:t>
                </a:r>
                <a:endParaRPr b="0" lang="en-US" sz="3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298520" y="3276720"/>
              <a:ext cx="563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0 &lt;= .01 + 100,000/100 * .01 = 10.01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806120" y="3314520"/>
              <a:ext cx="351000" cy="360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22:24:16Z</dcterms:created>
  <dc:creator>Brandon Whittle</dc:creator>
  <dc:description/>
  <dc:language>en-US</dc:language>
  <cp:lastModifiedBy>A. Boren</cp:lastModifiedBy>
  <dcterms:modified xsi:type="dcterms:W3CDTF">2005-05-11T20:08:10Z</dcterms:modified>
  <cp:revision>5</cp:revision>
  <dc:subject/>
  <dc:title>AS - Overview</dc:title>
</cp:coreProperties>
</file>