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C527-D1F8-4E97-9499-2F9B43CAA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al Titl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completion of this program, all attendee’s will be able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 the general categories of Generation Resources with regards to fuel type and service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utline the basic protocol requirements for scheduling resource outages with ERC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 the differences between the types of resource outages as described in the ERCOT protoc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st the required QSE outage request and response notification time frames as described in the ERCOT protoc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erating Gu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tate on Page 1-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ion (both CPS1 &amp; CPS2)… defined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ocol 6.10.5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…defined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. 6.10.5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lan…defined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. 4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Interval…defined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. 6.10.4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finitions an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wner or controller of a Generation Resource used for generating electricity and electrically connected to the ERCO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 that produce energy and are owned or operated by a Generation E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A41-EE08-4A8C-9B62-CE122716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A59-DA1F-45A7-BB9A-F4A5531A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ED8-3D3B-4D30-8DEB-10A80F26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530-0275-4927-9A5F-C851E80F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D93-A4D9-42A6-ACFA-912E42D1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FB1-E8BB-455A-AD6A-2B30D73D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BD1-6C3D-4420-A747-DF59F5A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5E4-9A4B-4D4F-B836-4C692D24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232-7D39-4FAD-BC4B-EE9644E9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28F-9EA2-4A46-B07A-FBF8A98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7D8-5379-45F5-921B-E217ED58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6FC-5086-4037-AFCF-193EF765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6D71-93C0-4FE7-87FA-2072FA09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def6f1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rcot.com/nerccompliance/compliance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SE’s ROL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YSTEM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Swee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te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095-D0FF-4275-BF2A-C49F4F46D9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DEFINITION #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illary Servic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services, described in Protocol 6, necessary to support the transmission of energy from Resources to Loads while maintain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ransmission provider’s transmission systems in accordance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Utility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, pg 2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0E5-D187-4D6F-BBB7-28684DAFA8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ie, the QSE’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reliability rol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DE6-6C11-4237-AC1A-6312F28FBE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LANCING ENERGY SERV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UP or DOWN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ES/DBES balan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scheduled generation and forecasted load, e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ates/minimizes Regulation Service deploy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71F-64A8-4900-B85C-FD8D1084DF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ULATION SERV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UP or DOWN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S/DRS balan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BES deployments and actual load, e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s to System frequency changes, to maintain target System frequency (60.0 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2 - 6.1.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050-61EF-4962-BF76-954AB7D425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PONSIVE RESERVE SERVI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S solves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dec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-of-Re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in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-deploys from the following resources – and corresponding setpoints - that can respond with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seco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oaded/online Generation – 59.91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Rs controlled by high-set UFRs – 59.8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 RRS – 59.91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Tie Response – 59.9 H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362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791320"/>
            <a:ext cx="815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386-5E95-4FFA-B0B4-7531D9CE1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SPINNING RESERVE SERVI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RS solves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-of-Re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ingen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ly deploys from the following resources that can respond with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min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-lin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5, 6.7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809880"/>
            <a:ext cx="8153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F81-1ED5-48F2-AD86-187023AC8B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PLACEMENT RESERVE SERVI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RS solves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 insu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/or zonal or loc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s from among the following resources for additional B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ynchronize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791320"/>
            <a:ext cx="815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DF6-77DA-4189-84EC-A0A43EE08D9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LTAGE SUPPORT SERV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S involves scheduling voltage profiles w/ ERCOT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ources’ power factors and output      voltag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pecific transmission busses, to mai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able vol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m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D20-EF78-486B-BC14-3B7CA6E7686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ACK STAR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S governs individual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year agre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ERCOT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 for capacity/energy off self-start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s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rest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llowing a black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8F0-69B8-43CF-906A-E932730705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ABILITY MUST RUN SERVI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R governs agreements for capacity/energy of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ly unv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s for voltage support, grid stability, local congestion management…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arket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067-A00B-4A01-9E7A-07ED187DFC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on completion of this course, you will be abl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949400"/>
            <a:ext cx="883944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primary sourc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asic difference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multiple ways QSEs contribu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Q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662-FBFA-45F9-B878-0C80316367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-OF-MERIT SERV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UP or DOWN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APACITY or ENERGY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C/OO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RS &amp; 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s for capacity insufficiency, congestion, reliability, emergencies…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arket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6.1.10 - 6.1.1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415-5A66-4438-B957-760CE8F94BA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OURCE PLAN</a:t>
            </a:r>
            <a:br>
              <a:rPr sz="54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ie,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other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SE reliability role)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E70-750B-437F-B330-CB1CB2FA31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DEFINITION #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295280"/>
            <a:ext cx="88394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lan - described in Protocols 2 &amp; 4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Q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RCOT “indicating the forecast state of Generation…or individual LaaRs, including information on availability, limits…forecast generation or load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, pg 2-2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A13-D25A-49C9-913D-3358DCB64F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DEFINITION #3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219320"/>
            <a:ext cx="88394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are to use “best efforts, consistent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Utility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ensure “accurate Resource Pla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4.4.1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85800" y="4291920"/>
            <a:ext cx="914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ADE-0A81-4644-A48D-B4DDA9830A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MERGENC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&amp;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ORT SUPPLY OPERATION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ie,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other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SE reliability role)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2AC-8618-4AD3-9C14-848D07A037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ENCY &amp; SHORT SUPPLY OPERATION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5.6.1 states that Operating Guides ensur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standa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eliabil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pera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mit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mit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ca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C39-0CAE-4399-8EB4-D50069ED85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ENCY &amp; SHORT SUPPLY OPERATION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76312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nding priority of communications between ERCOT &amp; QSEs during contingenc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ondition No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formational purposes only,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may requ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itional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5.6.3 &amp; Operating Guide 4.2.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2A1-57B0-4937-B345-5B91AAF50B8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ENCY &amp; SHORT SUPPLY OPERATION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nding priority of communications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&amp; QSEs during contingenc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formational purposes only,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velo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ay require ERCOT to procure additional A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5.6.4 &amp; Operating Guide 4.2.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553-0709-4D37-A62C-7F98E3B96F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ENCY &amp; SHORT SUPPLY OPERATION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3962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nding priority of communications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&amp; QSEs during contingenc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may be requ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A/S are need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Operating Period (either Regu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ve, or Non-Spi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5.6.5 &amp; Operating Guide 4.2.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4EA-7531-4853-93E3-93EE87B0932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ENCY &amp; SHORT SUPPLY OPERATION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34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nding priority of communications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&amp; QSEs during contingenc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is requ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event large-scale ev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ERCOT instructs QSEs to adju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output and/or TDSPs to shed l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 5.6.6 &amp; Operating Guide 4.2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559-1AEE-4B60-BB24-EF934001E33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DEFINITION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fied Scheduling Entiti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that are “qualified by ERCOT in accordance with Protocol 16, ‘Registration and Qualification of Market Participants’, to submit Balanced Schedule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ds, and settle payments with ERC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col, pg 2-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3F1-EBDE-4F9C-A03B-6E3941E75F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DDITIONAL QSE RESPONSIBILITIES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ie,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QSE reliability ro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505-82E7-4DC8-BA59-04AA1CB060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QSE RESPONSIBILIT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MUNICATIONS with ERC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839440" cy="380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“only interacts directly 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SEs &amp; TDS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perate the ERCOT System in a reliable and secure manner” (Operating Guides, pg 1-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ntities operating in the ERCOT System interface either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Es or the TDS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Operating Guides, pg 3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market operations perspective, QSEs provid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ERCOT” for “the scheduling of energy or bidding of A/S”  (Market Guide, pg 1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96D-4B89-41A1-8BD0-D9F98774219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QSE RESPONSIBILIT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YSTEM EMERGENCY TRAINING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839440" cy="3657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now required to obtain 40hrs/y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Emergency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ongside their TO and ERCOT Operator counterparts  (Operating Guide 1.8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soon to be required to participat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m Dr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time for November/05 drill), alongside their TO and ERCOT Operator counter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F19-11FC-4EF6-AB16-8AD2380595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QSE RESPONSIBILIT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ERFORMANCE REQUIREM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8839440" cy="380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-Compliance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/compliance met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 reliability of QSEs that provide A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measur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eparate met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on (both CPS1 &amp; CP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Re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p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uture – possibly Q3/05 – compliance will be measured in one consolidated metric…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-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BEF-FFA4-469A-93A2-A61E109F6A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QSE RESPONSIBILIT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ERFORMANCE REQUIREMENTS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2895120"/>
            <a:ext cx="8839440" cy="2667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details on QSE metrics may be found in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-Compliance’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ercot.com/nerccompliance/compliance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19B-F848-4D51-BEFC-856A17B1ED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QSE RESPONSIBILIT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ERFORMANCE ACCOUNTABIL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76312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18, 20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CS Ev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’s Disturbance Control Standard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ed as ERCOT was unable to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dec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analysis revea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Q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CD3-DDB6-4E9B-9BC5-55CE1DB212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B02-AB4A-4C34-A00C-60278627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SEs in ERCOT GOVERNANCE  &amp; MARKET RULE-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447920"/>
            <a:ext cx="2438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438280"/>
            <a:ext cx="2438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Advis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e (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0" idx="2"/>
            <a:endCxn id="131" idx="0"/>
          </p:cNvCxnSpPr>
          <p:nvPr/>
        </p:nvCxnSpPr>
        <p:spPr>
          <a:xfrm>
            <a:off x="4647960" y="2133720"/>
            <a:ext cx="1080" cy="3052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3520" y="3124080"/>
            <a:ext cx="28191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col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ommittee (P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267080"/>
            <a:ext cx="281916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ommittee (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486400"/>
            <a:ext cx="2819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Sem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s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3124080"/>
            <a:ext cx="28954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olesal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ommittee (W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4419720"/>
            <a:ext cx="28954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ommittee (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562720"/>
            <a:ext cx="304812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ercial 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ommittee (C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3" idx="3"/>
            <a:endCxn id="136" idx="1"/>
          </p:cNvCxnSpPr>
          <p:nvPr/>
        </p:nvCxnSpPr>
        <p:spPr>
          <a:xfrm>
            <a:off x="3352320" y="3504960"/>
            <a:ext cx="25916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140" name=""/>
          <p:cNvCxnSpPr/>
          <p:nvPr/>
        </p:nvCxnSpPr>
        <p:spPr>
          <a:xfrm>
            <a:off x="3352320" y="4800240"/>
            <a:ext cx="25916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3352320" y="6248160"/>
            <a:ext cx="25916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4648320" y="2743200"/>
            <a:ext cx="0" cy="3505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AS NODAL / IMPACT on Q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ONGES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  TRANSPAR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CBD-60E0-4EDC-8E99-A7EDD602E5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8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8dc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66cc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8dc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68B-B89B-4769-A03E-A7831ED2E9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800"/>
                </a:solidFill>
                <a:latin typeface="Arial"/>
              </a:rPr>
              <a:t>Now for M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8dc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66cc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8dc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23D-0811-4ACD-910A-997B4A23E6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SE FUNDAMEN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 Q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wn or operate the ~78,000 MWs of installed capacity in ERC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, August 2004, “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3 State of the Market Report for the ERCOT Wholesale Electricity Mark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incre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47.5% since 1996; this is high-efficiency / low-emission technology that holds important side benefits for the Texas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, August 2004, “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3 State of the Market Report for the ERCOT Wholesale Electricity Mark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5E3-11FE-4536-B2D5-EF62025EAA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133720"/>
            <a:ext cx="792468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A QSE’s contribution to ERCOT System Reliability can be measured by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3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bility to provide needed Ancillary Service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73480" indent="-57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bility to maintain low market clearing pr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91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bility to keep capacitive and reactive devices in good working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257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ortfolio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D9D-95FD-4770-8D86-0954D6719D2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133720"/>
            <a:ext cx="792468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The primary source of dynamic reactive power in the ERCOT system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ve dev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191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iv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257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S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B2C-CED5-4CA8-B576-B2F6427E5E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133720"/>
            <a:ext cx="792468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Frequency management in ERCO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-w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cal control iss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191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lated to governor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257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DSP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8D6-E0DE-494A-BA0F-2C2BF1BEC05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3200400"/>
            <a:ext cx="792468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 Voltage management in ERCO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-w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cal control iss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91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governor respons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257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SE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D61-6478-4B14-B1B1-2FAA5B796A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124080"/>
            <a:ext cx="7924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  QSE personnel are required to participate in System Emergency Train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urs pe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200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hours per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hours pe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334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 hours pe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B3E-0D06-41C0-B8BE-6DF4701E7A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4952880"/>
            <a:ext cx="7924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  Which of the following Minimum Reliability Criteria does a QSE play a rol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operating reserve levels &amp; Transmission loading level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&amp; System Voltage control cri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191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outage criteri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A51-ADFE-4EE6-A071-19BDEE9A55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352680"/>
            <a:ext cx="79250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  If practicable,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ust be allowed to work to mitigate or eliminate any possible Emergency Condi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Autho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2670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Electric Provi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0E6-0887-4A5F-9F91-AA1B2B28470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4267080"/>
            <a:ext cx="7924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  What is the purpose of the “Quick Bid” process detailed in the Emergency Communications portion of the Gui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stablish the MC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733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 local cong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267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QSE’s to resolve an emergency through additional ancillary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he price for Block Load Trans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AE4-5990-4A47-9991-28C85BF4B9B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4724280"/>
            <a:ext cx="7924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 ERCOT-Ops normally  communicates just with _____ and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 &amp; TD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429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 &amp; 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114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E &amp; Q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SP &amp; Q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AB0-CAE0-435F-BCC1-0A13353104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352680"/>
            <a:ext cx="7924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The QSE will notify ERCOT of any unplanned change in resource status as soon as practicable following the chan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3E4-2369-4742-84C5-CE41F8E4E0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SE FUNDAMENTAL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urrently repor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g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17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RCOT’s report to TAC, 17 January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ast August, PUCT reported resource margins of 33%…this same study projecte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grow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xas would half this margin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 in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, August 2004, “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3 State of the Market Report for the ERCOT Wholesale Electricity Mark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CE3-D4CB-4C34-B2D4-B731B1F80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SOURCE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VE POW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RCOT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mary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ynamic reactive powe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SE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bligated to maintain reactive capabilit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e it available to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generators are also ERCOT’s fastest, most responsive source of reactiv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voltage change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S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loy a variety of  capacitive or inductive devices to generate or absorb reactive power, respectively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shing QSE generators back towards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7B4-EED2-44F3-A1B4-E97CD32476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SOURCE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VE POWER (cont)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ERCOT shifted from 10 CAs to a single CA, voltage stability w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ly mana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10 different CA parti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shift, voltage stability becam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-w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sue, as ERCOT assumed sole accountability and oversight, but still relied on market support – by way of QSE/TDSP coordination – to actually handle the jo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now relies on QSEs to be available for voltage support; when/if the QSE cannot perform, it strains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CA1-3B5E-4BB6-A2A6-F903CE069E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LTAGE MANAGEMENT v. FREQUENCY MANAGE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ifference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ge Management is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DS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Q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Managemen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-wid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Q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729-A44E-47D9-BF1B-A6E6858F18C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LTAGE MANAGEMENT v. FREQUENCY MANAGEMENT (cont)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43828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or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important part of ERCOT’s ability to control frequ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SE generation resources have a governor response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m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fy ER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time they go off AGC to manu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296-91F9-4F78-A2FD-AC84996E14B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S</cp:lastModifiedBy>
  <dcterms:modified xsi:type="dcterms:W3CDTF">2005-04-04T21:48:21Z</dcterms:modified>
  <cp:revision>120</cp:revision>
  <dc:subject/>
  <dc:title>PowerPoint Presentation</dc:title>
</cp:coreProperties>
</file>