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10EB2D-1FE9-4046-B697-E435462C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8CD5F3-8EBC-42FB-A88D-5BB5372FE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28720"/>
            <a:ext cx="5194080" cy="419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RCOT Planning Process is only one part of a broader process through which new transmission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quoise boxes show steps in implementation process and the blue boxes show who is responsible for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alk about ERCOT Planning Process box in detail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ime frame from the identification of need until project construction may be 5-6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UCT participates in ERCOT planning process, has authority over CCN approval and determines whether the project is put into rate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B099D4-DDCA-46BB-9A64-EAE5600B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28720"/>
            <a:ext cx="5194080" cy="419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RCOT Planning Process is only one part of a broader process through which new transmission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quoise boxes show steps in implementation process and the blue boxes show who is responsible for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alk about ERCOT Planning Process box in detail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ime frame from the identification of need until project construction may be 5-6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UCT participates in ERCOT planning process, has authority over CCN approval and determines whether the project is put into rate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D51485-DBF2-4286-82CC-159AE9C8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28720"/>
            <a:ext cx="5194080" cy="419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RCOT Planning Process is only one part of a broader process through which new transmission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quoise boxes show steps in implementation process and the blue boxes show who is responsible for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alk about ERCOT Planning Process box in detail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ime frame from the identification of need until project construction may be 5-6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UCT participates in ERCOT planning process, has authority over CCN approval and determines whether the project is put into rate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5633-74F8-4E19-ABBE-EB66FFC54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10E6-D27A-4453-8833-5BFF9F0C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5A2C-C790-4CF3-96B2-387E720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D2FB-7B1B-4492-ADD4-79A6A8035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0C08-C474-497F-AC25-72A296ED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0476-A578-4C63-938D-BC4C60F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0336-AEEA-44A8-91C0-A0122C0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7CC5-F991-4798-A949-F9769FCC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B74F-8C2F-4D8C-BA27-E7C58515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8AC7-CE52-43F8-9982-00190475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09EC-C856-484C-9282-BFF6E79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031D-3969-4CDA-8E8D-4E7220E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080" y="6499080"/>
            <a:ext cx="1528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3/10/2005 K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4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62520" y="6265800"/>
            <a:ext cx="1163520" cy="5605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653C-62B3-440C-B4B7-14F786C4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ET READY FOR SUMMER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10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89240" y="4678200"/>
            <a:ext cx="64008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eth A. Donohoo,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of Syste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E87A-3E13-4247-A77C-E0BAD34D6A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7840" y="190440"/>
            <a:ext cx="8966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ing Proces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040" y="1079640"/>
            <a:ext cx="86234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ies added and currently i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,500 MW of generation capacity (over 45% increase) inter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$2 billion invested in transmiss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 miles of new 345 kV transmiss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iles of new or rebuilt 138 kV transmiss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345/138 kV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nd static voltage contro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 miles 345 kV transmiss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138 kV lines and up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$1.8 billion will be invested in the transmission system, based on current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ch greater expansion of transmission infrastructure than in any other region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0274-5845-4162-908E-634FEDAA9B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6934320" cy="609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3040" y="177840"/>
            <a:ext cx="8763120" cy="8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jor Transmission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D231-730F-4CEC-A219-86E5D43F7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944120" cy="606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3040" y="177840"/>
            <a:ext cx="8750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ndorsed &amp; Projects Under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349E-2B12-4D74-84B3-8F95D1247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28240"/>
            <a:ext cx="877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urrent ERCOT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serve Margin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2036880"/>
          <a:ext cx="7696080" cy="3547800"/>
        </p:xfrm>
        <a:graphic>
          <a:graphicData uri="http://schemas.openxmlformats.org/drawingml/2006/table">
            <a:tbl>
              <a:tblPr/>
              <a:tblGrid>
                <a:gridCol w="3809880"/>
                <a:gridCol w="1320840"/>
                <a:gridCol w="1320840"/>
                <a:gridCol w="124452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-approved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TxGenCo were ret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ding mothball plants unlikely to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523880" y="59436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urrent ERCOT reserve requirement is 1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027A-B769-4C95-B0E1-0DDC93DDE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440" y="1119240"/>
            <a:ext cx="86184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lanning Criteria state the fundamental minimum requirements for planning and constructing reliable interconnected electric systems u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ategor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Conting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atego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contingency loss of single faults resulting in multiple elements (SFME)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contingency loss of a double-circuit transmission line that exceeds 0.5 miles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ircuit = Single contingency = Catego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contingency loss of any single generating unit unavailable, and with any other generation preemptively redispatched, the contingency loss of a single transmissio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+ Single contingency = Catego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conting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ategory C &amp;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generation, load and/or system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4927-7109-47BC-BD5F-8732005E9A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1387440"/>
            <a:ext cx="87296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gency loss of a double-circuit transmission line that exceeds 0.5 miles in length (either without a fault or subsequent to a normally-cleared non-three-phase fault) with all other facilities normal should not cause a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cading or uncontrolled out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bility of generating units at multiple plant loc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 c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 of service to firm demand or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ther than that isolated by the double-circuit loss, following the execution of all automatic operating actions such as relaying and special protection systems. Furthermor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loss should result in no damage to or failure of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, following the execution of specific non-automatic predefined operator-directed actions (i.e., Remedial Action Plans), such as generation schedule changes or curtailment of interruptible load, should not result in applicable voltage or thermal ratings being exc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ny single generating unit unavailable, and with any other generation preemptively redispatched, the contingency loss of a single transmission element (either without a fault or subsequent to a normally-cleared non-three-phase fault) with all other facilities normal should not cause a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cading or uncontrolled out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bility of generating units at multiple plant loc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 c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 of service to firm demand or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ther than that isolated by the transmission element, following the execution of all automatic operating actions such as relaying and special protection systems. Furthermor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loss should result in no damage to or failure of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, following the execution of specific non-automatic predefined operator-directed actions (i.e., Remedial Action Plans) such as generation schedule changes or curtailment of interruptible load, should not result in applicable voltage or thermal ratings being exc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9960" y="5597640"/>
            <a:ext cx="5446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+ Single contingency = Catego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7720" y="3083040"/>
            <a:ext cx="54212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ircuit = Single contingency = Catego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ING CRITERIA Category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01CF-AD42-4685-BA01-C6DD581B53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7480" y="172800"/>
            <a:ext cx="877572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3080" y="126216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stability margin shall be sufficient to maintain post-transient voltage stability within a defined importing (Load) area under the following study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Load conditions, with import to the area increased by five percent (5%) of the forecasted area Load, and NERC Category A or B operating conditions (see NERC Table I in ERCOT Planning Criteria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Load conditions, with import to the area increased by two and one half percent (2.5%) of the forecasted area Load, and NERC Category C operat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D999-C2A3-4AAC-A5D2-4719C6707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7840" y="1216080"/>
            <a:ext cx="5105520" cy="478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9720" y="5172120"/>
            <a:ext cx="16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utomatic Under Voltage Load 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19280" y="1295280"/>
            <a:ext cx="36831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Rio Grande Valley – 25% of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edo – 25% of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 – 25% of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W – 10% of load developing to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16480" y="5686560"/>
            <a:ext cx="330120" cy="330120"/>
          </a:xfrm>
          <a:prstGeom prst="ellips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1360" y="2735280"/>
            <a:ext cx="330120" cy="330120"/>
          </a:xfrm>
          <a:prstGeom prst="ellips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1360" y="5022720"/>
            <a:ext cx="330120" cy="330480"/>
          </a:xfrm>
          <a:prstGeom prst="ellips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75080" y="4052880"/>
            <a:ext cx="330120" cy="330120"/>
          </a:xfrm>
          <a:prstGeom prst="ellips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23540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0960" y="313056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803760"/>
            <a:ext cx="33048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56080" y="498492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330840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2838600"/>
            <a:ext cx="33048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60920" y="3244680"/>
            <a:ext cx="330120" cy="33048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3473280"/>
            <a:ext cx="330120" cy="33048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2914560"/>
            <a:ext cx="33048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720" y="221616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03720" y="2228760"/>
            <a:ext cx="33012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2040" y="3232080"/>
            <a:ext cx="330480" cy="33012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4480" y="5251320"/>
            <a:ext cx="330120" cy="330480"/>
          </a:xfrm>
          <a:prstGeom prst="ellips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17720" y="5759280"/>
            <a:ext cx="330120" cy="330480"/>
          </a:xfrm>
          <a:prstGeom prst="ellipse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4813-93C6-409C-A90B-ACF8EAFDB5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t 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4320" y="912960"/>
            <a:ext cx="8651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Range Weather Forecast (NO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fall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emperatures in North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normal temperatures in South and West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Demand Projection 59,8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otection Review of Critical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ystem Modeling and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raining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perating Tools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valuate Operat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Oper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, notify and document when something does not feel or appear “r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0841-C60C-4FB6-B16F-DEE1DE8013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t 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1720" y="944280"/>
            <a:ext cx="86518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Power and Voltag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Serving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ors functional and available fo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Owners/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ors functional, available and operated 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Owners/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cooling, testing and operator training complete/ready by M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must operate in voltage control mode not power facto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and maintaining correct voltag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responsive to voltage changes and must ride through voltage excu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active or voltage limitations or changes must be communicated to ERCOT Operations via Q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areas for volta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buClr>
                <a:srgbClr val="000000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-Fort 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buClr>
                <a:srgbClr val="000000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buClr>
                <a:srgbClr val="000000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buClr>
                <a:srgbClr val="000000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io Grand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buClr>
                <a:srgbClr val="000000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Te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7E53-0240-4F2D-AE85-AFCABADBFA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7440" y="5654520"/>
            <a:ext cx="8229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National Grid Of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295280"/>
            <a:ext cx="8229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93920" y="255600"/>
            <a:ext cx="6933960" cy="5253120"/>
            <a:chOff x="1393920" y="255600"/>
            <a:chExt cx="6933960" cy="52531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393920" y="318960"/>
              <a:ext cx="6933960" cy="518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398680" y="255600"/>
              <a:ext cx="34527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3587-A94F-4754-8950-664076B81C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46120" y="177840"/>
            <a:ext cx="8229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utur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160" y="1287360"/>
            <a:ext cx="864864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 (transient and voltage) limits becoming major limitation rather than therm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software stability models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/testing is also proble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inking generation reserve margins as a result of old, less efficient units being shu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fuel or reserve fuel for the growing amount of natural gas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versus zonal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the role of the bundl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as responsibility in the unbundled wor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4100-F5E3-4803-A782-EC07910B6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5240" y="177840"/>
            <a:ext cx="8813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ind Generation In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300 MW of wind generation has been added since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wind generation has been built in West Texas where there was insufficient transmission in place to get the power to loa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as Energy Council has recommended up to 3,000 MW more be added to the State’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transmission will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formation is needed on the impact of wind diversity and the impact on other forms of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 issues must be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F62C-0175-4AE8-86FC-09A003884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295280"/>
            <a:ext cx="632484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853400" cy="529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8320" y="990720"/>
            <a:ext cx="2303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Total 2127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In-servic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Und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6120" y="177840"/>
            <a:ext cx="8229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ind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B48F-9E06-4329-AFE7-44E051DDD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5440" y="2514240"/>
            <a:ext cx="82850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or studies can be proposed by any Market Participant, Transmission Owner or ERCO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s have opportunity to comment on proposals and offer alternativ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 performs independent re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 makes independent recommendation to the Board of Directors for majo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Board determines whether project will receive ERCOT endorsement based on Staff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680" y="1177920"/>
            <a:ext cx="8178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has implemented an open and non-discriminatory planning process that considers and balances the impacts of transmission facility additions o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nsmission Pla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76BD-671C-466E-8373-1F4EEA13D6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1546200"/>
            <a:ext cx="5105520" cy="434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08160" y="1271520"/>
            <a:ext cx="16891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295280"/>
            <a:ext cx="38592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leads and facilitates three Regional Transmission Planning Groups (North, South and 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s are open to all ERCOT stakeh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planned transmission projects is distributed to and among members of thes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roups provide the means for stakeholders to participate, express concerns, share alternatives, and provide input to the ERCOT staff independent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800" y="166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ional Plann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EEF0-1A7E-4334-BC7B-4FBF5F9A7E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2680" y="177480"/>
            <a:ext cx="8775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lementation of New Transmissi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1660680"/>
            <a:ext cx="817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Planning Process is only one part of a broader process through which new transmission i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57320" y="2755800"/>
            <a:ext cx="672444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518E-698D-4C7C-9C1B-4016353BB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2680" y="177480"/>
            <a:ext cx="8775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lementation of New Transmissi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1840" y="4184640"/>
            <a:ext cx="8719920" cy="1892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9120" y="1677960"/>
            <a:ext cx="8693280" cy="1901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1520" y="1376280"/>
            <a:ext cx="412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ject development and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2520" y="3997440"/>
            <a:ext cx="23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gulatory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C2D0-D565-4711-95C7-14A352FE9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177480"/>
            <a:ext cx="8775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lementation of New Transmissi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5880" y="2933640"/>
            <a:ext cx="8259840" cy="207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0880" y="2584440"/>
            <a:ext cx="164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B98E-D4B8-4ED3-9307-A703FABCF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ROS</cp:lastModifiedBy>
  <dcterms:modified xsi:type="dcterms:W3CDTF">2005-04-21T15:24:00Z</dcterms:modified>
  <cp:revision>95</cp:revision>
  <dc:subject/>
  <dc:title>Slide 1</dc:title>
</cp:coreProperties>
</file>