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13DE5-7DA8-4964-9A2B-09AFE8B9F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E593E-B882-46FB-B02A-EE9B8FDEF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AB4AB-CB45-45F1-BB11-83B29EBEE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875D3-540C-42B9-9784-6DE6CB06F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27FFE-9B5D-4857-972F-BDB5FF171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FA6F7-290E-4A4B-B42A-3B9AFBD0E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C6F1F-A7B4-4F8A-BA5F-A2832702D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1DC36-2315-475E-8422-4C3C478A9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CBED9-7DF7-402C-854A-6767D2589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FCC6D-0A62-4B3B-8307-F6D941F85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CDE8C-C88B-4A5D-814E-47BB69B15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CB7D7-6721-4E61-98C1-02B06CFCD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0682-3D37-4E0E-BB73-A0D6884CBF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212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urrent Industry Events</a:t>
            </a:r>
            <a:br>
              <a:rPr sz="3200"/>
            </a:br>
            <a:r>
              <a:rPr b="1" lang="en-US" sz="2800" spc="-1" strike="noStrike">
                <a:solidFill>
                  <a:srgbClr val="333399"/>
                </a:solidFill>
                <a:latin typeface="Arial"/>
              </a:rPr>
              <a:t>Including Common Sense Security</a:t>
            </a:r>
            <a:endParaRPr b="0" lang="en-US" sz="2800" spc="-1" strike="noStrike">
              <a:solidFill>
                <a:srgbClr val="000000"/>
              </a:solidFill>
              <a:latin typeface="Arial"/>
            </a:endParaRPr>
          </a:p>
        </p:txBody>
      </p:sp>
      <p:sp>
        <p:nvSpPr>
          <p:cNvPr id="48" name=""/>
          <p:cNvSpPr/>
          <p:nvPr/>
        </p:nvSpPr>
        <p:spPr>
          <a:xfrm>
            <a:off x="1447920" y="38894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am Jones</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RCOT Chief Operating Officer</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27A8F58-6E09-4508-8010-C14CB04252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33520" y="30492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unctional Model</a:t>
            </a:r>
            <a:endParaRPr b="0" lang="en-US" sz="3200" spc="-1" strike="noStrike">
              <a:solidFill>
                <a:srgbClr val="000000"/>
              </a:solidFill>
              <a:latin typeface="Arial"/>
            </a:endParaRPr>
          </a:p>
        </p:txBody>
      </p:sp>
      <p:sp>
        <p:nvSpPr>
          <p:cNvPr id="66" name=""/>
          <p:cNvSpPr/>
          <p:nvPr/>
        </p:nvSpPr>
        <p:spPr>
          <a:xfrm>
            <a:off x="533520" y="1447920"/>
            <a:ext cx="8229600" cy="4708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volving competitive markets and the formation of ISOs and RTOs are changing the traditional NERC Control Area model in North America</a:t>
            </a:r>
            <a:endParaRPr b="0" lang="en-US" sz="2400" spc="-1" strike="noStrike">
              <a:solidFill>
                <a:srgbClr val="000000"/>
              </a:solidFill>
              <a:latin typeface="Arial"/>
            </a:endParaRPr>
          </a:p>
          <a:p>
            <a:pPr lvl="1" marL="735480" indent="-28296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ERC has developed a Functional Model to better describe and assign the responsibilities in the evolving world – it is based on the required functions</a:t>
            </a:r>
            <a:endParaRPr b="0" lang="en-US" sz="2400" spc="-1" strike="noStrike">
              <a:solidFill>
                <a:srgbClr val="000000"/>
              </a:solidFill>
              <a:latin typeface="Arial"/>
            </a:endParaRPr>
          </a:p>
          <a:p>
            <a:pPr lvl="1" marL="735480" indent="-28296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includes the Regional Reliability Organization, Reliability Coordinator, Balancing Authority, Interchange Authority, Transmission Operator, Planning Authority, Transmission Planner and may go down to the Distribution Provider at some point</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is a work in progress – still problems with the authoritie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EA6E549-2FE7-4E2E-A5B2-85C095BC12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30492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ERC Entity Registration</a:t>
            </a:r>
            <a:endParaRPr b="0" lang="en-US" sz="3200" spc="-1" strike="noStrike">
              <a:solidFill>
                <a:srgbClr val="000000"/>
              </a:solidFill>
              <a:latin typeface="Arial"/>
            </a:endParaRPr>
          </a:p>
        </p:txBody>
      </p:sp>
      <p:sp>
        <p:nvSpPr>
          <p:cNvPr id="68" name=""/>
          <p:cNvSpPr/>
          <p:nvPr/>
        </p:nvSpPr>
        <p:spPr>
          <a:xfrm>
            <a:off x="533520" y="164628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ERC is now registering entities to comply with the Version 0 Standards and the Functional Model</a:t>
            </a:r>
            <a:endParaRPr b="0" lang="en-US" sz="24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urrently, registration is required for the RRO, RC, BA, TO, PA and TP</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RCOT registered as the RRO, RC, BA, TO and PA</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RCOT registered the transmission providers as TPs</a:t>
            </a:r>
            <a:endParaRPr b="0" lang="en-US" sz="20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ertification and compliance audits of these entities will be required</a:t>
            </a:r>
            <a:endParaRPr b="0" lang="en-US" sz="24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RCOT registered as the TO to centralize certification and compliance audit requirements</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ERC is now debating who has to be certified and audited</a:t>
            </a:r>
            <a:endParaRPr b="0" lang="en-US" sz="20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ROs should be responsible for their footprin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FEE6F13-C39D-49C3-83A1-EA8AFE85E9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304920"/>
            <a:ext cx="822960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ERC Operator Training Study and Program</a:t>
            </a:r>
            <a:endParaRPr b="0" lang="en-US" sz="2800" spc="-1" strike="noStrike">
              <a:solidFill>
                <a:srgbClr val="000000"/>
              </a:solidFill>
              <a:latin typeface="Arial"/>
            </a:endParaRPr>
          </a:p>
        </p:txBody>
      </p:sp>
      <p:sp>
        <p:nvSpPr>
          <p:cNvPr id="70" name=""/>
          <p:cNvSpPr/>
          <p:nvPr/>
        </p:nvSpPr>
        <p:spPr>
          <a:xfrm>
            <a:off x="533520" y="1447920"/>
            <a:ext cx="8229600" cy="4708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ERC is currently conducting a study of:</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Operator training practices in other industrie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est practices in training</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lectric industry operator training need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ERC expectations of operator training programs – FERC has established its own internal reliability group</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s is a huge undertaking and a training program standard will evolve from this activity that will affect market participants at, as yet, undetermined level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iscussion is underway regarding which operators, industry wide, will fall under the future training requirements and which have to be certified</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27E1213-BAC4-4490-8D0B-F4AF44CCEF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ERCOT Issues</a:t>
            </a:r>
            <a:endParaRPr b="0" lang="en-US" sz="3200" spc="-1" strike="noStrike">
              <a:solidFill>
                <a:srgbClr val="000000"/>
              </a:solidFill>
              <a:latin typeface="Arial"/>
            </a:endParaRPr>
          </a:p>
        </p:txBody>
      </p:sp>
      <p:sp>
        <p:nvSpPr>
          <p:cNvPr id="72"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NT</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Generation reserve margin levels</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ackup or dual fuel concerns</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lackout recommendations follow up</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02984BD-ED5D-41D9-A7BB-6E642A2BDF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urity – Common Sense and Evolving Standards</a:t>
            </a:r>
            <a:endParaRPr b="0" lang="en-US" sz="3200" spc="-1" strike="noStrike">
              <a:solidFill>
                <a:srgbClr val="000000"/>
              </a:solidFill>
              <a:latin typeface="Arial"/>
            </a:endParaRPr>
          </a:p>
        </p:txBody>
      </p:sp>
      <p:sp>
        <p:nvSpPr>
          <p:cNvPr id="74"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mmon sense – follow the guidelines and rules</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formation release – verbal and printed</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Web site posting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acility access and design</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tc, etc, etc – you know the drill</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ERC CIPC is publishing guidelines for many of these issue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tandards</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ERC currently has interim cyber security standard 1200</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ERC is developing new security standard 1300 – participate</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RCOT has procedures in place for reporting security incidents and for compliance with DHS alert level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0B3B07F-B776-4C41-B838-384268C5FA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ummary</a:t>
            </a:r>
            <a:endParaRPr b="0" lang="en-US" sz="4400" spc="-1" strike="noStrike">
              <a:solidFill>
                <a:srgbClr val="000000"/>
              </a:solidFill>
              <a:latin typeface="Arial"/>
            </a:endParaRPr>
          </a:p>
        </p:txBody>
      </p:sp>
      <p:sp>
        <p:nvSpPr>
          <p:cNvPr id="76"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se activities affect most, if not all, of the market participants in ERCOT</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irectly, through future NERC certification and compliance audit activitie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directly, as stricter stakeholder operating requirements are adopted in ERCOT if needed to achieve compliance with future NERC standard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ll relevant sectors are participating in the NERC and NAESB activiti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EPSA</a:t>
            </a: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APP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NRECA</a:t>
            </a: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EE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NARUC</a:t>
            </a: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Consumer Organization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articipa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3E5CABC-D33C-4061-AA11-E9BB2B5B16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0" lang="en-US" sz="4400" spc="-1" strike="noStrike">
              <a:solidFill>
                <a:srgbClr val="000000"/>
              </a:solidFill>
              <a:latin typeface="Arial"/>
            </a:endParaRPr>
          </a:p>
        </p:txBody>
      </p:sp>
      <p:sp>
        <p:nvSpPr>
          <p:cNvPr id="78" name=""/>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79" name=""/>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2" name="PlaceHolder 1"/>
          <p:cNvSpPr>
            <a:spLocks noGrp="1"/>
          </p:cNvSpPr>
          <p:nvPr>
            <p:ph type="sldNum" idx="3"/>
          </p:nvPr>
        </p:nvSpPr>
        <p:spPr/>
        <p:txBody>
          <a:bodyPr/>
          <a:p>
            <a:fld id="{28E85678-61C0-4B6A-B633-B9D494E8D9E7}"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roduction</a:t>
            </a:r>
            <a:endParaRPr b="0" lang="en-US" sz="4400" spc="-1" strike="noStrike">
              <a:solidFill>
                <a:srgbClr val="000000"/>
              </a:solidFill>
              <a:latin typeface="Arial"/>
            </a:endParaRPr>
          </a:p>
        </p:txBody>
      </p:sp>
      <p:sp>
        <p:nvSpPr>
          <p:cNvPr id="50"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oday, there is a significant amount of change occurring in the North American electric utility industry. This presentation is intended to acquaint the seminar attendees with an overview of these activities. These activities are largely a result of:</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volving competitive energy markets</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aftermath of 9/11</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Northeast blackout of August, 2003</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egulatory activitie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26B602A-5422-4265-A0A2-2E64596E32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Definitions</a:t>
            </a:r>
            <a:endParaRPr b="0" lang="en-US" sz="4400" spc="-1" strike="noStrike">
              <a:solidFill>
                <a:srgbClr val="000000"/>
              </a:solidFill>
              <a:latin typeface="Arial"/>
            </a:endParaRPr>
          </a:p>
        </p:txBody>
      </p:sp>
      <p:sp>
        <p:nvSpPr>
          <p:cNvPr id="52"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AESB – North American Energy Standards Board – formed in 2003 as an outgrowth of the Gas Industry Standards Board to be the entity that develops business standards for the gas and electric utility industr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ERC – North American Electric Reliability Council – formed in 1968, following the first Northeast blackout, as the industry organization to oversee reliability in North America – is now the organization charged with developing the bulk electric industry reliability standard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RO – Regional Reliability Organization – the Regional Reliability Councils within NERC – ERCOT is an RRO</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273D874-7CF3-4F64-A2F0-CE3E4E36AC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Definitions</a:t>
            </a:r>
            <a:endParaRPr b="0" lang="en-US" sz="4400" spc="-1" strike="noStrike">
              <a:solidFill>
                <a:srgbClr val="000000"/>
              </a:solidFill>
              <a:latin typeface="Arial"/>
            </a:endParaRPr>
          </a:p>
        </p:txBody>
      </p:sp>
      <p:sp>
        <p:nvSpPr>
          <p:cNvPr id="54"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JIC – Joint Interface Committee – the committee that decides what is a reliability issue, what is a business issue and what is an ISO market issu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RC – the ISO/RTO Council – an organization of ISOs and RTOs – ERCOT is a member</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5544204-97B3-4F27-BC7B-9734BD12B3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ERC – NAESB- IRC</a:t>
            </a:r>
            <a:endParaRPr b="0" lang="en-US" sz="3200" spc="-1" strike="noStrike">
              <a:solidFill>
                <a:srgbClr val="000000"/>
              </a:solidFill>
              <a:latin typeface="Arial"/>
            </a:endParaRPr>
          </a:p>
        </p:txBody>
      </p:sp>
      <p:sp>
        <p:nvSpPr>
          <p:cNvPr id="56"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legacy NERC operating policies contained both reliability and business rules</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se policies are now being divided into reliability, business and market issues to be addressed by the appropriate forum</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JIC is charged with assigning the issues to the proper, responsible entity</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ISOs and RTOs have a sector in NERC but not in NAESB, but participate actively on the JIC</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43BD9FF-91BA-4929-B65D-F1C094B19E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AESB Activities</a:t>
            </a:r>
            <a:endParaRPr b="0" lang="en-US" sz="3200" spc="-1" strike="noStrike">
              <a:solidFill>
                <a:srgbClr val="000000"/>
              </a:solidFill>
              <a:latin typeface="Arial"/>
            </a:endParaRPr>
          </a:p>
        </p:txBody>
      </p:sp>
      <p:sp>
        <p:nvSpPr>
          <p:cNvPr id="58"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AESB is beginning to develop business standards and file them with FERC</a:t>
            </a:r>
            <a:endParaRPr b="0" lang="en-US" sz="2400" spc="-1" strike="noStrike">
              <a:solidFill>
                <a:srgbClr val="000000"/>
              </a:solidFill>
              <a:latin typeface="Arial"/>
            </a:endParaRPr>
          </a:p>
          <a:p>
            <a:pPr lvl="1" marL="743040" indent="-28584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Coordinate interchange</a:t>
            </a:r>
            <a:endParaRPr b="0" lang="en-US" sz="1800" spc="-1" strike="noStrike">
              <a:solidFill>
                <a:srgbClr val="000000"/>
              </a:solidFill>
              <a:latin typeface="Arial"/>
            </a:endParaRPr>
          </a:p>
          <a:p>
            <a:pPr lvl="1" marL="743040" indent="-28584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tandard electric trading day – trying to merge with the standard gas trading day</a:t>
            </a:r>
            <a:endParaRPr b="0" lang="en-US" sz="1800" spc="-1" strike="noStrike">
              <a:solidFill>
                <a:srgbClr val="000000"/>
              </a:solidFill>
              <a:latin typeface="Arial"/>
            </a:endParaRPr>
          </a:p>
          <a:p>
            <a:pPr lvl="1" marL="743040" indent="-28584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ransmission loading relief business practices</a:t>
            </a:r>
            <a:endParaRPr b="0" lang="en-US" sz="1800" spc="-1" strike="noStrike">
              <a:solidFill>
                <a:srgbClr val="000000"/>
              </a:solidFill>
              <a:latin typeface="Arial"/>
            </a:endParaRPr>
          </a:p>
          <a:p>
            <a:pPr lvl="1" marL="743040" indent="-28584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OASIS 2</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Very few of these are applicable to ERCOT due to our current market model, but we have to participate to see that we do not get incorrectly “included” in the standard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se standards are being filed with FERC and it would be hard for ERCOT to revise its protocols if they are captured in this process and filed as FERC approved standard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E4EA4170-72FB-4191-BC84-D3EE09E6A1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ERC Is Also Developing Standards</a:t>
            </a:r>
            <a:endParaRPr b="0" lang="en-US" sz="3200" spc="-1" strike="noStrike">
              <a:solidFill>
                <a:srgbClr val="000000"/>
              </a:solidFill>
              <a:latin typeface="Arial"/>
            </a:endParaRPr>
          </a:p>
        </p:txBody>
      </p:sp>
      <p:sp>
        <p:nvSpPr>
          <p:cNvPr id="60"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bout three years ago the industry believed that federal legislation was about to be passed making compliance with reliability rules mandatory and enforceable</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ERC realized that its operating policies in affect at the time were not sufficient to support mandatory enforcement</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n ANSI approved process was established to provide for development of industry accepted reliability standards</a:t>
            </a:r>
            <a:endParaRPr b="0" lang="en-US" sz="2000" spc="-1" strike="noStrike">
              <a:solidFill>
                <a:srgbClr val="000000"/>
              </a:solidFill>
              <a:latin typeface="Arial"/>
            </a:endParaRPr>
          </a:p>
          <a:p>
            <a:pPr lvl="2" marL="1131480" indent="-22608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tandard Authorizations Requests – SARs can be submitted by anyone</a:t>
            </a:r>
            <a:endParaRPr b="0" lang="en-US" sz="1800" spc="-1" strike="noStrike">
              <a:solidFill>
                <a:srgbClr val="000000"/>
              </a:solidFill>
              <a:latin typeface="Arial"/>
            </a:endParaRPr>
          </a:p>
          <a:p>
            <a:pPr lvl="2" marL="1131480" indent="-22608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tandard drafting teams then draft standards based on the approved SARs</a:t>
            </a:r>
            <a:endParaRPr b="0" lang="en-US" sz="1800" spc="-1" strike="noStrike">
              <a:solidFill>
                <a:srgbClr val="000000"/>
              </a:solidFill>
              <a:latin typeface="Arial"/>
            </a:endParaRPr>
          </a:p>
          <a:p>
            <a:pPr lvl="2" marL="1131480" indent="-22608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Many important standards are now under development</a:t>
            </a:r>
            <a:endParaRPr b="0" lang="en-US" sz="1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t is important for all of industry to participate  - www. nerc.com – click on the standards development process and join the ballot body</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FDBE202-D74B-48F5-B34C-F2D1BF5579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3520" y="30492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Example Of Mandatory Compliance</a:t>
            </a:r>
            <a:endParaRPr b="0" lang="en-US" sz="3200" spc="-1" strike="noStrike">
              <a:solidFill>
                <a:srgbClr val="000000"/>
              </a:solidFill>
              <a:latin typeface="Arial"/>
            </a:endParaRPr>
          </a:p>
        </p:txBody>
      </p:sp>
      <p:sp>
        <p:nvSpPr>
          <p:cNvPr id="62" name=""/>
          <p:cNvSpPr/>
          <p:nvPr/>
        </p:nvSpPr>
        <p:spPr>
          <a:xfrm>
            <a:off x="533520" y="1219320"/>
            <a:ext cx="8229600" cy="49370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ERC DCS requires a Control Area to recover ACE following a credible contingency within 15 minutes</a:t>
            </a:r>
            <a:endParaRPr b="0" lang="en-US" sz="2000" spc="-1" strike="noStrike">
              <a:solidFill>
                <a:srgbClr val="000000"/>
              </a:solidFill>
              <a:latin typeface="Arial"/>
            </a:endParaRPr>
          </a:p>
          <a:p>
            <a:pPr lvl="1" marL="727920" indent="-280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ugust 18, 2004, ERCOT experienced a credible contingency generation loss</a:t>
            </a:r>
            <a:endParaRPr b="0" lang="en-US" sz="2000" spc="-1" strike="noStrike">
              <a:solidFill>
                <a:srgbClr val="000000"/>
              </a:solidFill>
              <a:latin typeface="Arial"/>
            </a:endParaRPr>
          </a:p>
          <a:p>
            <a:pPr lvl="1" marL="727920" indent="-280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frequency/ICE was not recovered within 15 minutes</a:t>
            </a:r>
            <a:endParaRPr b="0" lang="en-US" sz="2000" spc="-1" strike="noStrike">
              <a:solidFill>
                <a:srgbClr val="000000"/>
              </a:solidFill>
              <a:latin typeface="Arial"/>
            </a:endParaRPr>
          </a:p>
          <a:p>
            <a:pPr lvl="2" marL="1119960" indent="-22392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Later, it was determined that the protocols do not address DCS</a:t>
            </a:r>
            <a:endParaRPr b="0" lang="en-US" sz="1800" spc="-1" strike="noStrike">
              <a:solidFill>
                <a:srgbClr val="000000"/>
              </a:solidFill>
              <a:latin typeface="Arial"/>
            </a:endParaRPr>
          </a:p>
          <a:p>
            <a:pPr lvl="2" marL="1119960" indent="-22392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n operational fix was put in place to address future DCS response</a:t>
            </a:r>
            <a:endParaRPr b="0" lang="en-US" sz="1800" spc="-1" strike="noStrike">
              <a:solidFill>
                <a:srgbClr val="000000"/>
              </a:solidFill>
              <a:latin typeface="Arial"/>
            </a:endParaRPr>
          </a:p>
          <a:p>
            <a:pPr lvl="1" marL="727920" indent="-280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NERC compliance enforcement program assesses a penalty for failing to meet DCS requirements – increased operating reserves</a:t>
            </a:r>
            <a:endParaRPr b="0" lang="en-US" sz="2000" spc="-1" strike="noStrike">
              <a:solidFill>
                <a:srgbClr val="000000"/>
              </a:solidFill>
              <a:latin typeface="Arial"/>
            </a:endParaRPr>
          </a:p>
          <a:p>
            <a:pPr lvl="1" marL="727920" indent="-280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espite ERCOT’s appeal that the event was not a result of insufficient operating reserves, the penalty was invoked by NERC – potentially a &gt; $ 4 Million dollar penalty</a:t>
            </a:r>
            <a:endParaRPr b="0" lang="en-US" sz="2000" spc="-1" strike="noStrike">
              <a:solidFill>
                <a:srgbClr val="000000"/>
              </a:solidFill>
              <a:latin typeface="Arial"/>
            </a:endParaRPr>
          </a:p>
          <a:p>
            <a:pPr lvl="1" marL="727920" indent="-280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rtunately, ERCOT was already in compliance with the requirement due to its long standing reserve requiremen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516F4A3-0F14-4861-971B-E189DD4BF1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3520" y="30492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ERC Version 0 Standards</a:t>
            </a:r>
            <a:endParaRPr b="0" lang="en-US" sz="3200" spc="-1" strike="noStrike">
              <a:solidFill>
                <a:srgbClr val="000000"/>
              </a:solidFill>
              <a:latin typeface="Arial"/>
            </a:endParaRPr>
          </a:p>
        </p:txBody>
      </p:sp>
      <p:sp>
        <p:nvSpPr>
          <p:cNvPr id="64"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NERC standard development process is slo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ollowing the investigation of the “03 Northeast blackout, FERC observed that the existing NERC Operating Policies were insufficient for reliability enforcement</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ERC conducted a one time, mass transition of the operating policies to the new standard format and labeled them as the Version 0, or baseline standards. The ANSI process was used</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ballot body approved the draft standard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NERC Board approved the Version 0 Standards at their February meeting and they are in effect.</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ERCOT Compliance Group will use them for future compliance determinat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830DB66-427E-4F98-AD2F-2C17E5E8C0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vweldon</cp:lastModifiedBy>
  <dcterms:modified xsi:type="dcterms:W3CDTF">2005-03-17T23:15:34Z</dcterms:modified>
  <cp:revision>19</cp:revision>
  <dc:subject/>
  <dc:title>Slide 1</dc:title>
</cp:coreProperties>
</file>