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1440-DBCB-4B11-8B8E-D1CE3F095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7D5C-C325-4D6D-9F68-762556AAA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AA42-4CDF-4698-86E7-0716722D5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5234-5541-49FE-A0B2-C5B1C4CBF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18C5-1B0F-4ABD-A12B-14D35BF53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7CF5-37BE-4D22-A19C-973C3CCB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825E-45EE-4DE5-9080-F53FA9548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EDF9-8948-4884-A4F5-016653998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D72E-6136-4559-AD3D-1BF9BDD51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E732-9F70-4E4B-9360-BC1E51A5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CB32-8783-4A20-94FE-1882EC1B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B941-7526-4AF9-8E8F-70EA68EA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93208-16E7-4583-B609-8FD56493E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5440" y="87480"/>
            <a:ext cx="9043920" cy="6701760"/>
            <a:chOff x="55440" y="87480"/>
            <a:chExt cx="9043920" cy="6701760"/>
          </a:xfrm>
        </p:grpSpPr>
        <p:sp>
          <p:nvSpPr>
            <p:cNvPr id="6" name=""/>
            <p:cNvSpPr/>
            <p:nvPr/>
          </p:nvSpPr>
          <p:spPr>
            <a:xfrm>
              <a:off x="139320" y="87480"/>
              <a:ext cx="8873280" cy="6701760"/>
            </a:xfrm>
            <a:prstGeom prst="rect">
              <a:avLst/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5440" y="176040"/>
              <a:ext cx="9043920" cy="6528240"/>
            </a:xfrm>
            <a:prstGeom prst="rect">
              <a:avLst/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98640" y="131760"/>
              <a:ext cx="8957160" cy="661680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"/>
          <p:cNvSpPr/>
          <p:nvPr/>
        </p:nvSpPr>
        <p:spPr>
          <a:xfrm>
            <a:off x="3940200" y="6281640"/>
            <a:ext cx="12193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4038480" y="6346800"/>
            <a:ext cx="990720" cy="449280"/>
          </a:xfrm>
          <a:prstGeom prst="rect">
            <a:avLst/>
          </a:prstGeom>
          <a:ln w="0">
            <a:noFill/>
          </a:ln>
        </p:spPr>
      </p:pic>
      <p:sp>
        <p:nvSpPr>
          <p:cNvPr id="11" name=""/>
          <p:cNvSpPr/>
          <p:nvPr/>
        </p:nvSpPr>
        <p:spPr>
          <a:xfrm>
            <a:off x="4572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457200" y="62485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62120" y="21337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Black Start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47920" y="38894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Ricson Chai / Frank Ow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320" y="304920"/>
            <a:ext cx="8991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2005 Annual Operations Semin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32F8-2DC8-495D-8174-36144752341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520" y="3049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Black Start Unit 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219320" y="1219320"/>
          <a:ext cx="6672240" cy="4903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219320"/>
                    <a:ext cx="6672240" cy="4903560"/>
                  </a:xfrm>
                  <a:prstGeom prst="rect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DB3B-B6B5-4412-A970-F4B5105F0AE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33520" y="3049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Black Start Unit 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57200" y="1066680"/>
          <a:ext cx="2977920" cy="5024160"/>
        </p:xfrm>
        <a:graphic>
          <a:graphicData uri="http://schemas.openxmlformats.org/drawingml/2006/table">
            <a:tbl>
              <a:tblPr/>
              <a:tblGrid>
                <a:gridCol w="1238040"/>
                <a:gridCol w="1739880"/>
              </a:tblGrid>
              <a:tr h="255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Preferred S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Plant #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DECK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Plant #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ATKI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Plant #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MC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Plant #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SPNC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Plant # 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STE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Plant # 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BUCH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Plant # 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WFCOG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Plant # 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FLC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Plant # 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AMIST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Plant # 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FALC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Plant # 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RAYBUR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Plant # 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SR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Plant # 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TH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Plant #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WA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Plant # 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SC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MW Pick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55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Restoration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46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Co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$6,191,830.8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3505320" y="1143000"/>
            <a:ext cx="5181480" cy="50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6666"/>
                </a:solidFill>
                <a:latin typeface="Times New Roman"/>
              </a:rPr>
              <a:t>This group selection has met the first criteria but it has not met the second and third criteria, they ar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Simulated restoration of 55000 MW within 48 ho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Expected restoration off-site power to nuclear units within 8 ho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Proximity of Black Start units to major load cen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52480" y="5791320"/>
            <a:ext cx="1676520" cy="30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A956-7226-4C61-B0BC-C812E44A5E6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209680" y="1219320"/>
            <a:ext cx="4114800" cy="4724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124080" y="1676520"/>
            <a:ext cx="3048120" cy="144756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3049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Black Start Unit 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B2E7-2EED-41BD-A60D-9FDE2BC33F4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990720"/>
            <a:ext cx="769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imes New Roman"/>
              </a:rPr>
              <a:t>Two Black Start plants closest to the Comanche Peak are Decordova and Lake Cre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600200" y="2743200"/>
          <a:ext cx="5943600" cy="733320"/>
        </p:xfrm>
        <a:graphic>
          <a:graphicData uri="http://schemas.openxmlformats.org/drawingml/2006/table">
            <a:tbl>
              <a:tblPr/>
              <a:tblGrid>
                <a:gridCol w="988920"/>
                <a:gridCol w="1158840"/>
                <a:gridCol w="1084320"/>
                <a:gridCol w="1305000"/>
                <a:gridCol w="140652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Pla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Black Start M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Next-Start M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Hot Start-up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Cold Start-up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Decord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8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0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0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Lake Cree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2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533520" y="3049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Black Start Unit 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C39E-CBDC-4FE6-83FF-FE05469AB5A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2133720" y="1228680"/>
          <a:ext cx="4120920" cy="4867200"/>
        </p:xfrm>
        <a:graphic>
          <a:graphicData uri="http://schemas.openxmlformats.org/drawingml/2006/table">
            <a:tbl>
              <a:tblPr/>
              <a:tblGrid>
                <a:gridCol w="1565280"/>
                <a:gridCol w="1277640"/>
                <a:gridCol w="127800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ffffcc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Initial Sel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ffffcc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Final Sel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cc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Plant #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DECK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DECK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Plant #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ATKI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ATKI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Plant #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MC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MC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Plant #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SPNC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SPNC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Plant # 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STE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STE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Plant # 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BUCH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BUCH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Plant # 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WFCOG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WFCOG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Plant # 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FLC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FLC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Plant # 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AMIST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AMIST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Plant # 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FALC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FALC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Plant # 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RAYBUR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RAYBUR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Plant # 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SR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SR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Plant # 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TH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TH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Plant #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WA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WA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Plant # 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SC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SC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Plant # 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DC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MW Pick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55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551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Restoration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46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43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Co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$6,191,830.8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$6,936,430.8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533520" y="3049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Black Start Unit 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33920" y="5791320"/>
            <a:ext cx="2514600" cy="30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A35F-0AF6-4E27-AE8F-5C698E5E501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33520" y="3049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2005 Black Start 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286000" y="1066680"/>
            <a:ext cx="4378320" cy="5029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7E26-A96E-4D83-B95C-1E023EFFD99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990720"/>
            <a:ext cx="8077320" cy="33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imes New Roman"/>
              </a:rPr>
              <a:t>Test Cri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60000"/>
              </a:lnSpc>
              <a:spcBef>
                <a:spcPts val="20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imes New Roman"/>
              </a:rPr>
              <a:t>Basic Start-up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60000"/>
              </a:lnSpc>
              <a:spcBef>
                <a:spcPts val="20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imes New Roman"/>
              </a:rPr>
              <a:t>Line Energizing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60000"/>
              </a:lnSpc>
              <a:spcBef>
                <a:spcPts val="20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imes New Roman"/>
              </a:rPr>
              <a:t>Load Carrying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60000"/>
              </a:lnSpc>
              <a:spcBef>
                <a:spcPts val="20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imes New Roman"/>
              </a:rPr>
              <a:t>Start-up the largest motor at the next-sta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6666"/>
                </a:solidFill>
                <a:latin typeface="Times New Roman"/>
              </a:rPr>
              <a:t>plant or simulate the scenario. (200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3049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2005 Black Start 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430D-F0AA-463E-9063-0BDA9D09689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3520" y="3049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2005 Black Start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990720"/>
            <a:ext cx="8229600" cy="51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In the event of a major system disturbance it is necessary to have procedures in place to cope with events and restore the system to normal state as quickly as possibl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RCOT Black Start Plan incorporates restoration effort in case of partial or complete collapse of electric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AEAC-E590-4194-A718-509ADA841F4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33520" y="3049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2005 Black Start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990720"/>
            <a:ext cx="8229600" cy="51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What is in the Black Start Pl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333399"/>
              </a:buClr>
              <a:buSzPct val="12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Black Start map and transmission corrid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333399"/>
              </a:buClr>
              <a:buSzPct val="12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Princ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333399"/>
              </a:buClr>
              <a:buSzPct val="12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333399"/>
              </a:buClr>
              <a:buSzPct val="12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Pri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333399"/>
              </a:buClr>
              <a:buSzPct val="12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Responsi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ERC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Q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0D9E-349A-42F8-8DBB-D6633D39091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3520" y="3049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Black Start Plan - Princi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990720"/>
            <a:ext cx="8229600" cy="51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ontracted Black Start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Local TO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333399"/>
              </a:buClr>
              <a:buSzPct val="12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Primary/secondary transmission corrid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333399"/>
              </a:buClr>
              <a:buSzPct val="12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Designated synchronization points, primary and altern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Mutual assistance and co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Restore the power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2463-3B55-4F27-9042-CC24E144C00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3049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990720"/>
            <a:ext cx="8381880" cy="51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What is this plan all 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What are the Black Start Servic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What are the Black Start un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How do we select these Black Start un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How do we use them in the restoration proc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What shall I do during the restoration proc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And what are my responsibil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FD98-D280-44C4-8BDD-E3CCE3FEDE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1523880" y="2286000"/>
            <a:ext cx="6117120" cy="3209400"/>
            <a:chOff x="1523880" y="2286000"/>
            <a:chExt cx="6117120" cy="3209400"/>
          </a:xfrm>
        </p:grpSpPr>
        <p:sp>
          <p:nvSpPr>
            <p:cNvPr id="95" name=""/>
            <p:cNvSpPr/>
            <p:nvPr/>
          </p:nvSpPr>
          <p:spPr>
            <a:xfrm>
              <a:off x="3085920" y="4219560"/>
              <a:ext cx="34272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95640" y="2866680"/>
              <a:ext cx="34272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353200" y="3895920"/>
              <a:ext cx="34272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67120" y="2409480"/>
              <a:ext cx="34272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238720" y="4581360"/>
              <a:ext cx="3427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23760" y="2866680"/>
              <a:ext cx="34272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52920" y="4924440"/>
              <a:ext cx="34272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638520" y="4810320"/>
              <a:ext cx="34272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495160" y="3895920"/>
              <a:ext cx="34272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409560" y="4467240"/>
              <a:ext cx="45720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04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647800" y="4638600"/>
              <a:ext cx="84780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exas A&amp;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076640" y="4971960"/>
              <a:ext cx="4572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03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781520" y="5267160"/>
              <a:ext cx="45720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05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95960" y="5114880"/>
              <a:ext cx="94284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reens Prairi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066840" y="3667320"/>
              <a:ext cx="4572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900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209320" y="3247560"/>
              <a:ext cx="45720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0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95960" y="2904840"/>
              <a:ext cx="4572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03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162400" y="4905360"/>
              <a:ext cx="4572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04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67240" y="2714400"/>
              <a:ext cx="4572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05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896080" y="3619800"/>
              <a:ext cx="45720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07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181320" y="3962520"/>
              <a:ext cx="114120" cy="1141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24040" y="3747960"/>
              <a:ext cx="228600" cy="22824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66840" y="3438720"/>
              <a:ext cx="114300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Atki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496200" y="3781440"/>
              <a:ext cx="102852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Houston Isla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5569920" y="2337840"/>
              <a:ext cx="2071080" cy="2070000"/>
              <a:chOff x="5569920" y="2337840"/>
              <a:chExt cx="2071080" cy="2070000"/>
            </a:xfrm>
          </p:grpSpPr>
          <p:sp>
            <p:nvSpPr>
              <p:cNvPr id="120" name=""/>
              <p:cNvSpPr/>
              <p:nvPr/>
            </p:nvSpPr>
            <p:spPr>
              <a:xfrm flipH="1" flipV="1" rot="21107400">
                <a:off x="5691240" y="2458800"/>
                <a:ext cx="1828080" cy="1827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 flipV="1" rot="4908000">
                <a:off x="5691240" y="2458080"/>
                <a:ext cx="1827360" cy="182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4143240" y="2286000"/>
              <a:ext cx="102852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eephollo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52440" y="4238640"/>
              <a:ext cx="91440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exas A&amp;M Switc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752640" y="4547880"/>
              <a:ext cx="119988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outh Switch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153120" y="3323880"/>
              <a:ext cx="114120" cy="1141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23880" y="3476880"/>
              <a:ext cx="79992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nsb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10320" y="3209400"/>
              <a:ext cx="10285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Gibbons Cree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267600" y="3323880"/>
              <a:ext cx="114120" cy="1141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228400" y="3572280"/>
              <a:ext cx="114120" cy="1141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66840" y="4010400"/>
              <a:ext cx="114120" cy="1141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3295440" y="3895920"/>
              <a:ext cx="228240" cy="1141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71760" y="3876840"/>
              <a:ext cx="114120" cy="11412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95360" y="2286000"/>
              <a:ext cx="3772080" cy="1942560"/>
            </a:xfrm>
            <a:custGeom>
              <a:avLst/>
              <a:gdLst/>
              <a:ahLst/>
              <a:rect l="l" t="t" r="r" b="b"/>
              <a:pathLst>
                <a:path w="5940" h="3060">
                  <a:moveTo>
                    <a:pt x="1260" y="2880"/>
                  </a:moveTo>
                  <a:lnTo>
                    <a:pt x="900" y="3060"/>
                  </a:lnTo>
                  <a:lnTo>
                    <a:pt x="360" y="2880"/>
                  </a:lnTo>
                  <a:lnTo>
                    <a:pt x="0" y="2160"/>
                  </a:lnTo>
                  <a:lnTo>
                    <a:pt x="2520" y="0"/>
                  </a:lnTo>
                  <a:lnTo>
                    <a:pt x="5940" y="180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38240" y="4172040"/>
              <a:ext cx="114120" cy="1141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428560" y="3438720"/>
              <a:ext cx="114120" cy="11412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438440" y="2523960"/>
              <a:ext cx="114120" cy="1141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81720" y="3285720"/>
              <a:ext cx="228240" cy="228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381720" y="2638080"/>
              <a:ext cx="125712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Stryker Creek Isla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67400" y="2638080"/>
              <a:ext cx="114120" cy="11412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15200" y="3104640"/>
              <a:ext cx="114120" cy="11412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952360" y="3553200"/>
              <a:ext cx="3086280" cy="1713960"/>
            </a:xfrm>
            <a:custGeom>
              <a:avLst/>
              <a:gdLst/>
              <a:ahLst/>
              <a:rect l="l" t="t" r="r" b="b"/>
              <a:pathLst>
                <a:path w="4860" h="2700">
                  <a:moveTo>
                    <a:pt x="0" y="1080"/>
                  </a:moveTo>
                  <a:lnTo>
                    <a:pt x="720" y="1620"/>
                  </a:lnTo>
                  <a:lnTo>
                    <a:pt x="1620" y="2160"/>
                  </a:lnTo>
                  <a:lnTo>
                    <a:pt x="1980" y="1980"/>
                  </a:lnTo>
                  <a:lnTo>
                    <a:pt x="2700" y="2700"/>
                  </a:lnTo>
                  <a:lnTo>
                    <a:pt x="3060" y="2520"/>
                  </a:lnTo>
                  <a:lnTo>
                    <a:pt x="3600" y="2700"/>
                  </a:lnTo>
                  <a:lnTo>
                    <a:pt x="3780" y="2520"/>
                  </a:lnTo>
                  <a:lnTo>
                    <a:pt x="3240" y="2340"/>
                  </a:lnTo>
                  <a:lnTo>
                    <a:pt x="4860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5810400" y="3209400"/>
              <a:ext cx="342720" cy="351720"/>
              <a:chOff x="5810400" y="3209400"/>
              <a:chExt cx="342720" cy="351720"/>
            </a:xfrm>
          </p:grpSpPr>
          <p:sp>
            <p:nvSpPr>
              <p:cNvPr id="143" name=""/>
              <p:cNvSpPr/>
              <p:nvPr/>
            </p:nvSpPr>
            <p:spPr>
              <a:xfrm>
                <a:off x="5810400" y="3218760"/>
                <a:ext cx="342720" cy="3423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V="1">
                <a:off x="5972040" y="3209400"/>
                <a:ext cx="0" cy="228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3390840" y="4552920"/>
              <a:ext cx="114120" cy="1141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571560" y="4657680"/>
              <a:ext cx="114120" cy="11412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62320" y="4743360"/>
              <a:ext cx="114120" cy="1141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295520" y="4886280"/>
              <a:ext cx="114120" cy="11412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238720" y="5153040"/>
              <a:ext cx="114120" cy="1141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33960" y="5000760"/>
              <a:ext cx="114120" cy="11412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019480" y="5191200"/>
              <a:ext cx="114120" cy="11412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57920" y="3667320"/>
              <a:ext cx="114120" cy="11412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533520" y="3049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Black Start Plan - Princi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9907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Example of Transmission Corri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7D28-C6B5-4CFE-A438-4387EDA158E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533520" y="3049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Black Start Plan - Princi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990720"/>
            <a:ext cx="8305560" cy="51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ach contracted Black Start Plant and TO will have an internal Black Star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Plans identify Black Start units, primary and secondary Next-Start units, stabilizing loads, primary and secondary transmission corridors and synch points between isl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The power system, not customers, is the principle focus during the restoration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E1F9-CB78-4CAE-8E25-E97DF5201DF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533520" y="3049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Black Start Plan -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990720"/>
            <a:ext cx="8229600" cy="51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It is ERCOT’s opinion that all necessary information shared with affiliates for the restoration process is an allowed corporate support service under the provisions of PUCT rule 25.27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In the event of total ERCOT blackout, the market is suspen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39 contracted Black Start resour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16 Black Start sites/isl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892F-AFC8-454B-8B96-D58AED88C3D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3520" y="3049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Black Start Plan -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990720"/>
            <a:ext cx="8229600" cy="51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The initial 16 islands will be built and maintained solely under the direction of the TOs as outlined in the TO Black Start Pl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The TOs will be responsible for maintaining the appropriate voltage levels and reactive contro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The TOs should periodically update ERCOT on the status of the islands during the restoration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6A44-00F0-4D33-BFB5-0C881A97A36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533520" y="3049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Black Start Plan -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990720"/>
            <a:ext cx="8229600" cy="51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These updates should coincide with the following ev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333399"/>
              </a:buClr>
              <a:buSzPct val="12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 Black Start unit is brought on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333399"/>
              </a:buClr>
              <a:buSzPct val="12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ny additional unit that is brought on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333399"/>
              </a:buClr>
              <a:buSzPct val="12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 designated synchronization point between islands is reach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333399"/>
              </a:buClr>
              <a:buSzPct val="12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The TO needs to energize a piece of equipment that belongs to another 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333399"/>
              </a:buClr>
              <a:buSzPct val="12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ny time a collapse or regression occurs in the restoration pro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AC61-E4C7-44F2-9AD3-0E3F494CFBF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533520" y="3049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Black Start Plan - Pri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990720"/>
            <a:ext cx="8229600" cy="51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Determine system condi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333399"/>
              </a:buClr>
              <a:buSzPct val="12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Restore and maintain commun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333399"/>
              </a:buClr>
              <a:buSzPct val="12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Reliable communication will be the key to a safe and timely resto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If the primary communication is down, the backup system will be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Transmission corridors prepared to support resto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ecure and stabilize generating pla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0846-3472-4A21-83F2-003840B926D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533520" y="3049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Black Start Plan - Pri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3520" y="9907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450720" indent="-450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ommunication path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2960" indent="-39456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2960" indent="-39456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62520" y="1828800"/>
            <a:ext cx="1143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3505320"/>
            <a:ext cx="1143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81280" y="3505320"/>
            <a:ext cx="1143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5105520"/>
            <a:ext cx="1143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G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620120" y="3505320"/>
            <a:ext cx="1143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438280" y="5105520"/>
            <a:ext cx="1143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G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3505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23880" y="5105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1980720" y="2209680"/>
            <a:ext cx="2210040" cy="1295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190760" y="2209680"/>
            <a:ext cx="228600" cy="1295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00600" y="2209680"/>
            <a:ext cx="3505320" cy="1295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590560" y="3657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85440" y="3886200"/>
            <a:ext cx="1143000" cy="1219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09680" y="3886200"/>
            <a:ext cx="838440" cy="1219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67E3-D4E8-4AE0-B2DC-ED3748F9789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533520" y="3049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Black Start Plan - Pri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3520" y="990720"/>
            <a:ext cx="8229600" cy="51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ontracted Black Start units will immediately bring their units on 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Designated TOs will begin building islands to reach designated synch poi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ritical load prior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spcBef>
                <a:spcPts val="700"/>
              </a:spcBef>
              <a:buClr>
                <a:srgbClr val="333399"/>
              </a:buClr>
              <a:buSzPct val="12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Nuclear generating facil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spcBef>
                <a:spcPts val="700"/>
              </a:spcBef>
              <a:buClr>
                <a:srgbClr val="333399"/>
              </a:buClr>
              <a:buSzPct val="12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Other generating un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spcBef>
                <a:spcPts val="700"/>
              </a:spcBef>
              <a:buClr>
                <a:srgbClr val="333399"/>
              </a:buClr>
              <a:buSzPct val="12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ERC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spcBef>
                <a:spcPts val="700"/>
              </a:spcBef>
              <a:buClr>
                <a:srgbClr val="333399"/>
              </a:buClr>
              <a:buSzPct val="12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Military and law enforcement facil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spcBef>
                <a:spcPts val="700"/>
              </a:spcBef>
              <a:buClr>
                <a:srgbClr val="333399"/>
              </a:buClr>
              <a:buSzPct val="12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Public health and communication facil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F27F-AB48-4A54-A24B-52086E8C17C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457200" y="3049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Responsibilities - ERC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990720"/>
            <a:ext cx="8229600" cy="51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Maintain surveillance of ERCOT system stat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entral information collection and dissemination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oordinate reconnection of transmi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Direct the connection of separated isl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Direct assistance for QSEs, TOs, PGCs, and market Particpa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D081-5A2F-4047-AB5B-49164D96658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57200" y="3049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Responsibilities - 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990720"/>
            <a:ext cx="8610480" cy="51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Provide necessary personnel to assure capability of Black Start Plan resto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oordinate communications for local Black Start un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oordinate switching to Next Start units and local lo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Act as a regional ERCOT representative in coordinating inter-connections of un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Follow the direction of ERCOT for reconnection of isl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FE63-BD83-458B-A30D-D226011FCF5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3049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990720"/>
            <a:ext cx="8381880" cy="51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At the completion of this course you wi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Recognize the criteria used to select and qualify Black Start un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Identify your roles as a market participant during the restoration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12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Princ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12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12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Pri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12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Responsi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Power System Concep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D8EB-0E68-48B6-9244-7B2E50A73F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57200" y="3049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Responsibilities - Q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990720"/>
            <a:ext cx="8534160" cy="51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Determine fuel options and capability of both Black Start units and Next Start un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upply ERCOT and/or local TO with information on the status of generation facilities that they repres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Follow direction of TO or ERCOT in picking up load and starting Next Start un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Provide assistance as directed by ERCOT or the local 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34AB-7E5A-43CE-AA19-FA4EA39D267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57200" y="3049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Responsibilities - P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3520" y="990720"/>
            <a:ext cx="8534160" cy="51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Black Start sites must first secure and stabilize on site generation that has tripp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ommunicate condition of Black Start/Next Start units to local Q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ommunicate condition of fuel, water, and station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Implement Black Start Plan at the direction of TO/ERC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5D0D-DCD7-480F-BEBF-2B5D20D1608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57200" y="3049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oncepts - Black Start Un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990720"/>
            <a:ext cx="8534160" cy="51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Timing is critic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The coordination problem of re-energizing the grid is complic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Hydro, Combustion Turbines and Thermal Plants are likely Black Start un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enerators have min. and max. load limits and max. ramp rates (MW/minut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The balance of load and generation is very difficult when both are changing rapid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787B-3A20-45F1-982C-BA6945387E9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57200" y="3049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oncepts - Gener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990720"/>
            <a:ext cx="8534160" cy="51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Plant operators will be controlling system frequency during initial stages of resto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AVRs should be placed in service as soon as practical to improve machine sta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AGCs should be placed in automatic position to ensure instantaneous governor response to changes in lo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07C3-3F81-4C3F-95B5-FD1661F5D21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3049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oncepts - Transmission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3520" y="990720"/>
            <a:ext cx="85341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The transmission system itself presents a dynamic reactive lo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Transmission lines are highly capacitive when not loaded and voltages can easily become excess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2133720" y="4495680"/>
            <a:ext cx="4495680" cy="1006560"/>
            <a:chOff x="2133720" y="4495680"/>
            <a:chExt cx="4495680" cy="1006560"/>
          </a:xfrm>
        </p:grpSpPr>
        <p:grpSp>
          <p:nvGrpSpPr>
            <p:cNvPr id="198" name=""/>
            <p:cNvGrpSpPr/>
            <p:nvPr/>
          </p:nvGrpSpPr>
          <p:grpSpPr>
            <a:xfrm>
              <a:off x="2133720" y="4862880"/>
              <a:ext cx="1889280" cy="289080"/>
              <a:chOff x="2133720" y="4862880"/>
              <a:chExt cx="1889280" cy="289080"/>
            </a:xfrm>
          </p:grpSpPr>
          <p:sp>
            <p:nvSpPr>
              <p:cNvPr id="199" name=""/>
              <p:cNvSpPr/>
              <p:nvPr/>
            </p:nvSpPr>
            <p:spPr>
              <a:xfrm>
                <a:off x="2133720" y="4862880"/>
                <a:ext cx="280080" cy="270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771640" y="4864680"/>
                <a:ext cx="0" cy="26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398320" y="5026320"/>
                <a:ext cx="1371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419640" y="4874040"/>
                <a:ext cx="0" cy="26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743280" y="4881960"/>
                <a:ext cx="279720" cy="270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5025960" y="4751280"/>
              <a:ext cx="334440" cy="188280"/>
              <a:chOff x="5025960" y="4751280"/>
              <a:chExt cx="334440" cy="188280"/>
            </a:xfrm>
          </p:grpSpPr>
          <p:sp>
            <p:nvSpPr>
              <p:cNvPr id="205" name=""/>
              <p:cNvSpPr/>
              <p:nvPr/>
            </p:nvSpPr>
            <p:spPr>
              <a:xfrm flipH="1" flipV="1" rot="10800000">
                <a:off x="5158800" y="4750920"/>
                <a:ext cx="201240" cy="188280"/>
              </a:xfrm>
              <a:custGeom>
                <a:avLst/>
                <a:gdLst/>
                <a:ahLst/>
                <a:rect l="l" t="t" r="r" b="b"/>
                <a:pathLst>
                  <a:path w="2304" h="288">
                    <a:moveTo>
                      <a:pt x="0" y="288"/>
                    </a:moveTo>
                    <a:lnTo>
                      <a:pt x="288" y="0"/>
                    </a:lnTo>
                    <a:lnTo>
                      <a:pt x="576" y="288"/>
                    </a:lnTo>
                    <a:lnTo>
                      <a:pt x="864" y="0"/>
                    </a:lnTo>
                    <a:lnTo>
                      <a:pt x="1152" y="288"/>
                    </a:lnTo>
                    <a:lnTo>
                      <a:pt x="1440" y="0"/>
                    </a:lnTo>
                    <a:lnTo>
                      <a:pt x="1728" y="288"/>
                    </a:lnTo>
                    <a:lnTo>
                      <a:pt x="2016" y="0"/>
                    </a:lnTo>
                    <a:lnTo>
                      <a:pt x="2304" y="28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5025960" y="4939200"/>
                <a:ext cx="13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5361480" y="4938840"/>
              <a:ext cx="2872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5654520" y="4812840"/>
              <a:ext cx="357480" cy="218160"/>
              <a:chOff x="5654520" y="4812840"/>
              <a:chExt cx="357480" cy="218160"/>
            </a:xfrm>
          </p:grpSpPr>
          <p:sp>
            <p:nvSpPr>
              <p:cNvPr id="209" name=""/>
              <p:cNvSpPr/>
              <p:nvPr/>
            </p:nvSpPr>
            <p:spPr>
              <a:xfrm>
                <a:off x="5950080" y="4812840"/>
                <a:ext cx="61920" cy="1242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cubicBezTo>
                      <a:pt x="4" y="2"/>
                      <a:pt x="2" y="0"/>
                      <a:pt x="0" y="0"/>
                    </a:cubicBezTo>
                    <a:lnTo>
                      <a:pt x="0" y="0"/>
                    </a:lnTo>
                    <a:cubicBezTo>
                      <a:pt x="2" y="0"/>
                      <a:pt x="4" y="2"/>
                      <a:pt x="4" y="4"/>
                    </a:cubicBezTo>
                    <a:close/>
                    <a:moveTo>
                      <a:pt x="4" y="4"/>
                    </a:move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903280" y="4812840"/>
                <a:ext cx="46440" cy="1242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0"/>
                    </a:moveTo>
                    <a:cubicBezTo>
                      <a:pt x="1" y="0"/>
                      <a:pt x="0" y="2"/>
                      <a:pt x="0" y="4"/>
                    </a:cubicBezTo>
                    <a:lnTo>
                      <a:pt x="0" y="4"/>
                    </a:lnTo>
                    <a:cubicBezTo>
                      <a:pt x="0" y="2"/>
                      <a:pt x="1" y="0"/>
                      <a:pt x="3" y="0"/>
                    </a:cubicBez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903280" y="4937040"/>
                <a:ext cx="14760" cy="9396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cubicBezTo>
                      <a:pt x="0" y="2"/>
                      <a:pt x="0" y="2"/>
                      <a:pt x="1" y="3"/>
                    </a:cubicBezTo>
                    <a:lnTo>
                      <a:pt x="1" y="3"/>
                    </a:lnTo>
                    <a:cubicBezTo>
                      <a:pt x="0" y="2"/>
                      <a:pt x="0" y="2"/>
                      <a:pt x="0" y="0"/>
                    </a:cubicBez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918400" y="4843800"/>
                <a:ext cx="31320" cy="18684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6"/>
                    </a:moveTo>
                    <a:cubicBezTo>
                      <a:pt x="1" y="4"/>
                      <a:pt x="2" y="2"/>
                      <a:pt x="0" y="0"/>
                    </a:cubicBezTo>
                    <a:lnTo>
                      <a:pt x="0" y="0"/>
                    </a:lnTo>
                    <a:cubicBezTo>
                      <a:pt x="2" y="2"/>
                      <a:pt x="1" y="4"/>
                      <a:pt x="0" y="6"/>
                    </a:cubicBezTo>
                    <a:close/>
                    <a:moveTo>
                      <a:pt x="0" y="6"/>
                    </a:move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825880" y="4812840"/>
                <a:ext cx="92160" cy="3096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6" y="1"/>
                    </a:moveTo>
                    <a:cubicBezTo>
                      <a:pt x="4" y="0"/>
                      <a:pt x="2" y="0"/>
                      <a:pt x="0" y="1"/>
                    </a:cubicBezTo>
                    <a:lnTo>
                      <a:pt x="0" y="1"/>
                    </a:lnTo>
                    <a:cubicBezTo>
                      <a:pt x="2" y="0"/>
                      <a:pt x="4" y="0"/>
                      <a:pt x="6" y="1"/>
                    </a:cubicBezTo>
                    <a:close/>
                    <a:moveTo>
                      <a:pt x="6" y="1"/>
                    </a:move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809680" y="4843800"/>
                <a:ext cx="16200" cy="18684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0"/>
                    </a:moveTo>
                    <a:cubicBezTo>
                      <a:pt x="0" y="2"/>
                      <a:pt x="0" y="4"/>
                      <a:pt x="1" y="6"/>
                    </a:cubicBezTo>
                    <a:lnTo>
                      <a:pt x="1" y="6"/>
                    </a:lnTo>
                    <a:cubicBezTo>
                      <a:pt x="0" y="4"/>
                      <a:pt x="0" y="2"/>
                      <a:pt x="1" y="0"/>
                    </a:cubicBezTo>
                    <a:close/>
                    <a:moveTo>
                      <a:pt x="1" y="0"/>
                    </a:move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825880" y="4843800"/>
                <a:ext cx="30240" cy="18684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6"/>
                    </a:moveTo>
                    <a:cubicBezTo>
                      <a:pt x="2" y="4"/>
                      <a:pt x="2" y="2"/>
                      <a:pt x="0" y="0"/>
                    </a:cubicBezTo>
                    <a:lnTo>
                      <a:pt x="0" y="0"/>
                    </a:lnTo>
                    <a:cubicBezTo>
                      <a:pt x="2" y="2"/>
                      <a:pt x="2" y="4"/>
                      <a:pt x="0" y="6"/>
                    </a:cubicBezTo>
                    <a:close/>
                    <a:moveTo>
                      <a:pt x="0" y="6"/>
                    </a:move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748120" y="4812840"/>
                <a:ext cx="77760" cy="3096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5" y="1"/>
                    </a:moveTo>
                    <a:cubicBezTo>
                      <a:pt x="4" y="0"/>
                      <a:pt x="1" y="0"/>
                      <a:pt x="0" y="1"/>
                    </a:cubicBezTo>
                    <a:lnTo>
                      <a:pt x="0" y="1"/>
                    </a:lnTo>
                    <a:cubicBezTo>
                      <a:pt x="1" y="0"/>
                      <a:pt x="4" y="0"/>
                      <a:pt x="5" y="1"/>
                    </a:cubicBezTo>
                    <a:close/>
                    <a:moveTo>
                      <a:pt x="5" y="1"/>
                    </a:move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717160" y="4843800"/>
                <a:ext cx="30600" cy="18684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cubicBezTo>
                      <a:pt x="0" y="2"/>
                      <a:pt x="1" y="4"/>
                      <a:pt x="2" y="6"/>
                    </a:cubicBezTo>
                    <a:lnTo>
                      <a:pt x="2" y="6"/>
                    </a:lnTo>
                    <a:cubicBezTo>
                      <a:pt x="1" y="4"/>
                      <a:pt x="0" y="2"/>
                      <a:pt x="2" y="0"/>
                    </a:cubicBez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748120" y="4937040"/>
                <a:ext cx="14760" cy="9396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cubicBezTo>
                      <a:pt x="0" y="2"/>
                      <a:pt x="1" y="2"/>
                      <a:pt x="1" y="0"/>
                    </a:cubicBezTo>
                    <a:lnTo>
                      <a:pt x="1" y="0"/>
                    </a:lnTo>
                    <a:cubicBezTo>
                      <a:pt x="1" y="2"/>
                      <a:pt x="0" y="2"/>
                      <a:pt x="0" y="3"/>
                    </a:cubicBezTo>
                    <a:close/>
                    <a:moveTo>
                      <a:pt x="0" y="3"/>
                    </a:move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700960" y="4812840"/>
                <a:ext cx="61920" cy="1242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cubicBezTo>
                      <a:pt x="4" y="2"/>
                      <a:pt x="2" y="0"/>
                      <a:pt x="0" y="0"/>
                    </a:cubicBezTo>
                    <a:lnTo>
                      <a:pt x="0" y="0"/>
                    </a:lnTo>
                    <a:cubicBezTo>
                      <a:pt x="2" y="0"/>
                      <a:pt x="4" y="2"/>
                      <a:pt x="4" y="4"/>
                    </a:cubicBezTo>
                    <a:close/>
                    <a:moveTo>
                      <a:pt x="4" y="4"/>
                    </a:move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654520" y="4812840"/>
                <a:ext cx="46440" cy="1242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0"/>
                    </a:moveTo>
                    <a:cubicBezTo>
                      <a:pt x="1" y="0"/>
                      <a:pt x="0" y="2"/>
                      <a:pt x="0" y="4"/>
                    </a:cubicBezTo>
                    <a:lnTo>
                      <a:pt x="0" y="4"/>
                    </a:lnTo>
                    <a:cubicBezTo>
                      <a:pt x="0" y="2"/>
                      <a:pt x="1" y="0"/>
                      <a:pt x="3" y="0"/>
                    </a:cubicBez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4635360" y="4939560"/>
              <a:ext cx="43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012360" y="4937040"/>
              <a:ext cx="59796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876920" y="4939560"/>
              <a:ext cx="0" cy="19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785480" y="5135040"/>
              <a:ext cx="182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785480" y="5226480"/>
              <a:ext cx="182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876920" y="5226480"/>
              <a:ext cx="0" cy="27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6157080" y="4939560"/>
              <a:ext cx="182880" cy="560520"/>
              <a:chOff x="6157080" y="4939560"/>
              <a:chExt cx="182880" cy="560520"/>
            </a:xfrm>
          </p:grpSpPr>
          <p:sp>
            <p:nvSpPr>
              <p:cNvPr id="228" name=""/>
              <p:cNvSpPr/>
              <p:nvPr/>
            </p:nvSpPr>
            <p:spPr>
              <a:xfrm>
                <a:off x="6248520" y="4939560"/>
                <a:ext cx="0" cy="19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157080" y="5134680"/>
                <a:ext cx="182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157080" y="5226120"/>
                <a:ext cx="182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248520" y="5226120"/>
                <a:ext cx="0" cy="27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4644360" y="5500440"/>
              <a:ext cx="198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059800" y="4495680"/>
              <a:ext cx="1468800" cy="27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                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059800" y="5136840"/>
              <a:ext cx="365760" cy="27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133720" y="5228280"/>
              <a:ext cx="274320" cy="27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779640" y="5228280"/>
              <a:ext cx="548640" cy="27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oa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4419720" y="4191120"/>
            <a:ext cx="2514600" cy="1904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048120" y="4114800"/>
            <a:ext cx="1600200" cy="914400"/>
          </a:xfrm>
          <a:custGeom>
            <a:avLst/>
            <a:gdLst/>
            <a:ahLst/>
            <a:rect l="l" t="t" r="r" b="b"/>
            <a:pathLst>
              <a:path w="1008" h="576">
                <a:moveTo>
                  <a:pt x="0" y="576"/>
                </a:moveTo>
                <a:cubicBezTo>
                  <a:pt x="12" y="336"/>
                  <a:pt x="24" y="96"/>
                  <a:pt x="192" y="48"/>
                </a:cubicBezTo>
                <a:cubicBezTo>
                  <a:pt x="360" y="0"/>
                  <a:pt x="684" y="144"/>
                  <a:pt x="1008" y="288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8A18-A2AE-4452-AAAC-2382A699DFC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3049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oncepts - Transmission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33520" y="990720"/>
            <a:ext cx="8534160" cy="51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enerators and reactors are used to hold voltages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Unfortunately, generators are less stable when they are absorbing reactive po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57F1-6F00-439A-94A2-B0EDFB1528E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3049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oncepts – Cold Load Pick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33520" y="990720"/>
            <a:ext cx="85341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Initial load magnitude will be greater after energ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Initial inrush currents can be ten or more times than the normal load current magnitu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Motor mo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3429000" y="4267080"/>
            <a:ext cx="2141640" cy="1658880"/>
            <a:chOff x="3429000" y="4267080"/>
            <a:chExt cx="2141640" cy="1658880"/>
          </a:xfrm>
        </p:grpSpPr>
        <p:sp>
          <p:nvSpPr>
            <p:cNvPr id="244" name=""/>
            <p:cNvSpPr/>
            <p:nvPr/>
          </p:nvSpPr>
          <p:spPr>
            <a:xfrm>
              <a:off x="3710880" y="5055480"/>
              <a:ext cx="36576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429000" y="5098680"/>
              <a:ext cx="280080" cy="27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3581280" y="4736880"/>
              <a:ext cx="0" cy="36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581280" y="5369040"/>
              <a:ext cx="0" cy="55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581280" y="5925960"/>
              <a:ext cx="198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3594600" y="4548600"/>
              <a:ext cx="1975680" cy="279720"/>
              <a:chOff x="3594600" y="4548600"/>
              <a:chExt cx="1975680" cy="279720"/>
            </a:xfrm>
          </p:grpSpPr>
          <p:grpSp>
            <p:nvGrpSpPr>
              <p:cNvPr id="250" name=""/>
              <p:cNvGrpSpPr/>
              <p:nvPr/>
            </p:nvGrpSpPr>
            <p:grpSpPr>
              <a:xfrm>
                <a:off x="3985200" y="4548600"/>
                <a:ext cx="334440" cy="188280"/>
                <a:chOff x="3985200" y="4548600"/>
                <a:chExt cx="334440" cy="188280"/>
              </a:xfrm>
            </p:grpSpPr>
            <p:sp>
              <p:nvSpPr>
                <p:cNvPr id="251" name=""/>
                <p:cNvSpPr/>
                <p:nvPr/>
              </p:nvSpPr>
              <p:spPr>
                <a:xfrm flipH="1" flipV="1" rot="10800000">
                  <a:off x="4118040" y="4548240"/>
                  <a:ext cx="201240" cy="188280"/>
                </a:xfrm>
                <a:custGeom>
                  <a:avLst/>
                  <a:gdLst/>
                  <a:ahLst/>
                  <a:rect l="l" t="t" r="r" b="b"/>
                  <a:pathLst>
                    <a:path w="2304" h="288">
                      <a:moveTo>
                        <a:pt x="0" y="288"/>
                      </a:moveTo>
                      <a:lnTo>
                        <a:pt x="288" y="0"/>
                      </a:lnTo>
                      <a:lnTo>
                        <a:pt x="576" y="288"/>
                      </a:lnTo>
                      <a:lnTo>
                        <a:pt x="864" y="0"/>
                      </a:lnTo>
                      <a:lnTo>
                        <a:pt x="1152" y="288"/>
                      </a:lnTo>
                      <a:lnTo>
                        <a:pt x="1440" y="0"/>
                      </a:lnTo>
                      <a:lnTo>
                        <a:pt x="1728" y="288"/>
                      </a:lnTo>
                      <a:lnTo>
                        <a:pt x="2016" y="0"/>
                      </a:lnTo>
                      <a:lnTo>
                        <a:pt x="2304" y="288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 flipH="1">
                  <a:off x="3985200" y="4736520"/>
                  <a:ext cx="133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3" name=""/>
              <p:cNvSpPr/>
              <p:nvPr/>
            </p:nvSpPr>
            <p:spPr>
              <a:xfrm>
                <a:off x="4320720" y="4736160"/>
                <a:ext cx="28764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4" name=""/>
              <p:cNvGrpSpPr/>
              <p:nvPr/>
            </p:nvGrpSpPr>
            <p:grpSpPr>
              <a:xfrm>
                <a:off x="4614120" y="4610160"/>
                <a:ext cx="357480" cy="218160"/>
                <a:chOff x="4614120" y="4610160"/>
                <a:chExt cx="357480" cy="21816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4909680" y="4610160"/>
                  <a:ext cx="61920" cy="1242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4"/>
                      </a:moveTo>
                      <a:cubicBezTo>
                        <a:pt x="4" y="2"/>
                        <a:pt x="2" y="0"/>
                        <a:pt x="0" y="0"/>
                      </a:cubicBezTo>
                      <a:lnTo>
                        <a:pt x="0" y="0"/>
                      </a:lnTo>
                      <a:cubicBezTo>
                        <a:pt x="2" y="0"/>
                        <a:pt x="4" y="2"/>
                        <a:pt x="4" y="4"/>
                      </a:cubicBezTo>
                      <a:close/>
                      <a:moveTo>
                        <a:pt x="4" y="4"/>
                      </a:moveTo>
                      <a:lnTo>
                        <a:pt x="4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4862880" y="4610160"/>
                  <a:ext cx="46440" cy="12420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3" y="0"/>
                      </a:moveTo>
                      <a:cubicBezTo>
                        <a:pt x="1" y="0"/>
                        <a:pt x="0" y="2"/>
                        <a:pt x="0" y="4"/>
                      </a:cubicBezTo>
                      <a:lnTo>
                        <a:pt x="0" y="4"/>
                      </a:lnTo>
                      <a:cubicBezTo>
                        <a:pt x="0" y="2"/>
                        <a:pt x="1" y="0"/>
                        <a:pt x="3" y="0"/>
                      </a:cubicBezTo>
                      <a:close/>
                      <a:moveTo>
                        <a:pt x="3" y="0"/>
                      </a:move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4862880" y="4734360"/>
                  <a:ext cx="14760" cy="93960"/>
                </a:xfrm>
                <a:custGeom>
                  <a:avLst/>
                  <a:gdLst/>
                  <a:ahLst/>
                  <a:rect l="l" t="t" r="r" b="b"/>
                  <a:pathLst>
                    <a:path w="1" h="3">
                      <a:moveTo>
                        <a:pt x="0" y="0"/>
                      </a:moveTo>
                      <a:cubicBezTo>
                        <a:pt x="0" y="2"/>
                        <a:pt x="0" y="2"/>
                        <a:pt x="1" y="3"/>
                      </a:cubicBezTo>
                      <a:lnTo>
                        <a:pt x="1" y="3"/>
                      </a:lnTo>
                      <a:cubicBezTo>
                        <a:pt x="0" y="2"/>
                        <a:pt x="0" y="2"/>
                        <a:pt x="0" y="0"/>
                      </a:cubicBezTo>
                      <a:close/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4878000" y="4641120"/>
                  <a:ext cx="31320" cy="18684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cubicBezTo>
                        <a:pt x="1" y="4"/>
                        <a:pt x="2" y="2"/>
                        <a:pt x="0" y="0"/>
                      </a:cubicBezTo>
                      <a:lnTo>
                        <a:pt x="0" y="0"/>
                      </a:lnTo>
                      <a:cubicBezTo>
                        <a:pt x="2" y="2"/>
                        <a:pt x="1" y="4"/>
                        <a:pt x="0" y="6"/>
                      </a:cubicBezTo>
                      <a:close/>
                      <a:moveTo>
                        <a:pt x="0" y="6"/>
                      </a:move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785480" y="4610160"/>
                  <a:ext cx="92160" cy="30960"/>
                </a:xfrm>
                <a:custGeom>
                  <a:avLst/>
                  <a:gdLst/>
                  <a:ahLst/>
                  <a:rect l="l" t="t" r="r" b="b"/>
                  <a:pathLst>
                    <a:path w="6" h="1">
                      <a:moveTo>
                        <a:pt x="6" y="1"/>
                      </a:moveTo>
                      <a:cubicBezTo>
                        <a:pt x="4" y="0"/>
                        <a:pt x="2" y="0"/>
                        <a:pt x="0" y="1"/>
                      </a:cubicBezTo>
                      <a:lnTo>
                        <a:pt x="0" y="1"/>
                      </a:lnTo>
                      <a:cubicBezTo>
                        <a:pt x="2" y="0"/>
                        <a:pt x="4" y="0"/>
                        <a:pt x="6" y="1"/>
                      </a:cubicBezTo>
                      <a:close/>
                      <a:moveTo>
                        <a:pt x="6" y="1"/>
                      </a:move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4769280" y="4641120"/>
                  <a:ext cx="16200" cy="186840"/>
                </a:xfrm>
                <a:custGeom>
                  <a:avLst/>
                  <a:gdLst/>
                  <a:ahLst/>
                  <a:rect l="l" t="t" r="r" b="b"/>
                  <a:pathLst>
                    <a:path w="1" h="6">
                      <a:moveTo>
                        <a:pt x="1" y="0"/>
                      </a:moveTo>
                      <a:cubicBezTo>
                        <a:pt x="0" y="2"/>
                        <a:pt x="0" y="4"/>
                        <a:pt x="1" y="6"/>
                      </a:cubicBezTo>
                      <a:lnTo>
                        <a:pt x="1" y="6"/>
                      </a:lnTo>
                      <a:cubicBezTo>
                        <a:pt x="0" y="4"/>
                        <a:pt x="0" y="2"/>
                        <a:pt x="1" y="0"/>
                      </a:cubicBezTo>
                      <a:close/>
                      <a:moveTo>
                        <a:pt x="1" y="0"/>
                      </a:move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785480" y="4641120"/>
                  <a:ext cx="30240" cy="18684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cubicBezTo>
                        <a:pt x="2" y="4"/>
                        <a:pt x="2" y="2"/>
                        <a:pt x="0" y="0"/>
                      </a:cubicBezTo>
                      <a:lnTo>
                        <a:pt x="0" y="0"/>
                      </a:lnTo>
                      <a:cubicBezTo>
                        <a:pt x="2" y="2"/>
                        <a:pt x="2" y="4"/>
                        <a:pt x="0" y="6"/>
                      </a:cubicBezTo>
                      <a:close/>
                      <a:moveTo>
                        <a:pt x="0" y="6"/>
                      </a:move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707720" y="4610160"/>
                  <a:ext cx="77760" cy="30960"/>
                </a:xfrm>
                <a:custGeom>
                  <a:avLst/>
                  <a:gdLst/>
                  <a:ahLst/>
                  <a:rect l="l" t="t" r="r" b="b"/>
                  <a:pathLst>
                    <a:path w="5" h="1">
                      <a:moveTo>
                        <a:pt x="5" y="1"/>
                      </a:moveTo>
                      <a:cubicBezTo>
                        <a:pt x="4" y="0"/>
                        <a:pt x="1" y="0"/>
                        <a:pt x="0" y="1"/>
                      </a:cubicBezTo>
                      <a:lnTo>
                        <a:pt x="0" y="1"/>
                      </a:lnTo>
                      <a:cubicBezTo>
                        <a:pt x="1" y="0"/>
                        <a:pt x="4" y="0"/>
                        <a:pt x="5" y="1"/>
                      </a:cubicBezTo>
                      <a:close/>
                      <a:moveTo>
                        <a:pt x="5" y="1"/>
                      </a:move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4676760" y="4641120"/>
                  <a:ext cx="30600" cy="18684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2" y="0"/>
                      </a:moveTo>
                      <a:cubicBezTo>
                        <a:pt x="0" y="2"/>
                        <a:pt x="1" y="4"/>
                        <a:pt x="2" y="6"/>
                      </a:cubicBezTo>
                      <a:lnTo>
                        <a:pt x="2" y="6"/>
                      </a:lnTo>
                      <a:cubicBezTo>
                        <a:pt x="1" y="4"/>
                        <a:pt x="0" y="2"/>
                        <a:pt x="2" y="0"/>
                      </a:cubicBezTo>
                      <a:close/>
                      <a:moveTo>
                        <a:pt x="2" y="0"/>
                      </a:move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4707720" y="4734360"/>
                  <a:ext cx="14760" cy="93960"/>
                </a:xfrm>
                <a:custGeom>
                  <a:avLst/>
                  <a:gdLst/>
                  <a:ahLst/>
                  <a:rect l="l" t="t" r="r" b="b"/>
                  <a:pathLst>
                    <a:path w="1" h="3">
                      <a:moveTo>
                        <a:pt x="0" y="3"/>
                      </a:moveTo>
                      <a:cubicBezTo>
                        <a:pt x="0" y="2"/>
                        <a:pt x="1" y="2"/>
                        <a:pt x="1" y="0"/>
                      </a:cubicBezTo>
                      <a:lnTo>
                        <a:pt x="1" y="0"/>
                      </a:lnTo>
                      <a:cubicBezTo>
                        <a:pt x="1" y="2"/>
                        <a:pt x="0" y="2"/>
                        <a:pt x="0" y="3"/>
                      </a:cubicBezTo>
                      <a:close/>
                      <a:moveTo>
                        <a:pt x="0" y="3"/>
                      </a:move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4660560" y="4610160"/>
                  <a:ext cx="61920" cy="1242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4"/>
                      </a:moveTo>
                      <a:cubicBezTo>
                        <a:pt x="4" y="2"/>
                        <a:pt x="2" y="0"/>
                        <a:pt x="0" y="0"/>
                      </a:cubicBezTo>
                      <a:lnTo>
                        <a:pt x="0" y="0"/>
                      </a:lnTo>
                      <a:cubicBezTo>
                        <a:pt x="2" y="0"/>
                        <a:pt x="4" y="2"/>
                        <a:pt x="4" y="4"/>
                      </a:cubicBezTo>
                      <a:close/>
                      <a:moveTo>
                        <a:pt x="4" y="4"/>
                      </a:moveTo>
                      <a:lnTo>
                        <a:pt x="4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4614120" y="4610160"/>
                  <a:ext cx="46440" cy="12420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3" y="0"/>
                      </a:moveTo>
                      <a:cubicBezTo>
                        <a:pt x="1" y="0"/>
                        <a:pt x="0" y="2"/>
                        <a:pt x="0" y="4"/>
                      </a:cubicBezTo>
                      <a:lnTo>
                        <a:pt x="0" y="4"/>
                      </a:lnTo>
                      <a:cubicBezTo>
                        <a:pt x="0" y="2"/>
                        <a:pt x="1" y="0"/>
                        <a:pt x="3" y="0"/>
                      </a:cubicBezTo>
                      <a:close/>
                      <a:moveTo>
                        <a:pt x="3" y="0"/>
                      </a:move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7" name=""/>
              <p:cNvSpPr/>
              <p:nvPr/>
            </p:nvSpPr>
            <p:spPr>
              <a:xfrm>
                <a:off x="3594600" y="4736880"/>
                <a:ext cx="432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971960" y="4734360"/>
                <a:ext cx="598320" cy="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4077000" y="4267080"/>
              <a:ext cx="274320" cy="27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626000" y="4267080"/>
              <a:ext cx="365760" cy="27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234A-893C-46FD-A501-A51E8FFBEA2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3049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oncepts – Energizing 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33520" y="99072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arry at least 50% reserve with only a single generating unit on-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Keep at least 20% reserve once a second generating unit comes on-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Avoid closing a weak source into a fault possibly resulting in the loss of a un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Voltage regulators could be placed at lower than nominal set points prior to energizing lines to avoid over voltage due to line charging capacit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2F79-AC34-4BD9-844E-45C784A7B3E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0" y="3049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oncepts – Synchronizing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33520" y="99072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When synchronizing two islands you must ensure the voltages are match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ynchronizing varia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333399"/>
              </a:buClr>
              <a:buSzPct val="12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Voltage magnitude diffe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333399"/>
              </a:buClr>
              <a:buSzPct val="12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Voltage phase ang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333399"/>
              </a:buClr>
              <a:buSzPct val="12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Frequency diffe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ynch-check relay determines if the voltage, frequency and phase are match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B5AD-F153-4B0D-90EB-B8C53C9B2E0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3049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oncepts – Synchronizing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33520" y="9907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ynchroscopes are used to match the frequency and voltage phase ang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5638680" cy="3976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CC12-8B76-47D6-996A-0C3DCA64FC0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3520" y="3049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Black Start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990720"/>
            <a:ext cx="8229600" cy="51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Black Start services are needed in the event of partial or complete collapse of electric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These services are provided by a set of contracted Black Start capable generation un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These resources are re-evaluated annu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2529-4BF0-4195-B3F8-BD4A6AE4D9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3049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33520" y="990720"/>
            <a:ext cx="82296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16 Black Start Resour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RCOT and TO Black Start Pl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333399"/>
              </a:buClr>
              <a:buSzPct val="12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Princ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333399"/>
              </a:buClr>
              <a:buSzPct val="12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333399"/>
              </a:buClr>
              <a:buSzPct val="12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Pri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333399"/>
              </a:buClr>
              <a:buSzPct val="12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Responsi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Review system and equipment concep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8DF3-1297-4ECE-A7D7-0C69C6C3067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533520" y="3049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33520" y="990720"/>
            <a:ext cx="79246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99"/>
              </a:buClr>
              <a:buSzPct val="12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RCOT 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SzPct val="12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RCOT Operating Gu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SzPct val="12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TO Local Black Start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SzPct val="12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NERC Operating Gui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1284-2D71-4849-97C7-261D6F1645A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533520" y="304920"/>
            <a:ext cx="8229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429000" y="1295280"/>
            <a:ext cx="2438280" cy="41148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9999"/>
                </a:solidFill>
                <a:latin typeface="Arial"/>
              </a:rPr>
              <a:t>?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429000" y="1295280"/>
            <a:ext cx="2438280" cy="4114800"/>
          </a:xfrm>
          <a:prstGeom prst="rect">
            <a:avLst/>
          </a:prstGeom>
          <a:noFill/>
          <a:ln w="0">
            <a:noFill/>
          </a:ln>
          <a:effectLst>
            <a:outerShdw dist="81185" dir="1312197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9999"/>
                </a:solidFill>
                <a:latin typeface="Arial"/>
              </a:rPr>
              <a:t>?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D1C2-B8B9-4A3E-9CE3-1556F34AC44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380880" y="2590920"/>
            <a:ext cx="320040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33520" y="3049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est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33520" y="990720"/>
            <a:ext cx="83055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31800" indent="-609480">
              <a:spcBef>
                <a:spcPts val="799"/>
              </a:spcBef>
              <a:buClr>
                <a:srgbClr val="333399"/>
              </a:buClr>
              <a:buSzPct val="12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Transmission lines are highly ____ when not loaded and voltages can easily become excess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1800" indent="-609480">
              <a:spcBef>
                <a:spcPts val="799"/>
              </a:spcBef>
              <a:buClr>
                <a:srgbClr val="333399"/>
              </a:buClr>
              <a:buSzPct val="12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apac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1800" indent="-609480">
              <a:spcBef>
                <a:spcPts val="799"/>
              </a:spcBef>
              <a:buClr>
                <a:srgbClr val="333399"/>
              </a:buClr>
              <a:buSzPct val="12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indu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1800" indent="-609480">
              <a:spcBef>
                <a:spcPts val="799"/>
              </a:spcBef>
              <a:buClr>
                <a:srgbClr val="333399"/>
              </a:buClr>
              <a:buSzPct val="12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re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1800" indent="-609480">
              <a:spcBef>
                <a:spcPts val="799"/>
              </a:spcBef>
              <a:buClr>
                <a:srgbClr val="333399"/>
              </a:buClr>
              <a:buSzPct val="12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both a and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2A21-76FB-44AA-A6AA-300FA2EA145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380880" y="2590920"/>
            <a:ext cx="320040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33520" y="3049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est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33520" y="990720"/>
            <a:ext cx="83055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31800" indent="-609480">
              <a:spcBef>
                <a:spcPts val="799"/>
              </a:spcBef>
              <a:buClr>
                <a:srgbClr val="333399"/>
              </a:buClr>
              <a:buSzPct val="12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Initial inrush currents can be ___ or more times than the normal load current magnitu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1800" indent="-609480">
              <a:spcBef>
                <a:spcPts val="799"/>
              </a:spcBef>
              <a:buClr>
                <a:srgbClr val="333399"/>
              </a:buClr>
              <a:buSzPct val="12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1800" indent="-609480">
              <a:spcBef>
                <a:spcPts val="799"/>
              </a:spcBef>
              <a:buClr>
                <a:srgbClr val="333399"/>
              </a:buClr>
              <a:buSzPct val="12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f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1800" indent="-609480">
              <a:spcBef>
                <a:spcPts val="799"/>
              </a:spcBef>
              <a:buClr>
                <a:srgbClr val="333399"/>
              </a:buClr>
              <a:buSzPct val="12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twe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1800" indent="-609480">
              <a:spcBef>
                <a:spcPts val="799"/>
              </a:spcBef>
              <a:buClr>
                <a:srgbClr val="333399"/>
              </a:buClr>
              <a:buSzPct val="12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fif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690A-EC4F-42EB-9D90-A00B21F5266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219320" y="3124080"/>
            <a:ext cx="99036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33520" y="3049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est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33520" y="990720"/>
            <a:ext cx="83055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31800" indent="-609480">
              <a:spcBef>
                <a:spcPts val="799"/>
              </a:spcBef>
              <a:buClr>
                <a:srgbClr val="333399"/>
              </a:buClr>
              <a:buSzPct val="12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AVRs should be placed in service as soon as practical to improve machine sta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180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180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True or 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180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E124-37FD-4195-BE53-5DB2D0981BD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2666880" y="3124080"/>
            <a:ext cx="9907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3520" y="3049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est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990720"/>
            <a:ext cx="83055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31800" indent="-609480">
              <a:spcBef>
                <a:spcPts val="799"/>
              </a:spcBef>
              <a:buClr>
                <a:srgbClr val="333399"/>
              </a:buClr>
              <a:buSzPct val="12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AGCs should be placed in the off position to ensure instantaneous governor response to changes in lo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1800" indent="-609480">
              <a:spcBef>
                <a:spcPts val="799"/>
              </a:spcBef>
              <a:buClr>
                <a:srgbClr val="333399"/>
              </a:buClr>
              <a:buSzPct val="12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180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True or 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9317-A144-471C-A8BE-6A9731514EE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28600" y="2590920"/>
            <a:ext cx="472428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33520" y="3049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est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33520" y="990720"/>
            <a:ext cx="83055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31800" indent="-609480">
              <a:spcBef>
                <a:spcPts val="799"/>
              </a:spcBef>
              <a:buClr>
                <a:srgbClr val="333399"/>
              </a:buClr>
              <a:buSzPct val="12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ynchroscopes are used to match the ___ and voltage phase angle when synchronizing sys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1800" indent="-609480">
              <a:spcBef>
                <a:spcPts val="799"/>
              </a:spcBef>
              <a:buClr>
                <a:srgbClr val="333399"/>
              </a:buClr>
              <a:buSzPct val="12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1800" indent="-609480">
              <a:spcBef>
                <a:spcPts val="799"/>
              </a:spcBef>
              <a:buClr>
                <a:srgbClr val="333399"/>
              </a:buClr>
              <a:buSzPct val="12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am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1800" indent="-609480">
              <a:spcBef>
                <a:spcPts val="799"/>
              </a:spcBef>
              <a:buClr>
                <a:srgbClr val="333399"/>
              </a:buClr>
              <a:buSzPct val="12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o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1800" indent="-609480">
              <a:spcBef>
                <a:spcPts val="799"/>
              </a:spcBef>
              <a:buClr>
                <a:srgbClr val="333399"/>
              </a:buClr>
              <a:buSzPct val="12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none of the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D7C8-E161-4EEE-A623-89B0C9F2FB9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304920" y="3124080"/>
            <a:ext cx="304776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33520" y="3049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est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33520" y="990720"/>
            <a:ext cx="83055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31800" indent="-609480">
              <a:spcBef>
                <a:spcPts val="799"/>
              </a:spcBef>
              <a:buClr>
                <a:srgbClr val="333399"/>
              </a:buClr>
              <a:buSzPct val="12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very ___, black-start capable resources entities submit their proposals to provide Black Start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1800" indent="-609480">
              <a:spcBef>
                <a:spcPts val="799"/>
              </a:spcBef>
              <a:buClr>
                <a:srgbClr val="333399"/>
              </a:buClr>
              <a:buSzPct val="12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1800" indent="-609480">
              <a:spcBef>
                <a:spcPts val="799"/>
              </a:spcBef>
              <a:buClr>
                <a:srgbClr val="333399"/>
              </a:buClr>
              <a:buSzPct val="12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1800" indent="-609480">
              <a:spcBef>
                <a:spcPts val="799"/>
              </a:spcBef>
              <a:buClr>
                <a:srgbClr val="333399"/>
              </a:buClr>
              <a:buSzPct val="12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mon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1800" indent="-609480">
              <a:spcBef>
                <a:spcPts val="799"/>
              </a:spcBef>
              <a:buClr>
                <a:srgbClr val="333399"/>
              </a:buClr>
              <a:buSzPct val="12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two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551F-2154-4A5D-8E5B-B12BB79C786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304920" y="5334120"/>
            <a:ext cx="807696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33520" y="3049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est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33520" y="990720"/>
            <a:ext cx="83055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31800" indent="-609480">
              <a:spcBef>
                <a:spcPts val="799"/>
              </a:spcBef>
              <a:buClr>
                <a:srgbClr val="333399"/>
              </a:buClr>
              <a:buSzPct val="12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RCOT uses the following selection criteria to select a set of units with minimum c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1800" indent="-609480">
              <a:spcBef>
                <a:spcPts val="700"/>
              </a:spcBef>
              <a:buClr>
                <a:srgbClr val="333399"/>
              </a:buClr>
              <a:buSzPct val="12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imulated restoration of 90% of ERCOT peak load within 48 hou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1800" indent="-609480">
              <a:spcBef>
                <a:spcPts val="700"/>
              </a:spcBef>
              <a:buClr>
                <a:srgbClr val="333399"/>
              </a:buClr>
              <a:buSzPct val="12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Expected restoration off-site power to nuclear units within 8 hou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1800" indent="-609480">
              <a:spcBef>
                <a:spcPts val="700"/>
              </a:spcBef>
              <a:buClr>
                <a:srgbClr val="333399"/>
              </a:buClr>
              <a:buSzPct val="12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Proximity of Black Start units to major load cen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1800" indent="-609480">
              <a:spcBef>
                <a:spcPts val="700"/>
              </a:spcBef>
              <a:buClr>
                <a:srgbClr val="333399"/>
              </a:buClr>
              <a:buSzPct val="12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ll of the ab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694D-01E9-41C3-8F06-53BF24D8932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3520" y="3049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Black Start Un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990720"/>
            <a:ext cx="8229600" cy="51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These Black Start capable units are able to self-start without support from outside po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Within close proximity of another power pools such as SPP, CFE, and WECC which are capable of starting from such power pool via a firm standby power supply contract can be qualified as a Black Start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C39D-ACCF-4D3D-8F5F-C68318B373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228600" y="2590920"/>
            <a:ext cx="746748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33520" y="3049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est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33520" y="990720"/>
            <a:ext cx="83055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31800" indent="-609480">
              <a:spcBef>
                <a:spcPts val="799"/>
              </a:spcBef>
              <a:buClr>
                <a:srgbClr val="333399"/>
              </a:buClr>
              <a:buSzPct val="125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___ incorporates restoration effort in case of partial or complete collapse of electric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1800" indent="-609480">
              <a:spcBef>
                <a:spcPts val="799"/>
              </a:spcBef>
              <a:buClr>
                <a:srgbClr val="333399"/>
              </a:buClr>
              <a:buSzPct val="12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RCOT Black Start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1800" indent="-609480">
              <a:spcBef>
                <a:spcPts val="799"/>
              </a:spcBef>
              <a:buClr>
                <a:srgbClr val="333399"/>
              </a:buClr>
              <a:buSzPct val="12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RCOT 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1800" indent="-609480">
              <a:spcBef>
                <a:spcPts val="799"/>
              </a:spcBef>
              <a:buClr>
                <a:srgbClr val="333399"/>
              </a:buClr>
              <a:buSzPct val="12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RCOT Operating Gu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1800" indent="-609480">
              <a:spcBef>
                <a:spcPts val="799"/>
              </a:spcBef>
              <a:buClr>
                <a:srgbClr val="333399"/>
              </a:buClr>
              <a:buSzPct val="12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RCOT Market Gu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3526-89B4-479D-BF4B-5AEFB04927A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04920" y="4038480"/>
            <a:ext cx="84582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33520" y="3049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est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3520" y="990720"/>
            <a:ext cx="83055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31800" indent="-609480">
              <a:spcBef>
                <a:spcPts val="799"/>
              </a:spcBef>
              <a:buClr>
                <a:srgbClr val="333399"/>
              </a:buClr>
              <a:buSzPct val="125000"/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Which of the following is </a:t>
            </a:r>
            <a:r>
              <a:rPr b="0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not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one of ERCOT’s responsibilities in a Black Start situ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1800" indent="-609480">
              <a:spcBef>
                <a:spcPts val="700"/>
              </a:spcBef>
              <a:buClr>
                <a:srgbClr val="333399"/>
              </a:buClr>
              <a:buSzPct val="12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Maintain surveillance of ERCOT system stat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1800" indent="-609480">
              <a:spcBef>
                <a:spcPts val="700"/>
              </a:spcBef>
              <a:buClr>
                <a:srgbClr val="333399"/>
              </a:buClr>
              <a:buSzPct val="12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ct as a central information collection and dissemination po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1800" indent="-609480">
              <a:spcBef>
                <a:spcPts val="700"/>
              </a:spcBef>
              <a:buClr>
                <a:srgbClr val="333399"/>
              </a:buClr>
              <a:buSzPct val="12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oordinate and issue switching orders for the cooperatives and municipal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1800" indent="-609480">
              <a:spcBef>
                <a:spcPts val="700"/>
              </a:spcBef>
              <a:buClr>
                <a:srgbClr val="333399"/>
              </a:buClr>
              <a:buSzPct val="12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Direct the connection of separated isla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9675-2623-4447-92BC-2F46276345D8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80880" y="5715000"/>
            <a:ext cx="80773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33520" y="3049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est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33520" y="990720"/>
            <a:ext cx="83055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618840" indent="-597240">
              <a:spcBef>
                <a:spcPts val="799"/>
              </a:spcBef>
              <a:buClr>
                <a:srgbClr val="333399"/>
              </a:buClr>
              <a:buSzPct val="12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Which of the following is </a:t>
            </a:r>
            <a:r>
              <a:rPr b="0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not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a responsibility of a QSE in a Black Start situ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8840" indent="-597240">
              <a:spcBef>
                <a:spcPts val="700"/>
              </a:spcBef>
              <a:buClr>
                <a:srgbClr val="333399"/>
              </a:buClr>
              <a:buSzPct val="12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upply ERCOT and/or local TO with information on the status of generation represen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18840" indent="-597240">
              <a:spcBef>
                <a:spcPts val="700"/>
              </a:spcBef>
              <a:buClr>
                <a:srgbClr val="333399"/>
              </a:buClr>
              <a:buSzPct val="12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Follow direction of TO or ERCOT in picking up load and starting Next Start un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18840" indent="-597240">
              <a:spcBef>
                <a:spcPts val="700"/>
              </a:spcBef>
              <a:buClr>
                <a:srgbClr val="333399"/>
              </a:buClr>
              <a:buSzPct val="12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Provide assistance as directed by ERCOT or the local 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18840" indent="-597240">
              <a:spcBef>
                <a:spcPts val="700"/>
              </a:spcBef>
              <a:buClr>
                <a:srgbClr val="333399"/>
              </a:buClr>
              <a:buSzPct val="12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None of the ab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ABA9-DEDB-4E63-8FD9-529179F451F6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304920" y="2971800"/>
            <a:ext cx="830556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33520" y="3049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est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33520" y="990720"/>
            <a:ext cx="83055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31800" indent="-609480">
              <a:spcBef>
                <a:spcPts val="799"/>
              </a:spcBef>
              <a:buClr>
                <a:srgbClr val="333399"/>
              </a:buClr>
              <a:buSzPct val="125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Which of the following is </a:t>
            </a:r>
            <a:r>
              <a:rPr b="0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not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a Black Start selection criter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1800" indent="-609480">
              <a:spcBef>
                <a:spcPts val="700"/>
              </a:spcBef>
              <a:buClr>
                <a:srgbClr val="333399"/>
              </a:buClr>
              <a:buSzPct val="12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imulated restoration of 90% of ERCOT peak load within 48 hou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1800" indent="-609480">
              <a:spcBef>
                <a:spcPts val="700"/>
              </a:spcBef>
              <a:buClr>
                <a:srgbClr val="333399"/>
              </a:buClr>
              <a:buSzPct val="12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Minimized the total cost/pay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1800" indent="-609480">
              <a:spcBef>
                <a:spcPts val="700"/>
              </a:spcBef>
              <a:buClr>
                <a:srgbClr val="333399"/>
              </a:buClr>
              <a:buSzPct val="12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Expected restoration off-site power to nuclear units within 8 hou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1800" indent="-609480">
              <a:spcBef>
                <a:spcPts val="700"/>
              </a:spcBef>
              <a:buClr>
                <a:srgbClr val="333399"/>
              </a:buClr>
              <a:buSzPct val="12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Proximity of Black Start units to major load cen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0172-DF7C-4971-9AD8-713BD0CA5C5F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304920" y="2590920"/>
            <a:ext cx="82296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3049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est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33520" y="990720"/>
            <a:ext cx="83055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31800" indent="-609480">
              <a:spcBef>
                <a:spcPts val="799"/>
              </a:spcBef>
              <a:buClr>
                <a:srgbClr val="333399"/>
              </a:buClr>
              <a:buSzPct val="125000"/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Which of the following is a new requirement in the Black Start qualification te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1800" indent="-609480">
              <a:spcBef>
                <a:spcPts val="700"/>
              </a:spcBef>
              <a:buClr>
                <a:srgbClr val="333399"/>
              </a:buClr>
              <a:buSzPct val="12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tart up the next-start unit’s largest required mo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1800" indent="-609480">
              <a:spcBef>
                <a:spcPts val="700"/>
              </a:spcBef>
              <a:buClr>
                <a:srgbClr val="333399"/>
              </a:buClr>
              <a:buSzPct val="12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Line energizing 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1800" indent="-609480">
              <a:spcBef>
                <a:spcPts val="700"/>
              </a:spcBef>
              <a:buClr>
                <a:srgbClr val="333399"/>
              </a:buClr>
              <a:buSzPct val="12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Load carrying 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1800" indent="-609480">
              <a:spcBef>
                <a:spcPts val="700"/>
              </a:spcBef>
              <a:buClr>
                <a:srgbClr val="333399"/>
              </a:buClr>
              <a:buSzPct val="12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None of the ab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2074-7537-42F5-92FB-18937C2D22C2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3520" y="3049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Black Start Unit 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990720"/>
            <a:ext cx="8229600" cy="51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very year, black-start capable Resources entities submit their proposals to provide Black Start services for next y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RCOT uses the following selection criteria to select a set of units with minimum co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333399"/>
              </a:buClr>
              <a:buSzPct val="12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imulated restoration of 90% of ERCOT peak load within 48 hou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AE60-7094-4846-86BB-D695039937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33520" y="3049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Black Start Unit 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990720"/>
            <a:ext cx="8229600" cy="51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RCOT uses the following selection criteria to select a set of units with minimum cost: (Cont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333399"/>
              </a:buClr>
              <a:buSzPct val="12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Expected restoration off-site power to nuclear units within 8 hou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333399"/>
              </a:buClr>
              <a:buSzPct val="12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Proximity of Black Start units to major load cen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For those selected units, they will be under a series of tests to qualify their capabil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1A0A-9806-4331-B0F9-06A128F1FE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3520" y="3049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Black Start Unit 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990720"/>
            <a:ext cx="8229600" cy="51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The selection criteria can be classified into two se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53352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Group selection criter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828800" indent="-45720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Price ($/hou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828800" indent="-45720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Amount of MW pickup (55,000 M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828800" indent="-45720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Restoration time (48 hou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533520">
              <a:spcBef>
                <a:spcPts val="700"/>
              </a:spcBef>
              <a:buClr>
                <a:srgbClr val="333399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pecific unit selection criter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828800" indent="-45720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Black Start MW, next-start MW capacity, start-up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828800" indent="-45720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Proximity to nuclear p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828800" indent="-45720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Proximity to load ce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167A-A50B-42ED-A852-5957B6684E8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3520" y="3049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Black Start Unit 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990720"/>
            <a:ext cx="8229600" cy="51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A Microsoft Access program was written to determine the best selection with fulfilling all the selection criteria in an automated fash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The program simulates the total unit start-up time, ramp-up time, crew travel time, and next-start ramp-up time to meet the selection criteria. Each unit will be continuously starting up other units without waiting for the other un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5526-5CFE-48EB-A8B3-A23A14CEBF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20:14:27Z</dcterms:created>
  <dc:creator>OTStrain01</dc:creator>
  <dc:description/>
  <dc:language>en-US</dc:language>
  <cp:lastModifiedBy>ROS</cp:lastModifiedBy>
  <dcterms:modified xsi:type="dcterms:W3CDTF">2005-04-04T20:43:34Z</dcterms:modified>
  <cp:revision>24</cp:revision>
  <dc:subject/>
  <dc:title>Slide 1</dc:title>
</cp:coreProperties>
</file>