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D553-4119-4B77-BE4D-21410363D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B1B-83E9-47A6-8C3C-D15B7D06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0A2-21F7-4D99-A960-14D0AE1D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B6E-02FD-4437-A165-F4981135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408-767C-44AC-BF32-6A0AD746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07B-01E5-4109-9E54-D48383CB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800-E2AF-4130-AE71-92E4292C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9F6-9B1E-438F-91BE-34B4DD10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C7F-C5C1-482F-A3FF-D5EB6DE4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74D-09AE-4C50-BD18-AFC58FC5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15F-C7A7-4062-8E99-66CE243F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934-666B-4B26-B199-B55ED48C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300-384A-4E08-8856-95E2C16D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A3D3-10C0-4F0C-8CC1-8AEFC70F8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6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038480" y="6346800"/>
            <a:ext cx="990720" cy="449280"/>
          </a:xfrm>
          <a:prstGeom prst="rect">
            <a:avLst/>
          </a:prstGeom>
          <a:ln w="0">
            <a:noFill/>
          </a:ln>
        </p:spPr>
      </p:pic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liance Requirements for QSE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ara Whil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enaska Power Services, 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0CC-4B0C-4751-851D-537AF337A5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#5 – Biennial Reactive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scription –  Provides ERCOT the ability to recognize the reactive resources available to maintain steady and reliable vol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asurement – Test every 2 years or at ERCOT’s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asuring Process – Maintain reactive power for at least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xceptions – Units that produce less than 20 MVA and units that are mutually agreed upon by QSE, Generation Entity and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51C-9BEF-48A0-BD90-AC5EDFACC3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2.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ennial Unit Reactive Limi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ead and Lag)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eneral Uni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ested Reactive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ximum lagging tests should be performed during high load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ading reactive tests should be performed during light load 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es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actors that Limited Reactive Capability During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643-C136-4B94-8325-1FD0F4A43D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#6 – Dispatch Instr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scription – TDSPs and QSEs should adhere to valid Dispatch Instructions in order to alleviate system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asurement – ERCOT issues verbal and system generated Dispatch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asuring Process – TDSPs and QSEs are held accountable for non-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xceptions – Threat to safety, risk of bodily harm, damage to equipment, or not in compliance with th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2187-9E7A-41E4-8EBF-A74678C020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ntents of Valid Verbal Dispatch Instr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Protocols 5.4.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1)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dentification of the responsible Entity and instructing authority (to include ERCOT operator’s and receiving operator’s name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2)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pecific Resources or TDSP Facilities that are the subject of the Dispatch Instruc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3)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pecific action requir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4)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urrent operating level or state of the Resources or TDSP Facilities that are the subject of the Dispatch Instruc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5)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perating level or state to which such Resources or Facilities will be dispatch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6)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ime of notification of the Dispatch Instruc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7)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ime at which the QSE or TDSP is required to initiate the Dispatch Instruc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8)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ime within which the QSE or TDSP is required to complete the Dispatch Instruction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9)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ther information relevant to the specific Dispatch Instruction.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FAF-5307-40F5-BD70-E70679A08E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VDI is typically issue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f the OOM tool has f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o direct Generation that is on line, but not in the Resourc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o direct switching operations to Transmission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o issue instructions to entities which are not following market deplo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C44-CF4E-4E55-B1BC-666FBEE9F6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#7 – Regulation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scription – Ensures QSEs are maintaining performance standards when providing Regulation Ancillar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asurement – Portfolio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asuring Process – SCPS1 is a 1 minute average.  SCPS2 is a 10 minute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xceptions – VDIs and Unit Tr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11C-84F5-4E5F-B7E9-17D43A051F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839960" y="274680"/>
          <a:ext cx="5464080" cy="58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274680"/>
                    <a:ext cx="546408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180-8B7C-4EF6-B8E4-AA48EA89F6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#8 – QSE Real-Tim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Description – Data enables ERCOT to monitor the real-time reliability of the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Measurement – Applies to QSEs with a Resource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Measuring Process – ERCOT compliance works jointly with EMS Production and Operations to valid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Exceptions – Units less than 10 MW which are not providing Ancillary Service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9EAA-6668-4028-BF36-9F060EA48B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6 Required Sig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4872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006-8EB9-428B-8A7A-9E339D158B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#9 – Operator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scription – 40 hours of emergency training for TOs, QSEs and ERCOT System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asurement – Each Entity shall maintain training documentation and training records.  Participation in Severe Weather Drills, ERCOT Black Start Training, and the 22</a:t>
            </a:r>
            <a:r>
              <a:rPr b="0" lang="en-US" sz="2800" spc="-1" strike="noStrike" baseline="30000">
                <a:solidFill>
                  <a:srgbClr val="009999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Annual ERCOT Operations Training Sem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asuring Process – Site visit, audit of training documentation, or incid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F91-1934-4495-9AA6-15250A5459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finition of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overning Rules Mandating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RCOT Market Compliance Mon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ctive ERCOT Compliance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mpliance Templates unde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617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E92-E16E-4607-817B-8B2A7B2A64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#10 – Vegetation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scription – Prevents transmission line contact with veg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asurement – Transmission Owners will develop an inspection process, trimming clearances, and an annual work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asuring Process – Transmission providers with 345 KV lines will submit reports by the 20</a:t>
            </a:r>
            <a:r>
              <a:rPr b="0" lang="en-US" sz="32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of each month.  ERCOT may conduct spot che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93A-67CD-4368-B831-CBDB37F3CE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#11 – Resource Plan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scription – ERCOT measures the performance of a QSE’s Resource Plan to ensure Resource Plans are kept as accurate as possible at al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asurement – Scores for each QSE are calculated mon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asuring Process – Calculations by hour and/or interval for 6 differ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BD6-2337-4B22-A7A9-33707EA11D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evels of Non-Comp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evel 1 – ERCOT generates letter and phone call.  The non-compliance event is posted on the ERCOT Compliance Web Site after (x) business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evel 2 – ERCOT generates letter and phone call.  MOD is no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evel 3 – ERCOT Compliance files a complaint with the PUCT.  Privileges to provide ancillary services may be revo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286-69A4-4B57-9F0D-E3163FDEB3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#3 – Black Start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evels of Non-Complianc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vel 1 - ERCOT generates letter and phone call.  The non-compliance event is be posted on the ERCOT Web Site after 10 business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vel 2 – ERCOT generates letter and phone call.  MOD is notified and the event is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vel 3 – ERCOT Compliance files a complaint with the P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DA1-DD45-4916-9534-17721CE334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#6 – Dispatch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Levels of Non-Complianc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evel 1 – Doesn’t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evel 2 – ERCOT generates letter and phone call.  MOD is notified and the event is po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evel 3 – ERCOT Compliance files a complaint with the PUC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D44-0ADA-4AA6-87DE-3CE990CE26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#9 – Operator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Levels of Non-Compliance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evel 1 – ERCOT generates letter and phone call. The non-compliance event is posted on the ERCOT Web Site after 3 day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SEs are reported to the Director of the M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RCOT Operators and TOs are reported to NE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BED-6C33-452D-8822-157322E7BE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#10 – Vegetation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evels of Non-Complianc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vel 1 – ERCOT generates letter and phone call. The non-compliance event is  posted on the ERCOT Web Site after 3 day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891-BB61-428F-BC9D-E3E420F27C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#11 – Resource Plan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evels of Non-Complianc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vel 1 – ERCOT generates letter and phone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vel 2 – ERCOT generates letter and phone call.  MOD is notified and the event is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vel 3 – ERCOT generates letter and phone call.  MOD is notified and the event is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884-2D01-4545-9C0D-AA18659E23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1 Active Compliance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7 Compliance Templates unde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/ Market Participants and Stakeholders /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155-6AC6-470D-A631-786AB45D14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5105520"/>
            <a:ext cx="8381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7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liance Requirements for QSE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523880"/>
            <a:ext cx="8381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s must provide personnel in a _____ facility that has the authority to make decisions and follow instructions from ERCOT System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6120" y="3581280"/>
            <a:ext cx="7828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days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Wednesday and Friday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 Thursday and Saturday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hour, seven days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F71-54C5-449B-BD0A-BABC91C4AF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t the completion of this course of instruction you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cognize what it takes to ensure the reliability of the ERCOT electr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nderstand the criteria used to measure a QSE’s, PGC’s or TO’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nderstand the consequences associated with Non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70760" y="605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23040" y="6132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28F-D8C9-4FF5-B756-DE9625AA8068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2819520"/>
            <a:ext cx="4647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7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liance Requirements for QSE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523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’s submit individual Black-start plans 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8640" y="2743200"/>
            <a:ext cx="426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wee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ix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F84-4CBE-45B6-80B9-85046E4B2D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5105520"/>
            <a:ext cx="8381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7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liance Requirements for QSE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523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generating units requires a seasonal te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9560" y="2590920"/>
            <a:ext cx="7630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3920" indent="-85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that are less than 10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920" indent="-85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that do not operate 16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920" indent="-85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920" indent="-85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that  do not provide Ancill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920" indent="-85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920" indent="-85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that are more than 10mw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920" indent="-85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ncillar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8AD-1E98-48C0-8098-EC05086B34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41148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7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liance Requirements for QSE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523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ennial Reactive testing in ERCOT is measured by a test every two years or at _____ requ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4600" y="3581280"/>
            <a:ext cx="2928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C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C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F0D-B0F5-468C-BC13-4E36C7FAF9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3962520"/>
            <a:ext cx="76201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7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liance Requirements for QSE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523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following statements are good reasons to not adhere to dispatch instructions excep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89548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 could cause damag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 could be an econom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 is not in complianc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RCOT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 is a threat to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EE3-2F1C-46DD-A589-CC3DD268EA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4572000"/>
            <a:ext cx="5029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7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liance Requirements for QSE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523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 should adhere to dispatch instructions in order to alleviate system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4240" y="3048120"/>
            <a:ext cx="466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Q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DSP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C’s and TDSP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’s and TDSP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162-0559-4BF1-9385-851D419A9C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14400" y="4572000"/>
            <a:ext cx="5029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7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liance Requirements for QSE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523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1 is calculated on a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00080" y="30481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hour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hour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inute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inute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B04-BE20-43D9-B06C-90B61A602A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3581280"/>
            <a:ext cx="5029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7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liance Requirements for QSE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523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2 is calculated on a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0481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inute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inute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hour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hour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141-F9D9-4E48-8C1C-9172B95C7F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4400" y="368784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7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liance Requirements for QSE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523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 telemeter data enables ERCOT to monitor the real-time reliability of the syst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4600" y="36115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/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8C4-7AFE-41E9-BCC3-67CC5FCD89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368784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7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liance Requirements for QSE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23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s that provide Ancillary Services shall provide ERCOT with a written backup control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4600" y="36115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/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150-DBEE-4E5D-A474-070F9A9448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5D5-7BA8-4E6A-9292-95EED1CBBB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mp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mpliance - Performing according to certain accepted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RCOT Protocols and ERCOT Operating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RCOT Compliance Monitors include the ERCOT Operation’s Group, ERCOT Compliance group, and the PUCT’s Market Oversight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40680" y="6216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C03-22B6-4796-BE23-BEEDDAF650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3049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#1 - 24/7 Staffing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scription – QSEs must provide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qualified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personnel in a 24/7 facility that has the authority to make decisions and follow instructions from ERCOT System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asurement – Training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asuring Process – Site visit, audit of training documentation, or inciden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D4C-5F32-4061-BCFD-7A028CFF70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#2 – Backup Control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scription – QSEs that provide Ancillary Services shall provide ERCOT with a written backup control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asurement – Submit an updated backup plan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asuring Process – Ability to operate when primary control site is out of service without placing undue burden on the ERCO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8A7-B108-4D4A-9564-5B17A246B6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7467480" cy="411480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scription – Procedures that insure the reliable restoration of the ERCOT System in the event of a partial or complete black 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asurement – TOs submit individual black start plan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asuring Process – ERCOT compiles a single Black Start Plan incorporating all TO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xceptions – Transmission corridors taken out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#3 – Black Start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89B-414C-4381-9546-C316A62148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#4 – Net Dependable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esting of Gen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scription – Generation resources that operate more than 168 hours in a Season as a provider of energy and/or Ancillary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asurement – Test every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asuring Process – Maintain maximum generation for 1 full clock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xceptions – Units that are less than 10 mw in capability or do not operate 168 hours, and do not provide Ancilla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38F-114B-42B3-9F50-2E40E70BCE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2.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al Unit Net Re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Capability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Code (16 character): _________    Location (County):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Name:  ____________    Date of test:  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’s QSE:  _________    Resource Entity: 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ime:  _________    Start MW:  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 10 Minutes after Start Time: ____________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Reach Maximum Generation: _________________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 at Plant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:_________MW at Maximum Generation: 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H Net during the First Full Clock Hour after Maximum Generation is reached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ing Factors:  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bmit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Entity Representative:  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E Representative:  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submitted to ERCOT Control Area Authority Rep.: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83A-1ABB-42E4-A17D-D8D829ED36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14:27Z</dcterms:created>
  <dc:creator>OTStrain01</dc:creator>
  <dc:description/>
  <dc:language>en-US</dc:language>
  <cp:lastModifiedBy>vweldon</cp:lastModifiedBy>
  <dcterms:modified xsi:type="dcterms:W3CDTF">2005-03-17T22:20:45Z</dcterms:modified>
  <cp:revision>75</cp:revision>
  <dc:subject/>
  <dc:title>Slide 1</dc:title>
</cp:coreProperties>
</file>