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874960" y="528120"/>
            <a:ext cx="3494160" cy="262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74960" y="528480"/>
            <a:ext cx="3494160" cy="2621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plain + shift factor means will decrease Nueces ba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874960" y="528480"/>
            <a:ext cx="3494160" cy="26211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ERC violation over N-1 contigency limit for 30 mi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2874960" y="528480"/>
            <a:ext cx="3494160" cy="26211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o back to moi slide if nec to show flo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2874960" y="528480"/>
            <a:ext cx="3494160" cy="26211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I i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alculated only for CS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based on monthly zonal SF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rect Assignment of Zonal congestion costs is based on each QSEs SI on each constrai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SC congestion charge = SP of CSC * S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F THE SI EXCEEDS THE MONTHLY OC0---is it the case that TCRS may not fully hedge your transactions….???(pamela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874960" y="528480"/>
            <a:ext cx="3494160" cy="26211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QSEs schedule Resources and Oblig by zone, sched do not need to be balanced (for QSEs with load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ched Impact  * SP = Direct Assignment of Congestion cos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2874960" y="528480"/>
            <a:ext cx="3494160" cy="26211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-14 is when balancing deploys—was changed from T-20 in July 200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2874960" y="528480"/>
            <a:ext cx="3494160" cy="26211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PD Solves an optimization function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in (Total cost for deploying BE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ubject to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wer Balance Constrai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Zonal Congestion Constrai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amp Rate Const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esource Plan Const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BES Bid Const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A3FF-E15F-4226-817A-6D4586F7F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3744720"/>
            <a:ext cx="822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2039-A3C1-40AF-B16F-AB74066CF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1760" y="11779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37447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1760" y="37447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664D-CF36-42C8-B319-954F08F6A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264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160" y="1177920"/>
            <a:ext cx="264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177920"/>
            <a:ext cx="264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3744720"/>
            <a:ext cx="264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160" y="3744720"/>
            <a:ext cx="264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744720"/>
            <a:ext cx="264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1329-21D2-4ADA-A6FB-55B9B4E7E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91E5-BA3C-41E3-A2A9-9DE119E17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2FE1-815F-4DD5-AE97-4AEFF7658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40158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1760" y="1177920"/>
            <a:ext cx="40158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B451-9CBF-4168-9CB4-8ADE74786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80D4-CE4A-4454-922A-2820B7B9B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60640" y="665280"/>
            <a:ext cx="670536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BEF5-CB19-49EE-A0DF-71783C7D6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1760" y="1177920"/>
            <a:ext cx="40158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37447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8A93-4CC0-43A5-B413-94E143098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40158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1760" y="11779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1760" y="37447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9A87-C69D-4199-84EE-4526549AE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60640" y="583920"/>
            <a:ext cx="6705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1760" y="1177920"/>
            <a:ext cx="40158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3744720"/>
            <a:ext cx="822960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162B-4FB8-4946-BEA0-C26941C94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7180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C780-FBDD-4822-A8E1-9839564C55A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6002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014480"/>
            <a:ext cx="861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96800" y="6206760"/>
            <a:ext cx="585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Operator Se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garza@ercot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tcr.ercot.com/default.cfm?func=tcrpostings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46280" y="2408400"/>
            <a:ext cx="76197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h Gar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garza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-248-63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08320" y="182880"/>
            <a:ext cx="68356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mission Limits to Be Moni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For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Tuesday 03/2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The maximum total loading on the following Zonal and Local Constraint monitored elements should be maintained.  Local constraints will be resolved with Real Time Contingency Analy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31920" y="1093680"/>
          <a:ext cx="6819840" cy="2884680"/>
        </p:xfrm>
        <a:graphic>
          <a:graphicData uri="http://schemas.openxmlformats.org/drawingml/2006/table">
            <a:tbl>
              <a:tblPr/>
              <a:tblGrid>
                <a:gridCol w="765000"/>
                <a:gridCol w="854280"/>
                <a:gridCol w="952200"/>
                <a:gridCol w="952560"/>
                <a:gridCol w="857160"/>
                <a:gridCol w="723960"/>
                <a:gridCol w="1714680"/>
              </a:tblGrid>
              <a:tr h="144756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outh to 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DSES–TMP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S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__ Potential 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rtheast to 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Sum of 2 Farmerville - Roy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S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tential 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outh to 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Sum of 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TP-DOW &amp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TP-WA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S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__ Potential 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est to 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raham – Parker/ Benbr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S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tential 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rth to 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enbrook/Parker – Grah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S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tential 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rth to 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ibbons Creek – O’br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Jewett – T.H. Whar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Jewett – Tomb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NS –  Kuykendah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S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_Potential 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0:00- 09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9:00- 12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:00- 16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6:00- 24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-81108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300400" y="4098960"/>
          <a:ext cx="6572160" cy="2135160"/>
        </p:xfrm>
        <a:graphic>
          <a:graphicData uri="http://schemas.openxmlformats.org/drawingml/2006/table">
            <a:tbl>
              <a:tblPr/>
              <a:tblGrid>
                <a:gridCol w="1428840"/>
                <a:gridCol w="5143320"/>
              </a:tblGrid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outh =&gt;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r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oss of Double Sandow SES–Temple SW 345kV loads Roundrock – Chief Bra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rtheast =&gt;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r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oss of Carrollton NW – Collin 345 loads Collin SES – Frisco 138kV li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outh =&gt; Houst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r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bl STP-Dow STPDOW18 &amp; STPDOW27 345kV loads Waller – Prairie View 138k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est =&gt;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oss of Graham – Benbrook &amp; -Parker 345kV loads Parker SW – Willow Creek 345kV li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rth =&gt;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oss of Graham –Benbrook &amp; --Parker Sw 345kV loads Stephenville –Lingleville 138k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rth=&gt;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oss of Dbl Jewett - TH Wharton &amp; --Tomball 345kV loads Waller – Prairie View 138k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2734920" y="8295120"/>
            <a:ext cx="205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alculated by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Jose Gayt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7680" y="4384800"/>
            <a:ext cx="1990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ove Zonal limitations are based on the follow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E1F3-8D3D-43CE-9D92-698A5E6046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0160" y="1096560"/>
            <a:ext cx="631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Wind Unit Limit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SimSun"/>
              </a:rPr>
              <a:t>(S7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 Loss of Barilla – Fort Stockton 138kV loads Barilla – Fort Stockton 69k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47760" y="1479600"/>
          <a:ext cx="3438360" cy="3295440"/>
        </p:xfrm>
        <a:graphic>
          <a:graphicData uri="http://schemas.openxmlformats.org/drawingml/2006/table">
            <a:tbl>
              <a:tblPr/>
              <a:tblGrid>
                <a:gridCol w="1684440"/>
                <a:gridCol w="826920"/>
                <a:gridCol w="927000"/>
              </a:tblGrid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SimSun"/>
                        </a:rPr>
                        <a:t>Wind Uni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SimSun"/>
                        </a:rPr>
                        <a:t>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SimSun"/>
                        </a:rPr>
                        <a:t>Lim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W_MESA_SW_ME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ODWRD1_WOODWRD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DNNWP_INDNNWP</a:t>
                      </a:r>
                      <a:r>
                        <a:rPr b="0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RRW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DNENR_INDNENR</a:t>
                      </a:r>
                      <a:r>
                        <a:rPr b="0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RRW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DNENR_INDNENR_2</a:t>
                      </a:r>
                      <a:r>
                        <a:rPr b="0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(RRW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ING_SW_KINGS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ING_NW_KINGN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ODWRD2_WOODWRD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ING_SE_KING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ING_NE_KING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33920" y="2590920"/>
            <a:ext cx="401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d Daily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tcr.ercot.com/default.cfm?func=tcrpo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rco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TCR Auc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ings/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2E45-6FE1-4DFF-A5ED-D462C4475B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Contingency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at regular 5-minute intervals, or upon demand, using the State Estimator Solution and Network Top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reas of congestion, both local and zonal, in post-contingency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perators to mitigate potential problems before a given contingency occurs (N-1 sec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s the potential for load loss or equipment damage when a contingency does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0A19-7B34-4351-8372-235BA3C7CE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Contingency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50932" t="1687" r="938" b="10783"/>
          <a:stretch/>
        </p:blipFill>
        <p:spPr>
          <a:xfrm>
            <a:off x="914400" y="1189080"/>
            <a:ext cx="723888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A3A1-6FA3-4861-B18E-948B9B4C7C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al Shift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55627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average effect that changing generation in a zone has on a particular CSC constrai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105520" y="3276360"/>
            <a:ext cx="19810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loud"/>
          <p:cNvSpPr/>
          <p:nvPr/>
        </p:nvSpPr>
        <p:spPr>
          <a:xfrm>
            <a:off x="5929200" y="1574640"/>
            <a:ext cx="2971800" cy="1828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loud"/>
          <p:cNvSpPr/>
          <p:nvPr/>
        </p:nvSpPr>
        <p:spPr>
          <a:xfrm>
            <a:off x="349200" y="4525920"/>
            <a:ext cx="4952880" cy="1447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441972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l Shift Factor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-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4572000"/>
            <a:ext cx="109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4419720"/>
            <a:ext cx="2514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486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943600"/>
            <a:ext cx="2514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419720"/>
            <a:ext cx="0" cy="152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4419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839080" y="4419720"/>
            <a:ext cx="0" cy="152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5105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5105520"/>
            <a:ext cx="1265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51055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30640" y="4995720"/>
            <a:ext cx="0" cy="3049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76440" y="4982400"/>
            <a:ext cx="996480" cy="431640"/>
          </a:xfrm>
          <a:prstGeom prst="ellipse">
            <a:avLst/>
          </a:prstGeom>
          <a:solidFill>
            <a:srgbClr val="ffbe7d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Verdana"/>
              </a:rPr>
              <a:t>S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94820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Verdana"/>
              </a:rPr>
              <a:t>10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1480" y="425124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Verdana"/>
              </a:rPr>
              <a:t>19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335560" y="4021200"/>
            <a:ext cx="546120" cy="4572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5486400"/>
            <a:ext cx="126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8040" y="5472000"/>
            <a:ext cx="13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73000" y="1934640"/>
            <a:ext cx="1397160" cy="431640"/>
          </a:xfrm>
          <a:prstGeom prst="ellipse">
            <a:avLst/>
          </a:prstGeom>
          <a:solidFill>
            <a:srgbClr val="ffbe7d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Verdana"/>
              </a:rPr>
              <a:t>Hou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40560" y="2651040"/>
            <a:ext cx="10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Verdana"/>
              </a:rPr>
              <a:t>10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81960" y="2665440"/>
            <a:ext cx="0" cy="3049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0640" y="3321000"/>
            <a:ext cx="12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16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983200" y="3471840"/>
            <a:ext cx="549360" cy="45720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38862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th-Houston C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0ECC-4AF0-4A77-B959-6C33EF7C26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Weighted SF vs Resource S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370400" y="1192320"/>
            <a:ext cx="4218120" cy="4881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H="1" flipV="1">
            <a:off x="4746240" y="3233880"/>
            <a:ext cx="584280" cy="1023840"/>
          </a:xfrm>
          <a:prstGeom prst="line">
            <a:avLst/>
          </a:prstGeom>
          <a:ln cap="rnd" w="28440">
            <a:solidFill>
              <a:srgbClr val="66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43720" y="4729320"/>
            <a:ext cx="220680" cy="37908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48320" y="4759200"/>
            <a:ext cx="284040" cy="50652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 rot="20115600">
            <a:off x="5045040" y="4336560"/>
            <a:ext cx="831960" cy="32256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3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SC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92800" y="1139760"/>
            <a:ext cx="974880" cy="8002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72360" y="4067280"/>
            <a:ext cx="569880" cy="5364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520" y="4164120"/>
            <a:ext cx="4291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PD calculates need for 100 MW to get 16 MW of relief, SPD could get from 11 to 42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82520" y="1517760"/>
          <a:ext cx="4195440" cy="2093760"/>
        </p:xfrm>
        <a:graphic>
          <a:graphicData uri="http://schemas.openxmlformats.org/drawingml/2006/table">
            <a:tbl>
              <a:tblPr/>
              <a:tblGrid>
                <a:gridCol w="2381760"/>
                <a:gridCol w="1813680"/>
              </a:tblGrid>
              <a:tr h="606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/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a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A. Par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 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FB66-802B-4C96-954D-CBA1764B8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a Zon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800" y="1209600"/>
          <a:ext cx="8209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209600"/>
                    <a:ext cx="8209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2975040" y="2787480"/>
            <a:ext cx="2566800" cy="2807640"/>
            <a:chOff x="2975040" y="2787480"/>
            <a:chExt cx="2566800" cy="2807640"/>
          </a:xfrm>
        </p:grpSpPr>
        <p:sp>
          <p:nvSpPr>
            <p:cNvPr id="239" name=""/>
            <p:cNvSpPr/>
            <p:nvPr/>
          </p:nvSpPr>
          <p:spPr>
            <a:xfrm>
              <a:off x="2975040" y="4758840"/>
              <a:ext cx="2525760" cy="83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027240" y="2787480"/>
              <a:ext cx="2514600" cy="2592720"/>
              <a:chOff x="3027240" y="2787480"/>
              <a:chExt cx="2514600" cy="2592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179520" y="2787480"/>
                <a:ext cx="533520" cy="390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332160" y="3177720"/>
                <a:ext cx="0" cy="1562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27240" y="4740120"/>
                <a:ext cx="25146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“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Actual Flow” here is actually a SPD calculated flow, not a real time flow 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3649680" y="2754360"/>
            <a:ext cx="4537080" cy="2945520"/>
            <a:chOff x="3649680" y="2754360"/>
            <a:chExt cx="4537080" cy="2945520"/>
          </a:xfrm>
        </p:grpSpPr>
        <p:sp>
          <p:nvSpPr>
            <p:cNvPr id="245" name=""/>
            <p:cNvSpPr/>
            <p:nvPr/>
          </p:nvSpPr>
          <p:spPr>
            <a:xfrm>
              <a:off x="5646600" y="4529880"/>
              <a:ext cx="2540160" cy="117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649680" y="2754360"/>
              <a:ext cx="4495320" cy="2760480"/>
              <a:chOff x="3649680" y="2754360"/>
              <a:chExt cx="4495320" cy="2760480"/>
            </a:xfrm>
          </p:grpSpPr>
          <p:sp>
            <p:nvSpPr>
              <p:cNvPr id="247" name=""/>
              <p:cNvSpPr/>
              <p:nvPr/>
            </p:nvSpPr>
            <p:spPr>
              <a:xfrm>
                <a:off x="3649680" y="2754360"/>
                <a:ext cx="609480" cy="438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4259160" y="3192480"/>
                <a:ext cx="1447200" cy="1316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30760" y="4509720"/>
                <a:ext cx="2514240" cy="10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Constraint Limit (OC1) is number set by the operator which SPD uses to control the “Actual Flow” (SPD Calculated Flow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A4AF-C9A4-4ED4-A1D5-F283A2EA96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Shift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292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source shift fac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fines the effect that one MW of change in generation (at a specific bus) has on the MW flow on a particular local constra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334120" y="3276720"/>
            <a:ext cx="121896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loud"/>
          <p:cNvSpPr/>
          <p:nvPr/>
        </p:nvSpPr>
        <p:spPr>
          <a:xfrm>
            <a:off x="5929200" y="1574640"/>
            <a:ext cx="2971800" cy="1828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loud"/>
          <p:cNvSpPr/>
          <p:nvPr/>
        </p:nvSpPr>
        <p:spPr>
          <a:xfrm>
            <a:off x="457200" y="4648320"/>
            <a:ext cx="4952880" cy="14475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5105520"/>
            <a:ext cx="11430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ces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0" y="2641680"/>
            <a:ext cx="14479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te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19112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ces Bay - White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2920" y="4800600"/>
            <a:ext cx="160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80060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4800600"/>
            <a:ext cx="2819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5627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6019920"/>
            <a:ext cx="2819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800600"/>
            <a:ext cx="0" cy="1219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48006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763120" y="4800600"/>
            <a:ext cx="0" cy="1219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51814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5181480"/>
            <a:ext cx="126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5181480"/>
            <a:ext cx="109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819520" y="4191120"/>
            <a:ext cx="2768400" cy="1593720"/>
            <a:chOff x="2819520" y="4191120"/>
            <a:chExt cx="2768400" cy="1593720"/>
          </a:xfrm>
        </p:grpSpPr>
        <p:sp>
          <p:nvSpPr>
            <p:cNvPr id="270" name=""/>
            <p:cNvSpPr/>
            <p:nvPr/>
          </p:nvSpPr>
          <p:spPr>
            <a:xfrm flipV="1">
              <a:off x="4089240" y="4800600"/>
              <a:ext cx="6480" cy="9842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89000" y="5086440"/>
              <a:ext cx="588600" cy="431640"/>
            </a:xfrm>
            <a:prstGeom prst="ellipse">
              <a:avLst/>
            </a:prstGeom>
            <a:solidFill>
              <a:srgbClr val="ffbe7d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Verdan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819520" y="4191120"/>
              <a:ext cx="2489040" cy="1560240"/>
              <a:chOff x="2819520" y="4191120"/>
              <a:chExt cx="2489040" cy="15602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19520" y="538452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Verdana"/>
                  </a:rPr>
                  <a:t>20M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33920" y="5384520"/>
                <a:ext cx="0" cy="30456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89240" y="4191120"/>
                <a:ext cx="121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ff"/>
                    </a:solidFill>
                    <a:latin typeface="Verdana"/>
                  </a:rPr>
                  <a:t>12 M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V="1">
              <a:off x="5257800" y="4267080"/>
              <a:ext cx="330120" cy="5335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238880" y="5562720"/>
            <a:ext cx="1265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5562720"/>
            <a:ext cx="1096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324480" y="1741320"/>
            <a:ext cx="1645560" cy="984240"/>
            <a:chOff x="6324480" y="1741320"/>
            <a:chExt cx="1645560" cy="984240"/>
          </a:xfrm>
        </p:grpSpPr>
        <p:sp>
          <p:nvSpPr>
            <p:cNvPr id="280" name=""/>
            <p:cNvSpPr/>
            <p:nvPr/>
          </p:nvSpPr>
          <p:spPr>
            <a:xfrm flipV="1">
              <a:off x="7683480" y="1741320"/>
              <a:ext cx="6480" cy="9842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81440" y="1987560"/>
              <a:ext cx="588600" cy="431640"/>
            </a:xfrm>
            <a:prstGeom prst="ellipse">
              <a:avLst/>
            </a:prstGeom>
            <a:solidFill>
              <a:srgbClr val="ffbe7d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Verdan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4480" y="2082960"/>
              <a:ext cx="99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Verdana"/>
                </a:rPr>
                <a:t>20M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01080" y="2057400"/>
              <a:ext cx="0" cy="3049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800600" y="3200400"/>
            <a:ext cx="1473120" cy="533520"/>
            <a:chOff x="4800600" y="3200400"/>
            <a:chExt cx="1473120" cy="533520"/>
          </a:xfrm>
        </p:grpSpPr>
        <p:sp>
          <p:nvSpPr>
            <p:cNvPr id="285" name=""/>
            <p:cNvSpPr/>
            <p:nvPr/>
          </p:nvSpPr>
          <p:spPr>
            <a:xfrm>
              <a:off x="4800600" y="3276720"/>
              <a:ext cx="12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Verdana"/>
                </a:rPr>
                <a:t>4 M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600" y="3200400"/>
              <a:ext cx="330120" cy="5335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38440" y="0"/>
            <a:ext cx="74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872A-F607-4412-B305-1719E351C5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371600" y="1295280"/>
          <a:ext cx="473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473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 flipV="1">
            <a:off x="3429000" y="3200040"/>
            <a:ext cx="327672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00400" y="3123720"/>
            <a:ext cx="228600" cy="381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29000" y="2895480"/>
            <a:ext cx="7632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743200"/>
            <a:ext cx="15264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4343400"/>
            <a:ext cx="2133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ueces Bay - White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38440" y="0"/>
            <a:ext cx="74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 of Loc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F250-DA77-4EF9-B9C9-092DFFCDE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539640" y="1182600"/>
          <a:ext cx="818064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82600"/>
                    <a:ext cx="818064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4120" y="4408560"/>
            <a:ext cx="205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source Names With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a Loc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2FA0-80F2-4125-878D-597147506B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ools used by ERCOT to manage conges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QSE and TO operator actions affect ERCOT’s ability to manage cong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Remedial Action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Mitigation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C517-AED3-4D47-8CB7-0CA967F94B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248600" y="4548240"/>
            <a:ext cx="193500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Operate at MW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36960" y="4548240"/>
            <a:ext cx="241164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Based on OC2 Limit and Resource Specific Premi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76760" y="4548240"/>
            <a:ext cx="106020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+ and 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05240" y="4548240"/>
            <a:ext cx="127152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96880" y="4548240"/>
            <a:ext cx="100836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Lo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548240"/>
            <a:ext cx="149688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48600" y="3679920"/>
            <a:ext cx="1935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erate at or above MW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6960" y="3679920"/>
            <a:ext cx="241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ed on OC2 Limit and Resource Specific Premi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76760" y="3679920"/>
            <a:ext cx="10602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05240" y="3679920"/>
            <a:ext cx="1271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96880" y="3679920"/>
            <a:ext cx="1008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679920"/>
            <a:ext cx="14968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48600" y="2811600"/>
            <a:ext cx="193500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erate at or below MW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36960" y="2811600"/>
            <a:ext cx="241164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Based on OC2 Limit and Resource Specific Premi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76760" y="2811600"/>
            <a:ext cx="106020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05240" y="2811600"/>
            <a:ext cx="127152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96880" y="2811600"/>
            <a:ext cx="100836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Lo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811600"/>
            <a:ext cx="1496880" cy="868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48600" y="1943280"/>
            <a:ext cx="1935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iver quantity above or below sche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36960" y="1943280"/>
            <a:ext cx="241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ed on Energy Balance, OC1 Limit, and BES Bid Curv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6760" y="1943280"/>
            <a:ext cx="10602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+ or 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05240" y="1943280"/>
            <a:ext cx="1271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fol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96880" y="1943280"/>
            <a:ext cx="1008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943280"/>
            <a:ext cx="14968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48600" y="1281240"/>
            <a:ext cx="1935000" cy="6620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ployment Instr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36960" y="1281240"/>
            <a:ext cx="2411640" cy="6620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6760" y="1281240"/>
            <a:ext cx="1060200" cy="6620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hift Factor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05240" y="1281240"/>
            <a:ext cx="1271520" cy="6620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folio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96880" y="1281240"/>
            <a:ext cx="1008360" cy="6620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onal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281240"/>
            <a:ext cx="1496880" cy="6620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teg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281240"/>
            <a:ext cx="9183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943280"/>
            <a:ext cx="918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811600"/>
            <a:ext cx="918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679920"/>
            <a:ext cx="918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548240"/>
            <a:ext cx="918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386320"/>
            <a:ext cx="9183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281240"/>
            <a:ext cx="0" cy="4120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36960" y="1281240"/>
            <a:ext cx="0" cy="408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232760" y="1281240"/>
            <a:ext cx="15840" cy="408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83600" y="839880"/>
            <a:ext cx="0" cy="5003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90680" y="5532480"/>
            <a:ext cx="457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* Shift factor is relative to binding Operational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36680" y="1281240"/>
            <a:ext cx="0" cy="408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3440" y="1297080"/>
            <a:ext cx="0" cy="408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63800" y="1295280"/>
            <a:ext cx="0" cy="408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90880" y="650520"/>
            <a:ext cx="67053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Deploy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6BC2-3FD5-4BB0-87E7-080F42D833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 B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Balancing Energy - Deployed b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um B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echnolog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power flow studies at peak load by ERCOT Operations Support (engineering) for O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ultaneous Feasibility Test (SFT) O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E - Deployed by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52280"/>
            <a:ext cx="8077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A0AC-E577-46CE-99B1-E996882078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 flipH="1">
            <a:off x="6705000" y="1981080"/>
            <a:ext cx="1981080" cy="1295640"/>
          </a:xfrm>
          <a:prstGeom prst="cloudCallout">
            <a:avLst>
              <a:gd name="adj1" fmla="val -29328"/>
              <a:gd name="adj2" fmla="val 65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-360" y="1305000"/>
            <a:ext cx="71802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or must make a decision about what the congestion situation will be 20 minutes into the future, based on observation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Physical MW flow and difference from   Physical MW li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emetered MW tr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D calculated flows for current and next few                   intervals relative to OC1 and OC2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is decision, Operator must finalize OC limi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0 minutes beforeh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SPD then executes to produce deployment instructions for interval that starts 20 minutes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or can view deployment results but any adjustments made will impact two intervals in the fu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adjustments must also depend on what is observed in the next 15 minute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858000" y="3657600"/>
            <a:ext cx="1981080" cy="1638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010280" y="2209680"/>
            <a:ext cx="1536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o I need to activate a constrai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41520" y="0"/>
            <a:ext cx="670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 Action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1633-9A53-4B4D-A4CC-BFEA08A9BD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43080" y="129384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38440" y="0"/>
            <a:ext cx="74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D Calculated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720" y="117756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D-calculated flow is a valu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d by the ERCOT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etermining how much to adjust constraint limits (OC1, OC2) when activating conges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SCs, the Calculated Flow is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min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 for each CM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Generation is defined as Actual Generation adjusted to reflect (a) where the resource plan does not support the schedules, (b) non-spinning reserve deployments, and (c) balancing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COT Forecas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ad, not Scheduled Load, is used as the load 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factors are applied to the above for each CSC zone to arrive at the SPD Calculated Flow for the 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D CF is what SPD uses to represent the MW loading on a C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D CF is not available for view by Market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01A9-FA4C-4ADC-816E-CCB2C11BC58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1 and Physical Limit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49680" y="3309840"/>
          <a:ext cx="4351320" cy="25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9680" y="3309840"/>
                    <a:ext cx="435132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2" name=""/>
          <p:cNvGrpSpPr/>
          <p:nvPr/>
        </p:nvGrpSpPr>
        <p:grpSpPr>
          <a:xfrm>
            <a:off x="-295200" y="1519200"/>
            <a:ext cx="4964040" cy="1165320"/>
            <a:chOff x="-295200" y="1519200"/>
            <a:chExt cx="4964040" cy="1165320"/>
          </a:xfrm>
        </p:grpSpPr>
        <p:sp>
          <p:nvSpPr>
            <p:cNvPr id="363" name=""/>
            <p:cNvSpPr/>
            <p:nvPr/>
          </p:nvSpPr>
          <p:spPr>
            <a:xfrm>
              <a:off x="-295200" y="1617480"/>
              <a:ext cx="4343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7720" y="1560600"/>
              <a:ext cx="41911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D OC1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don’t normally matc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3333ff"/>
                  </a:solidFill>
                  <a:latin typeface="Arial"/>
                </a:rPr>
                <a:t>Physical limits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 CSC/CRE Data Disp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6720" y="1519200"/>
              <a:ext cx="4032360" cy="109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360" y="2749320"/>
            <a:ext cx="426708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D predicts congestion and responds with congestion control based on calculated flows that may bear little resemblance to Physical MW flows that actually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D computes optimum deployment based on entered OC limits relative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D calculate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Operator activates congestion management based on the predicted effect on Physical MW flow relative to its Physical Limit, by adjusting the OC limit relative to the SPD Calculate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14840" y="1530360"/>
          <a:ext cx="434664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4840" y="1530360"/>
                    <a:ext cx="4346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8502480" y="1903320"/>
            <a:ext cx="457200" cy="2286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05480" y="3811680"/>
            <a:ext cx="574560" cy="347400"/>
          </a:xfrm>
          <a:prstGeom prst="ellipse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B0D0-FD4C-46E5-85CA-0925505381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Con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4038480" cy="4156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ocal congestion is non-CSC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RCOT Operator monitors post-contingency physical MW flow against physical limits set b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PD limits for these elements are called OC2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ployment on individual resource basis as opposed to portfolio-of-resources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RCOT Local CM “tools” are all “net zero” within a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95320" y="2013120"/>
            <a:ext cx="4419720" cy="3117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ployment instruction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ategory 2 (at or below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ategory 3 (at or above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ategory 4 (to a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addition, Operator may manually direct units to specific MW levels (O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OME directive can be deployed effective immediately rather than 2nd-to-next 15 minute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1182600"/>
            <a:ext cx="868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Arial Black"/>
              </a:rPr>
              <a:t>Works essentially the same as zonal congestion previously discussed, except as foll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95840" y="5255640"/>
            <a:ext cx="4038480" cy="912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rtal displays for viewing local congestion situations or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F928-0C06-4EE2-8ECD-69B89F3FDA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Contingency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every 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contingency analysis on over 2000 contin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power system is operating in a secur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on market minimized to those times when a contingency overload would otherwise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6F44-C509-4910-9334-3936632372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Feasibility T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physical operating limits from being exceeded by constraining the optimized SPD solution du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time Redispatch  14 min before start of each Interval (9 minutes before ramp star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at rated normal MVA loading with no contin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at rated emergency limits during contingency ou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AE1A-B55C-4FF6-9F35-3FF73629CF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ontingency Action Plans are designed to be enacted before the contingency occurs.  These actions may be taken to increase transmission transfer cap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EAAA-0FEF-4BB4-B681-5B73021139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dial Action Plans (RA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relieve the loading on a Transmission Facility within 15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hall enforce pre-contingency System Operating Limit(s) to control the post contingency loading of the facility to levels below the 15-Minute Rat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forcement shall be implemented in a manner such that the post contingency loading will be at, or below, the Emergency Rating within 1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dial Action Plans are designed to be enacted POST-Contingency. They are NOT pre-emptive congestion managemen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697D-119E-44DE-9E6F-E58D9C483A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80880" y="4724280"/>
            <a:ext cx="4521240" cy="838440"/>
            <a:chOff x="380880" y="4724280"/>
            <a:chExt cx="4521240" cy="838440"/>
          </a:xfrm>
        </p:grpSpPr>
        <p:sp>
          <p:nvSpPr>
            <p:cNvPr id="50" name=""/>
            <p:cNvSpPr/>
            <p:nvPr/>
          </p:nvSpPr>
          <p:spPr>
            <a:xfrm>
              <a:off x="380880" y="4724280"/>
              <a:ext cx="4521240" cy="838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4800240"/>
              <a:ext cx="4381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Congestion must be managed, and it costs $$$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1352520"/>
            <a:ext cx="4324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flows under lim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may be dama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insec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conomical dis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power to flow with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, subject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85840" y="952560"/>
            <a:ext cx="428652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81600" y="1476360"/>
            <a:ext cx="4038480" cy="38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CE22-4596-4D06-AFC9-E25DAB39D1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igation Plans (M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determined actions to be taken associated with the occurrence of a specific contingency ev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f congestion management methods cannot resolve the post-contingency overlo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Mitigation Plan, an operator does not need to declare an alert for a post contingency over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ation Plans are designed to be enacted POST-Contingency. They are NOT pre-emptive congestion managemen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BEAF-AD72-41A8-8A14-5B993F3423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50920" y="1182600"/>
            <a:ext cx="4521240" cy="5013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178600" y="1714680"/>
            <a:ext cx="2790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SC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858920" y="4581360"/>
            <a:ext cx="3911760" cy="832320"/>
            <a:chOff x="4858920" y="4581360"/>
            <a:chExt cx="3911760" cy="832320"/>
          </a:xfrm>
        </p:grpSpPr>
        <p:sp>
          <p:nvSpPr>
            <p:cNvPr id="389" name=""/>
            <p:cNvSpPr/>
            <p:nvPr/>
          </p:nvSpPr>
          <p:spPr>
            <a:xfrm>
              <a:off x="5438520" y="4581360"/>
              <a:ext cx="33321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Labeled fields the same data as shown on CSC/CRE Data Web 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858920" y="5038560"/>
              <a:ext cx="65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440080" y="4178160"/>
            <a:ext cx="304560" cy="335880"/>
            <a:chOff x="2440080" y="4178160"/>
            <a:chExt cx="304560" cy="335880"/>
          </a:xfrm>
        </p:grpSpPr>
        <p:sp>
          <p:nvSpPr>
            <p:cNvPr id="392" name=""/>
            <p:cNvSpPr/>
            <p:nvPr/>
          </p:nvSpPr>
          <p:spPr>
            <a:xfrm>
              <a:off x="2455920" y="42271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40080" y="41781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205240" y="2166840"/>
            <a:ext cx="365760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Summed Physical MW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075120" y="4178160"/>
            <a:ext cx="304560" cy="335880"/>
            <a:chOff x="3075120" y="4178160"/>
            <a:chExt cx="304560" cy="335880"/>
          </a:xfrm>
        </p:grpSpPr>
        <p:sp>
          <p:nvSpPr>
            <p:cNvPr id="396" name=""/>
            <p:cNvSpPr/>
            <p:nvPr/>
          </p:nvSpPr>
          <p:spPr>
            <a:xfrm>
              <a:off x="3090960" y="42271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5120" y="41781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76800" y="26370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Summed Physical MVAR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881520" y="4178160"/>
            <a:ext cx="304560" cy="335880"/>
            <a:chOff x="3881520" y="4178160"/>
            <a:chExt cx="304560" cy="335880"/>
          </a:xfrm>
        </p:grpSpPr>
        <p:sp>
          <p:nvSpPr>
            <p:cNvPr id="400" name=""/>
            <p:cNvSpPr/>
            <p:nvPr/>
          </p:nvSpPr>
          <p:spPr>
            <a:xfrm>
              <a:off x="3897360" y="42271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1520" y="41781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192640" y="3127320"/>
            <a:ext cx="3733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. Manually-entered Physical MW post contingency limit (Calculated Daily by Enginee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23720" y="4178160"/>
            <a:ext cx="304560" cy="335880"/>
            <a:chOff x="423720" y="4178160"/>
            <a:chExt cx="304560" cy="335880"/>
          </a:xfrm>
        </p:grpSpPr>
        <p:sp>
          <p:nvSpPr>
            <p:cNvPr id="404" name=""/>
            <p:cNvSpPr/>
            <p:nvPr/>
          </p:nvSpPr>
          <p:spPr>
            <a:xfrm>
              <a:off x="439560" y="42271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3720" y="41781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738440" y="0"/>
            <a:ext cx="74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-Time Data Web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267C-BD8D-45E6-B06D-386916B55B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403440" y="1874880"/>
            <a:ext cx="5588280" cy="2536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80880" y="3314880"/>
            <a:ext cx="8001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74600" y="2602080"/>
            <a:ext cx="5927760" cy="1464120"/>
            <a:chOff x="174600" y="2602080"/>
            <a:chExt cx="5927760" cy="1464120"/>
          </a:xfrm>
        </p:grpSpPr>
        <p:sp>
          <p:nvSpPr>
            <p:cNvPr id="410" name=""/>
            <p:cNvSpPr/>
            <p:nvPr/>
          </p:nvSpPr>
          <p:spPr>
            <a:xfrm>
              <a:off x="174600" y="2602080"/>
              <a:ext cx="335268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W Scheduled Impact = [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chedul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eneration -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chedul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oad] x [Monthly Shift Factor] for each CM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59480" y="2830680"/>
              <a:ext cx="542880" cy="304560"/>
            </a:xfrm>
            <a:prstGeom prst="ellipse">
              <a:avLst/>
            </a:prstGeom>
            <a:noFill/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070080" y="2999880"/>
              <a:ext cx="2430720" cy="135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4600" y="4552920"/>
            <a:ext cx="472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W Scheduled Impact (SI) for each CM Zone is summed for a particular CSC to arrive at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otal MW Scheduled Imp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particular C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92880" y="3941640"/>
            <a:ext cx="7617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594320" y="4211280"/>
            <a:ext cx="939600" cy="646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0920" y="4613400"/>
            <a:ext cx="4038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s can view SI values but these valu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by the ERCO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4080" y="1257480"/>
            <a:ext cx="4798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culated quantity that reflect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di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W flow for a particular CSC based on sche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38440" y="0"/>
            <a:ext cx="74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W Scheduled Impact (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D117-F490-4B62-AA04-2D7B6120B4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473800" y="1517760"/>
            <a:ext cx="36702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Selectabl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Selectable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Selectable inter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Abbreviated CSC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OC0 Limit for each C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OC1 Limit for each CSC used as input into S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CM zon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Monthly zonal shift facto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MW Scheduled Impact (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Total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Shad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89000" y="1459080"/>
            <a:ext cx="5283000" cy="396396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1994040" y="2197080"/>
            <a:ext cx="304560" cy="335880"/>
            <a:chOff x="1994040" y="2197080"/>
            <a:chExt cx="304560" cy="335880"/>
          </a:xfrm>
        </p:grpSpPr>
        <p:sp>
          <p:nvSpPr>
            <p:cNvPr id="422" name=""/>
            <p:cNvSpPr/>
            <p:nvPr/>
          </p:nvSpPr>
          <p:spPr>
            <a:xfrm>
              <a:off x="2009880" y="224604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94040" y="219708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486080" y="2457360"/>
            <a:ext cx="304560" cy="335880"/>
            <a:chOff x="1486080" y="2457360"/>
            <a:chExt cx="304560" cy="335880"/>
          </a:xfrm>
        </p:grpSpPr>
        <p:sp>
          <p:nvSpPr>
            <p:cNvPr id="425" name=""/>
            <p:cNvSpPr/>
            <p:nvPr/>
          </p:nvSpPr>
          <p:spPr>
            <a:xfrm>
              <a:off x="1501920" y="25063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86080" y="24573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486080" y="2738520"/>
            <a:ext cx="304560" cy="335880"/>
            <a:chOff x="1486080" y="2738520"/>
            <a:chExt cx="304560" cy="335880"/>
          </a:xfrm>
        </p:grpSpPr>
        <p:sp>
          <p:nvSpPr>
            <p:cNvPr id="428" name=""/>
            <p:cNvSpPr/>
            <p:nvPr/>
          </p:nvSpPr>
          <p:spPr>
            <a:xfrm>
              <a:off x="1501920" y="278748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86080" y="273852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6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160640" y="1633680"/>
            <a:ext cx="304560" cy="335880"/>
            <a:chOff x="1160640" y="1633680"/>
            <a:chExt cx="304560" cy="335880"/>
          </a:xfrm>
        </p:grpSpPr>
        <p:sp>
          <p:nvSpPr>
            <p:cNvPr id="431" name=""/>
            <p:cNvSpPr/>
            <p:nvPr/>
          </p:nvSpPr>
          <p:spPr>
            <a:xfrm>
              <a:off x="1176480" y="168264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60640" y="163368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005280" y="1635120"/>
            <a:ext cx="304560" cy="335880"/>
            <a:chOff x="3005280" y="1635120"/>
            <a:chExt cx="304560" cy="335880"/>
          </a:xfrm>
        </p:grpSpPr>
        <p:sp>
          <p:nvSpPr>
            <p:cNvPr id="434" name=""/>
            <p:cNvSpPr/>
            <p:nvPr/>
          </p:nvSpPr>
          <p:spPr>
            <a:xfrm>
              <a:off x="3021120" y="168408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05280" y="163512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510080" y="1636560"/>
            <a:ext cx="304560" cy="335880"/>
            <a:chOff x="4510080" y="1636560"/>
            <a:chExt cx="304560" cy="335880"/>
          </a:xfrm>
        </p:grpSpPr>
        <p:sp>
          <p:nvSpPr>
            <p:cNvPr id="437" name=""/>
            <p:cNvSpPr/>
            <p:nvPr/>
          </p:nvSpPr>
          <p:spPr>
            <a:xfrm>
              <a:off x="4525920" y="16855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10080" y="16365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54120" y="3602160"/>
            <a:ext cx="304560" cy="335880"/>
            <a:chOff x="654120" y="3602160"/>
            <a:chExt cx="304560" cy="335880"/>
          </a:xfrm>
        </p:grpSpPr>
        <p:sp>
          <p:nvSpPr>
            <p:cNvPr id="440" name=""/>
            <p:cNvSpPr/>
            <p:nvPr/>
          </p:nvSpPr>
          <p:spPr>
            <a:xfrm>
              <a:off x="669960" y="36511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4120" y="36021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7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519200" y="3198960"/>
            <a:ext cx="304560" cy="335880"/>
            <a:chOff x="1519200" y="3198960"/>
            <a:chExt cx="304560" cy="335880"/>
          </a:xfrm>
        </p:grpSpPr>
        <p:sp>
          <p:nvSpPr>
            <p:cNvPr id="443" name=""/>
            <p:cNvSpPr/>
            <p:nvPr/>
          </p:nvSpPr>
          <p:spPr>
            <a:xfrm>
              <a:off x="1535040" y="324792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19200" y="319896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424240" y="3262320"/>
            <a:ext cx="304560" cy="335880"/>
            <a:chOff x="2424240" y="3262320"/>
            <a:chExt cx="304560" cy="335880"/>
          </a:xfrm>
        </p:grpSpPr>
        <p:sp>
          <p:nvSpPr>
            <p:cNvPr id="446" name=""/>
            <p:cNvSpPr/>
            <p:nvPr/>
          </p:nvSpPr>
          <p:spPr>
            <a:xfrm>
              <a:off x="2440080" y="3311280"/>
              <a:ext cx="241200" cy="225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24240" y="3262320"/>
              <a:ext cx="3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112760" y="4770360"/>
            <a:ext cx="457200" cy="335880"/>
            <a:chOff x="1112760" y="4770360"/>
            <a:chExt cx="457200" cy="335880"/>
          </a:xfrm>
        </p:grpSpPr>
        <p:sp>
          <p:nvSpPr>
            <p:cNvPr id="449" name=""/>
            <p:cNvSpPr/>
            <p:nvPr/>
          </p:nvSpPr>
          <p:spPr>
            <a:xfrm>
              <a:off x="1143000" y="4790880"/>
              <a:ext cx="325440" cy="304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12760" y="4770360"/>
              <a:ext cx="45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204920" y="5216400"/>
            <a:ext cx="457200" cy="335880"/>
            <a:chOff x="1204920" y="5216400"/>
            <a:chExt cx="457200" cy="335880"/>
          </a:xfrm>
        </p:grpSpPr>
        <p:sp>
          <p:nvSpPr>
            <p:cNvPr id="452" name=""/>
            <p:cNvSpPr/>
            <p:nvPr/>
          </p:nvSpPr>
          <p:spPr>
            <a:xfrm>
              <a:off x="1235160" y="5236920"/>
              <a:ext cx="325440" cy="304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04920" y="5216400"/>
              <a:ext cx="45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65120" y="5668920"/>
            <a:ext cx="5105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* This represents expectations from a power flow case done the month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38440" y="0"/>
            <a:ext cx="74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C Web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8DDE-4BF0-4583-8E9F-8505B9DE9F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10552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0" y="1240920"/>
            <a:ext cx="410688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Shows data three days into the past and for remainder of today and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OC1 shows current market con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Manually updated in the adjustment or operating period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OC1 &lt;  9999 </a:t>
            </a:r>
            <a:r>
              <a:rPr b="0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oes not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necessarily indicate that there will be a zonal congestion charge (shadow 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Shadow Price &gt; $0.0 is indication that zonal congestion is being relieved with Balancing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202280" y="1216080"/>
            <a:ext cx="4767120" cy="39132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121280" y="5294160"/>
            <a:ext cx="48034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No information provided about local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8440" y="0"/>
            <a:ext cx="74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About the CSC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CC74-0697-467F-8757-CDCA067A1E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98360" y="3230640"/>
            <a:ext cx="199548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280" y="1750320"/>
            <a:ext cx="80755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RCOT software determines the optimal balancing instructions to relieve cong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1828-5653-4DB3-825A-6E0178363E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98360" y="3182760"/>
            <a:ext cx="1995480" cy="4114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2800" y="1707480"/>
            <a:ext cx="7831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SC zones abide in ERC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4953-058E-48E8-8292-B97CBC6C97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8360" y="3468600"/>
            <a:ext cx="540864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20" y="1623600"/>
            <a:ext cx="61772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ongestion is controll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zonal 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zero shadow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1 secur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-specific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8434-9FA8-4069-86DF-CC855F0F23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98360" y="2897280"/>
            <a:ext cx="199548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2520" y="1797840"/>
            <a:ext cx="8042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D executes every ___ minutes to deploy Balancing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DBC4-B821-47C8-A08F-388FBA8AB3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98360" y="2627280"/>
            <a:ext cx="199548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874880"/>
            <a:ext cx="8288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D’s OC3 constraint is an automatically created limit applied locally in real-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025D-91CB-4A00-A8BB-3E862F586F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ypes of Con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gestion on CSCs or CREs that can be resolved by zonal deployment of Balancing Energy Services (B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olled on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QSE portfolio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RCOT software determines the optimal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ter-zo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ortfolio balancing instructions to relieve CSC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ES instructions used to solve zonal congestion and/or energy imbalance are Category 1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st of solution is assigned directly to the QSEs whose schedules impact the C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647040" y="371520"/>
            <a:ext cx="2157120" cy="546120"/>
            <a:chOff x="6647040" y="371520"/>
            <a:chExt cx="2157120" cy="546120"/>
          </a:xfrm>
        </p:grpSpPr>
        <p:sp>
          <p:nvSpPr>
            <p:cNvPr id="59" name=""/>
            <p:cNvSpPr/>
            <p:nvPr/>
          </p:nvSpPr>
          <p:spPr>
            <a:xfrm>
              <a:off x="6647040" y="371520"/>
              <a:ext cx="2157120" cy="546120"/>
            </a:xfrm>
            <a:prstGeom prst="rect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08680" y="371520"/>
              <a:ext cx="1887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Z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F60B-4C70-4F14-BEA4-8D224414F7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8360" y="3262320"/>
            <a:ext cx="373392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1767960"/>
            <a:ext cx="7969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Contingency Analysis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egular 5-minute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a n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A3E2-4D02-4D33-836E-7658FF67C7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98360" y="3405240"/>
            <a:ext cx="199548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6800" y="1920240"/>
            <a:ext cx="82105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etting indicates a constraint is not a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9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A13D-6D1A-4C19-9044-554CA397ED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360" y="3801960"/>
            <a:ext cx="8656560" cy="7160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4760" y="190260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tegory 1 deployment i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l resource to operate at MW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l resource to operate at or above MW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l resource to operate at or below MW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onal portfolio to deliver quantity above or below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0F35-073A-4AA7-92BE-3945C7ED64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98360" y="3786120"/>
            <a:ext cx="419112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01720" y="2285640"/>
            <a:ext cx="7813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E is deploy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RCO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A58D-25D9-4CCA-AD05-9BEE9D43A5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98360" y="3675240"/>
            <a:ext cx="199548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960" y="2209680"/>
            <a:ext cx="7899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D Calculated Flow is available for view by Market Particip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44DF-8242-40A6-926E-AC04E00449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98360" y="2865600"/>
            <a:ext cx="348948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3040" y="2117160"/>
            <a:ext cx="7542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FT calcul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AE10-39A3-4550-916B-CCA4660605E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98360" y="4294080"/>
            <a:ext cx="7451640" cy="4111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27720" y="527040"/>
            <a:ext cx="612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 Re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2072520"/>
            <a:ext cx="8258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dial Action Plans and Mitigation Pla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definitions for performing power flow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enacted pre-contin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ed ho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enacted post-contin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A7A5-D1FB-43CF-B470-ABC6845DA5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3880" y="588600"/>
            <a:ext cx="67057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Zones and CS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160" y="2489040"/>
            <a:ext cx="2576520" cy="1938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65440" y="1589040"/>
            <a:ext cx="2370240" cy="250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3280" y="1666800"/>
            <a:ext cx="1544400" cy="116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116240" y="3890880"/>
            <a:ext cx="1462320" cy="1100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79600" y="4210200"/>
            <a:ext cx="2841480" cy="2136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103120" y="2589120"/>
            <a:ext cx="1020600" cy="565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32080" y="3017520"/>
            <a:ext cx="1022400" cy="579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033720" y="3627000"/>
            <a:ext cx="396720" cy="1096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703680" y="4525560"/>
            <a:ext cx="793800" cy="335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84560" y="3352680"/>
            <a:ext cx="731880" cy="822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89120" y="2316240"/>
            <a:ext cx="1020600" cy="290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2360" y="2540520"/>
            <a:ext cx="380880" cy="5180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4600" y="2247120"/>
            <a:ext cx="365040" cy="5180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71880" y="3891600"/>
            <a:ext cx="365040" cy="5180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9160" y="3496320"/>
            <a:ext cx="365400" cy="5180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4442400"/>
            <a:ext cx="365040" cy="5180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2520" y="3205800"/>
            <a:ext cx="365040" cy="5180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230640"/>
            <a:ext cx="44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25920" y="25210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22840" y="198756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6120" y="501984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2600" y="428940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07160" y="2973240"/>
            <a:ext cx="295596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 Sandow – Temple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 STP – Dow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 Jewett – THWarton Gibbons Creek - O’B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 Farmersville – Royse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520" y="1325520"/>
            <a:ext cx="3595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Graham – Parker/Benbr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 Parker/Benbrook - G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8783-F571-4AB4-A23C-0687647A0C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629400" y="385920"/>
            <a:ext cx="2074680" cy="548640"/>
            <a:chOff x="6629400" y="385920"/>
            <a:chExt cx="2074680" cy="548640"/>
          </a:xfrm>
        </p:grpSpPr>
        <p:sp>
          <p:nvSpPr>
            <p:cNvPr id="87" name=""/>
            <p:cNvSpPr/>
            <p:nvPr/>
          </p:nvSpPr>
          <p:spPr>
            <a:xfrm>
              <a:off x="6629400" y="385920"/>
              <a:ext cx="2074680" cy="548640"/>
            </a:xfrm>
            <a:prstGeom prst="rect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11120" y="434520"/>
              <a:ext cx="1797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87280" y="1378080"/>
            <a:ext cx="846144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ypes of Con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720" y="11779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t defined by a CSC or 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olled with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esource-specif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deployment or OOM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RCOT software (SPD) determines resource-specific instructions that best accomplish congestion relief. Resource-specific instructions may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tegory 2: At or below a M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tegory 3: At or above M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tegory 4: Go to a specific M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302B-A080-4699-9AF0-BD7F5FD24E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V="1">
            <a:off x="2971800" y="1828440"/>
            <a:ext cx="2286000" cy="12193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455920" y="3200040"/>
            <a:ext cx="1841400" cy="987480"/>
          </a:xfrm>
          <a:prstGeom prst="line">
            <a:avLst/>
          </a:prstGeom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341440" y="2980800"/>
            <a:ext cx="1843200" cy="9860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241720" y="2765520"/>
            <a:ext cx="1841400" cy="985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57320" y="2184120"/>
            <a:ext cx="1841400" cy="9874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855800" y="2001960"/>
            <a:ext cx="1843200" cy="985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60680" y="1859040"/>
            <a:ext cx="1841400" cy="98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68520" y="1762200"/>
            <a:ext cx="2301840" cy="29592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68520" y="1752480"/>
            <a:ext cx="2301840" cy="29592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30520" y="2499840"/>
            <a:ext cx="573120" cy="30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2567000">
            <a:off x="1130040" y="2678040"/>
            <a:ext cx="576000" cy="115920"/>
          </a:xfrm>
          <a:custGeom>
            <a:avLst/>
            <a:gdLst/>
            <a:ahLst/>
            <a:rect l="l" t="t" r="r" b="b"/>
            <a:pathLst>
              <a:path w="240" h="51">
                <a:moveTo>
                  <a:pt x="0" y="51"/>
                </a:moveTo>
                <a:cubicBezTo>
                  <a:pt x="16" y="25"/>
                  <a:pt x="32" y="0"/>
                  <a:pt x="72" y="0"/>
                </a:cubicBezTo>
                <a:cubicBezTo>
                  <a:pt x="112" y="0"/>
                  <a:pt x="176" y="25"/>
                  <a:pt x="240" y="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rot="5662800">
            <a:off x="3277440" y="1524960"/>
            <a:ext cx="576360" cy="115920"/>
          </a:xfrm>
          <a:custGeom>
            <a:avLst/>
            <a:gdLst/>
            <a:ahLst/>
            <a:rect l="l" t="t" r="r" b="b"/>
            <a:pathLst>
              <a:path w="240" h="51">
                <a:moveTo>
                  <a:pt x="0" y="51"/>
                </a:moveTo>
                <a:cubicBezTo>
                  <a:pt x="16" y="25"/>
                  <a:pt x="32" y="0"/>
                  <a:pt x="72" y="0"/>
                </a:cubicBezTo>
                <a:cubicBezTo>
                  <a:pt x="112" y="0"/>
                  <a:pt x="176" y="25"/>
                  <a:pt x="240" y="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87520" y="3843360"/>
            <a:ext cx="717480" cy="387360"/>
          </a:xfrm>
          <a:prstGeom prst="line">
            <a:avLst/>
          </a:prstGeom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5907600">
            <a:off x="2022480" y="4426920"/>
            <a:ext cx="547560" cy="122400"/>
          </a:xfrm>
          <a:custGeom>
            <a:avLst/>
            <a:gdLst/>
            <a:ahLst/>
            <a:rect l="l" t="t" r="r" b="b"/>
            <a:pathLst>
              <a:path w="240" h="51">
                <a:moveTo>
                  <a:pt x="0" y="51"/>
                </a:moveTo>
                <a:cubicBezTo>
                  <a:pt x="16" y="25"/>
                  <a:pt x="32" y="0"/>
                  <a:pt x="72" y="0"/>
                </a:cubicBezTo>
                <a:cubicBezTo>
                  <a:pt x="112" y="0"/>
                  <a:pt x="176" y="25"/>
                  <a:pt x="240" y="51"/>
                </a:cubicBezTo>
              </a:path>
            </a:pathLst>
          </a:custGeom>
          <a:noFill/>
          <a:ln w="381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 rot="12521400">
            <a:off x="4275360" y="3223800"/>
            <a:ext cx="547560" cy="122400"/>
          </a:xfrm>
          <a:custGeom>
            <a:avLst/>
            <a:gdLst/>
            <a:ahLst/>
            <a:rect l="l" t="t" r="r" b="b"/>
            <a:pathLst>
              <a:path w="240" h="51">
                <a:moveTo>
                  <a:pt x="0" y="51"/>
                </a:moveTo>
                <a:cubicBezTo>
                  <a:pt x="16" y="25"/>
                  <a:pt x="32" y="0"/>
                  <a:pt x="72" y="0"/>
                </a:cubicBezTo>
                <a:cubicBezTo>
                  <a:pt x="112" y="0"/>
                  <a:pt x="176" y="25"/>
                  <a:pt x="240" y="51"/>
                </a:cubicBezTo>
              </a:path>
            </a:pathLst>
          </a:custGeom>
          <a:noFill/>
          <a:ln w="38160">
            <a:solidFill>
              <a:srgbClr val="cc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00080" y="2641320"/>
            <a:ext cx="601920" cy="320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78000">
            <a:off x="863280" y="2954160"/>
            <a:ext cx="1036440" cy="25560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12"/>
                </a:moveTo>
                <a:cubicBezTo>
                  <a:pt x="64" y="72"/>
                  <a:pt x="128" y="32"/>
                  <a:pt x="192" y="16"/>
                </a:cubicBezTo>
                <a:cubicBezTo>
                  <a:pt x="256" y="0"/>
                  <a:pt x="352" y="16"/>
                  <a:pt x="384" y="16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7351800">
            <a:off x="3523680" y="1533600"/>
            <a:ext cx="1036800" cy="25560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12"/>
                </a:moveTo>
                <a:cubicBezTo>
                  <a:pt x="64" y="72"/>
                  <a:pt x="128" y="32"/>
                  <a:pt x="192" y="16"/>
                </a:cubicBezTo>
                <a:cubicBezTo>
                  <a:pt x="256" y="0"/>
                  <a:pt x="352" y="16"/>
                  <a:pt x="384" y="16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4560" y="3622680"/>
            <a:ext cx="707760" cy="3794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7241400">
            <a:off x="1419480" y="4218120"/>
            <a:ext cx="986040" cy="27000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12"/>
                </a:moveTo>
                <a:cubicBezTo>
                  <a:pt x="64" y="72"/>
                  <a:pt x="128" y="32"/>
                  <a:pt x="192" y="16"/>
                </a:cubicBezTo>
                <a:cubicBezTo>
                  <a:pt x="256" y="0"/>
                  <a:pt x="352" y="16"/>
                  <a:pt x="384" y="16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 rot="10988400">
            <a:off x="4177440" y="2742120"/>
            <a:ext cx="986040" cy="27000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12"/>
                </a:moveTo>
                <a:cubicBezTo>
                  <a:pt x="64" y="72"/>
                  <a:pt x="128" y="32"/>
                  <a:pt x="192" y="16"/>
                </a:cubicBezTo>
                <a:cubicBezTo>
                  <a:pt x="256" y="0"/>
                  <a:pt x="352" y="16"/>
                  <a:pt x="384" y="16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25640" y="2836440"/>
            <a:ext cx="655560" cy="3510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17745600">
            <a:off x="1149120" y="3100320"/>
            <a:ext cx="766800" cy="57636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88"/>
                  <a:pt x="136" y="136"/>
                  <a:pt x="192" y="96"/>
                </a:cubicBezTo>
                <a:cubicBezTo>
                  <a:pt x="248" y="56"/>
                  <a:pt x="312" y="16"/>
                  <a:pt x="336" y="0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 rot="484200">
            <a:off x="3809880" y="1675440"/>
            <a:ext cx="766800" cy="57600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88"/>
                  <a:pt x="136" y="136"/>
                  <a:pt x="192" y="96"/>
                </a:cubicBezTo>
                <a:cubicBezTo>
                  <a:pt x="248" y="56"/>
                  <a:pt x="312" y="16"/>
                  <a:pt x="336" y="0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151000" y="3406680"/>
            <a:ext cx="741600" cy="401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387600">
            <a:off x="1320840" y="3759120"/>
            <a:ext cx="806400" cy="54792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88"/>
                  <a:pt x="136" y="136"/>
                  <a:pt x="192" y="96"/>
                </a:cubicBezTo>
                <a:cubicBezTo>
                  <a:pt x="248" y="56"/>
                  <a:pt x="312" y="16"/>
                  <a:pt x="33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17842800">
            <a:off x="4103280" y="2262960"/>
            <a:ext cx="806400" cy="54756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88"/>
                  <a:pt x="136" y="136"/>
                  <a:pt x="192" y="96"/>
                </a:cubicBezTo>
                <a:cubicBezTo>
                  <a:pt x="248" y="56"/>
                  <a:pt x="312" y="16"/>
                  <a:pt x="33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50040" y="1252440"/>
            <a:ext cx="1117440" cy="908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901800" cy="844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3987720" y="990720"/>
            <a:ext cx="111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990720"/>
            <a:ext cx="106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68960" y="144792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11720" y="34480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9840" y="213372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5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54760" y="266688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24560" y="115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0240" y="114300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53920" y="36921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9160" y="3034080"/>
            <a:ext cx="1591560" cy="85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09800" y="3821040"/>
            <a:ext cx="488880" cy="26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Shadow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821200" y="2354400"/>
            <a:ext cx="31593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mental system cost ($) to decrease flow in direction of constraint by 1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on-zero shadow price on a CSC means that some balancing energy (zonal re-dispatch) was required to relieve cong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d by ERCOT system component called “SP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3747000">
            <a:off x="2203920" y="2660040"/>
            <a:ext cx="2033280" cy="546120"/>
          </a:xfrm>
          <a:prstGeom prst="rect">
            <a:avLst/>
          </a:prstGeom>
        </p:spPr>
        <p:txBody>
          <a:bodyPr wrap="none" fromWordArt="1" lIns="91800" rIns="91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miting Elem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F552-0DE2-4FBE-8955-04A5C987A5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98560" y="1357200"/>
            <a:ext cx="7683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ing, Pricing and Dispatch = S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s every 15 minutes to deploy Balancing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209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200400"/>
            <a:ext cx="312408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Verdana"/>
              </a:rPr>
              <a:t>Calculated CSC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Verdana"/>
              </a:rPr>
              <a:t>Calculated flow for OC2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Verdana"/>
              </a:rPr>
              <a:t>Portfolio Balancing Awards and resource specific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Verdana"/>
              </a:rPr>
              <a:t>Zonal MC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604600"/>
            <a:ext cx="2666880" cy="3974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ffff00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4120" y="2604600"/>
            <a:ext cx="3276360" cy="1662480"/>
            <a:chOff x="5334120" y="2604600"/>
            <a:chExt cx="3276360" cy="1662480"/>
          </a:xfrm>
        </p:grpSpPr>
        <p:sp>
          <p:nvSpPr>
            <p:cNvPr id="141" name=""/>
            <p:cNvSpPr/>
            <p:nvPr/>
          </p:nvSpPr>
          <p:spPr>
            <a:xfrm>
              <a:off x="6324480" y="2604600"/>
              <a:ext cx="2286000" cy="397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Verdana"/>
                </a:rPr>
                <a:t>Outpu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4120" y="3733920"/>
              <a:ext cx="609480" cy="533160"/>
            </a:xfrm>
            <a:prstGeom prst="rightArrow">
              <a:avLst>
                <a:gd name="adj1" fmla="val 50000"/>
                <a:gd name="adj2" fmla="val 28579"/>
              </a:avLst>
            </a:prstGeom>
            <a:solidFill>
              <a:srgbClr val="cc0066"/>
            </a:solid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00400" y="37339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3333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276720"/>
            <a:ext cx="3429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Telemetered Generator MW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Shift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Forecasted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QSE Energy Sche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QSE Resource Pla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OC1 and OC2 constraint lim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429000" y="2666880"/>
            <a:ext cx="2362320" cy="2988360"/>
            <a:chOff x="3429000" y="2666880"/>
            <a:chExt cx="2362320" cy="298836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4038840" y="2895480"/>
              <a:ext cx="150156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 txBox="1"/>
            <p:nvPr/>
          </p:nvSpPr>
          <p:spPr>
            <a:xfrm>
              <a:off x="4267440" y="2666880"/>
              <a:ext cx="676080" cy="428400"/>
            </a:xfrm>
            <a:prstGeom prst="rect">
              <a:avLst/>
            </a:prstGeom>
          </p:spPr>
          <p:txBody>
            <a:bodyPr wrap="none" fromWordArt="1" lIns="91800" rIns="91800" anchor="ctr" anchorCtr="1">
              <a:prstTxWarp prst="textArchUp">
                <a:avLst>
                  <a:gd name="adj" fmla="val 1223701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P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4647960"/>
              <a:ext cx="23623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RCOT Market Operating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696680" y="5791320"/>
            <a:ext cx="605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Not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al time (Physical) limi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not visible to S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ing, Pricing &amp; Dispa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14F0-1FD1-4D34-82AA-B26504B6C8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443720" y="5495760"/>
            <a:ext cx="1447920" cy="743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5240" y="5511960"/>
            <a:ext cx="4952880" cy="742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ically created limit used in local conges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12680" y="5497560"/>
            <a:ext cx="1524240" cy="743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000" y="5513400"/>
            <a:ext cx="838080" cy="743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3960" y="4478400"/>
            <a:ext cx="144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1080" y="4478400"/>
            <a:ext cx="49528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may be changed in adjustment or operating period based on impending conges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6840" y="4478400"/>
            <a:ext cx="15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760" y="4478400"/>
            <a:ext cx="838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73960" y="3149640"/>
            <a:ext cx="1447920" cy="1328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1080" y="3149640"/>
            <a:ext cx="4952880" cy="1328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D limit may be changed in adjustment or  operating period based on impending congestion 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 of 9999 indicates constraint not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6840" y="3149640"/>
            <a:ext cx="1524240" cy="1328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 / C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" y="3149640"/>
            <a:ext cx="838080" cy="1328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3960" y="1558800"/>
            <a:ext cx="144792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21080" y="1558800"/>
            <a:ext cx="495288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lanning studies taking into account                  planned outages, flow patt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of TCRs and CSC congestion no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ressed in favor of OC1 in Real-time Bal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6840" y="1558800"/>
            <a:ext cx="152424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760" y="1558800"/>
            <a:ext cx="83808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73960" y="1168560"/>
            <a:ext cx="1447920" cy="39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1080" y="1168560"/>
            <a:ext cx="4952880" cy="39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6840" y="1168560"/>
            <a:ext cx="1524240" cy="39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1168560"/>
            <a:ext cx="838080" cy="39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760" y="1168560"/>
            <a:ext cx="876312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558800"/>
            <a:ext cx="87631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3149640"/>
            <a:ext cx="87631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760" y="4478400"/>
            <a:ext cx="87631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360" y="551196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920" y="6253200"/>
            <a:ext cx="876312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760" y="1168560"/>
            <a:ext cx="31680" cy="507204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83880" y="1168560"/>
            <a:ext cx="12600" cy="51019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06680" y="1168560"/>
            <a:ext cx="14400" cy="50846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73960" y="1168560"/>
            <a:ext cx="1440" cy="5054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878680" y="1168560"/>
            <a:ext cx="42840" cy="510048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60640" y="665280"/>
            <a:ext cx="670536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Constraints Used by SP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8332-D5A0-4B57-888B-2A6D1FDEC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41:13Z</dcterms:created>
  <dc:creator>Marguerite Wagner</dc:creator>
  <dc:description/>
  <cp:keywords/>
  <dc:language>en-US</dc:language>
  <cp:lastModifiedBy>vweldon</cp:lastModifiedBy>
  <cp:lastPrinted>2000-04-06T20:17:02Z</cp:lastPrinted>
  <dcterms:modified xsi:type="dcterms:W3CDTF">2005-04-05T12:45:45Z</dcterms:modified>
  <cp:revision>1350</cp:revision>
  <dc:subject>Cong Mgmt</dc:subject>
  <dc:title>Presentation Title</dc:title>
</cp:coreProperties>
</file>