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FD5-FC71-4E62-A5D1-BFBF6FAA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4A2-E94E-465E-A3AF-D6EAD7A7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BDD-2F1F-411F-AB04-33637F72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2C1-8CDA-465C-BC20-299C3E97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B4F-81E5-4F87-A689-3D5E0688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560-1921-49FD-AB9E-7487C04B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CE7-CB26-4252-9454-42B1895B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CB8-EC9C-4F2F-9EEC-AEF5E578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7DC-124A-4512-9D72-983DB60F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295-7FC0-4CBB-8D15-4336CDBC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98C-5932-45DF-8A8A-01C8810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EF4-8102-45B9-8BDB-417543EC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099-42EA-4128-B78D-A0F557150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787320"/>
            <a:ext cx="8153280" cy="3705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8800" y="4341960"/>
            <a:ext cx="793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Rounded MT Bold"/>
              </a:rPr>
              <a:t>2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Arial Rounded MT Bold"/>
              </a:rPr>
              <a:t>nd</a:t>
            </a:r>
            <a:r>
              <a:rPr b="1" i="1" lang="en-US" sz="4800" spc="-1" strike="noStrike">
                <a:solidFill>
                  <a:srgbClr val="333399"/>
                </a:solidFill>
                <a:latin typeface="Arial Rounded MT Bold"/>
              </a:rPr>
              <a:t>Annua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Rounded MT Bold"/>
              </a:rPr>
              <a:t>ERCOT Operations Semi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787320"/>
            <a:ext cx="8153280" cy="37054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68800" y="4341960"/>
            <a:ext cx="793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Rounded MT Bold"/>
              </a:rPr>
              <a:t>2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Arial Rounded MT Bold"/>
              </a:rPr>
              <a:t>nd</a:t>
            </a:r>
            <a:r>
              <a:rPr b="1" i="1" lang="en-US" sz="4800" spc="-1" strike="noStrike">
                <a:solidFill>
                  <a:srgbClr val="333399"/>
                </a:solidFill>
                <a:latin typeface="Arial Rounded MT Bold"/>
              </a:rPr>
              <a:t>Annua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Rounded MT Bold"/>
              </a:rPr>
              <a:t>ERCOT Operations Semi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24080" y="7632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22</a:t>
            </a:r>
            <a:r>
              <a:rPr b="1" i="1" lang="en-US" sz="2400" spc="-1" strike="noStrike" baseline="30000">
                <a:solidFill>
                  <a:srgbClr val="336e71"/>
                </a:solidFill>
                <a:latin typeface="Arial Rounded MT Bold"/>
              </a:rPr>
              <a:t>nd </a:t>
            </a: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Ann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ERCOT Operations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72360" y="15228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e71"/>
                </a:solidFill>
                <a:latin typeface="Arial Rounded MT Bold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520" y="1143000"/>
            <a:ext cx="5307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 Section 4: Emer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Start Pla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’s Role in System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ing and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&amp;A Open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Event &amp; Common Sens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s(Plan, Sched, &amp; Studies)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s(Plan, Sched, &amp; Studies)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t Operations: Rele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/Op Guide Chang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ance Program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ance Requirements for Q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of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NODAL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 Summer P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048120" y="2971800"/>
            <a:ext cx="39621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16760" y="2514600"/>
            <a:ext cx="212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Questions early. Managers from Operations, Ops Support, Congestion Management, and Ops Engineering will be available to address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33920" y="3809880"/>
            <a:ext cx="1752480" cy="6098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1752480"/>
            <a:ext cx="1600200" cy="259092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2590920"/>
              <a:gd name="textAreaBottom" fmla="*/ 2512800 h 2590920"/>
            </a:gdLst>
            <a:ahLst/>
            <a:rect l="textAreaLeft" t="textAreaTop" r="textAreaRight" b="textAreaBottom"/>
            <a:pathLst>
              <a:path w="21600" h="34970">
                <a:moveTo>
                  <a:pt x="3600" y="0"/>
                </a:moveTo>
                <a:arcTo wR="3600" hR="3600" stAng="16200000" swAng="-5400000"/>
                <a:lnTo>
                  <a:pt x="0" y="31370"/>
                </a:lnTo>
                <a:arcTo wR="3600" hR="3600" stAng="10800000" swAng="-5400000"/>
                <a:lnTo>
                  <a:pt x="18000" y="349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752480"/>
            <a:ext cx="2057400" cy="25909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590920"/>
              <a:gd name="textAreaBottom" fmla="*/ 2490480 h 2590920"/>
            </a:gdLst>
            <a:ahLst/>
            <a:rect l="textAreaLeft" t="textAreaTop" r="textAreaRight" b="textAreaBottom"/>
            <a:pathLst>
              <a:path w="21600" h="27200">
                <a:moveTo>
                  <a:pt x="3600" y="0"/>
                </a:moveTo>
                <a:arcTo wR="3600" hR="3600" stAng="16200000" swAng="-5400000"/>
                <a:lnTo>
                  <a:pt x="0" y="23600"/>
                </a:lnTo>
                <a:arcTo wR="3600" hR="3600" stAng="10800000" swAng="-5400000"/>
                <a:lnTo>
                  <a:pt x="18000" y="27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571500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133720"/>
            <a:ext cx="46483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24080" y="7632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22</a:t>
            </a:r>
            <a:r>
              <a:rPr b="1" i="1" lang="en-US" sz="2400" spc="-1" strike="noStrike" baseline="30000">
                <a:solidFill>
                  <a:srgbClr val="336e71"/>
                </a:solidFill>
                <a:latin typeface="Arial Rounded MT Bold"/>
              </a:rPr>
              <a:t>nd </a:t>
            </a: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Ann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ERCOT Operations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76320"/>
            <a:ext cx="121932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00400" y="2292480"/>
            <a:ext cx="2438280" cy="1162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962520" y="3733920"/>
            <a:ext cx="1218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962520"/>
            <a:ext cx="3049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962520"/>
            <a:ext cx="3049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514600"/>
            <a:ext cx="457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6705720" y="2514240"/>
            <a:ext cx="457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0" y="465444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ated Smoking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3429000"/>
            <a:ext cx="609840" cy="1600200"/>
          </a:xfrm>
          <a:custGeom>
            <a:avLst/>
            <a:gdLst/>
            <a:ahLst/>
            <a:rect l="l" t="t" r="r" b="b"/>
            <a:pathLst>
              <a:path w="384" h="1008">
                <a:moveTo>
                  <a:pt x="384" y="1008"/>
                </a:moveTo>
                <a:cubicBezTo>
                  <a:pt x="192" y="780"/>
                  <a:pt x="0" y="552"/>
                  <a:pt x="0" y="384"/>
                </a:cubicBezTo>
                <a:cubicBezTo>
                  <a:pt x="0" y="216"/>
                  <a:pt x="192" y="108"/>
                  <a:pt x="3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3429000"/>
            <a:ext cx="533520" cy="1600200"/>
          </a:xfrm>
          <a:custGeom>
            <a:avLst/>
            <a:gdLst/>
            <a:ahLst/>
            <a:rect l="l" t="t" r="r" b="b"/>
            <a:pathLst>
              <a:path w="336" h="1008">
                <a:moveTo>
                  <a:pt x="0" y="1008"/>
                </a:moveTo>
                <a:cubicBezTo>
                  <a:pt x="168" y="780"/>
                  <a:pt x="336" y="552"/>
                  <a:pt x="336" y="384"/>
                </a:cubicBezTo>
                <a:cubicBezTo>
                  <a:pt x="336" y="216"/>
                  <a:pt x="168" y="10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971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2590920"/>
            <a:ext cx="23623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9718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-360" y="44956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7200" y="1371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371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90512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990360" y="1905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1905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7432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743200"/>
            <a:ext cx="304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2004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767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6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767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7339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0384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29718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3352680"/>
            <a:ext cx="16761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ck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276720"/>
            <a:ext cx="167616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3200400"/>
            <a:ext cx="1752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35268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3526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15400" y="1371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0640" y="4219560"/>
            <a:ext cx="14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225-7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679120" y="19270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6160" y="874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91440" y="852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2193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1219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9200" y="20574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76320"/>
            <a:ext cx="1219320" cy="655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72400" y="3048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1072000">
            <a:off x="6629040" y="3048120"/>
            <a:ext cx="1143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1027000">
            <a:off x="6627600" y="297180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3960" y="1865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OU AR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838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781680" y="2438280"/>
            <a:ext cx="190512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V I E W I N G    G L A S 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553080" y="3657600"/>
            <a:ext cx="2362320" cy="838080"/>
            <a:chOff x="6553080" y="3657600"/>
            <a:chExt cx="2362320" cy="838080"/>
          </a:xfrm>
        </p:grpSpPr>
        <p:sp>
          <p:nvSpPr>
            <p:cNvPr id="152" name=""/>
            <p:cNvSpPr/>
            <p:nvPr/>
          </p:nvSpPr>
          <p:spPr>
            <a:xfrm>
              <a:off x="6553080" y="3657600"/>
              <a:ext cx="2362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9            2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7240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H="1">
            <a:off x="1523520" y="3162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3098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3352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2440" y="5257800"/>
            <a:ext cx="82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TA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d ribb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ignate seminar staff which includes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24080" y="7632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22</a:t>
            </a:r>
            <a:r>
              <a:rPr b="1" i="1" lang="en-US" sz="2400" spc="-1" strike="noStrike" baseline="30000">
                <a:solidFill>
                  <a:srgbClr val="336e71"/>
                </a:solidFill>
                <a:latin typeface="Arial Rounded MT Bold"/>
              </a:rPr>
              <a:t>nd </a:t>
            </a: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Ann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ERCOT Operations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59400" y="533520"/>
            <a:ext cx="572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EETING COURTES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2040" y="1420920"/>
            <a:ext cx="82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Phones:  TURN OFF or Place on vi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743200"/>
            <a:ext cx="79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 : Ringing bell signals the end of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1800" y="4145040"/>
            <a:ext cx="85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Please use micro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76320"/>
            <a:ext cx="121932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5248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2971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2590920"/>
            <a:ext cx="23623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9718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-360" y="44956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57200" y="1371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371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90512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990360" y="1905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1905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7432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743200"/>
            <a:ext cx="304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32004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767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2767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276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7339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0384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29718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3352680"/>
            <a:ext cx="16761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ck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3276720"/>
            <a:ext cx="167616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3200400"/>
            <a:ext cx="1752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335268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33526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15400" y="1371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0640" y="4219560"/>
            <a:ext cx="14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225-7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679120" y="19270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6160" y="874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91440" y="852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2193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1219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9200" y="20574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76320"/>
            <a:ext cx="1219320" cy="655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772400" y="3048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072000">
            <a:off x="6629040" y="3048120"/>
            <a:ext cx="1143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1027000">
            <a:off x="6627600" y="297180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3960" y="1865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OU AR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838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81680" y="2438280"/>
            <a:ext cx="190512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V I E W I N G    G L A S 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523520" y="3162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3098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3352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8769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ooperation with Security will make life easier and simpler for ever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240" y="5318280"/>
            <a:ext cx="61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Wear badges on upper torso where easily vi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4440" y="5775480"/>
            <a:ext cx="867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eturn badge to Security at the end of each day, and pick-up when you arr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553080" y="3657600"/>
            <a:ext cx="2362320" cy="838080"/>
            <a:chOff x="6553080" y="3657600"/>
            <a:chExt cx="2362320" cy="838080"/>
          </a:xfrm>
        </p:grpSpPr>
        <p:sp>
          <p:nvSpPr>
            <p:cNvPr id="241" name=""/>
            <p:cNvSpPr/>
            <p:nvPr/>
          </p:nvSpPr>
          <p:spPr>
            <a:xfrm>
              <a:off x="6553080" y="3657600"/>
              <a:ext cx="2362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9            2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240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924080" y="7632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22</a:t>
            </a:r>
            <a:r>
              <a:rPr b="1" i="1" lang="en-US" sz="2400" spc="-1" strike="noStrike" baseline="30000">
                <a:solidFill>
                  <a:srgbClr val="336e71"/>
                </a:solidFill>
                <a:latin typeface="Arial Rounded MT Bold"/>
              </a:rPr>
              <a:t>nd </a:t>
            </a: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Ann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ERCOT Operations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438280" y="4114800"/>
            <a:ext cx="1752840" cy="6094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2057400"/>
            <a:ext cx="1600200" cy="259092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2590920"/>
              <a:gd name="textAreaBottom" fmla="*/ 2512800 h 2590920"/>
            </a:gdLst>
            <a:ahLst/>
            <a:rect l="textAreaLeft" t="textAreaTop" r="textAreaRight" b="textAreaBottom"/>
            <a:pathLst>
              <a:path w="21600" h="34970">
                <a:moveTo>
                  <a:pt x="3600" y="0"/>
                </a:moveTo>
                <a:arcTo wR="3600" hR="3600" stAng="16200000" swAng="-5400000"/>
                <a:lnTo>
                  <a:pt x="0" y="31370"/>
                </a:lnTo>
                <a:arcTo wR="3600" hR="3600" stAng="10800000" swAng="-5400000"/>
                <a:lnTo>
                  <a:pt x="18000" y="349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2057400"/>
            <a:ext cx="2057400" cy="25909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590920"/>
              <a:gd name="textAreaBottom" fmla="*/ 2490480 h 2590920"/>
            </a:gdLst>
            <a:ahLst/>
            <a:rect l="textAreaLeft" t="textAreaTop" r="textAreaRight" b="textAreaBottom"/>
            <a:pathLst>
              <a:path w="21600" h="27200">
                <a:moveTo>
                  <a:pt x="3600" y="0"/>
                </a:moveTo>
                <a:arcTo wR="3600" hR="3600" stAng="16200000" swAng="-5400000"/>
                <a:lnTo>
                  <a:pt x="0" y="23600"/>
                </a:lnTo>
                <a:arcTo wR="3600" hR="3600" stAng="10800000" swAng="-5400000"/>
                <a:lnTo>
                  <a:pt x="18000" y="27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209680"/>
            <a:ext cx="571500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2438280"/>
            <a:ext cx="4647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76320"/>
            <a:ext cx="1219320" cy="655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46280" y="491652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vent of a Fire Alarm.  Meet in ERCOT’s parking lot behind Denny’s , toward LaQu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905120" y="2597040"/>
            <a:ext cx="2438280" cy="1162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666880" y="4038480"/>
            <a:ext cx="12193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4267080"/>
            <a:ext cx="3045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4267080"/>
            <a:ext cx="3049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819520"/>
            <a:ext cx="4572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410080" y="2819520"/>
            <a:ext cx="4572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100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00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17160" y="37339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OCR A Extended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2743200"/>
            <a:ext cx="4876920" cy="2413080"/>
          </a:xfrm>
          <a:custGeom>
            <a:avLst/>
            <a:gdLst/>
            <a:ahLst/>
            <a:rect l="l" t="t" r="r" b="b"/>
            <a:pathLst>
              <a:path w="3072" h="1520">
                <a:moveTo>
                  <a:pt x="96" y="816"/>
                </a:moveTo>
                <a:cubicBezTo>
                  <a:pt x="48" y="872"/>
                  <a:pt x="0" y="928"/>
                  <a:pt x="96" y="960"/>
                </a:cubicBezTo>
                <a:cubicBezTo>
                  <a:pt x="192" y="992"/>
                  <a:pt x="560" y="944"/>
                  <a:pt x="672" y="1008"/>
                </a:cubicBezTo>
                <a:cubicBezTo>
                  <a:pt x="784" y="1072"/>
                  <a:pt x="544" y="1296"/>
                  <a:pt x="768" y="1344"/>
                </a:cubicBezTo>
                <a:cubicBezTo>
                  <a:pt x="992" y="1392"/>
                  <a:pt x="1632" y="1520"/>
                  <a:pt x="2016" y="1296"/>
                </a:cubicBezTo>
                <a:cubicBezTo>
                  <a:pt x="2400" y="1072"/>
                  <a:pt x="2736" y="536"/>
                  <a:pt x="30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24080" y="7632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22</a:t>
            </a:r>
            <a:r>
              <a:rPr b="1" i="1" lang="en-US" sz="2400" spc="-1" strike="noStrike" baseline="30000">
                <a:solidFill>
                  <a:srgbClr val="336e71"/>
                </a:solidFill>
                <a:latin typeface="Arial Rounded MT Bold"/>
              </a:rPr>
              <a:t>nd </a:t>
            </a: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Ann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ERCOT Operations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5248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2971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590920"/>
            <a:ext cx="23623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29718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-360" y="44956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1371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71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190512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990360" y="1905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1905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27432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2743200"/>
            <a:ext cx="304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32004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810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288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2767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2767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276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2767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37339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40384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43400" y="29718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3352680"/>
            <a:ext cx="16761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ck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3276720"/>
            <a:ext cx="167616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91120" y="3200400"/>
            <a:ext cx="1752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335268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3526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915400" y="1371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50640" y="4219560"/>
            <a:ext cx="14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225-7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2679120" y="19270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160" y="874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91440" y="852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12193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5120" y="1219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9200" y="20574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76320"/>
            <a:ext cx="1219320" cy="655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72400" y="3048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1072000">
            <a:off x="6629040" y="3048120"/>
            <a:ext cx="1143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1027000">
            <a:off x="6627600" y="297180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838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781680" y="2438280"/>
            <a:ext cx="190512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V I E W I N G    G L A S 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777240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523520" y="3162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3098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3352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11430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105520" y="1523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038480" y="1523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45880" y="464832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RSDAY  wrap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7640" y="5003640"/>
            <a:ext cx="44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Complete Seminar Critique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6280" y="5394240"/>
            <a:ext cx="79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Come down the center aisle and exchange Critique for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1320" y="5775480"/>
            <a:ext cx="43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Present Certificate for Me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553080" y="3657600"/>
            <a:ext cx="2362320" cy="838080"/>
            <a:chOff x="6553080" y="3657600"/>
            <a:chExt cx="2362320" cy="838080"/>
          </a:xfrm>
        </p:grpSpPr>
        <p:sp>
          <p:nvSpPr>
            <p:cNvPr id="359" name=""/>
            <p:cNvSpPr/>
            <p:nvPr/>
          </p:nvSpPr>
          <p:spPr>
            <a:xfrm>
              <a:off x="6553080" y="3657600"/>
              <a:ext cx="2362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9            2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7240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64320" y="6156360"/>
            <a:ext cx="721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Drop your badge with Security downstairs when you le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24080" y="7632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22</a:t>
            </a:r>
            <a:r>
              <a:rPr b="1" i="1" lang="en-US" sz="2400" spc="-1" strike="noStrike" baseline="30000">
                <a:solidFill>
                  <a:srgbClr val="336e71"/>
                </a:solidFill>
                <a:latin typeface="Arial Rounded MT Bold"/>
              </a:rPr>
              <a:t>nd </a:t>
            </a: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Ann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e71"/>
                </a:solidFill>
                <a:latin typeface="Arial Rounded MT Bold"/>
              </a:rPr>
              <a:t>ERCOT Operations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INTRODUC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55920" y="4327560"/>
            <a:ext cx="277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-152280"/>
            <a:ext cx="81532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6:15:33Z</dcterms:created>
  <dc:creator> Vann Weldon</dc:creator>
  <dc:description/>
  <dc:language>en-US</dc:language>
  <cp:lastModifiedBy>ROS</cp:lastModifiedBy>
  <dcterms:modified xsi:type="dcterms:W3CDTF">2005-04-18T15:49:32Z</dcterms:modified>
  <cp:revision>24</cp:revision>
  <dc:subject/>
  <dc:title>Slide 1</dc:title>
</cp:coreProperties>
</file>