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0CC1AC-EADE-419E-9AEF-083B0424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584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1799AB-D777-467D-BCD5-F74149C4B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584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5DFB47-CCB2-4DF7-8C79-2E7DB006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4F0E27-2FC8-4082-8992-AD8F44ACA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6D0-7A13-4A8E-85A6-63F4FF5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D6B-F38F-4B06-874A-0FE2BA0C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E83-E7A7-4867-A47A-DCB38841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E37-10D9-417B-BC61-521DE8DF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11EC-F287-4E35-B375-C7DD55EC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A4F-9DFE-46D8-B0AF-3432E9A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9BB7-D5AD-4C40-A5C9-7B9F0FB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97DB-8408-4122-8D5D-910EE9E3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B321-2736-4595-AFC4-54AE6A5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50E2-DC02-4E25-BBC9-C80B239C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BF24-5902-4736-AE02-E78198F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6AE-3605-414E-9265-2B7F51A1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8E8A-407E-4F8E-8D83-438AEC8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9CFE-2301-4667-8DC5-046C1FF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982-621F-46EF-B8C2-C0FDF993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63F-C127-48C3-A241-6B6FEE5A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5086-C070-41A4-AA22-5A47219B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2CF-8C0D-4A84-9DE7-25FE85C5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4B4-391B-40B6-A39C-8F1971C4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202-3F98-43D1-98C3-342F600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78F-1706-44B1-91F3-4AAF2C6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E41-74BF-4770-ADD8-245ECBC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5C8-F477-463E-B754-67D8139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28F-49A8-46B2-AC6F-7ED81DCA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076-B413-4925-A0C3-ABC10241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B00D-57CD-4A7F-B10E-99108A816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05 ERCOT Annual Semina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E. Em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ska Power Services 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calculates a monthly score for each meas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SE Measure Score = 1 –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309840"/>
            <a:ext cx="76320" cy="129564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5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Occur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# of Monthly S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3352680"/>
            <a:ext cx="141120" cy="1295640"/>
          </a:xfrm>
          <a:custGeom>
            <a:avLst/>
            <a:gdLst>
              <a:gd name="textAreaLeft" fmla="*/ 0 w 141120"/>
              <a:gd name="textAreaRight" fmla="*/ 50760 w 1411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C46-99BB-4052-A082-3DDED90CAB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9907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752480"/>
          <a:ext cx="9144000" cy="5105160"/>
        </p:xfrm>
        <a:graphic>
          <a:graphicData uri="http://schemas.openxmlformats.org/drawingml/2006/table">
            <a:tbl>
              <a:tblPr/>
              <a:tblGrid>
                <a:gridCol w="1835280"/>
                <a:gridCol w="1108080"/>
                <a:gridCol w="6200640"/>
              </a:tblGrid>
              <a:tr h="646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Plan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ed Net 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Resource's Planned MW 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mp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 / Min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's 10-minute ramp rate, expressed in MW per minu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tion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rfrequency Relay (LaaR qualified to provide RR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lable Load (LaaR qualified to provide B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ruptible Load (LaaR qualified to provide NSR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GEN_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unique Resource ID code for each registered Resource represented by the Q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/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otes whether Resource is on-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8EE-7EBF-4F90-AD5C-41D3FF89EC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9907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s (co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752480"/>
          <a:ext cx="9144000" cy="5104800"/>
        </p:xfrm>
        <a:graphic>
          <a:graphicData uri="http://schemas.openxmlformats.org/drawingml/2006/table">
            <a:tbl>
              <a:tblPr/>
              <a:tblGrid>
                <a:gridCol w="2045160"/>
                <a:gridCol w="877320"/>
                <a:gridCol w="6221520"/>
              </a:tblGrid>
              <a:tr h="760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Plan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/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otes whether Resource i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/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y applies to LaaR - Yes means LaaR providing BES or A/S.  No means LaaR available for RP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 S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/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otes whether Resource is providing Non-Spinning Reserve 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SL (Low Sustainable Lim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minimum net dependable capability of a resource that may be delivered for an indefinite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L (High Sustainable Lim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maximum net dependable capacity of a Resource that may be delivered for an indefinite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 Prem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/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Category Generic Up Price ($/M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Prem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/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Category Generic Down Price ($/M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2E5-D247-4C20-B22B-A708F3E9F0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9907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s (co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752480"/>
          <a:ext cx="9143640" cy="5105160"/>
        </p:xfrm>
        <a:graphic>
          <a:graphicData uri="http://schemas.openxmlformats.org/drawingml/2006/table">
            <a:tbl>
              <a:tblPr/>
              <a:tblGrid>
                <a:gridCol w="1895760"/>
                <a:gridCol w="859320"/>
                <a:gridCol w="6388560"/>
              </a:tblGrid>
              <a:tr h="55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Plan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L (Low Operating Lim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minimum net dependable capability of a resource that may be delivered for a period of up to one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 (High Operating Lim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maximum net dependable capability of a Resource that may be delivered for a period of up to one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Con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restric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inten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Emi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Fu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Physical Lim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Relea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cle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annual starts (365 means 1 start a day, 52 means 1 start a week, 12 means 1 start a mont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u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hours prior to start (5 means 5 hours, 0.5 means 30 minutes, 0 means already on-li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644-9DBC-4198-91D3-166A01620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0" y="2286000"/>
            <a:ext cx="533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43280" y="2590920"/>
            <a:ext cx="523800" cy="2133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343400"/>
            <a:ext cx="5335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533520" cy="6858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43280" y="2593800"/>
            <a:ext cx="1333440" cy="64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56000" y="2600280"/>
            <a:ext cx="277920" cy="2124000"/>
          </a:xfrm>
          <a:custGeom>
            <a:avLst/>
            <a:gdLst>
              <a:gd name="textAreaLeft" fmla="*/ 177480 w 277920"/>
              <a:gd name="textAreaRight" fmla="*/ 277920 w 277920"/>
              <a:gd name="textAreaTop" fmla="*/ 55080 h 2124000"/>
              <a:gd name="textAreaBottom" fmla="*/ 2068920 h 21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00560" y="2600280"/>
            <a:ext cx="217440" cy="684360"/>
          </a:xfrm>
          <a:custGeom>
            <a:avLst/>
            <a:gdLst>
              <a:gd name="textAreaLeft" fmla="*/ 0 w 217440"/>
              <a:gd name="textAreaRight" fmla="*/ 78480 w 217440"/>
              <a:gd name="textAreaTop" fmla="*/ 17640 h 684360"/>
              <a:gd name="textAreaBottom" fmla="*/ 666720 h 6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343400"/>
            <a:ext cx="236520" cy="1065240"/>
          </a:xfrm>
          <a:custGeom>
            <a:avLst/>
            <a:gdLst>
              <a:gd name="textAreaLeft" fmla="*/ 0 w 236520"/>
              <a:gd name="textAreaRight" fmla="*/ 85320 w 236520"/>
              <a:gd name="textAreaTop" fmla="*/ 27720 h 1065240"/>
              <a:gd name="textAreaBottom" fmla="*/ 103752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243828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H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37880" y="234936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85240" y="2476440"/>
            <a:ext cx="81468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7840" y="4648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54640" y="2313000"/>
            <a:ext cx="217440" cy="1008000"/>
          </a:xfrm>
          <a:custGeom>
            <a:avLst/>
            <a:gdLst>
              <a:gd name="textAreaLeft" fmla="*/ 0 w 217440"/>
              <a:gd name="textAreaRight" fmla="*/ 7848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066680"/>
            <a:ext cx="76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le UBES Bid Based on Resourc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49568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L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276720"/>
            <a:ext cx="53352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Ancillary Service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276720"/>
            <a:ext cx="236520" cy="1065240"/>
          </a:xfrm>
          <a:custGeom>
            <a:avLst/>
            <a:gdLst>
              <a:gd name="textAreaLeft" fmla="*/ 0 w 236520"/>
              <a:gd name="textAreaRight" fmla="*/ 85320 w 236520"/>
              <a:gd name="textAreaTop" fmla="*/ 27720 h 1065240"/>
              <a:gd name="textAreaBottom" fmla="*/ 103752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520" y="4724280"/>
            <a:ext cx="5335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75248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757680" y="1919160"/>
            <a:ext cx="1333440" cy="6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480060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L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753000" y="4952880"/>
            <a:ext cx="1333440" cy="6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757680" y="4717800"/>
            <a:ext cx="1333440" cy="612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19120" y="190512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048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ME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1989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 BES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B41-7263-4879-A9A8-8902508B9E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0" y="2276640"/>
            <a:ext cx="533520" cy="31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286000"/>
            <a:ext cx="533520" cy="1719360"/>
          </a:xfrm>
          <a:prstGeom prst="rect">
            <a:avLst/>
          </a:prstGeom>
          <a:solidFill>
            <a:srgbClr val="00cc99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3000" y="3500280"/>
            <a:ext cx="533160" cy="1909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43280" y="3500280"/>
            <a:ext cx="1333440" cy="64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4720" y="2313000"/>
            <a:ext cx="252360" cy="1152360"/>
          </a:xfrm>
          <a:custGeom>
            <a:avLst/>
            <a:gdLst>
              <a:gd name="textAreaLeft" fmla="*/ 0 w 252360"/>
              <a:gd name="textAreaRight" fmla="*/ 91080 w 252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2313000"/>
            <a:ext cx="295200" cy="3097080"/>
          </a:xfrm>
          <a:custGeom>
            <a:avLst/>
            <a:gdLst>
              <a:gd name="textAreaLeft" fmla="*/ 0 w 295200"/>
              <a:gd name="textAreaRight" fmla="*/ 106560 w 29520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92160" y="331488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L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20600" y="234936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7960" y="2476440"/>
            <a:ext cx="81468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04000" y="3543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57800" y="2313000"/>
            <a:ext cx="297000" cy="1692360"/>
          </a:xfrm>
          <a:custGeom>
            <a:avLst/>
            <a:gdLst>
              <a:gd name="textAreaLeft" fmla="*/ 0 w 297000"/>
              <a:gd name="textAreaRight" fmla="*/ 107280 w 297000"/>
              <a:gd name="textAreaTop" fmla="*/ 43920 h 1692360"/>
              <a:gd name="textAreaBottom" fmla="*/ 1648440 h 16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066680"/>
            <a:ext cx="77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le DBES Bid Based on Resourc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A2C-2AE2-4312-AB2D-46161D725A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0" y="2168640"/>
            <a:ext cx="533520" cy="1063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53000" y="2529000"/>
            <a:ext cx="533160" cy="36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032360"/>
            <a:ext cx="53352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546280"/>
            <a:ext cx="533520" cy="6858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780000" y="2528640"/>
            <a:ext cx="1333440" cy="612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56000" y="2492280"/>
            <a:ext cx="125280" cy="2079720"/>
          </a:xfrm>
          <a:custGeom>
            <a:avLst/>
            <a:gdLst>
              <a:gd name="textAreaLeft" fmla="*/ 79920 w 125280"/>
              <a:gd name="textAreaRight" fmla="*/ 125640 w 125280"/>
              <a:gd name="textAreaTop" fmla="*/ 54000 h 2079720"/>
              <a:gd name="textAreaBottom" fmla="*/ 2025720 h 20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2492280"/>
            <a:ext cx="198360" cy="720720"/>
          </a:xfrm>
          <a:custGeom>
            <a:avLst/>
            <a:gdLst>
              <a:gd name="textAreaLeft" fmla="*/ 0 w 198360"/>
              <a:gd name="textAreaRight" fmla="*/ 71640 w 198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00560" y="4040280"/>
            <a:ext cx="217440" cy="2124000"/>
          </a:xfrm>
          <a:custGeom>
            <a:avLst/>
            <a:gdLst>
              <a:gd name="textAreaLeft" fmla="*/ 0 w 217440"/>
              <a:gd name="textAreaRight" fmla="*/ 78480 w 217440"/>
              <a:gd name="textAreaTop" fmla="*/ 55080 h 2124000"/>
              <a:gd name="textAreaBottom" fmla="*/ 206892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02200" y="2241720"/>
            <a:ext cx="11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4520" y="236844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05400" y="489744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40560" y="2205000"/>
            <a:ext cx="217440" cy="1008000"/>
          </a:xfrm>
          <a:custGeom>
            <a:avLst/>
            <a:gdLst>
              <a:gd name="textAreaLeft" fmla="*/ 0 w 217440"/>
              <a:gd name="textAreaRight" fmla="*/ 7848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213000"/>
            <a:ext cx="533520" cy="82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3213000"/>
            <a:ext cx="217440" cy="828720"/>
          </a:xfrm>
          <a:custGeom>
            <a:avLst/>
            <a:gdLst>
              <a:gd name="textAreaLeft" fmla="*/ 0 w 217440"/>
              <a:gd name="textAreaRight" fmla="*/ 78480 w 217440"/>
              <a:gd name="textAreaTop" fmla="*/ 21600 h 828720"/>
              <a:gd name="textAreaBottom" fmla="*/ 80712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3429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BES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066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le Up-AS Schedule Based on Resourc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8240" y="243828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H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434340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L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480060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L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75248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757680" y="1919160"/>
            <a:ext cx="1333440" cy="6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757680" y="4560840"/>
            <a:ext cx="1333440" cy="64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3000" y="4952880"/>
            <a:ext cx="1333440" cy="6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19120" y="190512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048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ME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1989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 BES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190-01E4-4C35-A15F-98F781955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30480" y="2241720"/>
            <a:ext cx="5335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30480" y="3141720"/>
            <a:ext cx="533520" cy="13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11480" y="3753000"/>
            <a:ext cx="533520" cy="241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132000" y="3746520"/>
            <a:ext cx="1333800" cy="64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6840" y="2241720"/>
            <a:ext cx="235080" cy="900000"/>
          </a:xfrm>
          <a:custGeom>
            <a:avLst/>
            <a:gdLst>
              <a:gd name="textAreaLeft" fmla="*/ 0 w 235080"/>
              <a:gd name="textAreaRight" fmla="*/ 84960 w 23508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0360" y="2241720"/>
            <a:ext cx="287280" cy="3887640"/>
          </a:xfrm>
          <a:custGeom>
            <a:avLst/>
            <a:gdLst>
              <a:gd name="textAreaLeft" fmla="*/ 0 w 287280"/>
              <a:gd name="textAreaRight" fmla="*/ 103680 w 2872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45000" y="3321000"/>
            <a:ext cx="11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6480" y="3141720"/>
            <a:ext cx="14094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. D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7640" y="379584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06840" y="3176640"/>
            <a:ext cx="217440" cy="539640"/>
          </a:xfrm>
          <a:custGeom>
            <a:avLst/>
            <a:gdLst>
              <a:gd name="textAreaLeft" fmla="*/ 0 w 217440"/>
              <a:gd name="textAreaRight" fmla="*/ 78480 w 2174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176640"/>
            <a:ext cx="290520" cy="1297080"/>
          </a:xfrm>
          <a:custGeom>
            <a:avLst/>
            <a:gdLst>
              <a:gd name="textAreaLeft" fmla="*/ 0 w 290520"/>
              <a:gd name="textAreaRight" fmla="*/ 104760 w 2905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4"/>
                </a:lnTo>
                <a:cubicBezTo>
                  <a:pt x="10800" y="9574"/>
                  <a:pt x="16200" y="10474"/>
                  <a:pt x="21600" y="10474"/>
                </a:cubicBezTo>
                <a:cubicBezTo>
                  <a:pt x="16200" y="10474"/>
                  <a:pt x="10800" y="11374"/>
                  <a:pt x="10800" y="122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6480" y="23558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ES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0480" y="2241720"/>
            <a:ext cx="533520" cy="90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3141720"/>
            <a:ext cx="539640" cy="611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066680"/>
            <a:ext cx="76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le DRS Schedule Based on Resourc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9960" y="358128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L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257-087E-495B-B68A-C81C2D07D5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Resource Plan status to the telemetered Resources stat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24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t Resource Plan submitted before the Operating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24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W telemetry transmitted to ERCOT by the Resource’s QSE (12 5-minute averages in 1 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24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d Cycle Units that are ERCOT-approved Aggregated Units are treated as a single unit in this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9907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Status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EFE-EF52-4E16-A48E-F90291D8D9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lu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n-telemetere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ads Acting as a Resource (L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 unde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newabl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with “Online” Status in RP and Planned MW of Zero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SE score calculated for each Resource, by hour, summed month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990720"/>
            <a:ext cx="5486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Status Mea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A64-CC4C-4D8D-A8CF-7AE463E113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61712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method used by ERCOT to derive the QSEs Compliance Score for each of the following metr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LSL as a Percent of High Sustainable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Ahead Zonal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ment Period Zonal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 Bid and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/S Scheduled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nefit to ERCOT Inc. intended by Resource Statu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E99-351D-43C9-A340-AC7C08266C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relies on accurate Resource Status to know where and when Resources are online throughout the system to reliably ope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avoid inaccurate Balancing Energy clearing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efficiency of ERCOT operations (lower costs) is achieved through consistency between planned and actual resourc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9907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Status  -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CEE-263D-4C82-B95E-DD60CCB356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the LSL/HSL range in the Resource Plan with pre-defined ran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18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t Resource Plan submitted before the Operating 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18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ith HSL greater than zero (0)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18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ith “On-Line” Resource Stat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clu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1800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ads Acting as a Resource (La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1800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 under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1800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newable or Hydro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SE score calculated for each Resource, by hour, summed 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8380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LSL/HSL Percent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3AA-1690-47AC-9570-56BA71D5E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ource types (Section 6.8.2.1(1)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SL % of H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ying Fac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 and Lign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d Cycle greater than 90 M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d Cycle less than or equal to 90 M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-Steam Supercritical Boil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-Steam Reheat Boil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-Steam Non-reheat or boiler w/o air-prehe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Cycle greater than 90 M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Cycle less than or equal to 90 M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sel (and all other diesel or gas-fired Resourc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ewable (i.e., non-Hydro renewable Resourc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Load 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8380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LSL/HSL Percent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245-2AA3-42BA-A0A9-C2372993C3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relies on realistic and accurate Resource LSL/HSL information to be able to manage load forecast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System needs accurate operating range in order to perform least cost dispatch when resolving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Operators need to be confident of the operating range shown in the Resource Plan in order to OOM or VDI Resources as necessary in case of an emer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market costs are lowered since ERCOT is able to procure and utilize Resources more efficiently with accurate Resource LSL/HSL information – can help to minimize cost / quantity of OOM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6094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LSL/HSL Percent  -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DD4-318A-4FCE-9D80-B3D2F283A9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zonal energy schedule with planned Resource operating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first validated day ahead Resourc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ith zonal energy schedule greater than zero (0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ith a difference of the greater of 2% or one (1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SE score calculated by hour, by zone, summed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60948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 Ahead Zonal Schedule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534-6DB8-4EA5-803D-549E4A12A8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needs an accurate estimate of the output of Resources in order to predict capacity deficiencies as far in advance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te zonal energy schedules assist ERCOT in predicting transmission congestion and ensure adequate resources ar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to the market are lowered when ERCOT is able to make more efficient decisions to utilize capacity procurement measures (OOM, Replacement Capacity, RMR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609480"/>
            <a:ext cx="5181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 Ahead Zonal Schedule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4AE-14D3-4C47-AB3D-48B6E6D824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zonal energy schedule with planned Resource operating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t Resource Plan submitted prior to each Operating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hen the zonal energy schedule is greater than zero (0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hen the comparison differs by the greater of 2% or one (1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SE score calculated by hour, by zone, summed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60948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ment Period Zonal Schedule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C7C-4D1E-4D74-B09F-7F336620FE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needs an accurate estimate of the output of generators in order to predict transmission congestion and assure adequate resources to resolv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te AP schedule enables more accurate and efficient use of OOM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s in more reliable operation of the ERCOT 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to minimize use of OOM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60948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ment Period Zonal Schedule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248-5B49-4BB8-B7DD-6DDC038A73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8120" y="68580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wn Bid &amp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ligation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cks adequacy of Resource Plan sustainable limits to accommodate mandatory Balancing Energy Service Down bids and Regulation Service Down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t Resource Plan submitted prior to each Operating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ith energy schedule greater than zero (0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ith more than one (1) MW of mandatory DBES de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rs with aggregated LSL exceeding the sum of (a) energy schedule, (b) RGS Down schedule, and (c) mandatory DBES bids by more than one (1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SE score calculated by hour, summed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C96-6EC4-4ED6-BCE0-D1C499C619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ures that adequate Down Balancing energy bids are available to ERCOT for managing frequency during periods where more generation is scheduled than actual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reliability of the ERCOT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equate Down Balancing energy bids supports balancing energy price stability (lower volat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68580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wn Bid &amp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ligation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89F-8405-4214-B61C-8738EB36F6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856880"/>
            <a:ext cx="85345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nefit to ERCOT Inc. intended by Resource LSL as a Percent of HS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nefit to ERCOT Inc. intended by Day Ahead Zon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nefit to ERCOT Inc. intended by Adjustment Period Zon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nefit to ERCOT Inc. intended by Down Bid and Obli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A33-4BEA-494B-B65F-D9CE3B460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High Sustainable Limits to the sum of the energy schedule, Balancing Energy Service Up deployed, and scheduled Ancillar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t Resource Plan submitted prior to each Operating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clu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als during which sum of RRS, RGS-Up, and NSRS schedule is zero (0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als during which QSE’s obligations exceed HSL by more than one (1)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SE score calculated by interval, summed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6094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Up Ancillary Service Scheduled Obligation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5B6-F965-451B-B3B1-759DFED407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te Up Ancillary Service capability ensures that the Resources scheduled to provide Ancillary Services are in place and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 reliable grid operation is achieved by knowing when true deficiencie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sure helps ERCOT optimize the quantities of Ancillary Services procured – results in lower overall Ancillary Service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sures that all Ancillary Service providers maintain their ability to meet their scheduled obl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609480"/>
            <a:ext cx="67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Up Ancillary Service Scheduled Obligation M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C4C-F6E6-4017-BF28-AC565E8161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971800" y="76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828800" y="2514600"/>
            <a:ext cx="5486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VIEW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A51-EA61-49B3-94DD-2CB62EBDAE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3520" y="3352680"/>
            <a:ext cx="861048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827720"/>
            <a:ext cx="868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20560" indent="-520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ERCOT benefit intended by Resource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6280" y="2819520"/>
            <a:ext cx="82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aware of scheduled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where and when resources are online throughout the system to reliably 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current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standards for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14F-9449-4E0E-B8D8-9714478A22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76197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82772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MARKET benefit intended by Resource Statu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65176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avoid inaccurate balancing energy clearing p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set points for firm load 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what loads are acting as a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id in balancing current load and energy schedu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138-7A40-4160-873C-A2AC95E453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3520" y="4343400"/>
            <a:ext cx="784836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827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5040" indent="-63504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RCOT benefit intended by Resource LSL as a percent of HS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2865960"/>
            <a:ext cx="7925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20560" indent="-5205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alidate the resourc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what generation resources are under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the ERCOT System adequate operating range to resolve congestion with the least cost unit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QSEs participating in the ancillary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905-0798-4EDA-9EF8-573046FC7E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33520" y="5334120"/>
            <a:ext cx="815328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1827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ARKET benefit intended by Day Ahead Zonal Schedu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86596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he primary method of system frequ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he sources of down balancing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he sources of up balancing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costs are lowered since ERCOT can make more efficient decisions on capacity procurement  (OOM, RMR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48B-994C-46F7-B79B-F4BEB7F2AB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2819520"/>
            <a:ext cx="81532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18277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MARKET benefits intended by Adjustment Period Zonal Schedu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69784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s in more reliable operation of the grid and helps minimize using OOM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he sources of both up regulation and down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he sources of both up balancing and down balancing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what generation resources are under test and what loads are acting as a resour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ACF-D7BD-4210-8A27-7C146D7237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3429000"/>
            <a:ext cx="815328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827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RCOT benefit intended by the Adjustment Period Zonal Schedul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278964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es the resourc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curate estimate of the output of generators is needed to predict transmission congestion and assure adequate resources to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what generation resources are black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intain frequency at 60 H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521-F093-4A34-9081-0923EF4AD8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3520" y="4648320"/>
            <a:ext cx="8381880" cy="14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827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RCOT benefit intended by Down Bid and Obligatio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12480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QSEs participating in the ancill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set points for firm load 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s adequate down balancing energy bids are available to ERCOT for managing frequency during light 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he causes for OOM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978-B093-4681-B338-59FF4E3D65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84140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nefit to ERCOT Inc. intended by Total Up A/S Scheduled Obli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benefit to the ERCOT market intended by Resourc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benefit to the ERCOT market intended by Resource LSL as Percent of HS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benefit to the ERCOT market intended by Day Ahead Zon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358-62EE-444C-8743-47608A018E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09480" y="4191120"/>
            <a:ext cx="8229600" cy="14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1827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ARKET benefit intended by Down Bid and Oblig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65176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sources of up balancing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the market clearing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reliability of the ERCO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down balancing energy bids support balancing energy price stability (lower volatil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4A5-6348-4B45-8ACC-54B7BD92380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2971800"/>
            <a:ext cx="82296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7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RCOT benefit intended by Total Up Ancillary Service Scheduled Oblig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286596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that the resources scheduled to provide ancillary services are in place and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he primary method of system frequ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aware of scheduled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what generation resources are black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F0F-12FF-4EE6-850A-62BEAB6E198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14400" y="5105520"/>
            <a:ext cx="8077320" cy="14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827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98480" indent="-798480"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MARKET benefit intended by Total Up Ancillary Service Scheduled Oblig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30484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reliability of the ERCO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the market clearing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what generation resources are under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ERCOT optimize the quantities of ancillary services procured, which results in lower overall ancillary service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F59-C427-426A-838B-01F13B8189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239240" cy="464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124080" y="990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503-9E90-4017-B726-9B6741E06D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82952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benefit to the ERCOT market intended by Adjustment Period Zon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benefit to the ERCOT market intended by Down Bid and Obli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benefit to the ERCOT market intended by Total Up A/S Scheduled Oblig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DB5-2BD7-4A98-89DC-A2B205FB1B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ource Pla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lan provided by a QSE to ERCOT indicating the forecast state of Generation Resources or individual Loads each acting as a Resource,  including information on availability, limits, and forecast generation or Load of each Resource.” (Protocols 2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source Plan capacity should be sufficient to accommodate … energy and Ancillary Services scheduled by that QSE from the Resources that the QSE represents … shall indicate the availability of the Resources represented by the QSE, including a lead-time status code, and the planned operating level of each Resource, for each hour of the Operating Day.” (Protocols 4.4.1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889-A248-4AED-A863-473AAAEB97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d weather event - February 20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February 24-26, 2003, an extreme cold weather event affected the ERCOT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pancies between Resource Plans and Balancing Energy bids may have been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Resources which were de-rated due to fuel curtailments may not have been accurately reflected in the Resourc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on for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505-48FC-4C95-A81C-00C5F9B531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 Revision Implemented on 9/1/2004 (PRR 5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8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ed by findings of PUCT investigation into February 2003 freez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8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t specific criteria to measure Resource Plan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8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ERCOT’s confidence in RP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on for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15B-E31E-4C68-9D43-F72E6A6FB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 4.10 Defines RP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imum acceptable performance – 90% monthly score per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than 3 consecutive months below 90% = 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will work with individual QSEs to improve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considers exceptions on a case-by-case basis, but are only applied (manually) if measure is belo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res are available through Client Representative (by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each mon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12A-B9F9-44D7-82D1-3E3672336B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2:45:06Z</dcterms:created>
  <dc:creator>Tenaska Power Services Co.</dc:creator>
  <dc:description/>
  <dc:language>en-US</dc:language>
  <cp:lastModifiedBy>vweldon</cp:lastModifiedBy>
  <dcterms:modified xsi:type="dcterms:W3CDTF">2005-03-17T22:24:09Z</dcterms:modified>
  <cp:revision>79</cp:revision>
  <dc:subject>Powerpoint Presentation</dc:subject>
  <dc:title>Slide 1</dc:title>
</cp:coreProperties>
</file>