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0D2-E778-41DE-B8DE-84FC6995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Objectives of the Nodal Rule as stated in the 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ERCOT Advoc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B495-9EC2-4DB0-BBC5-4780F3CEE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F881-ECFA-488D-8118-1C72E3F81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CE8D-C79F-4D93-983D-092878D77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756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66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756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66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FEC1-2E19-4393-86A9-E836B1620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60D6E-A138-40F8-B0A4-DD1D33E4F2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39F23-0069-4E81-9E70-818FA7AA95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43850-EDC8-424B-8A49-4E9E192D8B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EEAB0-B8FE-4196-98B4-0A9F3CA219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784B6-D367-4A81-9FBA-AA428A61C8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37920" y="456840"/>
            <a:ext cx="6324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4C79B-F1AD-4576-AA4B-8059BE1D2E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21D56-F726-410A-A2E5-F55AAC3FD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A84B-B139-42DA-804F-C20532D1C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C5CF6-B1B9-4840-B0D5-247CF47FA9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5F0D-3BD8-4263-92F1-41CC725CE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DBA59-3094-4D85-8EEA-7512AB18B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ECC9-B145-4D86-8D1E-B61EAD2CA1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756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66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756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66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C597-67FD-42C5-8709-95BED57E6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5369-D03D-45F0-8351-F5EF4021E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544E-6C64-47F4-9202-C2079AC45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5A5A-F67F-4B58-81DA-52FAB18BE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437920" y="456840"/>
            <a:ext cx="6324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EE1C-286E-425F-B5EE-0499444CB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AD25-82DC-468C-AAE2-3C639AC86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82DF-0EFF-4078-BE8A-909365FD7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1F96-DA3D-414D-9408-AF520AC4B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586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cc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484-836A-4D63-90FB-A6DE83A6C399}" type="slidenum">
              <a:rPr b="1" lang="en-US" sz="1400" spc="-1" strike="noStrike">
                <a:solidFill>
                  <a:srgbClr val="cccc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7617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6294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7C2-A69A-4619-BBAD-DF7F46FB9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RCOT Update</a:t>
            </a:r>
            <a:br>
              <a:rPr sz="4400"/>
            </a:b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enty-Second Annual ERCOT Operations Training Semina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28 through April 28, 2005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ectric Reliability Council of Tex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F. Schrader, CE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ERCOT Market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lateral Bi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500120" y="2057400"/>
            <a:ext cx="17589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49840" y="1886040"/>
            <a:ext cx="1865160" cy="10238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3520" y="1954080"/>
            <a:ext cx="1863720" cy="1025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5760" y="2023920"/>
            <a:ext cx="1863720" cy="1025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73520" y="2232000"/>
            <a:ext cx="1239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1200" y="2514600"/>
            <a:ext cx="1389960" cy="155520"/>
            <a:chOff x="3121200" y="2514600"/>
            <a:chExt cx="1389960" cy="155520"/>
          </a:xfrm>
        </p:grpSpPr>
        <p:sp>
          <p:nvSpPr>
            <p:cNvPr id="137" name=""/>
            <p:cNvSpPr/>
            <p:nvPr/>
          </p:nvSpPr>
          <p:spPr>
            <a:xfrm>
              <a:off x="3121200" y="2514600"/>
              <a:ext cx="172440" cy="155520"/>
            </a:xfrm>
            <a:custGeom>
              <a:avLst/>
              <a:gdLst/>
              <a:ahLst/>
              <a:rect l="l" t="t" r="r" b="b"/>
              <a:pathLst>
                <a:path w="112" h="100">
                  <a:moveTo>
                    <a:pt x="112" y="0"/>
                  </a:moveTo>
                  <a:lnTo>
                    <a:pt x="0" y="50"/>
                  </a:lnTo>
                  <a:lnTo>
                    <a:pt x="112" y="10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96800" y="2590560"/>
              <a:ext cx="120960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39800" y="2514600"/>
              <a:ext cx="171360" cy="15552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0" y="100"/>
                  </a:moveTo>
                  <a:lnTo>
                    <a:pt x="110" y="49"/>
                  </a:lnTo>
                  <a:lnTo>
                    <a:pt x="0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44800" y="3645000"/>
            <a:ext cx="210672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560" y="3943440"/>
            <a:ext cx="13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59080" y="3830760"/>
            <a:ext cx="1481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8160" y="3733920"/>
            <a:ext cx="19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l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heduling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SE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54320" y="4140360"/>
            <a:ext cx="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62600" y="2044800"/>
            <a:ext cx="10746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56280" y="2133720"/>
            <a:ext cx="851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27240" y="5105520"/>
            <a:ext cx="1865520" cy="10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95600" y="5464080"/>
            <a:ext cx="1038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23760" y="5475240"/>
            <a:ext cx="90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8480" y="1905120"/>
            <a:ext cx="1865160" cy="1025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974960"/>
            <a:ext cx="1865160" cy="1025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044800"/>
            <a:ext cx="1863720" cy="1025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5440" y="2341440"/>
            <a:ext cx="1201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2960" y="2354400"/>
            <a:ext cx="122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95520" y="1523880"/>
            <a:ext cx="75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23680" y="1523880"/>
            <a:ext cx="78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73480" y="527364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29320" y="18763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Private bi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13440" y="266688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~95%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2480" y="190512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Includes &gt;80 active REPs and ~130 Munis &amp; Co-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2280" y="5105520"/>
            <a:ext cx="2895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Balancing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Reli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Congestio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2280" y="362412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&gt; 80 active Q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100% of power is scheduled with ER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59080" y="3048120"/>
            <a:ext cx="762120" cy="7617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9280" y="4572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73320" y="3048120"/>
            <a:ext cx="609480" cy="7617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8092-B3FD-4E7C-A695-2A71F8190D6B}" type="slidenum">
              <a:t>10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257800" y="2286000"/>
            <a:ext cx="281952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gestion Managem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estion Management is a key component of ERCOT’s role in grid reliability and the wholesale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666880"/>
            <a:ext cx="4038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luding RMR, local congestion cost uplift was reduced by $117 million (43%) from 2003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ynamic ratings for line li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mission system additions &amp; up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gestio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410080" y="2362320"/>
          <a:ext cx="2640240" cy="373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362320"/>
                    <a:ext cx="26402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383080" y="5667480"/>
            <a:ext cx="63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791E-6120-4E79-A7A9-57067BE00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xas Retail Marke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tion from Affiliated Retai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2286000"/>
          <a:ext cx="8305920" cy="31320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of Lo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of Custom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v. ‘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v. ‘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v. ‘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id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all Non-Resid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rge Non-Resid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80880" y="5486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otal of 1.27 million customers in competitive choice are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e now receiving power from non-incumbent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84E7-312D-4AA3-A4DA-1A7F061F05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tail Market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es Texas Stand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ail market ranked #1 in North America by Center for the Advancement of Energy Markets (CA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tail adoption than any other N. Am. mark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parties (ERCOT, TDSPs, REPs) must function well for system to wor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COT’s unique role as neutral registration agent has been cited as a major reason for success of this mark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 upgrade of retail transaction system implemented on schedule in 8/04 -- automates the move-in/move-out proc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action timeliness &amp; accuracy rates of 98-99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3409-B7A4-4B94-B447-B69A02880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COT’s Role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ressing Market Issu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COT works together with market participants and policy m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COT is an independent source of facts and expertise for policymakers and stakeho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 process assures changes will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issu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erve marg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el diver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mission plan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nd pow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id secu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lesale market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D712-4E94-478B-A21D-C532898EE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erve Margi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immediate crisis – 2005 reserve marg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15-1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nt mothball and decommissioning actions show that market forces are wo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lder, less efficient plants are less competitiv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 Task Force developing better process for reporting status of mothballe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will likely come back onl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will actively participate in PUC resource adequacy procee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A24A-F9E0-4368-8E93-0C6CB1D5A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el Diversity</a:t>
            </a:r>
            <a:br>
              <a:rPr sz="2800"/>
            </a:br>
            <a:br>
              <a:rPr sz="7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ctric generation fuel sources in ERCO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819520"/>
          <a:ext cx="7464600" cy="2886120"/>
        </p:xfrm>
        <a:graphic>
          <a:graphicData uri="http://schemas.openxmlformats.org/drawingml/2006/table">
            <a:tbl>
              <a:tblPr/>
              <a:tblGrid>
                <a:gridCol w="2762280"/>
                <a:gridCol w="2463840"/>
                <a:gridCol w="2238480"/>
              </a:tblGrid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el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Capacity </a:t>
                      </a:r>
                      <a:br>
                        <a:rPr sz="2000"/>
                      </a:b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Dec. ‘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Energy </a:t>
                      </a:r>
                      <a:br>
                        <a:rPr sz="2000"/>
                      </a:b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Jan.-Nov. ‘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tural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ual Fuel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new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838080" y="579132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* Natural Gas or Diesel Fuel; all plants currently configured for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7683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C subcommittee is currently assessing vulnerability of electric supply to natural gas curtail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FAD0-B054-415E-94FC-E108419A62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nsmission Plann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$2 billion has been invested in ERCOT transmission facilities since 1999, inclu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00 miles of new transmission line constr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merous substation additions &amp; improv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ditional $1.8 billion will be invested by 2008 based on current proj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s &gt;500 miles of new transmission lines already being permitting or under constr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mission system expansion faces competing priorit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 Texas (wind pow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 Texas (DFW area responsible for ~50% of local congestion costs in ERCO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o Grande Val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rs &amp; regulators must evaluate costs &amp;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C06B-B0DB-4948-B8D8-828CF0F0E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nd Pow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exas is well on its way to meeting renewable mandate from SB7 (2,000 MW by 2009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st Texas is a premium site for wind energy due to geography &amp; weather patter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 from existing wind farms must be delivered hundreds of miles to population centers in the east, and is not as controllable or predictable as traditional sour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s new challenges in system design &amp; oper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ed upgrades to transmission system could accommodate existing mandate, but not a significant increase above 2,000 MW from West Tex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1738440" cy="2179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3962520"/>
            <a:ext cx="19051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,300 MW of wind capacity is now online in West Texas (1200 MW since SB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50 MW more to go online in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2000-7A7B-46E2-B017-55A9BC75ED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id Securi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mission system has continuous real-time telemetry to ERC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y redundant and staffed backup control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ing Emergency Opera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s Emergency Electric Curtailment Plan for extreme contin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St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 compliance with NERC secur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with PUC to enhance and improve communica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8116-3451-4AB1-B113-5531B8D798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ERCOT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ic Reliability Council Of Tex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Electric Interconn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Utility Commission Of Texas (PUCT) jurisdic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,000 MW of active gen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,800 circuit miles of transmission 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-voltage local distribution lines are the responsibility of the distribution companies, and are not overseen by ERC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,095 MW Peak Demand on August 7,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xistence since 19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, not-for-profit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BB56-9FA8-4BCA-9D83-55D987694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olesale Market Desig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as Nodal Team (TNT) stakeholders working toward consensus on details of new market design as required by PUC rule (9/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-Benefit study filed with PUC in Dec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ft protocols to be filed with PUC March 18 for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will be ready to develop and implement any new market design approved by PU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1EEF-4740-4B62-A7D3-856600CC62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xas Nod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C Subst. 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§25.501 (9/03) requires a significant redesign of the wholesale market.  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ore efficient dispatch of electric gen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More complete information about how each plant will operate each day (unbundle portfolio biddin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ility to anticipate system conditions to reduce local conges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rect assignment of the costs of local conges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y-ahead” energy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Reduce market participant exposure to volatile real-time pri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nable “hedge” against direct assignment of local conges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panded ERCOT role in market monito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cluding providing more granular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dentifies efficient location of new transmission and generation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rovide more opportunities for load parti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99B2-3D93-40A8-AFB5-518F675046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Working togeth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ith market participants &amp; policymaker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to create value for Texas consumer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ERCOT will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ensure grid reliabili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enable the marke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serve as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catalyst for improvemen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0DCC-20AB-40EC-A61A-860D05B03C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ERCOT Sys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,000 square miles of Tex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+ million customers (meters serv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500 generating un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,100+ circuit miles of 345 kV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,200+ circuit miles of 138 kV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,500 circuit miles of 69 kV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571760"/>
            <a:ext cx="4648320" cy="4371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D971-D272-4292-A2B6-B0FAC0490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COT’s Mi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010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’s Mission is to create value for Texas electric consumers through electric grid reliability, market efficiency, and fair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6BE5-B5F0-479D-985A-8AEC30827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H="1">
            <a:off x="6095520" y="5029200"/>
            <a:ext cx="381240" cy="3808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51460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CO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keholder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676520"/>
            <a:ext cx="1904760" cy="82548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CO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860560"/>
            <a:ext cx="2895480" cy="70380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chnical Advisory Committee (T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391000"/>
            <a:ext cx="6705720" cy="307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umerous Working Groups &amp; Task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809880"/>
            <a:ext cx="7315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8098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8098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38098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8098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105440"/>
            <a:ext cx="1371600" cy="7333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tail Market Sub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095720"/>
            <a:ext cx="1600200" cy="7333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holesale Market Sub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095720"/>
            <a:ext cx="1676520" cy="7333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tocol Revisions Sub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095720"/>
            <a:ext cx="2057400" cy="7333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liability &amp; Operations Sub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4095720"/>
            <a:ext cx="1295280" cy="9464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mercial Operations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648320"/>
            <a:ext cx="68580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1701720"/>
            <a:ext cx="1904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ERCOT staff provides technical support, subject matter expertise, and impact analysis for all procee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6765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158 Member companies with voting privile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6E97-8371-4BF3-AAAA-A8ED553EC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COT Board Structure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-member ‘Hybrid Board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733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stakeholder members selected by market participant segmen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O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nicipal utilit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ectric cooperativ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dependent REP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dependent Generato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dependent Power Market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190476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consumer me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er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idential (OPUC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unaffiliated (independent) me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COT C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CT Chair (ex-officio, non-votin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343400"/>
            <a:ext cx="3962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352680"/>
            <a:ext cx="3657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4956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-thirds majority vote required for Board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akeholder Board model required by SB7 due to complexity of market star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overnance structure has been modified over the years to fit changing circum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02920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035E-B2CC-4394-810E-CAD9AD0ECA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COT’s Role in Reliability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Job One’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“directs traffic” on the grid to maintain reli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es scheduling of power so generation matches load at all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s grid conditions continuously in real-tim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s transmission congestion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s adequate operating reserves are avail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s emergency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s compliance with NERC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5C60-5A84-4E15-A288-397FE2C24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COT Wholesale Marke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sale electric market deregulated in 1996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wholesale market participants provided equal access to the transmission syste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plified transmission 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ically-integrated utilities retained customer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COT ISO created to oversee these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C455-EB12-4C1B-B203-DCBACF9175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B7 &amp; ERCO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COT assigned “independent organization” r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s’ with 40 employees operating existing wholesale I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s draft and pass Protoc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usands of hours of meetings &amp; markup ses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ion &amp; definition of several new Market Participant categ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control areas consolidated t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ive market systems design &amp; build-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ail trans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lesale Market &amp; Scheduling (EMM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ad profiles &amp; settlement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hours by ERCOT staff, market participants, PUC staff and commissio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wenty-Second Annual ERCOT Operations Train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FE24-3C67-4007-9C2B-24B6E9A52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0:47:31Z</dcterms:created>
  <dc:creator>Troy Barber</dc:creator>
  <dc:description/>
  <dc:language>en-US</dc:language>
  <cp:lastModifiedBy>vweldon</cp:lastModifiedBy>
  <dcterms:modified xsi:type="dcterms:W3CDTF">2005-03-17T22:18:30Z</dcterms:modified>
  <cp:revision>283</cp:revision>
  <dc:subject>Powerpoint Presentation</dc:subject>
  <dc:title>ERCOT Soaring</dc:title>
</cp:coreProperties>
</file>