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C92-8E72-4445-AB33-52F6C53D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B8E-D20C-46AB-8744-DC57014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85C-65F7-4F2A-922F-D9C13D8E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CCD-6E98-45C4-A527-5485E4F6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88C3-EE9E-4B72-A332-119FC45E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55B-9BB6-4D0D-A278-47EA5753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EDF-5C89-4123-9F27-0AF9BC76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A8A-2E53-49EA-8740-5482E73B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3FF-C7AD-40C3-BF28-20EE2849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325-5BFB-48FD-8C98-9FBA93B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815-3423-400E-88FF-4B976D1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F04-AD24-4CF2-80CC-A3C5793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92A-CA93-438D-9444-B14B80B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115-F872-4732-B00C-6A1C56C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BAC-BA1F-47B0-87C4-FC735D8E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15DB-3C5F-4DC0-AE9B-9C5D2820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E53-5077-47BC-B790-68D6B79A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9D0-E55C-49D3-A63D-5567A9B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DFC-52D0-4CC3-90B7-E3C508E8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BA9-3835-4D0F-9227-53D0588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890-BC72-4838-921E-465728F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DC7-09DA-43BE-8D77-4D654A7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9A5-8563-406C-8129-71B9EC8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EE1-1A50-4EFE-9263-9C182B7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649-357A-4355-ABA7-DDC0B79ED6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8A8-51B3-48D4-A87C-D00E61E9ED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vised Approach to A/S Block Bidd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1640" y="2927520"/>
            <a:ext cx="4267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implifie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3 Part Bidd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1C9-BEA7-4D5D-8398-49FCDB7C45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RCOT’s Responsibi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the lowest cost alternative for A/S capacity among the offers provi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e any Make Whole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allocation am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tl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31A-19F1-4C74-BEB1-747F516E93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 1 – Steam Turbine 3 Part Bid</a:t>
            </a:r>
            <a:br>
              <a:rPr sz="32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Bringing in a single additional unit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3885840"/>
            <a:ext cx="3353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Part Bids are specified by a set of daily parameters and a set of hourly paramete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ll only be struck by ERCOT when it lowers the over all system cost of the A/S marke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68640" cy="12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130640" cy="42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993-9436-458B-891C-4379934F2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2 – CCCT 3 Part Bid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Bringing in a single additional unit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885840"/>
            <a:ext cx="3353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Part Bids are specified by a set of daily parameters and a set of hourly paramete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ll only be struck by ERCOT when it lowers the over all system cost of the A/S marke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68640" cy="126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130640" cy="42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44F-529B-4D9E-9F42-AFF5A9B9B6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1 &amp; 2 – RegUp Clearing Price Impact</a:t>
            </a:r>
            <a:br>
              <a:rPr sz="32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Each Example Was Cleared Separately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06360" y="2185920"/>
            <a:ext cx="6489720" cy="44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52B-65FC-4A29-9E7D-4E98C238A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1 &amp; 2 – RegUp Deployment Chart</a:t>
            </a:r>
            <a:br>
              <a:rPr sz="32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Each Example Was Cleared Separately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06360" y="2209680"/>
            <a:ext cx="6489720" cy="44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4C5-1BBC-48FC-9743-B6921DBEE4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1 &amp; 2 – RegUp System Cost</a:t>
            </a:r>
            <a:br>
              <a:rPr sz="32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Each Example Was Cleared Separately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6360" y="2185920"/>
            <a:ext cx="6489720" cy="44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1C9-EF35-4088-A535-ED489FFC80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ke Whole Allo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pose all make whole amounts be divided among all PURCHASED MWs in A/S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 provided MWs not aff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if not all purchasers in A/S market are in market full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8200 make wh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0MW market over 24 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 in a 34 cent charge on every MW purchased in the A/S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B53-03F7-4956-A14A-C3DCAB3F84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-aways from mee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cation of Make-wh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are appa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– need more stu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sibility – doable but not sim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039-3C2C-499C-A714-B848F5558E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S direct ERCOT to prepare a more detailed analysis of costs to implement PRR567 and a development time estim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D87-5B27-4C7A-9839-FF25D4C0A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We’re He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prob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sol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define a preferred s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A17-85B2-4E5B-A445-F629F9954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 of the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rrent AS bidding structure is one dimensional:  Capacity bid pr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n’t acknowledge other costs that may be required to provide capa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um running cos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fers must be boosted up to account for these co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e to the risk, sellers guess high or don’t b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2A7-64F8-43D3-8A69-65838723E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 solutions investiga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ck bid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l PRR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s bidding, but problems still ex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ified” 3-part bid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bidders to discreetly capture other co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mechanism similar to that of the SCUC in PJM’s current DAM and TNT’s future D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D02-E62D-4F1D-939F-D1893D03F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a Block Approach Would 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dders would be able to def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um block si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um hours of ope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determine how to divide costs into an appropriate bid, the equation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up cost/MW/hr + Min. Run cost/MW (in each hour) + variable costs including marg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rtup = $5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. Run = $1000/h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able cost = $10/M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d for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0M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A/S for 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 hou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block 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000/100/5 + 1000/100 + 10 = $30/M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F99-BA20-4700-9EE5-83F0A4409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le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ariables in the previous equation a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ze of the block in MW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ation of the block in h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ion of which hrs in the day to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sing on any of the above variables puts your capacity out of th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provide multiple bids with the same capacity (may get struck more than once) without ability to link bi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better 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AB6-07A0-4BAC-A357-6AB42694AE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mplified” Three Part Bidding for A/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SE would be able to submit offers defining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rtup 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in. run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in. down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in. loading 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ar. cost offer curve for capac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ax. capac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allows the systems to determine the best mix of hours and volu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tion algorithms far simpler than SCU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transmission analy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contingency analy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y capacity level required with offers provi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04C-386F-467D-892C-196503E202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SE Requi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all Self Provided A/S capacity (same as toda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Offer Curve for capacity:  $/MW (same as toda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ame method used toda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Start Cost:  $/Day (new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o verification of actual start (could be related to call option execution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fault of $0 will be used if QSE doesn’t provide specific off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Min. Run Time:  Hrs (new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events a unit from being started for a single hou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Min. Down Time:  Hrs (new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events a unit from being double cycled faster than is physically possi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Min. Loading Cost:  $/Hr (new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pplies to each hour the bid is stru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ows QSE make whole if small amount of A/S struck (running at 100MW minimum for a 10MW awar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fault of $0 will be used if QSE doesn’t provide specific off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 Max. Capacity:  MW (new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ows entity to set maximum size of block bid of each A/S product (max. 400 MW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n Capacity: hardwired to 0 M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18D-8BEB-40E7-9B36-4BD94965E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dding Requir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bids using new features must be separated out as individual b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ds using the current bid curve only, may continue to be bid as one large portfol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93A-B355-4A87-A7D6-CA4CB32BC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05:18:44Z</dcterms:created>
  <dc:creator>f64057</dc:creator>
  <dc:description/>
  <dc:language>en-US</dc:language>
  <cp:lastModifiedBy>e47162</cp:lastModifiedBy>
  <dcterms:modified xsi:type="dcterms:W3CDTF">2005-04-21T03:34:25Z</dcterms:modified>
  <cp:revision>8</cp:revision>
  <dc:subject/>
  <dc:title>Revised Approach to A/S Block Bid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9807680</vt:r8>
  </property>
  <property fmtid="{D5CDD505-2E9C-101B-9397-08002B2CF9AE}" pid="3" name="_AuthorEmail">
    <vt:lpwstr>Clayton.Greer@constellation.com</vt:lpwstr>
  </property>
  <property fmtid="{D5CDD505-2E9C-101B-9397-08002B2CF9AE}" pid="4" name="_AuthorEmailDisplayName">
    <vt:lpwstr>Greer, Clayton</vt:lpwstr>
  </property>
  <property fmtid="{D5CDD505-2E9C-101B-9397-08002B2CF9AE}" pid="5" name="_EmailSubject">
    <vt:lpwstr>PRR567 Presentation</vt:lpwstr>
  </property>
</Properties>
</file>