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F53-0398-404B-B87B-F64AF28B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9A0-ABFC-48CF-BCCB-C788BC96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4EC-34F6-4138-83A2-79B3F6D8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A45-E3A9-466F-9B4B-11AE6346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3B43-043A-4E11-861A-C9D974B6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930E-A25F-4042-81B8-41EAF1F9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BB13-9A54-4C56-BB14-A099E308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8C1A-2783-494D-9BCC-6E45DBA1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DCAB-E4BB-41A2-A1AB-93E83207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6758-D1B2-455D-AC32-9EBCC6E9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34C1-4388-486A-B211-4C50C39F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1C5-EC47-48E4-8BCE-7FDA1BBB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CE0D-F5C3-4258-AF29-0FCC7360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AB71-FE3C-47C6-9E4C-72BAD10D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ED27-FD08-41B5-B9F6-286F8827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F329-BB0D-46DF-96F2-8DA493B4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375A-DD4B-4B01-ABF3-86FFAC16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BFB-4046-466E-9B5A-6A5DE9B1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463-FC33-4D9B-AEAC-B51D8101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D9D-C127-4D62-9B5C-7EA88E30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581-CEBF-4DB2-9F49-1E52CF4B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261-42C6-4A64-BAAA-F1716E3B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927-656F-4DF2-A5B9-F067FBDF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943-12ED-40F5-9962-96111A0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8921-5368-419F-AF28-951EF94A83DB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CA88-CAC4-4550-973C-90A0EEE4F87C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742840" y="3809880"/>
            <a:ext cx="57150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Market Operations Sup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ERCO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pril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Arial"/>
                <a:ea typeface="宋体"/>
              </a:rPr>
              <a:t>Shadow Price Cap Study</a:t>
            </a:r>
            <a:endParaRPr b="0" lang="en-US" sz="3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438280"/>
            <a:ext cx="6400800" cy="15264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p 2004 cas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5280" y="2666880"/>
          <a:ext cx="7164360" cy="3049560"/>
        </p:xfrm>
        <a:graphic>
          <a:graphicData uri="http://schemas.openxmlformats.org/drawingml/2006/table">
            <a:tbl>
              <a:tblPr/>
              <a:tblGrid>
                <a:gridCol w="2414880"/>
                <a:gridCol w="4749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of interv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/06 Local Congestion (deploy  very small shift factor units for local conges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 Deployment decrea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1219320" y="1752480"/>
          <a:ext cx="7086600" cy="4054680"/>
        </p:xfrm>
        <a:graphic>
          <a:graphicData uri="http://schemas.openxmlformats.org/drawingml/2006/table">
            <a:tbl>
              <a:tblPr/>
              <a:tblGrid>
                <a:gridCol w="990360"/>
                <a:gridCol w="1143000"/>
                <a:gridCol w="992160"/>
                <a:gridCol w="989280"/>
                <a:gridCol w="992160"/>
                <a:gridCol w="988920"/>
                <a:gridCol w="990720"/>
              </a:tblGrid>
              <a:tr h="421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B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 co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7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co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3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/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6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7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7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o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5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.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4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3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3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tudy Conclusion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With both proposed SP Caps, there is a great decrease in BES deployment for those intervals with inefficient BES deployment for CSC cong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1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Both proposed methods have small impact on all other interva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Implementation – Shadow Price Cap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RCOT will issue  a market notice describing the new Shadow Price Cap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e BES deployment will stop at a set poin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is proposed method does not require a system change (no implementation cost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70160" y="1827360"/>
            <a:ext cx="731664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erva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/01/2005  21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CSC Conges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orth-W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CSC limi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430 MW;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Shadow Pric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5797.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$/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Local Conges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Price Admi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BES Deploy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95280" y="2057400"/>
          <a:ext cx="7213680" cy="3344760"/>
        </p:xfrm>
        <a:graphic>
          <a:graphicData uri="http://schemas.openxmlformats.org/drawingml/2006/table">
            <a:tbl>
              <a:tblPr/>
              <a:tblGrid>
                <a:gridCol w="1067040"/>
                <a:gridCol w="965160"/>
                <a:gridCol w="863640"/>
                <a:gridCol w="863640"/>
                <a:gridCol w="863280"/>
                <a:gridCol w="863640"/>
                <a:gridCol w="863640"/>
                <a:gridCol w="86364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F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1 (2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 2 (2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638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ubject to N-W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CPE &amp; Shadow Price (SP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47920" y="1752480"/>
          <a:ext cx="6858000" cy="4254480"/>
        </p:xfrm>
        <a:graphic>
          <a:graphicData uri="http://schemas.openxmlformats.org/drawingml/2006/table">
            <a:tbl>
              <a:tblPr/>
              <a:tblGrid>
                <a:gridCol w="1143000"/>
                <a:gridCol w="1396800"/>
                <a:gridCol w="1079640"/>
                <a:gridCol w="1079280"/>
                <a:gridCol w="1079640"/>
                <a:gridCol w="107964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4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2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68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53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3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3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4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122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8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3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59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5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P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P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-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9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6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"/>
                          <a:ea typeface="Arial"/>
                        </a:rPr>
                        <a:t>4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 &amp; Flow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1371600" y="1905120"/>
          <a:ext cx="6194520" cy="3754440"/>
        </p:xfrm>
        <a:graphic>
          <a:graphicData uri="http://schemas.openxmlformats.org/drawingml/2006/table">
            <a:tbl>
              <a:tblPr/>
              <a:tblGrid>
                <a:gridCol w="1298520"/>
                <a:gridCol w="835200"/>
                <a:gridCol w="796680"/>
                <a:gridCol w="816120"/>
                <a:gridCol w="816120"/>
                <a:gridCol w="815760"/>
                <a:gridCol w="816120"/>
              </a:tblGrid>
              <a:tr h="642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4/01/05 21: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S De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alculated Flow Violation (N-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P Cap 1 (4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P Cap 2 (2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328140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Background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Issue - Inefficient Deployment of B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Proposed Metho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Stud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Selected” C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One Month C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Study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Implem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Backgrou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sue: Inefficient BES deployments when resolving zonal conges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proposed methods to reduce inefficient deployment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veraging of similar shift fac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dow Price C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tor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veraging Shift Factor method: Oct 2004 W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 proposals: Nov 2004 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dow Price Cap method: Jan 2005 W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nting results in detail : March 1, 2005 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66"/>
                </a:solidFill>
                <a:latin typeface="Verdana"/>
              </a:rPr>
              <a:t>After discussion in ORG, proposal of Shadow Price Cap was recommended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66"/>
                </a:solidFill>
                <a:latin typeface="Verdana"/>
              </a:rPr>
              <a:t>Further study with Shadow Price cap was suggeste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continue to study Shadow Price Cap proposal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present results in detail at WM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hadow Price Cap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termine value of Shadow Price (SP) ca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 penalty factor of constraint violation = shadow price ca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 CSC, the SP cap acts as system’s stopping p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219320" y="3352680"/>
          <a:ext cx="7315200" cy="2589480"/>
        </p:xfrm>
        <a:graphic>
          <a:graphicData uri="http://schemas.openxmlformats.org/drawingml/2006/table">
            <a:tbl>
              <a:tblPr/>
              <a:tblGrid>
                <a:gridCol w="2476440"/>
                <a:gridCol w="1428840"/>
                <a:gridCol w="1704960"/>
                <a:gridCol w="17049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adow price cap (penalty fac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 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 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folio Ramp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3 (contingenc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1 (CS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3 (base ca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Ba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wering the CSC SP Ca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SC SP cap 4500 $/MW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is to deploy all bids from zones which have the most effect on the congested CS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was observed that bid stacks in the most effective zones are frequently exhausted (either UBES or DBES) leading to use of bids from less effective z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SC SP cap 2500 $/M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00 cap is large enough to deploy all bid pairs from most effective z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efi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reases amount of inefficient deployment for zonal congestion (MW and cos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Potentially could help to eliminate Price Admin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ERCOT Stu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un production cases using proposed Shadow Price Caps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lected” c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als with violation (price administration) and CSC Congestion (after R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46 Cases from June 2, 2004 to Dec 31, 2004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als with CSC shadow price &gt; $1000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after R3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10 Cases from June 2, 2004 to Dec 31, 2004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l intervals of one month (Sept. 2004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879 Cases of September 20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are study results with production resul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wo different caps of Shadow Price (WM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lected Case Results – 1: BES MW Deploym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2743200"/>
          <a:ext cx="7543800" cy="3048120"/>
        </p:xfrm>
        <a:graphic>
          <a:graphicData uri="http://schemas.openxmlformats.org/drawingml/2006/table">
            <a:tbl>
              <a:tblPr/>
              <a:tblGrid>
                <a:gridCol w="1179360"/>
                <a:gridCol w="976320"/>
                <a:gridCol w="1079640"/>
                <a:gridCol w="1076040"/>
                <a:gridCol w="1098720"/>
                <a:gridCol w="1058760"/>
                <a:gridCol w="1074960"/>
              </a:tblGrid>
              <a:tr h="569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ted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B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7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370160" y="1827360"/>
            <a:ext cx="7313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BES Deploy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lected Case Results – 2: CSC Shadow Price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CSC Shadow Pr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295280" y="2819520"/>
          <a:ext cx="7391520" cy="2819160"/>
        </p:xfrm>
        <a:graphic>
          <a:graphicData uri="http://schemas.openxmlformats.org/drawingml/2006/table">
            <a:tbl>
              <a:tblPr/>
              <a:tblGrid>
                <a:gridCol w="1157400"/>
                <a:gridCol w="976320"/>
                <a:gridCol w="1036800"/>
                <a:gridCol w="1056960"/>
                <a:gridCol w="1055880"/>
                <a:gridCol w="1055520"/>
                <a:gridCol w="1052640"/>
              </a:tblGrid>
              <a:tr h="408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ted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SC S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3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elected Case Results – 3: BES Deployment Cost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BES deployment Co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143000" y="2971800"/>
          <a:ext cx="7620120" cy="2590920"/>
        </p:xfrm>
        <a:graphic>
          <a:graphicData uri="http://schemas.openxmlformats.org/drawingml/2006/table">
            <a:tbl>
              <a:tblPr/>
              <a:tblGrid>
                <a:gridCol w="1192320"/>
                <a:gridCol w="984240"/>
                <a:gridCol w="1090440"/>
                <a:gridCol w="1089000"/>
                <a:gridCol w="1090800"/>
                <a:gridCol w="1087200"/>
                <a:gridCol w="1086120"/>
              </a:tblGrid>
              <a:tr h="32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lected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143000" y="57913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e: the costs are in thousands doll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3:28:59Z</dcterms:created>
  <dc:creator>Yongjun</dc:creator>
  <dc:description/>
  <dc:language>en-US</dc:language>
  <cp:lastModifiedBy>yren</cp:lastModifiedBy>
  <dcterms:modified xsi:type="dcterms:W3CDTF">2005-04-18T15:52:41Z</dcterms:modified>
  <cp:revision>83</cp:revision>
  <dc:subject/>
  <dc:title>Slide 1</dc:title>
</cp:coreProperties>
</file>