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8C1A-FF5C-4E95-9AD6-21E5863B5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76720" y="30456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26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AD3B-4239-458E-9B51-8CFE3DF1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76720" y="30456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08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08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CC4D-9ACB-4885-88CF-D8527BC48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76720" y="30456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3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442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26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3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442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4160-07CD-4531-A6B2-4C420CEA3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FA0F-4107-406B-8C23-44FAE5915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76720" y="30456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26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A218-6482-47B7-85FA-B5E8893C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76720" y="30456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AB33-8923-466C-9EA1-5D674828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76720" y="30456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08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1FAD6-8825-49A1-AD7A-8E98DCA7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76720" y="30456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775F-1D41-4F0B-86DC-A969D808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276720" y="304560"/>
            <a:ext cx="5410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8163D-7AEA-4660-A16A-80300BEB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76720" y="30456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08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CEB5-6E93-4A9A-8D8B-BDB95668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76720" y="30456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26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8675-985D-40BF-BA0B-7DE28F18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76720" y="30456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08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08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B048B-F657-4BB6-8CEB-276B916A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76720" y="30456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08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6AB5-4EA8-4CC6-8A3F-85440C27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76720" y="30456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426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043D-AA66-43CF-8C46-0EC95D22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76720" y="30456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08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08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9BF1-6CD8-4D00-9F84-9D4463E8B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76720" y="30456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93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442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426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93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442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AD9F-9403-4B27-A4D4-C06E3037C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76720" y="30456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B22F-0187-4363-BBC1-4CA2E4AD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76720" y="30456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08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CE51-D569-41DF-AA2C-CEFB08FD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76720" y="30456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7A4B-829B-4A1B-BA26-49108F2C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76720" y="304560"/>
            <a:ext cx="5410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6886-5FAE-4F61-8B87-04827D69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76720" y="30456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08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6989-5847-4CC8-80C4-F43667D2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76720" y="30456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08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08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83C0-7512-467F-9652-D5589F6D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76720" y="30456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08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26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F054-DD14-4656-A440-D23A4DB2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76720" y="30456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26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8F02-F8EF-4F93-A183-8EF632F83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1599840"/>
            <a:ext cx="7467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218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1A9D-AF04-4499-BC3D-000CB4912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76720" y="30456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cussion I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CPE calculation in zero BES deployment z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igh MCPE event on April 11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76720" y="30456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CPE calculation in zero BES deployment z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dentified on March 17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2005 (IE 0315 and 0330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rth to West OC1 activ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UBES bids in West zo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st zone price created from other four zones marginal pric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val price administered on OC1 vio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76720" y="30456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CPE calculation in zero BES deployment z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 identified in Market Bulletin #5 and Market Bulletin #2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not take price administration for average price to be cre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only make an impact if price administration occurs with binding OC1, because zonal MCPEs are set to zonal Marginal prices.  Therefore, average price gets published and used in settl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76720" y="30456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MCPE event on April 11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 1400 on April 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200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ding North to Houston OC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CPE’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uston - $75167.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th - $53.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th East - $875.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th - $49041.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st - $5045.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ginal Shadow Price - $205397.3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76720" y="30456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MCPE event on April 11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val did not price administ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MCPE’s caused by a ramp-rate slack variable coming into the basis.  The slack variable for one MP was a very small number (9.38 e-9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number was so small, it did not trigger price administra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its price ($75,000) will contaminate the MCPE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76720" y="30456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MCPE event on April 11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believes the price administration software should have identified this solution result and administered the interval.  But it did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ollowing with the precedent set last August when we saw another $75,000 MCPE, ERCOT manually initiated price administration and adjusted the zonal MCPE’s to the marginal prices for each zone, and manually calculated the shadow pr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76720" y="30456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MCPE event on April 11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 investig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ing with AREVA to make the tolerance setting editable by ERC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5:27:31Z</dcterms:created>
  <dc:creator>jfirestone</dc:creator>
  <dc:description/>
  <dc:language>en-US</dc:language>
  <cp:lastModifiedBy>A. Boren</cp:lastModifiedBy>
  <dcterms:modified xsi:type="dcterms:W3CDTF">2005-04-28T13:30:20Z</dcterms:modified>
  <cp:revision>3</cp:revision>
  <dc:subject>Powerpoint Presentation</dc:subject>
  <dc:title>Discussion Items</dc:title>
</cp:coreProperties>
</file>