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8C9F-E37C-412C-A6F2-E1C7BAF7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5232-1CA6-43D8-8C20-8386814F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942C-8B17-479B-8F8F-C3787567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675-D115-4878-939C-748CE220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AE21-2DEB-4BD6-82DB-372AF44C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0527-CC66-4A5B-BE52-4A0B0861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675F-19FB-46CC-9559-2D160B46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3F81-C7D3-4DA8-BF4B-39D37E10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3B64-BF8B-46A3-9AAF-3FC67F4D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F11E-9EDD-44ED-BEF6-E166F3F9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56AC-AAE3-4AE1-B19D-C4D4C9DB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C907-EFE9-4B58-8155-26E153E5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825E-1DBB-445A-8BBB-1007159E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0708-6729-4D41-950C-6EFA7049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4D3D-07F9-4781-8A94-88E3E571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C5F3-6742-474F-AD1F-AF577D83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B0FC-A15C-4F56-B1D0-B9A601FA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0FA-4695-4825-B2EC-F2654136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8A9C-DE72-4BB7-818C-34B0A904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BE2-BB07-4ADB-A77F-E4515957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D47-0B20-4169-8502-C2ACBEFA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083D-D096-47C4-90E8-973C5AA0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81E8-A0A6-4B23-9F73-DFC8E991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9351-BFF1-4D24-9A13-7797AB1C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EC86-D8EF-4062-BCAE-4BBF145A83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3A97-CD5B-4FE9-BD20-2276AB79FC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RR 586  Back-Cas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COT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to W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2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cillary Service Demand Factor (ASD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 minute summation of 1 minute intervals results in applying penalty to every 15 minute inter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COT Frequenc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ric would have to be modified to correlate acceptable frequency control (ERCOT CPS1) with QSE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R586 Inputs &amp; Assump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-cast of historical data for Novembe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orest ERCOT CPS1 Performance in Recent Hi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otal cost of Regulation Services for the month was $23 million (MCPC for URS &amp; DRS multiplied by total oblig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% of the regulation service cost for a 15 minute interval is allocated when the penalty criteria is m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enalty criteria is (-1*ISCE*REGNm) where this is greater than z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olerance dead-band is used that measures the aggregate sum of the QSEs IS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s of the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penalty cost equaled $11.5 million for the month of November 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SDF for all participants had at least 1 minute of the 15 minute sum in which an interval met the criteria for applying the penal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out a dead-band around an individual QSE’s ISCE, there is a risk of having a low ISCE and paying a large share of the penalty (i.e. if most QSEs have a ASDF = 0 in the interv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COT frequency was outside of the acceptable tolerance (+/-0.03 Hz dead-band) 11,460 one minute intervals out of a total of 43,200 one minute interv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3 or 3,796 of the 11,460 intervals would not have had a penalty applied even though ERCOT frequency was outside an acceptable range, however, this can be addressed with a small change to the formula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change to the formula is needed so that QSE will not receive a good score when ERCOT is un-deploying regulation and the QSE is generating in an undesirable dir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of why this change is needed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Nm (regulation need) = the one minute ERCOT deployed Regulation minus ERCOT Area Control Error (A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– ERCOT frequency = 60.00 Hz and ACE = 0 total deployed Regulation = -500 MW; (initial condi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 increases 1 minute later 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frequency = 59.95 Hz; ERCOT ACE = -200 MW total deployed Regulation = -300 MW (un-deployed from 500 down to 300 down) ; QSEa is under generating and their SCE = -100 (hurting frequenc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SEa - REGNm = -300 – (-200) = -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SEa - ASDF = (-1*-100*-100) = -10,000&lt;0 = 0 (good sco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ption Considered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der Current Propos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number of 1 minute intervals that meet the penalty criteria for one or more Q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48% of the intervals in the month met the penalty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tions Consider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System-wide deadband and, inst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 deadband to individual Q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L10 values from PRR 525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ify ASDF from (-1*ISCE*REGnm) to (ISCE*ACE) to align the metric with ERCOT 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s in 35,901intervals out of 43,200 1 minute intervals in which the penalty criteria would be met by one or more Q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view of Uninstructed Resource Charge (URC)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fy inputs to existing Uninstructed Resource Charge (URC) Cal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s revenue meter quality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tocols allow Deadband modif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her inputs easily modifiable with Protocol Chan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 design already in p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esn’t apply penalty for under generating  when MCPE is pos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d on 15 minute 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y not significantly address 0600 and 2200 ramp period schedul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alternative does not satisfy Potomac Recommendation #1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fy URC pricing language to apply an appropriate penalty price for over or under generating regardless of magnitude of MC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fy URC Uninstructed Factor to apply tighter tole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15:34:32Z</dcterms:created>
  <dc:creator>jdumas</dc:creator>
  <dc:description/>
  <dc:language>en-US</dc:language>
  <cp:lastModifiedBy>A. Boren</cp:lastModifiedBy>
  <dcterms:modified xsi:type="dcterms:W3CDTF">2005-04-28T13:36:12Z</dcterms:modified>
  <cp:revision>46</cp:revision>
  <dc:subject/>
  <dc:title>Slide 1</dc:title>
</cp:coreProperties>
</file>