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AA767-A46D-4292-81DD-DEDC74CA5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91DF5-E181-45A0-A283-2E9A5A04C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4929F-90AF-4EA4-AA58-2B72E8286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D3AC3-FC5C-4F85-BA98-EC0E59898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0EED-BB01-44C6-8F66-1DC147B8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818B-653A-41DB-9AC9-3A4F169E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BFB3-D7DD-4DB6-94B2-91572084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7599-C6CD-46B3-912A-2BF4C17C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359C-619F-48F0-B0D9-9AF66F48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5CA7-9FB0-41FF-9A81-5694CB28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371C-6A36-48AA-8BAE-FB5B31CEE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7683-4C42-47C4-9538-F3FCE6AD3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CBD2-8E29-4B9B-9876-6A6719F83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 performance and Regulation Cost Reallocation</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C Wholesale Market Oversigh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MS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3, 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R 586 Mechanism (1)</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s an Ancillary Service Demand Factor for each QSE based on the system need for regulation (reg deployment – ACE) and the QSE’s SCE on a one minute basis</a:t>
            </a:r>
            <a:endParaRPr b="0" lang="en-US" sz="24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DFqi = Sum [(-1) (ISCEqm) (REGNm)]</a:t>
            </a:r>
            <a:endParaRPr b="0" lang="en-US" sz="2800" spc="-1" strike="noStrike">
              <a:solidFill>
                <a:srgbClr val="000000"/>
              </a:solidFill>
              <a:latin typeface="Arial"/>
            </a:endParaRPr>
          </a:p>
          <a:p>
            <a:pPr lvl="1"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that if in any minute, (ISCEqm*REGNm) for a QSE is less than zero, then (ISCEqm*REGNm) is set to zero for that QSE for that minute; and</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that if in any minute, total aggregated ISCEqm of all QSEs is less than 100 MW and greater than -100 MW, then REGNm is set to zero for that min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R 586 Mechanism (2)</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ll ASDFqi to obtain the total A/S demand factor TASDFi, and calculate the ratio: </a:t>
            </a:r>
            <a:endParaRPr b="0" lang="en-US" sz="2400" spc="-1" strike="noStrike">
              <a:solidFill>
                <a:srgbClr val="000000"/>
              </a:solidFill>
              <a:latin typeface="Arial"/>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factor = ASDFqi/TASDF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S Cost Reallocation (ASCR) for each QSE for each interval based on the Interval Equivalent Cost of A/S (IECA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CRqi = IECASi * Allocation factor</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ECAS is 50% of the cost of regulation for the interval,  based on MCPC times REG MW procured during the hour containing the inter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R 586 Fairness Provisions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QSE’s SCE helps frequency in any minute, the ASDF for that QSE for that minute is set to zero</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nce band: if ERCOT wide SCE is between 100 MW and -100 MW, ASDFqm are set to zero for that minut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adjustments in case of ERCOT instru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R 586 Next step:</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quested that ERCOT do a back cast analysis.  Based on results, we ma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the formul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QSE specific tolerance b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ERCOT-wide dead-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other adjustments if necessary to ensure fair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line for PRR 586</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eet Commission’s 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May: Back cast analysis results and modifications as necess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PRS Vote, TAC v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Board Vo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PRR 586 aims to addres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ning and Evening Ramps cause dramatic frequency fluctuations, forcing ERCOT to deploy large amounts of REG DOWN and REG UP to maintain power balance and system reli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SEs submit schedules that don’t match increases and decreases in loads, resulting in large balancing energy deploy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se schedules are often infeasible: QSEs cannot ramp to their schedules, forcing ERCOT to deploy regulation during the interval to restore frequ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sue</a:t>
            </a:r>
            <a:endParaRPr b="0" lang="en-US" sz="4400" spc="-1" strike="noStrike">
              <a:solidFill>
                <a:srgbClr val="000000"/>
              </a:solidFill>
              <a:latin typeface="Arial"/>
            </a:endParaRPr>
          </a:p>
        </p:txBody>
      </p:sp>
      <p:grpSp>
        <p:nvGrpSpPr>
          <p:cNvPr id="47" name=""/>
          <p:cNvGrpSpPr/>
          <p:nvPr/>
        </p:nvGrpSpPr>
        <p:grpSpPr>
          <a:xfrm>
            <a:off x="1107360" y="1905120"/>
            <a:ext cx="6433560" cy="3274560"/>
            <a:chOff x="1107360" y="1905120"/>
            <a:chExt cx="6433560" cy="3274560"/>
          </a:xfrm>
        </p:grpSpPr>
        <p:sp>
          <p:nvSpPr>
            <p:cNvPr id="48" name=""/>
            <p:cNvSpPr/>
            <p:nvPr/>
          </p:nvSpPr>
          <p:spPr>
            <a:xfrm>
              <a:off x="1341360" y="4712760"/>
              <a:ext cx="54975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 name=""/>
            <p:cNvSpPr/>
            <p:nvPr/>
          </p:nvSpPr>
          <p:spPr>
            <a:xfrm flipV="1">
              <a:off x="2511000" y="2138400"/>
              <a:ext cx="0" cy="257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809000" y="4595400"/>
              <a:ext cx="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213000" y="4595400"/>
              <a:ext cx="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032000" y="4595400"/>
              <a:ext cx="72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733640" y="4595400"/>
              <a:ext cx="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435640" y="4595400"/>
              <a:ext cx="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58360" y="4829400"/>
              <a:ext cx="4795560" cy="35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5:45          6:00               6:15             6:30             6:45          7:00</a:t>
              </a:r>
              <a:endParaRPr b="0" lang="en-US" sz="1200" spc="-1" strike="noStrike">
                <a:solidFill>
                  <a:srgbClr val="000000"/>
                </a:solidFill>
                <a:latin typeface="Arial"/>
              </a:endParaRPr>
            </a:p>
          </p:txBody>
        </p:sp>
        <p:sp>
          <p:nvSpPr>
            <p:cNvPr id="56" name=""/>
            <p:cNvSpPr/>
            <p:nvPr/>
          </p:nvSpPr>
          <p:spPr>
            <a:xfrm flipV="1">
              <a:off x="2394000" y="2724120"/>
              <a:ext cx="233640" cy="198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628000" y="2724120"/>
              <a:ext cx="25736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 name=""/>
            <p:cNvSpPr/>
            <p:nvPr/>
          </p:nvSpPr>
          <p:spPr>
            <a:xfrm>
              <a:off x="3096000" y="2138760"/>
              <a:ext cx="2222640" cy="351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rgeted Output Level</a:t>
              </a:r>
              <a:endParaRPr b="0" lang="en-US" sz="1200" spc="-1" strike="noStrike">
                <a:solidFill>
                  <a:srgbClr val="000000"/>
                </a:solidFill>
                <a:latin typeface="Arial"/>
              </a:endParaRPr>
            </a:p>
          </p:txBody>
        </p:sp>
        <p:sp>
          <p:nvSpPr>
            <p:cNvPr id="59" name=""/>
            <p:cNvSpPr/>
            <p:nvPr/>
          </p:nvSpPr>
          <p:spPr>
            <a:xfrm>
              <a:off x="1692360" y="1905120"/>
              <a:ext cx="7016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MW</a:t>
              </a:r>
              <a:endParaRPr b="0" lang="en-US" sz="1200" spc="-1" strike="noStrike">
                <a:solidFill>
                  <a:srgbClr val="000000"/>
                </a:solidFill>
                <a:latin typeface="Arial"/>
              </a:endParaRPr>
            </a:p>
          </p:txBody>
        </p:sp>
        <p:sp>
          <p:nvSpPr>
            <p:cNvPr id="60" name=""/>
            <p:cNvSpPr/>
            <p:nvPr/>
          </p:nvSpPr>
          <p:spPr>
            <a:xfrm>
              <a:off x="6839280" y="4478760"/>
              <a:ext cx="7016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ime</a:t>
              </a:r>
              <a:endParaRPr b="0" lang="en-US" sz="1200" spc="-1" strike="noStrike">
                <a:solidFill>
                  <a:srgbClr val="000000"/>
                </a:solidFill>
                <a:latin typeface="Arial"/>
              </a:endParaRPr>
            </a:p>
          </p:txBody>
        </p:sp>
        <p:sp>
          <p:nvSpPr>
            <p:cNvPr id="61" name=""/>
            <p:cNvSpPr/>
            <p:nvPr/>
          </p:nvSpPr>
          <p:spPr>
            <a:xfrm flipV="1">
              <a:off x="2394000" y="2724120"/>
              <a:ext cx="2456640" cy="1988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07360" y="2606760"/>
              <a:ext cx="1052280" cy="581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Hourly Schedule</a:t>
              </a:r>
              <a:endParaRPr b="0" lang="en-US" sz="1200" spc="-1" strike="noStrike">
                <a:solidFill>
                  <a:srgbClr val="000000"/>
                </a:solidFill>
                <a:latin typeface="Arial"/>
              </a:endParaRPr>
            </a:p>
          </p:txBody>
        </p:sp>
        <p:sp>
          <p:nvSpPr>
            <p:cNvPr id="63" name=""/>
            <p:cNvSpPr/>
            <p:nvPr/>
          </p:nvSpPr>
          <p:spPr>
            <a:xfrm>
              <a:off x="1926000" y="3075120"/>
              <a:ext cx="5846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967640" y="3075120"/>
              <a:ext cx="222228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ctual Output Level</a:t>
              </a:r>
              <a:endParaRPr b="0" lang="en-US" sz="1200" spc="-1" strike="noStrike">
                <a:solidFill>
                  <a:srgbClr val="000000"/>
                </a:solidFill>
                <a:latin typeface="Arial"/>
              </a:endParaRPr>
            </a:p>
          </p:txBody>
        </p:sp>
        <p:sp>
          <p:nvSpPr>
            <p:cNvPr id="65" name=""/>
            <p:cNvSpPr/>
            <p:nvPr/>
          </p:nvSpPr>
          <p:spPr>
            <a:xfrm flipH="1" flipV="1">
              <a:off x="4266000" y="3190680"/>
              <a:ext cx="818640" cy="11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2628000" y="2724480"/>
              <a:ext cx="152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2510640" y="3541320"/>
              <a:ext cx="1080" cy="9370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45000" y="2724480"/>
              <a:ext cx="1080" cy="1636560"/>
            </a:xfrm>
            <a:prstGeom prst="line">
              <a:avLst/>
            </a:prstGeom>
            <a:ln w="9360">
              <a:solidFill>
                <a:srgbClr val="000000"/>
              </a:solidFill>
              <a:prstDash val="dash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979000" y="2724120"/>
              <a:ext cx="1080" cy="15202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213000" y="2724120"/>
              <a:ext cx="1080" cy="1286280"/>
            </a:xfrm>
            <a:prstGeom prst="line">
              <a:avLst/>
            </a:prstGeom>
            <a:ln w="9360">
              <a:solidFill>
                <a:srgbClr val="000000"/>
              </a:solidFill>
              <a:prstDash val="dash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447000" y="2724120"/>
              <a:ext cx="1080" cy="116892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3681000" y="2724480"/>
              <a:ext cx="720" cy="934560"/>
            </a:xfrm>
            <a:prstGeom prst="line">
              <a:avLst/>
            </a:prstGeom>
            <a:ln w="9360">
              <a:solidFill>
                <a:srgbClr val="000000"/>
              </a:solidFill>
              <a:prstDash val="dash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3915000" y="2724120"/>
              <a:ext cx="720" cy="70164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617000" y="3541680"/>
              <a:ext cx="1520280" cy="585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Regulation-Up Deployment</a:t>
              </a:r>
              <a:endParaRPr b="0" lang="en-US" sz="1200" spc="-1" strike="noStrike">
                <a:solidFill>
                  <a:srgbClr val="000000"/>
                </a:solidFill>
                <a:latin typeface="Arial"/>
              </a:endParaRPr>
            </a:p>
          </p:txBody>
        </p:sp>
        <p:sp>
          <p:nvSpPr>
            <p:cNvPr id="75" name=""/>
            <p:cNvSpPr/>
            <p:nvPr/>
          </p:nvSpPr>
          <p:spPr>
            <a:xfrm>
              <a:off x="3447000" y="3425400"/>
              <a:ext cx="1286640" cy="468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4149000" y="2724120"/>
              <a:ext cx="0" cy="584280"/>
            </a:xfrm>
            <a:prstGeom prst="line">
              <a:avLst/>
            </a:prstGeom>
            <a:ln w="9360">
              <a:solidFill>
                <a:srgbClr val="000000"/>
              </a:solidFill>
              <a:prstDash val="dash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4383000" y="2724120"/>
              <a:ext cx="720" cy="3502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4617000" y="2724120"/>
              <a:ext cx="0" cy="116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2745000" y="3893040"/>
              <a:ext cx="1052640" cy="46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760560" y="4077000"/>
              <a:ext cx="1403640" cy="53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alancing-dow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nt of Intervals with Large Need for Regulation Jan-Sep 2004</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2" name="" descr=""/>
          <p:cNvPicPr/>
          <p:nvPr/>
        </p:nvPicPr>
        <p:blipFill>
          <a:blip r:embed="rId1"/>
          <a:srcRect l="0" t="12384" r="0" b="0"/>
          <a:stretch/>
        </p:blipFill>
        <p:spPr>
          <a:xfrm>
            <a:off x="762120" y="160020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omac’s Recommendation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uninstructed deviation charges that allocate a portion of the regulation costs to the QSEs exhibiting large SCEs in the periods during each hour with the largest regulation needs.  In particular, we propose specific changes to PRR 356 that have been pending for more than two years. (pp. 28, 1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nstructed Deviation Charge (</a:t>
            </a:r>
            <a:r>
              <a:rPr b="0" lang="en-US" sz="4000" spc="-1" strike="noStrike">
                <a:solidFill>
                  <a:srgbClr val="000000"/>
                </a:solidFill>
                <a:latin typeface="Arial"/>
              </a:rPr>
              <a:t>URC)</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rrent URC primarily addresses “price chasing” but does not provide meaningful disincentives for QSEs to minimize SCE that increase regulation needs and co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ugust 18, 2004 DCS event, ERCOT-wide URC charges totalled around $4,690 for the whole da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February 13, 2005,  ERCOT System Frequency dropped below 60 Hz for nearly thirty minutes, the ERCOT-wide URC charges was only $2,234 for that d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Cs in March 2005</a:t>
            </a:r>
            <a:endParaRPr b="0" lang="en-US" sz="4400" spc="-1" strike="noStrike">
              <a:solidFill>
                <a:srgbClr val="000000"/>
              </a:solidFill>
              <a:latin typeface="Arial"/>
            </a:endParaRPr>
          </a:p>
        </p:txBody>
      </p:sp>
      <p:graphicFrame>
        <p:nvGraphicFramePr>
          <p:cNvPr id="88" name=""/>
          <p:cNvGraphicFramePr/>
          <p:nvPr/>
        </p:nvGraphicFramePr>
        <p:xfrm>
          <a:off x="457200" y="1347840"/>
          <a:ext cx="8153280" cy="4983120"/>
        </p:xfrm>
        <a:graphic>
          <a:graphicData uri="http://schemas.openxmlformats.org/presentationml/2006/ole">
            <p:oleObj progId="Excel.Sheet.12" r:id="rId1" spid="">
              <p:embed/>
              <p:pic>
                <p:nvPicPr>
                  <p:cNvPr id="89" name="" descr=""/>
                  <p:cNvPicPr/>
                  <p:nvPr/>
                </p:nvPicPr>
                <p:blipFill>
                  <a:blip r:embed="rId2"/>
                  <a:stretch/>
                </p:blipFill>
                <p:spPr>
                  <a:xfrm>
                    <a:off x="457200" y="1347840"/>
                    <a:ext cx="8153280" cy="49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R 525 Measur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1: The one (1) minute averages of the QSE’s S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2:  The ten (10) minute averages of the QSEs’ S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R introduces a SCE measurement for all scheduling QSEs and establishes a standard.  QSEs that do not meet the standard would be informed  of such, and if they fail 3 out of 6 months, ERCOT could suspend their right to provide 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comings of PRR 525</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P1 may always be met because negative SCEs and positive SCEs will tend to cancel each other out when averaged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solve the 6:00 and 22:00 issu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QSEs exhibit SCEs that are small for most of the day but exhibit an upward spike around 6:00 and a downward spike around 22:00, therefore could pass the 90% t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inancial penal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4:44:22Z</dcterms:created>
  <dc:creator>djaussaud</dc:creator>
  <dc:description/>
  <dc:language>en-US</dc:language>
  <cp:lastModifiedBy>djaussaud</cp:lastModifiedBy>
  <dcterms:modified xsi:type="dcterms:W3CDTF">2005-04-22T14:16:28Z</dcterms:modified>
  <cp:revision>13</cp:revision>
  <dc:subject/>
  <dc:title>SCE performance and Regulation Cost Reallo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47065772</vt:r8>
  </property>
  <property fmtid="{D5CDD505-2E9C-101B-9397-08002B2CF9AE}" pid="3" name="_AuthorEmail">
    <vt:lpwstr>Danielle.Jaussaud@puc.state.tx.us</vt:lpwstr>
  </property>
  <property fmtid="{D5CDD505-2E9C-101B-9397-08002B2CF9AE}" pid="4" name="_AuthorEmailDisplayName">
    <vt:lpwstr>Jaussaud, Danielle</vt:lpwstr>
  </property>
  <property fmtid="{D5CDD505-2E9C-101B-9397-08002B2CF9AE}" pid="5" name="_EmailSubject">
    <vt:lpwstr>WMS material</vt:lpwstr>
  </property>
  <property fmtid="{D5CDD505-2E9C-101B-9397-08002B2CF9AE}" pid="6" name="_PreviousAdHocReviewCycleID">
    <vt:r8>2118300987</vt:r8>
  </property>
</Properties>
</file>