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8848-EEE4-448C-91A2-3F3CF25DA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DC94-BAA1-43C3-9244-230772EB4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BF2C-627F-46FE-91C1-B0E5874FD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B87C-9748-47D9-B015-607336AE0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DE6E-D24B-41F3-9BF0-7ED2A2DB6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D21F-5922-4E26-8D5D-2E08C2905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4A79-B722-4EA3-8453-DEACAD4AA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450B-2952-4912-86E3-ABC249BED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5E3D-F758-42D6-8998-0638D48C5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F06C-88B6-4E01-93C0-69E0D2C14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7819-9D0B-4584-A209-64F324EB3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E7E4-12A9-448F-8C8D-C64A6AE28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D4B7-F549-4448-BB95-25146265D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E07E-3553-4C0A-B7B1-F7948D5B1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70AA-E69A-49DC-8941-F902BC0D5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1827-0D89-433E-9535-02D9962C7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2DEC-12FD-4B5D-8F0A-64D648D11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53ED-D377-4BA5-A4B5-2801467D2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33F3-92DB-4490-99D9-F7BEEF60C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C6BF-C30C-48D6-AA39-6A3058386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D2A4-9103-464F-92D3-674F5A0DB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7BD9E-A57A-4A21-9AD9-2929A0563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7B65-8A6A-4D8E-B92C-81E7F1139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4F72-885D-4CD9-9925-308C65A71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7B2B-445F-42FF-8A1E-81B4FD703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2BD6D-DF08-4C84-B149-82F2DC681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AF96-65AF-415B-A7D7-55DA7D06C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3246-AD8B-4E2C-8C06-2DDDBF791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769C-33C7-4792-B332-8AAD33C16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5272-DDC4-438D-97F2-5C2BC5931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5D7F-34E7-4997-A863-BEBEFA411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65DD-00B6-4671-B6BC-9602DDC77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segger@erco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ProtocolRevisions/SCRRevfilesystem.cfm?action=viewfolder&amp;path=../ercotpublicweb/market/ftp/SystemChangeRequests/Project_Priority_List" TargetMode="External"/><Relationship Id="rId2" Type="http://schemas.openxmlformats.org/officeDocument/2006/relationships/hyperlink" Target="http://www.ercot.com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segger@erco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Updates to DEW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ckie Ashbau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14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028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target dates – will have firm dates after project plan is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(pens dow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pril/May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(published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ay/June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ctober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cto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ctober/November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ctober/Nov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920" y="8524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6000" y="792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F0D00-3CA8-409A-8126-8707AE62A7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028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Scott Eg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512-248-3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segger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RCO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L Phase II Mid-Term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the Market Survey strongly encouraged the implementation of a search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 website comparisons between the other I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840" y="85248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46000" y="792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7891-883C-4C4F-88F8-697206F0D1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028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bjectives/Scop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1: Transition of full functionality of SCR727 extracts from the Data Archive to the ODS/ED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2: Addition of the capability for new market participants to request and receive an “initial” SCR727 ESIID extract for dimensional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3: Addition of the capability for a separate data extract for the dimensional tables that are reused throughout all Lodestar extr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4: Inclusion of a unique file load order number in the extract file names which will identify the order in which SCR727 files should be loaded by the market particip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destar ODS Stabilization - minimal issues found and corrected during stabilization.  60 days end on Monday 4/18/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Delivery Module - went live in December, loss of resources required replanning activit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240" y="82224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50840" y="79200"/>
            <a:ext cx="41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007 SCR 727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147F-7991-4B0A-A4FC-023EC67558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028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s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in Feb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Completed Ap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Started Apr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– 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ed Execu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step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eveloping detailed design and analytic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9360" y="85248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50840" y="79200"/>
            <a:ext cx="41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007 SCR 727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97E8-CF1D-42E8-B738-C7FBB9EE6F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028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target dates will become firm after design is complete and project plan fin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/Mar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/May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esting –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’05 through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Testing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raining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 to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Training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 to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 Q3 ’05/Early Q4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7920" y="8524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50840" y="79200"/>
            <a:ext cx="41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007 SCR 727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39EC-3E21-4918-ACCC-B268E87813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028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ie Ashba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A Data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Priority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gram Are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of ERCOT ODS/EDW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ecommission of the Lodestar Data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all Lodestar extracts to be created in the ODS/EDW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6840" y="85248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50840" y="79200"/>
            <a:ext cx="41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007 SCR 727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EFA2A-168F-4F87-ABB6-3BF46E0130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2184480"/>
          <a:ext cx="8381880" cy="4521240"/>
        </p:xfrm>
        <a:graphic>
          <a:graphicData uri="http://schemas.openxmlformats.org/drawingml/2006/table">
            <a:tbl>
              <a:tblPr/>
              <a:tblGrid>
                <a:gridCol w="2095560"/>
                <a:gridCol w="2097000"/>
                <a:gridCol w="2094120"/>
                <a:gridCol w="209520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y 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y Extract is Produced and Publish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nt in Time Extract is produced f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ge of time from which net changes will be determ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turday, 5:30 P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iday 5:30:01 PM – Saturday 5:30:00 P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es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nday, 5:3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turday 5:30:01 PM – Sunday 5:30:0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dnes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day, 5:3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nday 5:30:01 PM – Monday 5:30:0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urs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esday, 5:3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day 5:30:01 PM – Tuesday 5:30:0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i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dnesday, 5:3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esday 5:30:01 PM – Wednesday 5:30:0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tu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ursday, 5:3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dnesday 5:30:01 PM – Thursday 5:30:0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n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iday, 5:3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ursday 5:30:01 PM – Friday 5:30:00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441360" y="874800"/>
            <a:ext cx="83217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 Timing Change for SCR 727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allow for outages and system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produce ESIID Extract in line with Load, Generation and Settlements &amp; Billing Ex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50840" y="79200"/>
            <a:ext cx="41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007 SCR 727 Ph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B66D-3976-40BB-98F7-CBBFCC791B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028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/Sco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for Backdated LSE Relationship Changes will be provided to the appropriate CR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 name or number in order to identify the order in which SCR727 files should be loaded by the MP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diting capability to allow MPs the function to confirm the accuracy of their extracts, including creation of initial extracts for MP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link a database change back to the source of the change (i.e. FasTrak issue, batch processing). (not implementing with this pro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Solution for project requireme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destar ODS Stabi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Delivery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240" y="82224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30960" y="152280"/>
            <a:ext cx="42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24  Enhancements to SCR 7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9C58-6671-44F5-A64F-1AEE14DBC8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028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s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in Feb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May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June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– 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ed Planning to obtain BOD approval for project budget (May ’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to gather market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step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development of conceptu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evelopment of analytical and detailed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9360" y="85248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30960" y="152280"/>
            <a:ext cx="42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24  Enhancements to SCR 7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7D28-AB82-41BD-B621-8E1E6808C4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028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target dates will become firm after design is complete and project plan fin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esting –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’05 through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Testing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raining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 to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Training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 to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1 ‘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7920" y="8524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30960" y="166680"/>
            <a:ext cx="42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24  Enhancements to SCR 7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3A5D2-9328-41FD-BFBF-8638F0ECF7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362320" y="76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Priority List (PPL)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523880"/>
            <a:ext cx="8839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PPL posted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rcot.com/ProtocolRevisions/SCRRevfilesystem.cfm?action=viewfolder&amp;path=../ercotpublicweb/market/ftp/SystemChangeRequests/Project_Priority_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…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ercot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/ Protocols / System Change Requests / Project Priority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2A49-FB4F-4BEB-B80C-6D9B53E4F0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028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ie Ashba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A Data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Priority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gram Are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 market participant research on ESIID level data used in data aggregation/sett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430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6840" y="85248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30960" y="166680"/>
            <a:ext cx="42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24  Enhancements to SCR 7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83B1E-6CD3-4186-A737-C2B1F2156D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028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0 + million data transactions have successfully flowed between Production Lodestar, Lodestar Replicated Source System and Lodestar 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 Issues encountered throughout the stabilization period (Feb ’05 – Apr ’05); All issues resolved through appropriate vend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2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ro data loss encountered throughout the stabilization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xt step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ition Lodestar extracts to the Lodestar ODS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9360" y="85248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44480" y="127080"/>
            <a:ext cx="35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-40042_04 Lodestar 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48ED-C71F-4E52-8804-35668D32D5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ERCOT Projec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6176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spcBef>
                <a:spcPts val="7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E4BE-274C-4090-B498-A5AE00A5C9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028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ject Up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50007 - FasTra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40106 - 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30026 - EPS Meter Data Extract/Resource ID Extract – no up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50024 - SCR 740 Web Service for ESII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40007 - SCR727 move from Data Archive to 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005 Upcoming Proj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cessary Project Updat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40042_04 - Lodestar ODS – brief update 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40042_06 - Lodestar Batch Extra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50005 - EMMS Reports/Ex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560" y="8222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9480" y="792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Project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1360" y="5943600"/>
            <a:ext cx="142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pril 4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32880" y="594360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DDCC-1A06-494A-B6B2-EC79905AF8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028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solution to either enhance or replace the FasTrak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/Why is this important?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the transparency for issues that are submitted via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users to have improved access to th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reporting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search functionality associ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monitoring and response capabiliti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us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upgrade – only if Siebel is chosen as the replacement tool for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240" y="82224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9400" y="127080"/>
            <a:ext cx="45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1360" y="5943600"/>
            <a:ext cx="142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pril 4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32880" y="594360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2CBC-5ECC-40CB-8C18-798E25E63E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129528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as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in Feb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March 14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Starting August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– Goal Dec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Starting Dec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ing process diagrams &amp; an “as is” document with internal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xt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with MPs in April to verify process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finalizing detailed requirements, after process diagrams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with MPs in May to finalize detailed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enhancement method (upgrade current tool, Siebel or A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9360" y="85248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7680" y="5943600"/>
            <a:ext cx="142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pril 4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99400" y="127080"/>
            <a:ext cx="45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634A-848F-4639-978E-20D9E2D550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028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target dates will become firm after design is complete and project plan fin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June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(published documen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ly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August/November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Te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ugust/Nov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vember/December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Tra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vember/Dec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Go li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c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7920" y="8524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5160" y="5977080"/>
            <a:ext cx="143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pril 4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9400" y="127080"/>
            <a:ext cx="45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28CD-E2D1-4D51-88E1-CEA376F828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028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Scott Eg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512-248-316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segger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ke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840" y="85248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7680" y="5943600"/>
            <a:ext cx="142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April 4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9400" y="127080"/>
            <a:ext cx="45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0ECC-1E58-470A-A309-D04728F39F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028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nd implement a website layout that enables users to find key information effici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process to ensure the sustainability of the investment in the enhanc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cope / Why is this important?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rch engine functionality (including metadata strate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navigation - create a new information architecture for the site (task driven foc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 owners can post updates easily – content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for maximizing the use of key real estate for critical and timely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information and processes are maintained after the re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e at this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240" y="82224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46000" y="792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15AF-BE6E-4329-AABD-2DF08C0C9B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0280" y="12985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on – completed in Sept ‘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–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– goal April/May 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– goal October/November ‘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stages of vendor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xt step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 to update Directors on Planning phase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 to enter next phase (Exec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9360" y="85248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46000" y="792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6EC9E-A53C-4E6C-BB8B-58246A54A1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jashbaugh</cp:lastModifiedBy>
  <dcterms:modified xsi:type="dcterms:W3CDTF">2005-04-14T13:06:46Z</dcterms:modified>
  <cp:revision>196</cp:revision>
  <dc:subject/>
  <dc:title>Slide 1</dc:title>
</cp:coreProperties>
</file>