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3A7CC-F196-476B-B765-48586473B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7DCC5-DA42-4F24-B31F-1E2F3BBEC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DE74F-0C52-4805-811E-F45AF2F0F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BC5CB-3777-4390-8257-77A94E018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87D81-8B76-4DBD-BA1B-3E50ADE7B4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FE44E-6841-4C46-A129-1181DABB7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20D13-BF92-4C76-B1E5-C2EDC3B40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5D350-8047-4158-BAA3-84AD2C8A1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472CE-0FEA-45A4-8868-C248B0DAD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D9BB8-05A5-4FBF-92D3-9E997ECDF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C022E-67AF-4F4A-959E-75D8C7B2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63C43-02FE-4FA2-8AA1-96A5D89E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CDD45-DB68-41B7-B301-9D69B30C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60BCC-BD36-4F6F-85F8-D5E6D14CA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C06BF-B31C-44C4-A350-6C4B3FBE5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0153A-96EC-41E1-8C19-7D91A4C41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845D2-FAF3-4392-AA56-E89451BFE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8A9A-49AD-481E-AD85-64B0151CE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027F-3096-4D57-A4CA-19A3CA65B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0375-EA53-46E7-979E-E632B987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69A10-052C-4402-881D-91895060F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E7E7E-5B10-472D-A57A-5E08D90B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2D14A-6E71-4F50-9F42-19682D0E2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A18C-911F-49CF-9F1B-8F18F68B5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DEFC-C8C5-46B1-9FEE-C1DEA360732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A817-D27A-4198-9462-EAF133B4441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142640"/>
            <a:ext cx="792468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R 740</a:t>
            </a:r>
            <a:br>
              <a:rPr sz="3600"/>
            </a:br>
            <a:r>
              <a:rPr b="1" lang="en-US" sz="2000" spc="-1" strike="noStrike">
                <a:solidFill>
                  <a:srgbClr val="003366"/>
                </a:solidFill>
                <a:latin typeface="Arial"/>
              </a:rPr>
              <a:t>Business Requirements and Understanding of Market Data Requests</a:t>
            </a:r>
            <a:endParaRPr b="1" lang="en-US" sz="2000" spc="-1" strike="noStrike">
              <a:solidFill>
                <a:srgbClr val="003366"/>
              </a:solidFill>
              <a:latin typeface="Arial"/>
            </a:endParaRPr>
          </a:p>
        </p:txBody>
      </p:sp>
      <p:pic>
        <p:nvPicPr>
          <p:cNvPr id="95" name="" descr=""/>
          <p:cNvPicPr/>
          <p:nvPr/>
        </p:nvPicPr>
        <p:blipFill>
          <a:blip r:embed="rId1"/>
          <a:stretch/>
        </p:blipFill>
        <p:spPr>
          <a:xfrm>
            <a:off x="7315200" y="228600"/>
            <a:ext cx="1600200" cy="861840"/>
          </a:xfrm>
          <a:prstGeom prst="rect">
            <a:avLst/>
          </a:prstGeom>
          <a:ln w="0">
            <a:noFill/>
          </a:ln>
        </p:spPr>
      </p:pic>
      <p:sp>
        <p:nvSpPr>
          <p:cNvPr id="96" name=""/>
          <p:cNvSpPr/>
          <p:nvPr/>
        </p:nvSpPr>
        <p:spPr>
          <a:xfrm>
            <a:off x="4648320" y="5257800"/>
            <a:ext cx="3962160" cy="9144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Jackie Ashbaugh</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Lead Data Analyst</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ea typeface="Times New Roman"/>
              </a:rPr>
              <a:t>April 14, 2005</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ssumptions/Knowns for SCR 740 (continued)</a:t>
            </a:r>
            <a:endParaRPr b="1" lang="en-US" sz="20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 requests for current data will be based on the most recent 5:30 PM. </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 requests for point in time data will be based on the data available at 5:30 PM the day of the point in tim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usage requests, NIDR and/or IDR data may be provided. This does not guarantee this was the data type used during Data Aggregation/Settlements. The usage data type used for Data Aggregation/Settlements is based on the metertype of the Profile Code for the trade date at the time of the Settlement date. </a:t>
            </a:r>
            <a:endParaRPr b="0" lang="en-US" sz="1600" spc="-1" strike="noStrike">
              <a:solidFill>
                <a:srgbClr val="003366"/>
              </a:solidFill>
              <a:latin typeface="Arial"/>
            </a:endParaRPr>
          </a:p>
        </p:txBody>
      </p:sp>
      <p:pic>
        <p:nvPicPr>
          <p:cNvPr id="123"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a:t>
            </a:r>
            <a:endParaRPr b="1" lang="en-US" sz="2000" spc="-1" strike="noStrike">
              <a:solidFill>
                <a:srgbClr val="006666"/>
              </a:solidFill>
              <a:latin typeface="Arial"/>
            </a:endParaRPr>
          </a:p>
        </p:txBody>
      </p:sp>
      <p:pic>
        <p:nvPicPr>
          <p:cNvPr id="125" name="" descr=""/>
          <p:cNvPicPr/>
          <p:nvPr/>
        </p:nvPicPr>
        <p:blipFill>
          <a:blip r:embed="rId1"/>
          <a:stretch/>
        </p:blipFill>
        <p:spPr>
          <a:xfrm>
            <a:off x="7315200" y="228600"/>
            <a:ext cx="1600200" cy="861840"/>
          </a:xfrm>
          <a:prstGeom prst="rect">
            <a:avLst/>
          </a:prstGeom>
          <a:ln w="0">
            <a:noFill/>
          </a:ln>
        </p:spPr>
      </p:pic>
      <p:sp>
        <p:nvSpPr>
          <p:cNvPr id="126"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RCOT Web Services will be established for:</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IID Data Research</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CR 727 Auditing</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ementary and Integrated Services will be developed</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te: The Information provided in following slides is a result of the combination of information collected from the market and ERCOT. The detailed project requirements are still being defined for the following information. This information is for discussion purposes only.</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28" name="" descr=""/>
          <p:cNvPicPr/>
          <p:nvPr/>
        </p:nvPicPr>
        <p:blipFill>
          <a:blip r:embed="rId1"/>
          <a:stretch/>
        </p:blipFill>
        <p:spPr>
          <a:xfrm>
            <a:off x="7315200" y="228600"/>
            <a:ext cx="1600200" cy="861840"/>
          </a:xfrm>
          <a:prstGeom prst="rect">
            <a:avLst/>
          </a:prstGeom>
          <a:ln w="0">
            <a:noFill/>
          </a:ln>
        </p:spPr>
      </p:pic>
      <p:sp>
        <p:nvSpPr>
          <p:cNvPr id="129"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ESIID Data Research</a:t>
            </a:r>
            <a:endParaRPr b="0" lang="en-US" sz="18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IID level data will be provided as a result of MP requests that will be resolved through a join with the ESIID and ESIIDSERVICEHIST tables. Tables included:</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IID</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elds provided: UIDESIID, ESIID, STARTTIME, STOPTIME, ADDTIME</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Ps request ESIID table data for ESIID/UIDESIID</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31" name="" descr=""/>
          <p:cNvPicPr/>
          <p:nvPr/>
        </p:nvPicPr>
        <p:blipFill>
          <a:blip r:embed="rId1"/>
          <a:stretch/>
        </p:blipFill>
        <p:spPr>
          <a:xfrm>
            <a:off x="7315200" y="228600"/>
            <a:ext cx="1600200" cy="861840"/>
          </a:xfrm>
          <a:prstGeom prst="rect">
            <a:avLst/>
          </a:prstGeom>
          <a:ln w="0">
            <a:noFill/>
          </a:ln>
        </p:spPr>
      </p:pic>
      <p:sp>
        <p:nvSpPr>
          <p:cNvPr id="132"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ESIID Data Research</a:t>
            </a:r>
            <a:endParaRPr b="0" lang="en-US" sz="18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IIDSERVICEHIST</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elds provided: ESIID, UIDESIID, SERVICECODE, STARTTIME, STOPTIME, REPCODE, REP.REPNAME, REP.DUNSNUMBER, STATIONCODE, STATIONSERVICEHIST.STATIONNAME, CMZONE.CMZONE, PROFILECODE, LOSSCODE, ADDTIME, DISPATCHFL, MRECODE, MRE.MRENAME, MRE.DUNSNUMBER, TDSPCODE, TDSP.TDSPNAME, TDSP.DUNSNUMBER, REGIONCODE, DISPATCHASSETCODE, STATUS, ZIP, PGCCODE, PGC.PGCNAME, PGC.DUNSNUMBER, DISPATCHTYPE</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Ps request relationship and characteristic information, do I own these accounts?, Status of accounts (814 processing)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34" name="" descr=""/>
          <p:cNvPicPr/>
          <p:nvPr/>
        </p:nvPicPr>
        <p:blipFill>
          <a:blip r:embed="rId1"/>
          <a:stretch/>
        </p:blipFill>
        <p:spPr>
          <a:xfrm>
            <a:off x="7315200" y="228600"/>
            <a:ext cx="1600200" cy="861840"/>
          </a:xfrm>
          <a:prstGeom prst="rect">
            <a:avLst/>
          </a:prstGeom>
          <a:ln w="0">
            <a:noFill/>
          </a:ln>
        </p:spPr>
      </p:pic>
      <p:sp>
        <p:nvSpPr>
          <p:cNvPr id="135" name="PlaceHolder 2"/>
          <p:cNvSpPr>
            <a:spLocks noGrp="1"/>
          </p:cNvSpPr>
          <p:nvPr>
            <p:ph/>
          </p:nvPr>
        </p:nvSpPr>
        <p:spPr>
          <a:xfrm>
            <a:off x="914040" y="2362320"/>
            <a:ext cx="8001000" cy="40384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ESIID Data Research</a:t>
            </a:r>
            <a:endParaRPr b="0" lang="en-US" sz="18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IIDSERVICEHIST (continued)</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Ps may specify the following as parameters: SERVICECODE, REPCODE, REP.DUNSNUMBER, STATIONCODE, CMZONE.CMZONE, PROFILECODE, LOSSCODE, DISPATCHFL, MRECODE, MRE.DUNSNUMBER, TDSPCODE, TDSP.DUNSNUMBER, REGIONCODE, DISPATCHASSETCODE, STATUS, ZIP, PGCCODE, PGC.DUNSNUMBER, DISPATCHTYPE</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Ps request relationship and characteristic information, do I own these accounts?, Status of accounts (814 processing) </a:t>
            </a:r>
            <a:endParaRPr b="0" lang="en-US" sz="16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37" name="" descr=""/>
          <p:cNvPicPr/>
          <p:nvPr/>
        </p:nvPicPr>
        <p:blipFill>
          <a:blip r:embed="rId1"/>
          <a:stretch/>
        </p:blipFill>
        <p:spPr>
          <a:xfrm>
            <a:off x="7315200" y="228600"/>
            <a:ext cx="1600200" cy="861840"/>
          </a:xfrm>
          <a:prstGeom prst="rect">
            <a:avLst/>
          </a:prstGeom>
          <a:ln w="0">
            <a:noFill/>
          </a:ln>
        </p:spPr>
      </p:pic>
      <p:sp>
        <p:nvSpPr>
          <p:cNvPr id="138"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ESIID Data Research</a:t>
            </a:r>
            <a:endParaRPr b="0" lang="en-US" sz="1600" spc="-1" strike="noStrike">
              <a:solidFill>
                <a:srgbClr val="003366"/>
              </a:solidFill>
              <a:latin typeface="Arial"/>
            </a:endParaRPr>
          </a:p>
          <a:p>
            <a:pPr lvl="1" marL="676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lvl="1" marL="676080" indent="-25992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SIIDUSAGE</a:t>
            </a:r>
            <a:endParaRPr b="0" lang="en-US" sz="1400" spc="-1" strike="noStrike">
              <a:solidFill>
                <a:srgbClr val="003366"/>
              </a:solidFill>
              <a:latin typeface="Arial"/>
            </a:endParaRPr>
          </a:p>
          <a:p>
            <a:pPr lvl="2" marL="1040040" indent="-20772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elds provided: ESIID + All table fields</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request for NIDR usage data or data not loaded</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may specify the following as parameters: STARTTIME, STOPTIME, METERTYPE, TOTAL, ADU, ONPEAK, OFFPEAK, MIDPEAK, SUPERPEAK, GLOBALPROCID (by providing tran_id of 867_03)</a:t>
            </a:r>
            <a:endParaRPr b="0" lang="en-US" sz="1400" spc="-1" strike="noStrike">
              <a:solidFill>
                <a:srgbClr val="003366"/>
              </a:solidFill>
              <a:latin typeface="Arial"/>
            </a:endParaRPr>
          </a:p>
          <a:p>
            <a:pPr lvl="1" marL="676080" indent="-25992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SCHANNELCUTHEADER</a:t>
            </a:r>
            <a:endParaRPr b="0" lang="en-US" sz="1400" spc="-1" strike="noStrike">
              <a:solidFill>
                <a:srgbClr val="003366"/>
              </a:solidFill>
              <a:latin typeface="Arial"/>
            </a:endParaRPr>
          </a:p>
          <a:p>
            <a:pPr lvl="2" marL="1040040" indent="-20772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elds provided: All</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request for IDR usage header data or data not loaded</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may specify the following as parameters: STARTTIME, STOPTIME, ORIGIN, DESCRIPTOR (by providing tran_id of 867_03)</a:t>
            </a:r>
            <a:endParaRPr b="0" lang="en-US" sz="1400" spc="-1" strike="noStrike">
              <a:solidFill>
                <a:srgbClr val="003366"/>
              </a:solidFill>
              <a:latin typeface="Arial"/>
            </a:endParaRPr>
          </a:p>
          <a:p>
            <a:pPr lvl="1" marL="676080" indent="-25992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SCHANNELCUTHEADER/LSCHANNELCUTDATA</a:t>
            </a:r>
            <a:endParaRPr b="0" lang="en-US" sz="1400" spc="-1" strike="noStrike">
              <a:solidFill>
                <a:srgbClr val="003366"/>
              </a:solidFill>
              <a:latin typeface="Arial"/>
            </a:endParaRPr>
          </a:p>
          <a:p>
            <a:pPr lvl="2" marL="1040040" indent="-207720">
              <a:lnSpc>
                <a:spcPct val="80000"/>
              </a:lnSpc>
              <a:spcBef>
                <a:spcPts val="34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elds provided: All for both tables</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request for IDR usage data or data not loaded</a:t>
            </a:r>
            <a:endParaRPr b="0" lang="en-US" sz="1400" spc="-1" strike="noStrike">
              <a:solidFill>
                <a:srgbClr val="003366"/>
              </a:solidFill>
              <a:latin typeface="Arial"/>
            </a:endParaRPr>
          </a:p>
          <a:p>
            <a:pPr lvl="3" marL="1455840" indent="-207720">
              <a:lnSpc>
                <a:spcPct val="80000"/>
              </a:lnSpc>
              <a:spcBef>
                <a:spcPts val="349"/>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Ps may specify the following as parameters: STARTTIME, STOPTIME, ORIGIN, DESCRIPTOR (by providing tran_id of 867_03)</a:t>
            </a:r>
            <a:endParaRPr b="0" lang="en-US" sz="1400" spc="-1" strike="noStrike">
              <a:solidFill>
                <a:srgbClr val="003366"/>
              </a:solidFill>
              <a:latin typeface="Arial"/>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12120" indent="-31212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ket level data will be provided as a result of MP requests from a table list that will include a return of all data records from the requested tables</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sp>
        <p:nvSpPr>
          <p:cNvPr id="14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ESIID Data Research</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1" name="" descr=""/>
          <p:cNvPicPr/>
          <p:nvPr/>
        </p:nvPicPr>
        <p:blipFill>
          <a:blip r:embed="rId1"/>
          <a:stretch/>
        </p:blipFill>
        <p:spPr>
          <a:xfrm>
            <a:off x="7315200" y="228600"/>
            <a:ext cx="1600200" cy="861840"/>
          </a:xfrm>
          <a:prstGeom prst="rect">
            <a:avLst/>
          </a:prstGeom>
          <a:ln w="0">
            <a:noFill/>
          </a:ln>
        </p:spPr>
      </p:pic>
      <p:graphicFrame>
        <p:nvGraphicFramePr>
          <p:cNvPr id="142" name=""/>
          <p:cNvGraphicFramePr/>
          <p:nvPr/>
        </p:nvGraphicFramePr>
        <p:xfrm>
          <a:off x="800280" y="2730600"/>
          <a:ext cx="8280360" cy="3997080"/>
        </p:xfrm>
        <a:graphic>
          <a:graphicData uri="http://schemas.openxmlformats.org/drawingml/2006/table">
            <a:tbl>
              <a:tblPr/>
              <a:tblGrid>
                <a:gridCol w="1052280"/>
                <a:gridCol w="1090800"/>
                <a:gridCol w="1420560"/>
                <a:gridCol w="1297080"/>
                <a:gridCol w="3419640"/>
              </a:tblGrid>
              <a:tr h="39312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 Request Data Provided</a:t>
                      </a:r>
                      <a:endParaRPr b="0" lang="en-US" sz="18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9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SIIDs</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IDESIIDs</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IDCHANNELCUTs</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arameters</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hat is being asked by the MP?</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4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 a given list of ESIIDs provide results of data rows </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62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 a given list of UIDESIIDs provide results of data rows </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 a given list of UIDCHANNELCUTs provide all corresponding LSCHANNELCUTHEADER/LSCHANNELCUTDATA rows</a:t>
                      </a:r>
                      <a:r>
                        <a:rPr b="0" lang="en-US" sz="2000" spc="-1" strike="noStrike">
                          <a:solidFill>
                            <a:srgbClr val="003366"/>
                          </a:solidFill>
                          <a:latin typeface="Arial"/>
                        </a:rPr>
                        <a:t> </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62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or given parameters provide all account data that applies to requestor </a:t>
                      </a:r>
                      <a:endParaRPr b="0" lang="en-US" sz="12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44" name="" descr=""/>
          <p:cNvPicPr/>
          <p:nvPr/>
        </p:nvPicPr>
        <p:blipFill>
          <a:blip r:embed="rId1"/>
          <a:stretch/>
        </p:blipFill>
        <p:spPr>
          <a:xfrm>
            <a:off x="7315200" y="228600"/>
            <a:ext cx="1600200" cy="861840"/>
          </a:xfrm>
          <a:prstGeom prst="rect">
            <a:avLst/>
          </a:prstGeom>
          <a:ln w="0">
            <a:noFill/>
          </a:ln>
        </p:spPr>
      </p:pic>
      <p:graphicFrame>
        <p:nvGraphicFramePr>
          <p:cNvPr id="145" name=""/>
          <p:cNvGraphicFramePr/>
          <p:nvPr/>
        </p:nvGraphicFramePr>
        <p:xfrm>
          <a:off x="888840" y="2311560"/>
          <a:ext cx="8166240" cy="4562280"/>
        </p:xfrm>
        <a:graphic>
          <a:graphicData uri="http://schemas.openxmlformats.org/drawingml/2006/table">
            <a:tbl>
              <a:tblPr/>
              <a:tblGrid>
                <a:gridCol w="925560"/>
                <a:gridCol w="763560"/>
                <a:gridCol w="736920"/>
                <a:gridCol w="1854000"/>
                <a:gridCol w="3886200"/>
              </a:tblGrid>
              <a:tr h="337320">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P Request Time Specifications</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Data Current in Lodestar</a:t>
                      </a:r>
                      <a:endParaRPr b="0" lang="en-US" sz="1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oint In Time</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Trade Date</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ESIIDSERVICEHIST current row (represents SYSDATE)</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What is being asked by the MP?</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s of most recent 5:30PM – Request for all current data rows in Lodestar. This request will return all data rows that apply to/contain a relationship with the requesting MP. </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0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s of requested date at 5:30PM – Request for all data rows existing in Lodestar as of the given date. This request will return all data rows that apply to/contain a relationship with the requesting MP as of the given date. </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55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s of most recent 5:30PM - Request for current ESIIDs and characteristics having relationship with MP as of SYSDATE. This request will return the ESIIDSERVICEHIST rows with null STOPTIMEs. This time specification only applies to the ESIIDSERVICEHIST table. </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917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s of most recent 5:30PM – Request for all current data rows in</a:t>
                      </a:r>
                      <a:endParaRPr b="0" lang="en-US" sz="1000" spc="-1" strike="noStrike">
                        <a:solidFill>
                          <a:srgbClr val="003366"/>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Lodestar that contain the given trade date. This request will return</a:t>
                      </a:r>
                      <a:endParaRPr b="0" lang="en-US" sz="1000" spc="-1" strike="noStrike">
                        <a:solidFill>
                          <a:srgbClr val="003366"/>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ll data rows that apply to/contain a relationship with the</a:t>
                      </a:r>
                      <a:endParaRPr b="0" lang="en-US" sz="1000" spc="-1" strike="noStrike">
                        <a:solidFill>
                          <a:srgbClr val="003366"/>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requesting MP.</a:t>
                      </a:r>
                      <a:endParaRPr b="0" lang="en-US" sz="1000" spc="-1" strike="noStrike">
                        <a:solidFill>
                          <a:srgbClr val="003366"/>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SH.STARTTIME &lt;= TD</a:t>
                      </a:r>
                      <a:endParaRPr b="0" lang="en-US" sz="1000" spc="-1" strike="noStrike">
                        <a:solidFill>
                          <a:srgbClr val="003366"/>
                        </a:solidFill>
                        <a:latin typeface="Arial"/>
                      </a:endParaRPr>
                    </a:p>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nd nvl(ESH.STOPTIME, SYSDATE) &gt;= TD </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0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X</a:t>
                      </a:r>
                      <a:endParaRPr b="0" lang="en-US" sz="1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s of request date at 5:30PM – Request for all data rows existing in Lodestar as of the given date. This request will return all data rows that apply to/contain a relationship with the requesting MP as of the given date for the given trade date. </a:t>
                      </a:r>
                      <a:endParaRPr b="0" lang="en-US" sz="1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Interpretation of Data Requests (continued)</a:t>
            </a:r>
            <a:endParaRPr b="1" lang="en-US" sz="2000" spc="-1" strike="noStrike">
              <a:solidFill>
                <a:srgbClr val="006666"/>
              </a:solidFill>
              <a:latin typeface="Arial"/>
            </a:endParaRPr>
          </a:p>
        </p:txBody>
      </p:sp>
      <p:pic>
        <p:nvPicPr>
          <p:cNvPr id="147" name="" descr=""/>
          <p:cNvPicPr/>
          <p:nvPr/>
        </p:nvPicPr>
        <p:blipFill>
          <a:blip r:embed="rId1"/>
          <a:stretch/>
        </p:blipFill>
        <p:spPr>
          <a:xfrm>
            <a:off x="7315200" y="228600"/>
            <a:ext cx="1600200" cy="861840"/>
          </a:xfrm>
          <a:prstGeom prst="rect">
            <a:avLst/>
          </a:prstGeom>
          <a:ln w="0">
            <a:noFill/>
          </a:ln>
        </p:spPr>
      </p:pic>
      <p:sp>
        <p:nvSpPr>
          <p:cNvPr id="148" name="PlaceHolder 2"/>
          <p:cNvSpPr>
            <a:spLocks noGrp="1"/>
          </p:cNvSpPr>
          <p:nvPr>
            <p:ph/>
          </p:nvPr>
        </p:nvSpPr>
        <p:spPr>
          <a:xfrm>
            <a:off x="914040" y="2362320"/>
            <a:ext cx="800100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SCR 727 Auditing</a:t>
            </a:r>
            <a:endParaRPr b="0" lang="en-US" sz="18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level data will be provided as a result of MP requests from a table list</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unts by table</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gical key (primary key + addtime/timestamp) by table</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cess for MP to provide back logical key and receive entire data row</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 data within table/database</a:t>
            </a:r>
            <a:endParaRPr b="0" lang="en-US" sz="1600" spc="-1" strike="noStrike">
              <a:solidFill>
                <a:srgbClr val="003366"/>
              </a:solidFill>
              <a:latin typeface="Arial"/>
            </a:endParaRPr>
          </a:p>
          <a:p>
            <a:pPr lvl="2" marL="1143000" indent="-22860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atabase and ESIID tables may only be requested once a year</a:t>
            </a:r>
            <a:endParaRPr b="0" lang="en-US" sz="1600" spc="-1" strike="noStrike">
              <a:solidFill>
                <a:srgbClr val="003366"/>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Conclusion</a:t>
            </a:r>
            <a:endParaRPr b="1" lang="en-US" sz="20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xt Steps</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nalize Standard Parameters</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ddress any Questions that Require Additional Review</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urther Discussion on the Lodestar ODS/EDW environment</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Questions?</a:t>
            </a:r>
            <a:endParaRPr b="0" lang="en-US" sz="1800" spc="-1" strike="noStrike">
              <a:solidFill>
                <a:srgbClr val="003366"/>
              </a:solidFill>
              <a:latin typeface="Arial"/>
            </a:endParaRPr>
          </a:p>
        </p:txBody>
      </p:sp>
      <p:pic>
        <p:nvPicPr>
          <p:cNvPr id="151"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Overview</a:t>
            </a:r>
            <a:endParaRPr b="1" lang="en-US" sz="2000" spc="-1" strike="noStrike">
              <a:solidFill>
                <a:srgbClr val="006666"/>
              </a:solidFill>
              <a:latin typeface="Arial"/>
            </a:endParaRPr>
          </a:p>
        </p:txBody>
      </p:sp>
      <p:sp>
        <p:nvSpPr>
          <p:cNvPr id="98" name="PlaceHolder 2"/>
          <p:cNvSpPr>
            <a:spLocks noGrp="1"/>
          </p:cNvSpPr>
          <p:nvPr>
            <p:ph/>
          </p:nvPr>
        </p:nvSpPr>
        <p:spPr>
          <a:xfrm>
            <a:off x="914040" y="2362320"/>
            <a:ext cx="8001000" cy="121968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Functional Business Requirement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Assumptions/Knowns for SCR 740</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ea typeface="Times New Roman"/>
              </a:rPr>
              <a:t>Interpretation of Data Requests</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a:t>
            </a:r>
            <a:endParaRPr b="1" lang="en-US" sz="20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77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urpose:  Provision of a Web Service to allow Market Participants the ability to query ESIID-level data and request specific SCR 727 data</a:t>
            </a:r>
            <a:endParaRPr b="0" lang="en-US" sz="1600" spc="-1" strike="noStrike">
              <a:solidFill>
                <a:srgbClr val="003366"/>
              </a:solidFill>
              <a:latin typeface="Arial"/>
            </a:endParaRPr>
          </a:p>
          <a:p>
            <a:pPr marL="577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the ability to request specific 727 data for researching ESIID information to determine relationship duration, usage discrepancies, inclusion into Trade Date settlement, etc.</a:t>
            </a:r>
            <a:endParaRPr b="0" lang="en-US" sz="1600" spc="-1" strike="noStrike">
              <a:solidFill>
                <a:srgbClr val="003366"/>
              </a:solidFill>
              <a:latin typeface="Arial"/>
            </a:endParaRPr>
          </a:p>
          <a:p>
            <a:pPr lvl="2" marL="1327320" indent="-412920">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access to ERCOT data via web services interface to the Lodestar ODS/EDW</a:t>
            </a:r>
            <a:endParaRPr b="0" lang="en-US" sz="1600" spc="-1" strike="noStrike">
              <a:solidFill>
                <a:srgbClr val="003366"/>
              </a:solidFill>
              <a:latin typeface="Arial"/>
            </a:endParaRPr>
          </a:p>
        </p:txBody>
      </p:sp>
      <p:pic>
        <p:nvPicPr>
          <p:cNvPr id="102"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 (continued)</a:t>
            </a:r>
            <a:endParaRPr b="1" lang="en-US" sz="20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web service shall provide information to the market participant in the format of a call to the web service in two ways:</a:t>
            </a:r>
            <a:endParaRPr b="0" lang="en-US" sz="1600" spc="-1" strike="noStrike">
              <a:solidFill>
                <a:srgbClr val="003366"/>
              </a:solidFill>
              <a:latin typeface="Arial"/>
            </a:endParaRPr>
          </a:p>
          <a:p>
            <a:pPr lvl="3" marL="1743120" indent="-37152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ementary Service</a:t>
            </a:r>
            <a:endParaRPr b="0" lang="en-US" sz="1600" spc="-1" strike="noStrike">
              <a:solidFill>
                <a:srgbClr val="003366"/>
              </a:solidFill>
              <a:latin typeface="Arial"/>
            </a:endParaRPr>
          </a:p>
          <a:p>
            <a:pPr lvl="4" marL="2200320" indent="-371520">
              <a:spcBef>
                <a:spcPts val="4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y require specific parameters to define the WHERE clause</a:t>
            </a:r>
            <a:endParaRPr b="0" lang="en-US" sz="1600" spc="-1" strike="noStrike">
              <a:solidFill>
                <a:srgbClr val="003366"/>
              </a:solidFill>
              <a:latin typeface="Arial"/>
            </a:endParaRPr>
          </a:p>
          <a:p>
            <a:pPr lvl="4" marL="2200320" indent="-371520">
              <a:spcBef>
                <a:spcPts val="4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imarily resides on only one data object</a:t>
            </a:r>
            <a:endParaRPr b="0" lang="en-US" sz="1600" spc="-1" strike="noStrike">
              <a:solidFill>
                <a:srgbClr val="003366"/>
              </a:solidFill>
              <a:latin typeface="Arial"/>
            </a:endParaRPr>
          </a:p>
          <a:p>
            <a:pPr lvl="3" marL="1743120" indent="-37152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 Service</a:t>
            </a:r>
            <a:endParaRPr b="0" lang="en-US" sz="1600" spc="-1" strike="noStrike">
              <a:solidFill>
                <a:srgbClr val="003366"/>
              </a:solidFill>
              <a:latin typeface="Arial"/>
            </a:endParaRPr>
          </a:p>
          <a:p>
            <a:pPr lvl="4" marL="2200320" indent="-371520">
              <a:spcBef>
                <a:spcPts val="4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total of 5 standardized integrated service calls will be provided in the initial phase of the project. </a:t>
            </a:r>
            <a:endParaRPr b="0" lang="en-US" sz="1600" spc="-1" strike="noStrike">
              <a:solidFill>
                <a:srgbClr val="003366"/>
              </a:solidFill>
              <a:latin typeface="Arial"/>
            </a:endParaRPr>
          </a:p>
          <a:p>
            <a:pPr lvl="4" marL="2200320" indent="-371520">
              <a:spcBef>
                <a:spcPts val="4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ires some number of parameters</a:t>
            </a:r>
            <a:endParaRPr b="0" lang="en-US" sz="1600" spc="-1" strike="noStrike">
              <a:solidFill>
                <a:srgbClr val="003366"/>
              </a:solidFill>
              <a:latin typeface="Arial"/>
            </a:endParaRPr>
          </a:p>
          <a:p>
            <a:pPr lvl="4" marL="2200320" indent="-371520">
              <a:spcBef>
                <a:spcPts val="4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turns all information based on business logic</a:t>
            </a:r>
            <a:endParaRPr b="0" lang="en-US" sz="1600" spc="-1" strike="noStrike">
              <a:solidFill>
                <a:srgbClr val="003366"/>
              </a:solidFill>
              <a:latin typeface="Arial"/>
            </a:endParaRPr>
          </a:p>
          <a:p>
            <a:pPr lvl="4" marL="2200320" indent="-37152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ides on multiple data objects that is a combination data from multiple tables</a:t>
            </a:r>
            <a:r>
              <a:rPr b="0" lang="en-US" sz="1800" spc="-1" strike="noStrike">
                <a:solidFill>
                  <a:srgbClr val="003366"/>
                </a:solidFill>
                <a:latin typeface="Arial"/>
              </a:rPr>
              <a:t> </a:t>
            </a:r>
            <a:endParaRPr b="0" lang="en-US" sz="1800" spc="-1" strike="noStrike">
              <a:solidFill>
                <a:srgbClr val="003366"/>
              </a:solidFill>
              <a:latin typeface="Arial"/>
            </a:endParaRPr>
          </a:p>
        </p:txBody>
      </p:sp>
      <p:pic>
        <p:nvPicPr>
          <p:cNvPr id="105"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 (continued)</a:t>
            </a:r>
            <a:endParaRPr b="1" lang="en-US" sz="20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anchor="t">
            <a:normAutofit/>
          </a:bodyPr>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a secure method for data requests, extraction and delivery to MP</a:t>
            </a:r>
            <a:endParaRPr b="0" lang="en-US" sz="1600" spc="-1" strike="noStrike">
              <a:solidFill>
                <a:srgbClr val="003366"/>
              </a:solidFill>
              <a:latin typeface="Arial"/>
            </a:endParaRPr>
          </a:p>
          <a:p>
            <a:pPr lvl="1" marL="952560" indent="-495360">
              <a:lnSpc>
                <a:spcPct val="90000"/>
              </a:lnSpc>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the flexibility for each market participant (MP) to access information in a variety of configurations, dependant on the needs of the individual MP. (i.e. user level security to specific duns numbers, or all DUNS numbers for other users, etc.  with the possible use of digital certificate technology</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ow for any market participant to utilize web services while still receiving a SCR 727 extract files if desired.</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raining needs:</a:t>
            </a:r>
            <a:endParaRPr b="0" lang="en-US" sz="1600" spc="-1" strike="noStrike">
              <a:solidFill>
                <a:srgbClr val="003366"/>
              </a:solidFill>
              <a:latin typeface="Arial"/>
            </a:endParaRPr>
          </a:p>
          <a:p>
            <a:pPr lvl="1" marL="952560" indent="-495360">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curity protocols to access web service</a:t>
            </a:r>
            <a:endParaRPr b="0" lang="en-US" sz="1600" spc="-1" strike="noStrike">
              <a:solidFill>
                <a:srgbClr val="003366"/>
              </a:solidFill>
              <a:latin typeface="Arial"/>
            </a:endParaRPr>
          </a:p>
          <a:p>
            <a:pPr lvl="1" marL="952560" indent="-495360">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thods available for web service access</a:t>
            </a:r>
            <a:endParaRPr b="0" lang="en-US" sz="1600" spc="-1" strike="noStrike">
              <a:solidFill>
                <a:srgbClr val="003366"/>
              </a:solidFill>
              <a:latin typeface="Arial"/>
            </a:endParaRPr>
          </a:p>
          <a:p>
            <a:pPr lvl="1" marL="952560" indent="-495360">
              <a:spcBef>
                <a:spcPts val="34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duction of the appropriate calls to the web service architecture</a:t>
            </a:r>
            <a:r>
              <a:rPr b="0" lang="en-US" sz="1400" spc="-1" strike="noStrike">
                <a:solidFill>
                  <a:srgbClr val="003366"/>
                </a:solidFill>
                <a:latin typeface="Arial"/>
              </a:rPr>
              <a:t> </a:t>
            </a:r>
            <a:endParaRPr b="0" lang="en-US" sz="14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formation delivery from ERCOT to the market participant must accommodate an array of needs and capabilities. Options will be determined by the parameters passed to the web service.</a:t>
            </a:r>
            <a:endParaRPr b="0" lang="en-US" sz="1600" spc="-1" strike="noStrike">
              <a:solidFill>
                <a:srgbClr val="003366"/>
              </a:solidFill>
              <a:latin typeface="Arial"/>
            </a:endParaRPr>
          </a:p>
        </p:txBody>
      </p:sp>
      <p:pic>
        <p:nvPicPr>
          <p:cNvPr id="108"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 (continued)</a:t>
            </a:r>
            <a:endParaRPr b="1" lang="en-US" sz="2000" spc="-1" strike="noStrike">
              <a:solidFill>
                <a:srgbClr val="006666"/>
              </a:solidFill>
              <a:latin typeface="Arial"/>
            </a:endParaRPr>
          </a:p>
        </p:txBody>
      </p:sp>
      <p:sp>
        <p:nvSpPr>
          <p:cNvPr id="110" name="PlaceHolder 2"/>
          <p:cNvSpPr>
            <a:spLocks noGrp="1"/>
          </p:cNvSpPr>
          <p:nvPr>
            <p:ph/>
          </p:nvPr>
        </p:nvSpPr>
        <p:spPr>
          <a:xfrm>
            <a:off x="914040" y="2361960"/>
            <a:ext cx="8001000" cy="4071960"/>
          </a:xfrm>
          <a:prstGeom prst="rect">
            <a:avLst/>
          </a:prstGeom>
          <a:noFill/>
          <a:ln w="0">
            <a:noFill/>
          </a:ln>
        </p:spPr>
        <p:txBody>
          <a:bodyPr anchor="t">
            <a:normAutofit/>
          </a:bodyPr>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audit capabilities to allow market participants the function to confirm the accuracy of their SCR 727 extracts</a:t>
            </a:r>
            <a:endParaRPr b="0" lang="en-US" sz="1600" spc="-1" strike="noStrike">
              <a:solidFill>
                <a:srgbClr val="003366"/>
              </a:solidFill>
              <a:latin typeface="Arial"/>
            </a:endParaRPr>
          </a:p>
          <a:p>
            <a:pPr lvl="2" marL="1327320" indent="-412920">
              <a:lnSpc>
                <a:spcPct val="90000"/>
              </a:lnSpc>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database pull back primary key and addtime as of a given point in time (5:30 PM of the provided date)</a:t>
            </a:r>
            <a:endParaRPr b="0" lang="en-US" sz="1600" spc="-1" strike="noStrike">
              <a:solidFill>
                <a:srgbClr val="003366"/>
              </a:solidFill>
              <a:latin typeface="Arial"/>
            </a:endParaRPr>
          </a:p>
          <a:p>
            <a:pPr lvl="2" marL="1327320" indent="-412920">
              <a:lnSpc>
                <a:spcPct val="90000"/>
              </a:lnSpc>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Provide table level records counts as of a given point in time.</a:t>
            </a:r>
            <a:endParaRPr b="0" lang="en-US" sz="1600" spc="-1" strike="noStrike">
              <a:solidFill>
                <a:srgbClr val="003366"/>
              </a:solidFill>
              <a:latin typeface="Arial"/>
            </a:endParaRPr>
          </a:p>
          <a:p>
            <a:pPr lvl="2" marL="1327320" indent="-412920">
              <a:lnSpc>
                <a:spcPct val="90000"/>
              </a:lnSpc>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rket participant provides primary key and addtime in order to request rows currently missing from their system</a:t>
            </a:r>
            <a:endParaRPr b="0" lang="en-US" sz="1600" spc="-1" strike="noStrike">
              <a:solidFill>
                <a:srgbClr val="003366"/>
              </a:solidFill>
              <a:latin typeface="Arial"/>
            </a:endParaRPr>
          </a:p>
          <a:p>
            <a:pPr lvl="2" marL="1327320" indent="-412920">
              <a:lnSpc>
                <a:spcPct val="90000"/>
              </a:lnSpc>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quest an entire database of data</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UI Interface shall be created to facilitate web service call creation.</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eb service requests for current data shall be provided as of the most recent 5:30 PM.</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eb service requests for point in time data shall be provided as of 5:30 PM of the point in time date.</a:t>
            </a:r>
            <a:endParaRPr b="0" lang="en-US" sz="1600" spc="-1" strike="noStrike">
              <a:solidFill>
                <a:srgbClr val="003366"/>
              </a:solidFill>
              <a:latin typeface="Arial"/>
            </a:endParaRPr>
          </a:p>
        </p:txBody>
      </p:sp>
      <p:pic>
        <p:nvPicPr>
          <p:cNvPr id="111"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 (continued)</a:t>
            </a:r>
            <a:endParaRPr b="1" lang="en-US" sz="20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anchor="t">
            <a:normAutofit fontScale="99000"/>
          </a:bodyPr>
          <a:p>
            <a:pPr marL="571680" indent="-5716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 elementary service calls shall include the ESIID and descriptive names for codes and shall also provide duns numbers for codes where applicable.  The necessary descriptors will be defined in the analytical/technical design.</a:t>
            </a:r>
            <a:endParaRPr b="0" lang="en-US" sz="1600" spc="-1" strike="noStrike">
              <a:solidFill>
                <a:srgbClr val="003366"/>
              </a:solidFill>
              <a:latin typeface="Arial"/>
            </a:endParaRPr>
          </a:p>
          <a:p>
            <a:pPr marL="571680" indent="-5716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f requestor is not the owner of data for the date and point in time being requested (due to conflicting lse relationship information, or no data is present for requested dates or data types), then the requested shall receive a reply indicating that no data was returned.</a:t>
            </a:r>
            <a:endParaRPr b="0" lang="en-US" sz="1600" spc="-1" strike="noStrike">
              <a:solidFill>
                <a:srgbClr val="003366"/>
              </a:solidFill>
              <a:latin typeface="Arial"/>
            </a:endParaRPr>
          </a:p>
          <a:p>
            <a:pPr marL="571680" indent="-5716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Market Service Level Agreement shall be established for elementary and integrated web service calls. The known dependencies for the SLA are the volume of requests at the time a request is made in conjunction with the amount of data being delivered as a result of the request.</a:t>
            </a:r>
            <a:endParaRPr b="0" lang="en-US" sz="1600" spc="-1" strike="noStrike">
              <a:solidFill>
                <a:srgbClr val="003366"/>
              </a:solidFill>
              <a:latin typeface="Arial"/>
            </a:endParaRPr>
          </a:p>
          <a:p>
            <a:pPr lvl="1" marL="942840" indent="-490320">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ementary requests will be delivered within 2 days of the request</a:t>
            </a:r>
            <a:endParaRPr b="0" lang="en-US" sz="1600" spc="-1" strike="noStrike">
              <a:solidFill>
                <a:srgbClr val="003366"/>
              </a:solidFill>
              <a:latin typeface="Arial"/>
            </a:endParaRPr>
          </a:p>
          <a:p>
            <a:pPr lvl="1" marL="942840" indent="-490320">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 requests will be delivered within 10 days of the request</a:t>
            </a:r>
            <a:endParaRPr b="0" lang="en-US" sz="1600" spc="-1" strike="noStrike">
              <a:solidFill>
                <a:srgbClr val="003366"/>
              </a:solidFill>
              <a:latin typeface="Arial"/>
            </a:endParaRPr>
          </a:p>
          <a:p>
            <a:pPr lvl="1" marL="942840" indent="-490320">
              <a:spcBef>
                <a:spcPts val="40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requests for entire databases are limited to once a year  </a:t>
            </a:r>
            <a:endParaRPr b="0" lang="en-US" sz="1600" spc="-1" strike="noStrike">
              <a:solidFill>
                <a:srgbClr val="003366"/>
              </a:solidFill>
              <a:latin typeface="Arial"/>
            </a:endParaRPr>
          </a:p>
        </p:txBody>
      </p:sp>
      <p:pic>
        <p:nvPicPr>
          <p:cNvPr id="114"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ea typeface="Times New Roman"/>
              </a:rPr>
              <a:t>Functional Business</a:t>
            </a:r>
            <a:r>
              <a:rPr b="1" lang="en-US" sz="3600" spc="-1" strike="noStrike">
                <a:solidFill>
                  <a:srgbClr val="006666"/>
                </a:solidFill>
                <a:latin typeface="Arial"/>
                <a:ea typeface="Times New Roman"/>
              </a:rPr>
              <a:t> </a:t>
            </a:r>
            <a:r>
              <a:rPr b="1" lang="en-US" sz="2000" spc="-1" strike="noStrike">
                <a:solidFill>
                  <a:srgbClr val="006666"/>
                </a:solidFill>
                <a:latin typeface="Arial"/>
                <a:ea typeface="Times New Roman"/>
              </a:rPr>
              <a:t>Requirements:</a:t>
            </a:r>
            <a:br>
              <a:rPr sz="2000"/>
            </a:br>
            <a:r>
              <a:rPr b="1" lang="en-US" sz="2000" spc="-1" strike="noStrike">
                <a:solidFill>
                  <a:srgbClr val="006666"/>
                </a:solidFill>
                <a:latin typeface="Arial"/>
                <a:ea typeface="Times New Roman"/>
              </a:rPr>
              <a:t>Market and ERCOT SCR 740 Requirements (continued)</a:t>
            </a:r>
            <a:endParaRPr b="1" lang="en-US" sz="20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Market Technical Services Guide will need to be developed and made available to market participants.</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 Internal Service Level Agreement needs to be developed for the archiving and storage of web service requests and data delivered. (This may be covered in the Market Information Repository (MIR) Project.)</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solution of data provided will be specified in technical specifications of the analytical design.</a:t>
            </a:r>
            <a:endParaRPr b="0" lang="en-US" sz="1600" spc="-1" strike="noStrike">
              <a:solidFill>
                <a:srgbClr val="003366"/>
              </a:solidFill>
              <a:latin typeface="Arial"/>
            </a:endParaRPr>
          </a:p>
          <a:p>
            <a:pPr marL="577800" indent="-57780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clude into the design necessary flexibility to produce advanced query capabilities at a later date. </a:t>
            </a:r>
            <a:endParaRPr b="0" lang="en-US" sz="1600" spc="-1" strike="noStrike">
              <a:solidFill>
                <a:srgbClr val="003366"/>
              </a:solidFill>
              <a:latin typeface="Arial"/>
            </a:endParaRPr>
          </a:p>
        </p:txBody>
      </p:sp>
      <p:pic>
        <p:nvPicPr>
          <p:cNvPr id="117"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Assumptions/Knowns for SCR 740</a:t>
            </a:r>
            <a:endParaRPr b="1" lang="en-US" sz="20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Lodestar ODS includes all Lodestar data since February 15, 2005. Therefore, the Lodestar ODS was baselined with the date above and no other historical data is contained within the environment.</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lete tables will not be included. This will be captured as a part of the data flow transaction proces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ll ESIID level MP data requests will be validated based on the ownership defined in the ESIIDSERVICEHIST table.</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eb Services will not provide the ability to request all ESIID level data for trade dates.</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requests for full table/database refreshes will be in the format of SCR 727.</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udit requests for full ESIID table/database refreshes may only be requested once a year.</a:t>
            </a:r>
            <a:endParaRPr b="0" lang="en-US" sz="1600" spc="-1" strike="noStrike">
              <a:solidFill>
                <a:srgbClr val="003366"/>
              </a:solidFill>
              <a:latin typeface="Arial"/>
            </a:endParaRPr>
          </a:p>
        </p:txBody>
      </p:sp>
      <p:pic>
        <p:nvPicPr>
          <p:cNvPr id="120" name="" descr=""/>
          <p:cNvPicPr/>
          <p:nvPr/>
        </p:nvPicPr>
        <p:blipFill>
          <a:blip r:embed="rId1"/>
          <a:stretch/>
        </p:blipFill>
        <p:spPr>
          <a:xfrm>
            <a:off x="7315200" y="228600"/>
            <a:ext cx="160020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30T20:23:20Z</dcterms:created>
  <dc:creator>syedavalli</dc:creator>
  <dc:description/>
  <dc:language>en-US</dc:language>
  <cp:lastModifiedBy>jashbaugh</cp:lastModifiedBy>
  <dcterms:modified xsi:type="dcterms:W3CDTF">2005-04-14T13:11:02Z</dcterms:modified>
  <cp:revision>210</cp:revision>
  <dc:subject/>
  <dc:title>ODS Source Schema Standards</dc:title>
</cp:coreProperties>
</file>