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3988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3988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3988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3988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3988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3988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3988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73988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3988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73988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3988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3988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3988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3988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3988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3988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3988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3988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73988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3988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3988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3988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0520" y="0"/>
            <a:ext cx="1427400" cy="68904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685800"/>
            <a:ext cx="9144000" cy="15228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6480">
            <a:solidFill>
              <a:srgbClr val="000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73988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d5f5d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d5f5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-3240" y="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1494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168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396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66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50976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6480" y="3200400"/>
            <a:ext cx="5883120" cy="76320"/>
          </a:xfrm>
          <a:prstGeom prst="rect">
            <a:avLst/>
          </a:prstGeom>
          <a:gradFill rotWithShape="0">
            <a:gsLst>
              <a:gs pos="0">
                <a:srgbClr val="466e6c"/>
              </a:gs>
              <a:gs pos="50000">
                <a:srgbClr val="203231"/>
              </a:gs>
              <a:gs pos="100000">
                <a:srgbClr val="466e6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04880" y="601560"/>
            <a:ext cx="2274840" cy="10987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361960" y="2054880"/>
            <a:ext cx="61722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5d59"/>
                </a:solidFill>
                <a:latin typeface="Tahoma"/>
              </a:rPr>
              <a:t>PR30026 Resource ID (RID) Extra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1960" y="3504960"/>
            <a:ext cx="61894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b5d59"/>
                </a:solidFill>
                <a:latin typeface="Tahoma"/>
              </a:rPr>
              <a:t>Data Extracts Working Grou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b5d59"/>
                </a:solidFill>
                <a:latin typeface="Tahoma"/>
              </a:rPr>
              <a:t>March 10, 200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b5d59"/>
                </a:solidFill>
                <a:latin typeface="Tahoma"/>
              </a:rPr>
              <a:t>Randy Rober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b5d59"/>
                </a:solidFill>
                <a:latin typeface="Tahoma"/>
              </a:rPr>
              <a:t>ERCOT Energy Analysis &amp; Aggreg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3988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d5f5d"/>
                </a:solidFill>
                <a:latin typeface="Tahoma"/>
              </a:rPr>
              <a:t>Purpose of RID Extract</a:t>
            </a:r>
            <a:endParaRPr b="0" lang="en-US" sz="3600" spc="-1" strike="noStrike">
              <a:solidFill>
                <a:srgbClr val="3d5f5d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s MPs with Same Level of Granularity as Provided for Loa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SIID Data Allows MPs to Shadow Settle Their Load Volume - RID Data Allows MPs to Shadow Settle Their Generation Volu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3988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d5f5d"/>
                </a:solidFill>
                <a:latin typeface="Tahoma"/>
              </a:rPr>
              <a:t>Three Types of “RIDs”</a:t>
            </a:r>
            <a:endParaRPr b="0" lang="en-US" sz="3600" spc="-1" strike="noStrike">
              <a:solidFill>
                <a:srgbClr val="3d5f5d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RCOT Polled Settlement (EPS)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nerator Site Da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IE Da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DSP Read Generation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enerator Unit Telemetry Data (SCADA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3988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d5f5d"/>
                </a:solidFill>
                <a:latin typeface="Tahoma"/>
              </a:rPr>
              <a:t>Who Receives the Extract</a:t>
            </a:r>
            <a:endParaRPr b="0" lang="en-US" sz="3600" spc="-1" strike="noStrike">
              <a:solidFill>
                <a:srgbClr val="3d5f5d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RCOT Polled Settlement (EPS)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enerator Site Da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SEs, Resource Entities (REs), &amp; TDSP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IE Da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SEs, LSEs, &amp; TDSP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DSP Read Generation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SEs, REs, TDSPs &amp; MREs (if not TDSP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enerator Unit Telemetry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SEs, REs, TDS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3988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d5f5d"/>
                </a:solidFill>
                <a:latin typeface="Tahoma"/>
              </a:rPr>
              <a:t>Delivery Method</a:t>
            </a:r>
            <a:endParaRPr b="0" lang="en-US" sz="3600" spc="-1" strike="noStrike">
              <a:solidFill>
                <a:srgbClr val="3d5f5d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sistent with Existing Extract Methodolog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DL Provid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itial Extract of Dimensional and Transactional Data (excluding LSCHANNELCUT Header and Dat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ily Proc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ivered to MP via 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ckaged as .ZIP File with .CSV compon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unts Audit File Includ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3988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d5f5d"/>
                </a:solidFill>
                <a:latin typeface="Tahoma"/>
              </a:rPr>
              <a:t>Timing of Delivery</a:t>
            </a:r>
            <a:endParaRPr b="0" lang="en-US" sz="3600" spc="-1" strike="noStrike">
              <a:solidFill>
                <a:srgbClr val="3d5f5d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xt Day Delivery After Data Imported Into Lodesta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P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ximum of 9 Days After the Operating Day due to ERCOT Run78 Proce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AD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ypically 1 Day After the Operating Da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DSP Re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pendent Upon Delivery of Data to ERCO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3988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d5f5d"/>
                </a:solidFill>
                <a:latin typeface="Tahoma"/>
              </a:rPr>
              <a:t>General Notes</a:t>
            </a:r>
            <a:endParaRPr b="0" lang="en-US" sz="3600" spc="-1" strike="noStrike">
              <a:solidFill>
                <a:srgbClr val="3d5f5d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livery not Dependent on Data Completen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uplicates May Exi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raday Transactions Will be Delive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al Extract for Entities That Do Not Have Inherent Rights to Data (RID &amp; ESIID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3988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d5f5d"/>
                </a:solidFill>
                <a:latin typeface="Tahoma"/>
              </a:rPr>
              <a:t>Questions</a:t>
            </a:r>
            <a:endParaRPr b="0" lang="en-US" sz="3600" spc="-1" strike="noStrike">
              <a:solidFill>
                <a:srgbClr val="3d5f5d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1905120" y="1600200"/>
            <a:ext cx="5029200" cy="4495680"/>
          </a:xfrm>
          <a:custGeom>
            <a:avLst/>
            <a:gdLst/>
            <a:ahLst/>
            <a:rect l="l" t="t" r="r" b="b"/>
            <a:pathLst>
              <a:path w="3386" h="3161">
                <a:moveTo>
                  <a:pt x="896" y="0"/>
                </a:moveTo>
                <a:lnTo>
                  <a:pt x="896" y="1354"/>
                </a:lnTo>
                <a:lnTo>
                  <a:pt x="0" y="1354"/>
                </a:lnTo>
                <a:lnTo>
                  <a:pt x="0" y="1443"/>
                </a:lnTo>
                <a:lnTo>
                  <a:pt x="447" y="1883"/>
                </a:lnTo>
                <a:lnTo>
                  <a:pt x="447" y="2022"/>
                </a:lnTo>
                <a:lnTo>
                  <a:pt x="854" y="2276"/>
                </a:lnTo>
                <a:lnTo>
                  <a:pt x="923" y="2035"/>
                </a:lnTo>
                <a:lnTo>
                  <a:pt x="1085" y="1946"/>
                </a:lnTo>
                <a:lnTo>
                  <a:pt x="1132" y="2051"/>
                </a:lnTo>
                <a:lnTo>
                  <a:pt x="1391" y="2051"/>
                </a:lnTo>
                <a:lnTo>
                  <a:pt x="1617" y="2399"/>
                </a:lnTo>
                <a:lnTo>
                  <a:pt x="1617" y="2522"/>
                </a:lnTo>
                <a:lnTo>
                  <a:pt x="1807" y="2687"/>
                </a:lnTo>
                <a:lnTo>
                  <a:pt x="1807" y="2891"/>
                </a:lnTo>
                <a:lnTo>
                  <a:pt x="1958" y="3006"/>
                </a:lnTo>
                <a:lnTo>
                  <a:pt x="2443" y="3161"/>
                </a:lnTo>
                <a:lnTo>
                  <a:pt x="2336" y="2903"/>
                </a:lnTo>
                <a:lnTo>
                  <a:pt x="2336" y="2687"/>
                </a:lnTo>
                <a:lnTo>
                  <a:pt x="2405" y="2551"/>
                </a:lnTo>
                <a:lnTo>
                  <a:pt x="2961" y="2206"/>
                </a:lnTo>
                <a:lnTo>
                  <a:pt x="2961" y="2125"/>
                </a:lnTo>
                <a:lnTo>
                  <a:pt x="2996" y="2097"/>
                </a:lnTo>
                <a:lnTo>
                  <a:pt x="2903" y="2005"/>
                </a:lnTo>
                <a:lnTo>
                  <a:pt x="2903" y="1927"/>
                </a:lnTo>
                <a:lnTo>
                  <a:pt x="2984" y="1959"/>
                </a:lnTo>
                <a:lnTo>
                  <a:pt x="3043" y="1915"/>
                </a:lnTo>
                <a:lnTo>
                  <a:pt x="3115" y="1927"/>
                </a:lnTo>
                <a:lnTo>
                  <a:pt x="3067" y="2035"/>
                </a:lnTo>
                <a:lnTo>
                  <a:pt x="3267" y="1959"/>
                </a:lnTo>
                <a:lnTo>
                  <a:pt x="3267" y="1746"/>
                </a:lnTo>
                <a:lnTo>
                  <a:pt x="3386" y="1656"/>
                </a:lnTo>
                <a:lnTo>
                  <a:pt x="3267" y="1505"/>
                </a:lnTo>
                <a:lnTo>
                  <a:pt x="3267" y="1354"/>
                </a:lnTo>
                <a:lnTo>
                  <a:pt x="3149" y="1197"/>
                </a:lnTo>
                <a:lnTo>
                  <a:pt x="3149" y="791"/>
                </a:lnTo>
                <a:lnTo>
                  <a:pt x="2961" y="895"/>
                </a:lnTo>
                <a:lnTo>
                  <a:pt x="2830" y="729"/>
                </a:lnTo>
                <a:lnTo>
                  <a:pt x="2775" y="771"/>
                </a:lnTo>
                <a:lnTo>
                  <a:pt x="2689" y="729"/>
                </a:lnTo>
                <a:lnTo>
                  <a:pt x="2575" y="805"/>
                </a:lnTo>
                <a:lnTo>
                  <a:pt x="2467" y="805"/>
                </a:lnTo>
                <a:lnTo>
                  <a:pt x="2443" y="715"/>
                </a:lnTo>
                <a:lnTo>
                  <a:pt x="2239" y="715"/>
                </a:lnTo>
                <a:lnTo>
                  <a:pt x="2194" y="791"/>
                </a:lnTo>
                <a:lnTo>
                  <a:pt x="2159" y="729"/>
                </a:lnTo>
                <a:lnTo>
                  <a:pt x="2089" y="791"/>
                </a:lnTo>
                <a:lnTo>
                  <a:pt x="2077" y="636"/>
                </a:lnTo>
                <a:lnTo>
                  <a:pt x="1970" y="698"/>
                </a:lnTo>
                <a:lnTo>
                  <a:pt x="1759" y="606"/>
                </a:lnTo>
                <a:lnTo>
                  <a:pt x="1652" y="606"/>
                </a:lnTo>
                <a:lnTo>
                  <a:pt x="1593" y="530"/>
                </a:lnTo>
                <a:lnTo>
                  <a:pt x="1534" y="530"/>
                </a:lnTo>
                <a:lnTo>
                  <a:pt x="1534" y="0"/>
                </a:lnTo>
                <a:lnTo>
                  <a:pt x="896" y="0"/>
                </a:lnTo>
                <a:lnTo>
                  <a:pt x="896" y="0"/>
                </a:lnTo>
                <a:close/>
              </a:path>
            </a:pathLst>
          </a:custGeom>
          <a:noFill/>
          <a:ln w="381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267080" y="2819520"/>
            <a:ext cx="109692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12:55:16Z</dcterms:created>
  <dc:creator>Rob Connell</dc:creator>
  <dc:description/>
  <dc:language>en-US</dc:language>
  <cp:lastModifiedBy>Randy Roberts</cp:lastModifiedBy>
  <dcterms:modified xsi:type="dcterms:W3CDTF">2005-03-09T18:08:08Z</dcterms:modified>
  <cp:revision>120</cp:revision>
  <dc:subject/>
  <dc:title>Slide 1</dc:title>
</cp:coreProperties>
</file>