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C22-848B-48B7-BF1B-CF523866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755-3FE5-4C32-A5BD-7894F666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CB0-14B4-4162-88B2-99FCEA6E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C03F-2379-4E0A-9235-396C3A97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4FAA-EA00-4271-84B0-537A299C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E355-F357-4B36-AAE7-DFA93BF4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3344-FE3C-41DD-946E-DAE4A1FE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50B1-C06C-4DCA-8AA0-A98C59DE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A7A7-A385-42E2-BFB7-8C867008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5E9B-C4C8-4E55-8E90-12ECA7B4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35B2-1481-48C9-9593-A001F355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B8F-A23E-4220-9A3E-B669AA09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AE50-27D6-4AB6-A5D4-BFCA5590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4DF9-B9D0-47EB-891F-5F8B6139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1927-F93E-420B-B47E-1FDB12FF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3FE5-ACA2-4D31-989F-586617C8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D79E-77FA-4841-8AE1-ECA5EA66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AB0-3D70-4C5D-BB7F-2BAB4488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25C-5A07-423C-A275-C2DEF9A3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1C9-8B69-4847-ACE5-F82B2869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912-C7E0-4EC3-9E93-7A6A23B9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397-D4B7-4680-9F82-F8C55112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C82F-D980-4930-BCEF-092B27F1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C7B-8AD7-4CE3-B644-9713026A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10F7-B040-493D-A6B7-0D61C5EC86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15B5-EF25-4532-B9E1-7736C9E0924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DW Extract Web Services</a:t>
            </a:r>
            <a:br>
              <a:rPr sz="36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CR 740 - Questionnaire Summary and Recommendation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48320" y="525780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  <a:ea typeface="Times New Roman"/>
              </a:rPr>
              <a:t>Geoffrey Galla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  <a:ea typeface="Times New Roman"/>
              </a:rPr>
              <a:t>Database Developer, Data Warehous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Questionnaire Results Summary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stly automated solutions in u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quired technological proficiency already in pla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aily data availability need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essage queuing, FTP, and synchronous communication options can all be included in solu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ayloads can be made available via SOAP attachm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ot tied to single forma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oth CSV and XML could be us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Other formats may be consider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Next Step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etermine interest in other resul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nalize latest replies for review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Question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Questionnaire Overview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Goals of questionnair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sult Summar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Key information obtain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commendati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Goals of Questionnair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ess Market Participant’s data delivery capabilities and limitati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dicate technology and process options availab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vide guidance and justification for system desig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elp maximize value to all involved by ensuring correct range of functionality incorporated into syste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Key Information from Questionnaires…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ow is the data currently downloaded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hat file format is required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hen is this data requested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hat delivery options are available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hat technology resources do Market Participants have available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How is the data currently downloaded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78200" y="2362320"/>
          <a:ext cx="5871960" cy="373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8200" y="2362320"/>
                    <a:ext cx="58719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When is this data requested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14400" y="2495520"/>
          <a:ext cx="8001000" cy="346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95520"/>
                    <a:ext cx="80010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What file format is required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333440" y="2362320"/>
          <a:ext cx="7162920" cy="373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2362320"/>
                    <a:ext cx="716292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Data Delivery Options Availabl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70080" y="2362320"/>
          <a:ext cx="7288200" cy="373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080" y="2362320"/>
                    <a:ext cx="72882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vailable Skill Set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2550960"/>
          <a:ext cx="8001000" cy="335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50960"/>
                    <a:ext cx="8001000" cy="33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9:45:38Z</dcterms:created>
  <dc:creator>ggallant</dc:creator>
  <dc:description/>
  <dc:language>en-US</dc:language>
  <cp:lastModifiedBy>rchase</cp:lastModifiedBy>
  <dcterms:modified xsi:type="dcterms:W3CDTF">2005-03-10T03:39:03Z</dcterms:modified>
  <cp:revision>19</cp:revision>
  <dc:subject/>
  <dc:title>Slide 1</dc:title>
</cp:coreProperties>
</file>