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C08F-5F12-4390-9041-AFB35F23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AFE-6924-42A0-9D70-544599A4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C4ED-1FA8-4ADE-9A94-A281BE21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52B-6181-41C5-AB41-3E2595E4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B5D7-3C6E-4B04-904B-13955D9F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8421-CD58-4EB9-AF8B-AD0B594BA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7352-FDAE-4B09-9939-03992D4C5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585A-4CCB-4D4F-995D-D8911412C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4468-5BCC-4B7E-8740-830461CA5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5DD1-6EF1-4E01-A6D9-A43B4419D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888B-26AB-4949-9D3E-16E1888C5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C5DF-C535-4142-BC45-BFB0AB148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0BE6-5EDB-49E2-B814-93AD37DF5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2AE2-D3CD-4EC6-A7D7-2E677284D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70B1-6AEF-4A12-BB35-AE977CC0E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B253-2B20-45ED-B1F3-47EB16D02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A76B-822C-4E4F-B33E-F49B755A5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9C5A-178C-4E2D-911E-4C267A5A9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sdegger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0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76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y List (PPL)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D943-A043-4B37-991C-3F4B9C69F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5360" y="106992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 and implement a website layout that enables users to find key information effici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7621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bjectives /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05320"/>
            <a:ext cx="3427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429000"/>
            <a:ext cx="429552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200" y="3809880"/>
            <a:ext cx="4229280" cy="221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 – in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ecution – goal mid March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– goal July ‘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dor delivered ‘Solution Definition’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plan w/resource al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to update Directors on Planning phas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to enter next phase (Execu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10666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early March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mid March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ate April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May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June - July ‘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0280" y="7621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8098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 Lead: Scott Egger ph. 512-248-31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68040" y="342900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DF08-8B03-4DFB-AC2C-F1A4C4A42B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5360" y="106992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in 1: Transition of full functionality of SCR727 extracts from the Data Archive to the ODS/ED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in 2: Addition of the capability for new market participants to request and receive an “initial” SCR727 ESIID extract for dimensional t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in 3: Addition of the capability for a separate data extract for the dimensional tables that are reused throughout all Lodestar extr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in 4: Inclusion of a unique file load order number in the extract file names which will identify the order in which SCR727 files should be loaded by the market particip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1080" y="7621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bjectives /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505320"/>
            <a:ext cx="3427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429000"/>
            <a:ext cx="429552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7200" y="3809880"/>
            <a:ext cx="4229280" cy="221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: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 – Scheduled to complete by Ap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ecution – Starting Apr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lementation – TB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osing – TB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ing Planning Docu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xt step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e to enter next phase (Execu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 developing detailed desig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42900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0666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 target dates will become firm after design is complete and project plan finaliz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quirements – Feb/Mar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– Apr/May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al Testing – 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rnal Testing – N/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al Training 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rnal Training 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uction 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80280" y="7621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8098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 Lead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ie Ashbaug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PL:  Source: Market  Priority: 1.1 Rank: 13 Program Area: 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R 7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ition all Lodestar extracts to be created in the ODS/EDW environ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pendenci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destar ODS Stab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Delivery Mo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68040" y="342900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72080" y="152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07  SCR 727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4EB1-77AA-41D7-A567-F7DA1273A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2184480"/>
          <a:ext cx="8381880" cy="452124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4120"/>
                <a:gridCol w="20952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y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y Extract is Produced and Publis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 in Time Extract is produced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ge of time from which net changes will be determ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day, 5:30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iday 5:30:01 PM – Saturday 5:30:00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day 5:30:01 PM – Sun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n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day 5:30:01 PM – Mon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ur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es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day 5:30:01 PM – Tues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i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nes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esday 5:30:01 PM – Wednes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urs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nesday 5:30:01 PM – Thurs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i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ursday 5:30:01 PM – Fri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572080" y="152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07  SCR 727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360" y="874800"/>
            <a:ext cx="83217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Timing Change Recommend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llow for outages and system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roduce ESIID Extract in line with Load, Generation and Settlements &amp; Billing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75CA-4677-4A0A-A000-F295209733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5360" y="106992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ge for Backdated LSE Relationship Changes will be provided to the appropriate C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file name or number in order to identify the order in which SCR727 files should be loaded by the MP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diting capability to allow MPs the function to confirm the accuracy of their extracts, including creation of initial extracts for MPs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ility to link a database change back to the source of the change (i.e. FasTrak issue, batch processing). (not implementing with this projec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Service. (Final Solution for project requiremen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1080" y="7621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bjectives /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505320"/>
            <a:ext cx="3427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429000"/>
            <a:ext cx="429552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00" y="3809880"/>
            <a:ext cx="4229280" cy="221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: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 – Mar/Ap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ecution – TB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lementation – TB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osing – TB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liminary meet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her market technical requirements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xt step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 developing business requirements and conceptual desig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42900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0666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 target dates will become firm after design is complete and project plan finaliz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quirements – Mar/Apr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al Testing – 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rnal Testing – N/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al Training 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rnal Training 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uction – TBD i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80280" y="7621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8098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 Lead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ie Ashbaug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PL:  Source: Market  Priority: 1.2 Rank:33 Program Area: 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R 7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mote market participant research on ESIID level data used in data aggregation/settl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68040" y="342900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30960" y="1522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46A9-0EDD-4967-866E-6079748FBC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5360" y="106992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1080" y="7621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bjectives /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505320"/>
            <a:ext cx="3427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429000"/>
            <a:ext cx="429552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7200" y="3809880"/>
            <a:ext cx="4229280" cy="221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: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ecution – Starting August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lementation – Goal Decembe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osing – Starting Decembe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eting with Market Participants on Thursday, February 24th to discuss project timeline and requirement priorit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xt step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e to enter next phase (Plann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 developing detailed business requir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ect enhancement method (upgrade current tool, Siebel or AI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42900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0666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 target dates will become firm after design is complete and project plan finaliz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quirements (pens down) – May/June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(published document) – June/July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al Testing –  August/November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rnal Testing – August/Novembe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al Training – November/December ’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ternal Training – November/Decembe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uction (Go live) – December ‘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0280" y="7621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8098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 Lead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tt Eg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9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degger@erco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PL:  Source: Market  Priority: 1.1 Rank: 9 Program Area: 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68040" y="342900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2A70-6117-49A8-A68F-EB163E8E3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6176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DD29-ABDC-44E1-96E4-B8A180BFA4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3-10T06:02:03Z</dcterms:modified>
  <cp:revision>96</cp:revision>
  <dc:subject/>
  <dc:title>Slide 1</dc:title>
</cp:coreProperties>
</file>