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C40-113F-49ED-A58A-28738271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03D-68BC-44CE-B5C2-51E466B0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6F1-A1C9-48B0-BACB-AAF819C6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47B2-E4A7-4A7E-B24C-960D8ABB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D71-29EF-4D10-83B7-914EDED6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80CE-BEE4-453B-9F12-DDE0948E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5427-F2AF-4B41-A152-599F21EA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5167-FD82-4115-9D30-8551C218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81E4-7AF8-436F-B86D-BB687A73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EAE-A30E-4446-AE9B-242F90C3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766-9270-4D4D-996E-5CD8B045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7075-524E-46CC-A68B-B2546D2D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4F03-A4F9-4100-9A96-05995643C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2120" y="38736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70120" y="1295280"/>
            <a:ext cx="6937200" cy="5580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15840" bIns="1584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152280"/>
          <a:ext cx="9077400" cy="60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907740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7708-56C2-4633-932D-955A7AB2AC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swilburn</cp:lastModifiedBy>
  <cp:lastPrinted>2002-09-24T18:27:58Z</cp:lastPrinted>
  <dcterms:modified xsi:type="dcterms:W3CDTF">2004-06-03T20:53:14Z</dcterms:modified>
  <cp:revision>350</cp:revision>
  <dc:subject/>
  <dc:title>PowerPoint Presentation</dc:title>
</cp:coreProperties>
</file>