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B715-27F8-4FC2-810C-AE9161F95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0A0-9D60-4DD6-8503-D56FCC5C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4C8-9371-4728-BD4D-191771BB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41D-5218-429B-9E4B-3DF7BB3F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25B-918A-4B08-997F-024758F3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EE4-E320-4CB4-A779-E4F1D38C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075-B8DB-4282-88CC-D0CA674F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7278-9996-423C-9474-E1BC8D38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EF64-1EAF-4008-B1DD-2FBB8AAD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3B7D-E75D-4E7D-8365-2C772B5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82C4-3767-44E8-98DC-8FD3A40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7D6B-F396-4319-B423-DF621E4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36D-CA8C-4175-BF2B-433D1A8B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8CE3-3B5F-4900-8A3F-25E4651C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017-1FB2-4B9A-9302-450F8BF0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763-FD07-4D1B-B471-22F0351F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DBC6-E56A-47EB-9A9C-EE73FE65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F8EA-79B2-4882-97D4-79E9AA21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ADC-0611-4AB5-86AB-55D7CF4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B92-9A34-4E5A-9C7E-DA18F34D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DEB-67CF-422C-BD6E-91FA053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132-D0C2-4E2D-ADD5-B83A2432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A7E-90A7-440D-AEB4-D83689A7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3ED-1A1E-4CFF-B359-AD5D90D4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49C-A69A-47BE-8012-F218347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3366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3366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0000"/>
          </a:solidFill>
          <a:ln w="57240">
            <a:solidFill>
              <a:srgbClr val="003366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30E3-8E09-4EE6-A260-E74743D8F105}" type="slidenum">
              <a:rPr b="1" lang="en-US" sz="28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3366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3366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3366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3366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0000"/>
          </a:solidFill>
          <a:ln w="57240">
            <a:solidFill>
              <a:srgbClr val="003366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C660-EE70-4F7B-BB8C-C2197A097019}" type="slidenum">
              <a:rPr b="1" lang="en-US" sz="32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9112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1219320"/>
          <a:ext cx="556272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5627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 txBox="1"/>
          <p:nvPr/>
        </p:nvSpPr>
        <p:spPr>
          <a:xfrm>
            <a:off x="3048120" y="4343400"/>
            <a:ext cx="2743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64600" dir="4725161" blurRad="0" rotWithShape="0">
                    <a:srgbClr val="868686"/>
                  </a:outerShdw>
                </a:effectLst>
                <a:latin typeface="Georgia"/>
              </a:rPr>
              <a:t>SCOP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64600" dir="4725161" blurRad="0" rotWithShape="0">
                  <a:srgbClr val="868686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64600" dir="4725161" blurRad="0" rotWithShape="0">
                    <a:srgbClr val="868686"/>
                  </a:outerShdw>
                </a:effectLst>
                <a:latin typeface="Georgia"/>
              </a:rPr>
              <a:t>2/17/04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64600" dir="4725161" blurRad="0" rotWithShape="0">
                  <a:srgbClr val="868686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743200"/>
            <a:ext cx="685800" cy="6858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914400"/>
            <a:ext cx="533520" cy="5335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76320"/>
            <a:ext cx="533520" cy="4572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10480" y="3505320"/>
            <a:ext cx="533520" cy="53316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8288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Analyze the need for new transactions based upon market participants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Recommend &amp; Implement Protocol Chan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Control the publication and version management of TX SET doc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Design electronic transaction(s) based on business requirement(s) provided by 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Enhance and modify existing transaction(s) based upon market ne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Participate in the National Standards Eff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Provide educational material to the market on proper use of TX SET transa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Resolve Technical Standards Disputes/Iss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0080" indent="-33984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68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Coordination and participate in various RMS Working Groups and Task Fo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934320" y="0"/>
          <a:ext cx="220968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0"/>
                    <a:ext cx="2209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286000" y="76320"/>
            <a:ext cx="533520" cy="4572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10480" y="3505320"/>
            <a:ext cx="533520" cy="53316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743200"/>
            <a:ext cx="685800" cy="6858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914400"/>
            <a:ext cx="533520" cy="5335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1430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Texas SET’s original scop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934320" y="0"/>
          <a:ext cx="220968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0"/>
                    <a:ext cx="2209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286000" y="76320"/>
            <a:ext cx="533520" cy="4572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3505320"/>
            <a:ext cx="533520" cy="53316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743200"/>
            <a:ext cx="685800" cy="6858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914400"/>
            <a:ext cx="533520" cy="5335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996920"/>
            <a:ext cx="82296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Recommend &amp; Implement changes to current business practices and business proc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Analyze market (posed or potential) issue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Organize findings on the iss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Plan and hold market mee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iscuss findings with the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evelop market consens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Formalize recommendation(s) to 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640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Institute change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018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TX SET’s expanded scope includ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934320" y="0"/>
          <a:ext cx="220968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0"/>
                    <a:ext cx="2209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86000" y="76320"/>
            <a:ext cx="533520" cy="4572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0480" y="3505320"/>
            <a:ext cx="533520" cy="53316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3200"/>
            <a:ext cx="685800" cy="685800"/>
          </a:xfrm>
          <a:prstGeom prst="star5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533520" cy="53352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1752480"/>
            <a:ext cx="73152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How will TX SET adjust its current work to accept its additional scop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Do meetings need to be reorganiz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Documenting a formalized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9348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Working Group procedures revi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9348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Process for starting up worksh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commendations to 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2193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Next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22:58:00Z</dcterms:created>
  <dc:creator>UA1630</dc:creator>
  <dc:description/>
  <dc:language>en-US</dc:language>
  <cp:lastModifiedBy>kpatrick</cp:lastModifiedBy>
  <dcterms:modified xsi:type="dcterms:W3CDTF">2004-02-17T15:27:12Z</dcterms:modified>
  <cp:revision>3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20117535</vt:r8>
  </property>
  <property fmtid="{D5CDD505-2E9C-101B-9397-08002B2CF9AE}" pid="3" name="_AuthorEmail">
    <vt:lpwstr>DRehfeldt@tnpe.com</vt:lpwstr>
  </property>
  <property fmtid="{D5CDD505-2E9C-101B-9397-08002B2CF9AE}" pid="4" name="_AuthorEmailDisplayName">
    <vt:lpwstr>Rehfeldt, Diana</vt:lpwstr>
  </property>
  <property fmtid="{D5CDD505-2E9C-101B-9397-08002B2CF9AE}" pid="5" name="_EmailSubject">
    <vt:lpwstr>TX SET Update Presentation</vt:lpwstr>
  </property>
  <property fmtid="{D5CDD505-2E9C-101B-9397-08002B2CF9AE}" pid="6" name="_PreviousAdHocReviewCycleID">
    <vt:r8>-1944694422</vt:r8>
  </property>
</Properties>
</file>