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22B-2DEA-42DD-B2C5-303B76B0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F1E-7A2F-402C-B4B1-7E3B445A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DA5-18EB-4DCB-891D-1F0995CA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AB5-80F0-4DE4-A302-853CED9B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478-BD35-4C18-AB1B-FA7414F9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F8A-16D0-4A5D-92D6-835F9E7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836-E813-4792-ADEB-F8A5F9C5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971-B3BB-4AFF-AF6F-EBC52D75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D63-DC99-4AEA-A6D6-11D47B8D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4A3-E609-4005-A19D-7ED4DE8F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505-A731-4842-BD79-DD913544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82D-7B27-443C-888E-5E2B5AD6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96E7-197E-4C40-8E25-778E3F442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.1 Implementation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ovember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TX SET Meeting 16</a:t>
            </a:r>
            <a:r>
              <a:rPr b="0" lang="en-US" sz="3200" spc="-1" strike="noStrike" baseline="30000">
                <a:solidFill>
                  <a:srgbClr val="ff7c8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&amp; 17</a:t>
            </a:r>
            <a:r>
              <a:rPr b="0" lang="en-US" sz="3200" spc="-1" strike="noStrike" baseline="30000">
                <a:solidFill>
                  <a:srgbClr val="ff7c8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TX SE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to submit any CC’s to be considered for 2.1 - Deadline is Monday, November 23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05320" y="-7632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rop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47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.1 Implementation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Decemb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.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ast chance to submit any CC’s to be considered in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TX SET Meeting 7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&amp; 8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 SET to create list of all possible CC’s to be included in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TX SE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Market list of all CCs to be considered for 2.1 comment period begi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’s encouraged to bring up issues/concerns with proposed CC’s by January’s TX SET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05320" y="-7632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rop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447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.1 Implementation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January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’s encouraged to bring up issues/concerns with proposed CC’s by January’s TX SET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TX SET Meeting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7c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Create ‘Final’ list of CC’s to be implemented in 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TX SET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 SET to begin Redlines of 2.1 Implementation Guides.  Redlines to be complete by February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05320" y="-7632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rop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447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.1 Implementation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ebruary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- Redlines of 2.1 IG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– Redlined 2.1 IGs distributed to Market.  Comment period ends February X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TX SET Meeting T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TX SE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– Comments incorporated into 2.1 Redlined IG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– Updated redlined IG’s distrubted to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05320" y="-7632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rop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447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.1 Implementation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March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- ‘Final’ 2.1 Redlined IGs po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TX SET Meeting T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TX SE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 SET Publishes 2.1 Implementation Guides, SEF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s begin system build, design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05320" y="-7632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ropos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447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16:23:28Z</dcterms:created>
  <dc:creator>tbaum</dc:creator>
  <dc:description/>
  <dc:language>en-US</dc:language>
  <cp:lastModifiedBy>tbaum</cp:lastModifiedBy>
  <dcterms:modified xsi:type="dcterms:W3CDTF">2004-09-20T20:10:33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23553724</vt:r8>
  </property>
  <property fmtid="{D5CDD505-2E9C-101B-9397-08002B2CF9AE}" pid="3" name="_AuthorEmail">
    <vt:lpwstr>tbaum@ercot.com</vt:lpwstr>
  </property>
  <property fmtid="{D5CDD505-2E9C-101B-9397-08002B2CF9AE}" pid="4" name="_AuthorEmailDisplayName">
    <vt:lpwstr>Baum, Thomas</vt:lpwstr>
  </property>
  <property fmtid="{D5CDD505-2E9C-101B-9397-08002B2CF9AE}" pid="5" name="_EmailSubject">
    <vt:lpwstr>2.1 Implementation Schedule - DRAFT</vt:lpwstr>
  </property>
</Properties>
</file>