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987-9D8C-4189-8E3E-4F7776C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B30-5E25-46BC-80DB-4BCC2D0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7B7-B524-41E3-895B-4CBAAD00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572-B39F-4576-8A51-10B9DC59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C43-7CA1-4454-BA79-4A7BEBC1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35FC-E92A-4BC1-AC66-9BC86B05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E71-A728-4E9A-BB30-EBADBECC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C2B3-348E-4277-9875-2340D4AA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6DE-875A-4998-A09E-1011D2A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3EE5-54EE-4372-AACE-516DED3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7CA8-2924-48FF-A5B2-175CD19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C48-6BAC-48E8-B044-E600ECC4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545-B078-4E7D-8DA1-861E421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4D34-BEF5-4F75-AFF5-4A1138E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AA85-41F1-45B5-9B5D-A9958AE5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0B8C-07EA-4E2B-9E0B-A9E66CDD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DC74-7FB6-414E-AB97-AE890660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71A-20B1-4186-8BAA-E5FB3984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A6A-D9F2-4EB2-92CB-8BEFA0E9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13E-BC87-4ACD-87DF-2798021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F2F-9C4F-423C-9F63-55AD662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002-7203-4E38-B39B-CBF8FA8C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A8D-E2DC-4D8E-8EED-E2DE377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77D-2CAC-4482-9F78-ACA989BD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2BA9-F899-471E-9B1D-E6ACECADF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1960" y="1447920"/>
            <a:ext cx="6553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66AF-B697-43C0-A667-A7D91C17C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1066320"/>
            <a:ext cx="6933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3ebf1"/>
                </a:solidFill>
                <a:uFillTx/>
                <a:latin typeface="Arial Black"/>
              </a:rPr>
              <a:t>Electric Cooperatives &amp; Electric Choice </a:t>
            </a:r>
            <a:br>
              <a:rPr sz="3600"/>
            </a:br>
            <a:r>
              <a:rPr b="1" lang="en-US" sz="2800" spc="-1" strike="noStrike">
                <a:solidFill>
                  <a:srgbClr val="e3ebf1"/>
                </a:solidFill>
                <a:latin typeface="Arial Black"/>
              </a:rPr>
              <a:t>Nueces Electric Cooperative, Inc.</a:t>
            </a:r>
            <a:br>
              <a:rPr sz="2800"/>
            </a:br>
            <a:endParaRPr b="1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1960" y="3885840"/>
            <a:ext cx="655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White Paper fro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eces Electric Cooperative, In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2004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ed by Eloise Fl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Difference 1: 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The Choice to Offer Competition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25142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OUs required to unbundle and open distribution areas to choice in January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s and MOUs allowed to choose to opt-i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done through an “Opt-in” Resoluti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opt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the consumer-elected, governing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Difference 1: 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The Choice to Offer Competition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 for “special treatment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s and MOUs governed by their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accountability is “built-in” and assured within the organization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OUs governed by their Stockholder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usually a large volume of the IOU’s busi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fore, legislators allowed the “special treatment” for ECs and M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8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Difference 2: Customer Contact</a:t>
            </a:r>
            <a:endParaRPr b="0" lang="en-US" sz="32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s and MOUs retain customer contact and relationshi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er contact is requirement of EC business model - ECs must respond to service needs of member-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A Provisions Related to Customer 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s may speak to members about all service needs, except billing/rate issues for chosen CR (PURA § 41.0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s allowed to be a C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 with a CR allowed to share officers, directors, and employees, and does not have to unbundle (PURA § 41.054(d)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 cannot engage in anti-competitive practices- ECs mus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qually promote all CR’s who choose to offer service t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 members (PURA § 41.05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 allowed to designate themselves as POLR (AREP) for members in their certificated territory (PURA § 41.053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 must serve as the default provider for their members (PURA § 41.053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Difference 3: Billing</a:t>
            </a:r>
            <a:endParaRPr b="0" lang="en-US" sz="32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U/EC TDSPs allowed to bill consumer directly for MOU/EC services (PURA § 41.057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U/EC TDSP consumers have TWO options for bil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- consumers can choose to receive two (2) bills – one from the MOU/EC TDSP and one from the C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- consumers can choose to receive one (1) bill – SENT BY THE MOU/EC TD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no preference expressed, or CR chooses to not inform consumer about option, “default” is single bill (option 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one bill is sent, EC paid first for distribution services and remaining revenues assigned to the 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verpayments are held by the EC and credited to the distribution service portion of the member’s bill (unless directed otherwise by the memb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ption/ billing inform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e retained by EC to allow the allocation and return of capital credits to members (determined in proportion to their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Difference 4: Membership</a:t>
            </a:r>
            <a:endParaRPr b="0" lang="en-US" sz="32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Membership Issues/Concepts for Choice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member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e member may have multiple EC accou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ital credits determined based on revenue fo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ach account numb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ne check mailed per capital credit number (membership number) -multiple accounts are combined into one check for the same custome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mber must talk to both EC TDSP and the CR/REP on move-in. Wh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/REP does not know if customer calling is already a EC member with another account or no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/REP cannot determine if a membership fee should be collected or n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/REP cannot ensure that member’s new account is assigned the correct capital credi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move-out no need to refer member to EC, but EDI transactions forwarded to EC must contain forwarding address so EC can submit final bill and allocate capital credits to mem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Additional Issue #1:</a:t>
            </a:r>
            <a:br>
              <a:rPr sz="32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Disconnect for Non-Pay</a:t>
            </a:r>
            <a:endParaRPr b="0" lang="en-US" sz="32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U/EC can disconnect for non-payment (wires charg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 will notify the current CR/RE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current CR/REP decides to drop member, CR must drop to AREP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P can then request a “disconnect for non-payment”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Additional Issue #2: </a:t>
            </a:r>
            <a:br>
              <a:rPr sz="3200"/>
            </a:br>
            <a:r>
              <a:rPr b="1" lang="en-US" sz="3200" spc="-1" strike="noStrike">
                <a:solidFill>
                  <a:srgbClr val="b13f4a"/>
                </a:solidFill>
                <a:latin typeface="Arial Black"/>
              </a:rPr>
              <a:t>Permitting</a:t>
            </a:r>
            <a:endParaRPr b="0" lang="en-US" sz="32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MOU/EC will have contact with all new consumers, the MOU/EC TDSP will communicate permit requirements to consumers for all n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C- Permitting only required for new servic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stru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C will not assign ES IDs until premise is ready for meter set, at which time all permit requirements will have been m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2400" spc="-1" strike="noStrike">
                <a:solidFill>
                  <a:srgbClr val="e3ebf1"/>
                </a:solidFill>
                <a:latin typeface="Arial Black"/>
              </a:rPr>
              <a:t>The MOU/EC Texas Electric Choice Model </a:t>
            </a:r>
            <a:br>
              <a:rPr sz="24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Additional Issue #3: 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Continuing Service Agreements (CSA)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SAs will most likely be initiated by CR/R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 will need to know if CSA exists- so meter’s not disconn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notification occurs through EDI transa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EC initiates CSA with member, CR will be notified by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3ebf1"/>
                </a:solidFill>
                <a:uFillTx/>
                <a:latin typeface="Arial Black"/>
              </a:rPr>
              <a:t>Problem Summary</a:t>
            </a:r>
            <a:br>
              <a:rPr sz="4800"/>
            </a:br>
            <a:br>
              <a:rPr sz="2400"/>
            </a:br>
            <a:endParaRPr b="0" lang="en-US" sz="4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 issues identification as we move to a two-model market will be on-go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 the previous information, there are immediate problems that need re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o establish/confirm EC membership on move-in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o track EC accounts in EDI to allow capital credi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input and assistance is needed to identify possible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Problem Summary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Issue 1: 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Establishing/Confirming Membership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blem 1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C Ts&amp;Cs require us to have the membership fee/ wires deposit before membe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rece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lectricity. Member contact with EC is needed on Move-In’s to ensure requirements are me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oblem 2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If contact between the consumer and the EC does not take plac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ar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re is increased risk of EC not completing service connection on date reference in EDI transa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uggested Solution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e it easier, we suggest a soft-transfer from CR/REP to EC so EC can obtain membership information/fee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bfa5c5"/>
                </a:solidFill>
                <a:uFillTx/>
                <a:latin typeface="Arial"/>
              </a:rPr>
              <a:t>CONSIDERATION:</a:t>
            </a:r>
            <a:r>
              <a:rPr b="1" lang="en-US" sz="2000" spc="-1" strike="noStrike">
                <a:solidFill>
                  <a:srgbClr val="bfa5c5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bfa5c5"/>
                </a:solidFill>
                <a:latin typeface="Arial"/>
              </a:rPr>
              <a:t>NEED REJECTION CODE TO IDENTIFY THE LACK OF MEMBERSHIP INFORMATION-- POSSIBLY IN 814_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 Black"/>
              </a:rPr>
              <a:t>Purpose</a:t>
            </a: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MOU/EC electric choi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important topics that may require CRs to adapt their systems to accommodate the model differ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business impacts for both MCTDSP and C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ty- to maximize customer service experience for Co-op members who exercise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ite input for problem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Problem Summary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Issue 2: </a:t>
            </a:r>
            <a:br>
              <a:rPr sz="2800"/>
            </a:br>
            <a:r>
              <a:rPr b="1" lang="en-US" sz="2800" spc="-1" strike="noStrike">
                <a:solidFill>
                  <a:srgbClr val="b13f4a"/>
                </a:solidFill>
                <a:latin typeface="Arial Black"/>
              </a:rPr>
              <a:t>EC Account Tracking in EDI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 transactions must be member-based for the 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s not premise-based, as is current mark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C utilizes a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member account numb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o track membershi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blem 1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requiring the market to use this number suggests that CRs “store” an additional number for the life of the EC member’s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blem 2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but without account identification in EDI transactions, NEC’s processing times will be beyond current market accepted durations or not completed at 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fa5c5"/>
                </a:solidFill>
                <a:uFillTx/>
                <a:latin typeface="Arial"/>
              </a:rPr>
              <a:t>CONSIDERATION 1: </a:t>
            </a:r>
            <a:br>
              <a:rPr sz="1800"/>
            </a:br>
            <a:r>
              <a:rPr b="1" lang="en-US" sz="1800" spc="-1" strike="noStrike">
                <a:solidFill>
                  <a:srgbClr val="bfa5c5"/>
                </a:solidFill>
                <a:latin typeface="Arial"/>
              </a:rPr>
              <a:t>EC ACCOUNT NUMBER COULD BE INSERTED BY THE MOU/EC </a:t>
            </a:r>
            <a:br>
              <a:rPr sz="1800"/>
            </a:br>
            <a:r>
              <a:rPr b="1" lang="en-US" sz="1800" spc="-1" strike="noStrike">
                <a:solidFill>
                  <a:srgbClr val="bfa5c5"/>
                </a:solidFill>
                <a:latin typeface="Arial"/>
              </a:rPr>
              <a:t>UPON RETURN OF THE 814_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bfa5c5"/>
                </a:solidFill>
                <a:uFillTx/>
                <a:latin typeface="Arial"/>
              </a:rPr>
              <a:t>CONSIDERATION 2:</a:t>
            </a:r>
            <a:r>
              <a:rPr b="1" lang="en-US" sz="1800" spc="-1" strike="noStrike">
                <a:solidFill>
                  <a:srgbClr val="bfa5c5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bfa5c5"/>
                </a:solidFill>
                <a:latin typeface="Arial"/>
              </a:rPr>
              <a:t>TRACK ACCOUNT NUMBER IN DIFFERENT DATA ELEMENT OF </a:t>
            </a:r>
            <a:br>
              <a:rPr sz="1800"/>
            </a:br>
            <a:r>
              <a:rPr b="1" lang="en-US" sz="1800" spc="-1" strike="noStrike">
                <a:solidFill>
                  <a:srgbClr val="bfa5c5"/>
                </a:solidFill>
                <a:latin typeface="Arial"/>
              </a:rPr>
              <a:t>BGN SEGMENT ON ALL 814’S, ALL 650’S, THE 810 AND 8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fa5c5"/>
                </a:solidFill>
                <a:latin typeface="Arial Black"/>
              </a:rPr>
              <a:t>Questions &amp; Discussion</a:t>
            </a:r>
            <a:endParaRPr b="0" lang="en-US" sz="7200" spc="-1" strike="noStrike">
              <a:solidFill>
                <a:srgbClr val="e3ebf1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 Black"/>
              </a:rPr>
              <a:t>Intended Audience</a:t>
            </a: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SET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service managers and IT professionals of market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employee and operational prepared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 decision-making when an organization chooses to conduct business in an EC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 understanding of model differences that may require programming variations for customer information systems (C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1" lang="en-US" sz="3600" spc="-1" strike="noStrike">
                <a:solidFill>
                  <a:srgbClr val="e3ebf1"/>
                </a:solidFill>
                <a:latin typeface="Arial Black"/>
              </a:rPr>
              <a:t>PURA &amp; the MOU/EC Electric Choice Model</a:t>
            </a:r>
            <a:r>
              <a:rPr b="0" lang="en-US" sz="3600" spc="-1" strike="noStrike">
                <a:solidFill>
                  <a:srgbClr val="e3eb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URA (Public Utility Regulatory Act)- two choice mod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U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U/EC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have a single model market –IOU model—no ECs or MOUs participate (ECs and MOUs can choose to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-in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eces Electric Cooperative (NEC) is first EC to enter compet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ffectively transition MOU/EC model into market, many issues need extra consideration by market particip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ons impact: NEC +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Cs and MOUs that ultimately enter competition + other market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as ECs must also compl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exas Electric Cooperative Corporation 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800"/>
            </a:br>
            <a:r>
              <a:rPr b="0" lang="en-US" sz="3600" spc="-1" strike="noStrike">
                <a:solidFill>
                  <a:srgbClr val="e3ebf1"/>
                </a:solidFill>
                <a:latin typeface="Arial Black"/>
              </a:rPr>
              <a:t>Definition of </a:t>
            </a:r>
            <a:br>
              <a:rPr sz="3600"/>
            </a:br>
            <a:r>
              <a:rPr b="0" lang="en-US" sz="3600" spc="-1" strike="noStrike">
                <a:solidFill>
                  <a:srgbClr val="e3ebf1"/>
                </a:solidFill>
                <a:latin typeface="Arial Black"/>
              </a:rPr>
              <a:t>Electric Cooperative</a:t>
            </a:r>
            <a:endParaRPr b="0" lang="en-US" sz="36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issues must understand the definition of E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operative is a business mo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contr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800"/>
            </a:br>
            <a:r>
              <a:rPr b="0" lang="en-US" sz="2800" spc="-1" strike="noStrike">
                <a:solidFill>
                  <a:srgbClr val="e3ebf1"/>
                </a:solidFill>
                <a:latin typeface="Arial Black"/>
              </a:rPr>
              <a:t>Definition of Electric Cooperative</a:t>
            </a:r>
            <a:br>
              <a:rPr sz="2400"/>
            </a:br>
            <a:r>
              <a:rPr b="0" lang="en-US" sz="4000" spc="-1" strike="noStrike">
                <a:solidFill>
                  <a:srgbClr val="b13f4a"/>
                </a:solidFill>
                <a:latin typeface="Arial Black"/>
              </a:rPr>
              <a:t>Central Concepts</a:t>
            </a: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ber Ownership:  Shareholder-Oriented vs. Member-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 owned by consumers- called “members” (one member may have multiple accounts with E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U owned by stockholders- ordinarily not much of business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be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ers nominate and elect other members to EC board of direc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s represent entire membership on governance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800"/>
            </a:br>
            <a:r>
              <a:rPr b="0" lang="en-US" sz="2800" spc="-1" strike="noStrike">
                <a:solidFill>
                  <a:srgbClr val="e3ebf1"/>
                </a:solidFill>
                <a:latin typeface="Arial Black"/>
              </a:rPr>
              <a:t>Definition of Electric Cooperative</a:t>
            </a:r>
            <a:br>
              <a:rPr sz="2400"/>
            </a:br>
            <a:r>
              <a:rPr b="0" lang="en-US" sz="4000" spc="-1" strike="noStrike">
                <a:solidFill>
                  <a:srgbClr val="b13f4a"/>
                </a:solidFill>
                <a:latin typeface="Arial Black"/>
              </a:rPr>
              <a:t>Central Concepts</a:t>
            </a:r>
            <a:endParaRPr b="0" lang="en-US" sz="40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ber Benefit: Capital Cred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-cost operations, but there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rg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this is a non-profit term f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i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– rates can’t assure perfect breakeven every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s return margins to members in proportion to their electricity use - patronage refunds or capital credits in E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unded as checks or bill credits (credits issued on EC’s portion of bill – no ED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ital credit processes vary among ECs- each individual EC board dec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ide to reinvest monies in EC, but most issue capital credits to members on regular ba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400"/>
            </a:br>
            <a:r>
              <a:rPr b="0" lang="en-US" sz="2400" spc="-1" strike="noStrike">
                <a:solidFill>
                  <a:srgbClr val="e3ebf1"/>
                </a:solidFill>
                <a:latin typeface="Arial Black"/>
              </a:rPr>
              <a:t>Definition of Electric Cooperative</a:t>
            </a:r>
            <a:br>
              <a:rPr sz="2000"/>
            </a:br>
            <a:r>
              <a:rPr b="0" lang="en-US" sz="3600" spc="-1" strike="noStrike">
                <a:solidFill>
                  <a:srgbClr val="b13f4a"/>
                </a:solidFill>
                <a:latin typeface="Arial Black"/>
              </a:rPr>
              <a:t>The Reason Electric </a:t>
            </a:r>
            <a:br>
              <a:rPr sz="3600"/>
            </a:br>
            <a:r>
              <a:rPr b="0" lang="en-US" sz="3600" spc="-1" strike="noStrike">
                <a:solidFill>
                  <a:srgbClr val="b13f4a"/>
                </a:solidFill>
                <a:latin typeface="Arial Black"/>
              </a:rPr>
              <a:t>Co-ops Exist </a:t>
            </a:r>
            <a:endParaRPr b="0" lang="en-US" sz="36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2666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eet basic need(s) not otherwise m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0 ECs in the nation (76 in Tex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d in 1930’s and 1940’s when IOUs determined it was not profitable to provide electric service in rural area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bility to access electricity created the “need” and rural people worked together to create E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in Texas, over 1.5 million electric meters served by E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3ebf1"/>
                </a:solidFill>
                <a:uFillTx/>
                <a:latin typeface="Arial Black"/>
              </a:rPr>
              <a:t>Background</a:t>
            </a:r>
            <a:br>
              <a:rPr sz="2800"/>
            </a:br>
            <a:r>
              <a:rPr b="1" lang="en-US" sz="2800" spc="-1" strike="noStrike">
                <a:solidFill>
                  <a:srgbClr val="e3ebf1"/>
                </a:solidFill>
                <a:latin typeface="Arial Black"/>
              </a:rPr>
              <a:t>The Differences</a:t>
            </a:r>
            <a:r>
              <a:rPr b="0" lang="en-US" sz="2800" spc="-1" strike="noStrike">
                <a:solidFill>
                  <a:srgbClr val="e3ebf1"/>
                </a:solidFill>
                <a:latin typeface="Arial Black"/>
              </a:rPr>
              <a:t>:</a:t>
            </a:r>
            <a:r>
              <a:rPr b="1" lang="en-US" sz="2800" spc="-1" strike="noStrike">
                <a:solidFill>
                  <a:srgbClr val="e3ebf1"/>
                </a:solidFill>
                <a:latin typeface="Arial Black"/>
              </a:rPr>
              <a:t> MOU/EC Model vs. IOU Model</a:t>
            </a:r>
            <a:endParaRPr b="0" lang="en-US" sz="2800" spc="-1" strike="noStrike">
              <a:solidFill>
                <a:srgbClr val="e3eb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differences detailed in the PURA- Chapters 40 (MOUs) and 41 (EC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differences between the MOU/EC and IOU electric choic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hoice to Offer Compet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Cont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bershi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Issues for N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nnect for Non-Pay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mit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inuing Service Agreements (CS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21:53:13Z</dcterms:created>
  <dc:creator>Sarah Fisher</dc:creator>
  <dc:description/>
  <dc:language>en-US</dc:language>
  <cp:lastModifiedBy>eflores</cp:lastModifiedBy>
  <dcterms:modified xsi:type="dcterms:W3CDTF">2004-02-17T15:35:48Z</dcterms:modified>
  <cp:revision>49</cp:revision>
  <dc:subject/>
  <dc:title>Electric Cooperative Electric Choice Topics Nueces Electric Cooperative, Inc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61033</vt:lpwstr>
  </property>
</Properties>
</file>