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E79-AB24-44E5-901C-D6445CA6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88C-E011-43A1-956F-6620ABA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EF7-491A-4950-ACBA-68554AAC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FD7-BBBF-4FE0-8459-4837A8EB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C65-8EB1-43DE-B7EF-8193F70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C4B-5A0D-4F17-A860-B978E9CB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6EF-F90D-4E6A-B281-2F4BD6F8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07B-0FFC-41C1-8EF0-387B8D23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0A-80E1-409F-81DE-6AC847E5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054-69FA-473B-8C67-FBF7716F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9E2-48B3-46AA-936B-367B4AE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D1C-B9C0-4F4E-B26A-AD2C512B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EFFA-38AA-41DA-87C2-624DF043C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x SET Meter Estimation Review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SET (subgroup) met on 8-31-04 to review the existing Meter Estimation issues as requested by 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’s agreed to compile data for July 2004 to help group determine scope and estimation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SP’s consolidated internal estimation codes from field readers, ranging from 15 to 35 unique codes by TD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ngle month review does not distinguish between single and consecutive months 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DSP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04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er data from AEP, CNP, TNMP and TXU ED only.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sample includes single and consecutive meter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Meters in Sampl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5,872,2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Meters Est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,0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verall Percentage Estimate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01.18932%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Inaccessible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27,264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8.90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estimated due to 3-d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21,35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0.6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toco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pment Problems / Missing Met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12,8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8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ather / Illness / Safe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/ Misc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6,537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0 9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ers requiring MVO from CR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2,092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03.0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70,055)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10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r Est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-123840" y="1155600"/>
          <a:ext cx="926784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3840" y="1155600"/>
                    <a:ext cx="92678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xSET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of Meter estimations does not warrant additional Market Reporting or the addition of Protocol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utilize existing communication methods between TDSP’s and CR’s that can reduce estimates, i.e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ers removed,  requiring MVO from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er Obstructed/ Locked/ Inaccessibl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communication between CR and TDSP remain flexible vs. establishing Protocol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s flexibility for CR to communicate with Customer, determine timeframes for meter acces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s CR to determine if on-going meter estimation is acceptable, and if not, to contact the TDSP to discuss installation of AMR, phone lines, ITRON, etc to secure actual rea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2:52:16Z</dcterms:created>
  <dc:creator>ERXP</dc:creator>
  <dc:description/>
  <dc:language>en-US</dc:language>
  <cp:lastModifiedBy>ERXP</cp:lastModifiedBy>
  <dcterms:modified xsi:type="dcterms:W3CDTF">2004-09-16T16:10:32Z</dcterms:modified>
  <cp:revision>27</cp:revision>
  <dc:subject/>
  <dc:title>Meter Estimations July 2004</dc:title>
</cp:coreProperties>
</file>