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5B2D-F344-44DD-9744-2CAA1B263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43828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8954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ource Plan Performance Metrics Repor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QSE Project Manager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res Calculated in accordance with the ERCOT Protocols Section 4.10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se scores are unadjusted and do not reflect any changes that may be made after discussions with individual QS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6880" y="2282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Score Averages Sept. ’04 to Mar. ‘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2392200"/>
            <a:ext cx="670572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Resource Sta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0" y="1066680"/>
            <a:ext cx="8185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Resource LSL as a % of 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Day Ahead Zonal Schedule (2.0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AP Zonal Schedule (2.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Down Bid &amp;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Total Up AS Scheduled Obli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7120" y="1066680"/>
            <a:ext cx="8177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Young Li</dc:creator>
  <dc:description/>
  <dc:language>en-US</dc:language>
  <cp:lastModifiedBy> Robert Staples</cp:lastModifiedBy>
  <cp:lastPrinted>2000-09-19T10:42:49Z</cp:lastPrinted>
  <dcterms:modified xsi:type="dcterms:W3CDTF">2005-04-07T20:35:12Z</dcterms:modified>
  <cp:revision>56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9B925F957FE7A64F9CEAA52C11D4A66C07008E4547FAEC455D46933745A0D608FFE600000078A3A80000196B06F749D8D94DB0A6B737CDCA33E20000015467760000</vt:lpwstr>
  </property>
  <property fmtid="{D5CDD505-2E9C-101B-9397-08002B2CF9AE}" pid="3" name="_ReviewCycleID">
    <vt:r8>-1734134100</vt:r8>
  </property>
</Properties>
</file>