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9054-042A-45F7-922E-0AFE478B8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75FC-B3AC-4E4A-8125-B29A3A085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08CD-455E-4260-84FC-94DC1FBFD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D607-60F7-429A-A894-0AF640609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3DF32-727B-4DE4-9E45-B509BF368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57D79-D3E5-42D4-96F0-DD3206EAA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EB40A-EE3F-4980-8E46-5C3686680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D66B7-508F-487D-A333-BF06CDA08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6BFAF-1B18-428C-9EB5-567A830C4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74C97-D8FC-464E-842A-B9DAA9B34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42E8C-18E5-416B-BE15-33448A800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072C-FC06-4FFD-A872-F8633678F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4BF00-593F-4BF8-BFC6-58C82D9C2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113F2-87A6-4828-BDED-010AE965E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78144-0BF7-4436-A911-3ABD7A279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2E344-F7B2-4FB4-8E28-446B32A1C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0E209-4E45-41F6-AC30-FC4302F9C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959E-639D-404C-BB00-63C58F953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6579-6A89-4C36-9AD6-5B077F9F9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F350-C7C3-4560-A068-4DEE8DF7B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84FA-2F57-4DFF-B7B1-65D12BFB2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F36D-A6A7-420B-823B-B9DC694C1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23F1-710D-4399-8DA0-70DE96927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0AAB-FE2F-4BAD-B6CC-95E17035D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2C436-BB15-4399-B844-BD00AFAA3F5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926A6-12BF-421C-9E8B-EFB5041D054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Two DRS Scheduling Issues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200"/>
            <a:ext cx="7239240" cy="24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re these considered over-scheduling issues? 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hould the “Down Bid &amp; Obligation Measure” be changed in the Protocols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DRS Scheduling Issue #2: ERCOT Resource Plan Adjustment for 5:15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Zonal Schedule = 120 MW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Unit A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riginal Schedule = 100 MW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djusted Schedule = 80 MW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LSL = 80 MW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Unit B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riginal Schedule = 50 MW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LSL = 50 MW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QSE cannot meet its DRS Obligatio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DRS Scheduling Issue #2: ERCOT Resource Plan Adjustment for 5:30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Zonal Schedule = 140 MW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Unit A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riginal Schedule = 100 MW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djusted Schedule = 90 MW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LSL = 80 MW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Unit B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riginal Schedule = 50 MW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LSL = 50 MW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QSE cannot meet its DRS Obligatio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DRS Scheduling Issue #2: ERCOT Resource Plan Adjustment for 5:45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Zonal Schedule = 160 MW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Unit A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riginal Schedule = 100 MW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djusted Schedule = 105 MW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LSL = 80 MW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Unit B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riginal Schedule = 50 MW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djusted Schedule = 55 MW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LSL = 50 MW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QSE can meet its DRS Obligatio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DRS Scheduling Issue #2: ERCOT Resource Plan Adjustment for 6:00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Zonal Schedule = 180 MW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Unit A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riginal Schedule = 100 MW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djusted Schedule = 115 MW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LSL = 80 MW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Unit B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riginal Schedule = 50 MW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djusted Schedule = 65 MW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LSL = 50 MW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QSE can meet its DRS Obligatio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DRS Scheduling Issue #2: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Resolving the Conflict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f the QSE schedules its LSL lower on Unit B, then it fails the “Down Bid &amp; Obligation Measure.”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f the QSE does not adjust it LSL on Unit B and ERCOT needs DRS, then ERCOT Operations calls to say “DRS Obligations cannot be meet.”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MMS Release 4 can help, but it will mean many Resource Plan submittals during the ramp hour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wo Issues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RS Scheduling Issue #1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he Scheduling of DRS to a Specific Plant/Uni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RS Scheduling Issue #2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 Conflict Between Morning Ramp Scheduled in 15-Minutes Intervals and Passing the Hourly “Down Bid &amp; Obligation Measure”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DRS Scheduling Issue #1: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Example Data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84520" y="2133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71840" y="2133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784520" y="3063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71840" y="3063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84520" y="3994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71840" y="3994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784520" y="4924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71840" y="4924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92240" y="2260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16200" y="2260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92240" y="3098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16200" y="3098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92240" y="3936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16200" y="3936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992240" y="477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16200" y="477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25640" y="24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682720" y="24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25640" y="3325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682720" y="3325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25640" y="41641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682720" y="41641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925640" y="5002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682720" y="5002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925640" y="24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682720" y="24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925640" y="3325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682720" y="3325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925640" y="41641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82720" y="41641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925640" y="5002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682720" y="5002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143000" y="1752480"/>
          <a:ext cx="7664400" cy="4200480"/>
        </p:xfrm>
        <a:graphic>
          <a:graphicData uri="http://schemas.openxmlformats.org/drawingml/2006/table">
            <a:tbl>
              <a:tblPr/>
              <a:tblGrid>
                <a:gridCol w="627120"/>
                <a:gridCol w="558720"/>
                <a:gridCol w="757440"/>
                <a:gridCol w="498240"/>
                <a:gridCol w="579600"/>
                <a:gridCol w="876240"/>
                <a:gridCol w="689040"/>
                <a:gridCol w="530280"/>
                <a:gridCol w="865080"/>
                <a:gridCol w="1065240"/>
                <a:gridCol w="61740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H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Z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EneS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LS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DB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MandB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ActB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D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C-D-F-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C-D-G-H=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G ≥ 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: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t meet zonal DBES requir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: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d all available into DB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: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t meet zonal DBES requir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: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d all available into DB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DRS Scheduling Issue #1: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Background Informati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s QSE has 1 plant in each zon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QSE assigned 10 MWs of DRS to the Plant in Zone 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QSE assigned 5 MWs of DRS to the Plant in Zone B (plus a 10 MW DRS award for HE 14:00 &amp; 16:00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DRS Scheduling Issue #1: Calculation of the Down Bid &amp; Obligation Measur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Column I Calculation (C-D-F-H) is uses by ERCOT to score the Down Bid &amp; Obligation Measur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f the score is positive, then the DBES requirement is scored at the Zonal Level (13:00 &amp; 15:00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f the score is negative, then the DBES requirement is scored at the ERCOT-wide Level (14:00 &amp; 16:00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DRS Scheduling Issue #1: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Did this QSE pass?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lumn J shows that this QSE committed all of its Down Capability into either the DRS Market or the DBES Marke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lumn K shows a comparison between the Mandatory Bid Amount and the Actual Bid Amoun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s QSE failed Hour Ending 15:00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DRS Scheduling Issue #1: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hould the Protocol be Changed?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What if a QSE automatically passed the “Down Bid &amp; Obligation Measure” if it committed all its “Down” Capacity into either the DRS or the DBES Market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Would this put an unfair strain on Zonal DEBS needs in ERCOT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hould the QSE be allowed to make a commercial decision to schedule DRS in a specific zone (even though ERCOT looks at DRS ERCOT-wide)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DRS Scheduling Issue #2: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Example Schedule Data for HE 6:00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Zonal Energy Schedule for the QS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5:15 – 120 MW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5:30 – 140 MW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5:45 – 160 MW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6:00 – 180 MW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RS Obligation for the QSE = 20 MW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DRS Scheduling Issue #2: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Example Resource Plan for HE 6:00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Unit A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nergy = 100 MWs (each interval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5:15 = 100, 5:30 = 100, 5:45 = 100, 6:00 = 100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LSL = 80 MWs (actual value &amp; DR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Unit B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nergy = 50 MWs (average value due to ramp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5:15 = 20, 5:30 = 40, 5:45 = 60, 6:00 = 8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LSL = 50 MWs (average value due to ramp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6T03:55:32Z</dcterms:created>
  <dc:creator>pricl1</dc:creator>
  <dc:description/>
  <dc:language>en-US</dc:language>
  <cp:lastModifiedBy>pricl1</cp:lastModifiedBy>
  <dcterms:modified xsi:type="dcterms:W3CDTF">2005-04-06T06:17:57Z</dcterms:modified>
  <cp:revision>14</cp:revision>
  <dc:subject/>
  <dc:title>Two Scheduling Issues Concerning the “Down Bid and Obligation Measure”</dc:title>
</cp:coreProperties>
</file>