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BC8-AEBC-4FD6-8ACE-BF6DA864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316-5756-4E07-BAE8-7801ACB1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C5D-CE93-40C2-B9A7-163E1A60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304E-5B96-4946-963D-976254CF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CDC9-563B-4EB8-9337-DA726EA9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744F-498C-4E4D-B7F6-0CF9F618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1888-4961-4683-90A1-A7D16ABD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EA21-523D-41EA-BCCC-F78D5949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043E-128E-4130-A639-78F5A96D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971440" y="30456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4B1B-8DB8-415D-820D-72F36215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AAEE-5933-4445-B26C-979A0E12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A0B5-5760-4A69-AB26-5BF69438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7BCC-FDE0-423F-9EB9-8ED96CFF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6268-B215-412D-9439-9255973C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9B5A-F7FF-4128-91C8-2D4BBB36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624A-055B-45EA-A41C-20CDA5BF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F947-84C4-46FC-961F-86BBF9FB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13D1-FFFD-4883-933D-49A8E9A9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896-DB16-4BA7-9424-A0ED17D7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1AA-EF09-45BE-A87B-DA6E1A69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71440" y="30456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CBE-B623-4CAB-99C1-2689A70B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09F7-83E0-4F66-8CD4-025BCE1F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8762-E250-42CB-8182-8C5189A8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7D56-A548-409C-B5C6-EF6B4DC5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58672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C6E5-CCDB-4B79-A72B-C79F0F137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0769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331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3200" y="60199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053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32B0-9525-4758-8854-5945D2DA0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0769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p Balancing Bid Stac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Requested Analysis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342864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SE PM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April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on Whi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rry W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R, Bids,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01600" y="1685880"/>
            <a:ext cx="712332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urly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62000" y="1717560"/>
            <a:ext cx="72072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s of OOM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00160" y="1600200"/>
            <a:ext cx="7318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101600" y="1655640"/>
            <a:ext cx="731376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RS  Backc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39560" y="2112840"/>
          <a:ext cx="8076960" cy="1944360"/>
        </p:xfrm>
        <a:graphic>
          <a:graphicData uri="http://schemas.openxmlformats.org/drawingml/2006/table">
            <a:tbl>
              <a:tblPr/>
              <a:tblGrid>
                <a:gridCol w="1904040"/>
                <a:gridCol w="2040120"/>
                <a:gridCol w="2092680"/>
                <a:gridCol w="2040120"/>
              </a:tblGrid>
              <a:tr h="486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 17, 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ember 25, 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 27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ovember 6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 24, 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ember 29, 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tember 10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ember 7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 31, 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 9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ober 2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ember 30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ober 5, 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 19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ober 18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January 17,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839880" y="4776840"/>
            <a:ext cx="7594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urs with Deficit 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Plan &gt; 0 –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21 Total Depleted Intervals Since 1/1/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 Reg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 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ve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1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Forecast (Error for study periods .4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ater than Actual Load Average 1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than Actual Load Average 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&amp;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5:23:20Z</dcterms:created>
  <dc:creator>Brandon Whittle</dc:creator>
  <dc:description/>
  <dc:language>en-US</dc:language>
  <cp:lastModifiedBy>Brandon Whittle</cp:lastModifiedBy>
  <dcterms:modified xsi:type="dcterms:W3CDTF">2005-04-11T04:33:55Z</dcterms:modified>
  <cp:revision>76</cp:revision>
  <dc:subject/>
  <dc:title>EMMS Release 4</dc:title>
</cp:coreProperties>
</file>