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17F2E3DE-88FA-4E31-94E1-E2761ABE85C6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5360" y="1038240"/>
            <a:ext cx="4191120" cy="259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Acceptance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0920" y="101772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ON TO PLANNING WITH NO CAPITAL BUD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YET 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200" y="78912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cope/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8640" y="37274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5080" y="2583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 /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9440" y="450072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Milestones as of 2/28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5320" y="812880"/>
            <a:ext cx="3427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Summary of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496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54032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8680" y="3989520"/>
          <a:ext cx="3922560" cy="2809800"/>
        </p:xfrm>
        <a:graphic>
          <a:graphicData uri="http://schemas.openxmlformats.org/drawingml/2006/table">
            <a:tbl>
              <a:tblPr/>
              <a:tblGrid>
                <a:gridCol w="1566720"/>
                <a:gridCol w="752400"/>
                <a:gridCol w="790560"/>
                <a:gridCol w="812880"/>
              </a:tblGrid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cstd. Comple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 Lo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9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nd Uni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y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/05 5/6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9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0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7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i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9/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27760" y="71280"/>
            <a:ext cx="3857400" cy="638280"/>
            <a:chOff x="5027760" y="71280"/>
            <a:chExt cx="3857400" cy="638280"/>
          </a:xfrm>
        </p:grpSpPr>
        <p:sp>
          <p:nvSpPr>
            <p:cNvPr id="59" name=""/>
            <p:cNvSpPr/>
            <p:nvPr/>
          </p:nvSpPr>
          <p:spPr>
            <a:xfrm>
              <a:off x="833508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8356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384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78720" y="49680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2900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7748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776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3508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356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384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8720" y="28404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900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748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76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3508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 Align/ Scop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8356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chnical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384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8720" y="7128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ffing 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900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ncial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7748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7480" y="71280"/>
              <a:ext cx="3307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7760" y="28404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7760" y="49680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7760" y="709560"/>
              <a:ext cx="3857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7760" y="284040"/>
              <a:ext cx="0" cy="425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74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900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7872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384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8356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350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85160" y="71280"/>
              <a:ext cx="0" cy="638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70560" y="712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75400" y="309600"/>
            <a:ext cx="18288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016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34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134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5440" y="71280"/>
            <a:ext cx="18252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186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186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6152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61520" y="50004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2600" y="371952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4746600"/>
          <a:ext cx="4419360" cy="1854360"/>
        </p:xfrm>
        <a:graphic>
          <a:graphicData uri="http://schemas.openxmlformats.org/drawingml/2006/table">
            <a:tbl>
              <a:tblPr/>
              <a:tblGrid>
                <a:gridCol w="504720"/>
                <a:gridCol w="638280"/>
                <a:gridCol w="628560"/>
                <a:gridCol w="638280"/>
                <a:gridCol w="657000"/>
                <a:gridCol w="704880"/>
                <a:gridCol w="6476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Budg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/ Act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ec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4572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66,6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43400" y="838080"/>
            <a:ext cx="2318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61200" y="7920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0160" y="2998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509760"/>
            <a:ext cx="18720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0440" y="509760"/>
            <a:ext cx="18720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0920" y="103824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 major deliverables from AREVA (MOS–5, POS-4, PUCT-1) + 7 internal sub projects (4 Billing &amp; Settlements, 3 DA/D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835360"/>
            <a:ext cx="4343400" cy="165420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y acceptance testing progressed slower than expected.  2 weeks have been added to the schedule.  Migration now planned for 6/9/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7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51480" y="299880"/>
            <a:ext cx="18756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1440" y="712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liver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901800"/>
          <a:ext cx="7772400" cy="5851440"/>
        </p:xfrm>
        <a:graphic>
          <a:graphicData uri="http://schemas.openxmlformats.org/drawingml/2006/table">
            <a:tbl>
              <a:tblPr/>
              <a:tblGrid>
                <a:gridCol w="1046160"/>
                <a:gridCol w="1025640"/>
                <a:gridCol w="5700600"/>
              </a:tblGrid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20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/PRR211 Association of BE Bids with R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 - Optimization for the Whole Operating Day in RPRS Procurement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 Protection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59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 Plan Improvement (Phase 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Simultaneous S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 - Dispatch of Generation Resources Below Minimum Operating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 - OOM Zonal Dispatch Instru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9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Data Elements for Local Constraints &amp; 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ment to OOM tools for congestion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MS Parameters Capture for MMS Reclear Fide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Specific Bid Limits based on Generic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 Participation in Providing Ancillar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Upgrade S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Add Corrected MCPEs to the MOS dbase and pass to M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ower System Model Maintenance via Database Archive Compari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ments to VSA/D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 A Business Process will be put in place to address standardization of Constraint Nam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Jeff Robinson</cp:lastModifiedBy>
  <cp:lastPrinted>1999-12-01T22:56:09Z</cp:lastPrinted>
  <dcterms:modified xsi:type="dcterms:W3CDTF">2005-04-11T12:48:36Z</dcterms:modified>
  <cp:revision>694</cp:revision>
  <dc:subject/>
  <dc:title>No Slide Title</dc:title>
</cp:coreProperties>
</file>