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2C3F-AAB1-4367-8073-67949733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931B-D413-4B6B-9BDB-ADFBD1AF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0DEA-831E-4A7C-B6D9-13BAC148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FEE-7F96-4248-8A58-7F13EC50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9A4-7C37-4B88-AD29-BE3C6B61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F97-7C30-48B2-BB4A-4E1717C0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1361-12F4-4F0F-B9DE-AF464048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BD12-19D9-4A8B-8F52-3BB6B667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5E95-A354-4E8D-AD3E-5672590A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DFF6-0B2E-4FE3-8F14-205D9A40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E21-E057-4A04-BA2D-B6C52F5A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D6CD-A50F-43B3-984A-29588B23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6952-6481-444F-A4AB-F59E3FE18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 About Local Congestion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Management Work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rry 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3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Local Congestion Cos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OM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RCOT pays a generator that did not plan to be on-line to start and run at minim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p – ERCOT pays a generator to operate at a higher output than plan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wn - ERCOT pays a generator to operate at a lower output than plan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M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liability Must Run – ERCOT pays a generator to be available and operate as directed when the owner would have otherwise suspended operation for an extended perio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l Congestion Cost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$ Mill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143000" y="1523880"/>
          <a:ext cx="6858000" cy="4724640"/>
        </p:xfrm>
        <a:graphic>
          <a:graphicData uri="http://schemas.openxmlformats.org/drawingml/2006/table">
            <a:tbl>
              <a:tblPr/>
              <a:tblGrid>
                <a:gridCol w="2454480"/>
                <a:gridCol w="1443600"/>
                <a:gridCol w="1443600"/>
                <a:gridCol w="1516320"/>
              </a:tblGrid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6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78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35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76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E 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E D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3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3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1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5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5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7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l Congestion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73040" y="1601640"/>
          <a:ext cx="819792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601640"/>
                    <a:ext cx="81979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600200" y="1981080"/>
          <a:ext cx="5771880" cy="3690720"/>
        </p:xfrm>
        <a:graphic>
          <a:graphicData uri="http://schemas.openxmlformats.org/drawingml/2006/table">
            <a:tbl>
              <a:tblPr/>
              <a:tblGrid>
                <a:gridCol w="2518920"/>
                <a:gridCol w="1758240"/>
                <a:gridCol w="1494720"/>
              </a:tblGrid>
              <a:tr h="69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$ Mill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$/MW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M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.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ME U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ME Dow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.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119.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0.4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.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4 Congestion Cos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 Per MW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Local Con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is caused by a mismatch of load and generation in a local area (sometimes referred to as a “load pocket” or a “generation pocket”) that exceeds the transmission transfer capability to/from that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gathers congestion data based on which generator was paid and, until recently, has not collected this information for each transmission constra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4 Local Congestion Cost Paid to Generators by Z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73080" y="1828800"/>
          <a:ext cx="7284960" cy="46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3080" y="1828800"/>
                    <a:ext cx="728496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" name=""/>
          <p:cNvGrpSpPr/>
          <p:nvPr/>
        </p:nvGrpSpPr>
        <p:grpSpPr>
          <a:xfrm>
            <a:off x="2600280" y="3833640"/>
            <a:ext cx="4724280" cy="385920"/>
            <a:chOff x="2600280" y="3833640"/>
            <a:chExt cx="4724280" cy="385920"/>
          </a:xfrm>
        </p:grpSpPr>
        <p:sp>
          <p:nvSpPr>
            <p:cNvPr id="58" name=""/>
            <p:cNvSpPr/>
            <p:nvPr/>
          </p:nvSpPr>
          <p:spPr>
            <a:xfrm>
              <a:off x="2600280" y="4219560"/>
              <a:ext cx="4724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50840" y="3833640"/>
              <a:ext cx="172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Average = $0.9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4 Local Congestion Costs Paid to Generators by Local Security A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135840" y="624852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th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2224080" y="5448240"/>
            <a:ext cx="380880" cy="1066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84880" y="624852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th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4076640" y="5448240"/>
            <a:ext cx="380880" cy="1066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6476760" y="4343400"/>
            <a:ext cx="457200" cy="33526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60840" y="624852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st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981080" y="3581280"/>
            <a:ext cx="6553440" cy="1295640"/>
            <a:chOff x="1981080" y="3581280"/>
            <a:chExt cx="6553440" cy="1295640"/>
          </a:xfrm>
        </p:grpSpPr>
        <p:sp>
          <p:nvSpPr>
            <p:cNvPr id="70" name=""/>
            <p:cNvSpPr/>
            <p:nvPr/>
          </p:nvSpPr>
          <p:spPr>
            <a:xfrm>
              <a:off x="1981080" y="4876920"/>
              <a:ext cx="6553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3480" y="3581280"/>
              <a:ext cx="153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Average = $0.9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4080" y="3886200"/>
              <a:ext cx="685800" cy="9907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4 Local Congestion Costs Paid to Generators by Local Security A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6135840" y="624852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th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2224080" y="5448240"/>
            <a:ext cx="380880" cy="1066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4880" y="624852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th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4076640" y="5448240"/>
            <a:ext cx="380880" cy="1066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6476760" y="4343400"/>
            <a:ext cx="457200" cy="33526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60840" y="624852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st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909800" y="3733920"/>
            <a:ext cx="6553080" cy="307080"/>
            <a:chOff x="1909800" y="3733920"/>
            <a:chExt cx="6553080" cy="307080"/>
          </a:xfrm>
        </p:grpSpPr>
        <p:sp>
          <p:nvSpPr>
            <p:cNvPr id="83" name=""/>
            <p:cNvSpPr/>
            <p:nvPr/>
          </p:nvSpPr>
          <p:spPr>
            <a:xfrm>
              <a:off x="1909800" y="4010040"/>
              <a:ext cx="6553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50560" y="3733920"/>
              <a:ext cx="153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Average = $0.9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485680" y="193824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7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080" y="368784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0.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37920" y="396396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0.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7400" y="47545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0.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27000" y="262080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.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6720" y="361476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.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88800" y="437364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0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0" y="193824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5.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89160" y="447984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0.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14480" y="437688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0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24320" y="193824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7.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7360" y="5872320"/>
            <a:ext cx="75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3720" y="5853240"/>
            <a:ext cx="76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943600" y="2362320"/>
            <a:ext cx="914400" cy="75960"/>
            <a:chOff x="5943600" y="2362320"/>
            <a:chExt cx="914400" cy="75960"/>
          </a:xfrm>
        </p:grpSpPr>
        <p:sp>
          <p:nvSpPr>
            <p:cNvPr id="99" name=""/>
            <p:cNvSpPr/>
            <p:nvPr/>
          </p:nvSpPr>
          <p:spPr>
            <a:xfrm>
              <a:off x="6175080" y="2373480"/>
              <a:ext cx="462240" cy="5220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6480 h 52200"/>
                <a:gd name="textAreaBottom" fmla="*/ 45720 h 5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49840" y="2367000"/>
              <a:ext cx="3081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43600" y="2362320"/>
              <a:ext cx="30780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772400" y="2362320"/>
            <a:ext cx="914400" cy="75960"/>
            <a:chOff x="7772400" y="2362320"/>
            <a:chExt cx="914400" cy="75960"/>
          </a:xfrm>
        </p:grpSpPr>
        <p:sp>
          <p:nvSpPr>
            <p:cNvPr id="103" name=""/>
            <p:cNvSpPr/>
            <p:nvPr/>
          </p:nvSpPr>
          <p:spPr>
            <a:xfrm>
              <a:off x="8003880" y="2373480"/>
              <a:ext cx="462240" cy="5220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6480 h 52200"/>
                <a:gd name="textAreaBottom" fmla="*/ 45720 h 5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78640" y="2367000"/>
              <a:ext cx="3081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72400" y="2362320"/>
              <a:ext cx="30780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334120" y="2362320"/>
            <a:ext cx="914400" cy="75960"/>
            <a:chOff x="5334120" y="2362320"/>
            <a:chExt cx="914400" cy="75960"/>
          </a:xfrm>
        </p:grpSpPr>
        <p:sp>
          <p:nvSpPr>
            <p:cNvPr id="107" name=""/>
            <p:cNvSpPr/>
            <p:nvPr/>
          </p:nvSpPr>
          <p:spPr>
            <a:xfrm>
              <a:off x="5565600" y="2373480"/>
              <a:ext cx="462240" cy="5220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6480 h 52200"/>
                <a:gd name="textAreaBottom" fmla="*/ 45720 h 5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0360" y="2367000"/>
              <a:ext cx="3081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4120" y="2362320"/>
              <a:ext cx="30780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34:41Z</dcterms:created>
  <dc:creator>Registered User</dc:creator>
  <dc:description/>
  <dc:language>en-US</dc:language>
  <cp:lastModifiedBy>A. Boren</cp:lastModifiedBy>
  <dcterms:modified xsi:type="dcterms:W3CDTF">2005-02-24T21:57:14Z</dcterms:modified>
  <cp:revision>22</cp:revision>
  <dc:subject/>
  <dc:title>What are Congestion Costs?</dc:title>
</cp:coreProperties>
</file>