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D63-4C1D-4644-B97C-7E6E1A9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777-7FED-4B37-A325-C6442240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5CF-30A2-457B-AADC-9D4AD430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DEA-59F9-4790-AF0B-BA84E5F3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249-B575-476C-A5F2-A7666AF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ACA-E713-4194-BD6E-A4C573DD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5D1-76E4-45B4-9FA8-E3E36D9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B45-C116-4E97-9134-6353793A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1F1-EE26-4E40-AED5-1C62A2AA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159-C6DE-4ABB-B938-8CAACC1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E44-22B5-4EF0-A2C0-EC1DF42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1C6-D69C-44EE-9669-C1DB4BA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6A9-CCE4-4FF7-B18C-0C83ECEC3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838188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firmed Working Group Leader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cussed draft PRR to reduce Initial Settlement from 17 to 10 days.  Recommendation to approve Protocol changes passed.  (Thanks to ERCOT for analysis of impact) This is COPS sub-committees first official 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ed data impacts of PRR 548, ERCOT staff  presented data that will be provided.  MPs have additional needs for mis-match information outside of the ERCOT Settlement process.  ERCOT staff to look for the best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explained the procedures used in the Tenaska / DE Resettlement, giving MPs information allowing them to shadow this Resett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004 Top 10 COPS Working Group Accomplish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reating and establishing the Commercial Operations Subcommitte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) Bridging gap between the Retail and Wholesale markets at the REP and QSE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) ADR Protocols – rewrote and approved Section 20 of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) Initiation of the review of Section 9 of Protocols – developing more detail around settlement, billing  and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) Completion of True-up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) Formation of Working Group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munication Working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PS Protocols Review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ta Extracts Working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) Created additional transparency of data - more information flowing so that participants are able to shadow more comple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) Created a forum for ERCOT Settlement Project/Implementation updat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2-25T14:23:59Z</dcterms:modified>
  <cp:revision>113</cp:revision>
  <dc:subject/>
  <dc:title>Point-to-Point</dc:title>
</cp:coreProperties>
</file>