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E1FAF-C6A0-4F84-8148-254523E7F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838080" y="2895120"/>
            <a:ext cx="739152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838080" y="4248360"/>
            <a:ext cx="739152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54CC1-155F-4C68-8DD8-007E91641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83808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2564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83808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2564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B92D2-EE4E-4C11-B208-8A999C7B4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838080" y="289512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37560" y="289512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836680" y="289512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838080" y="424836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37560" y="424836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836680" y="424836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789BC-D003-410D-AD88-1E086A2E3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B2889A-2F60-4D5A-B30C-BA60A660E3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838080" y="2895120"/>
            <a:ext cx="7391520" cy="2590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70850-7316-4AF6-8B6C-3025F10FB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838080" y="2895120"/>
            <a:ext cx="739152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B2345-E903-43B4-A845-302D785BB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83808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2564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00179-9E3E-45B4-B7FE-E68D12A8D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FFAEB9-5DEC-43D2-8696-025F0F9F5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15235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BC7243-40C6-4F93-8EA0-0339FC959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83808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2564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83808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E0FE0-8975-4EEB-9AB3-C0496EB30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838080" y="2895120"/>
            <a:ext cx="7391520" cy="2590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0A84F-DEAE-4248-BDC3-8ABE1BC77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83808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2564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2564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CB314-8F2C-48F7-94EE-9D3D45611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83808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2564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838080" y="4248360"/>
            <a:ext cx="739152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87624-E5E4-4382-AA57-D4C5C354D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838080" y="2895120"/>
            <a:ext cx="739152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838080" y="4248360"/>
            <a:ext cx="739152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25FD3-F093-4611-AAB7-4D7C08694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83808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2564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83808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2564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13D2AD-76C5-4B36-8051-B10A944AE7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838080" y="289512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37560" y="289512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836680" y="289512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838080" y="424836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37560" y="424836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836680" y="424836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6557D3-2B6F-4670-9B8D-9B4B5BB541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838080" y="2895120"/>
            <a:ext cx="739152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74B20-0B07-4CAB-8CA7-B5E0746FD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83808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2564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36258-43CB-4B8D-9F2B-B835C82DF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0878B-4495-4286-B24A-B91F3C8F7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15235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13618-B211-4603-A2E4-22C656F0B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83808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2564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83808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3EECF-31CF-4A47-B4E5-180A8F91E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83808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2564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2564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E695C-9510-4667-AD96-FCF8FEC33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3808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2564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838080" y="4248360"/>
            <a:ext cx="739152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47D67-5841-4312-BD7C-F250160E53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838080" y="2895120"/>
            <a:ext cx="7391520" cy="2590920"/>
          </a:xfrm>
          <a:prstGeom prst="rect">
            <a:avLst/>
          </a:prstGeom>
          <a:noFill/>
          <a:ln w="0">
            <a:noFill/>
          </a:ln>
        </p:spPr>
        <p:txBody>
          <a:bodyPr lIns="90000" rIns="90000" tIns="46800" bIns="46800" anchor="t">
            <a:normAutofit fontScale="62000"/>
          </a:bodyPr>
          <a:p>
            <a:pPr marL="212400" indent="-212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60440" indent="-177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708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99180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75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75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75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837720" y="5715000"/>
            <a:ext cx="1600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66880" y="5715000"/>
            <a:ext cx="3733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571500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50643-2699-47CA-9F57-D474CAAB56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20932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762120" y="5867280"/>
            <a:ext cx="16761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2666880" y="586728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629400" y="5867280"/>
            <a:ext cx="17524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B30C8-63FC-46E5-9AB3-10BC9DBB67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220932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R 485 Heat Adder</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762120" y="3505320"/>
            <a:ext cx="7619760" cy="259056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lesale Market Subcommittee</a:t>
            </a: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4 February, 2005</a:t>
            </a: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ndon Whittle</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 Operations Suppo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52480" y="0"/>
            <a:ext cx="739152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85" name="PlaceHolder 2"/>
          <p:cNvSpPr>
            <a:spLocks noGrp="1"/>
          </p:cNvSpPr>
          <p:nvPr>
            <p:ph/>
          </p:nvPr>
        </p:nvSpPr>
        <p:spPr>
          <a:xfrm>
            <a:off x="838080" y="1905120"/>
            <a:ext cx="73915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MS to recommend Heat Rate Add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t Rate Adder must be Approved by ERCOT Board before Release 4 implemen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52480" y="0"/>
            <a:ext cx="739152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87" name="PlaceHolder 2"/>
          <p:cNvSpPr>
            <a:spLocks noGrp="1"/>
          </p:cNvSpPr>
          <p:nvPr>
            <p:ph/>
          </p:nvPr>
        </p:nvSpPr>
        <p:spPr>
          <a:xfrm>
            <a:off x="838080" y="1218960"/>
            <a:ext cx="739152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ground of PRR 485</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ocol Languag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ulae for Bid Limit Calcula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of Bid Limit Calcul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t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t Rate Adder Up Valu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t Rate Adder Down Valu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7">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7">
                                            <p:txEl>
                                              <p:pRg st="5" end="5"/>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87">
                                            <p:txEl>
                                              <p:pRg st="6" end="6"/>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8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52480" y="0"/>
            <a:ext cx="739152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89" name="PlaceHolder 2"/>
          <p:cNvSpPr>
            <a:spLocks noGrp="1"/>
          </p:cNvSpPr>
          <p:nvPr>
            <p:ph/>
          </p:nvPr>
        </p:nvSpPr>
        <p:spPr>
          <a:xfrm>
            <a:off x="838080" y="1371600"/>
            <a:ext cx="73915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 Solution Suspend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MS endorses Generic Cost Method plus Heat Rate Adder method (January 2004)</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decision made on what Adders to u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R 485 Passes with the Adders left for an appropriate TAC subcommittee to decide (April 2004)</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52480" y="0"/>
            <a:ext cx="739152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tocols 4.4.20</a:t>
            </a:r>
            <a:endParaRPr b="0" lang="en-US" sz="4400" spc="-1" strike="noStrike">
              <a:solidFill>
                <a:srgbClr val="000000"/>
              </a:solidFill>
              <a:latin typeface="Times New Roman"/>
            </a:endParaRPr>
          </a:p>
        </p:txBody>
      </p:sp>
      <p:sp>
        <p:nvSpPr>
          <p:cNvPr id="91" name="PlaceHolder 2"/>
          <p:cNvSpPr>
            <a:spLocks noGrp="1"/>
          </p:cNvSpPr>
          <p:nvPr>
            <p:ph/>
          </p:nvPr>
        </p:nvSpPr>
        <p:spPr>
          <a:xfrm>
            <a:off x="838080" y="1143000"/>
            <a:ext cx="7391520" cy="51055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en-US" sz="1800" spc="-1" strike="noStrike">
                <a:solidFill>
                  <a:srgbClr val="000000"/>
                </a:solidFill>
                <a:latin typeface="Times New Roman"/>
              </a:rPr>
              <a:t>	</a:t>
            </a:r>
            <a:r>
              <a:rPr b="0" lang="en-US" sz="1800" spc="-1" strike="noStrike">
                <a:solidFill>
                  <a:srgbClr val="000000"/>
                </a:solidFill>
                <a:latin typeface="Times New Roman"/>
              </a:rPr>
              <a:t>The Resource Category Generic bid limits for Balancing Energy Up for all gas-fired units will be calculated by multiplying the most recent FIP by the sum of a constant heat rate adder and the Resource Category heat rate, as used in the Resource Category Generic Fuel Cost calculation for upward instructions specified in Section 6.8.2.1, Resource Category Generic Cost.</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en-US" sz="1800" spc="-1" strike="noStrike">
                <a:solidFill>
                  <a:srgbClr val="000000"/>
                </a:solidFill>
                <a:latin typeface="Times New Roman"/>
              </a:rPr>
              <a:t>	</a:t>
            </a:r>
            <a:r>
              <a:rPr b="0" lang="en-US" sz="1800" spc="-1" strike="noStrike">
                <a:solidFill>
                  <a:srgbClr val="000000"/>
                </a:solidFill>
                <a:latin typeface="Times New Roman"/>
              </a:rPr>
              <a:t>The Resource Category Generic bid limits for Balancing Energy Down for all gas-fired units will be calculated by multiplying the most recent FIP by the difference of a constant heat rate adder and the Resource Category heat rate, as used in the Resource Category Generic Fuel Cost calculation for downward instructions specified in Section 6.8.2.1, Resource Category Generic Cost.</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en-US" sz="1800" spc="-1" strike="noStrike">
                <a:solidFill>
                  <a:srgbClr val="000000"/>
                </a:solidFill>
                <a:latin typeface="Times New Roman"/>
              </a:rPr>
              <a:t>	</a:t>
            </a:r>
            <a:r>
              <a:rPr b="0" lang="en-US" sz="1800" spc="-1" strike="noStrike">
                <a:solidFill>
                  <a:srgbClr val="000000"/>
                </a:solidFill>
                <a:latin typeface="Times New Roman"/>
              </a:rPr>
              <a:t>For all other Resource Categories, the Resource Category Generic bid limit for Balancing Energy Up and the Resource Category Generic bid limit for Balancing Energy Down will be calculated using the appropriate Resource Category Generic Fuel Cost calculation using the most recent FIP, if necessary, as specified in Section 6.8.2.1, Resource Category Generic Cost.</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en-US" sz="1800" spc="-1" strike="noStrike">
                <a:solidFill>
                  <a:srgbClr val="000000"/>
                </a:solidFill>
                <a:latin typeface="Times New Roman"/>
              </a:rPr>
              <a:t>	</a:t>
            </a:r>
            <a:r>
              <a:rPr b="0" lang="en-US" sz="1800" spc="-1" strike="noStrike">
                <a:solidFill>
                  <a:srgbClr val="000000"/>
                </a:solidFill>
                <a:latin typeface="Times New Roman"/>
              </a:rPr>
              <a:t>The proposed value of the heat rate adder will be recommended by the appropriate TAC subcommittee and will be re-evaluated on a quarterly basis.  The value of the heat rate adder must be approved by the ERCOT Board. </a:t>
            </a:r>
            <a:endParaRPr b="0" lang="en-US" sz="1800" spc="-1" strike="noStrike">
              <a:solidFill>
                <a:srgbClr val="000000"/>
              </a:solidFill>
              <a:latin typeface="Times New Roman"/>
            </a:endParaRPr>
          </a:p>
        </p:txBody>
      </p:sp>
      <p:sp>
        <p:nvSpPr>
          <p:cNvPr id="92" name=""/>
          <p:cNvSpPr/>
          <p:nvPr/>
        </p:nvSpPr>
        <p:spPr>
          <a:xfrm>
            <a:off x="1523880" y="2209680"/>
            <a:ext cx="6248520" cy="19227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ource Category Generic bid limits for Balancing Energy Up for all gas-fired units will be calculated by multiplying the most recent FIP by the sum of a constant heat rate adder and the Resource Category heat r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mph" presetID="3" presetSubtype="2">
                                  <p:stCondLst>
                                    <p:cond delay="0"/>
                                  </p:stCondLst>
                                  <p:childTnLst>
                                    <p:animClr clrSpc="rgb">
                                      <p:cBhvr>
                                        <p:cTn id="48" dur="500" fill="hold"/>
                                        <p:tgtEl>
                                          <p:spTgt spid="91">
                                            <p:txEl>
                                              <p:pRg st="0" end="0"/>
                                            </p:txEl>
                                          </p:spTgt>
                                        </p:tgtEl>
                                        <p:attrNameLst>
                                          <p:attrName>style.color</p:attrName>
                                        </p:attrNameLst>
                                      </p:cBhvr>
                                      <p:to>
                                        <a:srgbClr val="b2b2b2"/>
                                      </p:to>
                                    </p:animClr>
                                  </p:childTnLst>
                                </p:cTn>
                              </p:par>
                              <p:par>
                                <p:cTn id="49" nodeType="withEffect" fill="hold" presetClass="emph" presetID="3" presetSubtype="2">
                                  <p:stCondLst>
                                    <p:cond delay="0"/>
                                  </p:stCondLst>
                                  <p:childTnLst>
                                    <p:animClr clrSpc="rgb">
                                      <p:cBhvr>
                                        <p:cTn id="50" dur="500" fill="hold"/>
                                        <p:tgtEl>
                                          <p:spTgt spid="91">
                                            <p:txEl>
                                              <p:pRg st="1" end="1"/>
                                            </p:txEl>
                                          </p:spTgt>
                                        </p:tgtEl>
                                        <p:attrNameLst>
                                          <p:attrName>style.color</p:attrName>
                                        </p:attrNameLst>
                                      </p:cBhvr>
                                      <p:to>
                                        <a:srgbClr val="b2b2b2"/>
                                      </p:to>
                                    </p:animClr>
                                  </p:childTnLst>
                                </p:cTn>
                              </p:par>
                              <p:par>
                                <p:cTn id="51" nodeType="withEffect" fill="hold" presetClass="emph" presetID="3" presetSubtype="2">
                                  <p:stCondLst>
                                    <p:cond delay="0"/>
                                  </p:stCondLst>
                                  <p:childTnLst>
                                    <p:animClr clrSpc="rgb">
                                      <p:cBhvr>
                                        <p:cTn id="52" dur="500" fill="hold"/>
                                        <p:tgtEl>
                                          <p:spTgt spid="91">
                                            <p:txEl>
                                              <p:pRg st="2" end="2"/>
                                            </p:txEl>
                                          </p:spTgt>
                                        </p:tgtEl>
                                        <p:attrNameLst>
                                          <p:attrName>style.color</p:attrName>
                                        </p:attrNameLst>
                                      </p:cBhvr>
                                      <p:to>
                                        <a:srgbClr val="b2b2b2"/>
                                      </p:to>
                                    </p:animClr>
                                  </p:childTnLst>
                                </p:cTn>
                              </p:par>
                              <p:par>
                                <p:cTn id="53" nodeType="withEffect" fill="hold" presetClass="emph" presetID="3" presetSubtype="2">
                                  <p:stCondLst>
                                    <p:cond delay="0"/>
                                  </p:stCondLst>
                                  <p:childTnLst>
                                    <p:animClr clrSpc="rgb">
                                      <p:cBhvr>
                                        <p:cTn id="54" dur="500" fill="hold"/>
                                        <p:tgtEl>
                                          <p:spTgt spid="91">
                                            <p:txEl>
                                              <p:pRg st="3" end="3"/>
                                            </p:txEl>
                                          </p:spTgt>
                                        </p:tgtEl>
                                        <p:attrNameLst>
                                          <p:attrName>style.color</p:attrName>
                                        </p:attrNameLst>
                                      </p:cBhvr>
                                      <p:to>
                                        <a:srgbClr val="b2b2b2"/>
                                      </p:to>
                                    </p:animClr>
                                  </p:childTnLst>
                                </p:cTn>
                              </p:par>
                            </p:childTnLst>
                          </p:cTn>
                        </p:par>
                        <p:par>
                          <p:cTn id="55" fill="hold">
                            <p:stCondLst>
                              <p:cond delay="500"/>
                            </p:stCondLst>
                            <p:childTnLst>
                              <p:par>
                                <p:cTn id="56" nodeType="afterEffect" fill="hold" presetClass="entr" presetID="1">
                                  <p:stCondLst>
                                    <p:cond delay="0"/>
                                  </p:stCondLst>
                                  <p:childTnLst>
                                    <p:set>
                                      <p:cBhvr>
                                        <p:cTn id="57"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52480" y="0"/>
            <a:ext cx="739152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ulae</a:t>
            </a:r>
            <a:endParaRPr b="0" lang="en-US" sz="4400" spc="-1" strike="noStrike">
              <a:solidFill>
                <a:srgbClr val="000000"/>
              </a:solidFill>
              <a:latin typeface="Times New Roman"/>
            </a:endParaRPr>
          </a:p>
        </p:txBody>
      </p:sp>
      <p:sp>
        <p:nvSpPr>
          <p:cNvPr id="94" name="PlaceHolder 2"/>
          <p:cNvSpPr>
            <a:spLocks noGrp="1"/>
          </p:cNvSpPr>
          <p:nvPr>
            <p:ph/>
          </p:nvPr>
        </p:nvSpPr>
        <p:spPr>
          <a:xfrm>
            <a:off x="685440" y="1219320"/>
            <a:ext cx="80010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s Fired Resource Categories (Combined Cycle, Simple Cycle, Gas-Steam, Diese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Limit = (Heat Rate + Adder) * Fuel Index</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wn Limit = (Heat Rate – Adder) * Fuel Index</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Categori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and Down Limits  =  Heat Rate * Fuel Index</a:t>
            </a:r>
            <a:endParaRPr b="0" lang="en-US" sz="2400" spc="-1" strike="noStrike">
              <a:solidFill>
                <a:srgbClr val="000000"/>
              </a:solidFill>
              <a:latin typeface="Times New Roman"/>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onstan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94">
                                            <p:txEl>
                                              <p:pRg st="4" end="4"/>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94">
                                            <p:txEl>
                                              <p:pRg st="5" end="5"/>
                                            </p:txEl>
                                          </p:spTgt>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94">
                                            <p:txEl>
                                              <p:pRg st="6" end="6"/>
                                            </p:txEl>
                                          </p:spTgt>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9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360"/>
            <a:ext cx="73915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a:t>
            </a:r>
            <a:endParaRPr b="0" lang="en-US" sz="4400" spc="-1" strike="noStrike">
              <a:solidFill>
                <a:srgbClr val="000000"/>
              </a:solidFill>
              <a:latin typeface="Times New Roman"/>
            </a:endParaRPr>
          </a:p>
        </p:txBody>
      </p:sp>
      <p:sp>
        <p:nvSpPr>
          <p:cNvPr id="96" name=""/>
          <p:cNvSpPr/>
          <p:nvPr/>
        </p:nvSpPr>
        <p:spPr>
          <a:xfrm>
            <a:off x="1066680" y="1828800"/>
            <a:ext cx="495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Spreadshe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52480" y="0"/>
            <a:ext cx="739152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MS Recommendation</a:t>
            </a:r>
            <a:endParaRPr b="0" lang="en-US" sz="4400" spc="-1" strike="noStrike">
              <a:solidFill>
                <a:srgbClr val="000000"/>
              </a:solidFill>
              <a:latin typeface="Times New Roman"/>
            </a:endParaRPr>
          </a:p>
        </p:txBody>
      </p:sp>
      <p:sp>
        <p:nvSpPr>
          <p:cNvPr id="98" name="PlaceHolder 2"/>
          <p:cNvSpPr>
            <a:spLocks noGrp="1"/>
          </p:cNvSpPr>
          <p:nvPr>
            <p:ph/>
          </p:nvPr>
        </p:nvSpPr>
        <p:spPr>
          <a:xfrm>
            <a:off x="838080" y="1371600"/>
            <a:ext cx="73915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MS recommendation (voting ite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of Heat Rate Adder Up = 1.0</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of Heat Rate Adder Down = 1.0</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6T17:37:52Z</dcterms:created>
  <dc:creator>Brandon Whittle</dc:creator>
  <dc:description/>
  <dc:language>en-US</dc:language>
  <cp:lastModifiedBy>A. Boren</cp:lastModifiedBy>
  <dcterms:modified xsi:type="dcterms:W3CDTF">2005-02-24T21:56:14Z</dcterms:modified>
  <cp:revision>10</cp:revision>
  <dc:subject/>
  <dc:title>PRR 485 Heat Adder</dc:title>
</cp:coreProperties>
</file>