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336-DAF8-420F-9F7C-755CF18F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DD9-04A8-4D53-99B6-3D5F50FE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168-A370-4EF9-B584-BF259DF7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754-BE5C-41B6-BB0A-A13A82B4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5459-058E-408F-B69C-D00EBFC2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67FD-F977-43F1-B6D7-1567B19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64D-EE3F-46B3-8495-0F9B97DF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252-C176-44EB-88E5-C1E8469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8662-EAC6-48A5-AE5B-F271603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4209-E4EA-4298-8DEB-61320B66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5097-379A-429A-A31E-E9C966C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16D-8FBB-487E-B2D8-1B99FF69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D03-2C30-433D-8FC0-9C5F0D1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AA07-CFB5-40C1-B6F8-F5353CD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3A5A-C00B-4CE1-8BCD-8B1C82D9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B6F2-AFC5-4248-8FC8-2DB2B036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E3B7-E192-4308-A51C-512BA343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23E-4F5E-4FAD-BF05-0C9040B1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F9C-65DD-4535-B823-1317C7F7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B45-D336-4AAE-9B27-AEFE4963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4D3-CB69-42F9-A03E-D4F5504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18B-235F-4E30-95EA-B7C5017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C39-37A7-4D96-BE3C-7D5CB4E8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BF5-D540-4401-B72C-DFA8AC0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715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7150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9EE-53D7-4120-AD2A-B78C0CAF5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E3F2-BE76-4C90-8881-5B00F9685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llary Services Validation for Linked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sale Market Sub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Februar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Wh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Operation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 on X%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and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342 Passed January 2003 including variables called X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% variables included must be approved by the ERCOT Board before Release 4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MS to recommend X% values for Ancillary Services Linked Bid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 4.4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sponsive Reserve capacity bid tied to a Regulation Up capacity bid may only exceed the Regulation Up capacity bid by X%, as approved by the ERCOT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n-Spinning Reserve capacity bid may only exceed Responsive Reserve capacity bid by X%, as approved by the ERCOT Bo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 4.4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of X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S bid * (1+X%) &lt;=UR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X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RS bid * (1+X%) &lt;= RR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MS 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Recommendation (voting i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X = 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to evaluate the number of linked bids after EMMS release 4 implementation and what would potentially happen with lower values of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7:37:52Z</dcterms:created>
  <dc:creator>Brandon Whittle</dc:creator>
  <dc:description/>
  <dc:language>en-US</dc:language>
  <cp:lastModifiedBy>A. Boren</cp:lastModifiedBy>
  <dcterms:modified xsi:type="dcterms:W3CDTF">2005-02-24T21:55:19Z</dcterms:modified>
  <cp:revision>12</cp:revision>
  <dc:subject/>
  <dc:title>PRR 485 Heat Adder</dc:title>
</cp:coreProperties>
</file>