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F14-4410-466A-8EFE-06FC6920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804-8EF1-43CC-ABF8-BD977BD3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21F-4DC5-4035-83E5-3703494E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A42-A4E5-4118-AAC9-ACB04C37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289-23B8-4F30-8E29-8239CEED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028-D63A-4C18-A05D-F1029C90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F06-6671-4A09-81DF-E3D3F817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A4D-2B07-44F5-BAEA-06A8D7FD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4E4-9968-4EB8-8B1F-82C7BCD8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D3D-FFB4-4A49-A3B5-20F114D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C77-2C16-48EC-AA2B-A943FAB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52E-32D9-4C7D-9689-E7FA7FE9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9BFD-8F52-46D7-B32A-6037B9183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uston Area Constraint Mitigatio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5638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C – 3/3/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49688" b="0"/>
          <a:stretch/>
        </p:blipFill>
        <p:spPr>
          <a:xfrm>
            <a:off x="152280" y="1143000"/>
            <a:ext cx="453888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1219320"/>
            <a:ext cx="441972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grade Jewett-Tomball/TH Wharton 345kV double circuit to 1450 MVA rating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$9.5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truct new Hillje 345kV switching station in the STP-Holman 345kV lin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$10.8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ild new Parish –Hillje 345kV double circuit (2-1590 ACSR)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$79.25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STP-Hillje 345kV circuit (2-795 ACSR) on open tower position of existing STP-Parish lin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$8.35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place autotransformers at Greens Bayou #2 (800MVA), Tomball (600MVA), Addicks (800MVA and O’Brien #3 (600MVA)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$12.2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grade O’Brien – O’Brien Tap 138kV circuits to 545 MV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$0.2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place miscellaneous breakers and terminal equipmen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$1.66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828800"/>
            <a:ext cx="228600" cy="4572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776600">
            <a:off x="1371240" y="2133360"/>
            <a:ext cx="247680" cy="11430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558600">
            <a:off x="1514160" y="1914840"/>
            <a:ext cx="247680" cy="11430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048120"/>
            <a:ext cx="4572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1952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73392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50532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42900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952880"/>
            <a:ext cx="1066680" cy="30492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709400">
            <a:off x="1401840" y="4668480"/>
            <a:ext cx="1255680" cy="3222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15200">
            <a:off x="1447560" y="5334120"/>
            <a:ext cx="1523880" cy="2286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73392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10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ption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295280"/>
            <a:ext cx="807696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wett-Tomball/TH Wharton upgrade and autotransformer change outs scheduled in-service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der of package scheduled in-service in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cost of package of projects is $122 mill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ed production cost savings (in nominal $million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524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savings of ~$60M  significantly exceeds the $20M annual carrying cost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524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90920" y="4724280"/>
          <a:ext cx="3630600" cy="636480"/>
        </p:xfrm>
        <a:graphic>
          <a:graphicData uri="http://schemas.openxmlformats.org/drawingml/2006/table">
            <a:tbl>
              <a:tblPr/>
              <a:tblGrid>
                <a:gridCol w="907920"/>
                <a:gridCol w="908280"/>
                <a:gridCol w="906480"/>
                <a:gridCol w="907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and Savings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219320"/>
            <a:ext cx="8076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23524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cost savings exceed the cumulative incurred cost of the line with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9436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RCOT also examined the sensitivity of these savings to the retirement of the TX Genco units and to lower gas prices.  In all cases the project was still justif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2715" r="0" b="0"/>
          <a:stretch/>
        </p:blipFill>
        <p:spPr>
          <a:xfrm>
            <a:off x="2209680" y="2209680"/>
            <a:ext cx="4800600" cy="3421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6672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Jus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1600200"/>
            <a:ext cx="807696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point evaluated 28 different packages of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performed an economic evaluation of over 90 different combinations of these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projects that were evaluate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enith – Salem 345kV Doubl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enith – Salem – TNPOne 345kV Doubl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’Brien – Holman 345kV Doubl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’Brien – Fayette 345kV Doubl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P – O’Brien 345kV Singl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P – O’Brien – Gibbons Creek 345kV Singl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P – Parish additio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 STP - Holman 345kV circuit into Par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grade Lolita – Blessing – Lane 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grade Bellaire – Smi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grade Fayetteville auto and Fayetteville – Bellville South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s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343160"/>
            <a:ext cx="77882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keholder review period for this project was held in September 2004. Comments supporting the package of projects were received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XU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C – supported, however, did not believe STEC portion of package wa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econd comment period was held in January 2005 on the economic analysis performed by ERCOT.  Comments supporting the results were received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poin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n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XU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y Public Service of San Ant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keholder comments at all stages of the review have been in support of the project, with no dissenting com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4960" y="2286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9714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supports the need for this project, as described, and asks that TAC endorse approval by the Boa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7080" y="228600"/>
            <a:ext cx="66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COT Support For the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. Boren</cp:lastModifiedBy>
  <dcterms:modified xsi:type="dcterms:W3CDTF">2005-02-28T14:54:17Z</dcterms:modified>
  <cp:revision>119</cp:revision>
  <dc:subject/>
  <dc:title>Point-to-Point</dc:title>
</cp:coreProperties>
</file>