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649-5340-47AA-936E-FD1137E6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2B6-E90E-4693-9FDF-1F62C85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FC4-4CD9-4224-BB84-5A94ADE8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18E-9B88-430F-AF18-1B80151B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F47-0A6E-4634-9B6F-1A848B3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326-3A67-4B3F-86A2-78C7C1BE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099-3B4B-4F90-8CB7-407DB9C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A7B-E0F8-4EF8-97A7-969FFA9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C0E-087A-4941-B448-6AB52C6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8C1-126D-47E8-A222-F4BE95B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446-F15B-4250-AABA-5DA54182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BA6-AC29-44F6-BE1E-3F21F1AF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21FE-7E81-475F-A976-63D455CE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 Adequacy Task Force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balled Capac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80384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914400"/>
                <a:gridCol w="990720"/>
                <a:gridCol w="1066680"/>
                <a:gridCol w="1067040"/>
                <a:gridCol w="106668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Years Mothba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h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h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5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A 120 MW steam reheat unit has been “mothballed” for 2 years.  The lead-time to return the unit to service is 6 months.  ERCOT is preparing this forecast in October, looking at the next calendar year as Forecast Year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mothballed” capacity will be included in the ERCOT reserve margin calculation for this un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548640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7600" y="1981080"/>
            <a:ext cx="8380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91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orecast year 1, the unit will have been mothballed for 3 years, thus, from the Mothball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lected.  The lead-time to return the unit to service is 6 months which could occur in April, well ahead of the June to September peak load season and therefore, would have no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582768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 120 MW x 30%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 M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year of the forecast period for this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97320" y="1103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ecast 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360" y="1295280"/>
            <a:ext cx="251460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ebruary, TAC requested that a joint WMS/ROS Task Force be assembled to address issues surrounding the ERCOT reserve margin (e.g., treatment of “mothballed” generating units) and report back to TAC at the March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ope of the group will be to “reexamine the reserve margin calculation and make recommendations on how to make calculations more representative of the actual situa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Madden of StarTex Power was appointed chair of this gro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TF has held two meetings (Feb. 21 and Feb. 28) with at least one more meeting scheduled on March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each of the following components of the ERCOT Reserve Margin calc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Generat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balled”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Ti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able”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ire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ERCOT Reserve Margin Calcula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Load = Forecasted total summer peak demand – LaaRs – BU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= Installed Capacity (excluding wind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% of DC 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% of “Switchable”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% of Wind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% of Planned Generation (with signed Interconn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% of Planned Wind Generation (with sign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 Agre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00% of “Mothballed” Units (first year of forecast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00% of Retiring Units (all forecast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 Margin = (Resources – Firm Load)/Firm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intends to use an econometric load forecast beginning with the next CDR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Rs = 1,150 MW (no change, although some parties are advocating use of all registered LaaRs = 1,650 M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s = 0 MW (no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ed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use capacity as shown in resource registration, as updated through a questionnaire last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Net Summer Dependable Capability pursuant to ERCOT testing requirements instead of values based on resourc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: Reduces installed capacity by approximately 1,488 MW (&lt;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use 10% of installe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ual historical hourly production data for the hours 16:00 – 18:00 for the months of July and Augu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by installed capac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confidence level (to be determined – 80% to 95%) to account for intermittency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p to 10-years of actual data (currently, 3 years of data is avail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: Likely to lower the 10% capacity value currently applied to wind (perhaps to as low as 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balled”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assume that 100% of “mothballed” capacity is not available in the first year of the forecast and that 100% is available in the second through fifth years of th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Discu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o “mothball” or return a “mothballed” unit is primarily econo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rivers, including condition of unit, staffing, future market prices for energy, environmental permits, cost to return the unit to servi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balled Capac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hodology needs to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time mothb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time needed to return to service (PRR 5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probability” matrix taking into account the abov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6:15:03Z</dcterms:created>
  <dc:creator>TXU Energy</dc:creator>
  <dc:description/>
  <dc:language>en-US</dc:language>
  <cp:lastModifiedBy>A. Boren</cp:lastModifiedBy>
  <dcterms:modified xsi:type="dcterms:W3CDTF">2005-03-02T17:37:47Z</dcterms:modified>
  <cp:revision>8</cp:revision>
  <dc:subject/>
  <dc:title>Generation Adequacy Task Force Report to TAC</dc:title>
</cp:coreProperties>
</file>