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03DE-D1C8-4EFF-BD90-1F0EFCC6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DD9B-A4C5-431A-8832-57116DD3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152-9A35-46F5-904F-A1607AC5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525-8326-4E32-A4DA-9E640C37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CD1B-199D-41D4-AD6B-A74EEDB7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A43C-685E-46B2-8546-DDAE8BB4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C704-328D-476A-B25E-E70BEE1B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A8F0-83E6-48D9-B67A-7ABB79CE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4B79-3C01-433C-9B0F-F6DE9EE9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C3FF-F3B7-40F7-BD7D-E52269D7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B921-4EC3-4895-AB84-8E2F1730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898-8A6C-427C-8130-2D30AD02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0350-D946-4ECD-B789-DDC7171B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855C-B143-420F-A84E-5C816282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0E43-ED76-4C41-9C3D-F8BBEE9C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EE1C-E87F-4F55-93D2-D4FC9B73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C739-5133-41D5-822C-FC890976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A463-EB4E-4F53-AA71-67482D3F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C71E-98E3-49EB-8BBA-A16D0C8D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703-CB83-4BA4-A66C-D7DB7A4E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5F3-D031-405D-A3F5-7628C956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72B3-841B-495C-9DFA-0F051E13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749C-C5C4-42D0-AF6C-818A0739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D80-BE28-47CD-B84E-E1DC1E8D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682A-5EFE-4FBD-98F8-AC73A74E69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910A-AC56-45BB-BE6C-B2E4A910E8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251460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RCOT Market Meeting Support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Improved Meeting Support for</a:t>
            </a:r>
            <a:br>
              <a:rPr sz="3200"/>
            </a:b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More Efficient Resource Utilization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6010-9889-4FE2-9F7D-4FF095F5B7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09480" y="2514600"/>
            <a:ext cx="373392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“</a:t>
            </a:r>
            <a:r>
              <a:rPr b="1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Core Team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igned responsibi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ing r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ountable to both mark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dy and ERCOT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ternates nam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cus:  coordination, communication, continuity of support for both committee and staff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44840" y="2825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81480" y="2565360"/>
            <a:ext cx="358164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ERCOT Expe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requested by body via 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ctated via agenda,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assigned by a Manage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or or Offic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a standing r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cus:  expertise, analysis, facts to aid market decision making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36720" y="609480"/>
            <a:ext cx="53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rket Meeting/Committee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Key ERCOT R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A4F6-3D87-4785-BABA-15077BA8A7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07440" y="177624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Board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Dire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6360" y="284328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PRS, TA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7800" y="3833640"/>
            <a:ext cx="13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WMS, R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ROS, CO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9240" y="5205240"/>
            <a:ext cx="17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Task Force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Working Grou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55864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413856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133720" y="208116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314784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30080" y="5257800"/>
            <a:ext cx="14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SME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M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30800" y="373392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s.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les, 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29720" y="279576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ul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SS, Le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30440" y="180504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rp Sec’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r Team, Le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07840" y="10144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566244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406224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867280" y="200484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071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03920" y="5357880"/>
            <a:ext cx="208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Funct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Business Manag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761160" y="185256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Executive T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82040" y="1014480"/>
            <a:ext cx="220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cc00"/>
                </a:solidFill>
                <a:uFillTx/>
                <a:latin typeface="Arial"/>
              </a:rPr>
              <a:t>ERCOT Coord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Key Cli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3809880"/>
            <a:ext cx="201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Impacted Dire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&amp; Office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ffcc00"/>
                </a:solidFill>
                <a:latin typeface="Arial"/>
              </a:rPr>
              <a:t>pl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CS, Rules and 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80240" y="28954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Executive T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1040" y="1014480"/>
            <a:ext cx="248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cc00"/>
                </a:solidFill>
                <a:uFillTx/>
                <a:latin typeface="Arial"/>
              </a:rPr>
              <a:t>Market Meeting Sup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Key Cli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3800" y="6208560"/>
            <a:ext cx="74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lined position = performs ERCOT Staff Meeting Management r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D1A4-F7DD-494C-AD70-122F39B424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452680" y="46044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05 Committee Assig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1680" y="1447920"/>
            <a:ext cx="792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AC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M - Cheryl Moseley,  SS - Ann Boren,  Legal - Mark Wal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RS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MM - Cheryl Moseley,  SS – Market Rules Team,  Legal – Andy Ga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OS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MM - Steve Myers,  SS - Ann Boren,  Rules – Nieves Lop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WMS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MM - Ted Hailu,  SS - Ann Boren,  Rules – Nieves Lop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PS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MM - Ted Hailu,  SS - Ann Boren,  Rules -  Diana Za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MS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MM - Dale Goodman,  SS - Ann Boren,  Rules - Sonja Min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Brittney Albracht performs facilities and meeting services coordin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776-8FA3-4F88-9CD1-FFCF124D74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51880" y="460440"/>
            <a:ext cx="83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05 Committee Assignments – ERCOT Staff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4920" y="1447920"/>
            <a:ext cx="7675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uring Q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M to coordinate/establish assignments to TF and WG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stablish back up for minutes taking at TAC and Subcommittee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esolve TF and WG documentation need, responsibility and resource req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uring Q2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P feedback checkpoint at TAC and Subcommitte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urther improve coordination across ERCOT Staff supporting MP’s 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ross functional initi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uring Q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P feedback checkpoint at TF and WG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F414-E399-429D-8C86-771F39288D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598480" y="460440"/>
            <a:ext cx="42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05 Facilities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144792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AC, Subcommittees and T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ically little change to existing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edule as far forward as neces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k best match of facilities with needs (size, AV,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k to minimize outside facilities utilization via scheduling co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Working groups and task fo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edule up to two months for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 facilities to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ERCOT facilities at preferred location first (Austin), use low-cost adjacent hotel space second if preferred location not available, use ERCOT alternate locations (Taylor) thir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Operator training in April creates the need for flexibility from committee Chairs that month.  Thanks in advance for your assistan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1441-3FBA-4EFA-8C05-7C8D3C64B0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547280" y="45720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ossible Continuous Improvement Ide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828800"/>
            <a:ext cx="7483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F &amp; WG meetings, ERCOT Staff introductions and identification of your reason for being at the meeting (contributor/observer and area of intere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end of all meetings, quick check point survey (verbal w/ input documented and retained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hat worked well tod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hat did not work as well as you would have expect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w could the next meeting be improved?  (need actionable inpu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each agenda call with the feedback from last meeting and discuss how to improve the next meeting to address concer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C7A4-9A1D-45EB-922F-3023557941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547280" y="45720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ossible Continuous Improvement Ide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1295280"/>
            <a:ext cx="7483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blish a tracking mechanism regarding committee, TF and WG agenda items, workflow, assignments, next step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 cost/benefits criteria and analysis for non-administrative protocol and guid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and standardize format and detail regarding committee, TF and WG “key documents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sh key docs on web site including: procedures, mission and scope, voting members, chair and vice chair (as appropriate for body type), ERCOT Staff assign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BEB4-7A5E-4AA5-A26D-56FE8A3865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665800" y="2590920"/>
            <a:ext cx="37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Questions and Sugges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B95-18CC-4D6F-ABCF-A0DB3382C6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iver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COT’s governance model (GM) is a key cornerstone to its overall market su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M requires a large commitment of key resources from ERCOT, PUCT, and Market Participant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ke all stakeholders, ERCOT Staff is being asked to do more with less, be more efficient and effective, control staff ad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COT Staff is expected to deliver a range of GM services at a high level and consisten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ssues cross multiple functional areas, requiring significant cross impact analysis and coord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298-3BD0-4478-A08C-27839CFA75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RCOT Staff Goal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ofessional support of the MP market meeting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Consistent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Efficien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et the needs of the participants and Sta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Right resourc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ilable given the body type and agen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Sound prepar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ERCOT presentations and pos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Timely and precise communic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stak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Early identification of issu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coordination across ERC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, coordinate, analysis/impact, position development,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Maximize utilization of ERCOT fac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32C-EEC3-44C6-A021-3DA600EF0A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 Significant Commitment Indeed…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 2004 - Over 600 ERCOT MP meeting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oximately $700,000 in outside facilities and meals for meetings coordinated through ERCO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ll more than 100 skilled or highly skilled ERCOT Staff called on to contribute to GM process.  25 - 30 FTE’s demanded by meeting volume and ERCOT service responsibil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COT costs to support GM estimated at $4-5mm/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 (loaded), plus facilities (depr., util., taxes, insur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 &amp; PUCT costs to support GM (if 3x) = $12 - 15m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 (loaded), T&amp;E, consultants/counsel,…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422-5ADB-4967-B1DB-19D1C56016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ut, the Return is Great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ir and open forum – democratic decision ma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keholder driven agenda and accoun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iberative, advance notice, no surpri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arent via published agendas, minutes and vo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portunity to ensure no issues are avoi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business outcomes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ous improvement to the Texas electric mar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ue of market benefits in excess of cost to change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1320" y="5562720"/>
            <a:ext cx="77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ERCOT rated the #1 competitive electric market in N. America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591A-530A-460D-A490-51F73055D0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eedback from MP’s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ff support performing well in many areas, could improve in other are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ignate and publish to each committee’s website a lead and alternate Staff person to attend and be responsible to each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ure there is a cross functional “internal ERCOT review” before staff present views in MP forum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“part of the problem may be a lack of consistency in who attends, which can lead to internal communication problems”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pare meeting locations in advance of the posted start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pare and distribute minutes of each TAC, Subcommittees, Task Forces and Work Group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“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t is not fair to ask someone who is representing their company to be saddled with note taking”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 the number of employees that attend various meetings – only those that have a direct responsibility to the meeting or the a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71B-883C-4E95-8ECC-3789BA6A8B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incipal Change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, named ERCOT Staff member for each standing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ponsible to serve the needs of the committee in pursuit of its mission,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coordinate internally, the broader ERCOT Staff in support of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d role and responsi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 of individual performance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regular check points with body leadership and commit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B9E-16B9-4494-A747-6F9A832006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5920" y="5791320"/>
            <a:ext cx="21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nctional Experti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5560" y="431964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siness, Market 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&amp;R Impa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3176640"/>
            <a:ext cx="299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nge Management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ocols and ot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kt. Rule Docu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0800" y="2286000"/>
            <a:ext cx="153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licy Mak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2120" y="1652760"/>
            <a:ext cx="27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cc00"/>
                </a:solidFill>
                <a:uFillTx/>
                <a:latin typeface="Arial"/>
              </a:rPr>
              <a:t>Key Contribution to Mark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599616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454824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249084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3557520"/>
            <a:ext cx="685800" cy="1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867280" y="454824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599616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249084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3557520"/>
            <a:ext cx="685800" cy="1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89080" y="228600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Board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Dire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7640" y="335268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PRS, TA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89080" y="4343400"/>
            <a:ext cx="13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WMS, R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ROS, CO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90520" y="5715000"/>
            <a:ext cx="17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Task Force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Working Grou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84920" y="5691240"/>
            <a:ext cx="208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ropri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siness Manag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42160" y="228600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ecutive T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22200" y="1728720"/>
            <a:ext cx="30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cc00"/>
                </a:solidFill>
                <a:uFillTx/>
                <a:latin typeface="Arial"/>
              </a:rPr>
              <a:t>Key Coordination w/in ERC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87080" y="4243320"/>
            <a:ext cx="2149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nctional Dire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amp; Office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l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S, Rules and 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61240" y="340524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ecutive T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4440" y="330120"/>
            <a:ext cx="77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he Right Type of Contribution to the Governance Mo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he Right Level of Coordination within ERC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286000" y="4929120"/>
            <a:ext cx="4191120" cy="914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2895120" y="3709800"/>
            <a:ext cx="3505320" cy="685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2590560" y="2642760"/>
            <a:ext cx="3809880" cy="685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05E6-10CD-4442-B1D3-F4EFDB0491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971800" y="3159000"/>
            <a:ext cx="1752480" cy="15004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609480"/>
            <a:ext cx="114300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i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058760"/>
            <a:ext cx="1219320" cy="39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eeting Infrastructu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4359240"/>
            <a:ext cx="12193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1509840"/>
            <a:ext cx="1371600" cy="21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chedule Meeting Spaces – SS (B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anage Acquisition – SS (B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V Requirement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ater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ost on Web Calendar – SS (BA/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acilitate Scheduling/Coordinate Conflicts – SS (B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659480"/>
            <a:ext cx="22860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otice for Call (market and internal)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 Draft Agenda –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view action items from prior meeting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-facilitation of Agenda Call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inalize Agenda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otify Specific ERCOT Staff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Internal Communication (internal clients/requested participants)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istribute Agenda and post to web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52480" y="1058760"/>
            <a:ext cx="1371600" cy="39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ERCOT Meeting Prep (internal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52480" y="1509840"/>
            <a:ext cx="182880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ordinate presentation materials from internal author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chedule Preparation Meeting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ticipate, Discuss, Establish ERCOT answer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otify/Discuss Emerging Issue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istribute/Post ERCOT Presentations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57600" y="1058760"/>
            <a:ext cx="1371600" cy="39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ERCOT Meeting Prep (external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1509840"/>
            <a:ext cx="13716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llow up with external presenter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ceive/Distribute Presentations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ost presentations to web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3309840"/>
            <a:ext cx="137160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cc00"/>
                </a:solidFill>
                <a:latin typeface="Arial"/>
              </a:rPr>
              <a:t>Final Brief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3535200"/>
            <a:ext cx="1828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Schedule meeting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Facilitate Conference Bridge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Internal Coordination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Meeting Notice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Co-Facilitate Meeting -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1058760"/>
            <a:ext cx="1600200" cy="39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eeting Day Coordin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1584360"/>
            <a:ext cx="190512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ign in Sheets/Record Attendance into Minutes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nt Cards/Set-up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ceive and Manage Proxies/Alt. Reps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esentation Setup/Preparation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eeting Minutes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ordinate Tech Support – SS (B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Internal Summary/Action item development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RCOT Presentations – SME/MP/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sponse to Market Inquiries – SM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Voting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acilitate lunch focus group/intrameeting group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RCOT Charge Approval (offsite)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RCOT Input coordination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Quality/Feedback process, compilation, tracking -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91520" y="1058760"/>
            <a:ext cx="160020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Post Mee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91520" y="1434960"/>
            <a:ext cx="1523880" cy="35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inutes – Draft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Incorporate Comments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ublish/Distribute for Comment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ublish Internal Summary/Action Items –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ntact key ERCOT Staff on assignments and emerging issue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Update and publish final presentations to web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mail Vote Facilitation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otice/deadlin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mpiling vot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sult notic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view/Approve costs meeting costs (room, catering, AV) – SS (B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Offsite service/quality assessment – SS (B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9144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51920" y="1284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1284120"/>
            <a:ext cx="0" cy="307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752480" y="1434960"/>
            <a:ext cx="0" cy="307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4510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12096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29200" y="1209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86600" y="12096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383544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4120" y="1209600"/>
            <a:ext cx="0" cy="262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1522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 Requirements for TAC/Subcommittee Meeting 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C2E-4A7E-4BBB-8E38-643EBA3498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08:36:53Z</dcterms:created>
  <dc:creator>Richard Gruber</dc:creator>
  <dc:description/>
  <dc:language>en-US</dc:language>
  <cp:lastModifiedBy>A. Boren</cp:lastModifiedBy>
  <dcterms:modified xsi:type="dcterms:W3CDTF">2005-02-24T22:28:32Z</dcterms:modified>
  <cp:revision>27</cp:revision>
  <dc:subject/>
  <dc:title>Slide 1</dc:title>
</cp:coreProperties>
</file>