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29C-98B7-4AD0-ADBE-B76420F2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401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163-5751-45C9-B99D-194228EF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564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46F-E09C-4A2A-B45F-CF6199F4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756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668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756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668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340-39F6-4871-AD51-DB0CBEF9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11DA-C1C1-4F5D-8F15-CC8C6758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C892-A355-473E-AA72-7451DA88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B92C-DDB0-4EF8-87A5-16543144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6174-72CC-41C0-9FA8-8DDB4516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9F61-4E2F-4391-92EA-74424068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15998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3089-84CF-4B29-9894-8C61D4A9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7B17-0078-4442-82A6-F090A7DD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47C-5C1E-489A-8DF6-D49E414A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564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FC44-CB79-4C4D-B5A8-91E58B01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D7E4-F954-47F5-A24B-82AF88A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401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405D-2E5C-4FE9-A28C-5D231190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564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E7A0-8217-44CD-8006-7D0EF8F1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756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668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756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668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AEF6-ED64-4192-BDC7-901800DF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B34-9840-4292-8FDF-3036542A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AEA-938E-412F-BDF5-FAE24889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AC5-E65B-4DB8-A535-50E86866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15998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ABA-AB7E-4CF4-B114-87DA7B41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DF4-71B3-4797-B47A-C3A1BB55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564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8CB-9054-4459-899E-C36460E3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C27-4B26-4537-A86C-E74E7EE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58672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F5B8-5882-4F6B-A720-3A04FBA4A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619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2120" y="586728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66688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2940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2A34-4E70-4AC7-9918-3BBD36A89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Participants/PublicMarketInfo/PublicMarketInformation.htm" TargetMode="External"/><Relationship Id="rId3" Type="http://schemas.openxmlformats.org/officeDocument/2006/relationships/hyperlink" Target="http://www.ercot.com/Participants/PublicMarketInfo/PublicMarketInformation.ht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619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COT Security Upd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350496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yant Tam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 of Security (Interi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bruary 3,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mmary of Issues Discussed in Security C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COT will establish a working group with MPs to address ERCOT security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 to set up a secure process for this purp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COT Asset Classification Polic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 policy under internal ERCOT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t Classification is being develo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be released to MPs for review before finaliz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ical Electric Infrastructure Information (CEII) should be safeguarded so it is not made publ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sion of Data and Information to M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MPs are notified if systematic method of providing data to MPs is modified by ERC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disclosure Agre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ERCOT going to require them at corporate or individual level for MP compani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ly no encryption of data transferred via private links between ERCOT and M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RC 1300, NAESB, FTP, Unsecured Email ex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mmary of Issues Discussed in Security C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COT.C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920" y="1600200"/>
          <a:ext cx="8534160" cy="4176720"/>
        </p:xfrm>
        <a:graphic>
          <a:graphicData uri="http://schemas.openxmlformats.org/drawingml/2006/table">
            <a:tbl>
              <a:tblPr/>
              <a:tblGrid>
                <a:gridCol w="2655720"/>
                <a:gridCol w="1411200"/>
                <a:gridCol w="1646280"/>
                <a:gridCol w="282096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ation of Returned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ttp://www.ercot.com/Participants/PublicMarketInfo/index.h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ack Start Contract Information -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ack Start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ttp://www.ercot.com/Participants/Blackstart.h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ack Start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ttp://www.ercot.com/Participants/registration/QSE.ht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I specifications, ICCP, RTU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ttp://www.ercot.com/Training/default.cfm?func=viewmaterial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ining documents that may contain maps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COT.C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066680"/>
          <a:ext cx="8458200" cy="5367600"/>
        </p:xfrm>
        <a:graphic>
          <a:graphicData uri="http://schemas.openxmlformats.org/drawingml/2006/table">
            <a:tbl>
              <a:tblPr/>
              <a:tblGrid>
                <a:gridCol w="2632320"/>
                <a:gridCol w="1398600"/>
                <a:gridCol w="1631880"/>
                <a:gridCol w="27954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ation of Returned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ttp://www.ercot.com/Training/default.cfm?func=viewoldmaterial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ining documents that may contain maps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ttp://www.ercot.com/Participants/PublicMarketInfo/RMR.ht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MR unit capa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ttps://tmlretail.ercot.com/ercot/Participants/PublicMarketInfo/RMR.h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Digital Certificate required to acces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ttp://www.ercot.com/Participants/PublicMarketInfo/index.ht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ystem Disturbance Repo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pability of units involved in the analysis of the Bryan College Station ou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http://www.ercot.com/Participants/PublicMarketInfo/PublicMarketInformation.htm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illary services folder / RMR Deploy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MR unit capa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ea typeface="Times New Roman"/>
                          <a:hlinkClick r:id="rId3"/>
                        </a:rPr>
                        <a:t>http://www.ercot.com/Participants/PublicMarketInfo/PublicMarketInformation.htm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source Plan Detai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source plans including capa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ttp://www.ercot.com/Participants/FTPReplacement/index.ht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munication Stand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 with the Asset Classification policy &amp; proc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COT.COM review &amp; reinstatement of non-sensitive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e necessary protocol revisions and work with industry to get these approv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security controls to ensure the handling of sensitive / confidential information is aligned with the new polic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ll the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ep working with your ERCOT conta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approving essential / urgent items on as needed basis. In a few cases you may see changes in the handling of information exchange. Each case is a one-of-kind ev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209320" y="759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COT.COM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 to Move Forwar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4571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yant Tamb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tamby@ercot.c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12.225.70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981080"/>
            <a:ext cx="678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7:22:40Z</dcterms:created>
  <dc:creator>jkaczmarek</dc:creator>
  <dc:description/>
  <dc:language>en-US</dc:language>
  <cp:lastModifiedBy>Ann Boren</cp:lastModifiedBy>
  <dcterms:modified xsi:type="dcterms:W3CDTF">2005-02-07T22:03:49Z</dcterms:modified>
  <cp:revision>12</cp:revision>
  <dc:subject>Powerpoint Presentation</dc:subject>
  <dc:title>ERCOT Security</dc:title>
</cp:coreProperties>
</file>