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B312-F6CD-4E56-A724-849A8FBC5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8833-16E6-45D4-B95D-AFFBD062E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AA26-62D3-4FF5-A560-7D13D5AC3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D89E-75CF-4EB8-8EC3-5B5184A88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77BF-A7F8-4B02-8AC0-B4637ABB3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DE16-43DA-45DE-8884-F042D49FE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1CB5-5DE7-4766-8BE3-F9BC835BB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1BB5-25D3-4DFE-8A52-49694159E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CD9A-0283-4F10-BFFC-34C7C3616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80D3-C315-48F1-968F-9BAAC89B7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DAC6-F8CB-4814-B681-13AD05DAA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AF17-3E23-430C-9DB2-AF49B5776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7EAF2-EF72-4B03-B74B-0EBF5C591B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1828800" cy="9824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984240"/>
            <a:ext cx="9144000" cy="8244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Commercial Operations </a:t>
            </a: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Working Group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Update to TA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95280" y="46483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ebruary 3,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OPS Upda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1143000"/>
            <a:ext cx="8381880" cy="67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Elections were held.  BJ Flowers Chair, Judy Briscoe Vice Ch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onfirmed DEWG Leadership.  Zach Collard Chair, Michael Walters Vice Chair.  All other working groups were encouraged to schedule meetings to elect new lead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eviewed draft PRR to reduce Initial Settlement from 17 to 10 days.  Good discussion – will suggest PRS send to COPS for continued re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eviewed data impacts of PRR 548, ERCOT staff to provide recommendations in F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cheduled additional ADR Task Force meeting for Feb 18,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4T11:17:23Z</dcterms:created>
  <dc:creator>cpsc600</dc:creator>
  <dc:description/>
  <dc:language>en-US</dc:language>
  <cp:lastModifiedBy>Registered User</cp:lastModifiedBy>
  <dcterms:modified xsi:type="dcterms:W3CDTF">2005-01-31T16:39:13Z</dcterms:modified>
  <cp:revision>109</cp:revision>
  <dc:subject/>
  <dc:title>Point-to-Point</dc:title>
</cp:coreProperties>
</file>