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B32-3E1C-4B02-A817-E3D42E53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9CA-40D3-4AEE-8997-34C078F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F0C-BECF-49A3-BF5E-F41103E3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A7D-093C-4F90-A818-4346ABD8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099-0F99-49AE-B8EA-EF6CAAEA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8B7-DFD0-49AD-9015-3A113997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087-ABEC-40C8-990E-588C306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EB8-674E-49E5-8CE0-86442B9D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5E4-C7DB-4897-BE6F-7C9D2E94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E24-263A-423C-B125-227000F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8A6-9DB4-4328-9FDC-0DAC650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BA7-8FDB-428F-A4D8-83F2A5A8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5356-3E75-4F55-B88F-090AEDD683F8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762-3838-4A48-8779-2CEFF1628E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140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AC Upd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4653000"/>
            <a:ext cx="71056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ip Dogget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cilitator, Texas Nodal Tea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ebruary 3, 200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RCOT Protocol Develop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conomist Iss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12 Vo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285-988F-41AD-B11C-45698E9B8F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3C467-18F2-4EA4-B751-665A7BF8A9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RCOT Protocol Develop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und 2 started November 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leted Round 2 final review of all sections that should remain unchanged by the economist’s comment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leted Round 1b intermediate review of sections impacted by economist’s comments on January 18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und 2 final review of sections impacted by economist’s comments scheduled to begin January 31 and finish in early March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B33-5574-4C63-B2D0-A69CC1D94F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1ED8C-3078-4132-B5E4-EF3163DD8B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 Issu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History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79246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n November 8, we decided to adopt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ddition of Co-Optimization of AS and energy in the Day-Ahead Energy Market (DAE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in the Reliability Unit Commitment (RUC) allocation multip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ion of a demand curve for a small quantity of Responsive Reserv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e decided not to adopt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 must-offer in DA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RCOT “pre-commitment” of units in DAEM that it deems required for the following operating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ny zonal allocation of RUC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location of Congestion Revenue Rights to Lo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n November 15, we decided to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quest ROS’s review of Section 6.8.2 Uninstructed Resource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dopt Greer’s proposed DAEM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dopt fully funded CRRs, with offer floors, CRRs not sold on radial lines with resource on either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dopt alternate settlement for CRR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dopt allocation of CRR Auction Revenues to Lo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6B6-4F49-40F0-A503-D95A91AA07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5D7C5-20FB-4E63-A614-06D82F2DA3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 Issu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cussed on December 12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ddition of Real-Time Co-Optimization of AS and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y changes in CRR ownership reporting rules or li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y changes to address Wolak’s cross-subsidy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y additional mitigation to address physical withho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y additional requirements of the IMM to restrict virtual tr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y mitigation of Ancillar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bility of QSEs to adjust Output Schedules up to time of SCED 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 will have further discussion on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ddition of Real-Time Co-Optimization of AS and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bility of QSEs to adjust Output Schedules up to time of SCED 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y changes adopted will be incorporated in the Round 2 Protocol review proces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715-5CDA-4252-968C-8F13D78B42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42CC5-593B-4FA0-942F-86BBEB6AE7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January 12 Voting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440000"/>
          <a:ext cx="8101080" cy="475452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2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 the revised language under Section 0.6.2 (5), which states that the RUC process will use 150% of verifiable costs (for Resources that did not submit a 3-part supply offer) instead of the 2-step process originally described in the whitepap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Alternative B under Section 0.6.2 (6), which treats the inability of a Resource to provide Ancillary Services as a forced ou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voice vote with one abstention by Direct Energ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e motion failed by a ballot vote of  24% in favor and 76% oppose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680-E44F-488D-B9C8-9000A2CA844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27FEF-406F-4743-A288-7B327C9578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 Doggett</cp:lastModifiedBy>
  <dcterms:modified xsi:type="dcterms:W3CDTF">2005-01-26T22:19:26Z</dcterms:modified>
  <cp:revision>3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