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5F7-0DC7-48EC-9FEA-C58D52D6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1B0-720F-4D4B-8F97-C886C259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628-5062-4C00-89D9-1AE64861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09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0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28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09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90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11D-AAB0-4C79-8435-2137A609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4ED1-F471-401D-8719-B8EE8A25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7FCC-13A1-4C38-9FAA-A5EFC940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8AD8-0A4C-4336-BC70-2782A39A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841B-3EC6-47BD-8618-4B5EB247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9208-A43C-4FDF-A7CD-13574297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3000" y="1219320"/>
            <a:ext cx="693432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5BD1-3A38-44F5-B23D-2DBD0D52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518A-CAA8-4896-AA31-75E1D391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1D8-63CF-4DD0-8569-09777F98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9714-9FE4-4323-869C-F5AC7A8D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9B46-D247-451D-A284-6638312C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3964-61EE-4C0D-8DC8-F936DDFE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BC04-0FA3-4490-9373-198E9876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09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90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8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09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90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E477-2491-4646-A32A-B4250407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6E11-F1C7-4192-B972-31BADDE8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A14-C25A-4372-B6C0-46825D6A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EE4-519D-49E4-BADB-B4B2C586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1219320"/>
            <a:ext cx="693432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CE2-444F-4EB1-8759-CE16F7BC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FF6-0694-451C-8EAD-B7256580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30A-F918-467E-9A90-CF8A736E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A89-438B-47ED-B80A-0B0BEC8D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2352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CE03-550E-46C3-BE31-6ED138047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0"/>
            <a:ext cx="21337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219320"/>
            <a:ext cx="868680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5960" y="6405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405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62560" y="6405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653F-69D3-424C-A8E5-E3DBCB56C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0"/>
            <a:ext cx="21337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68680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438280" y="5486040"/>
            <a:ext cx="55627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bruary 3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ail Market Subcommittee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pdate to TAC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44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S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5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my Weathersbee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5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 Conn –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est Schedule for Flight 0405, 0605 and 1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44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303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30320" y="5638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02720" y="5638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6384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3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686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0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26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881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5024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3604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2133720"/>
            <a:ext cx="24382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ight V2.0A -0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8560" y="59436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41600" y="59436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0760" y="59436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02000" y="594360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23040" y="5943600"/>
            <a:ext cx="45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9640" y="5943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56040" y="594360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7800" y="59436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2040" y="59436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98200" y="594360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07320" y="594360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41920" y="594360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680" y="5867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16280" y="5562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6520" y="16002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/18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514600" y="182844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163400">
            <a:off x="1864080" y="1483200"/>
            <a:ext cx="157320" cy="1143000"/>
          </a:xfrm>
          <a:custGeom>
            <a:avLst/>
            <a:gdLst>
              <a:gd name="textAreaLeft" fmla="*/ 0 w 157320"/>
              <a:gd name="textAreaRight" fmla="*/ 56880 w 157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3200" y="175248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13200">
            <a:off x="5979240" y="3391200"/>
            <a:ext cx="152280" cy="12938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44956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05 Flight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/04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362320" y="42670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63080" y="373392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5410080"/>
            <a:ext cx="30481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ight V2.0-1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 &amp; V2.1 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13200">
            <a:off x="7998480" y="4726440"/>
            <a:ext cx="81000" cy="1143000"/>
          </a:xfrm>
          <a:custGeom>
            <a:avLst/>
            <a:gdLst>
              <a:gd name="textAreaLeft" fmla="*/ 0 w 81000"/>
              <a:gd name="textAreaRight" fmla="*/ 29160 w 810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0640" y="5359320"/>
            <a:ext cx="13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5 Flight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/17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1720" y="495288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Wk.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5638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705360" y="36576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03800" y="3174840"/>
            <a:ext cx="206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/9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/30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tingency 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4114800"/>
            <a:ext cx="3124440" cy="4572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ight V2.0A -07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3124080"/>
            <a:ext cx="2971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 V2.0A -04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w C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03600" y="2489040"/>
            <a:ext cx="206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/24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/10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tingency 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648320" y="27432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54800" y="266688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0640" y="3232080"/>
            <a:ext cx="105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05 Fligh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2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447920" y="34290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8686800" y="464832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05920" y="3886200"/>
            <a:ext cx="83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/16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163400">
            <a:off x="3998160" y="2473920"/>
            <a:ext cx="156960" cy="1143000"/>
          </a:xfrm>
          <a:custGeom>
            <a:avLst/>
            <a:gdLst>
              <a:gd name="textAreaLeft" fmla="*/ 0 w 156960"/>
              <a:gd name="textAreaRight" fmla="*/ 56520 w 156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5909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5909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53080" y="5943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5943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358128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358128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45720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45720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373392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47242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53080" y="6324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53341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3341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66416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out Period for Existing C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22255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-up D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/9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36196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32004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-up D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/8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266720" y="371808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449568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-up D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/21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781680" y="502920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44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Flight Schedule for Flight 0405, 0605 and 1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Market” primary driver fo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from 100 days to 62 or 76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31% sh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added to time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MS approved current schedule in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changes are in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ting Ite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211400" y="1600200"/>
          <a:ext cx="6797520" cy="4800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1400" y="1600200"/>
                    <a:ext cx="67975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44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93840" y="1600200"/>
          <a:ext cx="6630840" cy="4800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3840" y="1600200"/>
                    <a:ext cx="66308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Extract Working Group Moving from RMS to C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523880"/>
            <a:ext cx="7391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01:50Z</dcterms:created>
  <dc:creator>CF48</dc:creator>
  <dc:description/>
  <dc:language>en-US</dc:language>
  <cp:lastModifiedBy>Kristy Tyra</cp:lastModifiedBy>
  <dcterms:modified xsi:type="dcterms:W3CDTF">2005-01-28T19:08:42Z</dcterms:modified>
  <cp:revision>49</cp:revision>
  <dc:subject/>
  <dc:title>RMS Report to TAC 6/3/04</dc:title>
</cp:coreProperties>
</file>