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AF6D2-83D9-46C4-9A43-A10BD4002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63A24-2D2E-4418-87C6-0DA61ADA5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0B1CC-264F-4A2C-AA7D-BC67D9F35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DD051-B944-4D25-AEE7-B8F961E39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8D3EA-2F27-47A0-9671-5BECD2961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2B934-3233-4836-A64F-05BDD1C1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F9C33-F505-4F3B-A225-ACBBD4F84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59726-DB52-4D31-8C43-E47F3CE62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C8752-4C03-4958-8C59-0BB499CF0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4499C-8C5D-4E36-A8A3-FCDD3953D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0B451-309E-41ED-8930-CB8DEAE9C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C06DB-2288-4FE5-AED7-7E030FBA6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1C59-8935-4EB4-AAB0-A1B16D5EA1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599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i="1" lang="en-US" sz="4800" spc="-1" strike="noStrike">
                <a:solidFill>
                  <a:srgbClr val="ffff00"/>
                </a:solidFill>
                <a:latin typeface="Arial"/>
              </a:rPr>
              <a:t>Reliability and Operations Subcommittee Report on Reliable Fuel Operations in ERCOT</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609480" y="4572000"/>
            <a:ext cx="7925040" cy="1828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esentation to the</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RCOT Technical Advisory Committee</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ebruary 3, 2005</a:t>
            </a:r>
            <a:endParaRPr b="0" lang="en-US" sz="32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liable Fuel Operations in ERCOT</a:t>
            </a:r>
            <a:endParaRPr b="0" lang="en-US" sz="3200" spc="-1" strike="noStrike">
              <a:solidFill>
                <a:srgbClr val="ffff00"/>
              </a:solidFill>
              <a:latin typeface="Times New Roman"/>
            </a:endParaRPr>
          </a:p>
        </p:txBody>
      </p:sp>
      <p:sp>
        <p:nvSpPr>
          <p:cNvPr id="6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sed on survey results, available oil capacity would be exceeded at a 47, 704 peak load (peak mw less amount of expected solid fuel plus hydro) if there were more than a 51% curtailment of the projected gas requiremen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y loss of gas supply beyond this implies load shedding and likewise, any less oil capacity or solid fuel capacity also implies load shedding. This calculation is subject to any applicable FOR adjust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liable Fuel Operations in ERCOT</a:t>
            </a:r>
            <a:endParaRPr b="0" lang="en-US" sz="3200" spc="-1" strike="noStrike">
              <a:solidFill>
                <a:srgbClr val="ffff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commended Solution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examine ERCOT Emergency Procedures </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as transmission system status – improvements, pre-determined priorities for users, etc.</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view possibility of market incentives and regulatory relief to augment reliable fuel operation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liable Fuel Operations in ERCOT</a:t>
            </a:r>
            <a:endParaRPr b="0" lang="en-US" sz="3200" spc="-1" strike="noStrike">
              <a:solidFill>
                <a:srgbClr val="ffff00"/>
              </a:solidFill>
              <a:latin typeface="Times New Roman"/>
            </a:endParaRPr>
          </a:p>
        </p:txBody>
      </p:sp>
      <p:sp>
        <p:nvSpPr>
          <p:cNvPr id="4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OS has developed the following assumption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inter Peak Load – 45, 433 MW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January 24, 2003</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ow temps.  - coast 30 degrees, north 16 degree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vere Winter Peak Forecast – 47, 704 MW</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5% severe weather adde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liable Fuel Operations in ERCOT</a:t>
            </a:r>
            <a:endParaRPr b="0" lang="en-US" sz="3200" spc="-1" strike="noStrike">
              <a:solidFill>
                <a:srgbClr val="ffff00"/>
              </a:solidFill>
              <a:latin typeface="Times New Roman"/>
            </a:endParaRPr>
          </a:p>
        </p:txBody>
      </p:sp>
      <p:sp>
        <p:nvSpPr>
          <p:cNvPr id="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ccording to the National Weather Servic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983 and 1989 are the coldest Decembers on record for the Houston area since 1889. The next coldest occurred in 196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istorical Forced Outage Rate for winter season – 10.5 to 1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liable Fuel Operations in ERCOT</a:t>
            </a:r>
            <a:endParaRPr b="0" lang="en-US" sz="3200" spc="-1" strike="noStrike">
              <a:solidFill>
                <a:srgbClr val="ffff00"/>
              </a:solidFill>
              <a:latin typeface="Times New Roman"/>
            </a:endParaRPr>
          </a:p>
        </p:txBody>
      </p:sp>
      <p:sp>
        <p:nvSpPr>
          <p:cNvPr id="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lternative Fuel Survey Results  </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atural Gas </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mary Fuel of 82% of Registered Units in ERCOT</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presents 75% of MW Capacity</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olid Fuel (Lignite, Coal, Nuclear)</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mary Fuel of 12%</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presents 23% of MW Capacity</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uel Oil – 21, 798 MW</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ual Fuel Capable 28%</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presents 31% of MW Capacity</a:t>
            </a:r>
            <a:endParaRPr b="0" lang="en-US" sz="2400" spc="-1" strike="noStrike">
              <a:solidFill>
                <a:srgbClr val="ffffff"/>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liable Fuel Operations in ERCOT</a:t>
            </a:r>
            <a:endParaRPr b="0" lang="en-US" sz="3200" spc="-1" strike="noStrike">
              <a:solidFill>
                <a:srgbClr val="ffff00"/>
              </a:solidFill>
              <a:latin typeface="Times New Roman"/>
            </a:endParaRPr>
          </a:p>
        </p:txBody>
      </p:sp>
      <p:sp>
        <p:nvSpPr>
          <p:cNvPr id="5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uel Oil Continu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perational Dual Fuel Units – 81%</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il Start-up 48%</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presents 31% of MW Capacity</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as Co-fired 39%</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presents 59% of MW Capacity</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uel Oil Testin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gularly Test 51%</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presents 53% of MW Capacity</a:t>
            </a:r>
            <a:endParaRPr b="0" lang="en-US" sz="24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liable Fuel Operations in ERCOT</a:t>
            </a:r>
            <a:endParaRPr b="0" lang="en-US" sz="3200" spc="-1" strike="noStrike">
              <a:solidFill>
                <a:srgbClr val="ffff00"/>
              </a:solidFill>
              <a:latin typeface="Times New Roman"/>
            </a:endParaRPr>
          </a:p>
        </p:txBody>
      </p:sp>
      <p:graphicFrame>
        <p:nvGraphicFramePr>
          <p:cNvPr id="52" name=""/>
          <p:cNvGraphicFramePr/>
          <p:nvPr/>
        </p:nvGraphicFramePr>
        <p:xfrm>
          <a:off x="338040" y="1736640"/>
          <a:ext cx="8618760" cy="4449960"/>
        </p:xfrm>
        <a:graphic>
          <a:graphicData uri="http://schemas.openxmlformats.org/presentationml/2006/ole">
            <p:oleObj progId="Excel.Sheet.12" r:id="rId1" spid="">
              <p:embed/>
              <p:pic>
                <p:nvPicPr>
                  <p:cNvPr id="53" name="" descr=""/>
                  <p:cNvPicPr/>
                  <p:nvPr/>
                </p:nvPicPr>
                <p:blipFill>
                  <a:blip r:embed="rId2"/>
                  <a:stretch/>
                </p:blipFill>
                <p:spPr>
                  <a:xfrm>
                    <a:off x="338040" y="1736640"/>
                    <a:ext cx="8618760" cy="4449960"/>
                  </a:xfrm>
                  <a:prstGeom prst="rect">
                    <a:avLst/>
                  </a:prstGeom>
                  <a:ln w="0">
                    <a:noFill/>
                  </a:ln>
                </p:spPr>
              </p:pic>
            </p:oleObj>
          </a:graphicData>
        </a:graphic>
      </p:graphicFrame>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liable Fuel Operations in ERCOT</a:t>
            </a:r>
            <a:endParaRPr b="0" lang="en-US" sz="3200" spc="-1" strike="noStrike">
              <a:solidFill>
                <a:srgbClr val="ffff00"/>
              </a:solidFill>
              <a:latin typeface="Times New Roman"/>
            </a:endParaRPr>
          </a:p>
        </p:txBody>
      </p:sp>
      <p:pic>
        <p:nvPicPr>
          <p:cNvPr id="55" name="" descr=""/>
          <p:cNvPicPr/>
          <p:nvPr/>
        </p:nvPicPr>
        <p:blipFill>
          <a:blip r:embed="rId1"/>
          <a:stretch/>
        </p:blipFill>
        <p:spPr>
          <a:xfrm>
            <a:off x="457200" y="838080"/>
            <a:ext cx="8304120" cy="586764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Reliable Fuel Operations in </a:t>
            </a:r>
            <a:r>
              <a:rPr b="1" i="1" lang="en-US" sz="3200" spc="-1" strike="noStrike">
                <a:solidFill>
                  <a:srgbClr val="ffff00"/>
                </a:solidFill>
                <a:latin typeface="Arial"/>
              </a:rPr>
              <a:t>ERCOT</a:t>
            </a:r>
            <a:r>
              <a:rPr b="1" i="1"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ariab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eneration – no obligation to serv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intenance Schedules – no coordination of planned Resource mainten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oads – Relaxed Balanced Sched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RCOT Emergency Procedures – no notification in advance of need for oil</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as curtailments of generation can also curtail some loads.</a:t>
            </a:r>
            <a:endParaRPr b="0" lang="en-US" sz="2800" spc="-1" strike="noStrike">
              <a:solidFill>
                <a:srgbClr val="ffffff"/>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liable Fuel Operations in ERCOT</a:t>
            </a:r>
            <a:endParaRPr b="0" lang="en-US" sz="32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ariables continued:</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ile there are known gas capability or supply problems during periods of high demand, there are market incentives to continue to build efficient gas units.</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market incentive to “mothball” older units with poor heat rates may also reduce those units with dual fuel capability.</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4T03:13:47Z</dcterms:created>
  <dc:creator>i013996</dc:creator>
  <dc:description/>
  <dc:language>en-US</dc:language>
  <cp:lastModifiedBy>Rick Keetch</cp:lastModifiedBy>
  <dcterms:modified xsi:type="dcterms:W3CDTF">2005-01-31T19:50:50Z</dcterms:modified>
  <cp:revision>60</cp:revision>
  <dc:subject/>
  <dc:title>Protocol Revision  Subcommittee</dc:title>
</cp:coreProperties>
</file>