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55C9B-0878-4AE9-82CA-89108DB721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67C98-9A5A-48D0-9468-2573D768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D2255-720F-4060-A720-EB7B578C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5F108-A00C-4A0D-953A-2DC11CBFD8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AA702-5006-4D94-BF24-65489EF1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3E53F-5481-41E0-91BF-F8A94128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1872B-3DDF-4444-82DE-79CE9D5A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8F60C-CBEE-4776-8D58-19A7DED1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2FD61-370E-4944-A00B-1861D581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52E56-5297-4B4B-9DCF-B22BEC03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06039-EE93-4862-81ED-FD56FAAD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5A62B-835A-4AA1-A117-B8AFAF9E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436D-C446-44BF-9966-F8943A8A1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57200" y="272880"/>
            <a:ext cx="1603440" cy="8589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5" name=""/>
          <p:cNvSpPr/>
          <p:nvPr/>
        </p:nvSpPr>
        <p:spPr>
          <a:xfrm>
            <a:off x="419040" y="1152360"/>
            <a:ext cx="8255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rcot.com/tmaps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46120" y="95256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cccc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System Operations Updat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uth and West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gion Planning Group Meetings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echnical Advisory Committe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January 3, 2004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55680" y="147240"/>
            <a:ext cx="685800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00 MW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312920" y="1538280"/>
          <a:ext cx="6997680" cy="2436840"/>
        </p:xfrm>
        <a:graphic>
          <a:graphicData uri="http://schemas.openxmlformats.org/drawingml/2006/table">
            <a:tbl>
              <a:tblPr/>
              <a:tblGrid>
                <a:gridCol w="1324080"/>
                <a:gridCol w="1458720"/>
                <a:gridCol w="1390680"/>
                <a:gridCol w="1333440"/>
                <a:gridCol w="1490760"/>
              </a:tblGrid>
              <a:tr h="517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cCam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bile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xisting 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50 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,200 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ew 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,150 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,250 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,400 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,800 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,900 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,500 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,600 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,000 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d006c"/>
                      </a:solidFill>
                    </a:lnL>
                    <a:lnR w="5760">
                      <a:solidFill>
                        <a:srgbClr val="0d006c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5760">
                      <a:solidFill>
                        <a:srgbClr val="0d006c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d006c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598320" y="4224240"/>
            <a:ext cx="8320320" cy="22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Total estimated cost of transmission upgrades is approximately $1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Based on 345kV development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765kV option appeared higher in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TAC should consider an impact analysis of the integration of 5,000 MW of renewable generation in the ERCOT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01360" y="1288800"/>
            <a:ext cx="7467480" cy="39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outh Region Planning Group Meeting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 Region Planning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Must Run Alternatives (MRAs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0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view of the process for procuring MRAs and obtaining input from Stakeholders on the technical characteristics of MRAs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0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RCOT will issue RFPs for MRAs in most instanc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gional Planning Group (RPG)  will have opportunity to comment to ERCOT on technical requirement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PG and TAC will have opportunity to comment to ERCOT on technical characteristics of short-listed proposal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0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RCOT will be issuing a RFP for MRAs to the Laredo RMR contract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raft technical requirements to be included in the RFP presented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ments on technical requirements due 02/10/2005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 Region Planning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Houston Import Projec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results of ERCOT’s independent economic analysis of the Houston Area Import Project was presente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01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wo similar options were found to result in the most production cost savings relative to their cost 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oth options include the upgrade of the Jewett to Tomball / THWharton 345kV double circuit and a new 345kV circuit between STP and Parish 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capital cost difference between the two options is about $20M 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01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ments due to ERCOT by 02/04/2005 on qualitative factors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01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RCOT’s recommendation will be presented to TAC and the Board in March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 Region Planning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49120" y="1311120"/>
            <a:ext cx="8640720" cy="52419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1997280" y="1317600"/>
            <a:ext cx="4825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Houston Import Project – 2 Preferred Op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 Region Planning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RMR Exit Statu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0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EP presented a status report on the transmission projects that must be completed in order for the Sempra RMR contracts to be exite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 more information, the presentations from the WRPG and SPG meeting are posted at: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tmaps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eting Agen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9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est RPG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January 26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cCamey Construction Status Report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004 McCamey Study by ERCO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active Plan for McCame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ynamic Ratings for McCamey Lin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tential use of SPS for McCamey Wind Gener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pgrading Terminal Equipment to Meet or Exceed Conductor Rating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5,000 MW and 10,000 MW Renewable Studies for TEPC and TREIA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52520" y="1600200"/>
            <a:ext cx="400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outh RPG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January 27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RA Implementation Proces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ates MRA RFP Updat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aredo MRA Technical Requiremen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tential MRA for Laredo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ouston Import Project Review Updat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3840" y="6095880"/>
            <a:ext cx="79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Both meetings held in Taylor with large turn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24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TION INTERCONNECTION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06400" y="1660680"/>
          <a:ext cx="8105760" cy="4389120"/>
        </p:xfrm>
        <a:graphic>
          <a:graphicData uri="http://schemas.openxmlformats.org/drawingml/2006/table">
            <a:tbl>
              <a:tblPr/>
              <a:tblGrid>
                <a:gridCol w="2512800"/>
                <a:gridCol w="1476360"/>
                <a:gridCol w="1411560"/>
                <a:gridCol w="1371600"/>
                <a:gridCol w="1333440"/>
              </a:tblGrid>
              <a:tr h="823320">
                <a:tc>
                  <a:txBody>
                    <a:bodyPr lIns="4572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ctive Generation Interconnection Reque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RTH PLANNING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OUTH PLANNING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EST PLANNING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OTAL ERC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45720" r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ecurity Screening Stu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45720" r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SS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45720" r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ull Interconnect Stu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45720" r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IS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45720" r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terconnection Agreement Complet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 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 &amp; 1 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45720" r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apacity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,6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,4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,5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,6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45720" r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ind MW (under developm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,8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,4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,2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682560"/>
            <a:ext cx="9144000" cy="6175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043520" cy="1082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CO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ST TEX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0904000">
            <a:off x="4430520" y="3819600"/>
            <a:ext cx="245880" cy="1162080"/>
          </a:xfrm>
          <a:prstGeom prst="ellipse">
            <a:avLst/>
          </a:prstGeom>
          <a:solidFill>
            <a:srgbClr val="80008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4699400">
            <a:off x="6456240" y="3965400"/>
            <a:ext cx="365040" cy="1593720"/>
          </a:xfrm>
          <a:prstGeom prst="ellipse">
            <a:avLst/>
          </a:prstGeom>
          <a:solidFill>
            <a:srgbClr val="80008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4835000">
            <a:off x="4766040" y="4633200"/>
            <a:ext cx="208080" cy="504720"/>
          </a:xfrm>
          <a:prstGeom prst="ellipse">
            <a:avLst/>
          </a:prstGeom>
          <a:solidFill>
            <a:srgbClr val="80008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5499200">
            <a:off x="1992960" y="4649040"/>
            <a:ext cx="1857600" cy="1782720"/>
          </a:xfrm>
          <a:prstGeom prst="ellipse">
            <a:avLst/>
          </a:prstGeom>
          <a:solidFill>
            <a:srgbClr val="99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7133600">
            <a:off x="5392440" y="4487400"/>
            <a:ext cx="236520" cy="890640"/>
          </a:xfrm>
          <a:prstGeom prst="ellipse">
            <a:avLst/>
          </a:prstGeom>
          <a:solidFill>
            <a:srgbClr val="80008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4326800">
            <a:off x="7340400" y="2058480"/>
            <a:ext cx="203400" cy="752400"/>
          </a:xfrm>
          <a:prstGeom prst="ellipse">
            <a:avLst/>
          </a:prstGeom>
          <a:solidFill>
            <a:srgbClr val="80008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747200">
            <a:off x="8118360" y="1795320"/>
            <a:ext cx="203040" cy="1098360"/>
          </a:xfrm>
          <a:prstGeom prst="ellipse">
            <a:avLst/>
          </a:prstGeom>
          <a:solidFill>
            <a:srgbClr val="80008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85920" y="6415200"/>
            <a:ext cx="1307880" cy="296280"/>
          </a:xfrm>
          <a:prstGeom prst="wedgeRoundRectCallout">
            <a:avLst>
              <a:gd name="adj1" fmla="val 37726"/>
              <a:gd name="adj2" fmla="val -1898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2003 -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83440" y="5769000"/>
            <a:ext cx="1803240" cy="592200"/>
          </a:xfrm>
          <a:prstGeom prst="wedgeRoundRectCallout">
            <a:avLst>
              <a:gd name="adj1" fmla="val -81773"/>
              <a:gd name="adj2" fmla="val -20066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Completed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4920" y="182520"/>
            <a:ext cx="1839600" cy="592200"/>
          </a:xfrm>
          <a:prstGeom prst="wedgeRoundRectCallout">
            <a:avLst>
              <a:gd name="adj1" fmla="val 76648"/>
              <a:gd name="adj2" fmla="val 32035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Completed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21600" y="155520"/>
            <a:ext cx="1765080" cy="296280"/>
          </a:xfrm>
          <a:prstGeom prst="wedgeRoundRectCallout">
            <a:avLst>
              <a:gd name="adj1" fmla="val -5222"/>
              <a:gd name="adj2" fmla="val 64902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Projected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5307200">
            <a:off x="3690720" y="4333680"/>
            <a:ext cx="184320" cy="1768680"/>
          </a:xfrm>
          <a:prstGeom prst="ellipse">
            <a:avLst/>
          </a:prstGeom>
          <a:solidFill>
            <a:srgbClr val="ff66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9670200">
            <a:off x="2644200" y="4581000"/>
            <a:ext cx="144360" cy="908280"/>
          </a:xfrm>
          <a:prstGeom prst="ellipse">
            <a:avLst/>
          </a:prstGeom>
          <a:solidFill>
            <a:srgbClr val="ff66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4040" y="1263600"/>
            <a:ext cx="142560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45 kV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45 kV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ith GIA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38 k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68400" y="1959120"/>
            <a:ext cx="577800" cy="601560"/>
          </a:xfrm>
          <a:prstGeom prst="ellipse">
            <a:avLst/>
          </a:prstGeom>
          <a:solidFill>
            <a:srgbClr val="ff66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51120" y="1200240"/>
            <a:ext cx="612720" cy="614160"/>
          </a:xfrm>
          <a:prstGeom prst="ellipse">
            <a:avLst/>
          </a:prstGeom>
          <a:solidFill>
            <a:srgbClr val="80008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68400" y="2705040"/>
            <a:ext cx="577800" cy="601560"/>
          </a:xfrm>
          <a:prstGeom prst="ellipse">
            <a:avLst/>
          </a:prstGeom>
          <a:solidFill>
            <a:srgbClr val="99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33640" y="5927760"/>
            <a:ext cx="1803600" cy="592200"/>
          </a:xfrm>
          <a:prstGeom prst="wedgeRoundRectCallout">
            <a:avLst>
              <a:gd name="adj1" fmla="val -7754"/>
              <a:gd name="adj2" fmla="val -27041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Completed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78640" y="6216480"/>
            <a:ext cx="1803240" cy="592200"/>
          </a:xfrm>
          <a:prstGeom prst="wedgeRoundRectCallout">
            <a:avLst>
              <a:gd name="adj1" fmla="val -91634"/>
              <a:gd name="adj2" fmla="val -27788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Completed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744480"/>
            <a:ext cx="9144000" cy="6113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675320" cy="127944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COT West Texas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nd In-Service &amp; Public Under Develo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5751200">
            <a:off x="2058120" y="4885200"/>
            <a:ext cx="1001520" cy="1489320"/>
          </a:xfrm>
          <a:prstGeom prst="ellipse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79440" y="6396120"/>
            <a:ext cx="955800" cy="296280"/>
          </a:xfrm>
          <a:prstGeom prst="wedgeRoundRectCallout">
            <a:avLst>
              <a:gd name="adj1" fmla="val 63439"/>
              <a:gd name="adj2" fmla="val -23798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755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5751200">
            <a:off x="5076360" y="3420720"/>
            <a:ext cx="219240" cy="222120"/>
          </a:xfrm>
          <a:prstGeom prst="ellipse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5751200">
            <a:off x="5022720" y="3716280"/>
            <a:ext cx="218880" cy="222120"/>
          </a:xfrm>
          <a:prstGeom prst="ellipse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5751200">
            <a:off x="3677760" y="2804760"/>
            <a:ext cx="219240" cy="222120"/>
          </a:xfrm>
          <a:prstGeom prst="ellipse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5751200">
            <a:off x="1440" y="4565520"/>
            <a:ext cx="218880" cy="222120"/>
          </a:xfrm>
          <a:prstGeom prst="ellipse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751200">
            <a:off x="3675600" y="3813840"/>
            <a:ext cx="223920" cy="250920"/>
          </a:xfrm>
          <a:prstGeom prst="ellipse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1440" y="3600360"/>
            <a:ext cx="831960" cy="296280"/>
          </a:xfrm>
          <a:prstGeom prst="wedgeRoundRectCallout">
            <a:avLst>
              <a:gd name="adj1" fmla="val -67513"/>
              <a:gd name="adj2" fmla="val 29283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75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47920" y="2341440"/>
            <a:ext cx="993600" cy="296280"/>
          </a:xfrm>
          <a:prstGeom prst="wedgeRoundRectCallout">
            <a:avLst>
              <a:gd name="adj1" fmla="val 88462"/>
              <a:gd name="adj2" fmla="val 131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160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20920" y="2805120"/>
            <a:ext cx="831600" cy="296280"/>
          </a:xfrm>
          <a:prstGeom prst="wedgeRoundRectCallout">
            <a:avLst>
              <a:gd name="adj1" fmla="val 227625"/>
              <a:gd name="adj2" fmla="val 35315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41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56160" y="6361200"/>
            <a:ext cx="831960" cy="296280"/>
          </a:xfrm>
          <a:prstGeom prst="wedgeRoundRectCallout">
            <a:avLst>
              <a:gd name="adj1" fmla="val -87194"/>
              <a:gd name="adj2" fmla="val -88628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38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92440" y="1571760"/>
            <a:ext cx="1098360" cy="296280"/>
          </a:xfrm>
          <a:prstGeom prst="wedgeRoundRectCallout">
            <a:avLst>
              <a:gd name="adj1" fmla="val 169921"/>
              <a:gd name="adj2" fmla="val 589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150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99360" y="6056280"/>
            <a:ext cx="1028520" cy="296280"/>
          </a:xfrm>
          <a:prstGeom prst="wedgeRoundRectCallout">
            <a:avLst>
              <a:gd name="adj1" fmla="val -140268"/>
              <a:gd name="adj2" fmla="val -75982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114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88040" y="5251320"/>
            <a:ext cx="1078200" cy="296280"/>
          </a:xfrm>
          <a:prstGeom prst="wedgeRoundRectCallout">
            <a:avLst>
              <a:gd name="adj1" fmla="val -27638"/>
              <a:gd name="adj2" fmla="val -55946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225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5751200">
            <a:off x="7203960" y="3576600"/>
            <a:ext cx="218880" cy="222120"/>
          </a:xfrm>
          <a:prstGeom prst="ellipse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5751200">
            <a:off x="5340240" y="3813120"/>
            <a:ext cx="218880" cy="222120"/>
          </a:xfrm>
          <a:prstGeom prst="ellipse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43280" y="6391440"/>
            <a:ext cx="831960" cy="296280"/>
          </a:xfrm>
          <a:prstGeom prst="wedgeRoundRectCallout">
            <a:avLst>
              <a:gd name="adj1" fmla="val 100000"/>
              <a:gd name="adj2" fmla="val -88676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89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5751200">
            <a:off x="4928760" y="3757320"/>
            <a:ext cx="219240" cy="222120"/>
          </a:xfrm>
          <a:prstGeom prst="ellipse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1120" y="5715000"/>
            <a:ext cx="968400" cy="296280"/>
          </a:xfrm>
          <a:prstGeom prst="wedgeRoundRectCallout">
            <a:avLst>
              <a:gd name="adj1" fmla="val -52449"/>
              <a:gd name="adj2" fmla="val -35266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175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5751200">
            <a:off x="1080" y="4668480"/>
            <a:ext cx="219240" cy="222120"/>
          </a:xfrm>
          <a:prstGeom prst="ellipse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55520" y="133200"/>
            <a:ext cx="2605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 1842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4352 MW with gas gener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66920" y="2295360"/>
            <a:ext cx="939600" cy="296280"/>
          </a:xfrm>
          <a:prstGeom prst="wedgeRoundRectCallout">
            <a:avLst>
              <a:gd name="adj1" fmla="val 204384"/>
              <a:gd name="adj2" fmla="val 39259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20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5751200">
            <a:off x="3667680" y="3521520"/>
            <a:ext cx="223920" cy="250920"/>
          </a:xfrm>
          <a:prstGeom prst="ellipse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4 McCamey Study 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64800" y="1545840"/>
            <a:ext cx="771228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arge improvement with the 138 kV McCamey projec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ransfer capability varies with fossil dispatch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500-700 MW export capability when comple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Voltage control problems observed above        600 MW generation expor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345 kV lines were approved to be built when McCamey generation commits to 1,500 MW to 2,000 MW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ith additional improvements, projects increase the transfer capability from 760 MW to more than 2000 MW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P Presentation on McCame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er Lim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ension monitors on limiting lines were installed by AEP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io Pecos to Crane 138 kV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rth McCamey to Big Lake 138 kV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posal is to adjust line ratings dynamically in the McCamey area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ind drives both production and line rating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pected to provide significant increase in capacit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ssible enough to meet all 755MW of installed wind resourc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y remaining line overload exposures may be handled  with Special Protection Scheme(s)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360" y="1288800"/>
            <a:ext cx="7467480" cy="39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5,000 MW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newable Generation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 West Region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ough Order of Magnitude Study for TEPC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900000"/>
            <a:ext cx="9144000" cy="6176880"/>
            <a:chOff x="0" y="900000"/>
            <a:chExt cx="9144000" cy="617688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0" y="900000"/>
              <a:ext cx="9144000" cy="61768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103" name=""/>
            <p:cNvSpPr/>
            <p:nvPr/>
          </p:nvSpPr>
          <p:spPr>
            <a:xfrm flipV="1">
              <a:off x="5133960" y="5023800"/>
              <a:ext cx="405000" cy="46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43640" y="5028840"/>
              <a:ext cx="114120" cy="1857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62440" y="5214600"/>
              <a:ext cx="281160" cy="50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952960" y="5066640"/>
              <a:ext cx="181080" cy="142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6153120" y="5042880"/>
              <a:ext cx="538200" cy="19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96000" y="4895280"/>
              <a:ext cx="147600" cy="1285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6853320" y="4728600"/>
              <a:ext cx="71280" cy="1522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6924600" y="4571280"/>
              <a:ext cx="390600" cy="1479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338720" cy="173052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OT West Tex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y of Additions,   345kV Altern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33920" y="231840"/>
            <a:ext cx="1945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tal 5,000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f Wind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35200" y="4535640"/>
            <a:ext cx="415800" cy="56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86040" y="5396040"/>
            <a:ext cx="85680" cy="47520"/>
          </a:xfrm>
          <a:custGeom>
            <a:avLst/>
            <a:gdLst/>
            <a:ahLst/>
            <a:rect l="l" t="t" r="r" b="b"/>
            <a:pathLst>
              <a:path w="54" h="30">
                <a:moveTo>
                  <a:pt x="0" y="0"/>
                </a:moveTo>
                <a:cubicBezTo>
                  <a:pt x="22" y="12"/>
                  <a:pt x="45" y="25"/>
                  <a:pt x="54" y="3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371840" y="3833640"/>
            <a:ext cx="257400" cy="1167120"/>
            <a:chOff x="4371840" y="3833640"/>
            <a:chExt cx="257400" cy="1167120"/>
          </a:xfrm>
        </p:grpSpPr>
        <p:sp>
          <p:nvSpPr>
            <p:cNvPr id="116" name=""/>
            <p:cNvSpPr/>
            <p:nvPr/>
          </p:nvSpPr>
          <p:spPr>
            <a:xfrm>
              <a:off x="4371840" y="3833640"/>
              <a:ext cx="204840" cy="238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86400" y="4095720"/>
              <a:ext cx="42840" cy="90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281560" y="3857400"/>
            <a:ext cx="2857320" cy="666720"/>
            <a:chOff x="5281560" y="3857400"/>
            <a:chExt cx="2857320" cy="666720"/>
          </a:xfrm>
        </p:grpSpPr>
        <p:sp>
          <p:nvSpPr>
            <p:cNvPr id="119" name=""/>
            <p:cNvSpPr/>
            <p:nvPr/>
          </p:nvSpPr>
          <p:spPr>
            <a:xfrm flipH="1" flipV="1">
              <a:off x="5815080" y="3957480"/>
              <a:ext cx="218880" cy="144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81560" y="3857400"/>
              <a:ext cx="2857320" cy="666720"/>
              <a:chOff x="5281560" y="3857400"/>
              <a:chExt cx="2857320" cy="666720"/>
            </a:xfrm>
          </p:grpSpPr>
          <p:sp>
            <p:nvSpPr>
              <p:cNvPr id="121" name=""/>
              <p:cNvSpPr/>
              <p:nvPr/>
            </p:nvSpPr>
            <p:spPr>
              <a:xfrm flipV="1">
                <a:off x="7301160" y="4051800"/>
                <a:ext cx="212040" cy="472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7512120" y="3857400"/>
                <a:ext cx="62676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 flipV="1">
                <a:off x="7092000" y="3978000"/>
                <a:ext cx="400680" cy="23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 flipV="1">
                <a:off x="6030720" y="3968640"/>
                <a:ext cx="1027800" cy="9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281560" y="4116960"/>
                <a:ext cx="74880" cy="644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488360" y="3982680"/>
                <a:ext cx="75240" cy="6912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5347080" y="3959280"/>
                <a:ext cx="466920" cy="185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624040" y="4815000"/>
            <a:ext cx="119160" cy="71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47880" y="4900680"/>
            <a:ext cx="19080" cy="628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62280" y="5533920"/>
            <a:ext cx="109440" cy="954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878200" y="5565600"/>
            <a:ext cx="866880" cy="6696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747960" y="5181480"/>
            <a:ext cx="919440" cy="385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381560" y="4029120"/>
            <a:ext cx="233280" cy="1152360"/>
            <a:chOff x="4381560" y="4029120"/>
            <a:chExt cx="233280" cy="1152360"/>
          </a:xfrm>
        </p:grpSpPr>
        <p:sp>
          <p:nvSpPr>
            <p:cNvPr id="134" name=""/>
            <p:cNvSpPr/>
            <p:nvPr/>
          </p:nvSpPr>
          <p:spPr>
            <a:xfrm>
              <a:off x="4381560" y="4029120"/>
              <a:ext cx="185760" cy="2142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6680" y="4248000"/>
              <a:ext cx="38160" cy="9334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386240" y="4010040"/>
            <a:ext cx="91440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657680" y="4919760"/>
            <a:ext cx="85680" cy="218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48040" y="4914720"/>
            <a:ext cx="285840" cy="46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48280" y="4919760"/>
            <a:ext cx="52200" cy="61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586400"/>
            <a:ext cx="76320" cy="712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4629240" y="4633560"/>
            <a:ext cx="466560" cy="3286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9480" y="2967120"/>
            <a:ext cx="8064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58080" y="3424320"/>
            <a:ext cx="8064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862240" y="3500280"/>
            <a:ext cx="21924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124680" y="2809800"/>
            <a:ext cx="1023840" cy="67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33960" y="5019840"/>
            <a:ext cx="1581120" cy="20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0520" y="4562640"/>
            <a:ext cx="581040" cy="5284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896240" y="5100480"/>
            <a:ext cx="152280" cy="590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58240" y="5695920"/>
            <a:ext cx="371520" cy="47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096400" y="3633840"/>
            <a:ext cx="199800" cy="218880"/>
            <a:chOff x="8096400" y="3633840"/>
            <a:chExt cx="199800" cy="218880"/>
          </a:xfrm>
        </p:grpSpPr>
        <p:sp>
          <p:nvSpPr>
            <p:cNvPr id="151" name=""/>
            <p:cNvSpPr/>
            <p:nvPr/>
          </p:nvSpPr>
          <p:spPr>
            <a:xfrm flipH="1" flipV="1">
              <a:off x="8096400" y="3733920"/>
              <a:ext cx="33120" cy="1188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8101080" y="3633840"/>
              <a:ext cx="147600" cy="100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63080" y="3638520"/>
              <a:ext cx="33120" cy="428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 flipV="1">
            <a:off x="8477280" y="3405240"/>
            <a:ext cx="42840" cy="38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348760" y="3338280"/>
            <a:ext cx="509400" cy="404640"/>
            <a:chOff x="8348760" y="3338280"/>
            <a:chExt cx="509400" cy="404640"/>
          </a:xfrm>
        </p:grpSpPr>
        <p:sp>
          <p:nvSpPr>
            <p:cNvPr id="156" name=""/>
            <p:cNvSpPr/>
            <p:nvPr/>
          </p:nvSpPr>
          <p:spPr>
            <a:xfrm flipV="1">
              <a:off x="8348760" y="3443040"/>
              <a:ext cx="123840" cy="2998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524800" y="3414600"/>
              <a:ext cx="2764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8810640" y="3338280"/>
              <a:ext cx="47520" cy="810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8010360" y="2790720"/>
            <a:ext cx="562320" cy="1382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997520" y="3108240"/>
            <a:ext cx="1235160" cy="119556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78360" y="3862440"/>
            <a:ext cx="914400" cy="91440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08320" y="5288040"/>
            <a:ext cx="914400" cy="91440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3560000">
            <a:off x="4472280" y="4542480"/>
            <a:ext cx="825840" cy="639720"/>
          </a:xfrm>
          <a:prstGeom prst="ellipse">
            <a:avLst/>
          </a:prstGeom>
          <a:solidFill>
            <a:srgbClr val="bbe0e3">
              <a:alpha val="6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9980000">
            <a:off x="5719320" y="2813040"/>
            <a:ext cx="2178000" cy="433440"/>
          </a:xfrm>
          <a:prstGeom prst="ellipse">
            <a:avLst/>
          </a:prstGeom>
          <a:solidFill>
            <a:srgbClr val="bbe0e3">
              <a:alpha val="6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20760000">
            <a:off x="5119560" y="4473360"/>
            <a:ext cx="2643480" cy="699840"/>
          </a:xfrm>
          <a:prstGeom prst="ellipse">
            <a:avLst/>
          </a:prstGeom>
          <a:solidFill>
            <a:srgbClr val="bbe0e3">
              <a:alpha val="6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0760000">
            <a:off x="2671560" y="5268600"/>
            <a:ext cx="2114280" cy="485640"/>
          </a:xfrm>
          <a:prstGeom prst="ellipse">
            <a:avLst/>
          </a:prstGeom>
          <a:solidFill>
            <a:srgbClr val="bbe0e3">
              <a:alpha val="6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3000000">
            <a:off x="2330640" y="4764960"/>
            <a:ext cx="892080" cy="538200"/>
          </a:xfrm>
          <a:prstGeom prst="ellipse">
            <a:avLst/>
          </a:prstGeom>
          <a:solidFill>
            <a:srgbClr val="bbe0e3">
              <a:alpha val="6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3822200">
            <a:off x="4700880" y="5731560"/>
            <a:ext cx="2632320" cy="640080"/>
          </a:xfrm>
          <a:prstGeom prst="ellipse">
            <a:avLst/>
          </a:prstGeom>
          <a:solidFill>
            <a:srgbClr val="bbe0e3">
              <a:alpha val="6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0760000">
            <a:off x="4071960" y="3666960"/>
            <a:ext cx="2643120" cy="700200"/>
          </a:xfrm>
          <a:prstGeom prst="ellipse">
            <a:avLst/>
          </a:prstGeom>
          <a:solidFill>
            <a:srgbClr val="bbe0e3">
              <a:alpha val="6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0760000">
            <a:off x="6377040" y="3494160"/>
            <a:ext cx="2643120" cy="699840"/>
          </a:xfrm>
          <a:prstGeom prst="ellipse">
            <a:avLst/>
          </a:prstGeom>
          <a:solidFill>
            <a:srgbClr val="bbe0e3">
              <a:alpha val="6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3500000">
            <a:off x="7131600" y="5045760"/>
            <a:ext cx="1641600" cy="639720"/>
          </a:xfrm>
          <a:prstGeom prst="ellipse">
            <a:avLst/>
          </a:prstGeom>
          <a:solidFill>
            <a:srgbClr val="bbe0e3">
              <a:alpha val="6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2840000">
            <a:off x="7848720" y="2565000"/>
            <a:ext cx="979200" cy="639720"/>
          </a:xfrm>
          <a:prstGeom prst="ellipse">
            <a:avLst/>
          </a:prstGeom>
          <a:solidFill>
            <a:srgbClr val="bbe0e3">
              <a:alpha val="6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96960" y="6537240"/>
            <a:ext cx="1162080" cy="296280"/>
          </a:xfrm>
          <a:prstGeom prst="wedgeRoundRectCallout">
            <a:avLst>
              <a:gd name="adj1" fmla="val 37828"/>
              <a:gd name="adj2" fmla="val -165893"/>
              <a:gd name="adj3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1900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74880" y="2616120"/>
            <a:ext cx="1128960" cy="366840"/>
          </a:xfrm>
          <a:prstGeom prst="wedgeRectCallout">
            <a:avLst>
              <a:gd name="adj1" fmla="val 65328"/>
              <a:gd name="adj2" fmla="val 313634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1500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59080" y="1922400"/>
            <a:ext cx="1050840" cy="366840"/>
          </a:xfrm>
          <a:prstGeom prst="wedgeRectCallout">
            <a:avLst>
              <a:gd name="adj1" fmla="val 125680"/>
              <a:gd name="adj2" fmla="val 313634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1600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2200" y="5581800"/>
            <a:ext cx="0" cy="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4:05:47Z</dcterms:created>
  <dc:creator>dwoodfin</dc:creator>
  <dc:description/>
  <dc:language>en-US</dc:language>
  <cp:lastModifiedBy>Ann Boren</cp:lastModifiedBy>
  <dcterms:modified xsi:type="dcterms:W3CDTF">2005-02-07T22:03:10Z</dcterms:modified>
  <cp:revision>1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95511568</vt:r8>
  </property>
  <property fmtid="{D5CDD505-2E9C-101B-9397-08002B2CF9AE}" pid="3" name="_AuthorEmail">
    <vt:lpwstr>bbojorquez@ercot.com</vt:lpwstr>
  </property>
  <property fmtid="{D5CDD505-2E9C-101B-9397-08002B2CF9AE}" pid="4" name="_AuthorEmailDisplayName">
    <vt:lpwstr>Bojorquez, Bill</vt:lpwstr>
  </property>
  <property fmtid="{D5CDD505-2E9C-101B-9397-08002B2CF9AE}" pid="5" name="_EmailSubject">
    <vt:lpwstr>TAC Presentation</vt:lpwstr>
  </property>
  <property fmtid="{D5CDD505-2E9C-101B-9397-08002B2CF9AE}" pid="6" name="_ReviewingToolsShownOnce">
    <vt:lpwstr/>
  </property>
</Properties>
</file>