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9DFC-5EBE-48BA-BDAB-E0365AB3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534-8993-45F6-8BC9-277C88DC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E512-E27D-4D97-9AF2-0026C5B6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F62-0A41-4DF3-9F17-A33B32D2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1B2-EF2C-4CCA-B3E3-246420FF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0B6-DDF0-420C-8437-15BE03C3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A5A-7466-4D34-8CEC-E4022188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E49-D88A-4DDE-9D28-1F05667E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685440"/>
            <a:ext cx="72388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DDE9-C0A8-4984-B6E8-E78B40FF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6F3-AD54-4DDC-BA72-B321CC4D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DC75-619F-4E68-994A-81976197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0751-EF48-4809-9742-031DE077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68544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8F71-3DBB-4A38-9017-BE48B769D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ugust 18, 2004 DCS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llow-up to Final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68544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Areas for Follow-Up Tracking and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s been done to date with ERCOT’s action i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DCWG reviewed August 18, 2004 DCS event report and provided comments on possible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has addressed procedures to manually deploy additional resources in a slow frequency re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R is in draft form to address EECP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R to be released soon for ERCOT internal 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es operator deployment of RRS once the first 33% has been automatically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ERCOT frequency bias and automatic RRS deployment strategy in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change recommended related to automatic RRS dep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DCWG has suggested a lower b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68544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Areas for Follow-Up Tracking and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been done to date on QSE action i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Compliance will send out letters (February 4, 2005) to the QSEs based on the PDCWG’s sugg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-up questions will explore whether the QSEs corrected the problems that caused a slow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letters due by February 18,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68544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Areas for Follow-Up Tracking and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follow-up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 Operator / TD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U has addressed improved breaker testing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process to identify field wiring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e Protocol 6.10.5.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protocol measurements do not address QSE performance in DCS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iance will work with ROS to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urbance Control Performance Adju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C Resources Subcommittee (RS) met in late Janu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waiver was given, bu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dditional RRS is required since ERCOT already carries more than necessary, 2300 M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0 MW RRS required, 109 MW penalty, equates to 1359 MW now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00 MW exceeds ERCOT’s requirement of 1359 M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68544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MMS and State Estimator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of telemetry/telemetry in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ing plant tripped off line but telemetry did not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estimator not likely to alert an operator on August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ing transmission data to supplement QS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MS group developing ICCP feature as a backup to RTU data; not in service on August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State Estimator (SE) show any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in service at time of event and working prope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feeds Real-time Contingency Analysis (RTCA), which primarily addresses 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68544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base Load on August 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load occurred at 9:22: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qua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sp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9:22:07 to 9:31: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load occurred at 10:49: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qua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sp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10:49:39 to 11:08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database load took place because of an issue with the database archiv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with network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has no known impact on frequency control (deployment of RRS, regu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quality was normal at the time of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5:53:46Z</dcterms:created>
  <dc:creator>lrobinson</dc:creator>
  <dc:description/>
  <dc:language>en-US</dc:language>
  <cp:lastModifiedBy>Ann Boren</cp:lastModifiedBy>
  <dcterms:modified xsi:type="dcterms:W3CDTF">2005-02-07T22:04:23Z</dcterms:modified>
  <cp:revision>29</cp:revision>
  <dc:subject/>
  <dc:title>Aug 18 Event Update</dc:title>
</cp:coreProperties>
</file>