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2149-3B6E-4CF5-A34E-0AD3D7AB0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26FC-5EAF-483C-9C22-71C068908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769A-50D5-4FDF-BF3B-D54E30A58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26BE-1D77-4537-A3D2-1F4D8E84D3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AF7A-1413-4FFB-9900-36AB033161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633A-5788-4813-8817-887BBA87A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F1CA-71DD-499C-A5AB-3399C5C53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850F-57BC-44B1-AAB2-6E78B9A92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1CC6-B8CC-44A5-BB9B-D08732B0A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07C7-8657-41CF-8192-06ECAEF6A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8563-2246-41B0-B648-C4632D01D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5ED2-8EE1-4582-B6EA-815EED4F6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5A97-78E7-4E9E-AED0-08B66B22C6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6960" y="2133720"/>
            <a:ext cx="72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lternative Fuel Survey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5053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liability and Operations Subcommittee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cember 15th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esented by ERCOT Client Re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8440" y="1579680"/>
            <a:ext cx="89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Can the unit operate on Automatic Generation Control (AG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en using 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21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960" y="411480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Operational on AGC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5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5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7400" y="173196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Can the unit start up on 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21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960" y="4114800"/>
            <a:ext cx="730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Start up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 Answer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5200" y="1752480"/>
            <a:ext cx="85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Can the unit operate at maximum capacity using only 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lternative fuel or does it need a combination of prim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nd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21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" y="4114800"/>
            <a:ext cx="913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Operation at 100% Capacit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lt. Fuel Onl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0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ed Mixtur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9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ptional (Alt Fuel only or Mix)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9200" y="1579680"/>
            <a:ext cx="899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f a combination of fuels is needed to operate the uni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at is the percentage of alternative fuel needed to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t the unit’s maximum capac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6880" y="3505320"/>
            <a:ext cx="72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47 operational dual fuel capable units that need a mix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0480" y="4648320"/>
            <a:ext cx="81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Operation at 100% Capacit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Alternate Fuel needed at 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ed Mixtur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40560" y="15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Do you regularly test the unit’s ability to operate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21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080" y="411480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Regularly Tested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9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2800" y="1579680"/>
            <a:ext cx="715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f yes, how often do you test the unit’s ability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operate on 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9480" y="3276720"/>
            <a:ext cx="70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62 operational dual fuel capable units that test regular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5080" y="4114800"/>
            <a:ext cx="822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Testing Period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6 Month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-12 Month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-2 Year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6080" y="180828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Do you maintain alternative fuel invento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21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4191120"/>
            <a:ext cx="91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Maintain Fuel Inventor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5040" y="1876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3960" y="1884240"/>
            <a:ext cx="85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Do you currently have air emission permits to operate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unit using the secondary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560" y="32767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21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5080" y="411480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Air Permit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50400" y="1447920"/>
            <a:ext cx="876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How many hours in a rolling 12 month period can the un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operate using its alternative fuel, at maximum sustain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capacity, 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complying with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 air e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lim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4960" y="327672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57 operational dual fuel capable units that respon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5080" y="3809880"/>
            <a:ext cx="822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Hours w/ Lim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10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1-2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1-3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5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01-4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01-5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0-1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9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01-2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01-5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00-876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39840" y="1676520"/>
            <a:ext cx="79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How many hours in a rolling 12 month period ca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unit operate using its alternative fuel, at maxim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sustainable capacity 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ignoring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 emissions lim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4960" y="327672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77 operational dual fuel capable units that respon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7640" y="3809880"/>
            <a:ext cx="793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Hours w/o Lim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1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4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5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1-2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1-3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01-4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01-5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0-1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01-2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01-5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00-876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4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5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5960" y="2214720"/>
            <a:ext cx="7593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as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rveys received as of:  December 1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a as provided in the surv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9560" y="144792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How many hours can the unit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using your current inventory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 of alternative fue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t its maximum sustainable capac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7640" y="3352680"/>
            <a:ext cx="793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Hours w/o Lim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1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-2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1-3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1-4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1-5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7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1-1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1-2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4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1-3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01-4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01-5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01-1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960" y="281952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84 operational dual fuel capable units that respon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08840" y="152244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ours of Operation on current inven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619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8840" y="152244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Hours of Operation on current inven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3818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7480" y="15238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f the unit's alternative fuel is oil, how many barrels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oil do you  currently maintain for all units at the pl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as invento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60" y="2819520"/>
            <a:ext cx="76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80 operational dual fuel capable units that reported invento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5960" y="3352680"/>
            <a:ext cx="878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Ranges of Inventory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Total Barrel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Percent of Inven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0-500K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210,00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0-200K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447,23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0-100K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1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,228,82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0-60K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2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843,82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-20K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2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314,53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-10K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1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84,61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OTAL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   80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3,129,035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           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8600" y="1731960"/>
            <a:ext cx="84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How many hours does it take to switch fuels and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the unit using its alternative fuel at its maxim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sustainable lim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04812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21 operational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5440" y="3587760"/>
            <a:ext cx="8038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Hours to Switch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6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5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6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38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1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7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8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7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2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0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6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5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3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2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2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4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8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2133720"/>
            <a:ext cx="8686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31240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0960" y="1800360"/>
            <a:ext cx="750348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rvey Participa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ource Entities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eration Units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rvey respond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ource Entities/Percentage -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7 / 93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eration Units/Percentage 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32 / 96.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W represented by Respondents 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7.2% of ERCOT To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0840" y="18813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at is the Unit’s Primary Fuel 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294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1400" y="2514600"/>
            <a:ext cx="822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Primary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atural Ga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3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ignit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ituminous Co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ub Bituminous Co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uclear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ind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urchased Steam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etroleum Cok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ndfill Ga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stillate Fuel O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9520" y="640080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ut of the 532 total units represented by survey respon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3000" y="1905120"/>
            <a:ext cx="81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s the Unit capable of operating on an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6280" y="4165560"/>
            <a:ext cx="840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Dual Fuel Capability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8%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82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2%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9%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8760" y="3174840"/>
            <a:ext cx="39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 all registered units in ERC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0240" y="6095880"/>
            <a:ext cx="87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dual fuel capable units (except 1) had Natural gas as the Primary F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5760" y="188424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at is the alternative fuel 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360" y="29718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7339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Alternate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stillate Fuel O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9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idual Fuel Oi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8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ther Ga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et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pan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atural Ga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83320" y="6218280"/>
            <a:ext cx="500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 – Diesel, No 1 Fuel Oil, No 2 Fuel Oil, No 4 Fuel 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2 – No 5 Fuel Oil, No 6 Fuel 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3 – Butane, Coal Processes, Coke-oven Coal, Methanol, Refinery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160" y="1608120"/>
            <a:ext cx="67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What is the unit’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maximum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net sustain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limit when using its alternative fu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581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Alternate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Registered Output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Max. Net Sustainable Output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stillate Fuel Oi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23,50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8,67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idual Fuel Oi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2,955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3,12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ther Ga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75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71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Jet Fue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16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15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pan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8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7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atural Ga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32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3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ot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27,777 M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3,040  MW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080" y="29718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50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600" y="1905120"/>
            <a:ext cx="89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Does the unit have the needed infrastructure in 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for alternative fuel delivery, storage, and fuel manag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960" y="411480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Infrastructure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47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8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3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6680" y="34290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50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32640" y="173196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Is the dual fuel capacity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currently operational</a:t>
            </a:r>
            <a:r>
              <a:rPr b="1" i="1" lang="en-US" sz="2400" spc="-1" strike="noStrike">
                <a:solidFill>
                  <a:srgbClr val="ffff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6680" y="327672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f the 150 dual fuel capable uni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411480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Operation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#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of Unit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% MW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21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1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2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9%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4:39:13Z</dcterms:created>
  <dc:creator>adeller</dc:creator>
  <dc:description/>
  <dc:language>en-US</dc:language>
  <cp:lastModifiedBy>Jeffrey Scott Miller</cp:lastModifiedBy>
  <dcterms:modified xsi:type="dcterms:W3CDTF">2004-12-14T20:53:31Z</dcterms:modified>
  <cp:revision>13</cp:revision>
  <dc:subject/>
  <dc:title>Slide 1</dc:title>
</cp:coreProperties>
</file>