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D77D-1479-4EF4-B94D-8B9230A3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7D32-A00A-42D9-BEAD-DF8FA2C9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839-F434-4C90-8FFD-630AB636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205D-D75B-4935-A36F-233CB1E9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996C-E80A-4825-961A-AA513344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1071-E83C-4635-B75E-1AACDFF9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E51B-696C-48E7-813A-3700591A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CC4-1CC9-4AFC-97BC-E80071A6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EF11-86AA-427F-8B04-CEE77AB2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E1DD-F5DB-479F-A9E9-3C0B70ED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A91-CBC7-4CB6-8A54-D584AACE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EEDA-F631-45E6-BCF7-36B43501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04DC-533B-46CD-B603-3843F8231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16765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COT Retail Marke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4 Accomplish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6F3D-A572-40DB-BED3-85F4F8F902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4 Accomplish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Quart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ne/July – Completed Test Flight 09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functionality successfully t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g – MIMO Successfully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gency plan not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MPs implemented on time and without major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Quart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t/Nov/Dec – Post Implementation Success Cri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rics show success in all areas communicated as Benefits Exp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ing to track metrics through First Quart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AB4-00AA-4C20-87A1-A4FB5F7CAA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251424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ight Testing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4 Accomplish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7C95-BE4E-4183-818C-ECBC895D39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4 Accomplish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4 Fl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01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titive Me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Tx SET Version 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05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MO/Sta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Tx SET Version 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09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 SET Version 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F90F-2752-45C2-80B7-A81D9FBC9A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4 Accomplish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4 Annual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New REPs successfully completed testing in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 Existing REPs successfully tested in new terri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Existing REPs successfully tested for D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Existing REPs successfully tested for Bank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Existing REPs successfully tested for change in EDI Prov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4,312 testing tasks were executed in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2004 test flights completed on time as scheduled with all testing completed success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 has been a very good year for testing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01CB-33D1-45AF-B494-D39C627DF2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4 Accomplish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y thanks to the following teams (since there are too many people to list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E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ED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Infrastructure and Net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Market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Retail &amp; Services Platform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Retail Client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Retail Market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Retail Testing &amp; Q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Production Support/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Stakeholder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Transactio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Web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MS, TX SET, TTPT, TDTWG, PWG, DEWG, COMET, MM and various task fo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probably many other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s again for everyone’s hard work and commitment ---each of YOU made this year a success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E726-EFED-49EE-93B2-F02257FF2B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4 Accomplish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ss Improv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ing RMS meetings to be issue based vs. working group status repo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ail Market Guides change control 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sions/updates to FasTrak Day-to-Day 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sions/updates to DEV 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F9B6-D098-4AAF-B0BD-33B98F003D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4 Accomplish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 Projects with ERCOT leading the Market Coordin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ESB V1.6 Market Implemen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 Research Pro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2.0 Solution to Stacking (MIMO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COT Lead proj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as Market Link – phase 1 (*third time’s a charm)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as Market Link – phase 2 (Retail Enhancement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et Participant Surv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641F-21EC-4C77-B8E7-E711CD38FB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4 Accomplish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COT Proactive repor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67 RCS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sing 86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nding CW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pping Status Reje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MO Exception Repor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 Cleanup Eff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Extract Variance Proc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ed Service 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stomer protection / 814_08 (phase 1, 2, 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454F-41AA-4D67-8540-3E49336BE0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386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RCO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04 Market Metr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ghlight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ail Market Analysis Team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81A3-B37E-478D-9356-DC59BAB7D8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3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4 Market Metr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0824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of 12-01-04, ERCOT systems have comple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14,578 Switch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,087,554 Move-I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,281,518 Move-Ou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95,698 Drops to POLR/ARE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21,067 Continuous Service Agre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8BDC-F2C6-4D22-A7FD-238305785B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3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4 Market Metr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87320" y="130824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of 12-01-04, ERCOT has proces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82,324 Switch Notification Mail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95,302 Move-In Postca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83,711 Drop to AREP Postca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ADD-E7DC-4AD3-AF0D-811264B2BB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16765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O Task Forc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 Coordination Team (MCT)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the Solution to Stacking including Tx SET Version 2.0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4 Accomplish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008C-3AB5-4309-83CB-A2399486B0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4 Accomplish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Quart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n/Feb - Conducted final Educational Semin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 Educational Seminars conducted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 470 participants atte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n/Feb/Mar/Apr – Tracked MP development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b – Communicated final Implementation Plan to 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– Communicated final Contingency Plan to 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Quart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r/May – Conducted UAT (Internal User-acceptance)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 600 test scripts executed – largest UAT effort in RECOT retail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– Began Test Flight 09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MIMO functionality with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629-C5CC-4722-977B-4D9D4EB9AB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12-10T00:34:05Z</dcterms:modified>
  <cp:revision>3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8340335</vt:r8>
  </property>
  <property fmtid="{D5CDD505-2E9C-101B-9397-08002B2CF9AE}" pid="3" name="_AuthorEmail">
    <vt:lpwstr>kwariner@ercot.com</vt:lpwstr>
  </property>
  <property fmtid="{D5CDD505-2E9C-101B-9397-08002B2CF9AE}" pid="4" name="_AuthorEmailDisplayName">
    <vt:lpwstr>Wariner, Kerry</vt:lpwstr>
  </property>
  <property fmtid="{D5CDD505-2E9C-101B-9397-08002B2CF9AE}" pid="5" name="_EmailSubject">
    <vt:lpwstr>RMS March 04.ppt</vt:lpwstr>
  </property>
  <property fmtid="{D5CDD505-2E9C-101B-9397-08002B2CF9AE}" pid="6" name="_PreviousAdHocReviewCycleID">
    <vt:r8>-1263327933</vt:r8>
  </property>
  <property fmtid="{D5CDD505-2E9C-101B-9397-08002B2CF9AE}" pid="7" name="_ReviewingToolsShownOnce">
    <vt:lpwstr/>
  </property>
</Properties>
</file>