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DB66-01FE-4EBD-A37D-2E31EABE5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944A-9D37-4A4F-BB22-4A4BEA3A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AA36-CCB2-482F-ABD2-BCB87116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D9D2-473C-47A2-AA59-CA86FDBE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452B-DE4D-41C3-8911-163BCD62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B76D-BED0-4B80-B7F9-0E1414D8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49AD-2F71-4050-98AD-9026A9F7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6BE6-AA2C-4357-BE87-3D0FFAD7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F4A0-586B-4A20-AA61-8E8B8558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6EF4-0C21-4158-93A4-7BB6BE0B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5AEA-B098-405C-8BCD-0B7C229B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37A2-682D-4386-8DCD-F316291E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14FB-9C4C-494D-AD16-1903E7F68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ssing 867 Report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F21D-64E6-481D-AA26-D8A7FB7457D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ERCOT FasTra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00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Day to Day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12-07-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28600" y="1066680"/>
          <a:ext cx="532440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532440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5791320" y="1295280"/>
            <a:ext cx="30477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127 New and In Progress Non-ERCOT issues, 9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are for the year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219320" y="3505320"/>
          <a:ext cx="6400800" cy="3195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505320"/>
                    <a:ext cx="6400800" cy="31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24E1-425A-4B38-AE2A-E90C4A9A0C2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ra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00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Day to Day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12-07-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62720" y="1447920"/>
            <a:ext cx="327636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199 New &amp; In Progress, 100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ESI IDs worked to date since January 1, 2004 = 219,98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24640" y="4343400"/>
            <a:ext cx="321444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3,211 New &amp; In Progress, 497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ber of ESI IDs not track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28600" y="1447920"/>
          <a:ext cx="518148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518148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CDC3-3D78-47EB-AF18-D6AC4E60B9B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rak Data Extract Varia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12-07-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28600" y="1371600"/>
          <a:ext cx="8686800" cy="437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8686800" cy="43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2133720" y="6095880"/>
            <a:ext cx="6019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o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Of the 270 New &amp; In Progress ERCOT Issues, 48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6CC6-71BE-4411-A172-87EBF0D343B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rak ERCOT Initiated Issue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12-07-04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981080"/>
            <a:ext cx="3124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4800600"/>
            <a:ext cx="69339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are issue initiated by ERCOT to the TDSP or CR as a result of one of the following projec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 Protection Period and 814.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67 Received on Canceled Service or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new issue types to support Energy Aggregation Management Department issue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838080" y="1447920"/>
          <a:ext cx="7419960" cy="288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47920"/>
                    <a:ext cx="7419960" cy="28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8451-862D-4A1F-A0FC-047D680013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219320"/>
            <a:ext cx="8610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867 Re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867 Report will provide TDSPs information about Service Orders in a scheduled state for which ERCOT has not received an 867 completing transaction at least seven days after the scheduled meter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ekly report provided to the TDSP via the ERCOT Por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ts Summar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8686800" cy="264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F940-CDEA-4759-8BCA-88CDA427F9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8520" y="1309680"/>
            <a:ext cx="8886960" cy="423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1ACD-917F-4FD9-9682-658B0E405D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493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C361-8D94-489C-83AF-0D576ACEDB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95280"/>
            <a:ext cx="9144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962520"/>
            <a:ext cx="8077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3B67-4519-4B81-BB9B-30A0EFE39A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1143000"/>
            <a:ext cx="8763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eriodically receives 867_03 Finals and 867_04s for service orders that are Canceled in ERCOT systems.  The Service Order Statuses that are considered Canceled are:  Canceled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manually or concurrent processing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celed by Customer Request, Canceled by Customer Objection, Canceled Permit Not Received, Canceled with Exception, Unexecutable and Rejected by TDSP.   This can indicate an out-of-sync condition between the TDSP and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Mechanism for Handling 867 RCS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RCOT produces 867RCSO data each Friday and submits a report file to each TDSP and CR via the ERCOT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TDSPs review the FasTrak line items and take one of the following a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ancell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further action i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omplet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y will initiate a day-to-day FasTrak issue and work with ERCOT to get ERCOT systems changed to complete.  Completion of canceled service orders will require the approval of the CR initiating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e: For Cancel by Customer Objection, the TDSP will honor the cancel in their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67s received on Canceled Service 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FD9B-955D-432D-93EA-88CCB38EA0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67s received on Canceled Service 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563868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ort above includes only data since August 2004 TX SET 2.0 Implementation   – due to changes in cancellation r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6019920" cy="4194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371600" y="205740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676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Raise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X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369D-9941-4F46-B659-1D0FD3C033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rak Issue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342900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3 Day-to-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4 Day-to-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Extract Variances (D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Initiated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3CAE-DCAB-4259-B294-956E42F544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COT FasTra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00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Day to Day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12-07-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34080" y="1733400"/>
            <a:ext cx="3105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ESI IDs worked on 2003 issues = 324,4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28600" y="1733400"/>
          <a:ext cx="5400720" cy="26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33400"/>
                    <a:ext cx="5400720" cy="26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0B7B-074A-4640-9C12-D13D6FAE425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bergman</cp:lastModifiedBy>
  <cp:lastPrinted>2002-09-24T18:27:58Z</cp:lastPrinted>
  <dcterms:modified xsi:type="dcterms:W3CDTF">2004-12-09T23:44:20Z</dcterms:modified>
  <cp:revision>4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98340335</vt:r8>
  </property>
  <property fmtid="{D5CDD505-2E9C-101B-9397-08002B2CF9AE}" pid="3" name="_AuthorEmail">
    <vt:lpwstr>kwariner@ercot.com</vt:lpwstr>
  </property>
  <property fmtid="{D5CDD505-2E9C-101B-9397-08002B2CF9AE}" pid="4" name="_AuthorEmailDisplayName">
    <vt:lpwstr>Wariner, Kerry</vt:lpwstr>
  </property>
  <property fmtid="{D5CDD505-2E9C-101B-9397-08002B2CF9AE}" pid="5" name="_EmailSubject">
    <vt:lpwstr>RMS March 04.ppt</vt:lpwstr>
  </property>
  <property fmtid="{D5CDD505-2E9C-101B-9397-08002B2CF9AE}" pid="6" name="_PreviousAdHocReviewCycleID">
    <vt:r8>-1263327933</vt:r8>
  </property>
  <property fmtid="{D5CDD505-2E9C-101B-9397-08002B2CF9AE}" pid="7" name="_ReviewingToolsShownOnce">
    <vt:lpwstr/>
  </property>
</Properties>
</file>