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6FF-FB26-4AE0-A4D7-3204D00B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1B13-4B74-44C2-9E3C-B1A0BDDB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9CA0-8481-44E5-9074-809547CD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038-2D40-48E4-BAE6-1720607B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5413-3138-45AC-A8AA-C8804FC0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94CF-305B-4965-8388-3EB44DAE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292F-F425-4F58-8BE0-AA1D93C4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C071-CDF3-4EB7-B806-4D09EE91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98F1-85E5-4D03-BBD4-141DF1F2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081A-A1CB-4315-A4D8-1B02309B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57E4-3B87-4383-B669-8E65BD0D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41F7-D0DC-44D9-9128-BD36499F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80BA-2045-496A-9C20-12E5FB0D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7F98-1FD1-40CE-841F-EADA4C1F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9819-601A-409E-B942-A654B2BA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23E1-DA3E-411C-A279-3CD40FD3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A3A2-42D5-423E-ADEB-048D527C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6B7-BE71-4485-9A1E-EE1FDCD8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4589-031D-44DB-B856-D85F71A8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9D81-CC45-4B2E-930B-D5DC0B69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7280-D956-4A16-A473-2A274265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A412-1545-4310-B515-6D452635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8E49-43B7-423D-AD3E-F1C86340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0AEE-67AF-45D7-A08F-6103B2F2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78AD-B7AE-4E90-A2E0-EC9D48B72A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CAF5-F1F8-4EE0-8ACC-2A7EA60A0C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ket Metric Working Group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600" y="3428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4 Accomplish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rket Metric Working Group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2004 Key Accomplishme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rket Metric Working Group was established in April 200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MWG website established containing meeting information, reporting requirements, issue discussion/resolution, questions/answers and  consistent template for reporti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dentified tracking/reporting change to Move-In 814-04s where an 814-28(PT) for an inspection delays the response time for an 814-04 – ERCOT assessed and plans to implement in 1st Quarter 200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 RMS direction, created an SCR for Estimated Meter Read Da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MWG reviewed MIMO reporting and determined no impacts to required reporti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uced filing volume by 38,000 pages as a result of PUCT Staff recommendation to remove unpopulated row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MWG documented &amp; presented the Disconnect/Reconnect for Non-Pay reporting requirements (#29760) to R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MWG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2004 Monthly Accomplishme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Apri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arket Metric Working Group was established and elections were hel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dentified tracking/reporting change to Move-In 814-04s where an 814-28(PT) for an inspection delays the response time for an 814-04 – ERCOT assessed and plans to implement in 1st Quarter 2005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May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RCOT established and will maintain MMWG website that will contain all MMWG meeting information along with reporting requirements and templat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viewed and made minor changes to the #24462 Filing templat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June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t RMS direction, MMWG created an SCR for Estimated Meter Read Dat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MWG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2004 Monthly Accomplishme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Jul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orking Group Procedures including a change control process were approved by RM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viewed PRR 518 Business Day definition and agreed to not change any tracking/reporting from the current 48 and 62 hours to continue the consistency in which data has been report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ugu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MWG reviewed MIMO reporting and determined that there would be no impacts to required reporting – ERCOT incorporated the new cancel types starting with third quarter summary in the supplemental data provided to the Public Utility Commission of Texa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RCOT implemented PIP188 into their reporting – meter reading protocol changed from 12 hours to 4 hours to turnaround a meter read transac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Septemb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RCOT presented 2nd Quarter #24462 Market Performance to RM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termined that the majority of the reporting requirements under #24462 quarterly filings are used to some level by PUC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MWG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2004 Monthly Accomplishme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ctober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rafted MMWG section for the Retail Market Guide and distributed for comments in November – plan to submit to appropriate subcommittee for approval and submission into Updated version of the Retail Market Guid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Q&amp;A section added to MMWG website to provide consistent answers to frequently asked questions of ERCOT and PUCT Staff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duced the filing volume by 38,000 pages as a result of PUCT Staff recommendation to remove unpopulated row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ovemb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MWG presented the Disconnect/Reconnect for Non-Pay reporting requirements (#29760) to RMS – all market participants are to comply by January report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dentified impacts and potential causes of zip code errors in electronic transactions which were addressed with each market participant – plan to continue monitoring to ensure potential market issues are identified in a timely mann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verall, MMWG helped facilitate timely and consistent quarterly filings of market participants by providing a central location for requirements, issue discussion/resolution, questions/answers and a consistent template for reporting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7:05:09Z</dcterms:created>
  <dc:creator>Registered User</dc:creator>
  <dc:description/>
  <dc:language>en-US</dc:language>
  <cp:lastModifiedBy>Registered User</cp:lastModifiedBy>
  <dcterms:modified xsi:type="dcterms:W3CDTF">2004-12-09T17:34:47Z</dcterms:modified>
  <cp:revision>4</cp:revision>
  <dc:subject/>
  <dc:title>Slide 1</dc:title>
</cp:coreProperties>
</file>