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3DA75-533D-40BF-B238-9B7757070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676F-B06A-4FBF-B30E-676926C29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31B02-A8D7-4EA6-BECD-38CCBFF22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0D3A-304A-4E1C-8229-BD309CFEF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E4FE1-014B-49B3-8C33-8E5C1F625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11A8D-7F7E-408B-97FF-BCC8A5832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145D2-41E4-459A-AA7E-C78576DC2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4604E-2BD9-4704-B2BF-7817E60023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6E44E-B850-4BD8-9B33-B7366E8CE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45F30-0ECE-4A2A-A0C0-BF65A6B5E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94C1-6A19-4195-90D9-017F60661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544E-CCA1-423D-B00A-36DD74493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D493-35B6-4F73-B882-12F88D758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ProtocolRevisions/SCRRevfilesystem.cfm?action=viewfolder&amp;path=../ercotpublicweb/market/ftp/SystemChangeRequests/Project_Priority_List" TargetMode="External"/><Relationship Id="rId2" Type="http://schemas.openxmlformats.org/officeDocument/2006/relationships/hyperlink" Target="http://www.ercot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MO Update to 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ember 16, 200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Priority List (PP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ent Ev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2005 list ranked by PRS and approved by TAC in August/Septe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4 projects merged with 2005 project 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73080" indent="-17784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ose expected to complete in 2004 were ranked 0.001-0.02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3080" indent="-17784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ecuting projects rolling into 2005 were ranked 0.11-0.4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6 rollover amounts estim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73080" indent="-17784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duced 2005 budget amou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t Line” estimated at $35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73080" indent="-17784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nding final approval of ERCOT budg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3080" indent="-17784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positioning of the line will move over the course of the year as new projects are added and existing projects are adjusted via change contr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1BC9D-4B11-4C3B-991B-360CFE1F74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Priority List (PP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 may consider reprioritizing market items that are below the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73080" indent="-17784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ority 1.3 items (ranks 54, 56, 5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3080" indent="-17784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R 479 (currently a 2.1 priority, rank 7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3080" indent="-17784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ther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just release plans once 2005 budget is approv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ECD15-B313-45DF-89E6-8E1BBB9513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ces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06668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ting of P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occur at the end of each month starting 11/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month-end reconciliation with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re is it loc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rcot.com/ProtocolRevisions/SCRRevfilesystem.cfm?action=viewfolder&amp;path=../ercotpublicweb/market/ftp/SystemChangeRequests/Project_Priority_Li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… o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ercot.co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/ Protocols / System Change Requests / Project Priority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thly PMO project updates to P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04820-9BFE-4BC5-9E2C-8C11A209F3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3048120"/>
            <a:ext cx="3048120" cy="457200"/>
          </a:xfrm>
          <a:prstGeom prst="rightArrow">
            <a:avLst>
              <a:gd name="adj1" fmla="val 50000"/>
              <a:gd name="adj2" fmla="val 16667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9720" y="63360"/>
            <a:ext cx="792468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Retail Ops 2005 Release Plans</a:t>
            </a:r>
            <a:endParaRPr b="0" lang="en-US" sz="32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4518000"/>
            <a:ext cx="251460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ease RO 5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40066_03 Siebel Upgrade (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40019 Retail Testing Website (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1600200"/>
            <a:ext cx="4191120" cy="914400"/>
          </a:xfrm>
          <a:prstGeom prst="rect">
            <a:avLst/>
          </a:prstGeom>
          <a:solidFill>
            <a:srgbClr val="308076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Transaction Proce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Transparency and Rpt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Market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Client Servi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Market Re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I ID Retail – WS Sy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Mark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600200"/>
            <a:ext cx="4191120" cy="914400"/>
          </a:xfrm>
          <a:prstGeom prst="rect">
            <a:avLst/>
          </a:prstGeom>
          <a:solidFill>
            <a:srgbClr val="308076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I (SeeBeyond/TIB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1254240"/>
            <a:ext cx="4191120" cy="345960"/>
          </a:xfrm>
          <a:prstGeom prst="rect">
            <a:avLst/>
          </a:prstGeom>
          <a:solidFill>
            <a:srgbClr val="308076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254240"/>
            <a:ext cx="4191120" cy="345960"/>
          </a:xfrm>
          <a:prstGeom prst="rect">
            <a:avLst/>
          </a:prstGeom>
          <a:solidFill>
            <a:srgbClr val="308076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60800" y="2666880"/>
            <a:ext cx="14112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2 ‘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14670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3 ‘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47880" y="2666880"/>
            <a:ext cx="135252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1 ‘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9960" y="2666880"/>
            <a:ext cx="142884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4 ‘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39000" y="2666880"/>
            <a:ext cx="13716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4 ‘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10600" y="2666880"/>
            <a:ext cx="1352520" cy="307080"/>
          </a:xfrm>
          <a:prstGeom prst="rect">
            <a:avLst/>
          </a:prstGeom>
          <a:solidFill>
            <a:srgbClr val="3b5d5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1 ‘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38880" y="3081240"/>
            <a:ext cx="2500200" cy="457200"/>
          </a:xfrm>
          <a:prstGeom prst="rightArrow">
            <a:avLst>
              <a:gd name="adj1" fmla="val 50000"/>
              <a:gd name="adj2" fmla="val 136713"/>
            </a:avLst>
          </a:prstGeom>
          <a:solidFill>
            <a:srgbClr val="3b5d59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313848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ase RO 5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4495680"/>
            <a:ext cx="266688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ease RO 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40106 ERCOT.com (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50026 SIR Enhancements (1.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40034 Texas SET 2.1 (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4503600"/>
            <a:ext cx="26668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ease 5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50007 SCR 738 (1.1) Enhancements to Fast Tr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50023 Potential Load Loss (1.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50025 PRR 312 Enhance ESI ID Lookup (1.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3581280"/>
            <a:ext cx="685800" cy="228600"/>
          </a:xfrm>
          <a:prstGeom prst="rect">
            <a:avLst/>
          </a:prstGeom>
          <a:solidFill>
            <a:srgbClr val="ffff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3200400"/>
            <a:ext cx="790560" cy="228600"/>
          </a:xfrm>
          <a:prstGeom prst="rect">
            <a:avLst/>
          </a:prstGeom>
          <a:solidFill>
            <a:srgbClr val="3b5d59">
              <a:alpha val="7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100320"/>
            <a:ext cx="22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ase RO 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3505320"/>
            <a:ext cx="3809880" cy="457200"/>
          </a:xfrm>
          <a:prstGeom prst="rightArrow">
            <a:avLst>
              <a:gd name="adj1" fmla="val 50000"/>
              <a:gd name="adj2" fmla="val 208327"/>
            </a:avLst>
          </a:prstGeom>
          <a:solidFill>
            <a:srgbClr val="ffff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08280" y="3552840"/>
            <a:ext cx="22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ase RO 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3886200"/>
            <a:ext cx="7924680" cy="533520"/>
          </a:xfrm>
          <a:prstGeom prst="rightArrow">
            <a:avLst>
              <a:gd name="adj1" fmla="val 50000"/>
              <a:gd name="adj2" fmla="val 371339"/>
            </a:avLst>
          </a:prstGeom>
          <a:solidFill>
            <a:srgbClr val="ccffff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ase RO 6.0 EA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5791320"/>
            <a:ext cx="434340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ease RO 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40066_06 EAI TIBCO (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30184-03 Hawk TIBCO (1.1) (2004 carry o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Middleware 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3581280"/>
            <a:ext cx="685800" cy="228600"/>
          </a:xfrm>
          <a:prstGeom prst="rect">
            <a:avLst/>
          </a:prstGeom>
          <a:solidFill>
            <a:srgbClr val="ffff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1FA73-5D0E-4C62-9AC3-E5AFE3E565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3048120"/>
            <a:ext cx="3048120" cy="457200"/>
          </a:xfrm>
          <a:prstGeom prst="rightArrow">
            <a:avLst>
              <a:gd name="adj1" fmla="val 50000"/>
              <a:gd name="adj2" fmla="val 16667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93400" y="106200"/>
            <a:ext cx="792468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Market Ops 2005 Release Plans</a:t>
            </a:r>
            <a:endParaRPr b="0" lang="en-US" sz="32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886200"/>
            <a:ext cx="2666880" cy="283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ease MO 5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40066_01 Lodestar 3.7 Upgrade (1.1 – 2004 car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40104 Zero Charge Enhancements (1.2 – 2004 carry) PR-40102 REC Enhancements (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40015 TCR Report Enhancements (1.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40093 RMR Automation (1.3 – 2004 car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40108 PRR515 Disclosure of Local Congestion (1.1 – 2004 car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1219320"/>
            <a:ext cx="4191120" cy="1295280"/>
          </a:xfrm>
          <a:prstGeom prst="rect">
            <a:avLst/>
          </a:prstGeom>
          <a:solidFill>
            <a:srgbClr val="308076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tlements and Billing       Load Profiling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Aggregation       Data Management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tlement Metering     Wholesale Rela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1219320"/>
            <a:ext cx="4191120" cy="1295280"/>
          </a:xfrm>
          <a:prstGeom prst="rect">
            <a:avLst/>
          </a:prstGeom>
          <a:solidFill>
            <a:srgbClr val="308076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destar      Metering MV9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R/REC      T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ML Marke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1219320"/>
            <a:ext cx="4191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219320"/>
            <a:ext cx="4191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60800" y="2666880"/>
            <a:ext cx="14112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2 ‘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2666880"/>
            <a:ext cx="14670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3 ‘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47880" y="2666880"/>
            <a:ext cx="135252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1 ‘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9960" y="2666880"/>
            <a:ext cx="142884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4 ‘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39000" y="2666880"/>
            <a:ext cx="13716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4 ‘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10600" y="2666880"/>
            <a:ext cx="1352520" cy="307080"/>
          </a:xfrm>
          <a:prstGeom prst="rect">
            <a:avLst/>
          </a:prstGeom>
          <a:solidFill>
            <a:srgbClr val="3b5d5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1 ‘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38880" y="3081240"/>
            <a:ext cx="2500200" cy="457200"/>
          </a:xfrm>
          <a:prstGeom prst="rightArrow">
            <a:avLst>
              <a:gd name="adj1" fmla="val 50000"/>
              <a:gd name="adj2" fmla="val 136713"/>
            </a:avLst>
          </a:prstGeom>
          <a:solidFill>
            <a:srgbClr val="3b5d59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312408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ase MO 5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4114800"/>
            <a:ext cx="2438280" cy="17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ease MO 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40066_04 Lodestar 4.0 Upgrade (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40044 ADAM (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40007 SCR 727 Phase 2 (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MS Release 4 (4 MO projec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4122720"/>
            <a:ext cx="243864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ease MO 5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50024 SCR 740 Enhancements to SCR 727 (1.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50033 MV90 Upgrade (1.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MS Release 5 (TBD projec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614760"/>
            <a:ext cx="685800" cy="228600"/>
          </a:xfrm>
          <a:prstGeom prst="rect">
            <a:avLst/>
          </a:prstGeom>
          <a:solidFill>
            <a:srgbClr val="ffff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200400"/>
            <a:ext cx="790560" cy="228600"/>
          </a:xfrm>
          <a:prstGeom prst="rect">
            <a:avLst/>
          </a:prstGeom>
          <a:solidFill>
            <a:srgbClr val="3b5d59">
              <a:alpha val="7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3100320"/>
            <a:ext cx="22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ase MO 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3505320"/>
            <a:ext cx="3505320" cy="457200"/>
          </a:xfrm>
          <a:prstGeom prst="rightArrow">
            <a:avLst>
              <a:gd name="adj1" fmla="val 50000"/>
              <a:gd name="adj2" fmla="val 191673"/>
            </a:avLst>
          </a:prstGeom>
          <a:solidFill>
            <a:srgbClr val="ffff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08280" y="3552840"/>
            <a:ext cx="22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ase MO 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1B3BF-77B8-49C5-9D09-F108A9D7C7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Priority List (PP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6176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-29052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0">
              <a:spcBef>
                <a:spcPts val="7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D45FE-7611-43DF-9B8A-6C9EFBECD8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kbergman</cp:lastModifiedBy>
  <dcterms:modified xsi:type="dcterms:W3CDTF">2004-12-09T23:46:24Z</dcterms:modified>
  <cp:revision>60</cp:revision>
  <dc:subject/>
  <dc:title>Slide 1</dc:title>
</cp:coreProperties>
</file>