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06E3-B533-4E93-8B06-0968D92A1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4909-AB78-402F-8A19-B8081258F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30FA-55F3-4C2E-A655-369148316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DA94-0BE4-4FF3-9D7C-01E091EEA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DC6E-3A0A-49AF-86D0-165BDDFCD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4807-7C2A-47CE-89FB-AE534B6FF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B6F9-DB43-484C-8E4D-B578DEF4A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8E24-079D-4F84-BB80-653DB5536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3D84-6188-4F5B-A3CF-2614F0ACB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7DDF-E1FC-4E2D-87D7-5381104F7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0C6B-CFB1-49F2-ABDF-97C3B5ED0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E0B6-DC1D-430C-B4CC-248050047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5D1C8-5982-4112-A7DF-EBC0D8BA3E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160" y="2209680"/>
            <a:ext cx="7924680" cy="25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CR 740 – SCR 727 Phase I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2B03-6B12-40DA-BC4B-C73500AD07E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09480" y="1447920"/>
            <a:ext cx="7925040" cy="21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R 740 Impact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e SCR 740 Final 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14400" y="609480"/>
            <a:ext cx="8091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R 7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5EAF-756D-4A6B-B0CA-F887BC8F0FA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609480"/>
            <a:ext cx="8091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R 740 – Discussion from 08/10/04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4560" y="1447920"/>
            <a:ext cx="7578720" cy="49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eviously Suggested Modif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storical Data Request/Initial Data Load –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Capability will be provided as a part of the migration of the extract from the Data Archive to the EDW enviro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ality to coordinate providing the SCR 727 extracts to new Market Particip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ality to create dimensional table extracts for new Market Particip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 DEWG meeting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imensional data dump 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vide to entire mar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unctionality to create a current (as of request date) complete extract – this is to be included as a part of the auditing fea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refresh of databases on a scheduled basis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– this is to be included as a part of the auditing fea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247E-3DCA-4187-8988-E96B1A00A46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74560" y="1447920"/>
            <a:ext cx="757872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eviously Suggested Modif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diting Capabilities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MEDIUM-to be included in SC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ality to provide Market Participants with the ability to confirm the accuracy of their SCR 727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 DEWG meeting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ily database counts or monthly – requirement consid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imilar to Siebel extracts (full database dump) and incrementals to get to a current state – solution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fresh of databases on a scheduled basis – requirement consid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609480"/>
            <a:ext cx="8091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R 740 – Discussion from 08/10/04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D9EA-113A-4175-8681-16AA79AAF64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74560" y="1447920"/>
            <a:ext cx="7578720" cy="43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eviously Suggested Mod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sage for Backdated LSE Relationship Changes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URGENT-to be included in SC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ctionality to provide LSEs with usage that was loaded in ERCOT systems prior to the LSE relationship ch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 DEWG meeting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ublish a list of file names/include a number in the file name or table name for load order (preferred inside zip file)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HIGH-to be included in SC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Capture the actual date that a particular trade date was run for data aggregation – will be addressed through COPs Committee Me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ogrammatic web services interface to extract all data for ESIIDs at anytime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MEDIUM-to be included in SC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bility to tie a database change back to the source of the change (i.e. FasTrak issue, batch processing)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 MEDIUM-to be included in SC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14400" y="609480"/>
            <a:ext cx="8091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R 740 – Discussion from 08/10/04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C3EE-11A8-4276-8117-DF9F7B29B96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914400" y="609480"/>
            <a:ext cx="8091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R 7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447920"/>
            <a:ext cx="8381880" cy="46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tential Mod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e necessity of each mod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at would be the value of this functionality and how often would MPs use it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at content will be contained in the new data request(s) or new functionality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en would this data be made available on an ongoing basis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w would MPs request and get approval for this data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o would make requests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ere would the data be made available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dditional information that describes how this new functionality will wor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dditional new functionality not mentioned above along with requirements definition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5BFE-CD5B-4AE8-BA5D-0E563899293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914400" y="609480"/>
            <a:ext cx="8091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R 7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1447920"/>
            <a:ext cx="8381880" cy="43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ummary of Market Requirements from ERCOT Impact Analys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vide usage to CRs for backdated LSE relationship changes (ranked “Urgent” by DEWG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nique file load order number by MP (ranked “High” by DEWG)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udit capability to confirm MP database accuracy (ranked “Medium” by DEWG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grammatic web services interface to extract all data for ESIIDs at any time (ranked “Medium” by DEWG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bility to provide link back to source of change (i.e. FasTrak) (ranked “Medium” by DEWG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740B-A11F-4971-9483-988DB8526DF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user</cp:lastModifiedBy>
  <cp:lastPrinted>2002-09-24T18:27:58Z</cp:lastPrinted>
  <dcterms:modified xsi:type="dcterms:W3CDTF">2004-12-09T22:36:47Z</dcterms:modified>
  <cp:revision>444</cp:revision>
  <dc:subject/>
  <dc:title>PowerPoint Presentation</dc:title>
</cp:coreProperties>
</file>