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C086F-5D19-426D-90F1-4C70B2846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6EB6-16CD-44D2-94A3-1F8D1AB1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6B69A-ABC4-4773-8291-D63EA9A5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B0799-287F-4BA4-8DFE-177877233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3FB9-1A28-4C66-ABAB-31BCFBD1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4442E-A221-4D0C-9A85-17F3830D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2978-9BF5-48E9-805A-9B81359C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EA6AA-C08F-485C-A639-FBDCCB9C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642D-269A-41CB-9E29-30582779D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3A41-9D44-4331-A4AD-AFE3CB8F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6D04-2E63-4C9D-9C47-78520F61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DEE3-6D89-4E9B-9C6B-6974D1566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9193-13AF-47B1-BF04-4256C74A8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Objections in Complete Status</a:t>
            </a:r>
            <a:br>
              <a:rPr sz="3200"/>
            </a:br>
            <a:r>
              <a:rPr b="0" lang="en-US" sz="3200" spc="-1" strike="noStrike">
                <a:solidFill>
                  <a:srgbClr val="000000"/>
                </a:solidFill>
                <a:latin typeface="Times New Roman"/>
              </a:rPr>
              <a:t>(CCO Clean-up Phase 3)</a:t>
            </a:r>
            <a:endParaRPr b="0" lang="en-US" sz="3200" spc="-1" strike="noStrike">
              <a:solidFill>
                <a:srgbClr val="000000"/>
              </a:solidFill>
              <a:latin typeface="Times New Roman"/>
            </a:endParaRPr>
          </a:p>
        </p:txBody>
      </p:sp>
      <p:sp>
        <p:nvSpPr>
          <p:cNvPr id="45" name=""/>
          <p:cNvSpPr/>
          <p:nvPr/>
        </p:nvSpPr>
        <p:spPr>
          <a:xfrm>
            <a:off x="2666880" y="3809880"/>
            <a:ext cx="403884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F9B2B3-2A77-4E90-8BAF-14CFA9473D3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reviewing internal monitoring ERCOT has associated with the customer objection process</a:t>
            </a:r>
            <a:r>
              <a:rPr b="1" lang="en-US" sz="2000" spc="-1" strike="noStrike">
                <a:solidFill>
                  <a:srgbClr val="000000"/>
                </a:solidFill>
                <a:latin typeface="Times New Roman"/>
              </a:rPr>
              <a:t>, </a:t>
            </a:r>
            <a:r>
              <a:rPr b="0" lang="en-US" sz="2000" spc="-1" strike="noStrike">
                <a:solidFill>
                  <a:srgbClr val="000000"/>
                </a:solidFill>
                <a:latin typeface="Times New Roman"/>
              </a:rPr>
              <a:t>260 Switches (in 2003, 2004) have been identified where ERCOT received a customer objection request from our call center, but the Order shows as ‘Complete’ in ERCOT’s system.  None of these instances relate to 2003’s RMS-approved CCO Cleanup projects (phase 1 or phase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appear to be where ERCOT failed to successfully process the 814_08 for the customer care obje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 are instances where the TDSP completed switches prior to the end of the customer protection period. </a:t>
            </a:r>
            <a:endParaRPr b="0" lang="en-US" sz="2000" spc="-1" strike="noStrike">
              <a:solidFill>
                <a:srgbClr val="000000"/>
              </a:solidFill>
              <a:latin typeface="Times New Roman"/>
            </a:endParaRPr>
          </a:p>
          <a:p>
            <a:pPr lvl="1" marL="8380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should be noted that there are many more examples of protected switches being completed prematurely by the TDSPs (i.e. prior to the end of the customer protection period), and these 68 are specifically only that subset where ERCOT had received a customer care objection (that then failed to process successfully).</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E9A0F54-8E2E-409D-A3E5-773ED8660E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143000"/>
            <a:ext cx="8763120" cy="5181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send out list of ESI IDs to affected CRs.  This list will only include those ESI IDs where there has not been a Move-In, Move-Out, or Switch completed since the switch in question. (</a:t>
            </a:r>
            <a:r>
              <a:rPr b="0" lang="en-US" sz="1800" spc="-1" strike="noStrike" u="sng">
                <a:solidFill>
                  <a:srgbClr val="000000"/>
                </a:solidFill>
                <a:uFillTx/>
                <a:latin typeface="Times New Roman"/>
              </a:rPr>
              <a:t>Reduces number from 260 to 120 with 13 CRs involved</a:t>
            </a:r>
            <a:r>
              <a:rPr b="0" lang="en-US" sz="1800" spc="-1" strike="noStrike">
                <a:solidFill>
                  <a:srgbClr val="000000"/>
                </a:solidFill>
                <a:latin typeface="Times New Roman"/>
              </a:rPr>
              <a:t>)  The list will include two tabs for each impacted CR – one where the CR was the ‘gaining CR’ and one where the CR was the ‘losing CR’. These lists are intended to be outbound notification only – the CRs are NOT expected to update and return the list to ERCOT.  (</a:t>
            </a:r>
            <a:r>
              <a:rPr b="0" lang="en-US" sz="1800" spc="-1" strike="noStrike">
                <a:solidFill>
                  <a:srgbClr val="000099"/>
                </a:solidFill>
                <a:latin typeface="Times New Roman"/>
              </a:rPr>
              <a:t>Completed 10/29/04)</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initiate Inadvertent Gain FasTraks on all ESI IDs included in the lists to the CRs and will update CRs and the related TDSPs with FasTrak numbers. </a:t>
            </a:r>
            <a:endParaRPr b="0" lang="en-US" sz="1800" spc="-1" strike="noStrike">
              <a:solidFill>
                <a:srgbClr val="000000"/>
              </a:solidFill>
              <a:latin typeface="Times New Roman"/>
            </a:endParaRPr>
          </a:p>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Completed 11/4/04)</a:t>
            </a:r>
            <a:endParaRPr b="0" lang="en-US" sz="1800" spc="-1" strike="noStrike">
              <a:solidFill>
                <a:srgbClr val="000000"/>
              </a:solidFill>
              <a:latin typeface="Times New Roman"/>
            </a:endParaRPr>
          </a:p>
          <a:p>
            <a:pPr marL="447840" indent="-447840">
              <a:lnSpc>
                <a:spcPct val="95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call their customers associated with the ESI IDs which are listed on the “gaining CR” tab and explain the situation.  They will find out if the customer would like to stay with the gaining CR or go back to the losing CR.  If the gaining CR cannot contact the customer, the PUCT has directed that the CR must contact the PUCT (Lauren Damen, lauren.damen@puc.state.tx.us, or 512-936-7401) to let them know of the situation.  The PUCT will decide how these situations will be handled in a one off basis. </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282F0C7-FD6D-49A6-B727-AC9EEECC2D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 (Continued)</a:t>
            </a: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update FasTrak issue associated with each ESI ID.  There are three updates possible:</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Customer is satisfied with current CR and does not wish to be switched.  No action necessary. </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Customer wishes to return to previous CR.  Both CRs involved need to work together to decide when and how the customer will be returned to the losing CR.  (Note: it was suggested at TX SET that the most appropriate remedy in these cases would be for ERCOT to send the missing 814_08’s on the inadvertently completed switch and have the market participants and ERCOT manually correct their records to show the gaining CR did not start serving the ESI ID as a result of the switch).</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Times New Roman"/>
              </a:rPr>
              <a:t>Gaining CR was not able to contact customer.  Gaining CR will contact the PUCT and will provide further update when the PUCT has given direction. </a:t>
            </a:r>
            <a:endParaRPr b="0" lang="en-US" sz="1800" spc="-1" strike="noStrike">
              <a:solidFill>
                <a:srgbClr val="000000"/>
              </a:solidFill>
              <a:latin typeface="Times New Roman"/>
            </a:endParaRPr>
          </a:p>
        </p:txBody>
      </p:sp>
      <p:sp>
        <p:nvSpPr>
          <p:cNvPr id="51"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044A7A0-9EA6-4FD8-9012-C2908A5ADA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219320"/>
            <a:ext cx="8991720" cy="54100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mpleted Item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11/04</a:t>
            </a:r>
            <a:r>
              <a:rPr b="0" lang="en-US" sz="1800" spc="-1" strike="noStrike">
                <a:solidFill>
                  <a:srgbClr val="000000"/>
                </a:solidFill>
                <a:latin typeface="Times New Roman"/>
              </a:rPr>
              <a:t> – ERCOT supplied information to TX SET regarding the CCO issue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0/04</a:t>
            </a:r>
            <a:r>
              <a:rPr b="0" lang="en-US" sz="1800" spc="-1" strike="noStrike">
                <a:solidFill>
                  <a:srgbClr val="000000"/>
                </a:solidFill>
                <a:latin typeface="Times New Roman"/>
              </a:rPr>
              <a:t> – ERCOT released issue data and an ERCOT proposal on the Retail Market Call</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5/04</a:t>
            </a:r>
            <a:r>
              <a:rPr b="0" lang="en-US" sz="1800" spc="-1" strike="noStrike">
                <a:solidFill>
                  <a:srgbClr val="000000"/>
                </a:solidFill>
                <a:latin typeface="Times New Roman"/>
              </a:rPr>
              <a:t> – At Retail Market Call, MP requested face-to-face meeting to finalize a clean-up action plan </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7/04</a:t>
            </a:r>
            <a:r>
              <a:rPr b="0" lang="en-US" sz="1800" spc="-1" strike="noStrike">
                <a:solidFill>
                  <a:srgbClr val="000000"/>
                </a:solidFill>
                <a:latin typeface="Times New Roman"/>
              </a:rPr>
              <a:t> – Texas Set and PUCT held meeting to determine a course of action for the clean-up (see Action Plan on previous slide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9/04 </a:t>
            </a:r>
            <a:r>
              <a:rPr b="0" lang="en-US" sz="1800" spc="-1" strike="noStrike">
                <a:solidFill>
                  <a:srgbClr val="000000"/>
                </a:solidFill>
                <a:latin typeface="Times New Roman"/>
              </a:rPr>
              <a:t>– ERCOT sent lists and notice of clean-up activities to affected CR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4/04</a:t>
            </a:r>
            <a:r>
              <a:rPr b="0" lang="en-US" sz="1800" spc="-1" strike="noStrike">
                <a:solidFill>
                  <a:srgbClr val="000000"/>
                </a:solidFill>
                <a:latin typeface="Times New Roman"/>
              </a:rPr>
              <a:t> – ERCOT completed submission of ERCOT Initiated “Inadvertent” FasTrak issues on the 120 switches included in the clean-up activity.  Additionally ERCOT sent revised list, including FasTrak IDs, to both CRs and TDSP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11/04</a:t>
            </a:r>
            <a:r>
              <a:rPr b="0" lang="en-US" sz="1800" spc="-1" strike="noStrike">
                <a:solidFill>
                  <a:srgbClr val="000000"/>
                </a:solidFill>
                <a:latin typeface="Times New Roman"/>
              </a:rPr>
              <a:t> – ERCOT identified 3 additional instances, initiated FasTrak issues and email notifications to CRs and TDSP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18/04</a:t>
            </a:r>
            <a:r>
              <a:rPr b="0" lang="en-US" sz="1800" spc="-1" strike="noStrike">
                <a:solidFill>
                  <a:srgbClr val="000000"/>
                </a:solidFill>
                <a:latin typeface="Times New Roman"/>
              </a:rPr>
              <a:t> – ERCOT sent TDSPs lists of 327Service Orders from 2004 that completed prior to the end of the CCO period (these lists include all instances of TDSP completing early in 2004 and not just those where the customer requested a cancellation)</a:t>
            </a:r>
            <a:endParaRPr b="0" lang="en-US" sz="1800" spc="-1" strike="noStrike">
              <a:solidFill>
                <a:srgbClr val="000000"/>
              </a:solidFill>
              <a:latin typeface="Times New Roman"/>
            </a:endParaRPr>
          </a:p>
          <a:p>
            <a:pPr marL="457200" indent="-457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5F7DE49-CE74-4CC1-8998-8FAAFEC56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graphicFrame>
        <p:nvGraphicFramePr>
          <p:cNvPr id="55" name=""/>
          <p:cNvGraphicFramePr/>
          <p:nvPr/>
        </p:nvGraphicFramePr>
        <p:xfrm>
          <a:off x="806400" y="1838160"/>
          <a:ext cx="6702480" cy="2772000"/>
        </p:xfrm>
        <a:graphic>
          <a:graphicData uri="http://schemas.openxmlformats.org/presentationml/2006/ole">
            <p:oleObj progId="Excel.Sheet.12" r:id="rId1" spid="">
              <p:embed/>
              <p:pic>
                <p:nvPicPr>
                  <p:cNvPr id="56" name="" descr=""/>
                  <p:cNvPicPr/>
                  <p:nvPr/>
                </p:nvPicPr>
                <p:blipFill>
                  <a:blip r:embed="rId2"/>
                  <a:stretch/>
                </p:blipFill>
                <p:spPr>
                  <a:xfrm>
                    <a:off x="806400" y="1838160"/>
                    <a:ext cx="6702480" cy="2772000"/>
                  </a:xfrm>
                  <a:prstGeom prst="rect">
                    <a:avLst/>
                  </a:prstGeom>
                  <a:ln w="0">
                    <a:noFill/>
                  </a:ln>
                </p:spPr>
              </p:pic>
            </p:oleObj>
          </a:graphicData>
        </a:graphic>
      </p:graphicFrame>
      <p:sp>
        <p:nvSpPr>
          <p:cNvPr id="3" name="PlaceHolder 2"/>
          <p:cNvSpPr>
            <a:spLocks noGrp="1"/>
          </p:cNvSpPr>
          <p:nvPr>
            <p:ph type="sldNum" idx="3"/>
          </p:nvPr>
        </p:nvSpPr>
        <p:spPr/>
        <p:txBody>
          <a:bodyPr/>
          <a:p>
            <a:fld id="{682E04FF-9DF1-46FD-8FBF-CDB9B9D4B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Outstanding Action Item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review FasTrak issues and provide updates in accordance with Action Plan</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ordinate any corrective actions with ERCOT and the TDSP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 SET to further discuss potential validation for TDSP completions prior to end of Customer Protection Period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report FasTrak issue completion at subsequent RMS meeting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9F4DB04-FA6E-41B1-84C4-01CA19034CA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12-09T23:42:57Z</dcterms:modified>
  <cp:revision>4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