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D79-201E-4D24-BE41-E22D51F1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C0A-F873-4B1F-BACA-A7D4C09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C1D-45F0-4387-A5E3-597D5BC3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24D-2F73-4EE5-96BE-8EB00E0D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5A5-C1B4-400B-B68F-134F8240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23B-664A-4985-8559-1F705BB4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A35-4AB9-4758-981E-5F05D41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0EA-AF7A-4877-94E1-65C68CC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31C-51FF-469A-B6F8-63F16B5F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B64-73F9-4095-A577-D8FCC70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43D-066F-42F4-9BD2-90BFC9D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0AE-0169-4772-837D-5A1788B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F57-7224-450A-8FFF-08C75717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33720" y="1066680"/>
          <a:ext cx="43434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434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" name=""/>
          <p:cNvCxnSpPr/>
          <p:nvPr/>
        </p:nvCxnSpPr>
        <p:spPr>
          <a:xfrm flipH="1" rot="16200000">
            <a:off x="6419520" y="-1049040"/>
            <a:ext cx="839160" cy="5068080"/>
          </a:xfrm>
          <a:prstGeom prst="curvedConnector5">
            <a:avLst>
              <a:gd name="adj1" fmla="val 49399"/>
              <a:gd name="adj2" fmla="val 35710"/>
              <a:gd name="adj3" fmla="val 49399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 flipV="1" rot="16200000">
            <a:off x="1389960" y="1866240"/>
            <a:ext cx="1524600" cy="4305960"/>
          </a:xfrm>
          <a:prstGeom prst="curvedConnector5">
            <a:avLst>
              <a:gd name="adj1" fmla="val -8313"/>
              <a:gd name="adj2" fmla="val 27541"/>
              <a:gd name="adj3" fmla="val -8313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 rot="5400000">
            <a:off x="361080" y="703800"/>
            <a:ext cx="3582360" cy="4305960"/>
          </a:xfrm>
          <a:prstGeom prst="curvedConnector5">
            <a:avLst>
              <a:gd name="adj1" fmla="val 14351"/>
              <a:gd name="adj2" fmla="val 40317"/>
              <a:gd name="adj3" fmla="val 14351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6" name=""/>
          <p:cNvCxnSpPr/>
          <p:nvPr/>
        </p:nvCxnSpPr>
        <p:spPr>
          <a:xfrm flipH="1" flipV="1" rot="5400000">
            <a:off x="5324040" y="732960"/>
            <a:ext cx="3029760" cy="5068080"/>
          </a:xfrm>
          <a:prstGeom prst="curvedConnector5">
            <a:avLst>
              <a:gd name="adj1" fmla="val -7546"/>
              <a:gd name="adj2" fmla="val 35710"/>
              <a:gd name="adj3" fmla="val -7546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7" name=""/>
          <p:cNvCxnSpPr/>
          <p:nvPr/>
        </p:nvCxnSpPr>
        <p:spPr>
          <a:xfrm>
            <a:off x="4343040" y="5562720"/>
            <a:ext cx="48013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V="1">
            <a:off x="-360" y="5562000"/>
            <a:ext cx="4343760" cy="9910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 flipV="1" rot="10800000">
            <a:off x="-720" y="-360"/>
            <a:ext cx="4305960" cy="221040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 rot="10800000">
            <a:off x="4266360" y="-720"/>
            <a:ext cx="487764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51" name=""/>
          <p:cNvSpPr/>
          <p:nvPr/>
        </p:nvSpPr>
        <p:spPr>
          <a:xfrm>
            <a:off x="64771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051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219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8380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371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648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4724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648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49568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563868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5334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791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2362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1240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1295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632448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962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/>
          <p:nvPr/>
        </p:nvCxnSpPr>
        <p:spPr>
          <a:xfrm flipV="1" rot="10800000">
            <a:off x="-720" y="-360"/>
            <a:ext cx="1524600" cy="14486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74" name=""/>
          <p:cNvSpPr/>
          <p:nvPr/>
        </p:nvSpPr>
        <p:spPr>
          <a:xfrm>
            <a:off x="304920" y="9907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495680"/>
            <a:ext cx="45720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00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Year In Review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5228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16002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2860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77240" y="1523880"/>
            <a:ext cx="533520" cy="457200"/>
          </a:xfrm>
          <a:prstGeom prst="sun">
            <a:avLst>
              <a:gd name="adj" fmla="val 37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8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V="1">
            <a:off x="3428640" y="3047400"/>
            <a:ext cx="5715720" cy="3810600"/>
          </a:xfrm>
          <a:prstGeom prst="curvedConnector5">
            <a:avLst>
              <a:gd name="adj1" fmla="val 60632"/>
              <a:gd name="adj2" fmla="val 50000"/>
              <a:gd name="adj3" fmla="val 60632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4419720" y="64008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943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9528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2819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Scope of Meter estimations does not warrant additional Market Reporting or the addition of Protocol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Better utilize existing communication methods between TDSP’s and CR’s that can reduce estimates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Meters removed,  requiring MVO from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Meter Obstructed/ Locked/ Inacce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Recommend communication between CR and TDSP remain flexible vs. establishing Protocol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Allows flexibility for CR to communicate with Customer, determine timeframes for meter access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Allows CR to determine if on-going meter estimation is acceptable, and if not, to contact the TDSP to discuss installation of AMR, phone lines, ITRON, etc to secure actual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3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TX SET Recommend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3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4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In Q1 of ’04 RMS granted TX SET increased sco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Analyze the need for new transactions based upon market participants input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Control the publication and version management of TEXAS SET documentation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Enhance and modify existing transaction(s) based upon market need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Provide educational material to the market on proper use of TEXAS SET transactions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Coordination and participate in various RMS Working Groups and Task Forces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Recommend &amp; Implement changes to current business practices and business processes: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Analyze market (posed or potential) issue(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Organize findings on the issue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Plan and hold market meetings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Discuss findings with the market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Develop market consensus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Formalize recommendation(s) to RMS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Institute change(s)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91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TX SET 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endCxn id="101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2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esigned TX SET CCs from the following task for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810/867/8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TI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MOU/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Completed 2.0a clea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Updated working group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6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Accomplish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endCxn id="126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Completed RMS directed Linked ESII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CCO Phase III process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etailed TDSP procedures for estimat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Incorporating TX SET into the ERCOT SIR process for fixes to retail business processes and transac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Updated Protocol Section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41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ore Accomplish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endCxn id="151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2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rop to AREP Annou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Mass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efine 2.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Discuss Smoothing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Release Schedule for ’0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Implement RMS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Version Stacking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Continue to Update Protocols Sec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onotype Corsiva"/>
                <a:ea typeface="Lucida Sans Unicode"/>
              </a:rPr>
              <a:t>Continue to refine market practices and develop transactional solutions, and address PUCT/RMS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6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Goals for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endCxn id="176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7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133720" y="1066680"/>
          <a:ext cx="43434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434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90" name=""/>
          <p:cNvCxnSpPr/>
          <p:nvPr/>
        </p:nvCxnSpPr>
        <p:spPr>
          <a:xfrm flipH="1" rot="16200000">
            <a:off x="6419520" y="-1049040"/>
            <a:ext cx="839160" cy="5068080"/>
          </a:xfrm>
          <a:prstGeom prst="curvedConnector5">
            <a:avLst>
              <a:gd name="adj1" fmla="val 49399"/>
              <a:gd name="adj2" fmla="val 35710"/>
              <a:gd name="adj3" fmla="val 49399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1" name=""/>
          <p:cNvCxnSpPr/>
          <p:nvPr/>
        </p:nvCxnSpPr>
        <p:spPr>
          <a:xfrm flipV="1" rot="16200000">
            <a:off x="1389960" y="1866240"/>
            <a:ext cx="1524600" cy="4305960"/>
          </a:xfrm>
          <a:prstGeom prst="curvedConnector5">
            <a:avLst>
              <a:gd name="adj1" fmla="val -8313"/>
              <a:gd name="adj2" fmla="val 27541"/>
              <a:gd name="adj3" fmla="val -8313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2" name=""/>
          <p:cNvCxnSpPr/>
          <p:nvPr/>
        </p:nvCxnSpPr>
        <p:spPr>
          <a:xfrm rot="5400000">
            <a:off x="361080" y="703800"/>
            <a:ext cx="3582360" cy="4305960"/>
          </a:xfrm>
          <a:prstGeom prst="curvedConnector5">
            <a:avLst>
              <a:gd name="adj1" fmla="val 14351"/>
              <a:gd name="adj2" fmla="val 40317"/>
              <a:gd name="adj3" fmla="val 14351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3" name=""/>
          <p:cNvCxnSpPr/>
          <p:nvPr/>
        </p:nvCxnSpPr>
        <p:spPr>
          <a:xfrm flipH="1" flipV="1" rot="5400000">
            <a:off x="5324040" y="732960"/>
            <a:ext cx="3029760" cy="5068080"/>
          </a:xfrm>
          <a:prstGeom prst="curvedConnector5">
            <a:avLst>
              <a:gd name="adj1" fmla="val -7546"/>
              <a:gd name="adj2" fmla="val 35710"/>
              <a:gd name="adj3" fmla="val -7546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>
            <a:off x="4343040" y="5562720"/>
            <a:ext cx="48013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5" name=""/>
          <p:cNvCxnSpPr/>
          <p:nvPr/>
        </p:nvCxnSpPr>
        <p:spPr>
          <a:xfrm flipV="1">
            <a:off x="-360" y="5562000"/>
            <a:ext cx="4343760" cy="9910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6" name=""/>
          <p:cNvCxnSpPr/>
          <p:nvPr/>
        </p:nvCxnSpPr>
        <p:spPr>
          <a:xfrm flipV="1" rot="10800000">
            <a:off x="-720" y="-360"/>
            <a:ext cx="4305960" cy="221040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197" name=""/>
          <p:cNvCxnSpPr/>
          <p:nvPr/>
        </p:nvCxnSpPr>
        <p:spPr>
          <a:xfrm rot="10800000">
            <a:off x="4266360" y="-720"/>
            <a:ext cx="487764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64771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051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1219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8380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1371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4648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4724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648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49568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63868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5334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5791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2362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31240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5053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1295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32448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962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/>
          <p:nvPr/>
        </p:nvCxnSpPr>
        <p:spPr>
          <a:xfrm flipV="1" rot="10800000">
            <a:off x="-720" y="-360"/>
            <a:ext cx="1524600" cy="14486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04920" y="9907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4495680"/>
            <a:ext cx="457200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00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Meter Estim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4680" y="15228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6002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2860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77240" y="1523880"/>
            <a:ext cx="533520" cy="457200"/>
          </a:xfrm>
          <a:prstGeom prst="sun">
            <a:avLst>
              <a:gd name="adj" fmla="val 37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>
            <a:off x="3428640" y="3047400"/>
            <a:ext cx="5715720" cy="3810600"/>
          </a:xfrm>
          <a:prstGeom prst="curvedConnector5">
            <a:avLst>
              <a:gd name="adj1" fmla="val 60632"/>
              <a:gd name="adj2" fmla="val 50000"/>
              <a:gd name="adj3" fmla="val 60632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4419720" y="64008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5943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9528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10480" y="2819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X SET (subgroup) met on 8-31-04 to review the existing Meter Estimation issues as requested by R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DSP’s agreed to compile data for July 2004 to help group determine scope and estimation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DSP’s consolidated internal estimation codes from field readers, ranging from 15 to 35 unique codes by TD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he single month review does not distinguish between single and consecutive months estim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8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TX SET Meter Estimation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endCxn id="248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39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Total Meters in Sample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 5,872,2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Total Meters Estimated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70,0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Overall Percentage Estimated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             01.18932%</a:t>
            </a:r>
            <a:r>
              <a:rPr b="0" lang="en-US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Inaccessible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27,264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38.90%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estimated due to 3-day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21,358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30.6%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Protocol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Equipment Problems / Missing Meters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12,804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18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Weather / Illness / Safety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/ Misc.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6,537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0 9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requiring MVO from CR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2,092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03.0%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(70,055)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Monotype Corsiva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/>
          <p:nvPr/>
        </p:nvCxnSpPr>
        <p:spPr>
          <a:xfrm flipH="1" rot="16200000">
            <a:off x="640008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endCxn id="271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/>
          <p:nvPr/>
        </p:nvCxnSpPr>
        <p:spPr>
          <a:xfrm rot="5400000">
            <a:off x="182808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TDSP Sample July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eter Estim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/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endCxn id="296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/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4920" y="1295280"/>
          <a:ext cx="84582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458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kpatrick</cp:lastModifiedBy>
  <dcterms:modified xsi:type="dcterms:W3CDTF">2004-12-07T17:38:00Z</dcterms:modified>
  <cp:revision>5</cp:revision>
  <dc:subject/>
  <dc:title>PowerPoint Presentation</dc:title>
</cp:coreProperties>
</file>