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77FF-F7E2-4DB6-B41B-13F09A90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B431-88CC-444B-87A5-1711CC23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004-801F-4D09-8EDB-52FDE937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2C3-DDD3-4674-8203-1862E78A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8472-9E3E-4729-9188-A3A9FA36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B91-DF4E-40C8-9924-13F9DA03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5EE-FCA6-4960-8B08-1A415BF5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354-5667-48E7-97AA-F033454E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3EF-DEEF-4818-9AFF-EA6B909C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B16-2945-4FF0-912B-72941047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E2E-E1FE-4F30-809F-B6FBA6EE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B1F-C404-48B0-B18D-2DAE5317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D1BA-EB5F-4648-A1B5-1824549CC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905120"/>
            <a:ext cx="815328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tlement Calend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Extract Vari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EBA-656F-42B6-AADC-A34A5519B0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30360" y="5638680"/>
            <a:ext cx="1295280" cy="106704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ttlement Cale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900520"/>
            <a:ext cx="6024600" cy="833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6026040" cy="142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72280" y="2057400"/>
            <a:ext cx="2336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egan with 1 Resettlement a n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57880" y="2971800"/>
            <a:ext cx="258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ved to 3 Resettlements a n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57880" y="3886200"/>
            <a:ext cx="258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Completed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Resettl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57880" y="4648320"/>
            <a:ext cx="258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Caught up to 180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True-Up 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Times New Roman"/>
              </a:rPr>
              <a:t>(Resettlement Comple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30360" y="2895480"/>
            <a:ext cx="1295280" cy="9144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0360" y="3962520"/>
            <a:ext cx="1298520" cy="6094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58800" y="4648320"/>
            <a:ext cx="1298880" cy="9144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30360" y="2057400"/>
            <a:ext cx="129852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57150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True-up Settl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of June 19, 20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on December 16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8600" y="3962520"/>
            <a:ext cx="6010200" cy="55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28600" y="4724280"/>
            <a:ext cx="6010200" cy="830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16000" y="5791320"/>
            <a:ext cx="6032520" cy="83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16B-BB8F-4F7C-A5A0-9DE4624171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6094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 Relationship Vari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d with ERCOT</a:t>
            </a:r>
            <a:br>
              <a:rPr sz="32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of 12/08/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6560" y="1676520"/>
          <a:ext cx="8286840" cy="391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676520"/>
                    <a:ext cx="828684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F8B9-9B53-4F61-AD68-7E02AD9601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5335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 Relationship Vari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d with ERCO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of 12/08/20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280" y="1447920"/>
          <a:ext cx="8944200" cy="508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944200" cy="50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40A5-2FC8-4239-ADF2-850383ECE5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12-09T23:45:25Z</dcterms:modified>
  <cp:revision>4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8340335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March 04.ppt</vt:lpwstr>
  </property>
  <property fmtid="{D5CDD505-2E9C-101B-9397-08002B2CF9AE}" pid="6" name="_PreviousAdHocReviewCycleID">
    <vt:r8>-1263327933</vt:r8>
  </property>
  <property fmtid="{D5CDD505-2E9C-101B-9397-08002B2CF9AE}" pid="7" name="_ReviewingToolsShownOnce">
    <vt:lpwstr/>
  </property>
</Properties>
</file>