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72101-FAB6-4E56-880C-79E1F49844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0826-BBBA-4432-A6AB-DCCBECD0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80E3-F784-498D-9D6E-BFEE55AD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F0A5-5FD1-4321-AB54-064A0A1DBF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775FC-3615-464A-9E87-B4A8FA84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4C55-13C9-4763-8691-B8412B3B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7238-D5A4-41C8-94C3-CA81E080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90F45-C078-4D84-BEEB-7DC11087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CC5DB-E395-4846-AF13-BB917AC4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C994-8E2E-47A5-ACC4-E075DDE9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B69B5-C888-4CCC-A885-5215AA98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15083-47BD-454E-B6A7-1DEE02F2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1B8F-49E6-4526-98AA-0D05C48E5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M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cember 16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CEF0-3B9B-4D9A-8554-DCB17FF574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6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for Distribution Loss and UFE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9480" y="2133720"/>
          <a:ext cx="7925040" cy="23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79250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01B5E-9AD9-4355-8D56-49396A1ED4E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6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523880"/>
            <a:ext cx="830592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Load Research Project with over 4,400 sample meters (PWG 10/23/03 – Go Live Nov. 2004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 Profile Type and Weather Zone Validation 200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Residential suspended by Boar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 Profile Type and Weather Zone Validation 20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Developed improvement pla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ential Survey (Remanded by TAC and RMS Task Force Organiz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on Tree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s Section 18.6.5, Future IDRs Impact Analysis (PWG 8/19/03 - Expanded in May 2004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 Schedules in ERCOT (Process flow document on the ERCOT Web for adding TOU schedul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E Brainstorming S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R469 Compliance for Competitive Metering and 25516 Rulings to Load Profiling (Effective 02/01/04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R471 for NIDR to IDR Default Profile (PWG 09/26/03 – effective Nov. 04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R478/LPGRR2003-004 – Lagged Dynamic for new profile (on hold with low priorit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R479 IDR Removal (RMS 11/11 to review priority in 200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R48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Weather Responsiveness Determination for Proxy Day (PWG 12/4/03 – effective Dec. 04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R494 Revise Forecasted Load Profile Post time (06/24/04 withdrawn by sponso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R514 - NIDR default settlement process improvements (PWG 07/30/03 – ERCOT implementin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R536 Lower IDR Mandatory Installation Threshold (TAC 11/4 approv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R544 12-Month Window for Scaling NIDR to IDR ESI IDs (Approved PRS 10/2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il and gas properties profile change request (Recent activity with Requestor to install sample meter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2193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4 Accomplish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3919-0965-43D4-BB65-DCF6E10D99AC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6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371600"/>
            <a:ext cx="7925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355760"/>
            <a:ext cx="87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nnual Validation Report to the ERCOT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438280"/>
            <a:ext cx="8839440" cy="222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8080"/>
                </a:solidFill>
                <a:uFillTx/>
                <a:latin typeface="Arial"/>
              </a:rPr>
              <a:t>VOTING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to approve the revised plan,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 Validation Report to the ERCOT Board (revised 11/18/0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ubmitted to the RMS exploder on 11/19/04 in file nam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_Validation_Board_Report_PWG.doc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2F3E-B5A5-4E5D-B331-D93CEB966EB7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6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1371600"/>
            <a:ext cx="7925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355760"/>
            <a:ext cx="87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PRR draft - Calculation of Distribution Losses for Settlemen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828800"/>
            <a:ext cx="82296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s distribution losses calculation on same level as transmission lo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significant to consider a chan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962520"/>
            <a:ext cx="8839080" cy="222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8080"/>
                </a:solidFill>
                <a:uFillTx/>
                <a:latin typeface="Arial"/>
              </a:rPr>
              <a:t>VOTING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to approve the PRR draft made by the PWG entitled,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ion of Losses for Sett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ubmitted to the RMS exploder on 11/19/04 in file nam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R calculation of losses for settlement_revised_F.doc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6F1B6-CA55-4D5A-BA83-BADCD8DF7491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6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ining th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tribution loss factors for a selected TDSP are calculated using the following formul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DLF * [K + (1 - K) * (SIE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AAL)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 i = Inter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F = Settlement Interval Distribution Loss Fa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LF = Annual Distribution Loss Fa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constant representing the no load loss fa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L = Settlement Interval ERCOT Load  (ERCOT Day Ahead Forecasted MW Load divided by 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L = ERCOT Annual interval Average Load  (ERCOT will use 8,073 MWh for year 2004 calcul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D0D6C-AD33-4BD9-8AB4-1B6B5CC0C65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6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28600" y="1447920"/>
          <a:ext cx="5486400" cy="476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5486400" cy="47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6095880" y="1447920"/>
          <a:ext cx="2700360" cy="4800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447920"/>
                    <a:ext cx="27003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C42A-BB6B-482D-BB88-E9ECD1A1F2C9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6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620120" cy="464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2E6D-4F3D-4410-9D29-687BEEBAAA20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6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51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3E80F-83BD-4F4F-A576-7220214B5C4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6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205760" cy="504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E5C1-B37B-4B3D-B819-BB5F9A9BCAAA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6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bboswell</cp:lastModifiedBy>
  <dcterms:modified xsi:type="dcterms:W3CDTF">2004-12-08T21:06:01Z</dcterms:modified>
  <cp:revision>117</cp:revision>
  <dc:subject/>
  <dc:title>PowerPoint Presentation</dc:title>
</cp:coreProperties>
</file>