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C3B25-2846-44AF-AAF3-C88C8B554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04C99-D04B-48FE-80BC-0A1232A0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7266E-DB92-4652-8997-930B002D3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FA2AD-AEFF-4AD7-8C6E-B80BA10AA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9CD5B-8F67-4796-97FC-60016E1D9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43C11-E81C-4127-B497-88F44FF97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E8877-29F1-47C2-895D-85E2D89E0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CCA59-91D0-4BE9-A712-056927723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E54C-8C98-4BAF-A206-A52DDE76E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5FE4-AE9A-445B-90E5-05B91E98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22A4-1B35-4E5E-AAB2-F5128C778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A545A-4240-4A28-BE85-7796FA2C8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0F0B-0264-4C07-A974-7670DC972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2514240"/>
            <a:ext cx="79246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R 479</a:t>
            </a:r>
            <a:br>
              <a:rPr sz="3600"/>
            </a:br>
            <a:br>
              <a:rPr sz="3600"/>
            </a:br>
            <a:r>
              <a:rPr b="0" lang="en-US" sz="3600" spc="-1" strike="noStrike">
                <a:solidFill>
                  <a:srgbClr val="000000"/>
                </a:solidFill>
                <a:latin typeface="Times New Roman"/>
              </a:rPr>
              <a:t>ERCOT Updat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850A72B-2640-47FC-AA58-A54EB41E0FB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479 Update</a:t>
            </a:r>
            <a:endParaRPr b="0" lang="en-US" sz="3200" spc="-1" strike="noStrike">
              <a:solidFill>
                <a:srgbClr val="000000"/>
              </a:solidFill>
              <a:latin typeface="Times New Roman"/>
            </a:endParaRPr>
          </a:p>
        </p:txBody>
      </p:sp>
      <p:sp>
        <p:nvSpPr>
          <p:cNvPr id="46"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oday’s discussion</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 recap of PRR479 objective</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ed at PRS on 12/15/0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E149F7-B5AF-4952-9777-54FF0D7BFE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479 Update</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R 479</a:t>
            </a:r>
            <a:endParaRPr b="0" lang="en-US" sz="28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the removal of an IDR meter for settlement under certain conditions when load drops below a minimum threshol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IDRs installed by NOIEs for load aggregation purposes only to be exempt from being used for retail Customer settlement purposes and allow the NOIE to remove IDRs used for NOIE load aggregation within one hundred and twenty (120) days after the NOIE fully implements Customer Choice.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B223E8-A1CA-4325-B9A8-5912F1053A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479 Update</a:t>
            </a:r>
            <a:endParaRPr b="0" lang="en-US" sz="3200" spc="-1" strike="noStrike">
              <a:solidFill>
                <a:srgbClr val="000000"/>
              </a:solidFill>
              <a:latin typeface="Times New Roman"/>
            </a:endParaRPr>
          </a:p>
        </p:txBody>
      </p:sp>
      <p:sp>
        <p:nvSpPr>
          <p:cNvPr id="50"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34308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a:p>
            <a:pPr lvl="1" marL="743040" indent="-28584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20, 2004 - BOD approved PRR </a:t>
            </a:r>
            <a:endParaRPr b="0" lang="en-US" sz="2000" spc="-1" strike="noStrike">
              <a:solidFill>
                <a:srgbClr val="000000"/>
              </a:solidFill>
              <a:latin typeface="Times New Roman"/>
            </a:endParaRPr>
          </a:p>
          <a:p>
            <a:pPr lvl="1" marL="743040" indent="-28584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23, 2004 - PRS assigned 2.1 Project Priority</a:t>
            </a:r>
            <a:endParaRPr b="0" lang="en-US" sz="2000" spc="-1" strike="noStrike">
              <a:solidFill>
                <a:srgbClr val="000000"/>
              </a:solidFill>
              <a:latin typeface="Times New Roman"/>
            </a:endParaRPr>
          </a:p>
          <a:p>
            <a:pPr lvl="1" marL="743040" indent="-28584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created project PR40055, but did not initiate in 2004</a:t>
            </a:r>
            <a:endParaRPr b="0" lang="en-US" sz="2000" spc="-1" strike="noStrike">
              <a:solidFill>
                <a:srgbClr val="000000"/>
              </a:solidFill>
              <a:latin typeface="Times New Roman"/>
            </a:endParaRPr>
          </a:p>
          <a:p>
            <a:pPr lvl="1" marL="743040" indent="-28584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will be moved onto the 2005 Project Priority List.</a:t>
            </a:r>
            <a:endParaRPr b="0" lang="en-US" sz="2000" spc="-1" strike="noStrike">
              <a:solidFill>
                <a:srgbClr val="000000"/>
              </a:solidFill>
              <a:latin typeface="Times New Roman"/>
            </a:endParaRPr>
          </a:p>
          <a:p>
            <a:pPr lvl="1" marL="743040" indent="-28584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s with a Priority of less than 1.2 will likely fall below the budgeted cut-line for projects and not be worked in 2005.</a:t>
            </a:r>
            <a:endParaRPr b="0" lang="en-US" sz="2000" spc="-1" strike="noStrike">
              <a:solidFill>
                <a:srgbClr val="000000"/>
              </a:solidFill>
              <a:latin typeface="Times New Roman"/>
            </a:endParaRPr>
          </a:p>
          <a:p>
            <a:pPr lvl="1" marL="743040" indent="-28584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was given an action item to follow up at Dec. RMS meet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1F03DE-B8FB-4AD9-8147-6B5E04A5F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479 Update</a:t>
            </a:r>
            <a:endParaRPr b="0" lang="en-US" sz="3200" spc="-1" strike="noStrike">
              <a:solidFill>
                <a:srgbClr val="000000"/>
              </a:solidFill>
              <a:latin typeface="Times New Roman"/>
            </a:endParaRPr>
          </a:p>
        </p:txBody>
      </p:sp>
      <p:sp>
        <p:nvSpPr>
          <p:cNvPr id="52"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S to review the priority on PRR479 at its meeting on 12/15/04.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ision from PRS should decide which path the discussion will tak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FDEDBF-08EF-471B-A757-66BDD9CA0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479 Update</a:t>
            </a:r>
            <a:endParaRPr b="0" lang="en-US" sz="3200" spc="-1" strike="noStrike">
              <a:solidFill>
                <a:srgbClr val="000000"/>
              </a:solidFill>
              <a:latin typeface="Times New Roman"/>
            </a:endParaRPr>
          </a:p>
        </p:txBody>
      </p:sp>
      <p:sp>
        <p:nvSpPr>
          <p:cNvPr id="54"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PRS re-prioritized PRR479 above the ‘cut line’</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is report being part of SAS70 audit, the language will stay boxed until the project for PRR479 is completed.</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oject is initiated, ERCOT will work with the Market on the ‘new’ IDR report implementation.</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F0E210-D420-414C-B07E-E596E42A69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R479 Update</a:t>
            </a:r>
            <a:endParaRPr b="0" lang="en-US" sz="3200" spc="-1" strike="noStrike">
              <a:solidFill>
                <a:srgbClr val="000000"/>
              </a:solidFill>
              <a:latin typeface="Times New Roman"/>
            </a:endParaRPr>
          </a:p>
        </p:txBody>
      </p:sp>
      <p:sp>
        <p:nvSpPr>
          <p:cNvPr id="56"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S did not re-prioritize PRR479 above the ‘cut line’, the language from PRR479 will stay in the grey box.</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1 – RMS to reprioritize and take back to PRS to try again.</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2 –RMS, PUCT or OPUC to review objectives of PRR479 and determine whether additional revisions to Section 18.6 are necessary.</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3 – Do nothing, leave language in grey bo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27C2C2-05FE-4028-BC8A-9EA2462DD14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Ann Boren</cp:lastModifiedBy>
  <cp:lastPrinted>2002-09-24T18:27:58Z</cp:lastPrinted>
  <dcterms:modified xsi:type="dcterms:W3CDTF">2004-12-13T15:22:54Z</dcterms:modified>
  <cp:revision>362</cp:revision>
  <dc:subject/>
  <dc:title>PowerPoint Presentation</dc:title>
</cp:coreProperties>
</file>