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491-9B2F-48A3-BD55-7542296A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0F0-E42B-464B-AF68-B928B0B8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26F-820F-40FA-9A88-5929E16E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C3C-3540-461A-93F6-C937D5E5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5D8-9D4C-42D1-8D8A-3E12B88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5F7-E6EB-484C-8A10-54B7EDE3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AAD-7C99-4140-992A-8CB25204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083-175E-4706-80B9-254B837B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67D-F57F-4198-8C16-5ED0E62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B08-802B-4F89-A827-2CA57BB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2DF-A66C-4135-8508-0EAA2FE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46B-EBC9-4CDB-989C-26123BA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11B-DEDE-4CFD-8ACB-E4B16AF83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W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 Accomplishments Update for R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Ryan Thoma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rect Energy)</a:t>
            </a:r>
            <a:br>
              <a:rPr sz="2000"/>
            </a:b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8BC-F2F6-4753-AE3A-0575A3CF9A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ussions/Educational Sess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d multiple discussions around the Texas Market Link (TML) Implemen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ed statistics for the various reports/extracts being downloaded from the ERCOT Portal/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 &amp; A session with ERCOT staff regarding the new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PS Meter Ex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Q &amp; A sessions with ERCOT staff regarding the new ERCOT 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ft matrix of information (DDL, description, etc.) for reports/extracts that ERCOT produces &amp; delivers to th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al sessions on ERCOT Project Management &amp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Analysis &amp; Requirements Te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CART)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 &amp; A session with ERCOT staff regarding the new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ad Estimation Cou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eport v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sumption Data Loading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CRs Submit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34: CSA Extract - CSA Report for CRs (RMS Approval on 06/10/2004; RMS Priority 2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36: TML-ESIID TXN Portal Flag (RMS Approval on 08/12/2004; RMS Priority 3.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38: Enhancements to FasTrak Tools (RMS Approval on 08/17/2004; RMS Priority 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39: Pending Load Loss Report for CRs (RMS Approval on 08/17/2004; RMS Priority 1.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740: Enhancements to SCR727 Extracts (RMS Approval on 08/17/2004; RMS Priority 1.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xtracts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5FE-AD2F-4AAA-ADFD-43B09CAC86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user</cp:lastModifiedBy>
  <cp:lastPrinted>2002-09-24T18:27:58Z</cp:lastPrinted>
  <dcterms:modified xsi:type="dcterms:W3CDTF">2004-12-09T22:30:42Z</dcterms:modified>
  <cp:revision>384</cp:revision>
  <dc:subject/>
  <dc:title>PowerPoint Presentation</dc:title>
</cp:coreProperties>
</file>