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297-1786-4B8F-9375-34CBB0A8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5C4-16C8-4714-8807-A34D3DA4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AAF-DC92-48FE-A288-B2ECAB40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7B2-D33C-451E-9B50-CF902424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B15-CD15-45AE-AD49-CFD6B9AB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B34-86AE-49B8-AB59-ED75F5BE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F33-22C7-42AC-820C-1343A502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075-EC77-453D-ADF2-22FB82BF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128-9E84-4D60-B157-3B7950DD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D68-1D4D-46E1-BF03-0498C7B0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8D8-8227-4E96-9269-4D807EB6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C00-B7C4-4104-81FC-46DAB070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FFF2-7BD5-4947-8625-3938280BE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33720" y="1066680"/>
          <a:ext cx="434340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434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3" name=""/>
          <p:cNvCxnSpPr/>
          <p:nvPr/>
        </p:nvCxnSpPr>
        <p:spPr>
          <a:xfrm flipH="1" rot="16200000">
            <a:off x="6419520" y="-1049040"/>
            <a:ext cx="839160" cy="5068080"/>
          </a:xfrm>
          <a:prstGeom prst="curvedConnector5">
            <a:avLst>
              <a:gd name="adj1" fmla="val 49399"/>
              <a:gd name="adj2" fmla="val 35710"/>
              <a:gd name="adj3" fmla="val 49399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4" name=""/>
          <p:cNvCxnSpPr/>
          <p:nvPr/>
        </p:nvCxnSpPr>
        <p:spPr>
          <a:xfrm flipV="1" rot="16200000">
            <a:off x="1389960" y="1866240"/>
            <a:ext cx="1524600" cy="4305960"/>
          </a:xfrm>
          <a:prstGeom prst="curvedConnector5">
            <a:avLst>
              <a:gd name="adj1" fmla="val -8313"/>
              <a:gd name="adj2" fmla="val 27541"/>
              <a:gd name="adj3" fmla="val -8313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5" name=""/>
          <p:cNvCxnSpPr/>
          <p:nvPr/>
        </p:nvCxnSpPr>
        <p:spPr>
          <a:xfrm rot="5400000">
            <a:off x="361080" y="703800"/>
            <a:ext cx="3582360" cy="4305960"/>
          </a:xfrm>
          <a:prstGeom prst="curvedConnector5">
            <a:avLst>
              <a:gd name="adj1" fmla="val 14351"/>
              <a:gd name="adj2" fmla="val 40317"/>
              <a:gd name="adj3" fmla="val 14351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6" name=""/>
          <p:cNvCxnSpPr/>
          <p:nvPr/>
        </p:nvCxnSpPr>
        <p:spPr>
          <a:xfrm flipH="1" flipV="1" rot="5400000">
            <a:off x="5324040" y="732960"/>
            <a:ext cx="3029760" cy="5068080"/>
          </a:xfrm>
          <a:prstGeom prst="curvedConnector5">
            <a:avLst>
              <a:gd name="adj1" fmla="val -7546"/>
              <a:gd name="adj2" fmla="val 35710"/>
              <a:gd name="adj3" fmla="val -7546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7" name=""/>
          <p:cNvCxnSpPr/>
          <p:nvPr/>
        </p:nvCxnSpPr>
        <p:spPr>
          <a:xfrm>
            <a:off x="4343040" y="5562720"/>
            <a:ext cx="480132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8" name=""/>
          <p:cNvCxnSpPr/>
          <p:nvPr/>
        </p:nvCxnSpPr>
        <p:spPr>
          <a:xfrm flipV="1">
            <a:off x="-360" y="5562000"/>
            <a:ext cx="4343760" cy="99108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49" name=""/>
          <p:cNvCxnSpPr/>
          <p:nvPr/>
        </p:nvCxnSpPr>
        <p:spPr>
          <a:xfrm flipV="1" rot="10800000">
            <a:off x="-720" y="-360"/>
            <a:ext cx="4305960" cy="221040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cxnSp>
        <p:nvCxnSpPr>
          <p:cNvPr id="50" name=""/>
          <p:cNvCxnSpPr/>
          <p:nvPr/>
        </p:nvCxnSpPr>
        <p:spPr>
          <a:xfrm rot="10800000">
            <a:off x="4266360" y="-720"/>
            <a:ext cx="487764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51" name=""/>
          <p:cNvSpPr/>
          <p:nvPr/>
        </p:nvSpPr>
        <p:spPr>
          <a:xfrm>
            <a:off x="64771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051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121932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8380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3716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464832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47242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6483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449568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563868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53341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57913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2485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236232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1240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35053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5053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12952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632448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9625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/>
          <p:nvPr/>
        </p:nvCxnSpPr>
        <p:spPr>
          <a:xfrm flipV="1" rot="10800000">
            <a:off x="-720" y="-360"/>
            <a:ext cx="1524600" cy="144864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74" name=""/>
          <p:cNvSpPr/>
          <p:nvPr/>
        </p:nvSpPr>
        <p:spPr>
          <a:xfrm>
            <a:off x="304920" y="99072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495680"/>
            <a:ext cx="457200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200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Meter Estim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5228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16002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2860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77240" y="1523880"/>
            <a:ext cx="533520" cy="457200"/>
          </a:xfrm>
          <a:prstGeom prst="sun">
            <a:avLst>
              <a:gd name="adj" fmla="val 37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481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/>
          <p:nvPr/>
        </p:nvCxnSpPr>
        <p:spPr>
          <a:xfrm flipV="1">
            <a:off x="3428640" y="3047400"/>
            <a:ext cx="5715720" cy="3810600"/>
          </a:xfrm>
          <a:prstGeom prst="curvedConnector5">
            <a:avLst>
              <a:gd name="adj1" fmla="val 60632"/>
              <a:gd name="adj2" fmla="val 50000"/>
              <a:gd name="adj3" fmla="val 60632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4419720" y="64008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59436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49528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350532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610480" y="281952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</a:rPr>
              <a:t>TX SET (subgroup) met on 8-31-04 to review the existing Meter Estimation issues as requested by R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</a:rPr>
              <a:t>TDSP’s agreed to compile data for July 2004 to help group determine scope and estimation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</a:rPr>
              <a:t>TDSP’s consolidated internal estimation codes from field readers, ranging from 15 to 35 unique codes by TD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Monotype Corsiva"/>
              </a:rPr>
              <a:t>The single month review does not distinguish between single and consecutive months estim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91" idx="0"/>
          </p:cNvCxnSpPr>
          <p:nvPr/>
        </p:nvCxnSpPr>
        <p:spPr>
          <a:xfrm flipH="1" rot="16200000">
            <a:off x="632376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TX SET Meter Estimation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endCxn id="101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2" idx="0"/>
          </p:cNvCxnSpPr>
          <p:nvPr/>
        </p:nvCxnSpPr>
        <p:spPr>
          <a:xfrm rot="5400000">
            <a:off x="175176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Total Meters in Sample  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   5,872,2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Total Meters Estimated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70,0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Overall Percentage Estimated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             01.18932%</a:t>
            </a:r>
            <a:r>
              <a:rPr b="0" lang="en-US" sz="2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Meters Inaccessible   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27,264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38.90%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Meters estimated due to 3-day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21,358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30.6%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Protocol 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Equipment Problems / Missing Meters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12,804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18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Weather / Illness / Safety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/ Misc.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  6,537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0 9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Meters requiring MVO from CR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Monotype Corsiva"/>
              </a:rPr>
              <a:t>             2,092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03.0%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	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Monotype Corsiva"/>
              </a:rPr>
              <a:t>(70,055)</a:t>
            </a: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Monotype Corsiva"/>
              </a:rPr>
              <a:t>(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 flipH="1" rot="16200000">
            <a:off x="640008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endCxn id="124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rot="5400000">
            <a:off x="182808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TDSP Sample July 200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Meter Estim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 flipH="1" rot="16200000">
            <a:off x="632376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44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endCxn id="149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 rot="5400000">
            <a:off x="175176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04920" y="1295280"/>
          <a:ext cx="84582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4582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Monotype Corsiva"/>
              </a:rPr>
              <a:t>Scope of Meter estimations does not warrant additional Market Reporting or the addition of Protocol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Monotype Corsiva"/>
              </a:rPr>
              <a:t>Better utilize existing communication methods between TDSP’s and CR’s that can reduce estimates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Meters removed,  requiring MVO from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Meter Obstructed/ Locked/ Inacce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Monotype Corsiva"/>
              </a:rPr>
              <a:t>Recommend communication between CR and TDSP remain flexible vs. establishing Protocol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Allows flexibility for CR to communicate with Customer, determine timeframes for meter accessi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Allows CR to determine if on-going meter estimation is acceptable, and if not, to contact the TDSP to discuss installation of AMR, phone lines, ITRON, etc to secure actual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6" idx="0"/>
          </p:cNvCxnSpPr>
          <p:nvPr/>
        </p:nvCxnSpPr>
        <p:spPr>
          <a:xfrm flipH="1" rot="16200000">
            <a:off x="6323760" y="-1599840"/>
            <a:ext cx="1069200" cy="4572720"/>
          </a:xfrm>
          <a:prstGeom prst="curvedConnector5">
            <a:avLst>
              <a:gd name="adj1" fmla="val 25968"/>
              <a:gd name="adj2" fmla="val 43098"/>
              <a:gd name="adj3" fmla="val 25968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TX SET Recommend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10480" y="9144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0"/>
            <a:ext cx="53316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/>
          <p:nvPr/>
        </p:nvCxnSpPr>
        <p:spPr>
          <a:xfrm>
            <a:off x="0" y="5866200"/>
            <a:ext cx="9144720" cy="2520"/>
          </a:xfrm>
          <a:prstGeom prst="curvedConnector5">
            <a:avLst>
              <a:gd name="adj1" fmla="val 4476"/>
              <a:gd name="adj2" fmla="val 25433333"/>
              <a:gd name="adj3" fmla="val 4476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7315200" y="601992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29600" y="571500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632448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76320" y="563868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64008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endCxn id="176" idx="1"/>
          </p:cNvCxnSpPr>
          <p:nvPr/>
        </p:nvCxnSpPr>
        <p:spPr>
          <a:xfrm rot="5400000">
            <a:off x="-2361960" y="3504600"/>
            <a:ext cx="4648680" cy="76680"/>
          </a:xfrm>
          <a:prstGeom prst="curvedConnector5">
            <a:avLst>
              <a:gd name="adj1" fmla="val 29267"/>
              <a:gd name="adj2" fmla="val -180660"/>
              <a:gd name="adj3" fmla="val 29267"/>
            </a:avLst>
          </a:prstGeom>
          <a:ln w="63360">
            <a:solidFill>
              <a:srgbClr val="008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0" y="4343400"/>
            <a:ext cx="53352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429000"/>
            <a:ext cx="533520" cy="457200"/>
          </a:xfrm>
          <a:prstGeom prst="sun">
            <a:avLst>
              <a:gd name="adj" fmla="val 3779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152280" y="2286000"/>
            <a:ext cx="53316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67" idx="0"/>
          </p:cNvCxnSpPr>
          <p:nvPr/>
        </p:nvCxnSpPr>
        <p:spPr>
          <a:xfrm rot="5400000">
            <a:off x="1751760" y="-1600200"/>
            <a:ext cx="1067760" cy="4572720"/>
          </a:xfrm>
          <a:prstGeom prst="curvedConnector5">
            <a:avLst>
              <a:gd name="adj1" fmla="val -10556"/>
              <a:gd name="adj2" fmla="val 46248"/>
              <a:gd name="adj3" fmla="val -10556"/>
            </a:avLst>
          </a:prstGeom>
          <a:ln w="57240">
            <a:solidFill>
              <a:srgbClr val="008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85800" y="0"/>
            <a:ext cx="533520" cy="457200"/>
          </a:xfrm>
          <a:prstGeom prst="sun">
            <a:avLst>
              <a:gd name="adj" fmla="val 3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48720" y="380880"/>
            <a:ext cx="53316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"/>
            <a:ext cx="533160" cy="457200"/>
          </a:xfrm>
          <a:prstGeom prst="sun">
            <a:avLst>
              <a:gd name="adj" fmla="val 3779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228600"/>
            <a:ext cx="533520" cy="457200"/>
          </a:xfrm>
          <a:prstGeom prst="sun">
            <a:avLst>
              <a:gd name="adj" fmla="val 3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228600" y="990720"/>
            <a:ext cx="533520" cy="457200"/>
          </a:xfrm>
          <a:prstGeom prst="sun">
            <a:avLst>
              <a:gd name="adj" fmla="val 34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kpatrick</cp:lastModifiedBy>
  <dcterms:modified xsi:type="dcterms:W3CDTF">2004-12-08T19:45:08Z</dcterms:modified>
  <cp:revision>6</cp:revision>
  <dc:subject/>
  <dc:title>PowerPoint Presentation</dc:title>
</cp:coreProperties>
</file>