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5A2-2D87-4E39-8929-A7CFBD72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C26-D8EB-4644-AD01-0DF83DEB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675-C701-4561-8F9F-E27951AF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DA3-8781-46D0-A593-E203EFC7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BBB-A8FC-40A3-887E-9C9F303A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62E-6982-43B2-B0CA-019E8BBA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DE4-A2E2-4E5B-9CBB-9EB83AB7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58F-A6EC-40FB-B148-4E019D9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7F4-8723-401C-8BE0-DBEEE3D5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DB8-63D7-4335-A7DB-8D14C201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444-5209-4DE5-9BAF-F3C934EF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5F2-0400-4E15-B8EF-16D79813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A740-7F0B-449E-884B-B0493591F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105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CE0-5F3C-451E-87AC-14F65E82A8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New REPs are scheduled to test in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xisting REPs testing in new terr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for Bank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testing for change in EDI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for change in service order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759-3328-41AA-B4E9-BA6036644C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light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ign-up deadline was December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Matrix was sent out December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beds are due January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Testing begins Dec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 for Dec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-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a g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8DD-C6A3-4054-BBBD-310CB7FE0B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kick off call Friday January 21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start to flow Monday 1/24 at 8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status calls -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January RMS (1/11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Testing should be 80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February RMS (2/8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12 of 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should b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March RMS (3/8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32 of 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script scheduled to complete on Day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D57-60C5-43FA-B9F2-E91FF26A6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2-10T00:04:58Z</dcterms:modified>
  <cp:revision>355</cp:revision>
  <dc:subject/>
  <dc:title>PowerPoint Presentation</dc:title>
</cp:coreProperties>
</file>