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AE07-2D57-420A-8D68-D3C5476A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C32-9597-48DB-8083-98D67B06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135-9F7A-4675-AEBC-6958935F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9C1-9587-447E-AC14-DE4F6896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C21-0715-4E2B-960E-7102B174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527-882B-4CE0-9D1A-5D994441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E1C-B3AA-41FE-B3DB-7CFC3BCD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CB73-DB78-4D3A-9C37-AE6E2629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1A2-F6EC-45A8-B5B9-8ABBEA1B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ABDC-0EB4-4677-861C-26FA6417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498-B7A9-4C74-A2CE-FE7F675F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A4A5-B09D-407C-BB29-4EFBCD51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06D7-1D14-4A1E-A426-625270E38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Research Sampling (LR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6/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B6F-E25B-4414-86AF-4F28D95184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S Project Summary --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ject Measurement and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start date -- 2Q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d Project deployment date (agreed to by Market) – 11/1/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ual Deployment date --11/1/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Project Budget -- $1.5MM (impact analy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sed Project Budget -- $7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ual charges to date -- $66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$40k in outstanding invoices that should be reconciled over the next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TDSPs fully engaged in th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 CRs fully engaged in the prog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B48B-4BBC-4ACF-9AE1-D799437514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S Project Summary --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SPs Commi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TDSPs completed Pilot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pected over 4500 IDR sampl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ed over 4200 IDR sample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point readings have been transmitted to ERCOT starting in August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DSPs have been diligent about replacement points, and working with ERCOT staff on sample point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 Commi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Rs have completed Pilot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is in the process of building data to transmit to C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s will be working with ERCOT staff if there are any additional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BBA-E657-45E8-A61B-A5402B01D3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S Project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rket 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SP Installation update as of 12/1/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verification of sample point installation and transaction confirmation under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working with TDSPs on remaining installations and replacements (on-go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transitioning to O&amp;M role for sample point management and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320" y="2376360"/>
            <a:ext cx="9043920" cy="19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98A6-1D6F-46CE-821C-E4C2BD72E6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S Project Summary -- ERC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Softwar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loyment of new software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/server Lode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/server 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loyment of “Retail like” transaction management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loyment of back end sample track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Hardware and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t out 11 new servers for the project (all on new Blade technolo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t 4 new environments for internal testing, Pilot, and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7D7-EE79-4CDD-8EB9-E0072ECD7A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S Project Summary -- ERC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ing solution completely transaction based (minimal data clean-up requir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tilized existing MV-90 technology transactions to minimize cost for data formatting, data clean-up, and data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d 4 new transactions for TDSPs to transmit sample data to ERC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d 19 additional internal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s and Re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ed over 20 critical issues during testing and all were resol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ed numerous additional fixes and enhancements throughout the project. Most have been completed and remaining are being rolled into O&amp;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critical or High issues or defects out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D3C-2370-47DE-AE20-45A078DEB1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S Project Fi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thanks to the following groups (since there are way too many people to lis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SP Metering staf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SP Load Profiling dep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SP Transaction Management dep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 Load Profil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Load Profiling de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Transactio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Web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Infrastructure and 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Production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probably many more…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hanks again for everyone’s hard work and commitment ---Ultimately, that is what made this project a success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11B6-E6A2-458C-8646-C7510F8F0D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wariner</dc:creator>
  <dc:description/>
  <dc:language>en-US</dc:language>
  <cp:lastModifiedBy>kbergman</cp:lastModifiedBy>
  <cp:lastPrinted>2002-09-24T18:27:58Z</cp:lastPrinted>
  <dcterms:modified xsi:type="dcterms:W3CDTF">2004-12-10T00:08:36Z</dcterms:modified>
  <cp:revision>290</cp:revision>
  <dc:subject>RMS</dc:subject>
  <dc:title>ERCOT RMS Update 10-16-0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35515971</vt:r8>
  </property>
  <property fmtid="{D5CDD505-2E9C-101B-9397-08002B2CF9AE}" pid="3" name="_AuthorEmail">
    <vt:lpwstr>amarquez@ercot.com</vt:lpwstr>
  </property>
  <property fmtid="{D5CDD505-2E9C-101B-9397-08002B2CF9AE}" pid="4" name="_AuthorEmailDisplayName">
    <vt:lpwstr>Marquez, Adrian</vt:lpwstr>
  </property>
  <property fmtid="{D5CDD505-2E9C-101B-9397-08002B2CF9AE}" pid="5" name="_EmailSubject">
    <vt:lpwstr>RMS Meeting Update</vt:lpwstr>
  </property>
  <property fmtid="{D5CDD505-2E9C-101B-9397-08002B2CF9AE}" pid="6" name="_PreviousAdHocReviewCycleID">
    <vt:r8>1348640867</vt:r8>
  </property>
  <property fmtid="{D5CDD505-2E9C-101B-9397-08002B2CF9AE}" pid="7" name="_ReviewingToolsShownOnce">
    <vt:lpwstr/>
  </property>
</Properties>
</file>