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DFF1D45D-B1D3-41D1-BB77-F090D7E0C36E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y Acceptance Testing Near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delivery scheduled for March 14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440" y="45007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2/2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4046400"/>
          <a:ext cx="3922560" cy="276228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05 thru 5/13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9/05 thru 5/20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3/05 thru 6/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99728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VA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57,6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development underway.  OOM Tool Enhancements planning near comple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comp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ML Specifications released 2/2/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y acceptance testing progressed slower than expected.  Schedule impact of 2 we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7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901800"/>
          <a:ext cx="7772400" cy="5738760"/>
        </p:xfrm>
        <a:graphic>
          <a:graphicData uri="http://schemas.openxmlformats.org/drawingml/2006/table">
            <a:tbl>
              <a:tblPr/>
              <a:tblGrid>
                <a:gridCol w="1046160"/>
                <a:gridCol w="1025640"/>
                <a:gridCol w="5700600"/>
              </a:tblGrid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20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/PRR211 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 - 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 - 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 - 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Add Corrected MCPEs to the MOS dbase and pass to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/D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 A Business Process will be put in place to address standardization of Constraint Nam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jrobinson</cp:lastModifiedBy>
  <cp:lastPrinted>1999-12-01T22:56:09Z</cp:lastPrinted>
  <dcterms:modified xsi:type="dcterms:W3CDTF">2005-03-14T17:19:13Z</dcterms:modified>
  <cp:revision>712</cp:revision>
  <dc:subject/>
  <dc:title>No Slide Title</dc:title>
</cp:coreProperties>
</file>