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495B-DC94-4F9B-99EC-E5D90282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43828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bruary 200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Plan Performance Metrics Repo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QSE Project Manager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res Calculated in accordance with the ERCOT Protocols Section 4.10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se scores are unadjusted and do not reflect any changes that may be made after discussions with individual QS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Resource Sta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0" y="1066680"/>
            <a:ext cx="8185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Resource LSL as a % of 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7760" y="1066680"/>
            <a:ext cx="8186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Day Ahead Zonal Schedule (2.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AP Zonal Schedule (2.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7120" y="1066680"/>
            <a:ext cx="8177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Down Bid &amp;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7120" y="1066680"/>
            <a:ext cx="8177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Total Up AS Scheduled Obli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7120" y="1066680"/>
            <a:ext cx="8177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Young Li</dc:creator>
  <dc:description/>
  <dc:language>en-US</dc:language>
  <cp:lastModifiedBy> Robert Staples</cp:lastModifiedBy>
  <cp:lastPrinted>2000-09-19T10:42:49Z</cp:lastPrinted>
  <dcterms:modified xsi:type="dcterms:W3CDTF">2005-03-09T16:11:42Z</dcterms:modified>
  <cp:revision>5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23612608</vt:r8>
  </property>
  <property fmtid="{D5CDD505-2E9C-101B-9397-08002B2CF9AE}" pid="3" name="_AuthorEmail">
    <vt:lpwstr>rstaples@ercot.com</vt:lpwstr>
  </property>
  <property fmtid="{D5CDD505-2E9C-101B-9397-08002B2CF9AE}" pid="4" name="_AuthorEmailDisplayName">
    <vt:lpwstr>Staples, Robert</vt:lpwstr>
  </property>
  <property fmtid="{D5CDD505-2E9C-101B-9397-08002B2CF9AE}" pid="5" name="_EmailEntryID">
    <vt:lpwstr>000000006123B85853C04644BEA7919CD67EC24007008E4547FAEC455D46933745A0D608FFE60000002D94C30000B34440AE2CEDA742A9477F5F480CA4C4000001DE33340000</vt:lpwstr>
  </property>
  <property fmtid="{D5CDD505-2E9C-101B-9397-08002B2CF9AE}" pid="6" name="_EmailSubject">
    <vt:lpwstr>February 2005 Resource Plan Performance Metric Update</vt:lpwstr>
  </property>
  <property fmtid="{D5CDD505-2E9C-101B-9397-08002B2CF9AE}" pid="7" name="_PreviousAdHocReviewCycleID">
    <vt:r8>-1689707899</vt:r8>
  </property>
  <property fmtid="{D5CDD505-2E9C-101B-9397-08002B2CF9AE}" pid="8" name="_ReviewCycleID">
    <vt:r8>-1734134100</vt:r8>
  </property>
</Properties>
</file>