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E2A6-3D74-44F3-AE59-0C74882CC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Selection – All Ancillary Services are selected at the same time, based on QSE bids and ERCOT requirements.  Cost is minimized using a linear program to perform the simultaneous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tial Selection – Ancillary Services are procured in order – Up Regulation, Responsive Reserve, Non Spinning Reser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M – Out of Merit Order – The OOM tool is a generic term used to refer to the ERCOT operator mechanism to deploy OOME, OOMC, and now with R4 VDI and Fleet O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PC – Market Clearing Price for Capacity - The highest price associated with a Congestion Zone for a Settlement Interval for Ancillary Service capacity awarded in each Ancillary Services capacity procurement run by ERCOT. There will be a separate Market Clearing Price for Capacity for each Ancillary Services capacity market. (Protocols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justment Period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djustment Period for any given Operating Hour is the time period following the close of the Day-Ahead market and extending up to each Operating Period. (Protocols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 from ERCOT Protocols 4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up cost will be calculated by RPRS.  Startup cost will equal the Capacity Price per MW multiplied by the Capacity MW in the b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E1F-FB74-4BEB-BD80-5D1A71D9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1893-7CCE-4C04-AC1F-31C7A1BB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92A-6DA4-4D9C-BE58-F51F5273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6C2-4F04-48A4-9615-D7FAE78A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39B0-0F5E-40E4-9D3C-87FD6AD0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BDD5-7D14-4D25-BD18-72B1516D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263A-2500-4137-BA45-57E64EFD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CC70-2E37-4AB9-9496-9A2EC28D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4754-B93E-42AC-AB8D-7E8D4983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71440" y="30456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74DD-9F68-421B-BED9-5FD4D932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A192-C789-43D1-A365-6A35E326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1F8-A5FE-48E6-8027-DC57D10B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3D02-4C00-4CE0-99BE-BCD3C220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757F-345B-477D-8DE3-B61337EA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447A-F045-4171-8257-1BE76BD4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F63A-77ED-431A-9986-2D0C1AD0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5F57-34A4-4755-AE68-1CF08462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459-7AE6-497E-86AD-606798CF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6624-7682-436B-B77E-7F569C7B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3CE-AC39-45F0-8D46-2FF75B53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71440" y="30456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D71-7D5F-471D-9DB8-A5C944BE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C72-4D0B-43E8-812E-3BFF6FE8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D2E-0C6E-4DA2-9B0F-FAF5F20D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A93-09F1-4AA8-B677-D5C3493B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8672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BA7F-491E-4089-8870-496962933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331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3200" y="60199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3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1C16-433F-4C63-AAD5-8B5085E98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MMS Release 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34286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E PMW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 March,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don Whi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RS Questions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5520" y="1981080"/>
            <a:ext cx="81849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ill be included in R4 MP trai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RCOT expects as far as QSE communication, an overview of clearing engines, and any process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ill the Congestion flag be used for in RPRS deploym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gestion flag will be set if the RPRS deployment was for local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difference in Lead Time (RPRS Bid) and Startup Time (RP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 time will not exist in the bids, per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taneous A/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taneous Selection of Ancillary Services is equal to or less expensive than Sequential Se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idding rules for linked bids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S bid cannot exceed the URS bid by more than X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S bid &lt;= URS bid  + ( X/100 * URS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RS bid cannot exceed the RRS bid by more than X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RS bid &lt;= RRS bid + (X/100 * RRS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taneous A/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 ERCOT needs 10 MW URS and RRS, X =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E A bids 10 MW;  $9  URS, $5   R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E B bids 10 MW; $10 URS, $8   R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E C bids 10 MW; $15 URS, $30 R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(old) – $9 URS (QSE A), $8 RRS (QSE B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70 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taneous (new) – $10 URS (QSE B), $5 RRS (QSE 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50 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19240" y="3348000"/>
            <a:ext cx="8924760" cy="581400"/>
            <a:chOff x="219240" y="3348000"/>
            <a:chExt cx="8924760" cy="581400"/>
          </a:xfrm>
        </p:grpSpPr>
        <p:sp>
          <p:nvSpPr>
            <p:cNvPr id="115" name=""/>
            <p:cNvSpPr/>
            <p:nvPr/>
          </p:nvSpPr>
          <p:spPr>
            <a:xfrm>
              <a:off x="219240" y="3419640"/>
              <a:ext cx="6108480" cy="439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43000" y="3409920"/>
              <a:ext cx="6070320" cy="455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73880" y="3348000"/>
              <a:ext cx="267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Wingdings"/>
                  <a:ea typeface="Wingdings"/>
                </a:rPr>
                <a:t></a:t>
              </a:r>
              <a:r>
                <a:rPr b="1" lang="en-US" sz="2800" spc="-1" strike="noStrike">
                  <a:solidFill>
                    <a:srgbClr val="ff3300"/>
                  </a:solidFill>
                  <a:latin typeface="Stencil"/>
                </a:rPr>
                <a:t> </a:t>
              </a:r>
              <a:r>
                <a:rPr b="1" lang="en-US" sz="3200" spc="-1" strike="noStrike">
                  <a:solidFill>
                    <a:srgbClr val="ff3300"/>
                  </a:solidFill>
                  <a:latin typeface="Stencil"/>
                </a:rPr>
                <a:t>REJECT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727280" y="3789360"/>
            <a:ext cx="4608360" cy="1015920"/>
            <a:chOff x="1727280" y="3789360"/>
            <a:chExt cx="4608360" cy="1015920"/>
          </a:xfrm>
        </p:grpSpPr>
        <p:sp>
          <p:nvSpPr>
            <p:cNvPr id="119" name=""/>
            <p:cNvSpPr/>
            <p:nvPr/>
          </p:nvSpPr>
          <p:spPr>
            <a:xfrm>
              <a:off x="1727280" y="3789360"/>
              <a:ext cx="4608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0 &lt;= 15 + 25/100 * 15 = 18.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232000" y="3824280"/>
              <a:ext cx="28728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ve Testing performed on Market Clearing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this week we will be running the R4 AS Market concurrently with the production marke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planned to be reported to WMS in April and May meet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78356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Results 3/8/2005  Total Savings $13,9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2952720"/>
          <a:ext cx="9144000" cy="2444760"/>
        </p:xfrm>
        <a:graphic>
          <a:graphicData uri="http://schemas.openxmlformats.org/drawingml/2006/table">
            <a:tbl>
              <a:tblPr/>
              <a:tblGrid>
                <a:gridCol w="2494080"/>
                <a:gridCol w="2147760"/>
                <a:gridCol w="2225520"/>
                <a:gridCol w="2276640"/>
              </a:tblGrid>
              <a:tr h="65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ease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Sav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$1,216.5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5,196.5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lease 4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resources can be specified as Non-Bid in the resource pl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R (Mandatory), QF, LaaR, Block Load Transfer, Nuclear, Renewable, and Hyd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 unit which is classified as bid submit premium bi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– System will consider the bid limit for a null b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lease 4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ERCOT use the Reason field with Release 4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ERCOT explain the scenarios that will require the use of the following OOME types? OOME, OOMC, OOMEVDI, OOMCVDI, etc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see XML docu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9280" y="216864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 4 Functional Design Doc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through your ERCOT Accoun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R 342 A/S Simultaneous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R 413/491 Replacement Reserv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482436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 Items from February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ment Reserve Service (RP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 of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taneous Selection of Ancillary Services (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 of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Release 4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briefer version of XML Spec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ogress, should be available by end of the mon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e feasibility of running User Acceptance Testing with Current RPRS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ock Market Feasible in current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provide some results of ERCOT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e  extent of RPRS results to be posted to 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6.3.2.1 (14) Quantity, MCPC, Shadow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5.10 PRR 515 information on OO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possible options for accessing daily resource specific bid premiu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is scheduled for the next Release.  It is not feasible for R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SE’s should be able to shadow the lim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6920" y="202392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Step Clear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al Congestion &amp; System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PC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Ahead between 1600 and 1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time During the Adjustmen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P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oral (Time) Constra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up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um Ru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um 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 Hour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posed to 24 1 Hour Optim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 treatment of Start Up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or intervention to (de-) select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 on non selected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Resources are Eligible for RP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ongestion – any generator resource offline and available will be elig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nal Congestion, Capacity – any offline and available generator or online, available, active LaaR resource with a RPRS b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makes up an RPRS B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– The Operating day for which the bid is sub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HOUR – The first hour the bid is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HOUR – The last hour the bid is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 – The capacity in MW for the RPRS b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RC_ID – ID of 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RC_TY – Type of Resource (GEN, UFR, C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ZONE – Zone where the Resource is 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UP_PRICE – Capacity Price per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HOUR_PRICE – Operational price per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IRATION_DATE – Date which bid exp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IRATION_TIME – Time which bid exp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_BIDPOINT – Procured RPRS MW will be bid under this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RS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ily FAT (Factory Acceptance Test) Analy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ily SAT (Site Acceptance Test)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ed ability to run R4 RPRS Market on current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5:23:20Z</dcterms:created>
  <dc:creator>Brandon Whittle</dc:creator>
  <dc:description/>
  <dc:language>en-US</dc:language>
  <cp:lastModifiedBy>pcoon</cp:lastModifiedBy>
  <dcterms:modified xsi:type="dcterms:W3CDTF">2005-03-11T19:45:40Z</dcterms:modified>
  <cp:revision>67</cp:revision>
  <dc:subject/>
  <dc:title>EMMS Release 4</dc:title>
</cp:coreProperties>
</file>