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738-A8B6-46DD-8F8C-3402B6AF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D2D-4FBF-415D-980E-7D91167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794-8EC7-41B5-8759-540BE245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7F1-D0D0-44DA-8552-4DF530D9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53F-C374-483D-9F5D-E8B62379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F0A0-BC8D-41A0-BEFE-9DA13C0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B490-A214-4AC2-9059-711C83F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BE26-C67C-4BC0-AF8A-59F3F43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65DD-1A68-457F-A543-B948D3C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D1D1-9D94-4980-B64E-570A476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C1D-A3CA-4E52-B33A-03F5710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4FB-2BBC-4056-8571-96503965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7155-6B1C-4C04-AAC9-B9A25FE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36A2-EBF1-42EB-B481-A10EC85B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D961-73CD-4E9D-9FFF-36786F7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946-5080-48EA-8BD6-CE6F960F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1106-8DFA-42B9-A8B9-85400C82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757-36F6-4716-9A52-3D9A071B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CAA-0343-4DDB-A9C8-74B64D2F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6F8-53C6-4C30-B1C4-CD8E603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E9C-77CF-4F00-BBD0-2D33573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E59-92EE-4DA1-B3B2-D064D8A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802-DD98-4BDA-9283-005E3EC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8E1-04F8-4A26-8C4A-9553B4C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C8B-9F88-4AF6-A3E7-E8C03AB0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A16-4817-48EA-88AC-2E9C8243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 Balancing Bid Stack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/1/2002 through 3/9/20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PM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March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rry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60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 Background Information on the depletion of the bid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nalyst  compiled basic information from historical records and identified certain relationships which the ERCOT Market may find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ES Depleted Interv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076960" cy="3810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25560" y="1979640"/>
            <a:ext cx="73166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UBES B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3160" y="1887480"/>
            <a:ext cx="74660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ak Load Forecast v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ak Scheduled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076960" cy="381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7440" y="1898640"/>
            <a:ext cx="80485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duled Generation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ad Forec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79640" y="1757520"/>
            <a:ext cx="6984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 Wide Resourc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20880" y="1889280"/>
            <a:ext cx="72831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32040" y="1619280"/>
            <a:ext cx="73706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&amp;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23:20Z</dcterms:created>
  <dc:creator>Brandon Whittle</dc:creator>
  <dc:description/>
  <dc:language>en-US</dc:language>
  <cp:lastModifiedBy>Brandon Whittle</cp:lastModifiedBy>
  <dcterms:modified xsi:type="dcterms:W3CDTF">2005-03-11T22:24:42Z</dcterms:modified>
  <cp:revision>69</cp:revision>
  <dc:subject/>
  <dc:title>EMMS Release 4</dc:title>
</cp:coreProperties>
</file>