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764AA-2DFB-491D-B0B8-C873512CB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7148F-B45F-40F5-83C6-86118E5AD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4916A-B825-41FA-A8DA-6582BA1F9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36661-640B-471C-BA74-B58227DF1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91B59-9389-4D66-8D5E-06F355E34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E5A88-E0DF-43A4-8380-260899AE7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F365F-82C4-41E4-A5A1-031875E73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3A760-0508-4A6E-ADF7-7330C9FFE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224F6-B8A6-4EB2-93FD-BA9BE19FF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56804-17E8-4AF0-967A-53C195DEF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02BB5-0A5E-497E-BED9-7950166C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689FC-6939-48F4-BD89-12182513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53916-2443-485B-8A6B-7B9F498EC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9907B-D947-447D-853E-159C81746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1217D-20ED-470D-9093-CB2089354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86445-E05D-4C36-AB93-457B481CF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84C01-6222-4A45-AB82-035795B06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75F4B-2CBE-4C2D-8A89-E557FCB9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4815-942A-4B3F-A7AF-E61550707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44A1-A3B3-4C34-AF65-9A93C6F6C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063CA-ED3B-4A1A-A233-342B6F87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7C47-F85F-44FA-B18E-080BDA968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0256-8518-4775-A6D8-96A83020D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EAD3-FC69-4BC3-BEA4-CC4D88757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3168-B18E-4F4F-A6FF-F048557FDB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5867280" cy="6858000"/>
            <a:chOff x="0" y="0"/>
            <a:chExt cx="5867280" cy="6858000"/>
          </a:xfrm>
        </p:grpSpPr>
        <p:sp>
          <p:nvSpPr>
            <p:cNvPr id="5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
          <p:cNvGrpSpPr/>
          <p:nvPr/>
        </p:nvGrpSpPr>
        <p:grpSpPr>
          <a:xfrm>
            <a:off x="3632040" y="4889520"/>
            <a:ext cx="4876920" cy="318960"/>
            <a:chOff x="3632040" y="4889520"/>
            <a:chExt cx="4876920" cy="318960"/>
          </a:xfrm>
        </p:grpSpPr>
        <p:sp>
          <p:nvSpPr>
            <p:cNvPr id="5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5"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7"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886F-2ACC-4E11-AE2D-AA1F96C1D8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R 567</a:t>
            </a:r>
            <a:br>
              <a:rPr sz="3200"/>
            </a:br>
            <a:r>
              <a:rPr b="1" lang="en-US" sz="3200" spc="-1" strike="noStrike">
                <a:solidFill>
                  <a:srgbClr val="003366"/>
                </a:solidFill>
                <a:latin typeface="Arial"/>
              </a:rPr>
              <a:t>Block Bidding of Ancillary Services</a:t>
            </a:r>
            <a:endParaRPr b="1" lang="en-US" sz="3200" spc="-1" strike="noStrike">
              <a:solidFill>
                <a:srgbClr val="003366"/>
              </a:solidFill>
              <a:latin typeface="Arial"/>
            </a:endParaRPr>
          </a:p>
        </p:txBody>
      </p:sp>
      <p:sp>
        <p:nvSpPr>
          <p:cNvPr id="9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st Justification</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esentation to PRS</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March 17, 2005</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es the PRR Benefit the Market?</a:t>
            </a:r>
            <a:endParaRPr b="1" lang="en-US" sz="3200" spc="-1" strike="noStrike">
              <a:solidFill>
                <a:srgbClr val="006666"/>
              </a:solidFill>
              <a:latin typeface="Arial"/>
            </a:endParaRPr>
          </a:p>
        </p:txBody>
      </p:sp>
      <p:sp>
        <p:nvSpPr>
          <p:cNvPr id="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ed bidding structu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ly potential of 1MW 1 hour strik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ors can be bid rationall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it startup costs can be factored i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etition between use of capacity for Ancillary Service and DA energy, call option strikes, etc.</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wer cost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oved bidding = more offer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offers should lead to lower cos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evaluate saving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pping effect</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its that can be started can bid a lower cos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bid is struck, effectively “clips” the market pric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y assumes $50/MW/hr cap to reduce volatility associated with current bidding methodology</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market benefit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pacity and energy used for A/S can be used for a number of other markets such as DA energy forward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l options could also be struck to supply energy for capacity bid into A/S market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Block bidding allows better structuring of A/S offers allowing more capacity to bid into A/S marke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pping Effect</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d Jan. 1, through March 14, 2005</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if all prices above $50/MW were clipped:</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nuary - $6.936M</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bruary - $741K</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ch - $574K</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otal $8.251M</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2 and ½ month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aving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mproved bidding process should provide a general improvement in market performa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 of a fixed % reduction of the approximately $250 million A/S marke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rd to know exactly what to expect, however:</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 $5M/y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0% = $10M/y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 $15M/y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 $20M/yr</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on the extreme low end, savings substantially justify the project with only a one year paybac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Issues</a:t>
            </a:r>
            <a:endParaRPr b="1" lang="en-US" sz="3600" spc="-1" strike="noStrike">
              <a:solidFill>
                <a:srgbClr val="006666"/>
              </a:solidFill>
              <a:latin typeface="Arial"/>
            </a:endParaRPr>
          </a:p>
        </p:txBody>
      </p:sp>
      <p:sp>
        <p:nvSpPr>
          <p:cNvPr id="107"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meeting w/ERCOT, TXU, and Areva it appears that implementation is very doable using existing computational models that ERCOT own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RCOT raised other specific issue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Requires system replacement</a:t>
            </a:r>
            <a:r>
              <a:rPr b="0" lang="en-US" sz="1600" spc="-1" strike="noStrike">
                <a:solidFill>
                  <a:srgbClr val="003366"/>
                </a:solidFill>
                <a:latin typeface="Arial"/>
              </a:rPr>
              <a:t> – this should be factored in to the costs of the project</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Tie breaker</a:t>
            </a:r>
            <a:r>
              <a:rPr b="0" lang="en-US" sz="1600" spc="-1" strike="noStrike">
                <a:solidFill>
                  <a:srgbClr val="003366"/>
                </a:solidFill>
                <a:latin typeface="Arial"/>
              </a:rPr>
              <a:t> – could use the first bid submitted in to the market to break tie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Single MCPC</a:t>
            </a:r>
            <a:r>
              <a:rPr b="0" lang="en-US" sz="1600" spc="-1" strike="noStrike">
                <a:solidFill>
                  <a:srgbClr val="003366"/>
                </a:solidFill>
                <a:latin typeface="Arial"/>
              </a:rPr>
              <a:t> – if the price from a block bid that was selected exceeds the marginal clearing price of a single hour, the MCPC for that hour would be the clearing price for the non-block bid selected bid, because that is the clearing price for the marginal MW of capacity selected.</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Make Whole Payments</a:t>
            </a:r>
            <a:r>
              <a:rPr b="0" lang="en-US" sz="1600" spc="-1" strike="noStrike">
                <a:solidFill>
                  <a:srgbClr val="003366"/>
                </a:solidFill>
                <a:latin typeface="Arial"/>
              </a:rPr>
              <a:t> - blocks bids </a:t>
            </a:r>
            <a:r>
              <a:rPr b="0" lang="en-US" sz="1600" spc="-1" strike="noStrike" u="sng">
                <a:solidFill>
                  <a:srgbClr val="003366"/>
                </a:solidFill>
                <a:uFillTx/>
                <a:latin typeface="Arial"/>
              </a:rPr>
              <a:t>may</a:t>
            </a:r>
            <a:r>
              <a:rPr b="0" lang="en-US" sz="1600" spc="-1" strike="noStrike">
                <a:solidFill>
                  <a:srgbClr val="003366"/>
                </a:solidFill>
                <a:latin typeface="Arial"/>
              </a:rPr>
              <a:t> require some form of make whole payment if over the course of all the hours that the block was selected, the MCPC did not average out to be equal to our greater than the bid price selected.  This can be treated in the same fashion as energy in the future DAM (make whole netted against other “profits” with remainder uplifted).  </a:t>
            </a:r>
            <a:r>
              <a:rPr b="1" lang="en-US" sz="1600" spc="-1" strike="noStrike">
                <a:solidFill>
                  <a:srgbClr val="003366"/>
                </a:solidFill>
                <a:latin typeface="Arial"/>
              </a:rPr>
              <a:t>Even with potential uplift, cost will be less than process used today!</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meric Example</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QSE offer is struck for $40/MW for 100MW over a four hour perio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ur 1 – MCPC = $45/MW</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ur 2 – MCPC = $20/MW</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ur 3 – MCPC = $45/MW</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ur 4 – MCPC = $45/MW</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ke Whole payment = ($40/MW/hr*100MW*4 hrs) – ($45/MW/hr*100MW*3 hrs + $20/MW/hr*100MW*1 hr) =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500 to be uplifted</a:t>
            </a:r>
            <a:r>
              <a:rPr b="0" lang="en-US" sz="2000" spc="-1" strike="noStrike">
                <a:solidFill>
                  <a:srgbClr val="003366"/>
                </a:solidFill>
                <a:latin typeface="Arial"/>
              </a:rPr>
              <a:t> </a:t>
            </a:r>
            <a:r>
              <a:rPr b="0" i="1" lang="en-US" sz="2000" spc="-1" strike="noStrike">
                <a:solidFill>
                  <a:srgbClr val="003366"/>
                </a:solidFill>
                <a:latin typeface="Arial"/>
              </a:rPr>
              <a:t>(mechanism to be determin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id would only be struck if next available off exceeds $500 additional cost for this capac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ERCOT Issues Contd.</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anaging LAAR limitations</a:t>
            </a:r>
            <a:r>
              <a:rPr b="0" lang="en-US" sz="2000" spc="-1" strike="noStrike">
                <a:solidFill>
                  <a:srgbClr val="003366"/>
                </a:solidFill>
                <a:latin typeface="Arial"/>
              </a:rPr>
              <a:t> – not sure how this mechanism would change existing proces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Block Bid carryover for secondary markets:</a:t>
            </a:r>
            <a:endParaRPr b="0" lang="en-US" sz="20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seems like all selected bids (block or hourly) from the first market would be frozen where applicable and the secondary market would solve for the residual obligation using new bids.</a:t>
            </a:r>
            <a:endParaRPr b="0" lang="en-US" sz="18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if it’s a problem to carry over block bids, requirement could be set to rebid (all block bids thrown out)</a:t>
            </a:r>
            <a:endParaRPr b="0" lang="en-US" sz="18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x% requirement would be imposed – </a:t>
            </a:r>
            <a:r>
              <a:rPr b="0" lang="en-US" sz="2000" spc="-1" strike="noStrike">
                <a:solidFill>
                  <a:srgbClr val="003366"/>
                </a:solidFill>
                <a:latin typeface="Arial"/>
              </a:rPr>
              <a:t> since TAC set this very high, is this even an issue?  If so, can Areva provide suggestion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Notification - </a:t>
            </a:r>
            <a:r>
              <a:rPr b="0" lang="en-US" sz="2000" spc="-1" strike="noStrike">
                <a:solidFill>
                  <a:srgbClr val="003366"/>
                </a:solidFill>
                <a:latin typeface="Arial"/>
              </a:rPr>
              <a:t>utilize a PJM style lattice matrix that shows exactly which block bids that were submitted have been awarded. It seems that this should be a straight forward issue to work ou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st / Benefit and Timing</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ugh Cost / Benefit Analysis:</a:t>
            </a:r>
            <a:endParaRPr b="0" lang="en-US" sz="1800" spc="-1" strike="noStrike">
              <a:solidFill>
                <a:srgbClr val="003366"/>
              </a:solidFill>
              <a:latin typeface="Arial"/>
            </a:endParaRPr>
          </a:p>
          <a:p>
            <a:pPr lvl="1" marL="743040" indent="-285840">
              <a:lnSpc>
                <a:spcPct val="80000"/>
              </a:lnSpc>
              <a:spcBef>
                <a:spcPts val="42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Rough cost estimate to implement (Areva &amp; ERCOT) - $1M</a:t>
            </a:r>
            <a:endParaRPr b="0" lang="en-US" sz="1700" spc="-1" strike="noStrike">
              <a:solidFill>
                <a:srgbClr val="003366"/>
              </a:solidFill>
              <a:latin typeface="Arial"/>
            </a:endParaRPr>
          </a:p>
          <a:p>
            <a:pPr lvl="1" marL="743040" indent="-285840">
              <a:lnSpc>
                <a:spcPct val="80000"/>
              </a:lnSpc>
              <a:spcBef>
                <a:spcPts val="42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Removing some of the unnecessary start-up costs risk for generators should significantly improve A/S market liquidity</a:t>
            </a:r>
            <a:endParaRPr b="0" lang="en-US" sz="17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sed on 2004 actual A/S auction results, a 2% to 8% reduction in A/S costs would equate to between $7M/yr and $28M/yr of benefit for the market.</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sed on the first 2 ½ months of 2005, assuming that block bidding would clip all of the $50+ prices, block bidding would equate to $8.25M.</a:t>
            </a:r>
            <a:endParaRPr b="0" lang="en-US" sz="1600" spc="-1" strike="noStrike">
              <a:solidFill>
                <a:srgbClr val="003366"/>
              </a:solidFill>
              <a:latin typeface="Arial"/>
            </a:endParaRPr>
          </a:p>
          <a:p>
            <a:pPr lvl="1" marL="743040" indent="-285840">
              <a:lnSpc>
                <a:spcPct val="80000"/>
              </a:lnSpc>
              <a:spcBef>
                <a:spcPts val="42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Order of magnitude </a:t>
            </a:r>
            <a:r>
              <a:rPr b="0" lang="en-US" sz="1700" spc="-1" strike="noStrike" u="sng">
                <a:solidFill>
                  <a:srgbClr val="003366"/>
                </a:solidFill>
                <a:uFillTx/>
                <a:latin typeface="Arial"/>
              </a:rPr>
              <a:t>first year only</a:t>
            </a:r>
            <a:r>
              <a:rPr b="0" lang="en-US" sz="1700" spc="-1" strike="noStrike">
                <a:solidFill>
                  <a:srgbClr val="003366"/>
                </a:solidFill>
                <a:latin typeface="Arial"/>
              </a:rPr>
              <a:t> Cost / Benefit is between 10:1 and 25:1</a:t>
            </a:r>
            <a:endParaRPr b="0" lang="en-US" sz="17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ming</a:t>
            </a:r>
            <a:endParaRPr b="0" lang="en-US" sz="1800" spc="-1" strike="noStrike">
              <a:solidFill>
                <a:srgbClr val="003366"/>
              </a:solidFill>
              <a:latin typeface="Arial"/>
            </a:endParaRPr>
          </a:p>
          <a:p>
            <a:pPr lvl="1" marL="743040" indent="-285840">
              <a:lnSpc>
                <a:spcPct val="80000"/>
              </a:lnSpc>
              <a:spcBef>
                <a:spcPts val="42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Version 4 missed – day late and $ short</a:t>
            </a:r>
            <a:endParaRPr b="0" lang="en-US" sz="1700" spc="-1" strike="noStrike">
              <a:solidFill>
                <a:srgbClr val="003366"/>
              </a:solidFill>
              <a:latin typeface="Arial"/>
            </a:endParaRPr>
          </a:p>
          <a:p>
            <a:pPr lvl="1" marL="743040" indent="-285840">
              <a:lnSpc>
                <a:spcPct val="80000"/>
              </a:lnSpc>
              <a:spcBef>
                <a:spcPts val="42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Version 5 slated for ’06 – to far out, given the strong C/B opportunities</a:t>
            </a:r>
            <a:endParaRPr b="0" lang="en-US" sz="1700" spc="-1" strike="noStrike">
              <a:solidFill>
                <a:srgbClr val="003366"/>
              </a:solidFill>
              <a:latin typeface="Arial"/>
            </a:endParaRPr>
          </a:p>
          <a:p>
            <a:pPr lvl="1" marL="743040" indent="-285840">
              <a:lnSpc>
                <a:spcPct val="80000"/>
              </a:lnSpc>
              <a:spcBef>
                <a:spcPts val="42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Given that significant Cost / Benefit opportunities, Market Participants would like the opportunity to examine a mid term project implementation and associated budget review.</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6:26:23Z</dcterms:created>
  <dc:creator>e47162</dc:creator>
  <dc:description/>
  <dc:language>en-US</dc:language>
  <cp:lastModifiedBy>f64057</cp:lastModifiedBy>
  <dcterms:modified xsi:type="dcterms:W3CDTF">2005-03-16T17:01:24Z</dcterms:modified>
  <cp:revision>9</cp:revision>
  <dc:subject/>
  <dc:title>PRR 567 Block Bidding of Ancillary Services</dc:title>
</cp:coreProperties>
</file>