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3E7C-BFEB-4D21-BE8A-B5FFDF5C1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BD6B-2A18-4DD5-8253-45717B2F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787A-74B1-4540-B382-9FA11879C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81C1-06E6-4B8D-A140-8330EDF6B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E964-497F-4ABD-AC6B-6BB5AF517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D329-EB8F-4884-9C30-AC8C8B466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7FE3-314E-42EB-B748-EF445ED61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E29C-E366-48A3-AB70-D3DCA9E2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7875-3743-41AA-A7F3-1C3B8590F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CB3E-7FA9-4095-A598-B9346614E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A48B-E4C6-4C84-90A7-39AC4C9FD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8BB4-F505-4D2B-B719-3C94E623A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299-03DB-4415-B8AC-7FE7CA3A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7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nt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P/EMP 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 2/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W EMMS R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 2/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erprise Data Warehouse EMMS Replicated Source Syst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namic Rating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 3/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coming Major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estar 3.7 Upgr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/1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-40066-01, Rank 0.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ebel 7.7 Upgr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/1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-40066-03, Rank 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MS Release 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/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-30183-01, Rank 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4B03-7ECC-4980-A8F4-893855602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st PPL posted to ERCOT.com on 3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projects moved below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k Based Backu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 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tiris DC Implement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 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Courier New"/>
              <a:buChar char="•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kely to be reprioritized due to urgenc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rovements to VSA/DSA – Phase I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 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W Lodestar Decommi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 3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W EMMS Decommi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ther projects were cancelled or deferred to 2006 based on prior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ourier New"/>
              <a:buChar char="•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ks 8, 10, 13.5, 23, portions of 16, 20, 2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ght reduction in capital budget occurred on 3/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or amount = $27,28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amount   = $27,033,12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Courier New"/>
              <a:buChar char="—"/>
              <a:tabLst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used by transfer of funds from capital to O&amp;M budget for implementation of EMMS SPR Enhancements (PR50040, Rank 34.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C80F-1169-4BFF-8471-391773DCEB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 Position of the Cut Line (see Excel copy of PP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t Line is between Rank 35 and 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highlighted in yellow are market reques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in peach are PUCT reques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in green are ERCOT requested projects that have been reprioritized below the 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 descri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iti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&amp;M expenditure on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n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pital expense for plann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ecu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pital expense for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ptance signoff and invoice clea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an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action tak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Ho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ffort in phase 1, 2 or 3 has been stopp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erred to 200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f explana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2430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286000"/>
                <a:tab algn="l" pos="3772080"/>
                <a:tab algn="l" pos="411480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celle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f explana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7842-1030-4CDA-B052-1CE3FCF53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99BE-2251-4574-BBE0-C8A448274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ERCOT</cp:lastModifiedBy>
  <dcterms:modified xsi:type="dcterms:W3CDTF">2005-03-16T20:55:13Z</dcterms:modified>
  <cp:revision>67</cp:revision>
  <dc:subject/>
  <dc:title>Slide 1</dc:title>
</cp:coreProperties>
</file>