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52F7-FCB4-4CEA-A529-5AF72D131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47489-C31C-41DD-931A-261A5B7FF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26A2-A3A3-4A6B-9FDA-33B0C4E1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78115-209A-45A9-B2EC-7E64E374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2F1EB-D269-46D7-8DEB-98823924D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419AC-6A81-4AF9-8F5B-8F8FEFBEE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0D904-D05A-4576-8D87-CFD25958B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8E1B4-6233-43A5-9350-D029A79DD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7F1CD-AA48-45D2-9EBD-6F2BAFF0B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DFCC1-2BCA-48A4-93A7-BB5F67125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8308-2051-484C-B26F-8A4CB20A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7BFA-80FF-42FF-A1FF-F9EFE2B81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522ED-6534-44B7-B014-0BE877065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93628-DD54-4273-B11B-22ED1A4BB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52382-80BF-48E3-88C6-E19AE8BD2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3D34D-59B5-4E9E-9A1E-A83BA626A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593B1-8F09-4DBF-9831-B742D99BE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25AB-E8C6-4328-BFBD-AA7BFEF3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5C157-BCCE-4492-A754-B2E6BCBC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0EDAB-34F3-4C27-BFA8-F74BBE1C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641D-E0DD-4A8E-ACE7-4282C621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B8C8-3BD3-44F4-BF8F-AAFDCC04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4BBC-596C-4EEC-9390-4B36A7EA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B809-39AD-4FA4-935F-920655338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38080" y="2895120"/>
            <a:ext cx="7391520" cy="259092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7720" y="571500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71500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71500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17AB-7999-4F4A-83AD-2B2E4A6CB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762120" y="5867280"/>
            <a:ext cx="16761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666880" y="586728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29400" y="5867280"/>
            <a:ext cx="1752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915E-0E84-4512-AA92-7941EE56D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R 485 Heat Adder</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762120" y="3505320"/>
            <a:ext cx="7619760" cy="25905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Market Subcommittee</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February, 2005</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on Whittle</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Operations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5" name="PlaceHolder 2"/>
          <p:cNvSpPr>
            <a:spLocks noGrp="1"/>
          </p:cNvSpPr>
          <p:nvPr>
            <p:ph/>
          </p:nvPr>
        </p:nvSpPr>
        <p:spPr>
          <a:xfrm>
            <a:off x="838080" y="19051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to recommend Heat Rate Add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Rate Adder must be Approved by ERCOT Board before Release 4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87" name="PlaceHolder 2"/>
          <p:cNvSpPr>
            <a:spLocks noGrp="1"/>
          </p:cNvSpPr>
          <p:nvPr>
            <p:ph/>
          </p:nvPr>
        </p:nvSpPr>
        <p:spPr>
          <a:xfrm>
            <a:off x="838080" y="1218960"/>
            <a:ext cx="7391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f PRR 48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Langu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e for Bid Limit Calcul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Bid Limit Calcul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Up Val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Down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7">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89"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Solution Suspen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endorses Generic Cost Method plus Heat Rate Adder method (January 2004)</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cision made on what Adders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 485 Passes with the Adders left for an appropriate TAC subcommittee to decide (April 2004)</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 4.4.20</a:t>
            </a:r>
            <a:endParaRPr b="0" lang="en-US" sz="4400" spc="-1" strike="noStrike">
              <a:solidFill>
                <a:srgbClr val="000000"/>
              </a:solidFill>
              <a:latin typeface="Times New Roman"/>
            </a:endParaRPr>
          </a:p>
        </p:txBody>
      </p:sp>
      <p:sp>
        <p:nvSpPr>
          <p:cNvPr id="91" name="PlaceHolder 2"/>
          <p:cNvSpPr>
            <a:spLocks noGrp="1"/>
          </p:cNvSpPr>
          <p:nvPr>
            <p:ph/>
          </p:nvPr>
        </p:nvSpPr>
        <p:spPr>
          <a:xfrm>
            <a:off x="838080" y="1143000"/>
            <a:ext cx="739152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 as used in the Resource Category Generic Fuel Cost calculation for up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Down for all gas-fired units will be calculated by multiplying the most recent FIP by the difference of a constant heat rate adder and the Resource Category heat rate, as used in the Resource Category Generic Fuel Cost calculation for down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For all other Resource Categories, the Resource Category Generic bid limit for Balancing Energy Up and the Resource Category Generic bid limit for Balancing Energy Down will be calculated using the appropriate Resource Category Generic Fuel Cost calculation using the most recent FIP, if necessary, a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The proposed value of the heat rate adder will be recommended by the appropriate TAC subcommittee and will be re-evaluated on a quarterly basis.  The value of the heat rate adder must be approved by the ERCOT Board. </a:t>
            </a:r>
            <a:endParaRPr b="0" lang="en-US" sz="1800" spc="-1" strike="noStrike">
              <a:solidFill>
                <a:srgbClr val="000000"/>
              </a:solidFill>
              <a:latin typeface="Times New Roman"/>
            </a:endParaRPr>
          </a:p>
        </p:txBody>
      </p:sp>
      <p:sp>
        <p:nvSpPr>
          <p:cNvPr id="92" name=""/>
          <p:cNvSpPr/>
          <p:nvPr/>
        </p:nvSpPr>
        <p:spPr>
          <a:xfrm>
            <a:off x="1523880" y="2209680"/>
            <a:ext cx="6248520" cy="1922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3" presetSubtype="2">
                                  <p:stCondLst>
                                    <p:cond delay="0"/>
                                  </p:stCondLst>
                                  <p:childTnLst>
                                    <p:animClr clrSpc="rgb">
                                      <p:cBhvr>
                                        <p:cTn id="48" dur="500" fill="hold"/>
                                        <p:tgtEl>
                                          <p:spTgt spid="91">
                                            <p:txEl>
                                              <p:pRg st="0" end="0"/>
                                            </p:txEl>
                                          </p:spTgt>
                                        </p:tgtEl>
                                        <p:attrNameLst>
                                          <p:attrName>style.color</p:attrName>
                                        </p:attrNameLst>
                                      </p:cBhvr>
                                      <p:to>
                                        <a:srgbClr val="b2b2b2"/>
                                      </p:to>
                                    </p:animClr>
                                  </p:childTnLst>
                                </p:cTn>
                              </p:par>
                              <p:par>
                                <p:cTn id="49" nodeType="withEffect" fill="hold" presetClass="emph" presetID="3" presetSubtype="2">
                                  <p:stCondLst>
                                    <p:cond delay="0"/>
                                  </p:stCondLst>
                                  <p:childTnLst>
                                    <p:animClr clrSpc="rgb">
                                      <p:cBhvr>
                                        <p:cTn id="50" dur="500" fill="hold"/>
                                        <p:tgtEl>
                                          <p:spTgt spid="91">
                                            <p:txEl>
                                              <p:pRg st="1" end="1"/>
                                            </p:txEl>
                                          </p:spTgt>
                                        </p:tgtEl>
                                        <p:attrNameLst>
                                          <p:attrName>style.color</p:attrName>
                                        </p:attrNameLst>
                                      </p:cBhvr>
                                      <p:to>
                                        <a:srgbClr val="b2b2b2"/>
                                      </p:to>
                                    </p:animClr>
                                  </p:childTnLst>
                                </p:cTn>
                              </p:par>
                              <p:par>
                                <p:cTn id="51" nodeType="withEffect" fill="hold" presetClass="emph" presetID="3" presetSubtype="2">
                                  <p:stCondLst>
                                    <p:cond delay="0"/>
                                  </p:stCondLst>
                                  <p:childTnLst>
                                    <p:animClr clrSpc="rgb">
                                      <p:cBhvr>
                                        <p:cTn id="52" dur="500" fill="hold"/>
                                        <p:tgtEl>
                                          <p:spTgt spid="91">
                                            <p:txEl>
                                              <p:pRg st="2" end="2"/>
                                            </p:txEl>
                                          </p:spTgt>
                                        </p:tgtEl>
                                        <p:attrNameLst>
                                          <p:attrName>style.color</p:attrName>
                                        </p:attrNameLst>
                                      </p:cBhvr>
                                      <p:to>
                                        <a:srgbClr val="b2b2b2"/>
                                      </p:to>
                                    </p:animClr>
                                  </p:childTnLst>
                                </p:cTn>
                              </p:par>
                              <p:par>
                                <p:cTn id="53" nodeType="withEffect" fill="hold" presetClass="emph" presetID="3" presetSubtype="2">
                                  <p:stCondLst>
                                    <p:cond delay="0"/>
                                  </p:stCondLst>
                                  <p:childTnLst>
                                    <p:animClr clrSpc="rgb">
                                      <p:cBhvr>
                                        <p:cTn id="54" dur="500" fill="hold"/>
                                        <p:tgtEl>
                                          <p:spTgt spid="91">
                                            <p:txEl>
                                              <p:pRg st="3" end="3"/>
                                            </p:txEl>
                                          </p:spTgt>
                                        </p:tgtEl>
                                        <p:attrNameLst>
                                          <p:attrName>style.color</p:attrName>
                                        </p:attrNameLst>
                                      </p:cBhvr>
                                      <p:to>
                                        <a:srgbClr val="b2b2b2"/>
                                      </p:to>
                                    </p:animClr>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e</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Fired Resource Categories (Combined Cycle, Simple Cycle, Gas-Steam, Dies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Limit = (Heat Rate + Adder) * Fuel Inde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Limit = (Heat Rate – Adder) * Fuel Index</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atego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and Down Limits  =  Heat Rate * Fuel Index</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sta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4">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4">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60"/>
            <a:ext cx="73915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96" name=""/>
          <p:cNvSpPr/>
          <p:nvPr/>
        </p:nvSpPr>
        <p:spPr>
          <a:xfrm>
            <a:off x="1066680" y="182880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pread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98"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recommendation (voting i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Up -  1.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Down – 1.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7:37:52Z</dcterms:created>
  <dc:creator>Brandon Whittle</dc:creator>
  <dc:description/>
  <dc:language>en-US</dc:language>
  <cp:lastModifiedBy>thailu</cp:lastModifiedBy>
  <dcterms:modified xsi:type="dcterms:W3CDTF">2005-02-24T21:31:57Z</dcterms:modified>
  <cp:revision>9</cp:revision>
  <dc:subject/>
  <dc:title>PRR 485 Heat Adder</dc:title>
</cp:coreProperties>
</file>