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E51-A153-458C-8F45-591D6B8E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43F-F3E3-419D-9F25-D35E5BC1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171-1F72-4BDA-8D44-B391AB96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56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66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56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66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CDC-0936-48DB-B8C9-052DDF92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1B17-1DCA-4FAF-9413-FFDCEB96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C504-B35D-4156-99CD-C981F9C2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B12A-E305-4F66-8594-35D3CB69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AE33-913E-4DA4-A4F2-5ECB47D4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28A3-282B-4D4E-A134-32236824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5AD5-D137-4FBA-8CE3-FA2CC761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3FB7-E534-457F-BB35-32927F50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C31-222B-4632-8021-0B5CEE56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BB1E-7106-42A0-BC16-A0A56BFC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9219-4093-442B-9052-11CDFE6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7933-B680-4BE2-8966-57FA64B8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C531-2119-4C4B-ACBC-295657CC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756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66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756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66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4AC0-6E5C-419E-A7C2-BE883D05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7BA-9C13-4151-947C-A26D5760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6B7-9322-4C76-96A1-3E0B70FB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0FA-F6F8-45E1-BA6A-381121FE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6C7-73C4-456D-8058-B33BF12C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C8A-A404-4895-AB5A-B86BEC1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1EA-776E-4F59-8BBA-021E2728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5DE-8786-4BB3-9670-F77FED17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715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7150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40D8-0E71-47D7-8277-7FADC3B8F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58672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6668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1A9D-7669-4FDC-8113-32E75AE6A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cillary Services Validation for Linked B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619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lesale Market Sub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Februar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on Wh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Operation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 on X%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and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R 342 Passed January 2003 including variables called X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% variables included must be approved by the ERCOT Board before Release 4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MS to recommend X% values for Ancillary Services Linked Bid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s 4.4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39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sponsive Reserve capacity bid tied to a Regulation Up capacity bid may only exceed the Regulation Up capacity bid by X%, as approved by the ERCOT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on-Spinning Reserve capacity bid may only exceed Responsive Reserve capacity bid by X%, as approved by the ERCOT Boar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X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S bid * (1+X%) &lt;=URS b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X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RS bid * (1+X%) &lt;= RRS b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7:37:52Z</dcterms:created>
  <dc:creator>Brandon Whittle</dc:creator>
  <dc:description/>
  <dc:language>en-US</dc:language>
  <cp:lastModifiedBy>Brandon Whittle</cp:lastModifiedBy>
  <dcterms:modified xsi:type="dcterms:W3CDTF">2005-02-16T23:08:09Z</dcterms:modified>
  <cp:revision>8</cp:revision>
  <dc:subject/>
  <dc:title>PRR 485 Heat Adder</dc:title>
</cp:coreProperties>
</file>