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B4BD-2509-40AB-9A46-980FA4E9B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F292-C987-4441-AAB0-1BF53E82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4EFD-CA38-4F9B-87F6-D69409321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D56D-9154-490A-B5A3-8C93709FE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FF65-3F5A-445A-B08A-AFFEA0AB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2DF4-1D33-4404-B6A8-056390AD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8FB1-65C6-4A43-9D39-8C04148F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72D6-45BC-46FA-87A0-E03EF908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3444-2FAA-4DD7-BEA7-EBA98A40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80C7-8194-4499-A76B-CA8A6861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91E1-0796-4F91-A336-71878236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4FD2-CCDB-4547-84C8-0E444BD9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34F2-223A-47EC-8DF9-FFBDFD1AA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s About Local Congestion Co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stion Management Working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rry 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bruary 24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is a backup slide in case a question about 2003 Local Congestion Cost/MWh is as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600200" y="1981080"/>
          <a:ext cx="5771880" cy="3690720"/>
        </p:xfrm>
        <a:graphic>
          <a:graphicData uri="http://schemas.openxmlformats.org/drawingml/2006/table">
            <a:tbl>
              <a:tblPr/>
              <a:tblGrid>
                <a:gridCol w="2518920"/>
                <a:gridCol w="1758240"/>
                <a:gridCol w="1494720"/>
              </a:tblGrid>
              <a:tr h="694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$ Mill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$/MWh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OMC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5.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9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OME U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.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9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OME Dow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.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9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M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138.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0.4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5.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03 Congestion Cos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$ Per MW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Local Congestion Cos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OM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ERCOT pays a generator that did not plan to be on-line to start and run at minim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O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p – ERCOT pays a generator to operate at a higher output than plan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O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wn - ERCOT pays a generator to operate at a lower output than plan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M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Reliability Must Run – ERCOT pays a generator to be available and operate as directed when the owner would have otherwise suspended operation for an extended period of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cal Congestion Cost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$ Mill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76520"/>
          <a:ext cx="8229600" cy="4344840"/>
        </p:xfrm>
        <a:graphic>
          <a:graphicData uri="http://schemas.openxmlformats.org/drawingml/2006/table">
            <a:tbl>
              <a:tblPr/>
              <a:tblGrid>
                <a:gridCol w="3556080"/>
                <a:gridCol w="2549520"/>
                <a:gridCol w="2124000"/>
              </a:tblGrid>
              <a:tr h="79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200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200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0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OMC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35.2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76.8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OME U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.2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.0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0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OME Dow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.9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.4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M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2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138.8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2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119.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0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05.1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70.7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cal Congestion Co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73040" y="1601640"/>
          <a:ext cx="819792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1601640"/>
                    <a:ext cx="819792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600200" y="1981080"/>
          <a:ext cx="5771880" cy="3690720"/>
        </p:xfrm>
        <a:graphic>
          <a:graphicData uri="http://schemas.openxmlformats.org/drawingml/2006/table">
            <a:tbl>
              <a:tblPr/>
              <a:tblGrid>
                <a:gridCol w="2518920"/>
                <a:gridCol w="1758240"/>
                <a:gridCol w="1494720"/>
              </a:tblGrid>
              <a:tr h="694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$ Mill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$/MWh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OMC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.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9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OME U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.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9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OME Dow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.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9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M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119.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0.4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0.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04 Congestion Cos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$ Per MW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s of Local Cong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estion is caused by a mismatch of load and generation in a local area of the transmission system (sometimes referred to as a “load pocket” or a “generation pocket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COT gathers congestion data based on which generator was pa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04 Local Congestion Cost Paid to Generators by Z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973080" y="1828800"/>
          <a:ext cx="7284960" cy="461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3080" y="1828800"/>
                    <a:ext cx="7284960" cy="46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" name=""/>
          <p:cNvGrpSpPr/>
          <p:nvPr/>
        </p:nvGrpSpPr>
        <p:grpSpPr>
          <a:xfrm>
            <a:off x="2600280" y="3833640"/>
            <a:ext cx="4724280" cy="385920"/>
            <a:chOff x="2600280" y="3833640"/>
            <a:chExt cx="4724280" cy="385920"/>
          </a:xfrm>
        </p:grpSpPr>
        <p:sp>
          <p:nvSpPr>
            <p:cNvPr id="58" name=""/>
            <p:cNvSpPr/>
            <p:nvPr/>
          </p:nvSpPr>
          <p:spPr>
            <a:xfrm>
              <a:off x="2600280" y="4219560"/>
              <a:ext cx="4724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650840" y="3833640"/>
              <a:ext cx="172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Average = $0.9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04 Local Congestion Costs Paid to Generators by Local Security Ar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15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6135840" y="624852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th Z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2224080" y="5448240"/>
            <a:ext cx="380880" cy="1066680"/>
          </a:xfrm>
          <a:custGeom>
            <a:avLst/>
            <a:gdLst>
              <a:gd name="textAreaLeft" fmla="*/ 243360 w 380880"/>
              <a:gd name="textAreaRight" fmla="*/ 381240 w 3808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84880" y="6248520"/>
            <a:ext cx="12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th Z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4076640" y="5448240"/>
            <a:ext cx="380880" cy="1066680"/>
          </a:xfrm>
          <a:custGeom>
            <a:avLst/>
            <a:gdLst>
              <a:gd name="textAreaLeft" fmla="*/ 243360 w 380880"/>
              <a:gd name="textAreaRight" fmla="*/ 381240 w 3808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6200000">
            <a:off x="6476760" y="4343400"/>
            <a:ext cx="457200" cy="3352680"/>
          </a:xfrm>
          <a:custGeom>
            <a:avLst/>
            <a:gdLst>
              <a:gd name="textAreaLeft" fmla="*/ 292320 w 457200"/>
              <a:gd name="textAreaRight" fmla="*/ 457560 w 45720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60840" y="624852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st Z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981080" y="3581280"/>
            <a:ext cx="6553440" cy="1295640"/>
            <a:chOff x="1981080" y="3581280"/>
            <a:chExt cx="6553440" cy="1295640"/>
          </a:xfrm>
        </p:grpSpPr>
        <p:sp>
          <p:nvSpPr>
            <p:cNvPr id="70" name=""/>
            <p:cNvSpPr/>
            <p:nvPr/>
          </p:nvSpPr>
          <p:spPr>
            <a:xfrm>
              <a:off x="1981080" y="4876920"/>
              <a:ext cx="6553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83480" y="3581280"/>
              <a:ext cx="1533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Average = $0.9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24080" y="3886200"/>
              <a:ext cx="685800" cy="9907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04 Local Congestion Costs Paid to Generators by Local Security Ar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600200"/>
          <a:ext cx="8215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6135840" y="624852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th Z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6200000">
            <a:off x="2224080" y="5448240"/>
            <a:ext cx="380880" cy="1066680"/>
          </a:xfrm>
          <a:custGeom>
            <a:avLst/>
            <a:gdLst>
              <a:gd name="textAreaLeft" fmla="*/ 243360 w 380880"/>
              <a:gd name="textAreaRight" fmla="*/ 381240 w 3808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84880" y="6248520"/>
            <a:ext cx="12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th Z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4076640" y="5448240"/>
            <a:ext cx="380880" cy="1066680"/>
          </a:xfrm>
          <a:custGeom>
            <a:avLst/>
            <a:gdLst>
              <a:gd name="textAreaLeft" fmla="*/ 243360 w 380880"/>
              <a:gd name="textAreaRight" fmla="*/ 381240 w 3808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6476760" y="4343400"/>
            <a:ext cx="457200" cy="3352680"/>
          </a:xfrm>
          <a:custGeom>
            <a:avLst/>
            <a:gdLst>
              <a:gd name="textAreaLeft" fmla="*/ 292320 w 457200"/>
              <a:gd name="textAreaRight" fmla="*/ 457560 w 45720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60840" y="624852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st Z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909800" y="3733920"/>
            <a:ext cx="6553080" cy="307080"/>
            <a:chOff x="1909800" y="3733920"/>
            <a:chExt cx="6553080" cy="307080"/>
          </a:xfrm>
        </p:grpSpPr>
        <p:sp>
          <p:nvSpPr>
            <p:cNvPr id="83" name=""/>
            <p:cNvSpPr/>
            <p:nvPr/>
          </p:nvSpPr>
          <p:spPr>
            <a:xfrm>
              <a:off x="1909800" y="4010040"/>
              <a:ext cx="65530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550560" y="3733920"/>
              <a:ext cx="1533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Average = $0.9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5485680" y="193824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7.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080" y="368784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0.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37920" y="396396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0.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7400" y="475452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0.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27000" y="262080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1.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66720" y="361476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1.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88800" y="437364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0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0" y="193824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15.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689160" y="447984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0.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14480" y="437688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0.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924320" y="193824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7.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7360" y="5872320"/>
            <a:ext cx="759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3720" y="5853240"/>
            <a:ext cx="76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943600" y="2362320"/>
            <a:ext cx="914400" cy="75960"/>
            <a:chOff x="5943600" y="2362320"/>
            <a:chExt cx="914400" cy="75960"/>
          </a:xfrm>
        </p:grpSpPr>
        <p:sp>
          <p:nvSpPr>
            <p:cNvPr id="99" name=""/>
            <p:cNvSpPr/>
            <p:nvPr/>
          </p:nvSpPr>
          <p:spPr>
            <a:xfrm>
              <a:off x="6175080" y="2373480"/>
              <a:ext cx="462240" cy="5220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6480 h 52200"/>
                <a:gd name="textAreaBottom" fmla="*/ 45720 h 5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49840" y="2367000"/>
              <a:ext cx="30816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43600" y="2362320"/>
              <a:ext cx="30780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7772400" y="2362320"/>
            <a:ext cx="914400" cy="75960"/>
            <a:chOff x="7772400" y="2362320"/>
            <a:chExt cx="914400" cy="75960"/>
          </a:xfrm>
        </p:grpSpPr>
        <p:sp>
          <p:nvSpPr>
            <p:cNvPr id="103" name=""/>
            <p:cNvSpPr/>
            <p:nvPr/>
          </p:nvSpPr>
          <p:spPr>
            <a:xfrm>
              <a:off x="8003880" y="2373480"/>
              <a:ext cx="462240" cy="5220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6480 h 52200"/>
                <a:gd name="textAreaBottom" fmla="*/ 45720 h 5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78640" y="2367000"/>
              <a:ext cx="30816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72400" y="2362320"/>
              <a:ext cx="30780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334120" y="2362320"/>
            <a:ext cx="914400" cy="75960"/>
            <a:chOff x="5334120" y="2362320"/>
            <a:chExt cx="914400" cy="75960"/>
          </a:xfrm>
        </p:grpSpPr>
        <p:sp>
          <p:nvSpPr>
            <p:cNvPr id="107" name=""/>
            <p:cNvSpPr/>
            <p:nvPr/>
          </p:nvSpPr>
          <p:spPr>
            <a:xfrm>
              <a:off x="5565600" y="2373480"/>
              <a:ext cx="462240" cy="5220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6480 h 52200"/>
                <a:gd name="textAreaBottom" fmla="*/ 45720 h 5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40360" y="2367000"/>
              <a:ext cx="30816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34120" y="2362320"/>
              <a:ext cx="30780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6:34:41Z</dcterms:created>
  <dc:creator>Registered User</dc:creator>
  <dc:description/>
  <dc:language>en-US</dc:language>
  <cp:lastModifiedBy>TXU Energy</cp:lastModifiedBy>
  <dcterms:modified xsi:type="dcterms:W3CDTF">2005-02-23T22:00:19Z</dcterms:modified>
  <cp:revision>18</cp:revision>
  <dc:subject/>
  <dc:title>What are Congestion Costs?</dc:title>
</cp:coreProperties>
</file>