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74B-09BA-4114-AEC6-CE8C4B06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265-56FB-4C17-BFEB-C9931825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376-E5C3-46C4-A9F9-9C4DE44C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983-FF7F-423E-81B7-9FF04634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F9F-7284-4776-9E12-2B5F7ECE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E4D-9BB9-4615-83E2-7D87E00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DF6-3136-4ABB-848D-E4BDA33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E4C-2753-43D0-B3F7-CCC7905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302-4453-444A-8165-5F93527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31A-33EE-404E-BAE7-6B368EC3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956B-7F74-449B-9438-EA8A435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982-9DE2-4884-AAA0-19C5EF2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84CB-8BBC-4873-BC91-A4E5660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08E7-2FC6-4532-8A18-8E3A856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DC9-22A0-4D5F-A54E-D7DEA13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CFB-3DB6-4CD7-993C-C4FD9DC2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299A-A6BC-414F-ADE4-D2213CDE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198-FEBC-4E75-9FAC-0FF774F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DBF-C849-4D4A-99CC-F44DFE3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944-5273-4FA7-B302-054A293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9BA-28B9-42BA-8072-A54D1C2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D6C-50E2-4AD9-9409-40F0685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0F1-1C5D-4A11-8FAE-663AB91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F17-4E4F-4D75-A1EF-B02D8C3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5C3-3E89-49ED-9C0E-28E634B43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66C9-CE6A-470D-A8A1-FC236042A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RCOT Market Meeting Suppor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mproved Meeting Support for</a:t>
            </a:r>
            <a:br>
              <a:rPr sz="3200"/>
            </a:b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More Efficient Resource Utilizatio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09F-A3A1-45CA-B1BE-84969A765C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2514600"/>
            <a:ext cx="37339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Core Tea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gned responsi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able to both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dy and ERCO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es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coordination, communication, continuity of support for both committee and staf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4840" y="2825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2565360"/>
            <a:ext cx="3581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ERCOT Exp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requested by body via 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ctated via agenda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assigned by a Manag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 or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a standing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cus:  expertise, analysis, facts to aid market decision mak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6720" y="609480"/>
            <a:ext cx="53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ket Meeting/Committe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ey ERCOT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396-7004-48FF-BE6F-54C370D0B1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7440" y="17762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360" y="2843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800" y="3833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9240" y="520524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5586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38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20811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147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30080" y="525780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ME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30800" y="373392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.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les, 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720" y="279576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ul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S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0440" y="18050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rp Sec’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r Team,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7840" y="10144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6624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0622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004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071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3920" y="535788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185256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2040" y="1014480"/>
            <a:ext cx="220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ERCOT Coord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809880"/>
            <a:ext cx="201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mpacted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80240" y="28954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1040" y="1014480"/>
            <a:ext cx="24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Market Meet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Key Cl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3800" y="620856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lined position = performs ERCOT Staff Meeting Management 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848-FF65-4098-A781-FE5D52D47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452680" y="4604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1680" y="1447920"/>
            <a:ext cx="792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M - Cheryl Moseley,  SS - Ann Boren,  Legal - Mark Wal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Cheryl Moseley,  SS – Market Rules Team,  Legal – Andy Ga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Steve Myers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– Nieves Lop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P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Ted Hailu,  SS - Ann Boren,  Rules -  Diana Z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MS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M - Dale Goodman,  SS - Ann Boren,  Rules - Sonja Mi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Brittney Albracht performs facilities and meeting services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DC7-6A1B-4D10-9EC8-7F28CA13C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1880" y="46044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Committee Assignments – ERCOT Staff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4920" y="1447920"/>
            <a:ext cx="7675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M to coordinate/establish assignments to TF and WG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tablish back up for minutes taking at TAC and Subcommitte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solve TF and WG documentation need, responsibility and resource re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2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AC and Subcommitte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rther improve coordination across ERCOT Staff supporting MP’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ross functional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uring Q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P feedback checkpoint at TF and WG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726-8742-467A-89F6-290A52CBC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98480" y="4604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05 Facilities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4479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AC, Subcommittees and T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ally little change to existing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as far forward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k best match of facilities with needs (size, AV,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to minimize outside facilities utilization via scheduling co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orking groups and task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 up to two months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facilities to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RCOT facilities at preferred location first (Austin), use low-cost adjacent hotel space second if preferred location not available, use ERCOT alternate locations (Taylor) thi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perator training in April creates the need for flexibility from committee Chairs that month.  Thanks in advance for your assist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D5F-141C-4276-B285-083A547144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828800"/>
            <a:ext cx="748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F &amp; WG meetings, ERCOT Staff introductions and identification of your reason for being at the meeting (contributor/observer and area of inter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end of all meetings, quick check point survey (verbal w/ input documented and retained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worked well to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at did not work as well as you would have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w could the next meeting be improved?  (need actionable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each agenda call with the feedback from last meeting and discuss how to improve the next meeting to address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CED-5610-4BDA-9041-F4FF1883B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47280" y="4572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ssible Continuous Improvement Id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95280"/>
            <a:ext cx="748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tracking mechanism regarding committee, TF and WG agenda items, workflow, assignments, next step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cost/benefits criteria and analysis for non-administrative protocol and guid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nd standardize format and detail regarding committee, TF and WG “key document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 key docs on web site including: procedures, mission and scope, voting members, chair and vice chair (as appropriate for body type), ERCOT Staff assig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92D-B63C-4B18-B9D9-EED6D81526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5800" y="259092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estions and Sugg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7A6-5BBC-4332-B1D2-C93F7301B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iver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’s governance model (GM) is a key cornerstone to its overall market su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M requires a large commitment of key resources from ERCOT, PUCT, and Market Participant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all stakeholders, ERCOT Staff is being asked to do more with less, be more efficient and effective, control staff ad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Staff is expected to deliver a range of GM services at a high level and consist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ssues cross multiple functional areas, requiring significant cross impact analysis and coord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5DA-3F17-481D-85F7-77FB4581F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COT Staff Goal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fessional support of the MP market meet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fficien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the needs of the participants and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Right resour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given the body type and ag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ound prepa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RCOT presentations and po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Timely and precise communic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arly identification of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oordination across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, coordinate, analysis/impact, position development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Maximize utilization of ERCOT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8C7-8C85-47A7-8B5B-C0475E3CF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Significant Commitment Indeed…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2004 - Over 600 ERCOT MP meet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$700,000 in outside facilities and meals for meetings coordinated through ERC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more than 100 skilled or highly skilled ERCOT Staff called on to contribute to GM process.  25 - 30 FTE’s demanded by meeting volume and ERCOT service responsi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costs to support GM estimated at $4-5mm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plus facilities (depr., util., taxes, insu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 &amp; PUCT costs to support GM (if 3x) = $12 - 15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(loaded), T&amp;E, consultants/counsel,…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400-8540-4CD0-8611-C7787B253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t, the Return is Great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r and open forum – democratic decision 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keholder driven agenda and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berative, advance notice, no surp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arent via published agendas, minutes and v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to ensure no issues ar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business outcome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improvement to the Texas electric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market benefits in excess of cost to chang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320" y="556272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ERCOT rated the #1 competitive electric market in N. Americ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0F1-4597-4FCF-A8ED-4A11CB252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eedback from MP’s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ff support performing well in many areas, could improve in other a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ate and publish to each committee’s website a lead and alternate Staff person to attend and be responsible to each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ere is a cross functional “internal ERCOT review” before staff present views in MP foru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“part of the problem may be a lack of consistency in who attends, which can lead to internal communication problems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meeting locations in advance of the posted star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e and distribute minutes of each TAC, Subcommittees, Task Forces and Work Grou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t is not fair to ask someone who is representing their company to be saddled with note taking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 the number of employees that attend various meetings – only those that have a direct responsibility to the meeting or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735-00B3-4814-A283-808BBABBB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cipal Change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, named ERCOT Staff member for each standing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ible to serve the needs of the committee in pursuit of its miss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ordinate internally, the broader ERCOT Staff in suppo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role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individual performance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regular check points with body leadership and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683-FD27-49A3-ABDA-98EE6EB83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920" y="57913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Expert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560" y="431964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, Market 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&amp;R 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76640"/>
            <a:ext cx="29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Management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s and 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kt. Rule 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00" y="2286000"/>
            <a:ext cx="153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cy Ma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120" y="16527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ntribution to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5482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99616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49084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557520"/>
            <a:ext cx="68580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9080" y="228600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Board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7640" y="33526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PRS, 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9080" y="434340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MS, 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ROS, C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0520" y="5715000"/>
            <a:ext cx="17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Task Forc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Arial"/>
              </a:rPr>
              <a:t>Working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4920" y="5691240"/>
            <a:ext cx="208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2160" y="228600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2200" y="172872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Key Coordination w/in ERC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7080" y="4243320"/>
            <a:ext cx="214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nctional Dir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Offic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S, Rules and 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1240" y="34052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ive T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440" y="330120"/>
            <a:ext cx="77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Type of Contribution to the Governance Mo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Right Level of Coordination within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286000" y="4929120"/>
            <a:ext cx="419112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120" y="3709800"/>
            <a:ext cx="35053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590560" y="2642760"/>
            <a:ext cx="380988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2DC-A3F7-451E-9F14-B1F657908E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3159000"/>
            <a:ext cx="1752480" cy="15004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09480"/>
            <a:ext cx="11430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058760"/>
            <a:ext cx="121932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359240"/>
            <a:ext cx="12193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509840"/>
            <a:ext cx="13716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Meeting Space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anage Acquisition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ter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on Web Calendar – SS (BA/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Scheduling/Coordinate Conflicts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659480"/>
            <a:ext cx="228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 for Call (market and internal)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 Draft Agenda –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 action items from prior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-facilitation of Agenda Call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nalize Agenda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 Specific ERCOT Staff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Communication (internal clients/requested participants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 Agenda and post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09840"/>
            <a:ext cx="18288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presentation materials from internal autho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chedule Preparation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ticipate, Discuss, Establish ERCOT answ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fy/Discuss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/Post ERCOT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058760"/>
            <a:ext cx="13716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ERCOT Meeting Prep (external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509840"/>
            <a:ext cx="137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llow up with external presenter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/Distribute Presentation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ost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3309840"/>
            <a:ext cx="13716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cc00"/>
                </a:solidFill>
                <a:latin typeface="Arial"/>
              </a:rPr>
              <a:t>Final Brief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5352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Schedule meeting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Facilitate Conference Bridg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Internal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Meeting Notice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Co-Facilitate Meeting -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58760"/>
            <a:ext cx="1600200" cy="39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584360"/>
            <a:ext cx="19051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gn in Sheets/Record Attendance into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nt Cards/Set-up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ceive and Manage Proxies/Alt. Rep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resentation Setup/Preparation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eting Minute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rdinate Tech Suppor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ternal Summary/Action item development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Presentations – SME/MP/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ponse to Market Inquiries – S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Voting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cilitate lunch focus group/intrameeting group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Charge Approval (offsite)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RCOT Input coordination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Quality/Feedback process, compilation, tracking -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1058760"/>
            <a:ext cx="160020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1434960"/>
            <a:ext cx="152388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inutes – Draf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corporate Comments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/Distribute for Comment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ublish Internal Summary/Action Items –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tact key ERCOT Staff on assignments and emerging issues – M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pdate and publish final presentations to web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mail Vote Facilitation – SS (AB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tice/deadli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iling vot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sult no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view/Approve costs meeting costs (room, catering, AV)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Offsite service/quality assessment – SS (B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9144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920" y="128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28412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52480" y="1434960"/>
            <a:ext cx="0" cy="307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1209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209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1209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8354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1209600"/>
            <a:ext cx="0" cy="262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522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Requirements for TAC/Subcommittee Meeting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9BD-D11C-4F20-8917-CE3BD265A4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8:36:53Z</dcterms:created>
  <dc:creator>Richard Gruber</dc:creator>
  <dc:description/>
  <dc:language>en-US</dc:language>
  <cp:lastModifiedBy>rgruber</cp:lastModifiedBy>
  <dcterms:modified xsi:type="dcterms:W3CDTF">2005-02-02T22:46:51Z</dcterms:modified>
  <cp:revision>27</cp:revision>
  <dc:subject/>
  <dc:title>Slide 1</dc:title>
</cp:coreProperties>
</file>