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8AF-6AF7-4DA8-B865-A8A4E9B0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9FB-F8CD-4871-8FE2-D6867E57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7AF-4389-4FA2-83AD-EDFA293C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756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66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756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66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418-EC36-4D19-92C3-0DCF3A63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65F9-5528-455F-AA28-8E39DBA9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B236-F86D-4E68-A021-EF44F2F2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5B5C-BF11-404A-889E-60C8D865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5E36-68CE-4B32-A12A-E1673E21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FF36-9E1D-4F23-9792-63EA4FA1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44A9-8696-4D43-92A0-4715FA75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3576-695D-4D3C-97F9-53B2BB9B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99C-5185-49EB-A03D-B2BE5734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BB77-30FE-47F3-BA34-230CE784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FEF8-E84F-405E-ACF5-53F5D826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1C1F-35A4-4103-B736-749428BC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0A8C-FBA2-490C-9FF3-17F8FBF2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756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66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756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66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DFF0-04BF-4FB8-9C11-A5478F02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9F3-38C9-419E-BB01-BB9B1405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DF9-8D7A-4CD4-BB6F-5455908B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338-DF59-4429-A3FA-2A45DA1D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1A2-9437-45E3-B466-34F4C710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D11-206C-405B-BBB3-5042C8A1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258-B1AA-46A0-922A-A1D755D4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7D0-3A55-4454-AF06-3659B3CD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715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7150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E21F-85A4-43BD-A052-E68895F76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2120" y="586728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66688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2940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AA3C-4AFD-4F0D-9E94-D9644527A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cillary Services Validation for Linked B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7619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lesale Market Sub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Februar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on Wh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Operation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 on X%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 and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R 342 Passed January 2003 including variables called X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% variables included must be approved by the ERCOT Board before Release 4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MS to recommend X% values for Ancillary Services Linked Bid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ocols 4.4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39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sponsive Reserve capacity bid tied to a Regulation Up capacity bid may only exceed the Regulation Up capacity bid by X%, as approved by the ERCOT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on-Spinning Reserve capacity bid may only exceed Responsive Reserve capacity bid by X%, as approved by the ERCOT Boar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ocols 4.4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39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of X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RS bid * (1+X%) &lt;=URS b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X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RS bid * (1+X%) &lt;= RRS b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Recommendation (voting i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X = 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to evaluate the number of linked bids after EMMS release 4 implementation and what would potentially happen with lower values of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7:37:52Z</dcterms:created>
  <dc:creator>Brandon Whittle</dc:creator>
  <dc:description/>
  <dc:language>en-US</dc:language>
  <cp:lastModifiedBy>thailu</cp:lastModifiedBy>
  <dcterms:modified xsi:type="dcterms:W3CDTF">2005-02-24T21:37:09Z</dcterms:modified>
  <cp:revision>11</cp:revision>
  <dc:subject/>
  <dc:title>PRR 485 Heat Adder</dc:title>
</cp:coreProperties>
</file>