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061-83DC-40E2-BD60-2CD361BA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620-4DE4-4404-8EEE-2F09AF9F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FFD-767D-43F0-9968-4F1CFEE1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391-E2B4-4270-B409-40D203BC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9F5-E597-430F-B57C-B5C99725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75C1-1F28-4CBB-82BE-52865999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930-4CAC-4E98-B832-F5F2D840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1A6C-3286-465C-820F-7C3194B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2186-B440-4E6F-A7E8-3A99FD8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80A5-42DC-413D-BB8D-76BD850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E846-1FCB-4E86-A5D5-B9F4F23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2B5-E5F5-4E8F-80C4-3009126E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7D93-21E8-4D2F-880D-30A4618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D217-2958-45FD-9E52-65F82E8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08C-1484-4A69-8006-1DFFBB17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70B-41CF-4A9A-A754-2EB0A19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0BD7-92B4-4CD8-80F2-E5884FDF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9D9-AC94-4E91-837F-DEDCAB9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251-8A44-44D4-8E09-B39553E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3CA-40EF-48D6-9274-78708923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3D9-1DEC-4AE4-8630-01FC19E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675-3114-4A6F-8726-FEF594C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86D-7E6E-4B36-8858-9241697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8C7-A2D0-4AC8-A1EC-59A93540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66B-600E-40AB-B7CD-4319DC215E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0EE-C30C-4A66-A467-4FC8A80ED6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alancing Energy Bid Stack &amp;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Non-bid Capacit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Joel Mic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er of Market Operation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032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RCOT was asked to do more research on Non-Bid capacity Issue in last WMS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1280" y="3805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n-bid Capac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0160" y="1827360"/>
            <a:ext cx="72403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eduled Oblig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um of the schedu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E, UR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R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all QSE’s in ERCOT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average value for January 200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3962520"/>
          <a:ext cx="8076960" cy="1612800"/>
        </p:xfrm>
        <a:graphic>
          <a:graphicData uri="http://schemas.openxmlformats.org/drawingml/2006/table">
            <a:tbl>
              <a:tblPr/>
              <a:tblGrid>
                <a:gridCol w="1219320"/>
                <a:gridCol w="1394280"/>
                <a:gridCol w="937440"/>
                <a:gridCol w="1042560"/>
                <a:gridCol w="1108800"/>
                <a:gridCol w="1188000"/>
                <a:gridCol w="118656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on-line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duled Obl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S 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S Cle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d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fline - Shown Online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5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400800" y="5562720"/>
            <a:ext cx="236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2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28600"/>
            <a:ext cx="769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d in &amp; Non-bid percentage by Q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295280"/>
          <a:ext cx="8229600" cy="4913280"/>
        </p:xfrm>
        <a:graphic>
          <a:graphicData uri="http://schemas.openxmlformats.org/drawingml/2006/table">
            <a:tbl>
              <a:tblPr/>
              <a:tblGrid>
                <a:gridCol w="685800"/>
                <a:gridCol w="1371600"/>
                <a:gridCol w="1752480"/>
                <a:gridCol w="838080"/>
                <a:gridCol w="1600200"/>
                <a:gridCol w="19814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Bid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Non-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Bid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Non-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57200" y="6477120"/>
            <a:ext cx="914400" cy="15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QSE’s have Wind resource or have Dynamic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304920"/>
            <a:ext cx="5181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ribution of Non-bid perce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981080"/>
          <a:ext cx="7543800" cy="41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54380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H="1" flipV="1">
            <a:off x="3352680" y="2057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24280" y="2133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60020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5% 94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52388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3% 1,24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638680" y="30477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5909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2.7% 8,59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562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94360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6.9% 13,968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7400" y="38862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8098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4.7% 13,128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9:19:11Z</dcterms:created>
  <dc:creator>yren</dc:creator>
  <dc:description/>
  <dc:language>en-US</dc:language>
  <cp:lastModifiedBy>jyu</cp:lastModifiedBy>
  <dcterms:modified xsi:type="dcterms:W3CDTF">2005-02-24T01:46:42Z</dcterms:modified>
  <cp:revision>23</cp:revision>
  <dc:subject/>
  <dc:title>Resource Plan Capacity Study</dc:title>
</cp:coreProperties>
</file>