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F27B-2ED4-45FB-9265-478F93C1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088B-0884-449F-80A0-CBDE0057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E42E-D792-4A3C-A379-03AE2F762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0EE8-E358-4CBF-B4D6-8CC136F43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213E-BF46-4BAC-B3B5-41B302CE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EBB7-4979-4C59-9505-17CCE232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EC0D-F177-4878-8810-5FB0D446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D8B9-4C20-483A-BB04-B5F229C9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B11A-007F-4A9C-9D97-0C5CED41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7ECE-E98D-4B7C-8902-C15BABD8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D62D-4CAB-4775-8D76-86FAAFBB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DB1A-4B31-4F0C-8CD7-DDF877A8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D224-11BB-4605-9664-30AF8F654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ouston Area Constraint Mitigation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495288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RCOT Board of Dir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ch 15,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49688" b="0"/>
          <a:stretch/>
        </p:blipFill>
        <p:spPr>
          <a:xfrm>
            <a:off x="152280" y="1143000"/>
            <a:ext cx="4538880" cy="5562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724280" y="1295280"/>
            <a:ext cx="4191120" cy="54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pgrade Jewett-Tomball/TH Wharton 345kV double circuit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$9.5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struct new Hillje 345kV switching station in the STP-Holman 345kV line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$10.8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uild new Parish –Hillje 345kV double circuit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$79.25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d STP-Hillje 345kV circuit on open position of existing STP-Parish line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$8.35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lace autotransformers at Greens Bayou, Tomball, Addicks and O’Brien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$12.2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place miscellaneous breakers, terminal equipment, and 138 kV conductors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$1.86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828800"/>
            <a:ext cx="228600" cy="457200"/>
          </a:xfrm>
          <a:prstGeom prst="ellipse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9776600">
            <a:off x="1371240" y="2133360"/>
            <a:ext cx="247680" cy="1143000"/>
          </a:xfrm>
          <a:prstGeom prst="ellipse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2209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8558600">
            <a:off x="1514160" y="1914840"/>
            <a:ext cx="247680" cy="1143000"/>
          </a:xfrm>
          <a:prstGeom prst="ellipse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0200" y="3048120"/>
            <a:ext cx="457200" cy="152280"/>
          </a:xfrm>
          <a:prstGeom prst="ellipse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2819520"/>
            <a:ext cx="228600" cy="152280"/>
          </a:xfrm>
          <a:prstGeom prst="ellipse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3733920"/>
            <a:ext cx="228600" cy="152280"/>
          </a:xfrm>
          <a:prstGeom prst="ellipse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3505320"/>
            <a:ext cx="228600" cy="152280"/>
          </a:xfrm>
          <a:prstGeom prst="ellipse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429000"/>
            <a:ext cx="228600" cy="152280"/>
          </a:xfrm>
          <a:prstGeom prst="ellipse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4952880"/>
            <a:ext cx="1066680" cy="304920"/>
          </a:xfrm>
          <a:prstGeom prst="ellipse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9709400">
            <a:off x="1401840" y="4668480"/>
            <a:ext cx="1255680" cy="322200"/>
          </a:xfrm>
          <a:prstGeom prst="ellipse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15200">
            <a:off x="1447560" y="5334120"/>
            <a:ext cx="1523880" cy="228600"/>
          </a:xfrm>
          <a:prstGeom prst="ellipse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3733920"/>
            <a:ext cx="228600" cy="152280"/>
          </a:xfrm>
          <a:prstGeom prst="ellipse">
            <a:avLst/>
          </a:prstGeom>
          <a:solidFill>
            <a:srgbClr val="ffff0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100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scription of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1295280"/>
            <a:ext cx="8076960" cy="59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75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wett-Tomball/TH Wharton upgrade and autotransformer change outs scheduled in-service in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ainder of package scheduled in-service in 200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tal cost of package of projects is $122 million (or approximately $20 million annual carrying co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jected production cost savings (in nominal $millions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23524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nual savings of ~$63M  significantly exceeds the $20M annual carrying cost of the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223524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590920" y="5105520"/>
          <a:ext cx="3630600" cy="636480"/>
        </p:xfrm>
        <a:graphic>
          <a:graphicData uri="http://schemas.openxmlformats.org/drawingml/2006/table">
            <a:tbl>
              <a:tblPr/>
              <a:tblGrid>
                <a:gridCol w="907920"/>
                <a:gridCol w="907920"/>
                <a:gridCol w="906480"/>
                <a:gridCol w="90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2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5 </a:t>
                      </a:r>
                      <a:r>
                        <a:rPr b="1" lang="en-US" sz="1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954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st and Savings of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1219320"/>
            <a:ext cx="807696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enterpoint evaluated 28 different packages of proje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20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COT performed an economic evaluation of over 90 different combinations of these proje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sitivities to the economic savings on the final recommend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457200"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tirement of TX Genco un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457200"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wer natural gas price fore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47960" y="-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ions Consi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495288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e Hilje option 27 increases the transfer capability into Houston while improving system reliability, operation flexibility and market efficienc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09480" y="1343160"/>
            <a:ext cx="7788240" cy="59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Stakeholder review period for this project began in September 2004.  Comments supporting the initial package of projects were received fro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XU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stin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rec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C – supported, however, did not believe STEC portion of package was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econd comment period was held in January 2005 following the economic analysis performed by ERCOT.  Comments supporting the results were received fro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terPoin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an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XU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ty Public Service of San Anton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stin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keholder comments at all stages of the review have been in support of the project, with no dissenting com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C endorsed the recommendation on March 3,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94960" y="228600"/>
            <a:ext cx="42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keholder Re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276084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RCOT staff recommends that the Board endorse the need for the Houston Area Constraint Mitigation Project as described in the ERCOT report to the Board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560" y="304920"/>
            <a:ext cx="37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commend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twilkins</cp:lastModifiedBy>
  <dcterms:modified xsi:type="dcterms:W3CDTF">2005-03-09T17:09:29Z</dcterms:modified>
  <cp:revision>122</cp:revision>
  <dc:subject/>
  <dc:title>Point-to-Point</dc:title>
</cp:coreProperties>
</file>