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5C5-0736-4EB3-A472-858922CB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659-3D77-4FC7-9C98-4F8C0C55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DAF-9713-4D06-B6AE-3A19D065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445-449D-4752-B8B3-24B24E2E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172-75B6-427F-B8AC-0FBBA012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4A7-251D-4FD3-9E55-3755176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501-F990-4A89-87E7-E50B644A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402-DE52-43E7-9BD3-F918174C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C0F-E39E-4DC9-A96C-C3B7447A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6E4-2F25-4FC7-9B22-814C81F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F04-2E8C-483E-BA86-8EF5A9F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D75-33E6-4628-91D8-55D465B0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7572-9E8F-4601-B832-18F8D0D7A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bruary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1C6-6AAC-4646-9CAC-A4076E2B5E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of 93 Competitive Retailers reported numbers by the due date for January (02/02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of 18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March RMS (February Reports) are due by March 2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91B-D217-4F7D-9C1C-55EAF15EB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447920"/>
          <a:ext cx="8610120" cy="4723920"/>
        </p:xfrm>
        <a:graphic>
          <a:graphicData uri="http://schemas.openxmlformats.org/drawingml/2006/table">
            <a:tbl>
              <a:tblPr/>
              <a:tblGrid>
                <a:gridCol w="2409120"/>
                <a:gridCol w="1628640"/>
                <a:gridCol w="1658520"/>
                <a:gridCol w="1458000"/>
                <a:gridCol w="145584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91,5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,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,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,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921-F3BC-460E-AA28-D86E239F70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8610120" cy="4723920"/>
        </p:xfrm>
        <a:graphic>
          <a:graphicData uri="http://schemas.openxmlformats.org/drawingml/2006/table">
            <a:tbl>
              <a:tblPr/>
              <a:tblGrid>
                <a:gridCol w="2409120"/>
                <a:gridCol w="1628640"/>
                <a:gridCol w="1658520"/>
                <a:gridCol w="1458000"/>
                <a:gridCol w="145584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E6C-AEE7-4665-87E9-BB8076D0CA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447920"/>
          <a:ext cx="8610120" cy="4723920"/>
        </p:xfrm>
        <a:graphic>
          <a:graphicData uri="http://schemas.openxmlformats.org/drawingml/2006/table">
            <a:tbl>
              <a:tblPr/>
              <a:tblGrid>
                <a:gridCol w="2409120"/>
                <a:gridCol w="1628640"/>
                <a:gridCol w="1658520"/>
                <a:gridCol w="1458000"/>
                <a:gridCol w="145584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,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6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46B-6B7A-4AC9-AB9F-FF3E0BF532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447920"/>
          <a:ext cx="8610120" cy="4647600"/>
        </p:xfrm>
        <a:graphic>
          <a:graphicData uri="http://schemas.openxmlformats.org/drawingml/2006/table">
            <a:tbl>
              <a:tblPr/>
              <a:tblGrid>
                <a:gridCol w="2409120"/>
                <a:gridCol w="1628640"/>
                <a:gridCol w="1658520"/>
                <a:gridCol w="1458000"/>
                <a:gridCol w="145584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91,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,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,4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349-EAE1-4360-AD6E-1F5726545F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371600"/>
          <a:ext cx="8610120" cy="4800240"/>
        </p:xfrm>
        <a:graphic>
          <a:graphicData uri="http://schemas.openxmlformats.org/drawingml/2006/table">
            <a:tbl>
              <a:tblPr/>
              <a:tblGrid>
                <a:gridCol w="2409120"/>
                <a:gridCol w="1628640"/>
                <a:gridCol w="1658520"/>
                <a:gridCol w="1458000"/>
                <a:gridCol w="145584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4A8-FA30-48EF-89B1-97AD79DBCC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447920"/>
          <a:ext cx="8533800" cy="4800240"/>
        </p:xfrm>
        <a:graphic>
          <a:graphicData uri="http://schemas.openxmlformats.org/drawingml/2006/table">
            <a:tbl>
              <a:tblPr/>
              <a:tblGrid>
                <a:gridCol w="2387880"/>
                <a:gridCol w="1614240"/>
                <a:gridCol w="1643400"/>
                <a:gridCol w="1445400"/>
                <a:gridCol w="144288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0A5-A769-42BE-B70C-E9B084EFF1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5-02-03T17:35:07Z</dcterms:modified>
  <cp:revision>286</cp:revision>
  <dc:subject/>
  <dc:title>PowerPoint Presentation</dc:title>
</cp:coreProperties>
</file>