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2F5-BE13-44BE-BE5B-694C7032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FDF-36DF-46BC-BB5A-74B0247F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F7C-FD8F-408D-8F0D-0AB44173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F24-70FE-4529-93CB-4526E655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C8E-8692-4C53-AC1E-86BE8C5E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AC4-EB0D-4C2C-AF5B-D11C21A9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B34-FEBE-41CF-9020-E30F7DDE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BD6-FEF7-4DB5-9814-4095E955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893-FD36-4295-8193-882410DB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75A-AA5A-4957-AB00-7597CD2C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F05-1BEA-490A-B94A-A260A492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A61-07C3-44F9-8CF1-DA470DBC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B009-97A2-4ED4-8F5A-B046438F3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Analysis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cation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Annual Validatio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46040" y="3929040"/>
            <a:ext cx="6400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8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5 Annual Validation Approved Modif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45208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and Resident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place a non-default assignment with a default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tial - Apply Dead-B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HIWR goes to RESLOWR if WR ≤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LOWR goes to RESHIWR if WR &gt;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-Bands do not apply if currently a default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tial - kWh Minim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 numerator &gt; 20 to assign RESHIW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A1D-3B60-4C38-8218-84688E6DF4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0528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Residential Population Profile ID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urrent Code and Code with Approved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720" y="5272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0% change -- Base Code for ’03 &amp; ’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8% change -- Base Code for ’03 &amp; Approved Changes for ’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4% change -- Approved Changes applied to ’03 &amp; ’04 (Note: ’02 Winter Ratio not available, Dead-Bands applied to all ESI IDs for ’03 calcula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61920" y="974880"/>
            <a:ext cx="633744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1AE-4C90-4A1C-969F-08641C1923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0528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Business Population Profile ID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cluding Business No Demand ESI ID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4705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1% change -- Base Code for ’03 &amp; ’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.3% change -- Base Code for ’03 &amp; Approved Changes for ’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.6% change -- Approved Changes applied to ’03 &amp; ’04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23760" y="971640"/>
            <a:ext cx="640908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C51-E6E4-4664-818F-27CFFC57B0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twerkheiser</cp:lastModifiedBy>
  <cp:lastPrinted>2002-05-17T20:57:43Z</cp:lastPrinted>
  <dcterms:modified xsi:type="dcterms:W3CDTF">2005-02-01T00:47:32Z</dcterms:modified>
  <cp:revision>289</cp:revision>
  <dc:subject/>
  <dc:title>Retail Transactions Report</dc:title>
</cp:coreProperties>
</file>