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2BCD-4601-4E97-BF9D-47DBC240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95CE-BF85-415D-8EAF-E3B4D6DE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8E4AE-85A3-4C18-9A69-2393E3FE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884D2-E462-4FDC-9795-41EAA588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BBBB-9B89-436F-A781-91AD65C5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4A96-49AA-4D31-994C-111FB715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DA31-6B88-40C9-A208-3ABE9BBE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9309-6998-4340-AEAC-70C35473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60FD-FDD3-415A-A7B6-196A24B4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00E4-1781-4A6F-ACBD-CACC87F6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7523-E9E8-403E-864E-3A82634F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F9999-D86B-406A-A419-B52B54B5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447A-CF80-4699-975D-B2C85250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AB67-C21D-417C-88EB-F49D56B2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F794-A478-4641-9C8D-E9A29370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6971-E639-42C7-B6B5-04FB7CD7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1BAA-A28E-4F0C-A73D-B816C31F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F574-89A1-4FEF-859A-23A813F2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B038-800F-48A9-8837-ACA4B5ED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0A9C8-5819-42E0-8CF8-B18612A8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C609E-6CF8-477A-957E-DE9176D6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B7014-32C0-41D6-8401-C8DAD255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E67F7-11EF-4422-9E5D-4B5546EF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65E9-3588-4B04-B624-4BD510DB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6392-4269-4F22-A135-02CBBD77B1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B784-D9F3-4C18-9E2D-E6882D3D82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133720" y="1447920"/>
          <a:ext cx="45720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45720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143000" y="5410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ebruary 7, 2005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RMS Voting Item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6600" y="306360"/>
            <a:ext cx="434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TPT RMS Voting Item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TP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cess for Specified AD- Hoc testing Out of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 Changing Service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 adding DUN number or d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Testing Requirements Matrix to Appendix (appendix 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information on Contingency Provider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atted with section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d reference to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 TMTP and redlined TMTP provided in RMS materi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95480" y="2506680"/>
            <a:ext cx="3353040" cy="3284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39760" y="1295280"/>
            <a:ext cx="6784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1:54:01Z</dcterms:created>
  <dc:creator/>
  <dc:description/>
  <dc:language>en-US</dc:language>
  <cp:lastModifiedBy>Jennifer Teel</cp:lastModifiedBy>
  <dcterms:modified xsi:type="dcterms:W3CDTF">2005-01-31T17:10:52Z</dcterms:modified>
  <cp:revision>27</cp:revision>
  <dc:subject/>
  <dc:title>TTPT RMS Voting Items</dc:title>
</cp:coreProperties>
</file>