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A30B-D26A-4BD0-95CB-2044ADA0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9186-DF20-49F6-9814-0956F697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BCB0-F904-42F6-96B0-B4186B8A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735B-4627-4687-B018-C3260A7A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A1A-82B1-42C6-BD02-E49B44D6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ED05-AA31-4F37-8ED8-321D3F0B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B4F-9780-4949-BEAB-E24C740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659-1CE5-489A-B343-D56BEB6B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5826-FC16-46FF-A0C7-5928C974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C200-706E-47A6-938C-F73565AF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70ED-717E-4F8A-8C26-62AA595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1CF7-B575-488A-BC2D-3F1877B9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3BBE-EA81-457A-88E0-0183695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EC7D-F1FB-41FF-A4C0-E74A6F7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AF9B-CEB1-4E8A-AC40-4782DB4A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FD8D-DC43-49D4-9F76-7809B8E5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F4B6-8EEE-48B9-8C0E-2B0F21B6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0302-D356-4212-B524-B26A992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5EAB-7283-4429-AA8C-5411BC12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523C-D68B-4AF2-BAD9-3AE2CED6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1C7A-B2DC-4CA6-8962-A1F1007B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7BAF-95DA-427B-8E26-6369B3E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1F22-71AD-4CDB-8D03-AB7CC1DC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A000-6883-4C27-AF7A-1D8A099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1C44-D414-4B92-BB17-419C1B22BB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3C3-1375-4B30-A081-CD11B205CB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rket Metrics Working Grou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5 Officers and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MMWG Officers for 2005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m Wheat – TXU Electric Deli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 Chair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hy Scott – CenterPoin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Goals through 2</a:t>
            </a:r>
            <a:r>
              <a:rPr b="0" i="1" lang="en-US" sz="42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 Quarter 200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 814-28 (PT) tracking/reporting changes requested of ERCOT into template in 1st Quarter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 MIMO success criteria reporting into 1st Quarter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report to RMS of the total number of  estimated meter readings per month for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arter of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 working with PUCT Staff to improve timeliness of filings by market participants and assist new PUCT Staff members as reque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Goals through 2</a:t>
            </a:r>
            <a:r>
              <a:rPr b="0" i="1" lang="en-US" sz="42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 Quarter 200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 to provide Summarized Updates of the overall Market Performance to 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 working with PUCT Staff to improve timeliness of filings by market participants and assist new PUCT Staff members as reque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 to work as a group in refining the reporting process to increase consistency and manner in which data is calculated and re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frequency of meetings to ensure effective resource utilization while maximizing the results, along with increasing market partici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21:53:36Z</dcterms:created>
  <dc:creator>00015621</dc:creator>
  <dc:description/>
  <dc:language>en-US</dc:language>
  <cp:lastModifiedBy>Ann Boren</cp:lastModifiedBy>
  <dcterms:modified xsi:type="dcterms:W3CDTF">2005-02-01T21:38:42Z</dcterms:modified>
  <cp:revision>21</cp:revision>
  <dc:subject/>
  <dc:title>Market Metrics Working Group</dc:title>
</cp:coreProperties>
</file>