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18D-7D63-4C29-B5AB-34D7AD78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F7D0-5442-471F-98E4-B5E46B45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6EE0-47DA-4D2C-BF10-5DCED0DF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0CB-8834-4891-AE5C-CFD3569D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5DBF-683B-46FA-9B8E-D86630F9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CDBD-38C6-4E55-9ED9-6FFBAEEC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892-5A36-4CAC-9509-1D1D0023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FEDF-5F4F-41FF-8864-3B1B5D34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4346-D973-429C-9D3D-4CC9F307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585-0F85-4A87-97FE-1B2BBB7C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B30-D047-4071-A832-DE07416D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1E5-4DFD-4381-9FA1-F857A274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F662-E413-4F02-86D6-E070FC857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0105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C2D1-8398-41E3-B943-86062E02C1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105 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Take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kick off call Friday January 21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flow began Monday 1/24 at 8:00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status calls - MAND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February RMS (2/8/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urren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Day 12 of Flight 01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156F-3F9C-4004-9127-998EA3E757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105 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uising Alt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8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ee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33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6.2%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March RMS (3/8/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scheduled to be on Day 32 of Flight 01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script scheduled to complete on Day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299-362A-4A5F-951C-549B9603A0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nn Boren</cp:lastModifiedBy>
  <cp:lastPrinted>2002-09-24T18:27:58Z</cp:lastPrinted>
  <dcterms:modified xsi:type="dcterms:W3CDTF">2005-02-15T17:27:16Z</dcterms:modified>
  <cp:revision>358</cp:revision>
  <dc:subject/>
  <dc:title>PowerPoint Presentation</dc:title>
</cp:coreProperties>
</file>