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808-A97A-4329-905C-E398ED89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650-319F-4364-B8EA-30812A09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B6E-B5AF-428A-AA53-B0360654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36F-7837-4909-B30A-5B8D763E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70A-0530-4EF5-BD05-ADFA929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727-7B39-48A9-9D70-28FBA0C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ADE-978B-418C-9689-BFBA5D3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FE4-CDA5-444C-BAB6-DB9E7DE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542-67BC-4B42-B994-FA38801B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29A-6523-43E4-9011-8D724C3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042-9186-4340-925E-CE3760B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9CE-184E-4F63-BCEA-AEA3881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F7B-7126-45C1-A3B7-1BB86284D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ebruary 8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2F5-835D-4AA7-89FB-9C8E73D9133D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905120"/>
            <a:ext cx="2133720" cy="12952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presenta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1905120"/>
            <a:ext cx="1905120" cy="43434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y ERC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rporate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junct Me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r one wh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ualifies i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y vote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st decl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ach 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ne v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r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3280" y="1905120"/>
            <a:ext cx="18288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828800"/>
            <a:ext cx="4572000" cy="4495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70320" y="3260880"/>
            <a:ext cx="235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 Representa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 Market Seg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Used for Quo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Vote on administra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ssues such 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Urgent” status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 Analy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120" y="3276720"/>
            <a:ext cx="387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ay be submitted b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ny Market Particip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ny ERCOT Me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UCT Sta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Sta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ntities that reside or ope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 Texas and demonstrates 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s impacted by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egistration &amp; REC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ections of the Protoc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Rs may be developed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ecommended or reviewed at PR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equest by other TAC Subcommitt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286000"/>
            <a:ext cx="1447920" cy="4856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53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68720" y="1447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tocol Revision Sub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2B1-125D-4F23-839B-1FC664CD7DA5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S Proc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2680" y="449568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gust 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5440" y="4267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Nov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20" y="43434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July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October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940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5400000">
            <a:off x="4076640" y="224676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4160" y="20574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5-Day 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743200"/>
            <a:ext cx="7632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04920" y="479736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eptember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nd 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3962520"/>
            <a:ext cx="6858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27800" y="254304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Upd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31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188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548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vember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8076960" y="3962520"/>
            <a:ext cx="759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 rot="5400000">
            <a:off x="7010280" y="26658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5960" y="26193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30-Day 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3124080"/>
            <a:ext cx="763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624852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milar process applies to System Change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371-9F2A-4152-83F8-C5FB52E2A7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ystem Priorit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assigns system change priorities to new PRRs/SCRs as they arise during 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w PRRs/SCRs may “bump” a system change to completion in the following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C approves the priority assigned and is noticed as to the “bumping” that may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annually reviews all Market &amp; ERCOT system changes to assign priorities and ranks for the next budget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C approves the priority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5A8-A80F-4682-A3C5-D5CDE416746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iority Assign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AB9-7A21-4796-9003-88AC7CD7FC5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iorities For 2005 At 9/0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4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895480"/>
            <a:ext cx="2743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2895480"/>
            <a:ext cx="2743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6520" y="2703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jected  Cut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2E1-B370-4931-8896-AEE61F46F0C8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Opportunities for Inp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dividual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rticipation in PRS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orking through other TAC Subcommittees to review Remanded P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orking through other TAC Subcommittees to develop, recommend and submit P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DC-DC6F-469C-940B-8D70F7515C5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4CD-522D-46E6-9050-EDB239F639FE}" type="slidenum">
              <a:t>8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Ann Boren</cp:lastModifiedBy>
  <dcterms:modified xsi:type="dcterms:W3CDTF">2005-02-15T17:25:08Z</dcterms:modified>
  <cp:revision>46</cp:revision>
  <dc:subject/>
  <dc:title>Protocol Revision  Subcommittee</dc:title>
</cp:coreProperties>
</file>