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EB-DCE8-4443-AF58-124A7AC1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E03-C337-4139-8A6A-269BB3F5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874-4224-4962-A80C-97474752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75E-EF16-4561-BF99-4A37F925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9075-C21A-403F-B92A-06B3FC60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B8F2-B958-4DE6-8FBC-837FDF0B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7DA-0EDE-41DD-A70C-E8479DA2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306D-B340-47A3-9849-5BC58C8D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622B-CE3C-4388-AE14-AD31008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AA0E-89F8-4D43-A41F-76F1547A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7F8B-C8C9-41B7-9593-4A40B99E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490-5B6C-4EA5-AE2F-6FF70F9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4026-9BA6-4E87-8635-B4C7FEC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DB72-B07C-4638-94F8-58E99C2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3310-3D6E-4485-BF5E-952F0A9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4715-7E3F-43C9-BE92-D39B8AE5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857-C66D-4943-9021-018B576F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158-7E43-4C00-99E1-CF91D54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3FB-3396-4A8B-BD38-255CDDB0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792-845D-4EEA-9E50-D68558B2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044-AA45-42CA-8F0E-3FDC9A50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C2A-40BE-41FB-80F5-7043A1F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E74-0703-415E-8A7D-34BCE3A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948-7FF0-4009-9961-619DDDD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BFB-172C-49A6-A3D4-A6DAD1676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051-DB3C-414E-8B43-3FFC97EBB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06560" y="1739880"/>
            <a:ext cx="3530880" cy="3378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1868400" cy="164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17908200">
            <a:off x="518760" y="3443400"/>
            <a:ext cx="2370240" cy="2189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Goals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2005</a:t>
            </a:r>
            <a:r>
              <a:rPr b="0" i="1" lang="en-US" sz="4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3120" y="1440"/>
            <a:ext cx="3120120" cy="2053800"/>
            <a:chOff x="303120" y="1440"/>
            <a:chExt cx="3120120" cy="2053800"/>
          </a:xfrm>
        </p:grpSpPr>
        <p:sp>
          <p:nvSpPr>
            <p:cNvPr id="95" name=""/>
            <p:cNvSpPr/>
            <p:nvPr/>
          </p:nvSpPr>
          <p:spPr>
            <a:xfrm>
              <a:off x="533520" y="184320"/>
              <a:ext cx="2205360" cy="15091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2543600">
              <a:off x="660960" y="151920"/>
              <a:ext cx="1073880" cy="175284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747400">
              <a:off x="1742400" y="184320"/>
              <a:ext cx="1367280" cy="1239480"/>
            </a:xfrm>
            <a:custGeom>
              <a:avLst/>
              <a:gdLst>
                <a:gd name="textAreaLeft" fmla="*/ 0 w 1367280"/>
                <a:gd name="textAreaRight" fmla="*/ 1367640 w 1367280"/>
                <a:gd name="textAreaTop" fmla="*/ 160560 h 1239480"/>
                <a:gd name="textAreaBottom" fmla="*/ 1078920 h 12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747400">
              <a:off x="1891800" y="654120"/>
              <a:ext cx="1460520" cy="75636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97920 h 756360"/>
                <a:gd name="textAreaBottom" fmla="*/ 658440 h 75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023480" y="309960"/>
              <a:ext cx="103104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255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TX</a:t>
              </a:r>
              <a:endPara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003760" y="561600"/>
              <a:ext cx="11026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9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SET</a:t>
              </a:r>
              <a:endParaRPr b="1" i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TX SET Chair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: Kyle Patr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TX SET Vice Chairs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: Kathy Scott and Charlie Bra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TX SET Officers for 2005</a:t>
            </a:r>
            <a:endParaRPr b="0" lang="en-US" sz="4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Drop to AREP Announ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Mass Transition – High level Market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Define and Publish TX SET Version 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Discuss Smoothing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Implement RMS Assignment form  an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Goals- 1</a:t>
            </a:r>
            <a:r>
              <a:rPr b="1" lang="en-US" sz="4600" spc="-1" strike="noStrike" baseline="30000">
                <a:solidFill>
                  <a:srgbClr val="ff0000"/>
                </a:solidFill>
                <a:latin typeface="Monotype Corsiva"/>
              </a:rPr>
              <a:t>st</a:t>
            </a: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 Quarter 2005</a:t>
            </a:r>
            <a:r>
              <a:rPr b="1" lang="en-US" sz="4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Continue to Update Protocols when and where necessa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Continue to be involved with MOU/EC market participants providing assistance where need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Continue to refine market practices and develop transactional solutions, and address PUCT/RMS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Goals - 1</a:t>
            </a:r>
            <a:r>
              <a:rPr b="1" lang="en-US" sz="4600" spc="-1" strike="noStrike" baseline="30000">
                <a:solidFill>
                  <a:srgbClr val="ff0000"/>
                </a:solidFill>
                <a:latin typeface="Monotype Corsiva"/>
              </a:rPr>
              <a:t>st</a:t>
            </a: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 Quarter 2005</a:t>
            </a:r>
            <a:r>
              <a:rPr b="1" lang="en-US" sz="4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Create a Version Release Schedule for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Version Stacking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Meter Estimation – Denial of Access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Discuss the Drop to POLR Process (Manual vs. Automation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  <a:ea typeface="Lucida Sans Unicode"/>
              </a:rPr>
              <a:t>Continue to refine market practices and develop transactional solutions, and address PUCT/RMS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Monotype Corsiva"/>
              </a:rPr>
              <a:t>Goals for 2005</a:t>
            </a:r>
            <a:endParaRPr b="0" lang="en-US" sz="4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00015621</cp:lastModifiedBy>
  <dcterms:modified xsi:type="dcterms:W3CDTF">2005-01-29T02:36:32Z</dcterms:modified>
  <cp:revision>15</cp:revision>
  <dc:subject/>
  <dc:title>PowerPoint Presentation</dc:title>
</cp:coreProperties>
</file>