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BE9-6E15-4B21-82EC-E347FE6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BAA-7170-4A25-90A8-66734EB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E35-5DA1-4450-9B99-6E5C75BC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643-1607-4725-A098-3B4C10F8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D7C-62F3-4B8B-8EC1-74F4E847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8FFF-E64B-4BBF-9123-83B41DC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C373-2EDF-4879-9C71-E5687DE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46C9-A5F5-4BB0-B045-5A61AE6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E25-E70E-4E7F-9A9D-E59E4D0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506A-9682-4066-96B1-1EB8737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347-B22A-4F7A-9A83-79C0DC6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E34-E83A-40A4-9F11-25C284C7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DA46-55D2-4E6F-B899-347D52D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BE0-B361-4ABF-97EF-EEC9FE5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95F-CAEC-4425-8FE7-15094CF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0FE-4A51-48B0-A171-900CC89C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F467-5187-4957-91A1-062BA663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4DA-453C-43DD-A8CF-B69E8EE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9B8-9D6D-49B0-A954-CEA9014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890-6150-4B4A-AE68-0DBF6BE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366-C590-45A7-8BC1-337F85EB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D38-11CE-4C3B-A7F7-E81722A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EE3-2181-447F-B82F-205964C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38B-2BE1-4721-AD98-56CFF29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48D6-DDBA-4A76-AF79-DC591C4D8A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5DFD-141C-47E2-BB66-B2CE44B7DB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RCOT Market Meeting Suppo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mproved Meeting Support for</a:t>
            </a:r>
            <a:br>
              <a:rPr sz="32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More Efficient Resource Utilizatio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A1F-B2FD-4C15-95B3-3B3C23099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2514600"/>
            <a:ext cx="37339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Core Tea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ed responsi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able to both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dy and ERCO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es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coordination, communication, continuity of support for both committee and staf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4840" y="2825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2565360"/>
            <a:ext cx="358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ERCOT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requested by body via 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tated via agenda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assigned by a Manag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 or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expertise, analysis, facts to aid market decision mak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6720" y="609480"/>
            <a:ext cx="53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ket Meeting/Committe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ey ERCOT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4EA-07A5-44F8-B0F6-548AEF569A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7440" y="17762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360" y="2843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800" y="3833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9240" y="520524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5586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38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20811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147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30080" y="525780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M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30800" y="373392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.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les, 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720" y="279576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S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0440" y="18050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rp Sec’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r Team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7840" y="1014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6624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0622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004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071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3920" y="535788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185256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2040" y="1014480"/>
            <a:ext cx="220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ERCOT Coord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809880"/>
            <a:ext cx="201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mpacted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80240" y="28954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1040" y="1014480"/>
            <a:ext cx="24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Market Meet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3800" y="62085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lined position = performs ERCOT Staff Meeting Management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8A5-4FD9-4C63-AFD9-ED544A151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452680" y="4604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1680" y="1447920"/>
            <a:ext cx="792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M - Cheryl Moseley,  SS - Ann Boren,  Legal - Mark Wal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Cheryl Moseley,  SS – Market Rules Team,  Legal – Andy Ga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Steve Myers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P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-  Diana Z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Dale Goodman,  SS - Ann Boren,  Rules - Sonja Mi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Brittney Albracht performs facilities and meeting services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2A9-C2CF-4D11-A271-010915F30B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1880" y="46044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 – ERCOT Staff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4920" y="1447920"/>
            <a:ext cx="7675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M to coordinate/establish assignments to TF and WG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tablish back up for minutes taking at TAC and Subcommitte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olve TF and WG documentation need, responsibility and resource re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AC and Subcommitte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rther improve coordination across ERCOT Staff supporting MP’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ross functional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F and WG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947-244A-4C21-B2DD-682566752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98480" y="4604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Facilities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4479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, Subcommittees and T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ally little change to exist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as far forward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k best match of facilities with needs (size, AV,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to minimize outside facilities utilization via scheduling co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orking groups and task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up to two months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facilities to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RCOT facilities at preferred location first (Austin), use low-cost adjacent hotel space second if preferred location not available, use ERCOT alternate locations (Taylor) thi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perator training in April creates the need for flexibility from committee Chairs that month.  Thanks in advance for your assist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096-C897-4194-B97A-39FDDB709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828800"/>
            <a:ext cx="748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F &amp; WG meetings, ERCOT Staff introductions and identification of your reason for being at the meeting (contributor/observer and area of inter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end of all meetings, quick check point survey (verbal w/ input documented and retained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worked well to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did not work as well as you would have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w could the next meeting be improved?  (need actionable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each agenda call with the feedback from last meeting and discuss how to improve the next meeting to address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B6A-AA3E-40AD-AF68-0FE4F63936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95280"/>
            <a:ext cx="748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tracking mechanism regarding committee, TF and WG agenda items, workflow, assignments, next ste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cost/benefits criteria and analysis for non-administrative protocol and guid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nd standardize format and detail regarding committee, TF and WG “key document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 key docs on web site including: procedures, mission and scope, voting members, chair and vice chair (as appropriate for body type), ERCOT Staff assig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4C8-0B9A-436F-8A61-1669CDAC7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5800" y="259092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estions and Sugg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76D-2238-4352-8CC0-01B69CAF8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iver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’s governance model (GM) is a key cornerstone to its overall market su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M requires a large commitment of key resources from ERCOT, PUCT, and Market Participant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all stakeholders, ERCOT Staff is being asked to do more with less, be more efficient and effective, control staff ad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Staff is expected to deliver a range of GM services at a high level and consist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ssues cross multiple functional areas, requiring significant cross impact analysis and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9FD-3FC9-4FA8-8BAE-2FAFCCA93E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COT Staff Goal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fessional support of the MP market meet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fficien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the needs of the participants and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Right resour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given the body type and ag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ound prepa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RCOT presentations and po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Timely and precise communic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arly identification of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oordination across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, coordinate, analysis/impact, position development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Maximize utilization of ERCOT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82E-BC31-40FF-8150-5E623C1AF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Significant Commitment Indeed…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2004 - Over 600 ERCOT MP meet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$700,000 in outside facilities and meals for meetings coordinated through ERC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more than 100 skilled or highly skilled ERCOT Staff called on to contribute to GM process.  25 - 30 FTE’s demanded by meeting volume and ERCOT service responsi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costs to support GM estimated at $4-5mm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plus facilities (depr., util., taxes, insu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 &amp; PUCT costs to support GM (if 3x) = $12 - 15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T&amp;E, consultants/counsel,…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E32-F05C-4B11-8E86-810D20CD1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t, the Return is Great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r and open forum – democratic decision 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keholder driven agenda and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berative, advance notice, no surp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arent via published agendas, minutes and v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to ensure no issues ar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business outcome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improvement to the Texas electric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market benefits in excess of cost to chang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320" y="556272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RCOT rated the #1 competitive electric market in N. Americ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628-F9D9-4565-B9B2-E4D1DC1DD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eedback from MP’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ff support performing well in many areas, could improve in other a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ate and publish to each committee’s website a lead and alternate Staff person to attend and be responsible to each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ere is a cross functional “internal ERCOT review” before staff present views in MP foru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“part of the problem may be a lack of consistency in who attends, which can lead to internal communication problems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meeting locations in advance of the posted star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and distribute minutes of each TAC, Subcommittees, Task Forces and Work Grou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t is not fair to ask someone who is representing their company to be saddled with note taking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 the number of employees that attend various meetings – only those that have a direct responsibility to the meeting or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E28-7026-4DC5-AA6F-320B6EB8E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cipal Change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, named ERCOT Staff member for each standing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ible to serve the needs of the committee in pursuit of its miss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ordinate internally, the broader ERCOT Staff in suppo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role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individual performance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regular check points with body leadership and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F9E-61E1-4566-872B-57FCA2705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920" y="57913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Expert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560" y="431964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, Market 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&amp;R 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76640"/>
            <a:ext cx="29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Managemen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s and 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t. Rule 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00" y="2286000"/>
            <a:ext cx="153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cy Ma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120" y="16527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ntribution to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9080" y="228600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7640" y="33526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9080" y="434340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0520" y="571500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4920" y="569124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2160" y="228600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2200" y="172872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ordination w/in ERC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7080" y="4243320"/>
            <a:ext cx="214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1240" y="34052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440" y="330120"/>
            <a:ext cx="77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Type of Contribution to the Governance Mo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Level of Coordination within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286000" y="4929120"/>
            <a:ext cx="41911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120" y="3709800"/>
            <a:ext cx="35053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90560" y="2642760"/>
            <a:ext cx="38098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AEB-5CED-4544-8740-EB7879B40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3159000"/>
            <a:ext cx="1752480" cy="15004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09480"/>
            <a:ext cx="11430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058760"/>
            <a:ext cx="1219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359240"/>
            <a:ext cx="12193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509840"/>
            <a:ext cx="13716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Meeting Space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anage Acquisition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ter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on Web Calendar – SS (BA/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Scheduling/Coordinate Conflict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659480"/>
            <a:ext cx="228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 for Call (market and internal)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 Draft Agenda –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 action items from prior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-facilitation of Agenda Call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nalize Agenda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 Specific ERCOT Staff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Communication (internal clients/requested participants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 Agenda and post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09840"/>
            <a:ext cx="18288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presentation materials from internal autho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Preparation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ticipate, Discuss, Establish ERCOT answ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/Discuss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/Post ERCOT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ex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509840"/>
            <a:ext cx="137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low up with external present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/Distribute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3309840"/>
            <a:ext cx="13716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cc00"/>
                </a:solidFill>
                <a:latin typeface="Arial"/>
              </a:rPr>
              <a:t>Final Brief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5352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Schedule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Facilitate Conference Bridg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Internal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Meeting Notic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Co-Facilitate Meeting -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58760"/>
            <a:ext cx="16002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584360"/>
            <a:ext cx="19051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gn in Sheets/Record Attendance into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nt Cards/Set-up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 and Manage Proxies/Alt. Rep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Setup/Preparation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eting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Tech Suppor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Summary/Action item development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Presentations – SME/MP/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ponse to Market Inquiries – S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Voting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lunch focus group/intrameeting group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Charge Approval (offsite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Input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Quality/Feedback process, compilation, tracking -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1058760"/>
            <a:ext cx="16002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1434960"/>
            <a:ext cx="152388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inutes – Draf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corporate Comment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/Distribute for Commen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 Internal Summary/Action Items –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tact key ERCOT Staff on assignments and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pdate and publish final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mail Vote Facilitation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/deadli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iling vot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ult no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/Approve costs meeting costs (room, catering, AV)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Offsite service/quality assessmen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9144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920" y="128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28412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52480" y="143496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1209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209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1209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8354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1209600"/>
            <a:ext cx="0" cy="262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522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Requirements for TAC/Subcommittee Meeting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F6C-19D1-4699-ADC7-19DF8C9D5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8:36:53Z</dcterms:created>
  <dc:creator>Richard Gruber</dc:creator>
  <dc:description/>
  <dc:language>en-US</dc:language>
  <cp:lastModifiedBy>rgruber</cp:lastModifiedBy>
  <dcterms:modified xsi:type="dcterms:W3CDTF">2005-02-02T22:46:51Z</dcterms:modified>
  <cp:revision>27</cp:revision>
  <dc:subject/>
  <dc:title>Slide 1</dc:title>
</cp:coreProperties>
</file>