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26DC8-B9FC-438F-95BC-10B7C9BD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9535D-710A-499F-B234-AA6F5B77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28311-AE69-4B01-810C-1330A43B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5F8F4-5A50-4947-886D-F8765A7A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876D-D3E6-4F8B-8F6A-C0B1B801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45D6-1489-4CA6-BD18-47B04BFD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AD27-0132-4166-8AFC-ED3DC741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9987-C836-44AF-A599-CC3DF619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166C-0793-474A-8647-737A4FAD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37A0-EA24-4ED4-9AE3-91571166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E376-0187-4379-9025-8CE827C0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93498-F920-48B9-B854-0A542D04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9109-8C42-4917-A45C-13739213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874F-5E8A-46D9-8B34-FAD8B9F3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1639-3B13-4D8F-A86C-9370FB8C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A9F4-0220-484B-B538-89989B7A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E9CB-7EDE-4359-8ECA-5EF62478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1074B-28D5-4C02-977B-349062A3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192E5-B62D-44BD-99B8-04897E60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928B3-7836-457B-B010-81BA9C01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381DA-F3E9-4F46-9C6A-0D62F50D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11D00-B56A-44E5-930C-506F156D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2F4BB-52B8-49A7-A944-9A6D1ABC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5486B-1EFD-4996-99BD-E3C92BCC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3486-3E12-4303-9610-E005B662EC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4E03-51EB-4E54-B052-CCB916C2B7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133720" y="1447920"/>
          <a:ext cx="45720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447920"/>
                    <a:ext cx="45720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143000" y="54100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ebruary 7, 2005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Report to RM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126200" y="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0"/>
          <a:ext cx="9144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07000" y="258840"/>
            <a:ext cx="85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5 Market Test Time Line – Modified 12/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3032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30320" y="5638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02720" y="5638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6384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73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686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40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26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881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5024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3604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320" y="2133720"/>
            <a:ext cx="243828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light V2.0A -01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ew C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68560" y="594360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41600" y="59436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30760" y="59436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02000" y="594360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23040" y="5943600"/>
            <a:ext cx="45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49640" y="5943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56040" y="594360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87800" y="59436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12040" y="59436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98200" y="594360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07320" y="594360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41920" y="5943600"/>
            <a:ext cx="4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0400" y="5867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6280" y="5562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6520" y="16002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/18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514600" y="182844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163400">
            <a:off x="1864080" y="1483200"/>
            <a:ext cx="157320" cy="1143000"/>
          </a:xfrm>
          <a:custGeom>
            <a:avLst/>
            <a:gdLst>
              <a:gd name="textAreaLeft" fmla="*/ 0 w 157320"/>
              <a:gd name="textAreaRight" fmla="*/ 56880 w 157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3200" y="175248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Wk.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13200">
            <a:off x="5979240" y="3391200"/>
            <a:ext cx="152280" cy="12938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3840"/>
              <a:gd name="textAreaBottom" fmla="*/ 1260360 h 12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449568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05 Flight No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/04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362320" y="42670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3080" y="373392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Wk.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5410080"/>
            <a:ext cx="3048120" cy="5335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ight V2.0-1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ew CRs &amp; V2.1 Rel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13200">
            <a:off x="7998480" y="4726440"/>
            <a:ext cx="81000" cy="1143000"/>
          </a:xfrm>
          <a:custGeom>
            <a:avLst/>
            <a:gdLst>
              <a:gd name="textAreaLeft" fmla="*/ 0 w 81000"/>
              <a:gd name="textAreaRight" fmla="*/ 29160 w 810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0640" y="5359320"/>
            <a:ext cx="133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5 Flight No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/17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51720" y="495288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Wk.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91120" y="56386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705360" y="36576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03800" y="3174840"/>
            <a:ext cx="206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/9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/30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ntingency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4114800"/>
            <a:ext cx="3124440" cy="4572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light V2.0A -07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ew C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3124080"/>
            <a:ext cx="29718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ght V2.0A -04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w C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03600" y="2489040"/>
            <a:ext cx="206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/24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/10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ntingency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648320" y="27432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54800" y="266688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Wk.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9400" y="3232080"/>
            <a:ext cx="1058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05 F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2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38080" y="342864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8686800" y="4648320"/>
            <a:ext cx="76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3886200"/>
            <a:ext cx="838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/16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6163400">
            <a:off x="3998160" y="2473920"/>
            <a:ext cx="156960" cy="1143000"/>
          </a:xfrm>
          <a:custGeom>
            <a:avLst/>
            <a:gdLst>
              <a:gd name="textAreaLeft" fmla="*/ 0 w 156960"/>
              <a:gd name="textAreaRight" fmla="*/ 56520 w 156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25909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25909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5943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8880" y="5943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62320" y="358128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358128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45720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81480" y="45720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7432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373392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47242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6324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53341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54864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53341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66416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out Period for Existing C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22255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-up Dead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/9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361960" y="2743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320040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-up Dead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/8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266720" y="371808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81680" y="449568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-up Dead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/21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781680" y="502920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304920"/>
            <a:ext cx="76201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2005 I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S approval of TMTP -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Febru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TTPT working group procedures –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M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 Chapter 23 of Protocols -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M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ordinate with ERCOT to conduct Flight Orientation 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n and monitor the execution of 4 Retail Market testing Flights in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n additional testing as directed by 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te functional specs for Automated Testing System and Submit SCR –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February/M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scripts to support TX Set Version 2.1 – testing of this version will be in Flight 1005 and be a full market test Flight –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June - Aug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ail Testing Website Upgrade Project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 - Janu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6240" y="306360"/>
            <a:ext cx="30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TPT Other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note the Retail Testing Orientation meeting for Flight 0405 originally scheduled for March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been moved to March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resolve a scheduling confl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PT Elections will be held at the TTPT February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eting and brought to RMS March meeting for appro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ions will be for Chair and 2 Vice Ch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1:54:01Z</dcterms:created>
  <dc:creator/>
  <dc:description/>
  <dc:language>en-US</dc:language>
  <cp:lastModifiedBy>Ann Boren</cp:lastModifiedBy>
  <dcterms:modified xsi:type="dcterms:W3CDTF">2005-02-02T17:16:22Z</dcterms:modified>
  <cp:revision>31</cp:revision>
  <dc:subject/>
  <dc:title>TTPT RMS Report</dc:title>
</cp:coreProperties>
</file>