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E00-97D0-4F72-A36D-B277927D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E26-6D51-4333-B3E0-49506262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74F-59F8-4D69-B7DE-C22426B6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582-3F9B-4CC3-9258-206F5CBF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DE44-7C98-4067-93A3-310975B4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4C07-C02B-47B5-8DFD-6A11D883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8F3C-A5D5-43A1-B950-5B7AFF48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FC5F-C5FA-4681-8E5E-F1D9D420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9578-57FD-455C-9AD0-24EA9B8E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A2D2-192A-4A9D-B9F7-47ADE90C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EBDE-F521-4E57-8467-630B2B63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167-43FC-4203-895A-4592DD79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7526-E312-4FF3-B3FC-08F04E30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1DAF-FA1B-4E6D-B046-C818EA8F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3655-B5E8-4687-A0E3-EA24112B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649A-70B7-4190-8437-B6C8BDD5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1EE4-546C-43BC-AABE-DCD2F87B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C7D-A1CD-4AAA-8DB3-639540AB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6B5-7BAB-44A8-8817-FFBFEF6C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FD4-F8F2-4A9B-B9B3-F1C1CC2E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48B-EC39-4D4A-A924-B0829613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D41-9D49-4B27-AF16-D66A584A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975-924B-4F75-A6AC-93E12632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98A-FE96-426A-B6CB-72A27431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67E7-44D6-4C0C-9F33-FDA76A6E8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5825-7C8F-4396-BB18-2B26836C9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ss Transition Task For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-Chai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lie Bratton and Cary R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5 Activit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Accuracy of Information in Retail Market Guide for Phas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pare and gain RMS approval of proposal for TDSP-to-TDSP Transitions  (Phase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 RMG with Phase 2 Information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solve Task Force activity by April 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20:29:15Z</dcterms:created>
  <dc:creator>d761060</dc:creator>
  <dc:description/>
  <dc:language>en-US</dc:language>
  <cp:lastModifiedBy>d761060</cp:lastModifiedBy>
  <dcterms:modified xsi:type="dcterms:W3CDTF">2005-01-31T20:46:31Z</dcterms:modified>
  <cp:revision>1</cp:revision>
  <dc:subject/>
  <dc:title>Mass Transition Task Force</dc:title>
</cp:coreProperties>
</file>