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143-3ED0-45D0-A923-B7842607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DB5-0594-41EB-BA53-15FFD981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5AB-7EC3-4AC2-A7B2-4E95F3FE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B7A-BF3D-4C7C-855C-AECCE34E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F2F-0B1B-4776-8899-56862429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2FB-0C89-410F-8586-63AB8A9F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C1C-51CF-4236-B273-120B7430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0BB-D3FB-4563-9E83-15DFF2E5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09C-08D2-4024-B5E2-995D360F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93D-A712-4E60-8CB3-C8D48B6C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0C2-A2D2-4A38-991C-FF177B43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714-FB7E-4680-8FCD-0518DB71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0752-5A63-4471-A50F-36CFEA55D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orking Group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ebruary 3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143000"/>
            <a:ext cx="83818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ections were held.  BJ Flowers Chair, Judy Briscoe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viewed draft PRR to reduce Initial Settlement from 17 to 10 days.  Good discussion – will suggest PRS send to COPS for continue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viewed data impacts of PRR 548, ERCOT staff to provide recommendations in F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cheduled additional ADR Task Force meeting for Feb 18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PS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firmed DEWG Leadership.  Zach Collard Chair, Michael Walters Vice Chair.  All other working groups were encouraged to schedule meetings to elect new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WG next meeting Feb 15, will include a review of the business requirements for SCR 740 (727 upgrade).  Implementation is scheduled for 1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</a:rPr>
              <a:t>s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Qtr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5-01-31T20:30:03Z</dcterms:modified>
  <cp:revision>111</cp:revision>
  <dc:subject/>
  <dc:title>Point-to-Point</dc:title>
</cp:coreProperties>
</file>