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65C-C5D7-4AA4-B5C8-96D676DE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AC4-2869-4C40-BC4C-3D9ADC23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162-BEEC-4A5F-97D5-5F1D80A0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326-CC58-41E9-A4FB-C4DF4D05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FE9-E5BA-401B-AECF-B7504B5D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6D1-E6E7-41F5-9AF2-12C96831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C66-E834-4B3F-A951-FEE50DE6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DA0-6DE5-4E66-B89C-EDACE70A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C1D-EABD-44E8-A85C-36467A8A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FFF-36DA-4BBC-8767-DB74275C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E0E-C612-4CD3-9E2A-49379769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E14E-97A1-4A20-A6B9-4DDAFF68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F9FA-E6E1-4B75-A731-36BAECA59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0105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B5F-E109-4019-9D26-2994038DDD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5 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Take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kick off call Friday January 21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flow began Monday 1/24 at 8:00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status calls - 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February RMS (2/8/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cheduled to be on Day 12 of Flight 01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should be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DE4-FB07-4589-A745-DAAAF7918B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5 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uising Alt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8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4.1%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March RMS (3/8/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cheduled to be on Day 32 of Flight 01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script scheduled to complete on Day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F29-4F5A-48F3-AEAF-4983D655E0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gwingerd</cp:lastModifiedBy>
  <cp:lastPrinted>2002-09-24T18:27:58Z</cp:lastPrinted>
  <dcterms:modified xsi:type="dcterms:W3CDTF">2005-01-31T15:05:33Z</dcterms:modified>
  <cp:revision>357</cp:revision>
  <dc:subject/>
  <dc:title>PowerPoint Presentation</dc:title>
</cp:coreProperties>
</file>