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EAC69-D73B-49CA-B052-7501A994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845CC-E308-4659-8447-CB245138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74932-4189-47A9-938C-9EEB84F7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1B29E-060A-4045-BC1A-E95BDB72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B51A-9C44-4DCC-AA9A-0804FA03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2275-58F9-40A0-BBE9-D619FD30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D61D-0790-4844-93F2-EFBCB1B7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23CA-094C-4578-B1C6-E58322D8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ECFE-9F9E-445B-BB99-8E232C71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21B7-0689-4C9D-B8C0-05EC6CEA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FF3F-2025-4E31-B0D8-8EE913D6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F6D84-6F01-4A78-8BE4-90414C41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422F-5966-437D-BD5A-92503874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A01D-6954-4C34-A61D-A280673C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8295-838F-4AFB-A69B-1D476886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81F8-EB1F-473A-AEF8-7D986008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A4DA-7619-4F11-9312-067DE6AE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F1495-CB74-4379-92CD-BEDF1FDE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604AA-9FDB-455C-AD46-B80778BF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1D828-B3D9-4046-8804-1CA34AFA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E7AC6-6B70-4D1E-90D9-92789E7A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5B93F-6DEE-45BC-9D39-D91474AB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23F35-EF32-47B3-8C91-DC73A554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BC552-BC91-43BF-89FD-52289225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950E-86BE-4BE9-8266-0C860BD53A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E5BD-9CA5-4AA7-A046-F2A58C7CE6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RMS Working Group Leadership for 2005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6858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ompetitive Metering Working Group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hair – Terry Bates, TXU Electric Deliver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ice Chair – Mike McCabe, Reliant Energ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ice Chair – Bruce Mueller, San Bernard Electric Cooperativ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Market Metrics Working Group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hair – Pam Wheat, TXU Electric Deliver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ice Chair – Kathy Scott, CenterPoint Energ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Profiling Working Group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hair – Ernie Podraza, Reliant Energ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ice Chair – Brad Boles, Cirro Energ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exas Data Transport Working Group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hair – Debbie McKeever, TXU Electric Deliver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ice Chair – Mary Rich, CenterPoint Energ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ice Chair – Brandon Siegel, Green Mountain Energ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exas SET Tea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hair – Kyle Patrick, Reliant Energ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ice Chair – Charlie Bratton, TXU Energ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ice Chair – Kathy Scott, CenterPoint Energ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exas Test Plan Tea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eadership will be recommended at March RMS Meeting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6:00:25Z</dcterms:created>
  <dc:creator>Ann Boren</dc:creator>
  <dc:description/>
  <dc:language>en-US</dc:language>
  <cp:lastModifiedBy>Ann Boren</cp:lastModifiedBy>
  <dcterms:modified xsi:type="dcterms:W3CDTF">2005-02-01T21:53:30Z</dcterms:modified>
  <cp:revision>7</cp:revision>
  <dc:subject/>
  <dc:title>RMS Working Group Leadership for 2005</dc:title>
</cp:coreProperties>
</file>