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CAA-5215-4691-80EB-454B3AB6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164-FD5A-4441-9879-D9F5BCE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1FA-B2AF-4EE2-B00B-59A8A938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E61-DEE3-49D9-8C1C-28F7607E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1B8-4ECC-4AB4-BCFE-868D7316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228-7F3E-4EFA-BD42-1816A053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D1E-F805-483C-BEFF-B1C7B156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BA5-498D-4D81-AD92-66993AF2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D8C-4D6F-4DBE-B4C4-6BCCAFEF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5CD-5CC4-42F5-94DE-9195783E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A43-66C1-428A-A222-FF07565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BD7-F9EE-4C7E-9820-714A7D38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485B-FBA1-43F4-9510-0DEDAED7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-4003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Coordination Team (MCT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oordination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lementation Gu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col Changes, Retail Market Guide, Testing Requir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Coordination Tea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ake decisions for your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echnical knowledge of intern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of Texas Retail Market and how Transaction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X SET 2.1 Requiremen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Straw Man by TX SET (1/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 Change Controls approved for version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/EC, Point-to-Point, Entir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SET to redline v2.1 Requirements Document  prior to nex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v2.1 Requirements Document during February meeting (2/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 document to MCT (3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ative Meeting Sched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 will be held monthly until start of Flight 1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calls will be scheduled as needed throughout the project for issue resolution and status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CT Meeting on 3/2 (Aust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eting will piggy-back the TX SET meeting at end of February (2/28 – 3/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al meeting time is also available on 3/17 (if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CT Meeting on 4/7 (Corpus Chri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P has offered to host this meeting to ease travel and help ensure MOU/EC particip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ed 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ck-off Agend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Format &amp; Ground 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Proposed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v2.1 Requirements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ction Items and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Future Meeting Dates and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Group Deliverables and Updates to 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T Kick-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6360" y="53848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44360" y="53848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2360" y="5384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7440" y="5384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8520" y="53848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25280" y="53848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495680"/>
            <a:ext cx="7924680" cy="838440"/>
          </a:xfrm>
          <a:prstGeom prst="rightArrow">
            <a:avLst>
              <a:gd name="adj1" fmla="val 36602"/>
              <a:gd name="adj2" fmla="val 3885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1720" y="5410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040" y="5410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9200" y="54100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64200" y="54100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5384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643200"/>
            <a:ext cx="1600200" cy="38124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ight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69000" y="5410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3157560"/>
            <a:ext cx="190512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vity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4114800"/>
            <a:ext cx="167616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2685960"/>
            <a:ext cx="1295640" cy="38124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14640" y="2209680"/>
            <a:ext cx="1752840" cy="38124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vere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880" y="3352680"/>
            <a:ext cx="1295280" cy="685800"/>
          </a:xfrm>
          <a:prstGeom prst="flowChartProcess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9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ai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9072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590920"/>
            <a:ext cx="0" cy="21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0621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581280"/>
            <a:ext cx="0" cy="11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0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45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6120" y="2209680"/>
            <a:ext cx="1434960" cy="685800"/>
          </a:xfrm>
          <a:prstGeom prst="flowChartProcess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982f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CT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Austin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171960"/>
            <a:ext cx="1447920" cy="685800"/>
          </a:xfrm>
          <a:prstGeom prst="flowChartProcess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982f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CT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Corpus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88620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71600" y="2222640"/>
            <a:ext cx="1447920" cy="825480"/>
          </a:xfrm>
          <a:prstGeom prst="flowChartProcess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8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al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Austin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if necessary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048120"/>
            <a:ext cx="14400" cy="1676160"/>
          </a:xfrm>
          <a:prstGeom prst="line">
            <a:avLst/>
          </a:prstGeom>
          <a:ln w="19080">
            <a:solidFill>
              <a:srgbClr val="ff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66920" y="3976560"/>
            <a:ext cx="2971800" cy="381240"/>
          </a:xfrm>
          <a:prstGeom prst="flowChartProcess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982f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ture MCT Meetings (T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37184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437184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437184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437184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37184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jkassel</cp:lastModifiedBy>
  <dcterms:modified xsi:type="dcterms:W3CDTF">2005-02-01T14:17:36Z</dcterms:modified>
  <cp:revision>20</cp:revision>
  <dc:subject/>
  <dc:title>Slide 1</dc:title>
</cp:coreProperties>
</file>