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64EE4-C1AC-49F2-81DF-92F7A7C605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14453-F7A5-43F3-942C-CC357753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9F6DB-4440-482D-9E81-554D7297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7066E-54EC-4859-B7CD-B869CCF169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24846-8AA5-4C33-97E9-0D1AD313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B92D1-C37D-4D83-9A59-A310F3EB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77242-D5B7-44DA-804A-19D518E1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11A2-9B6C-4D58-B01D-39A7B5D3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F2623-5703-4453-A4CE-FF5507F5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B5700-32B6-4260-A71F-F7B4451C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B4423-B8AA-4B63-9044-BBE99C8F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0DD80-08B0-4001-92A9-FD7C009C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7A12-34F2-4F64-AC4F-B9D9323E8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elian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M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ebruary 08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4550C-B000-4E73-8835-82844066ED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08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219400"/>
            <a:ext cx="830592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e Profile ID assignment responsibilities –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nnual Validation 2005 – make changes and complete – Dec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V 2005 – review of 2005 changes per long term – Business (June), cut point (De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e Lagged Dynamics – D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ring LPGuides current – D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ing new requests – Oil &amp; Gas, Convenience Store – D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llaboration with UFE TF – D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PRR’s as required – D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RS sample selection round two – D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DR Analysis – 2 issues left – D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greement between decision tree language and LPGuides – D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32FC0-570A-499F-8354-00F92EA1161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08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5238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ir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nie Podraza, Reliant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ce Chair – Brad Boles, Cirro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3E43-5227-482A-BE48-8C673B820DF6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08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355760"/>
            <a:ext cx="87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PRR draft - Weather Sensitivity Classif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590920"/>
            <a:ext cx="8839440" cy="222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8080"/>
                </a:solidFill>
                <a:uFillTx/>
                <a:latin typeface="Arial"/>
              </a:rPr>
              <a:t>VOTING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approval of the PRR draft made by the PWG entitled,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eather Sensitivity Classif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ubmitted to the RMS exploder on 01/26/05 in file nam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r 11.3.3.1 Weather Sensitivity_PWG.doc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61A1A-1AC1-4C1B-BD81-C20F8767734C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08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rine Podraza</cp:lastModifiedBy>
  <dcterms:modified xsi:type="dcterms:W3CDTF">2005-01-31T17:08:57Z</dcterms:modified>
  <cp:revision>120</cp:revision>
  <dc:subject/>
  <dc:title>PowerPoint Presentation</dc:title>
</cp:coreProperties>
</file>