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90F-6369-4BD1-BE96-6D75DFB0C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463F-E727-4FC8-9248-1A221FFA0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D415-C25E-4620-8B6D-8932885A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203D-4DD6-444D-B061-D77F6427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9F6B-E021-4436-88AD-37C715EE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BB56-3713-4E23-9517-B3F8C249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F94-939C-4667-8DDF-B8A809E7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F275-A41A-4A95-A5EA-B5C7AFBA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77FB-B008-4390-ADB7-8DAB68A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F473-E1A7-43C4-910B-33BE9330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E863-3F92-4ACF-8BE6-A3F80522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5C65-A339-4E58-A472-A1B32192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F902-C141-4C97-9930-3C5C1542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F20C-2B8F-439A-970D-2FBD3A5A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D3F1-15C1-4922-BD66-5A65B43E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2499-280B-4D7C-B8E5-478506CC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6AD9-4C32-449F-9CA0-E4C4D064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D770-90F8-45DB-9B8D-011838AF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CF91-2EBB-47F4-9CF3-0876BCD9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8125-01AB-44C4-A15A-485B2CF4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590A-D5D3-43B7-9B20-DCF16A18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C58D-98FF-42A8-A1A4-8BF5552B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2897-0F10-401B-925A-95C58A5B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3242-040E-4823-8B77-D232F3F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0FA4-AFB2-4735-B078-9F61BD3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90DD-DF28-419C-A313-87C020EE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63EF-CF74-478C-9919-D8DB2C715E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330120" y="63360"/>
            <a:ext cx="1173240" cy="6368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9F9B-5B17-42F3-8946-561B6F924F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30120" y="63360"/>
            <a:ext cx="1173240" cy="636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06440" y="1476360"/>
          <a:ext cx="8407440" cy="46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476360"/>
                    <a:ext cx="840744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77960" y="203040"/>
            <a:ext cx="792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age Update</a:t>
            </a:r>
            <a:br>
              <a:rPr sz="80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1524-DC09-4DD4-BDB0-1F9AAD524B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9760" y="63000"/>
            <a:ext cx="7416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tail Serv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413000" y="1246680"/>
            <a:ext cx="701676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/7 Outbound Paperfree server encountered an application error processing duplicate transactions.  Duration 6.5 h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/9 Outbound Paperfree server encountered an application error processing duplicate transactions.  Duration 4 h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/16 NAESB server went down and server was replaced.  Duration 12 h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/27 Disk storage (SAN) had a degradation in performance.  Duration 7.25 h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/30 Proxy server went down. Duration .25 h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6D2C-891A-465D-B2E1-702BBB7C4A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9760" y="63000"/>
            <a:ext cx="7416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tail Serv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1413000" y="1740600"/>
            <a:ext cx="701676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11 DNS authentication outage due to security patch application. Duration 2.5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15 TCH went unresponsive due to server lockup.  Duration .5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21 TCH component failure, ticket opened with SeeBeyond.  Duration 1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21 NAESB outage due to server lockup.  Duration .25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556D-ABF9-4575-AD1C-CE44F69758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5600" y="-36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tail Serv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1413000" y="2720520"/>
            <a:ext cx="70167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1150920"/>
          <a:ext cx="8381880" cy="53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50920"/>
                    <a:ext cx="83818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3295-AAE6-4E69-8044-B511F3FBB4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13000" y="2720520"/>
            <a:ext cx="70167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22440" y="1181160"/>
          <a:ext cx="784836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181160"/>
                    <a:ext cx="7848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5600" y="-36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tail Serv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2573-CD04-4ECD-A0CF-025651F5B1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9760" y="63000"/>
            <a:ext cx="7416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Retail Serv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1413000" y="2124360"/>
            <a:ext cx="701676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P Openview NNM and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Management and Incident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ESB vs GIS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% vs 99% avail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ed vs Unplan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Rest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734E-176A-4D93-A005-1340944C50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4:05:51Z</dcterms:created>
  <dc:creator>jlusker</dc:creator>
  <dc:description/>
  <dc:language>en-US</dc:language>
  <cp:lastModifiedBy>djohnson2</cp:lastModifiedBy>
  <dcterms:modified xsi:type="dcterms:W3CDTF">2005-02-02T22:42:20Z</dcterms:modified>
  <cp:revision>150</cp:revision>
  <dc:subject/>
  <dc:title>Slide 1</dc:title>
</cp:coreProperties>
</file>