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62BFF-4BBA-4B25-91E5-966D70FC4E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66AD4-415D-49F9-80D9-067766DAC4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DD124-710B-48E5-B50B-A1145F0B24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86F67-89B9-434F-8859-A97519B4AD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12E3F-D06B-4D7C-A097-A9E37984A7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8A67B-71AF-4330-B38A-EEE40B50F1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42BA1-C9D3-406E-A4CF-4DE3ABB646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1C448-ADFA-4A50-8256-E3732FD137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E7DD6-881C-4026-94EE-7ECB6B320D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2E2A2-1C98-40A3-8A17-11C7800B03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E0679-B918-4D61-8823-BC0A8C4882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AEFF8-4815-4B3E-BDDC-AB2EB2F1EF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648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5f5d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27040" cy="68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AE96F-F9CC-41D0-A58D-CC302B8547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3240" y="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94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168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396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66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50976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6480" y="2895480"/>
            <a:ext cx="5883120" cy="76320"/>
          </a:xfrm>
          <a:prstGeom prst="rect">
            <a:avLst/>
          </a:prstGeom>
          <a:gradFill rotWithShape="0">
            <a:gsLst>
              <a:gs pos="0">
                <a:srgbClr val="466e6c"/>
              </a:gs>
              <a:gs pos="50000">
                <a:srgbClr val="203231"/>
              </a:gs>
              <a:gs pos="100000">
                <a:srgbClr val="466e6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04880" y="601560"/>
            <a:ext cx="2274840" cy="1098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61960" y="208476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MO Update to 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20640" y="3048120"/>
            <a:ext cx="5808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oy Anders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 Management Off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bruary 8, 200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52480" y="763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Project Priority List (PP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 fontScale="90000"/>
          </a:bodyPr>
          <a:p>
            <a:pPr marL="261360" indent="-261360"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3314880"/>
                <a:tab algn="l" pos="3886200"/>
                <a:tab algn="l" pos="4292640"/>
                <a:tab algn="l" pos="5029200"/>
                <a:tab algn="l" pos="669276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te of the PP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12720" indent="-248760"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3314880"/>
                <a:tab algn="l" pos="3886200"/>
                <a:tab algn="l" pos="4292640"/>
                <a:tab algn="l" pos="5029200"/>
                <a:tab algn="l" pos="669276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test PPL to be posted to ERCOT.com by 2/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2720" indent="-248760"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3314880"/>
                <a:tab algn="l" pos="3886200"/>
                <a:tab algn="l" pos="4292640"/>
                <a:tab algn="l" pos="5029200"/>
                <a:tab algn="l" pos="669276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ue to cost estimation updates, 2 projects have dropped below the lin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75520" indent="-159840"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3314880"/>
                <a:tab algn="l" pos="3886200"/>
                <a:tab algn="l" pos="4292640"/>
                <a:tab algn="l" pos="5029200"/>
                <a:tab algn="l" pos="669276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 – ER-50029 – Improvements to VSA/DSA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– Rank 3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75520" indent="-159840"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3314880"/>
                <a:tab algn="l" pos="3886200"/>
                <a:tab algn="l" pos="4292640"/>
                <a:tab algn="l" pos="5029200"/>
                <a:tab algn="l" pos="669276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O – ER-50031 – EDW EMMS Decommission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– Rank 4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12720" indent="-248760"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3314880"/>
                <a:tab algn="l" pos="3886200"/>
                <a:tab algn="l" pos="4292640"/>
                <a:tab algn="l" pos="5029200"/>
                <a:tab algn="l" pos="669276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dates relating to RM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75520" indent="-159840"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3314880"/>
                <a:tab algn="l" pos="3886200"/>
                <a:tab algn="l" pos="4292640"/>
                <a:tab algn="l" pos="5029200"/>
                <a:tab algn="l" pos="669276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Zero Charge Enhance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– Placed on hol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– Rank 0.3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75520" indent="-159840"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3314880"/>
                <a:tab algn="l" pos="3886200"/>
                <a:tab algn="l" pos="4292640"/>
                <a:tab algn="l" pos="5029200"/>
                <a:tab algn="l" pos="669276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MR Automatio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– Placed on hol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– Rank 0.4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75520" indent="-159840"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3314880"/>
                <a:tab algn="l" pos="3886200"/>
                <a:tab algn="l" pos="4292640"/>
                <a:tab algn="l" pos="5029200"/>
                <a:tab algn="l" pos="669276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CR727 Phase II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– Entering Planning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– Rank 1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75520" indent="-159840"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3314880"/>
                <a:tab algn="l" pos="3886200"/>
                <a:tab algn="l" pos="4292640"/>
                <a:tab algn="l" pos="5029200"/>
                <a:tab algn="l" pos="669276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ebel Upgrade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– Entering Execution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– Rank 1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75520" indent="-159840"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3314880"/>
                <a:tab algn="l" pos="3886200"/>
                <a:tab algn="l" pos="4292640"/>
                <a:tab algn="l" pos="5029200"/>
                <a:tab algn="l" pos="669276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tail Test Website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– Entering Planning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– Rank 17.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75520" indent="-159840"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3314880"/>
                <a:tab algn="l" pos="3886200"/>
                <a:tab algn="l" pos="4292640"/>
                <a:tab algn="l" pos="5029200"/>
                <a:tab algn="l" pos="669276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CR740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(SCR727 Enhancement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– Entering Planning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– Rank 3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3C51C-320E-4F88-BB28-BDD7924F83D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2:55:16Z</dcterms:created>
  <dc:creator>Rob Connell</dc:creator>
  <dc:description/>
  <dc:language>en-US</dc:language>
  <cp:lastModifiedBy>tanderson</cp:lastModifiedBy>
  <dcterms:modified xsi:type="dcterms:W3CDTF">2005-02-02T19:50:20Z</dcterms:modified>
  <cp:revision>70</cp:revision>
  <dc:subject/>
  <dc:title>Slide 1</dc:title>
</cp:coreProperties>
</file>