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C0F-BD51-4BB0-A8CC-C9C28BF8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7ED-538C-4752-A594-C799B0B0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B4B-A303-4C48-BDA4-6A0AB118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496-F758-43DB-82EA-3C679890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3727-9334-4921-9668-0E22AAF3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298B-BD54-4C05-9126-B3A7F37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DAA5-0B0F-4C26-AD9D-62B32541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1AAE-A65F-4667-8F33-30520EF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3CF0-E346-4AD9-9D73-49AEB80F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415E-71BA-4534-AE1F-BA55BBE2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1D5F-18F7-40F0-817F-A30847A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7AC-2A23-404E-9357-6B3E4405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203E-FD64-423B-83BA-2AD9141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E4AF-438E-4353-98BB-89BBF6F1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E811-EE52-4320-9841-30741339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EFAD-C90C-47EC-9BB6-6C2233E2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76BF-6181-4F03-A418-B4EFFB4F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CB0-067D-4D18-BCF3-BD01207F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879-A847-442C-9C0F-90A01201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47D-7939-4FF1-9EC6-7BF484B7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30C-C2EB-4AEA-83FD-9082EE55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49D-FD92-410A-9EFA-7D2D0968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B5A-C00F-4258-82F2-C888404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9FC-A41D-4018-9A6B-2925AD19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EDD3-5994-4456-9C2A-98DD0ED91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1932-8B87-4E1C-BFC8-F3CA6ED47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NP Task For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-Chai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nnon Bowling and Blake G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5 Activ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s to DNP Process Gu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with Market Participants Process Improvement Opportunities to DNP Gu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de Task Force activity by June 1,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7:15:16Z</dcterms:created>
  <dc:creator>cpsc600</dc:creator>
  <dc:description/>
  <dc:language>en-US</dc:language>
  <cp:lastModifiedBy>cpsc600</cp:lastModifiedBy>
  <dcterms:modified xsi:type="dcterms:W3CDTF">2005-01-31T17:24:17Z</dcterms:modified>
  <cp:revision>1</cp:revision>
  <dc:subject/>
  <dc:title>DNP Task Force</dc:title>
</cp:coreProperties>
</file>